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B224-D5C7-4629-A15A-C1EEE83A3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6BD6-16F6-4DA8-B47A-D4A136D2A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D2F3-15BD-4CFB-AD49-943C654BC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878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9336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826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878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9336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5208-190B-4668-90E5-C6505BA14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d3c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2240" y="9792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d3c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d3c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AA9A-8C59-498A-B627-ACDFED7FA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8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336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26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8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9336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F7DE-42E1-4820-A215-3A9A9A6B0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7144-0D7D-484B-B5A5-1DCAA339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F213-7483-4D4E-B148-7BD264D6F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2240" y="9792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d3c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8EEA-FA9A-42DD-9DB2-30A60A267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B455-FB73-4C97-98A3-08485F27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C161-0FEB-4EFF-B37D-38400EC9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AB5D-9063-4615-9546-CC2ED618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04920" y="6110280"/>
            <a:ext cx="685800" cy="5968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990720" y="620244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AE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783480" y="6369120"/>
            <a:ext cx="167616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d5d7d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5d7d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85840" y="6368760"/>
            <a:ext cx="379260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d5d7d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d5d7d8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47224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d5d7d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712FF-5CB9-4011-A943-41CBE53CEB59}" type="slidenum">
              <a:rPr b="0" lang="en-GB" sz="1000" spc="-1" strike="noStrike">
                <a:solidFill>
                  <a:srgbClr val="d5d7d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505320" y="6019920"/>
            <a:ext cx="22096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AE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International Atomic Energy Agency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114800" y="5105520"/>
            <a:ext cx="1050840" cy="914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google.com.mx/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771560"/>
            <a:ext cx="91440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Module 6.2</a:t>
            </a: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: Source not under control (Mexico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304920"/>
            <a:ext cx="834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eaeaea"/>
                </a:solidFill>
                <a:latin typeface="Arial"/>
              </a:rPr>
              <a:t>IAEA </a:t>
            </a:r>
            <a:r>
              <a:rPr b="1" lang="en-IE" sz="1400" spc="-1" strike="noStrike">
                <a:solidFill>
                  <a:srgbClr val="eaeaea"/>
                </a:solidFill>
                <a:latin typeface="Arial"/>
              </a:rPr>
              <a:t>Training Course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ecff"/>
                </a:solidFill>
                <a:latin typeface="Arial"/>
              </a:rPr>
              <a:t>Range of the </a:t>
            </a:r>
            <a:r>
              <a:rPr b="1" lang="en-IE" sz="3600" spc="-1" strike="noStrike">
                <a:solidFill>
                  <a:srgbClr val="ccecff"/>
                </a:solidFill>
                <a:latin typeface="Arial"/>
              </a:rPr>
              <a:t>contamination</a:t>
            </a:r>
            <a:r>
              <a:rPr b="1" lang="en-GB" sz="3600" spc="-1" strike="noStrike">
                <a:solidFill>
                  <a:srgbClr val="ccec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82240" y="1523880"/>
            <a:ext cx="611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30,000 table bases produce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6,600,000 kg of rods produce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Aerial survey of 470 km</a:t>
            </a:r>
            <a:r>
              <a:rPr b="0" lang="en-GB" sz="2800" spc="-1" strike="noStrike" baseline="30000">
                <a:solidFill>
                  <a:srgbClr val="ffffcc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 identified 27 Cobalt pellet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17,636 buildings were visited to determine if radioactive material was used in the construc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Too high levels in 814 building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Partly or completely demolished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01920" y="4745160"/>
            <a:ext cx="3174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7760" indent="-347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Reinforcement rod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321600" y="2008080"/>
            <a:ext cx="2152440" cy="235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0BD6-90D7-44C7-AE2F-9DC077AEDFF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Extent of the accident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pprox. 4000 persons expose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5 persons </a:t>
            </a:r>
            <a:r>
              <a:rPr b="0" lang="en" sz="2800" spc="-1" strike="noStrike">
                <a:solidFill>
                  <a:srgbClr val="ffffcc"/>
                </a:solidFill>
                <a:latin typeface="Arial"/>
              </a:rPr>
              <a:t>with doses from 3 to 7 Sv in 2 month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80 persons </a:t>
            </a:r>
            <a:r>
              <a:rPr b="0" lang="en" sz="2800" spc="-1" strike="noStrike">
                <a:solidFill>
                  <a:srgbClr val="ffffcc"/>
                </a:solidFill>
                <a:latin typeface="Arial"/>
              </a:rPr>
              <a:t>with dose greater than 250 mSv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18% of the exposed public received doses of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5-25 mSv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Storage of </a:t>
            </a:r>
            <a:r>
              <a:rPr b="0" lang="en-GB" sz="2800" spc="-1" strike="noStrike">
                <a:solidFill>
                  <a:srgbClr val="ffcc00"/>
                </a:solidFill>
                <a:latin typeface="Arial"/>
              </a:rPr>
              <a:t>37,000,000 kg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 of rods, metallic bases, material in process, scrap iron, barrels with pellets and contaminated material, earth</a:t>
            </a:r>
            <a:r>
              <a:rPr b="0" lang="en-IE" sz="2800" spc="-1" strike="noStrike">
                <a:solidFill>
                  <a:srgbClr val="ffffcc"/>
                </a:solidFill>
                <a:latin typeface="Arial"/>
              </a:rPr>
              <a:t>,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i="1" lang="en-GB" sz="2800" spc="-1" strike="noStrike">
                <a:solidFill>
                  <a:srgbClr val="ffffcc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7EB7-7141-485C-AD39-04F60B12D9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ecff"/>
                </a:solidFill>
                <a:latin typeface="Arial"/>
              </a:rPr>
              <a:t>Management</a:t>
            </a:r>
            <a:r>
              <a:rPr b="1" lang="en" sz="3600" spc="-1" strike="noStrike">
                <a:solidFill>
                  <a:srgbClr val="ccecff"/>
                </a:solidFill>
                <a:latin typeface="Arial"/>
              </a:rPr>
              <a:t> of the accident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cc"/>
                </a:solidFill>
                <a:latin typeface="Arial"/>
              </a:rPr>
              <a:t>To stop the dissemination of the contamina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econtaminate contaminated are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cc"/>
                </a:solidFill>
                <a:latin typeface="Arial"/>
              </a:rPr>
              <a:t>To avoid additional exposure of the public and workers and to determine received doses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cc"/>
                </a:solidFill>
                <a:latin typeface="Arial"/>
              </a:rPr>
              <a:t>Collect and confiscate contaminated material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cc"/>
                </a:solidFill>
                <a:latin typeface="Arial"/>
              </a:rPr>
              <a:t>Extensive efforts to locate additional focuses of contamina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554E-A33E-49C9-8029-FD09E791018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ecff"/>
                </a:solidFill>
                <a:latin typeface="Arial"/>
              </a:rPr>
              <a:t>Causes and </a:t>
            </a:r>
            <a:r>
              <a:rPr b="1" lang="en-IE" sz="3600" spc="-1" strike="noStrike">
                <a:solidFill>
                  <a:srgbClr val="ccecff"/>
                </a:solidFill>
                <a:latin typeface="Arial"/>
              </a:rPr>
              <a:t>contributing</a:t>
            </a:r>
            <a:r>
              <a:rPr b="1" lang="en-GB" sz="3600" spc="-1" strike="noStrike">
                <a:solidFill>
                  <a:srgbClr val="ccecff"/>
                </a:solidFill>
                <a:latin typeface="Arial"/>
              </a:rPr>
              <a:t> factors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A person dismantled and insecurely stored  a cobalt source and broke the capsu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Non-compliance with regulation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The unit was illegally importe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Stored under unsafe condition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A staff member did not recognize the potentially dangerous situ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Radioactive parts were sold as scrap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962F-EA00-455A-B2B3-E86CB9F5D2E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Lessons to learn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74680" y="14302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cc"/>
                </a:solidFill>
                <a:latin typeface="Arial"/>
              </a:rPr>
              <a:t>The existence of an emergency infrastructure facilitates the operations and limits the extension of an acciden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cc"/>
                </a:solidFill>
                <a:latin typeface="Arial"/>
              </a:rPr>
              <a:t>The identification of a coordinator of the emergency is importan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cc"/>
                </a:solidFill>
                <a:latin typeface="Arial"/>
              </a:rPr>
              <a:t>The existence of regulations is not sufficient to prevent violation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cc"/>
                </a:solidFill>
                <a:latin typeface="Arial"/>
              </a:rPr>
              <a:t>The responsibility for the fulfillment of each regulation must be clear and specific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cc"/>
                </a:solidFill>
                <a:latin typeface="Arial"/>
              </a:rPr>
              <a:t>The initial measures for an accident are critic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cc"/>
                </a:solidFill>
                <a:latin typeface="Arial"/>
              </a:rPr>
              <a:t>They require special effort to adapt the plans to the prevalente realit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B66A-3CD9-43AA-9E3C-BC82B7F9F09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82600" y="98280"/>
            <a:ext cx="8534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Reference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INISTERIO DE ENERGIA Y MINAS. COMISION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NACIONAL DE SEGURIDAD NUCLEAR Y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ALVAGUARDIAS. Accidente de contaminación con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60Co. CNSN-IT-001. Mexico (1984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E9F9-FA0F-4A57-B361-58EA62CD811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-90000" y="1139760"/>
            <a:ext cx="7710120" cy="5038920"/>
            <a:chOff x="-90000" y="1139760"/>
            <a:chExt cx="7710120" cy="5038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2038320" y="1139760"/>
              <a:ext cx="5581800" cy="503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flipV="1">
              <a:off x="1573200" y="2047680"/>
              <a:ext cx="2462400" cy="1223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-90000" y="3271680"/>
              <a:ext cx="3658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47760" indent="-34776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Arial"/>
                </a:rPr>
                <a:t>Ciudad Juárez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91" name="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4567320" y="3560760"/>
              <a:ext cx="43956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"/>
          <p:cNvSpPr/>
          <p:nvPr/>
        </p:nvSpPr>
        <p:spPr>
          <a:xfrm>
            <a:off x="374760" y="98280"/>
            <a:ext cx="8442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Arial"/>
              </a:rPr>
              <a:t>Ciudad Juárez, México: An accident with </a:t>
            </a:r>
            <a:r>
              <a:rPr b="1" lang="en-US" sz="2600" spc="-1" strike="noStrike" baseline="30000">
                <a:solidFill>
                  <a:srgbClr val="ccecff"/>
                </a:solidFill>
                <a:latin typeface="Arial"/>
              </a:rPr>
              <a:t>60</a:t>
            </a:r>
            <a:r>
              <a:rPr b="1" lang="en-US" sz="2600" spc="-1" strike="noStrike">
                <a:solidFill>
                  <a:srgbClr val="ccecff"/>
                </a:solidFill>
                <a:latin typeface="Arial"/>
              </a:rPr>
              <a:t>Co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867C-93C5-4CB3-B888-28F718FB159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Beginning of scenario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2240" y="1523880"/>
            <a:ext cx="4815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Nov. 1977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 teletherapy unit was purchased and imported – </a:t>
            </a:r>
            <a:r>
              <a:rPr b="0" lang="en-US" sz="2400" spc="-1" strike="noStrike" baseline="30000">
                <a:solidFill>
                  <a:srgbClr val="ffffcc"/>
                </a:solidFill>
                <a:latin typeface="Arial"/>
              </a:rPr>
              <a:t>60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o unit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s was an illegal impor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Nov. 1977 – Nov. 1983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Never reported to the authoriti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e unit was stored in a warehouse for 6 year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674680" y="4786200"/>
            <a:ext cx="238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7760" indent="-347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Arial"/>
              </a:rPr>
              <a:t>Typical Co unit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283360" y="2071800"/>
            <a:ext cx="332424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A917-9A8F-4B39-A57A-19FB068DD3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ecff"/>
                </a:solidFill>
                <a:latin typeface="Arial"/>
              </a:rPr>
              <a:t>Maintenance staff’s role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7040" y="1209600"/>
            <a:ext cx="4502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6 Dec. 1983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ome maintenance staff became interested – scrap value should be high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He dismounted the sourc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erforated the source container on the truck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rove to a junk yard and sold it together with some other  “valuable” metal piec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2600" y="5343480"/>
            <a:ext cx="309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A dismantled Co treatment head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014800" y="1865160"/>
            <a:ext cx="3800520" cy="329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200E-D725-4461-9945-E72C9D9876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ecff"/>
                </a:solidFill>
                <a:latin typeface="Arial"/>
              </a:rPr>
              <a:t>The </a:t>
            </a:r>
            <a:r>
              <a:rPr b="1" lang="en-IE" sz="3600" spc="-1" strike="noStrike">
                <a:solidFill>
                  <a:srgbClr val="ccecff"/>
                </a:solidFill>
                <a:latin typeface="Arial"/>
              </a:rPr>
              <a:t>source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63520" y="4492800"/>
            <a:ext cx="868680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7760" indent="-3477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Typical </a:t>
            </a:r>
            <a:r>
              <a:rPr b="0" lang="en-GB" sz="2000" spc="-1" strike="noStrike" baseline="30000">
                <a:solidFill>
                  <a:srgbClr val="eaeaea"/>
                </a:solidFill>
                <a:latin typeface="Arial"/>
              </a:rPr>
              <a:t>60</a:t>
            </a: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Co source displaying the interior with a large amount of pellet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7760" indent="-3477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15 TBq or 430 Ci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7760" indent="-3477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9800" y="1359000"/>
            <a:ext cx="3990960" cy="2809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616280" y="1397160"/>
            <a:ext cx="4000680" cy="2771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0EBE-77E9-4F4D-A30B-0D109993150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ecff"/>
                </a:solidFill>
                <a:latin typeface="Arial"/>
              </a:rPr>
              <a:t>At the junkyard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640" y="1197000"/>
            <a:ext cx="629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We have now about 6000 pellets of </a:t>
            </a:r>
            <a:r>
              <a:rPr b="0" lang="en-US" sz="2400" spc="-1" strike="noStrike" baseline="30000">
                <a:solidFill>
                  <a:srgbClr val="ffffcc"/>
                </a:solidFill>
                <a:latin typeface="Arial"/>
              </a:rPr>
              <a:t>60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bout a 1 mm in siz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On the truc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n the junkyard – everywhere since metal scrap is moved around by cranes, </a:t>
            </a:r>
            <a:r>
              <a:rPr b="0" i="1" lang="en-US" sz="2000" spc="-1" strike="noStrike">
                <a:solidFill>
                  <a:srgbClr val="ffffcc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Mixed with all other metal scrap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Other trucks moving scrap out of the junkyar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ain purchaser of scrap constructs reinforcing rods, 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e.g.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for motor vehicles, building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e first truck broke down and was parked for 40 d in the village + another 10 d at a second locatio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759720" y="2209680"/>
            <a:ext cx="2095200" cy="2276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65F4-7647-4B21-929D-C9378276860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ecff"/>
                </a:solidFill>
                <a:latin typeface="Arial"/>
              </a:rPr>
              <a:t>At Los Alamos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82240" y="1523880"/>
            <a:ext cx="4753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nother company making table bases got metal scrap from the junkyar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 truck load of tables passing the Los Alamos Nuclear Center triggered the radiation monitor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The highway was monitored and the truck was identifie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Two days later it was determined where the activity came from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130720" y="2001960"/>
            <a:ext cx="3610080" cy="314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DCCF-12A8-4F44-AFF9-38E62749BB2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ccecff"/>
                </a:solidFill>
                <a:latin typeface="Arial"/>
              </a:rPr>
              <a:t>Chronology in</a:t>
            </a:r>
            <a:r>
              <a:rPr b="1" lang="en-GB" sz="36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ccecff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6 Dec. 1983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reatment unit dismantled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14 Dec. 1983 - 16 Jan. 1984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cc"/>
                </a:solidFill>
                <a:latin typeface="Arial"/>
              </a:rPr>
              <a:t>Dissemination of radioactive substanc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16-18 Jan. 1984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cc"/>
                </a:solidFill>
                <a:latin typeface="Arial"/>
              </a:rPr>
              <a:t>Detection of contamination and its origi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19-22 Jan. 1984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cc"/>
                </a:solidFill>
                <a:latin typeface="Arial"/>
              </a:rPr>
              <a:t>Actions of investigatio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23 Jan. - 8 Feb. 1984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cc"/>
                </a:solidFill>
                <a:latin typeface="Arial"/>
              </a:rPr>
              <a:t>Corrective action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8DD5-6E7D-45BB-8A78-CC1952A566F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Initial activities after the contamination was detected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cc"/>
                </a:solidFill>
                <a:latin typeface="Arial"/>
              </a:rPr>
              <a:t>Recognition of places with possible contamina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e plant in Chihuahu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e scrap yard in Juárez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iudad Juárez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e customs in Juárez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cc"/>
                </a:solidFill>
                <a:latin typeface="Arial"/>
              </a:rPr>
              <a:t>Determination of possible sequence of events on the basis of production record and negotia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cc"/>
                </a:solidFill>
                <a:latin typeface="Arial"/>
              </a:rPr>
              <a:t>Confinement of contaminated materi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cc"/>
                </a:solidFill>
                <a:latin typeface="Arial"/>
              </a:rPr>
              <a:t>Measures of radiological safety for workers and public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Estimation of dose to worker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95A4-6DF9-4D2E-B510-2863F8C5629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3T14:06:13Z</dcterms:created>
  <dc:creator/>
  <dc:description/>
  <dc:language>en-US</dc:language>
  <cp:lastModifiedBy>BRITTINGER, Maria Theresa</cp:lastModifiedBy>
  <dcterms:modified xsi:type="dcterms:W3CDTF">2008-01-23T14:12:34Z</dcterms:modified>
  <cp:revision>100</cp:revision>
  <dc:subject/>
  <dc:title> PREVENTION OF ACCIDENTAL EXPOSURE IN RADIOTHERAPY</dc:title>
</cp:coreProperties>
</file>