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8.wmf" ContentType="image/x-wmf"/>
  <Override PartName="/ppt/media/image12.jpeg" ContentType="image/jpeg"/>
  <Override PartName="/ppt/media/image18.jpeg" ContentType="image/jpeg"/>
  <Override PartName="/ppt/media/image6.wmf" ContentType="image/x-wmf"/>
  <Override PartName="/ppt/media/image16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11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A0DE-4366-4E3B-8929-A2FA75E4A3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two main sources of scientific basis for the BSS are UNSCEAR and IC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following three slides outlines the fundamentals of radiation protection in very simpl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ill become clear, as the workshop progresses, how the adherence to the BSS can help to prevent accidental medical expo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six international organizations forming the consensus for the BSS are pres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se are the actual chapters of the BSS. The schedules take up a major proportion of the pages of the B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chapters and sub-chapters of the B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Not presenting the preamble, but going directly into the principal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se are the different sections of the principal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oing through the sections one by one, with examples that are relevant in the context of the worksh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re will be examples of events, towards the end of the workshop, where it is seen what can happen when these requirements are not fulfi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three fundamentals of radiation protection, as mentioned previ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detailed requirements form different appendices in the B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icon, to the right, indicates that the BSS is linked to from the rpop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different appendices are quite practical guidelines for different exposure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schedules take up the most pages in the BSS, in the form of table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se are the different parts of the sched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ED0-0FBD-4B7E-8716-76719739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130-30A1-456F-B30F-8CBCCA5B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49F-D86D-47FB-84C2-60F73B4D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6BD-283A-4883-A02F-0C02B01D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35D-5A47-4E0A-B07D-61194D16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E5A-8F55-4CC7-BD33-88574A7F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391-4636-4488-86DB-798B6F87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FD0-D2B3-43D9-84E1-8ACE638D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B17-E223-4441-978D-82D276FD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2E8-2B8F-44C4-80B9-A43549CA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555-F18C-43AF-A118-4518B428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ED6-8934-44B6-9754-718FCA66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5d7d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85840" y="6368760"/>
            <a:ext cx="37926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5d7d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B4E9-9B8D-4B09-A5BD-01831922CC8D}" type="slidenum">
              <a:rPr b="0" lang="en-GB" sz="1000" spc="-1" strike="noStrike">
                <a:solidFill>
                  <a:srgbClr val="d5d7d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PREVENTION OF ACCIDENTAL EXPOSURE IN RADIOTHERAPY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art 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Review of International Basic Safety Standar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04920"/>
            <a:ext cx="83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eaeaea"/>
                </a:solidFill>
                <a:latin typeface="Arial"/>
              </a:rPr>
              <a:t>IAEA </a:t>
            </a:r>
            <a:r>
              <a:rPr b="1" lang="en-IE" sz="1400" spc="-1" strike="noStrike">
                <a:solidFill>
                  <a:srgbClr val="eaeaea"/>
                </a:solidFill>
                <a:latin typeface="Arial"/>
              </a:rPr>
              <a:t>Training</a:t>
            </a:r>
            <a:r>
              <a:rPr b="1" lang="sl-SI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1" lang="sl-SI" sz="1400" spc="-1" strike="noStrike">
                <a:solidFill>
                  <a:srgbClr val="eaeaea"/>
                </a:solidFill>
                <a:latin typeface="Arial"/>
              </a:rPr>
              <a:t>ours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A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8200" y="1523880"/>
            <a:ext cx="863604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cepting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ifferent standar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ns accepting lower standards of protection,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no move to impro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ing the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ame standar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 all countries means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moving towards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is the next step to achieve the same leve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should be improve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is the obstacle to the next stage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FD3-3F3A-43FC-98A9-B5140BBD7D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35200" y="1343160"/>
          <a:ext cx="6180120" cy="4679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1343160"/>
                    <a:ext cx="6180120" cy="4679640"/>
                  </a:xfrm>
                  <a:prstGeom prst="rect">
                    <a:avLst/>
                  </a:prstGeom>
                  <a:ln w="9360">
                    <a:solidFill>
                      <a:srgbClr val="a5002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he basis for the BS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F2C-AE4B-4CC3-B208-F165F279C8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he basis for the BS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54280" y="1343160"/>
            <a:ext cx="6180120" cy="4679640"/>
            <a:chOff x="1754280" y="1343160"/>
            <a:chExt cx="6180120" cy="4679640"/>
          </a:xfrm>
        </p:grpSpPr>
        <p:graphicFrame>
          <p:nvGraphicFramePr>
            <p:cNvPr id="123" name=""/>
            <p:cNvGraphicFramePr/>
            <p:nvPr/>
          </p:nvGraphicFramePr>
          <p:xfrm>
            <a:off x="1754280" y="1343160"/>
            <a:ext cx="6180120" cy="467964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4280" y="1343160"/>
                      <a:ext cx="6180120" cy="4679640"/>
                    </a:xfrm>
                    <a:prstGeom prst="rect">
                      <a:avLst/>
                    </a:prstGeom>
                    <a:ln w="9360">
                      <a:solidFill>
                        <a:srgbClr val="a50021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2695680" y="1496880"/>
              <a:ext cx="147636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2695680" y="3714840"/>
              <a:ext cx="151452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5"/>
            <a:stretch/>
          </p:blipFill>
          <p:spPr>
            <a:xfrm>
              <a:off x="5653080" y="2424240"/>
              <a:ext cx="165744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B4E-3017-42A5-B4E0-4EC1145724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UNSCEA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8200" y="2152800"/>
            <a:ext cx="62071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ular reviews on curren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status on the human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radiation environment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knowledge of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radiation effects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radiation risk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ortant base fo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recommendations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of the ICRP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programme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of the international organization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3520" y="1119240"/>
            <a:ext cx="8607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ited Nations Scientific Committee on the Effects of Atomic Radi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824440" y="1911240"/>
            <a:ext cx="253368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BDA-5C11-4243-B5C1-AE83948EF4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CRP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8200" y="2152800"/>
            <a:ext cx="62499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mulates recommendations in radiation protec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based on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urrent knowledge about the biological effects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of ionizing radiation (revised on regular basi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generally adopted by regulatory and advisory agencies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at national and international levels as the basis for the development of legislation, regulations, codes of practice, and guidelin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3520" y="1119240"/>
            <a:ext cx="8880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nternational Commission on Radiological Protec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345360" y="2008080"/>
            <a:ext cx="2523960" cy="363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E9D-0B21-4600-8CD2-85BD27E09A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CRP 60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8200" y="2152800"/>
            <a:ext cx="62499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Justific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prot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ose limi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3520" y="1119240"/>
            <a:ext cx="86662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undamental principl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radiation protec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3440" y="2017800"/>
            <a:ext cx="2523960" cy="363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4E6-E4D2-46EC-9D0E-F6A9E152E5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CRP 60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8200" y="2152800"/>
            <a:ext cx="60357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Justific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ractic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efit of a practice must offset the radiation detri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3520" y="1119240"/>
            <a:ext cx="86662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undamental principl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radiation protec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40520" y="2095560"/>
            <a:ext cx="2523960" cy="363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59E-6C7F-45E7-B8FC-A261E56CA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CRP 60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8200" y="2152800"/>
            <a:ext cx="60357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ractic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osures and likelihood of exposure should be kept as low as reasonably achievable, economic  and social factors being taken into account - ALA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3520" y="1119240"/>
            <a:ext cx="86662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undamental principl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radiation protec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35640" y="2222640"/>
            <a:ext cx="2524320" cy="363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5C6-E7B6-42E4-AAB9-E301C837E6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CRP 60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200" y="2152800"/>
            <a:ext cx="60357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ose limitati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se limits should be set to ensure that no individual faces an unacceptable risk in normal circumsta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3520" y="1119240"/>
            <a:ext cx="86662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undamental principl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radiation protec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81840" y="2163600"/>
            <a:ext cx="2523960" cy="363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D49-5106-44E2-A859-CDFD0879F4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he basis for the BS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633680"/>
            <a:ext cx="7132680" cy="533160"/>
          </a:xfrm>
          <a:prstGeom prst="rect">
            <a:avLst/>
          </a:prstGeom>
        </p:spPr>
        <p:txBody>
          <a:bodyPr wrap="none" lIns="92160" rIns="92160" tIns="46080" bIns="46080" anchor="t">
            <a:prstTxWarp prst="textPlain">
              <a:avLst>
                <a:gd name="adj" fmla="val 50000"/>
              </a:avLst>
            </a:prstTxWarp>
            <a:noAutofit/>
          </a:bodyPr>
          <a:p>
            <a:pPr marL="343080" indent="-343080">
              <a:lnSpc>
                <a:spcPct val="100000"/>
              </a:lnSpc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eaeaea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90920" y="2319480"/>
            <a:ext cx="4195800" cy="402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FC3-EA65-4521-BB2F-70155095E4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Overview / Objectiv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dule 1.1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SS principal requirem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dule 1.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SS appendix II (medical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posur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roup exercise G1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bjectives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o provide an orientation of the principal contents of the BSS, and to specifically emphasize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otential role of the BSS in the prevention of accidental medical exposur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FC0-674D-49EB-A4DD-D917EFE149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he basis for the BS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4560" y="1747800"/>
            <a:ext cx="7132680" cy="4530600"/>
            <a:chOff x="1114560" y="1747800"/>
            <a:chExt cx="7132680" cy="45306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3978360" y="2316240"/>
              <a:ext cx="26096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 txBox="1"/>
            <p:nvPr/>
          </p:nvSpPr>
          <p:spPr>
            <a:xfrm>
              <a:off x="1114560" y="1747800"/>
              <a:ext cx="7132680" cy="533520"/>
            </a:xfrm>
            <a:prstGeom prst="rect">
              <a:avLst/>
            </a:prstGeom>
          </p:spPr>
          <p:txBody>
            <a:bodyPr wrap="none" lIns="92160" rIns="92160" tIns="46080" bIns="460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 marL="347760" indent="-347760">
                <a:lnSpc>
                  <a:spcPct val="100000"/>
                </a:lnSpc>
                <a:buClr>
                  <a:srgbClr val="a50021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a50021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14880" y="5191200"/>
              <a:ext cx="2361960" cy="533160"/>
            </a:xfrm>
            <a:prstGeom prst="ellipse">
              <a:avLst/>
            </a:prstGeom>
            <a:noFill/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95560" y="4734000"/>
              <a:ext cx="1219320" cy="68580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19040" y="2905200"/>
              <a:ext cx="2133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7760" indent="-3477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FAO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47760" indent="-3477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IAEA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47760" indent="-3477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ILO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47760" indent="-3477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OECD/NEA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47760" indent="-3477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PAHO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47760" indent="-3477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Arial"/>
                </a:rPr>
                <a:t>WHO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E5B-3B90-47F6-B33A-36A600C5B4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AE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8200" y="2152800"/>
            <a:ext cx="56786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Statutory function: “to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establish standards of safety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for the protection of health … and to provide for the applications of these standards.”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Objective to accelerate and enlarge the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ntribution of atomic energy to peace, health and prosperity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throughout the world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3520" y="1119240"/>
            <a:ext cx="8880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national Atomic Energy Agenc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830920" y="2513160"/>
            <a:ext cx="3143160" cy="21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CC5-0948-46C5-ACCA-39B19AFADD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Other organizations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8200" y="1295280"/>
            <a:ext cx="86648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AO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od and Agricultural Organization of the United N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LO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national Labour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ECD/NE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uclear Energy Agency of the Organisation for Economic Co-operation and Develo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AHO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 American Health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HO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ld Health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B35-E895-4D6C-B239-81E422018A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160" y="1924200"/>
            <a:ext cx="57355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It aims to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serve as a practical guide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for public authorities and services, employers and workers, specialized radiation protection bodies, enterprises and safety and health committees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lays down principles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establishes basic requirements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for radiation protection and safety, with some guidance on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how to apply them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3520" y="1119240"/>
            <a:ext cx="86662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SS is a practical guid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45200" y="1849320"/>
            <a:ext cx="2627280" cy="398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E35-3CEE-4CCE-8681-78C943FCC4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tructure of the BS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520" y="1238400"/>
            <a:ext cx="57355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Preamble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(the responsibilities of governments: aims, principles, philosophy and government arrangements for applying the standard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Principal requirements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(the responsibilities of the “users” of radiation: how to fulfill the aims of the standard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Detailed requirements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(in the Appendices: consequences of the principal requirements – specific guidelines for practice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Schedules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(quantitative standards and guidance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961240" y="1473120"/>
            <a:ext cx="2792160" cy="423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A3E-70D9-4881-BD17-8031ABB0B0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tructure of the BS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68360" y="1181160"/>
            <a:ext cx="77756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AMBLE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Principles and fundamental objectiv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INCIPAL REQUIREMENT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General responsibilities and organizational practic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Intervention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PPENDICES: DETAILED REQUIRE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Occupational exposu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US" sz="2200" spc="-1" strike="noStrike" u="sng">
                <a:solidFill>
                  <a:srgbClr val="eaeaea"/>
                </a:solidFill>
                <a:uFillTx/>
                <a:latin typeface="Arial"/>
              </a:rPr>
              <a:t>Medical exposu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Public exposu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Potential exposure: safety of sourc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mergency exposure situation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Chronic exposure situation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CHEDULES: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Numerica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960-5A00-485C-91EB-74F54BEAAC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96920" y="2424240"/>
            <a:ext cx="87613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ome examples from the B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- in the context of the workshop -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B48-C737-4D3A-BA97-124D207A24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tructure of the BS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520" y="1238400"/>
            <a:ext cx="57355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Preamble (the responsibilities of governments: aims, principles, philosophy and government arrangements for applying the standard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Principal requirements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(the responsibilities of the “users” of radiation: how to fulfill the aims of the standard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Detailed requirements (in the Appendices: consequences of the principal requirements – specific guidelines for practice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Schedules (quantitative standards and guidance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05520" y="1725480"/>
            <a:ext cx="2728800" cy="413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4F4-203C-4B8C-BA33-D08D9AC5F2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Principal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680" y="1838160"/>
            <a:ext cx="74073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cation of responsi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ministrative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diation protection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gement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chnical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ification of saf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99A-FCEC-4EC1-9065-371AF3C8AA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Principal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cation of responsibility – 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Regulatory Authority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is responsible for enforcing the standa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gistrant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cense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mployer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have the main responsibilities for application of the standa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ther parti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health professionals, qualified experts) have subsidiary responsibili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: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 all have responsibiliti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1D7-4DF5-47C1-BD85-5D07641BF1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771560"/>
            <a:ext cx="865656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dule 1.1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: BSS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principal requirement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04920"/>
            <a:ext cx="83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eaeaea"/>
                </a:solidFill>
                <a:latin typeface="Arial"/>
              </a:rPr>
              <a:t>IAEA </a:t>
            </a:r>
            <a:r>
              <a:rPr b="1" lang="en-IE" sz="1400" spc="-1" strike="noStrike">
                <a:solidFill>
                  <a:srgbClr val="eaeaea"/>
                </a:solidFill>
                <a:latin typeface="Arial"/>
              </a:rPr>
              <a:t>Training Cours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Principal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cation of responsibility – 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edical practitioner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re responsible for the overall protection of patients (prescription and delivery of medical exposure) in radiotherap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Qualified experts in radiotherapy physic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re responsible for performing or supervising calibration, dosimetry and quality assur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68A-37FF-41AF-B56F-3405691897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Principal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ministrative requirements – 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legal person responsible for sealed source, unsealed source or radiation generator shall (unless the source is exempted) apply to the Regulatory Authority for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thorizatio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in form of registration or licen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204-A65F-4696-ABBE-0D68087842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Principal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ministrative requirements – 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nts and licensees are responsible for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mplementing technical and organizational measur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needed for ensuring protection and safety for sour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nts and licensees must notify the Regulatory Authority o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ntions to modify practice or 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when significant implications could result) and become authorized for this before modif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3DA-6D79-457F-A0BA-D35B2535A4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Principal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diation protection requirements – 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ds on ICRP 60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ustificatio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of practi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se limit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ptimizatio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of protection and saf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D56-76C2-4F48-99FC-F2EF3F5E03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Principal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gement requirements – 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afety cultur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shall be fostered and maintained to encourage a questioning and learning attitude to saf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of each individual for safety should be clearly identified, and each individual suitably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rained and qualifi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nes o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mmunicatio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should be open for safety information fl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04D-8F9C-460C-A1FB-9EBA9B686F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Principal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gement requirements – 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QA programm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shall be establish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ropriat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afety system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technical and procedural) should be provided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o reduce likelihood that human error will lead to unintentional exposu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o provide means for detecting human error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o facilitate intervention in the event of failure of safety syste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Qualified expert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should be identified and made avail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A6B-6E74-4FF4-8F24-0D54B213833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Principal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chnical requirements – 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ources shall be kept secur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of a source shall never be relinquish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source shall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t be transferre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nless the receiver possesses a valid authoriz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eriodic inventory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of movable sources shall be perform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D38-6108-4FDF-9088-D19D528263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Principal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chnical requirements – 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“defence in depth”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system for safety shall be used t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Prevent accidental exposur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Mitigate consequences of accidental exposur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estore sources to safe conditions after any accidental exposures have occurred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ood engineering practi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with equipment and facilities designed to (inter)national standa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EF2-F3DE-4A17-8296-672E965B25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Principal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ification of safety – 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uality and extent of protection an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afety provision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should be assess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liance with standards should b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verified by monitoring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nd measurements, using equipment calibrated so that they ar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raceable to (inter)national standa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cord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shall be maintained of these resul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19A-EA76-4A17-B538-8568E7BC9D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tructure of the BS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520" y="1238400"/>
            <a:ext cx="57355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Preamble (the responsibilities of governments: aims, principles, philosophy and government arrangements for applying the standard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Principal requirements (the responsibilities of the “users” of radiation: how to fulfill the aims of the standard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Detailed requirements</a:t>
            </a: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(in the Appendices: consequences of the principal requirements – specific guidelines for practice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Schedules (quantitative standards and guidance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935680" y="1589040"/>
            <a:ext cx="2914560" cy="441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A1F-91B5-489C-865B-A46E5BA8A4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7840" y="98280"/>
            <a:ext cx="854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nternational Basic Safety Standard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600960" y="5424480"/>
            <a:ext cx="154296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thicG"/>
              </a:rPr>
              <a:t>rpop.iaea.or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thicG"/>
              <a:ea typeface="GothicG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57480" y="1338120"/>
            <a:ext cx="3048120" cy="46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E0A-5F7E-4EB0-A766-25A46747DD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Detailed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54080" y="1851120"/>
            <a:ext cx="740736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pational expos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cal expos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ublic expos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tential exposure: Safety of 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ergency exposure situ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ronic exposure situ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621-448D-4804-B11D-9512BF8B80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Detailed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pational exposur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tails on requirements in relation to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posures of workers incurred in the course of their work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with some exception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sts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of licensees, employers, workers)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assification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 areas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nitoring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 exposure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ocal rul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nd supervision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otective equipmen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ealth surveill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256-78ED-4240-B1A9-88E84E937BA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Detailed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cal exposur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ject of next le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tails on requirements in relation to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posure incurred by patients as part of their own medical or dental diagnosis or treatmen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mainl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C3B-E501-4249-8C0C-677B62186AE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Detailed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ublic exposur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tails on requirements in relation to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posure incurred by members of the public from radiation sourc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excluding any occupational or medical exposure and the normal local natural background radia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sts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, public exposure from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ternal irradiation sourc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aminatio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ast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ischarg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of radioactive substances into environment an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nitoring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 public expos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AF3-C6C8-41C7-8BB1-6E7CD401F56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Detailed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tential exposure – Safety of sourc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tails on requirements in relation to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afety of radiation sourc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nuclear installations, etc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sts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sign requirement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ponsibility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ccountability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for sources, feedback o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perating experien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to Regulatory Authority and Q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777-8F3C-4AAD-B250-AEBA37B3CD9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Detailed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ergency exposure situation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tails on requirements in relation to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unplanned exposures of a certain magnitud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resulting from accidents and emergenci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sts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mergency plan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ventions in emergency situation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including justification, optimization of protective actions, protection of workers undertaking intervention, and cessa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C88-3D30-49BF-A54D-344D0116C2B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Detailed Requirem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4160" y="1252440"/>
            <a:ext cx="8678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ronic exposure situation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tails on requirements in relation to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hronic exposure situations requiring remedial actio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resulting from natural sources –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radon – or exposure to contamination from past events – no longer emergenc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sts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medial action pl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62F-ABCE-4EEA-BE41-74053D6C596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tructure of the BS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520" y="1238400"/>
            <a:ext cx="57355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Preamble (the responsibilities of governments: aims, principles, philosophy and government arrangements for applying the standard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Principal requirements (the responsibilities of the “users” of radiation: how to fulfill the aims of the standard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Detailed requirements (in the Appendices: consequences of the principal requirements – specific guidelines for practice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Schedules</a:t>
            </a:r>
            <a:r>
              <a:rPr b="0" lang="en-US" sz="2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(quantitative standards and guidance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983200" y="1442880"/>
            <a:ext cx="2914560" cy="441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8CB-ACA0-43D2-B6CC-6670918C85E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Schedu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85960" y="1238400"/>
            <a:ext cx="76150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emp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se limi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uidance levels for medical expos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se levels for undertaking interven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vention and action levels for emergency exposure situ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tion levels for chronic expos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D09-256B-454C-867B-91E615E72AF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4160" y="1228680"/>
            <a:ext cx="86644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national harmo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ensus of 135 count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ference point for national standards and regul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ble to all types of exposure (occupational, medical, publ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135920" y="3651120"/>
            <a:ext cx="1390680" cy="210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9A2-6C5B-4700-B7A2-36D36AA40D9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International harmonization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96920" y="1461960"/>
            <a:ext cx="5257800" cy="4672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21214800">
            <a:off x="5551200" y="4268880"/>
            <a:ext cx="3254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0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S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 rot="21214800">
            <a:off x="6651360" y="4516560"/>
            <a:ext cx="3254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8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S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 rot="20665200">
            <a:off x="4387680" y="4146120"/>
            <a:ext cx="28116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S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5E3-410E-427D-87A4-D483DD38FB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SS: International harmonization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2600" y="1523880"/>
            <a:ext cx="85932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tly asked questions and problems with standa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90960" y="2619360"/>
            <a:ext cx="193356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B6E-0FB9-4D95-A046-367BA90A09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Q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2600" y="1523880"/>
            <a:ext cx="8621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the international BSS be met in developing countri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we have different standards for industrialized and developing countries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EC5-9CCB-47BC-833B-7ADF8C4CFD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A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8200" y="1523880"/>
            <a:ext cx="863604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ndards for Protection and Safety should be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pplicable to a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re may be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ifferent stages of implementation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nd temporal prior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re may be a need for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radual trans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t the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quirements for the protection of health should not be differ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F59-D46A-4346-B2EF-7E2C56446A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Q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8200" y="1523880"/>
            <a:ext cx="863604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n’t it the same: two standards or two stages of implementa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42B-88A2-4431-908B-48C992420C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/>
  <dc:description/>
  <dc:language>en-US</dc:language>
  <cp:lastModifiedBy>BRITTINGER, Maria Theresa</cp:lastModifiedBy>
  <dcterms:modified xsi:type="dcterms:W3CDTF">2008-01-28T14:29:56Z</dcterms:modified>
  <cp:revision>82</cp:revision>
  <dc:subject/>
  <dc:title> PREVENTION OF ACCIDENTAL EXPOSURE IN RADIOTHERAPY</dc:title>
</cp:coreProperties>
</file>