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34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9.wmf" ContentType="image/x-wmf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1272-2141-439A-ADC3-163EBC024B4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working condition for the machine is around 1.10 A as filament current, however since the ion chamber signal was very low, the control system assumed no beam or low dose rate and increased the filament current until a sufficient signal came from the chamber. The current increased to approximately 1.45 A which was noted during the verification measurements by the physicist. Measurements by the investigating team have estimated the dose to be somewhere around 70-110 Gy/min in the filament current inter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was a limiting level set for the filament current but that was even higher and did not in this case have any influ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steps to estimate the given doses will be pres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earity problems of the monitor chamber was observed when the polarizing voltage decreased. The graph shows tests done at three lo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“normal” is performed at the vendors site and shows a good behaviour (blue lin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easurements under fault conditions w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formed with the fuse removed and the D29 diode disconnec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ilament limit was set at 1.48 A (for ‘Fault 1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at 1.46 A (for ‘Fault 2’) in Białysto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at 1.10 A (for ‘Fault 3’) in Świe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 each measurement series, the doses per MU for the different MU numbers that were pre-set at the console of the accelerator were normalized to the dose per MU at 150 M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us estimated doses have to be scaled with 1.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se measurements using the two-voltage method are verified with theoretical calculations and a correction factor of 1.08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PR = Electron Paramagnetic Re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ological dosimet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follow are several slides showing the clinical consequences of the overdosage for each patient. Details regarding this can be found in the accident report from IA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opinion is that only one of these cases have to be shown, e.g. #3 with the CT showing the necrotic area in the thoracic wall</a:t>
            </a: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; 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letting all of this be presented in the “Clinical Aspect” lecture which preferable is given by an physic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6E1C-FFD2-4C81-AF74-E87E8A95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1588-2421-4D3A-85ED-C9FC0A77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F08-79A6-4E80-966D-1E797B33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DBD0-CC82-4D70-9236-E724979F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d3c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d3c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d3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3212-4A27-48BF-9364-F6F0C94A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15D5-C97F-48A9-B519-A09F37AC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823E-60C0-4E8A-BF4E-22E4DDAC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4428-7036-4213-BE1C-0ABC4AD9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d3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290-8E6A-4178-862D-E79C6E15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AFAC-C46A-4C3C-87FB-3F107822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2344-7F68-4568-B6CD-2E7CEEAF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1E68-2E1D-4642-A25C-F44B8255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5d7d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5d7d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85840" y="6368760"/>
            <a:ext cx="379260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d5d7d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5d7d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d5d7d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24A0-5ECE-4999-BB96-637A22AB9A8D}" type="slidenum">
              <a:rPr b="0" lang="en-GB" sz="1000" spc="-1" strike="noStrike">
                <a:solidFill>
                  <a:srgbClr val="d5d7d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771560"/>
            <a:ext cx="91440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odule 2.8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: Accelerator interlock failure (Poland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04920"/>
            <a:ext cx="83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eaeaea"/>
                </a:solidFill>
                <a:latin typeface="Arial"/>
              </a:rPr>
              <a:t>IAEA </a:t>
            </a:r>
            <a:r>
              <a:rPr b="1" lang="en-IE" sz="1400" spc="-1" strike="noStrike">
                <a:solidFill>
                  <a:srgbClr val="eaeaea"/>
                </a:solidFill>
                <a:latin typeface="Arial"/>
              </a:rPr>
              <a:t>Training Cours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Vendor came in the next day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2240" y="1523880"/>
            <a:ext cx="428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roken fu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power to dosimetry syste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ode broken in interlock chai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dicates problems in dosimetry syste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ow signal from ion chamb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un current increased to compensate the low dose ra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643280" y="2421000"/>
            <a:ext cx="4057920" cy="27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F3F3-442C-441A-A822-01ADC51696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ecff"/>
                </a:solidFill>
                <a:latin typeface="Arial"/>
              </a:rPr>
              <a:t>Steps to initiate radiatio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2240" y="1523880"/>
            <a:ext cx="450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quence of steps to initiate irradiation includes a test of beam monitoring chambers, but …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information about missing power supply can not pass through faulty diode …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terlock is not informed that monitoring chambers are missing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d gives green light to the next step in the sequence towards irradi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749840" y="2266920"/>
            <a:ext cx="402912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8716-4F54-499B-A064-EA74253926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9840" y="1155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ccecff"/>
                </a:solidFill>
                <a:latin typeface="Arial"/>
              </a:rPr>
              <a:t>Dose rate vs. gun curren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80960" y="1252440"/>
            <a:ext cx="6382080" cy="455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58CC-D921-43D7-8AF4-C12A051724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Estimated patient dose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ecff"/>
                </a:solidFill>
                <a:latin typeface="Arial"/>
              </a:rPr>
              <a:t>Linearity of the monitor chamber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937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ue to limited equipm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Measurements were done with 25 MU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 linearity of the monitor chamber was studi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364000" y="4149720"/>
          <a:ext cx="3382920" cy="2088720"/>
        </p:xfrm>
        <a:graphic>
          <a:graphicData uri="http://schemas.openxmlformats.org/drawingml/2006/table">
            <a:tbl>
              <a:tblPr/>
              <a:tblGrid>
                <a:gridCol w="1352880"/>
                <a:gridCol w="2030040"/>
              </a:tblGrid>
              <a:tr h="46116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st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atio of dose at 150 MU to dose at 25 MU x 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orma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00 (Łódź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ault 1 /1.48 A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09  (Białystok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ault 2 (1.46 A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05  (Białystok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ault 3 (1.10 A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09 (Vendor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76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verage 1-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0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6659640" y="5805360"/>
            <a:ext cx="576360" cy="5032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292720" y="1197000"/>
            <a:ext cx="35244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A64F-DABC-4A43-8545-15BF7CC83F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ecff"/>
                </a:solidFill>
                <a:latin typeface="Arial"/>
              </a:rPr>
              <a:t>The saturation in the measuring chamber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067280" y="3573000"/>
            <a:ext cx="0" cy="1150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410920" y="3573360"/>
            <a:ext cx="1582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64040" y="429264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1.3 cGy/puls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86520" y="3276720"/>
            <a:ext cx="782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14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=1.0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67000" y="1324080"/>
            <a:ext cx="6210000" cy="42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DA90-4020-4773-B115-49AD2E80CC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Reconstruction of fault conditio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asurements made with the equipment in fault condition: without fuse and interlock diod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lament current at 1.46 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de in December 200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sing three independent method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onization chamb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lan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AFchromic fil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40F-0A40-4939-9D53-AC7759E37A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Measurements in fault conditio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82600" y="1523880"/>
          <a:ext cx="8593200" cy="4572000"/>
        </p:xfrm>
        <a:graphic>
          <a:graphicData uri="http://schemas.openxmlformats.org/drawingml/2006/table">
            <a:tbl>
              <a:tblPr/>
              <a:tblGrid>
                <a:gridCol w="4505400"/>
                <a:gridCol w="4087800"/>
              </a:tblGrid>
              <a:tr h="970200"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simetry metho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se (Gy) per 150 MU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201680">
                <a:tc>
                  <a:txBody>
                    <a:bodyPr lIns="90000" rIns="90000" tIns="2286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lane parallel ionization chamber (Roos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27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±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2286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lanin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22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±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201680">
                <a:tc>
                  <a:txBody>
                    <a:bodyPr lIns="90000" rIns="90000" tIns="2286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AFchromic film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15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±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B59D-CD59-422E-9A45-FAE4A2439E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Dose reconstruction from bone sample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ree patients undergoing surge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one samples take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se determined by EP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certainty: it is not known whether the sample was from the front part or the distal part of the rib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dose estimation is done at d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for both hypothes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23ED-06A2-4177-BE59-DC506409D9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Patient dose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82600" y="1301760"/>
          <a:ext cx="8593200" cy="4703760"/>
        </p:xfrm>
        <a:graphic>
          <a:graphicData uri="http://schemas.openxmlformats.org/drawingml/2006/table">
            <a:tbl>
              <a:tblPr/>
              <a:tblGrid>
                <a:gridCol w="2521080"/>
                <a:gridCol w="2049480"/>
                <a:gridCol w="1984320"/>
                <a:gridCol w="2038320"/>
              </a:tblGrid>
              <a:tr h="91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atient 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atient 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atient 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rom EP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ample at frontal positi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9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±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7 G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4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±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11 G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1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±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3 G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ample at Distal position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7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±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8 G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4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±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19 G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8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±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5 G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rom Ionization chamb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3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±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9 G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3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±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9 G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3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±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9 G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0A4C-DC52-4C9C-9DC3-82DFD6AB07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ecff"/>
                </a:solidFill>
                <a:latin typeface="Arial"/>
              </a:rPr>
              <a:t>Where are we going this time?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69000" y="1557360"/>
            <a:ext cx="2686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Bia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  <a:ea typeface="Arial"/>
              </a:rPr>
              <a:t>ł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ysto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52520" y="1268280"/>
            <a:ext cx="5667480" cy="48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300A-519B-4A99-B570-24F94D91B1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Results on the overexposure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ccecff"/>
                </a:solidFill>
                <a:latin typeface="Arial"/>
              </a:rPr>
              <a:t>Absorbed Doses to the Patient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atient 1:  50 Gy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6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2.5 Gy 8 MeV+ 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atient 2:  48 Gy 8 MeV + 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atient 3:  25 Gy 8 MeV + 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atient 4:  42 Gy 8 MeV + 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atient 5:    5 Gy 8 MeV + 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atients in order of severity and treatment on day of accid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1E4D-05D4-42F8-B08E-44AB34DD285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ccecff"/>
                </a:solidFill>
                <a:latin typeface="Arial"/>
              </a:rPr>
              <a:t>Patient 1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0680" y="5388120"/>
            <a:ext cx="5918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7760" indent="-34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Dose 50 Gy </a:t>
            </a:r>
            <a:r>
              <a:rPr b="1" lang="en-US" sz="2000" spc="-1" strike="noStrike" baseline="30000">
                <a:solidFill>
                  <a:srgbClr val="eaeaea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o</a:t>
            </a:r>
            <a:r>
              <a:rPr b="1" lang="en-US" sz="2000" spc="-1" strike="noStrike" baseline="30000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+ Boost 1x2.5 Gy  8 MeV+ acciden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79280" y="1628640"/>
            <a:ext cx="8053560" cy="3722760"/>
            <a:chOff x="179280" y="1628640"/>
            <a:chExt cx="8053560" cy="372276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3203640" y="2133720"/>
              <a:ext cx="272412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179280" y="1628640"/>
              <a:ext cx="3390840" cy="253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3"/>
            <a:stretch/>
          </p:blipFill>
          <p:spPr>
            <a:xfrm>
              <a:off x="5292720" y="3141720"/>
              <a:ext cx="294012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49440" y="374004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June 4, 2001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520" y="1700280"/>
              <a:ext cx="306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Necrosis in area of prior surgical scar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512720" y="2060640"/>
              <a:ext cx="276480" cy="43164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08360" y="4292640"/>
              <a:ext cx="141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Oct. 2001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24360" y="494172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Dec. 1, 2001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A109-4311-4D4F-B07F-F98EEB21BC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ccecff"/>
                </a:solidFill>
                <a:latin typeface="Arial"/>
              </a:rPr>
              <a:t>Patient 2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5157720"/>
            <a:ext cx="30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Dose 48 Gy 8 MeV + 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95280" y="1557360"/>
            <a:ext cx="8324640" cy="4320720"/>
            <a:chOff x="395280" y="1557360"/>
            <a:chExt cx="8324640" cy="432072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395280" y="1557360"/>
              <a:ext cx="3814200" cy="28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3659760" y="2174400"/>
              <a:ext cx="2054520" cy="274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768400" y="1688760"/>
              <a:ext cx="218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June 4, 200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3320" y="3682800"/>
              <a:ext cx="174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White border of lesion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806920" y="3205800"/>
              <a:ext cx="25200" cy="34704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7240" y="1625400"/>
              <a:ext cx="283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Surgical scar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86160" y="2038320"/>
              <a:ext cx="189360" cy="79056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45280" y="4505400"/>
              <a:ext cx="1895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7760" indent="-34776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Oct. 200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3"/>
            <a:stretch/>
          </p:blipFill>
          <p:spPr>
            <a:xfrm>
              <a:off x="5310000" y="3320280"/>
              <a:ext cx="3409920" cy="25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307120" y="3339720"/>
              <a:ext cx="2186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7760" indent="-34776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Dec. 1, 200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7544-59E8-44BC-897F-DF96072A98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ccecff"/>
                </a:solidFill>
                <a:latin typeface="Arial"/>
              </a:rPr>
              <a:t>Patient 3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-143280" y="1628640"/>
            <a:ext cx="9227880" cy="4680000"/>
            <a:chOff x="-143280" y="1628640"/>
            <a:chExt cx="9227880" cy="468000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452520" y="1628640"/>
              <a:ext cx="3543120" cy="246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3213000" y="2230560"/>
              <a:ext cx="359100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82680" y="177336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June 4, 200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92960" y="2414520"/>
              <a:ext cx="2326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7760" indent="-34776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October 200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-143280" y="5300640"/>
              <a:ext cx="351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7760" indent="-34776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"/>
                </a:rPr>
                <a:t>Dose 25 Gy 8 MeV + ?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2680" y="422100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Scar, future necrosi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915840" y="2923920"/>
              <a:ext cx="1063800" cy="122076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46440" y="177336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White border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30600" y="2133720"/>
              <a:ext cx="112680" cy="71892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5867280" y="4054320"/>
              <a:ext cx="2997360" cy="22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962040" y="5661000"/>
              <a:ext cx="2122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7760" indent="-34776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Dec 1, 200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DA64-D38E-40AD-9B42-27933D21EA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ecff"/>
                </a:solidFill>
                <a:latin typeface="Arial"/>
              </a:rPr>
              <a:t>Patient 3 - CT of the thoracic wall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15880" y="1297080"/>
            <a:ext cx="8245440" cy="4076640"/>
            <a:chOff x="515880" y="1297080"/>
            <a:chExt cx="8245440" cy="407664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515880" y="1297080"/>
              <a:ext cx="3524400" cy="26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"/>
            <a:srcRect l="6579" t="16244" r="55601" b="35047"/>
            <a:stretch/>
          </p:blipFill>
          <p:spPr>
            <a:xfrm>
              <a:off x="4705200" y="1441440"/>
              <a:ext cx="4056120" cy="3916440"/>
            </a:xfrm>
            <a:prstGeom prst="rect">
              <a:avLst/>
            </a:prstGeom>
            <a:ln w="38160">
              <a:solidFill>
                <a:srgbClr val="eaeaea"/>
              </a:solidFill>
              <a:miter/>
            </a:ln>
          </p:spPr>
        </p:pic>
        <p:sp>
          <p:nvSpPr>
            <p:cNvPr id="224" name=""/>
            <p:cNvSpPr/>
            <p:nvPr/>
          </p:nvSpPr>
          <p:spPr>
            <a:xfrm>
              <a:off x="849240" y="1873440"/>
              <a:ext cx="1195560" cy="1079280"/>
            </a:xfrm>
            <a:prstGeom prst="rect">
              <a:avLst/>
            </a:prstGeom>
            <a:solidFill>
              <a:srgbClr val="99ccff">
                <a:alpha val="37000"/>
              </a:srgbClr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849240" y="1424160"/>
              <a:ext cx="3845160" cy="44928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49240" y="2954520"/>
              <a:ext cx="3840120" cy="241920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72160" y="1585800"/>
              <a:ext cx="312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Necrotic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lesio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35600" y="2162160"/>
              <a:ext cx="714600" cy="67644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539640" y="4692600"/>
            <a:ext cx="2303640" cy="13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0597-51C0-4FEC-BD9A-9EE0D60CB20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ccecff"/>
                </a:solidFill>
                <a:latin typeface="Arial"/>
              </a:rPr>
              <a:t>Patient 4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12240" y="5734080"/>
            <a:ext cx="344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7760" indent="-34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Dose 42 Gy 8 MeV +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3895560" cy="260028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324000" y="1719360"/>
            <a:ext cx="3905280" cy="2933640"/>
            <a:chOff x="324000" y="1719360"/>
            <a:chExt cx="3905280" cy="293364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tretch/>
          </p:blipFill>
          <p:spPr>
            <a:xfrm>
              <a:off x="324000" y="1719360"/>
              <a:ext cx="3905280" cy="29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339840" y="4221000"/>
              <a:ext cx="1784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7760" indent="-34776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June 4, 200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47760" y="1844640"/>
              <a:ext cx="265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7760" indent="-34776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Scar, future necrosi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112480" y="2204280"/>
              <a:ext cx="398520" cy="57636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D081-1A43-4B68-8848-1FEF7167C6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ecff"/>
                </a:solidFill>
                <a:latin typeface="Arial"/>
              </a:rPr>
              <a:t>Patient 5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-96840" y="1773360"/>
            <a:ext cx="9503640" cy="4054320"/>
            <a:chOff x="-96840" y="1773360"/>
            <a:chExt cx="9503640" cy="4054320"/>
          </a:xfrm>
        </p:grpSpPr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2862360" y="2214720"/>
              <a:ext cx="3419280" cy="24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5580000" y="3284640"/>
              <a:ext cx="3390840" cy="25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257040" y="1773360"/>
              <a:ext cx="3162600" cy="24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18520" y="5211720"/>
              <a:ext cx="3305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7760" indent="-34776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"/>
                </a:rPr>
                <a:t>Dose 5 Gy 8 MeV+ ?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-96840" y="3746520"/>
              <a:ext cx="2238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7760" indent="-34776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June 4, 200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72240" y="4221000"/>
              <a:ext cx="2326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7760" indent="-34776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October 200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84240" y="3716280"/>
              <a:ext cx="2122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7760" indent="-34776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Dec 1, 200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76440" y="2205000"/>
              <a:ext cx="908280" cy="12240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12600">
              <a:solidFill>
                <a:srgbClr val="3333cc"/>
              </a:solidFill>
              <a:miter/>
            </a:ln>
            <a:effectLst>
              <a:outerShdw dist="40186" dir="1096358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BD55-FF3B-46FA-8B26-00E7747E47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Lessons and recommendation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fault in a fuse of the power supply to the beam monitoring system led to a high dose rate, even though the display indicated a lower value than norm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t the same time, the safety interlock fail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filament current limitation was set at a high valu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CC5B-4D0C-4451-B42F-F3544E7B48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Poland - Bia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  <a:ea typeface="Arial"/>
              </a:rPr>
              <a:t>ł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ystok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16EB-1748-4E65-A4D5-0B7B3B942F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Summary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probability of double fault was increased because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 inoperative interlock could go unnoticed until the second fault appear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refore, the equipment was “ready for the second fault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6D78-1BF9-434B-9E2C-5E87552DA0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9144000" cy="59562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Lessons: Manufacturer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liance with IEC safety standard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view of safety features of existing equipment when a new IEC standard is issu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plicit recommendations to users on procedures in the case of power cuts (tests to be performed before resuming operation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raining for maintenance engineers including lessons from accidental expos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AC1-4526-4E98-9D6D-5B27ABD1DC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59562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Lessons: Manufacturers/maintenance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ertification for maintenance engineers should specify restrictions to handle or adjust certain critical parts in the accelerator, depending on the degree of train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rning notices adjustment of limits to filament current and other safety critical eleme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stricted access to safety critical adjustments be restricted to maintenance engineers certified by the manufactur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AD8-6945-42F5-A508-6033A7B5D35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59562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Lessons: Radiotherapy department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mmediate che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pon power supply shut downs or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y unusual display of dose rate or beam asymmetry or…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ritten procedure to ensure that this check is do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there is a hospital maintenance engineer for the accelerato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e aware of the limitations, according to certified training by the manufactur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8C3F-0484-4D0B-B27F-B3118AC7744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59562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ccecff"/>
                </a:solidFill>
                <a:latin typeface="Arial"/>
              </a:rPr>
              <a:t>Lessons: In shor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React and investigate when patients show unusual reaction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QC program must include routines to check accelerator performance after power fail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Equipment should be retrofitted or replaced when technology is out-dat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is is actually a very complicated proce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who decides and when should it be don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F0F8-59CA-407E-BECB-19D2A0C87C4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Referenc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782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IAEA: Accidental Overexposure of Radiotherapy Patients in Bia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łystok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(200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55640" y="4869000"/>
            <a:ext cx="154296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othicG"/>
              </a:rPr>
              <a:t>rpop.iaea.or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othicG"/>
              <a:ea typeface="GothicG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3305160" cy="495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F3D3-8062-4F90-AD19-30D36AC6B4A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The Neptun 10P Linac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720" y="5068800"/>
            <a:ext cx="25358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7760" indent="-347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eaeaea"/>
                </a:solidFill>
                <a:latin typeface="Arial"/>
              </a:rPr>
              <a:t>The Bia</a:t>
            </a:r>
            <a:r>
              <a:rPr b="1" lang="sv-SE" sz="2000" spc="-1" strike="noStrike">
                <a:solidFill>
                  <a:srgbClr val="eaeaea"/>
                </a:solidFill>
                <a:latin typeface="Arial"/>
                <a:ea typeface="Arial"/>
              </a:rPr>
              <a:t>ł</a:t>
            </a:r>
            <a:r>
              <a:rPr b="1" lang="sv-SE" sz="2000" spc="-1" strike="noStrike">
                <a:solidFill>
                  <a:srgbClr val="eaeaea"/>
                </a:solidFill>
                <a:latin typeface="Arial"/>
              </a:rPr>
              <a:t>ysto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eaeaea"/>
                </a:solidFill>
                <a:latin typeface="Arial"/>
              </a:rPr>
              <a:t>Machin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820280" y="4126680"/>
            <a:ext cx="576360" cy="6001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45240" y="5110200"/>
            <a:ext cx="531720" cy="649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89120" y="1222200"/>
            <a:ext cx="299268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7760" indent="-347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Built on license from CGR, France b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The Institute  of  Nuclear  Studies, Experimental  Establishment for Nuclear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Equipment, Swerk, Pol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cc00"/>
                </a:solidFill>
                <a:latin typeface="Arial"/>
              </a:rPr>
              <a:t>1970’s type design</a:t>
            </a:r>
            <a:r>
              <a:rPr b="1" lang="sv-SE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circuits involved in this accidental exposure are essentially unchanged from the original vers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760" y="4889520"/>
            <a:ext cx="2724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7760" indent="-347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</a:rPr>
              <a:t>Standing wave typ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</a:rPr>
              <a:t>3 GHz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</a:rPr>
              <a:t>2 MW pulse magnetro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2361960" cy="3524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651640" y="1341360"/>
            <a:ext cx="3257280" cy="244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429080" y="4869000"/>
            <a:ext cx="1871640" cy="153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7754-7B9C-44BA-9A2B-1A3FCEE831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ccecff"/>
                </a:solidFill>
                <a:latin typeface="Arial"/>
              </a:rPr>
              <a:t>What happened?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493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February 27, 2001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Power failure at the departm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Five patients remained to treat that da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Machine was restart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ll machine tests completed without any error indic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62600" y="149400"/>
            <a:ext cx="4233240" cy="6135120"/>
            <a:chOff x="4962600" y="149400"/>
            <a:chExt cx="4233240" cy="6135120"/>
          </a:xfrm>
        </p:grpSpPr>
        <p:grpSp>
          <p:nvGrpSpPr>
            <p:cNvPr id="111" name=""/>
            <p:cNvGrpSpPr/>
            <p:nvPr/>
          </p:nvGrpSpPr>
          <p:grpSpPr>
            <a:xfrm>
              <a:off x="4962600" y="149400"/>
              <a:ext cx="4233240" cy="6135120"/>
              <a:chOff x="4962600" y="149400"/>
              <a:chExt cx="4233240" cy="613512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991480" y="3748320"/>
                <a:ext cx="938160" cy="2071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3" name=""/>
              <p:cNvGrpSpPr/>
              <p:nvPr/>
            </p:nvGrpSpPr>
            <p:grpSpPr>
              <a:xfrm>
                <a:off x="6104520" y="1954800"/>
                <a:ext cx="1960560" cy="2534760"/>
                <a:chOff x="6104520" y="1954800"/>
                <a:chExt cx="1960560" cy="2534760"/>
              </a:xfrm>
            </p:grpSpPr>
            <p:pic>
              <p:nvPicPr>
                <p:cNvPr id="11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171920" y="1954800"/>
                  <a:ext cx="893160" cy="197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" name=""/>
                <p:cNvSpPr/>
                <p:nvPr/>
              </p:nvSpPr>
              <p:spPr>
                <a:xfrm>
                  <a:off x="6104520" y="2113560"/>
                  <a:ext cx="1184040" cy="1823040"/>
                </a:xfrm>
                <a:custGeom>
                  <a:avLst/>
                  <a:gdLst/>
                  <a:ahLst/>
                  <a:rect l="l" t="t" r="r" b="b"/>
                  <a:pathLst>
                    <a:path w="891" h="1332">
                      <a:moveTo>
                        <a:pt x="891" y="0"/>
                      </a:moveTo>
                      <a:cubicBezTo>
                        <a:pt x="839" y="163"/>
                        <a:pt x="724" y="755"/>
                        <a:pt x="576" y="977"/>
                      </a:cubicBezTo>
                      <a:cubicBezTo>
                        <a:pt x="428" y="1199"/>
                        <a:pt x="120" y="1258"/>
                        <a:pt x="0" y="1332"/>
                      </a:cubicBezTo>
                    </a:path>
                  </a:pathLst>
                </a:custGeom>
                <a:noFill/>
                <a:ln w="1260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764760" y="2139480"/>
                  <a:ext cx="1168560" cy="1816200"/>
                </a:xfrm>
                <a:custGeom>
                  <a:avLst/>
                  <a:gdLst/>
                  <a:ahLst/>
                  <a:rect l="l" t="t" r="r" b="b"/>
                  <a:pathLst>
                    <a:path w="891" h="1332">
                      <a:moveTo>
                        <a:pt x="891" y="0"/>
                      </a:moveTo>
                      <a:cubicBezTo>
                        <a:pt x="839" y="163"/>
                        <a:pt x="724" y="755"/>
                        <a:pt x="576" y="977"/>
                      </a:cubicBezTo>
                      <a:cubicBezTo>
                        <a:pt x="428" y="1199"/>
                        <a:pt x="120" y="1258"/>
                        <a:pt x="0" y="1332"/>
                      </a:cubicBezTo>
                    </a:path>
                  </a:pathLst>
                </a:custGeom>
                <a:noFill/>
                <a:ln w="1260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778080" y="2391480"/>
                  <a:ext cx="1168560" cy="1816200"/>
                </a:xfrm>
                <a:custGeom>
                  <a:avLst/>
                  <a:gdLst/>
                  <a:ahLst/>
                  <a:rect l="l" t="t" r="r" b="b"/>
                  <a:pathLst>
                    <a:path w="891" h="1332">
                      <a:moveTo>
                        <a:pt x="891" y="0"/>
                      </a:moveTo>
                      <a:cubicBezTo>
                        <a:pt x="839" y="163"/>
                        <a:pt x="724" y="755"/>
                        <a:pt x="576" y="977"/>
                      </a:cubicBezTo>
                      <a:cubicBezTo>
                        <a:pt x="428" y="1199"/>
                        <a:pt x="120" y="1258"/>
                        <a:pt x="0" y="1332"/>
                      </a:cubicBezTo>
                    </a:path>
                  </a:pathLst>
                </a:custGeom>
                <a:noFill/>
                <a:ln w="1260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783480" y="2651400"/>
                  <a:ext cx="1168200" cy="1816200"/>
                </a:xfrm>
                <a:custGeom>
                  <a:avLst/>
                  <a:gdLst/>
                  <a:ahLst/>
                  <a:rect l="l" t="t" r="r" b="b"/>
                  <a:pathLst>
                    <a:path w="891" h="1332">
                      <a:moveTo>
                        <a:pt x="891" y="0"/>
                      </a:moveTo>
                      <a:cubicBezTo>
                        <a:pt x="839" y="163"/>
                        <a:pt x="724" y="755"/>
                        <a:pt x="576" y="977"/>
                      </a:cubicBezTo>
                      <a:cubicBezTo>
                        <a:pt x="428" y="1199"/>
                        <a:pt x="120" y="1258"/>
                        <a:pt x="0" y="1332"/>
                      </a:cubicBezTo>
                    </a:path>
                  </a:pathLst>
                </a:custGeom>
                <a:noFill/>
                <a:ln w="1260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133680" y="2406240"/>
                  <a:ext cx="1184040" cy="1823040"/>
                </a:xfrm>
                <a:custGeom>
                  <a:avLst/>
                  <a:gdLst/>
                  <a:ahLst/>
                  <a:rect l="l" t="t" r="r" b="b"/>
                  <a:pathLst>
                    <a:path w="891" h="1332">
                      <a:moveTo>
                        <a:pt x="891" y="0"/>
                      </a:moveTo>
                      <a:cubicBezTo>
                        <a:pt x="839" y="163"/>
                        <a:pt x="724" y="755"/>
                        <a:pt x="576" y="977"/>
                      </a:cubicBezTo>
                      <a:cubicBezTo>
                        <a:pt x="428" y="1199"/>
                        <a:pt x="120" y="1258"/>
                        <a:pt x="0" y="1332"/>
                      </a:cubicBezTo>
                    </a:path>
                  </a:pathLst>
                </a:custGeom>
                <a:noFill/>
                <a:ln w="1260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130800" y="2666520"/>
                  <a:ext cx="1184040" cy="1823040"/>
                </a:xfrm>
                <a:custGeom>
                  <a:avLst/>
                  <a:gdLst/>
                  <a:ahLst/>
                  <a:rect l="l" t="t" r="r" b="b"/>
                  <a:pathLst>
                    <a:path w="891" h="1332">
                      <a:moveTo>
                        <a:pt x="891" y="0"/>
                      </a:moveTo>
                      <a:cubicBezTo>
                        <a:pt x="839" y="163"/>
                        <a:pt x="724" y="755"/>
                        <a:pt x="576" y="977"/>
                      </a:cubicBezTo>
                      <a:cubicBezTo>
                        <a:pt x="428" y="1199"/>
                        <a:pt x="120" y="1258"/>
                        <a:pt x="0" y="1332"/>
                      </a:cubicBezTo>
                    </a:path>
                  </a:pathLst>
                </a:custGeom>
                <a:noFill/>
                <a:ln w="1260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4962600" y="3908160"/>
                <a:ext cx="1184400" cy="1823400"/>
              </a:xfrm>
              <a:custGeom>
                <a:avLst/>
                <a:gdLst/>
                <a:ahLst/>
                <a:rect l="l" t="t" r="r" b="b"/>
                <a:pathLst>
                  <a:path w="891" h="1332">
                    <a:moveTo>
                      <a:pt x="891" y="0"/>
                    </a:moveTo>
                    <a:cubicBezTo>
                      <a:pt x="839" y="163"/>
                      <a:pt x="724" y="755"/>
                      <a:pt x="576" y="977"/>
                    </a:cubicBezTo>
                    <a:cubicBezTo>
                      <a:pt x="428" y="1199"/>
                      <a:pt x="120" y="1258"/>
                      <a:pt x="0" y="1332"/>
                    </a:cubicBezTo>
                  </a:path>
                </a:pathLst>
              </a:custGeom>
              <a:noFill/>
              <a:ln w="1260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22840" y="3934440"/>
                <a:ext cx="1168560" cy="1816200"/>
              </a:xfrm>
              <a:custGeom>
                <a:avLst/>
                <a:gdLst/>
                <a:ahLst/>
                <a:rect l="l" t="t" r="r" b="b"/>
                <a:pathLst>
                  <a:path w="891" h="1332">
                    <a:moveTo>
                      <a:pt x="891" y="0"/>
                    </a:moveTo>
                    <a:cubicBezTo>
                      <a:pt x="839" y="163"/>
                      <a:pt x="724" y="755"/>
                      <a:pt x="576" y="977"/>
                    </a:cubicBezTo>
                    <a:cubicBezTo>
                      <a:pt x="428" y="1199"/>
                      <a:pt x="120" y="1258"/>
                      <a:pt x="0" y="1332"/>
                    </a:cubicBezTo>
                  </a:path>
                </a:pathLst>
              </a:custGeom>
              <a:noFill/>
              <a:ln w="1260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636520" y="4186080"/>
                <a:ext cx="1168200" cy="1816560"/>
              </a:xfrm>
              <a:custGeom>
                <a:avLst/>
                <a:gdLst/>
                <a:ahLst/>
                <a:rect l="l" t="t" r="r" b="b"/>
                <a:pathLst>
                  <a:path w="891" h="1332">
                    <a:moveTo>
                      <a:pt x="891" y="0"/>
                    </a:moveTo>
                    <a:cubicBezTo>
                      <a:pt x="839" y="163"/>
                      <a:pt x="724" y="755"/>
                      <a:pt x="576" y="977"/>
                    </a:cubicBezTo>
                    <a:cubicBezTo>
                      <a:pt x="428" y="1199"/>
                      <a:pt x="120" y="1258"/>
                      <a:pt x="0" y="1332"/>
                    </a:cubicBezTo>
                  </a:path>
                </a:pathLst>
              </a:custGeom>
              <a:noFill/>
              <a:ln w="1260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641560" y="4446360"/>
                <a:ext cx="1168200" cy="1816560"/>
              </a:xfrm>
              <a:custGeom>
                <a:avLst/>
                <a:gdLst/>
                <a:ahLst/>
                <a:rect l="l" t="t" r="r" b="b"/>
                <a:pathLst>
                  <a:path w="891" h="1332">
                    <a:moveTo>
                      <a:pt x="891" y="0"/>
                    </a:moveTo>
                    <a:cubicBezTo>
                      <a:pt x="839" y="163"/>
                      <a:pt x="724" y="755"/>
                      <a:pt x="576" y="977"/>
                    </a:cubicBezTo>
                    <a:cubicBezTo>
                      <a:pt x="428" y="1199"/>
                      <a:pt x="120" y="1258"/>
                      <a:pt x="0" y="1332"/>
                    </a:cubicBezTo>
                  </a:path>
                </a:pathLst>
              </a:custGeom>
              <a:noFill/>
              <a:ln w="1260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91760" y="4201560"/>
                <a:ext cx="1184400" cy="1823040"/>
              </a:xfrm>
              <a:custGeom>
                <a:avLst/>
                <a:gdLst/>
                <a:ahLst/>
                <a:rect l="l" t="t" r="r" b="b"/>
                <a:pathLst>
                  <a:path w="891" h="1332">
                    <a:moveTo>
                      <a:pt x="891" y="0"/>
                    </a:moveTo>
                    <a:cubicBezTo>
                      <a:pt x="839" y="163"/>
                      <a:pt x="724" y="755"/>
                      <a:pt x="576" y="977"/>
                    </a:cubicBezTo>
                    <a:cubicBezTo>
                      <a:pt x="428" y="1199"/>
                      <a:pt x="120" y="1258"/>
                      <a:pt x="0" y="1332"/>
                    </a:cubicBezTo>
                  </a:path>
                </a:pathLst>
              </a:custGeom>
              <a:noFill/>
              <a:ln w="1260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88880" y="4461120"/>
                <a:ext cx="1184400" cy="1823400"/>
              </a:xfrm>
              <a:custGeom>
                <a:avLst/>
                <a:gdLst/>
                <a:ahLst/>
                <a:rect l="l" t="t" r="r" b="b"/>
                <a:pathLst>
                  <a:path w="891" h="1332">
                    <a:moveTo>
                      <a:pt x="891" y="0"/>
                    </a:moveTo>
                    <a:cubicBezTo>
                      <a:pt x="839" y="163"/>
                      <a:pt x="724" y="755"/>
                      <a:pt x="576" y="977"/>
                    </a:cubicBezTo>
                    <a:cubicBezTo>
                      <a:pt x="428" y="1199"/>
                      <a:pt x="120" y="1258"/>
                      <a:pt x="0" y="1332"/>
                    </a:cubicBezTo>
                  </a:path>
                </a:pathLst>
              </a:custGeom>
              <a:noFill/>
              <a:ln w="1260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7235280" y="149400"/>
                <a:ext cx="1960560" cy="2534760"/>
                <a:chOff x="7235280" y="149400"/>
                <a:chExt cx="1960560" cy="2534760"/>
              </a:xfrm>
            </p:grpSpPr>
            <p:pic>
              <p:nvPicPr>
                <p:cNvPr id="12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02680" y="149400"/>
                  <a:ext cx="893160" cy="197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" name=""/>
                <p:cNvSpPr/>
                <p:nvPr/>
              </p:nvSpPr>
              <p:spPr>
                <a:xfrm>
                  <a:off x="7235280" y="308160"/>
                  <a:ext cx="1184400" cy="1823040"/>
                </a:xfrm>
                <a:custGeom>
                  <a:avLst/>
                  <a:gdLst/>
                  <a:ahLst/>
                  <a:rect l="l" t="t" r="r" b="b"/>
                  <a:pathLst>
                    <a:path w="891" h="1332">
                      <a:moveTo>
                        <a:pt x="891" y="0"/>
                      </a:moveTo>
                      <a:cubicBezTo>
                        <a:pt x="839" y="163"/>
                        <a:pt x="724" y="755"/>
                        <a:pt x="576" y="977"/>
                      </a:cubicBezTo>
                      <a:cubicBezTo>
                        <a:pt x="428" y="1199"/>
                        <a:pt x="120" y="1258"/>
                        <a:pt x="0" y="1332"/>
                      </a:cubicBezTo>
                    </a:path>
                  </a:pathLst>
                </a:custGeom>
                <a:noFill/>
                <a:ln w="1260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895520" y="334080"/>
                  <a:ext cx="1168920" cy="1816200"/>
                </a:xfrm>
                <a:custGeom>
                  <a:avLst/>
                  <a:gdLst/>
                  <a:ahLst/>
                  <a:rect l="l" t="t" r="r" b="b"/>
                  <a:pathLst>
                    <a:path w="891" h="1332">
                      <a:moveTo>
                        <a:pt x="891" y="0"/>
                      </a:moveTo>
                      <a:cubicBezTo>
                        <a:pt x="839" y="163"/>
                        <a:pt x="724" y="755"/>
                        <a:pt x="576" y="977"/>
                      </a:cubicBezTo>
                      <a:cubicBezTo>
                        <a:pt x="428" y="1199"/>
                        <a:pt x="120" y="1258"/>
                        <a:pt x="0" y="1332"/>
                      </a:cubicBezTo>
                    </a:path>
                  </a:pathLst>
                </a:custGeom>
                <a:noFill/>
                <a:ln w="1260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908840" y="586080"/>
                  <a:ext cx="1168920" cy="1816200"/>
                </a:xfrm>
                <a:custGeom>
                  <a:avLst/>
                  <a:gdLst/>
                  <a:ahLst/>
                  <a:rect l="l" t="t" r="r" b="b"/>
                  <a:pathLst>
                    <a:path w="891" h="1332">
                      <a:moveTo>
                        <a:pt x="891" y="0"/>
                      </a:moveTo>
                      <a:cubicBezTo>
                        <a:pt x="839" y="163"/>
                        <a:pt x="724" y="755"/>
                        <a:pt x="576" y="977"/>
                      </a:cubicBezTo>
                      <a:cubicBezTo>
                        <a:pt x="428" y="1199"/>
                        <a:pt x="120" y="1258"/>
                        <a:pt x="0" y="1332"/>
                      </a:cubicBezTo>
                    </a:path>
                  </a:pathLst>
                </a:custGeom>
                <a:noFill/>
                <a:ln w="1260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914240" y="846000"/>
                  <a:ext cx="1168560" cy="1816200"/>
                </a:xfrm>
                <a:custGeom>
                  <a:avLst/>
                  <a:gdLst/>
                  <a:ahLst/>
                  <a:rect l="l" t="t" r="r" b="b"/>
                  <a:pathLst>
                    <a:path w="891" h="1332">
                      <a:moveTo>
                        <a:pt x="891" y="0"/>
                      </a:moveTo>
                      <a:cubicBezTo>
                        <a:pt x="839" y="163"/>
                        <a:pt x="724" y="755"/>
                        <a:pt x="576" y="977"/>
                      </a:cubicBezTo>
                      <a:cubicBezTo>
                        <a:pt x="428" y="1199"/>
                        <a:pt x="120" y="1258"/>
                        <a:pt x="0" y="1332"/>
                      </a:cubicBezTo>
                    </a:path>
                  </a:pathLst>
                </a:custGeom>
                <a:noFill/>
                <a:ln w="1260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264440" y="600840"/>
                  <a:ext cx="1184400" cy="1823040"/>
                </a:xfrm>
                <a:custGeom>
                  <a:avLst/>
                  <a:gdLst/>
                  <a:ahLst/>
                  <a:rect l="l" t="t" r="r" b="b"/>
                  <a:pathLst>
                    <a:path w="891" h="1332">
                      <a:moveTo>
                        <a:pt x="891" y="0"/>
                      </a:moveTo>
                      <a:cubicBezTo>
                        <a:pt x="839" y="163"/>
                        <a:pt x="724" y="755"/>
                        <a:pt x="576" y="977"/>
                      </a:cubicBezTo>
                      <a:cubicBezTo>
                        <a:pt x="428" y="1199"/>
                        <a:pt x="120" y="1258"/>
                        <a:pt x="0" y="1332"/>
                      </a:cubicBezTo>
                    </a:path>
                  </a:pathLst>
                </a:custGeom>
                <a:noFill/>
                <a:ln w="1260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261560" y="861120"/>
                  <a:ext cx="1184400" cy="1823040"/>
                </a:xfrm>
                <a:custGeom>
                  <a:avLst/>
                  <a:gdLst/>
                  <a:ahLst/>
                  <a:rect l="l" t="t" r="r" b="b"/>
                  <a:pathLst>
                    <a:path w="891" h="1332">
                      <a:moveTo>
                        <a:pt x="891" y="0"/>
                      </a:moveTo>
                      <a:cubicBezTo>
                        <a:pt x="839" y="163"/>
                        <a:pt x="724" y="755"/>
                        <a:pt x="576" y="977"/>
                      </a:cubicBezTo>
                      <a:cubicBezTo>
                        <a:pt x="428" y="1199"/>
                        <a:pt x="120" y="1258"/>
                        <a:pt x="0" y="1332"/>
                      </a:cubicBezTo>
                    </a:path>
                  </a:pathLst>
                </a:custGeom>
                <a:noFill/>
                <a:ln w="1260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" name=""/>
            <p:cNvSpPr/>
            <p:nvPr/>
          </p:nvSpPr>
          <p:spPr>
            <a:xfrm>
              <a:off x="6252840" y="1811160"/>
              <a:ext cx="1578240" cy="32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800" spc="-1" strike="noStrike">
                  <a:solidFill>
                    <a:srgbClr val="ff0000"/>
                  </a:solidFill>
                  <a:latin typeface="Comic Sans MS"/>
                </a:rPr>
                <a:t>x</a:t>
              </a:r>
              <a:endParaRPr b="0" lang="en-US" sz="20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839B-6FEF-4E4F-93E5-F2275D54BE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ccecff"/>
                </a:solidFill>
                <a:latin typeface="Arial"/>
              </a:rPr>
              <a:t>What happened?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2240" y="1523880"/>
            <a:ext cx="474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alog dose rate indicator fluctuated around 150 MU/min, instead of the selected 300 MU/min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hysicist adjusted the timer to a longer time because of the lower indicated dose rate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e noted a minor beam asymmetry and readjusted for correc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5029200"/>
            <a:ext cx="413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7760" indent="-347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eaeaea"/>
                </a:solidFill>
                <a:latin typeface="Arial"/>
              </a:rPr>
              <a:t>The console of the Neptun 10 P in Bialystok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4880" cy="24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EA59-0065-4F34-B7D2-511700CDD5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ccecff"/>
                </a:solidFill>
                <a:latin typeface="Arial"/>
              </a:rPr>
              <a:t>What happened?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ll 5 remaining patients were treat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ll had 8 MeV electro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atients Nos. 3, 4 and 5 soon reported abnormal skin reaction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atient 5 returned to the radiotherapy department complaining of an itching and a burning sens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adiation oncologist also noted erythema which was abnorm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 machine was taken out of clinical use after the last pati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AAB9-0DD8-4D65-9EB8-142449650E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Action of the physicis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550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hysicist did measuremen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ading was off sca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se rate, without correction for recombination, was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37 times higher than normal (for 8 MeV electrons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17 times higher (for 10 MeV electrons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3.5 times higher (for 9 MV photons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83400" y="4952880"/>
            <a:ext cx="3360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7760" indent="-347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eaeaea"/>
                </a:solidFill>
                <a:latin typeface="Arial"/>
              </a:rPr>
              <a:t>The Neptun 10 P in Bialystok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867280" y="2421000"/>
            <a:ext cx="2895840" cy="19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215B-24CA-44F4-923A-18896B27E0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82600" y="982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2600" y="1287360"/>
            <a:ext cx="8593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Action of the physicis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hysicist noted increased current in filament of electron gun (from 1.20 to 1.46 for 8 MeV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accelerator indicated low dose rat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05000" y="5943600"/>
            <a:ext cx="336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7760" indent="-347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eaeaea"/>
                </a:solidFill>
                <a:latin typeface="Arial"/>
              </a:rPr>
              <a:t>Electronic cabine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916360" y="3197160"/>
            <a:ext cx="3743280" cy="281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E219-3454-48D1-BAB2-CA6F50ABEC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/>
  <dc:description/>
  <dc:language>en-US</dc:language>
  <cp:lastModifiedBy>BRITTINGER, Maria Theresa</cp:lastModifiedBy>
  <cp:lastPrinted>2008-01-15T16:20:35Z</cp:lastPrinted>
  <dcterms:modified xsi:type="dcterms:W3CDTF">2008-01-25T13:49:46Z</dcterms:modified>
  <cp:revision>106</cp:revision>
  <dc:subject/>
  <dc:title> PREVENTION OF ACCIDENTAL EXPOSURE IN RADIOTHERAPY</dc:title>
</cp:coreProperties>
</file>