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marL="21600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04760" y="782280"/>
            <a:ext cx="5088240" cy="381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5600" cy="4605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1440" y="97236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6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FCB9C674-285B-4366-93A2-CB59AB616826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4760" y="782640"/>
            <a:ext cx="5088240" cy="3816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5600" cy="4605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lease refer “Manual for Lecturers” for more background on the different parts and mod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004760" y="782640"/>
            <a:ext cx="5088240" cy="3816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5600" cy="4605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mphasize that the MCQs are there in order to verify that the message is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4760" y="782640"/>
            <a:ext cx="5088240" cy="3816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5600" cy="4605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ll main references are accessible on the CD-ROM with the cours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004760" y="782640"/>
            <a:ext cx="5088240" cy="3816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5600" cy="4605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o over the actual time table for the workshop with the participants, and also any “house rules”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04760" y="782640"/>
            <a:ext cx="5088240" cy="3816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5600" cy="4605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re needs to be a strict adherence to 10 minutes per country in order to give all countries a chance to present within the given time-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CC9-6C35-4767-B744-7D03DAC8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1A0-859F-473B-AE31-E63CC0F0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136-969C-43D0-936D-8CC013D3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9E4-A46D-424E-87F4-A59ECFAA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4F6-D8EF-4895-8263-6D6F93C3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934-BDC3-4327-A06F-7BE117FE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FD6-0F27-45DA-8D80-D5A8DC96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50C-13F7-4A22-AAEC-EEE48BD7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d3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28B-F8FF-486B-82B5-A899EF52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28F-995F-4434-A47E-E98B61E8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078-35FA-4630-A6FB-7296F3FF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9EF-89E3-4B31-BC32-89010CB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5d7d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819520" y="6369120"/>
            <a:ext cx="39592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5d7d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d5d7d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0881-0913-4E14-B6EF-43EFBC2AEC25}" type="slidenum">
              <a:rPr b="0" lang="en-GB" sz="1000" spc="-1" strike="noStrike">
                <a:solidFill>
                  <a:srgbClr val="d5d7d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PREVENTION OF ACCIDENTAL EXPOSURE IN RADIOTHERAPY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art 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ntro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04920"/>
            <a:ext cx="83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eaeaea"/>
                </a:solidFill>
                <a:latin typeface="Arial"/>
              </a:rPr>
              <a:t>IAEA </a:t>
            </a:r>
            <a:r>
              <a:rPr b="1" lang="en-IE" sz="1400" spc="-1" strike="noStrike">
                <a:solidFill>
                  <a:srgbClr val="eaeaea"/>
                </a:solidFill>
                <a:latin typeface="Arial"/>
              </a:rPr>
              <a:t>Training</a:t>
            </a:r>
            <a:r>
              <a:rPr b="1" lang="sl-SI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1" lang="sl-SI" sz="1400" spc="-1" strike="noStrike">
                <a:solidFill>
                  <a:srgbClr val="eaeaea"/>
                </a:solidFill>
                <a:latin typeface="Arial"/>
              </a:rPr>
              <a:t>ours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in compon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2485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 9: Full group revie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ussion of the full group at the end of each day. One person in each of the small groups presents a summary of the points from group exercise in front of full grou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were the main points of knowledge acquired during the da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732720" y="2349360"/>
            <a:ext cx="158112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A3B-98F5-4AE6-8782-00D64D2811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in compon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981080"/>
            <a:ext cx="62485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 10: Practical se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ral cases of errors that might happen in your clin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nd the errors and suggest what to do about th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732720" y="299736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3F6-CDC7-4D9C-BC89-35BF145818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ultiple choice question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981080"/>
            <a:ext cx="62485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CQ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ple Choice Ques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 verify understanding of subject, towards the end of the wee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51640" y="2708280"/>
            <a:ext cx="3171600" cy="169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577-E307-45D6-B1C4-83E8F04829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981080"/>
            <a:ext cx="5257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 the main references are on the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le format: Adobe Acrobat (*.pdf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on (below) indicates that a reference is linked to the IAEA website (http://rpop.iaea.or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16360" y="5589720"/>
            <a:ext cx="15433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thicG"/>
              </a:rPr>
              <a:t>rpop.iaea.or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thicG"/>
              <a:ea typeface="GothicG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86704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754-DB4F-4663-9558-008B32661A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14300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99"/>
                </a:solidFill>
                <a:latin typeface="Times New Roman"/>
              </a:rPr>
              <a:t>Note to lecturer: Insert the actual time table for the week her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ime tabl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FED-D70E-4739-A771-98F0ADAA6D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981080"/>
            <a:ext cx="62485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 1: Review of International Basic Safety Standard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SS Principal Require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SS Appendix II: Detailed Requirements for Medical Exposures (with an emphasis on accidental medical exposur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in compon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200988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B23-88B6-48E0-AC26-EA2E047D73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in compon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981080"/>
            <a:ext cx="62485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 2: Case studies of major accidental exposures in radiotherap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ne major case studies – descriptions of events, discovery of problems, consequences and lessons to lear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ussion on some newer case studies (2004-200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2000160" cy="306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EEC-09DF-4845-9A64-B484912EA1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in compon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981080"/>
            <a:ext cx="62485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 3: Analysis of causes and contributing fact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alysis of a collection of other incidents and accidental expos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role of “near misses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there recurring themes or patterns in the “lessons learned”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2133720"/>
            <a:ext cx="2085840" cy="306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94C-C822-4D0B-90A1-49B491A482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in compon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981080"/>
            <a:ext cx="62485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 4: Clinical consequences of accidental exposures in radiotherap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ver- and under-exposure in radiotherap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nical detection of accidental expos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agement of patients affected by accidental expos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2708280"/>
            <a:ext cx="2438280" cy="172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174-6EAF-4B31-96FF-2EB7A16D76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in compon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981080"/>
            <a:ext cx="62485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 5: Reporting, investigating and preventing accidental expos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n be done to prevent accidental exposures in radiotherap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rting errors and lessons to lear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ystematic and prospective risk assess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659640" y="2852640"/>
            <a:ext cx="1628640" cy="17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350-1669-4E6E-8F8D-83C76FA6FE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in compon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981080"/>
            <a:ext cx="62485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 6: Case studies of major accidents with abandoned radiotherapy sour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 major case studies – descriptions of events, discovery of problems, consequences and lessons to lear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076480" cy="306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6AE-AB26-4E32-95A2-46DE75F012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in compon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81080"/>
            <a:ext cx="62485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 7: Country repor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ticipants' presentations of the situation in their respective countries relevant to the subject of the worksho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roximately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10 minut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er cou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32720" y="2708280"/>
            <a:ext cx="2085840" cy="208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19F-3907-4F22-BF32-4253915DDF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8200" y="98280"/>
            <a:ext cx="85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in componen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981080"/>
            <a:ext cx="62485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 8: Group exerci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rm a number of small groups and discuss specific questions in relation to preceding lectures (45 minut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workshop aims to be very interactiv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43640" y="2852640"/>
            <a:ext cx="2181240" cy="15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vention of accidental exposure in radiotherap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645-CEFD-4D64-8E10-0AD95ABC1A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4:18:50Z</dcterms:created>
  <dc:creator/>
  <dc:description/>
  <dc:language>en-US</dc:language>
  <cp:lastModifiedBy>BRITTINGER, Maria Theresa</cp:lastModifiedBy>
  <cp:lastPrinted>2002-07-11T07:56:55Z</cp:lastPrinted>
  <dcterms:modified xsi:type="dcterms:W3CDTF">2008-01-28T14:34:41Z</dcterms:modified>
  <cp:revision>76</cp:revision>
  <dc:subject/>
  <dc:title> PREVENTION OF ACCIDENTAL EXPOSURE IN RADIOTHERAPY</dc:title>
</cp:coreProperties>
</file>