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61CE-B489-4FF3-A451-B86C36EC051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graph shows how the source disintegrate and how the activity is decreasing (light blue line). To correct for this, the treatment time is increased accordingly (green lin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y not updating the data file with the new source strength one continue to correct the treatment time as if we have a low activity. The correction should start from unity all over at the time of the source replac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ime correction built into the data file used for calculation treatment time when trimmer bars is used leads to a larger error as time passes. After 50 month from the original calibration and when the file was updated there is an deviation of 1.75 i.e. 75% overdos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1A56-6F2D-432B-B59D-CFC622808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9BAF-7318-468F-AE52-33BFB8B3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ED2A-0FA4-4916-A923-843367F09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9015-7983-4839-BDF9-127120886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d3c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2240" y="9792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d3c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d3c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3917-1D48-46EA-AAE1-C65155CD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1218-171D-400B-B039-A1966F78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402F-F605-45EC-A47A-1057D2F2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D677-58B2-438F-9121-01AF3A8D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2240" y="9792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d3c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A7D1-1D2C-4F1E-A624-AE68F50A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4731-7FF1-4B87-8E6E-3F9CB4A3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84CB-4E94-47C9-8308-FD4036FB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8FC6-F973-45D7-B63D-F79F4B21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04920" y="6110280"/>
            <a:ext cx="685800" cy="5968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990720" y="620244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783480" y="6369120"/>
            <a:ext cx="167616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d5d7d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5d7d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85840" y="6368760"/>
            <a:ext cx="379260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d5d7d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5d7d8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47224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d5d7d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A857-F5E4-47D7-87CF-6EBFE37DDADD}" type="slidenum">
              <a:rPr b="0" lang="en-GB" sz="1000" spc="-1" strike="noStrike">
                <a:solidFill>
                  <a:srgbClr val="d5d7d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505320" y="6019920"/>
            <a:ext cx="22096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International Atomic Energy Agency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114800" y="5105520"/>
            <a:ext cx="1050840" cy="914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771560"/>
            <a:ext cx="91440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Module 2.4</a:t>
            </a: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: Computer file not updated (USA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304920"/>
            <a:ext cx="834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eaeaea"/>
                </a:solidFill>
                <a:latin typeface="Arial"/>
              </a:rPr>
              <a:t>IAEA </a:t>
            </a:r>
            <a:r>
              <a:rPr b="1" lang="en-IE" sz="1400" spc="-1" strike="noStrike">
                <a:solidFill>
                  <a:srgbClr val="eaeaea"/>
                </a:solidFill>
                <a:latin typeface="Arial"/>
              </a:rPr>
              <a:t>Training Cours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68200" y="98280"/>
            <a:ext cx="8548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Reference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8200" y="1460520"/>
            <a:ext cx="845352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uclear Regulatory Commission.  Report to Congress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n Abnormal Occurrences. NUREG-0090, Volume 11,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o. 4.  US NRC, Washington DC (1988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14D8-C953-4D01-B56A-433738F2466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82600" y="9828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2600" y="1224000"/>
            <a:ext cx="574668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08680" y="5553000"/>
            <a:ext cx="30924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Section of typical cobalt source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ccecff"/>
                </a:solidFill>
                <a:latin typeface="Arial"/>
              </a:rPr>
              <a:t>Background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2240" y="1523880"/>
            <a:ext cx="5840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acred Heart Hospital, Cumberland, M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arch 1987 – an old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60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 source was exchange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ll corresponding data was updated by a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onsulting medical physicist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156360" y="1413000"/>
            <a:ext cx="2019240" cy="382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6FF5-03BA-4F87-ADE6-B04AAE736C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82600" y="1224000"/>
            <a:ext cx="589104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2600" y="9828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284880" y="4892760"/>
            <a:ext cx="26035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Typical trimmer bar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ccecff"/>
                </a:solidFill>
                <a:latin typeface="Arial"/>
              </a:rPr>
              <a:t>What happened?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5767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cc"/>
                </a:solidFill>
                <a:latin typeface="Arial"/>
              </a:rPr>
              <a:t>…</a:t>
            </a:r>
            <a:r>
              <a:rPr b="0" lang="en-IE" sz="3200" spc="-1" strike="noStrike">
                <a:solidFill>
                  <a:srgbClr val="ffffcc"/>
                </a:solidFill>
                <a:latin typeface="Arial"/>
              </a:rPr>
              <a:t>except data for treatment with trimmer bar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cc"/>
                </a:solidFill>
                <a:latin typeface="Arial"/>
              </a:rPr>
              <a:t>The oncologist stated to the consulting physicist that trimmer bars would not be used for treatment anymo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cc"/>
                </a:solidFill>
                <a:latin typeface="Arial"/>
              </a:rPr>
              <a:t>The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 data file/program for this treatment type was </a:t>
            </a: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not updated by the physicis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227640" y="1700280"/>
            <a:ext cx="2638440" cy="287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7721-6A97-45CE-97CC-0427E422D3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2600" y="1224000"/>
            <a:ext cx="861048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2600" y="9828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ccecff"/>
                </a:solidFill>
                <a:latin typeface="Arial"/>
              </a:rPr>
              <a:t>What happened?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September 1987 – The oncologist </a:t>
            </a: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started treatment with trimmer bars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for whole brai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staff used the old computer file for calculation of treatment time with trimmer ba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ecause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he file contained the outdated source activity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, patient treatment times were too lo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A877-4707-4053-B69E-B0BF6A454D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2600" y="9828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ccecff"/>
                </a:solidFill>
                <a:latin typeface="Arial"/>
              </a:rPr>
              <a:t>Discovery of acciden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Therapy staff </a:t>
            </a: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observed skin erythema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on several patients during </a:t>
            </a:r>
            <a:r>
              <a:rPr b="0" lang="en-IE" sz="2800" spc="-1" strike="noStrike">
                <a:solidFill>
                  <a:srgbClr val="ffffcc"/>
                </a:solidFill>
                <a:latin typeface="Arial"/>
              </a:rPr>
              <a:t>the time period September 1987 and October 1988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They occasionally </a:t>
            </a: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expressed their concern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to the hospital oncologis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Judged as normal during radiotherap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October 1988 - the </a:t>
            </a:r>
            <a:r>
              <a:rPr b="0" lang="en-IE" sz="2800" spc="-1" strike="noStrike">
                <a:solidFill>
                  <a:srgbClr val="ffcc00"/>
                </a:solidFill>
                <a:latin typeface="Arial"/>
              </a:rPr>
              <a:t>consulting medical </a:t>
            </a: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physicist was notifi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Found a non-updated computer data file or program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9F48-182F-4445-8442-11F787735E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ecff"/>
                </a:solidFill>
                <a:latin typeface="Arial"/>
              </a:rPr>
              <a:t>Decay of </a:t>
            </a:r>
            <a:r>
              <a:rPr b="1" lang="en-GB" sz="3600" spc="-1" strike="noStrike" baseline="30000">
                <a:solidFill>
                  <a:srgbClr val="ccecff"/>
                </a:solidFill>
                <a:latin typeface="Arial"/>
              </a:rPr>
              <a:t>60</a:t>
            </a:r>
            <a:r>
              <a:rPr b="1" lang="en-GB" sz="3600" spc="-1" strike="noStrike">
                <a:solidFill>
                  <a:srgbClr val="ccecff"/>
                </a:solidFill>
                <a:latin typeface="Arial"/>
              </a:rPr>
              <a:t>Co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7547040" cy="43862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-97200" y="1387440"/>
            <a:ext cx="1982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ff"/>
                </a:solidFill>
                <a:latin typeface="Arial"/>
              </a:rPr>
              <a:t>Activ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67880" y="1387440"/>
            <a:ext cx="316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Time correc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67280" y="3860640"/>
            <a:ext cx="264960" cy="1368720"/>
          </a:xfrm>
          <a:prstGeom prst="upArrow">
            <a:avLst>
              <a:gd name="adj1" fmla="val 50000"/>
              <a:gd name="adj2" fmla="val 129144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030560" y="1530360"/>
            <a:ext cx="325440" cy="1682640"/>
          </a:xfrm>
          <a:prstGeom prst="upArrow">
            <a:avLst>
              <a:gd name="adj1" fmla="val 50000"/>
              <a:gd name="adj2" fmla="val 129259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37000" y="1197000"/>
            <a:ext cx="3312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7760" indent="-347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Arial"/>
              </a:rPr>
              <a:t>Source replacemen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05360" y="4437000"/>
            <a:ext cx="3468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7760" indent="-347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Arial"/>
              </a:rPr>
              <a:t>Erroneous correct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68960" y="3494160"/>
            <a:ext cx="1450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7760" indent="-347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Arial"/>
              </a:rPr>
              <a:t>1.75x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8987-4D9B-4BFC-A82A-8318A62C76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82600" y="9828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2600" y="1224000"/>
            <a:ext cx="85932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Impact of acciden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atients received doses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75% greater than prescrib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33 patients were treated with this technique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during a time period of 13 month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20 patients were dead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(either during the course of treatment or after conclusion of treatment) at the time of notification to the authorit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DD22-EF17-4E05-9F63-D8B6653CBB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82600" y="9828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2600" y="1184400"/>
            <a:ext cx="8593200" cy="46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7760" indent="-3477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ecff"/>
                </a:solidFill>
                <a:latin typeface="Arial"/>
              </a:rPr>
              <a:t>Actions </a:t>
            </a:r>
            <a:r>
              <a:rPr b="1" lang="en-IE" sz="3600" spc="-1" strike="noStrike">
                <a:solidFill>
                  <a:srgbClr val="ccecff"/>
                </a:solidFill>
                <a:latin typeface="Arial"/>
              </a:rPr>
              <a:t>t</a:t>
            </a:r>
            <a:r>
              <a:rPr b="1" lang="en-GB" sz="3600" spc="-1" strike="noStrike">
                <a:solidFill>
                  <a:srgbClr val="ccecff"/>
                </a:solidFill>
                <a:latin typeface="Arial"/>
              </a:rPr>
              <a:t>aken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The computer file was remov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Physicist reviewed all remaining software</a:t>
            </a:r>
            <a:r>
              <a:rPr b="0" lang="en-IE" sz="2800" spc="-1" strike="noStrike">
                <a:solidFill>
                  <a:srgbClr val="ffffcc"/>
                </a:solidFill>
                <a:latin typeface="Arial"/>
              </a:rPr>
              <a:t> and data and to perform output measuremen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Independent oncologist was hired to review all patient</a:t>
            </a:r>
            <a:r>
              <a:rPr b="0" lang="en-IE" sz="2800" spc="-1" strike="noStrike">
                <a:solidFill>
                  <a:srgbClr val="ffffcc"/>
                </a:solidFill>
                <a:latin typeface="Arial"/>
              </a:rPr>
              <a:t> record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cc"/>
                </a:solidFill>
                <a:latin typeface="Arial"/>
              </a:rPr>
              <a:t>Consulting physicist visits hospital week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1BAE-8372-4CF9-81C6-707E24AF07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9144000" cy="59562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2600" y="9828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2600" y="1209600"/>
            <a:ext cx="8593200" cy="48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Lessons: Radiotherapy Departmen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velop procedures for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indicating clearly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software that is commissioned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for clinical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use,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nd software that has been removed from clinical servic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clude in the Quality Assurance Program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Formal procedures for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returning medical equipment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to service after maintenanc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rocedures for verifying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orrect function of software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for patient calculation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erformance of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anual calculations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o confirm computer calculations of treatment time (and in-vivo dosimetry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74B4-E4A7-4C25-A448-3988D592A6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3T14:06:13Z</dcterms:created>
  <dc:creator/>
  <dc:description/>
  <dc:language>en-US</dc:language>
  <cp:lastModifiedBy>BRITTINGER, Maria Theresa</cp:lastModifiedBy>
  <dcterms:modified xsi:type="dcterms:W3CDTF">2008-01-23T13:37:00Z</dcterms:modified>
  <cp:revision>89</cp:revision>
  <dc:subject/>
  <dc:title> PREVENTION OF ACCIDENTAL EXPOSURE IN RADIOTHERAPY</dc:title>
</cp:coreProperties>
</file>