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44.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64.xml" ContentType="application/vnd.openxmlformats-officedocument.presentationml.notesSlide+xml"/>
  <Override PartName="/ppt/notesSlides/notesSlide38.xml" ContentType="application/vnd.openxmlformats-officedocument.presentationml.notesSlide+xml"/>
  <Override PartName="/ppt/notesSlides/notesSlide65.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62.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39.xml.rels" ContentType="application/vnd.openxmlformats-package.relationships+xml"/>
  <Override PartName="/ppt/notesSlides/_rels/notesSlide64.xml.rels" ContentType="application/vnd.openxmlformats-package.relationships+xml"/>
  <Override PartName="/ppt/notesSlides/_rels/notesSlide6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notesSlide51.xml" ContentType="application/vnd.openxmlformats-officedocument.presentationml.notesSlide+xml"/>
  <Override PartName="/ppt/notesSlides/notesSlide8.xml" ContentType="application/vnd.openxmlformats-officedocument.presentationml.notesSlide+xml"/>
  <Override PartName="/ppt/notesSlides/notesSlide54.xml" ContentType="application/vnd.openxmlformats-officedocument.presentationml.notesSlide+xml"/>
  <Override PartName="/ppt/notesSlides/notesSlide10.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23.png" ContentType="image/png"/>
  <Override PartName="/ppt/media/image13.jpeg" ContentType="image/jpeg"/>
  <Override PartName="/ppt/media/image29.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jpeg" ContentType="image/jpeg"/>
  <Override PartName="/ppt/media/image4.png" ContentType="image/png"/>
  <Override PartName="/ppt/media/image8.jpeg" ContentType="image/jpeg"/>
  <Override PartName="/ppt/media/image5.png" ContentType="image/png"/>
  <Override PartName="/ppt/media/image10.jpeg" ContentType="image/jpeg"/>
  <Override PartName="/ppt/media/image30.wmf" ContentType="image/x-wmf"/>
  <Override PartName="/ppt/media/image9.jpeg" ContentType="image/jpeg"/>
  <Override PartName="/ppt/media/image1.wmf" ContentType="image/x-wmf"/>
  <Override PartName="/ppt/media/image14.jpeg" ContentType="image/jpeg"/>
  <Override PartName="/ppt/media/image16.wmf" ContentType="image/x-wmf"/>
  <Override PartName="/ppt/media/image25.wmf" ContentType="image/x-wmf"/>
  <Override PartName="/ppt/media/image15.jpeg" ContentType="image/jpeg"/>
  <Override PartName="/ppt/media/image17.wmf" ContentType="image/x-wmf"/>
  <Override PartName="/ppt/media/image26.jpeg" ContentType="image/jpeg"/>
  <Override PartName="/ppt/media/image19.wmf" ContentType="image/x-wmf"/>
  <Override PartName="/ppt/media/image21.wmf" ContentType="image/x-wmf"/>
  <Override PartName="/ppt/media/image2.jpeg" ContentType="image/jpeg"/>
  <Override PartName="/ppt/media/image18.wmf" ContentType="image/x-wmf"/>
  <Override PartName="/ppt/media/image20.png" ContentType="image/png"/>
  <Override PartName="/ppt/media/image22.wmf" ContentType="image/x-wmf"/>
  <Override PartName="/ppt/media/image24.jpeg" ContentType="image/jpeg"/>
  <Override PartName="/ppt/media/image2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85" name="PlaceHolder 1"/>
          <p:cNvSpPr>
            <a:spLocks noGrp="1"/>
          </p:cNvSpPr>
          <p:nvPr>
            <p:ph type="hdr"/>
          </p:nvPr>
        </p:nvSpPr>
        <p:spPr>
          <a:xfrm>
            <a:off x="-1800" y="-360"/>
            <a:ext cx="2887560" cy="492120"/>
          </a:xfrm>
          <a:prstGeom prst="rect">
            <a:avLst/>
          </a:prstGeom>
          <a:noFill/>
          <a:ln w="0">
            <a:noFill/>
          </a:ln>
        </p:spPr>
        <p:txBody>
          <a:bodyPr lIns="19080" rIns="1908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6" name="PlaceHolder 2"/>
          <p:cNvSpPr>
            <a:spLocks noGrp="1"/>
          </p:cNvSpPr>
          <p:nvPr>
            <p:ph type="dt" idx="3"/>
          </p:nvPr>
        </p:nvSpPr>
        <p:spPr>
          <a:xfrm>
            <a:off x="3774960" y="-360"/>
            <a:ext cx="2887920" cy="492120"/>
          </a:xfrm>
          <a:prstGeom prst="rect">
            <a:avLst/>
          </a:prstGeom>
          <a:noFill/>
          <a:ln w="0">
            <a:noFill/>
          </a:ln>
        </p:spPr>
        <p:txBody>
          <a:bodyPr lIns="19080" rIns="1908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7" name="PlaceHolder 3"/>
          <p:cNvSpPr>
            <a:spLocks noGrp="1"/>
          </p:cNvSpPr>
          <p:nvPr>
            <p:ph type="sldImg"/>
          </p:nvPr>
        </p:nvSpPr>
        <p:spPr>
          <a:xfrm>
            <a:off x="887040" y="752400"/>
            <a:ext cx="4886280" cy="3665520"/>
          </a:xfrm>
          <a:prstGeom prst="rect">
            <a:avLst/>
          </a:prstGeom>
          <a:noFill/>
          <a:ln w="12600">
            <a:solidFill>
              <a:srgbClr val="000000"/>
            </a:solidFill>
            <a:miter/>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move the slide</a:t>
            </a:r>
            <a:endParaRPr b="1" lang="en-US" sz="3600" spc="-1" strike="noStrike">
              <a:solidFill>
                <a:srgbClr val="ccecff"/>
              </a:solidFill>
              <a:latin typeface="Arial"/>
            </a:endParaRPr>
          </a:p>
        </p:txBody>
      </p:sp>
      <p:sp>
        <p:nvSpPr>
          <p:cNvPr id="88" name="PlaceHolder 4"/>
          <p:cNvSpPr>
            <a:spLocks noGrp="1"/>
          </p:cNvSpPr>
          <p:nvPr>
            <p:ph type="body"/>
          </p:nvPr>
        </p:nvSpPr>
        <p:spPr>
          <a:xfrm>
            <a:off x="887040" y="4670280"/>
            <a:ext cx="4886280" cy="442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1800" y="9340560"/>
            <a:ext cx="2887560" cy="492120"/>
          </a:xfrm>
          <a:prstGeom prst="rect">
            <a:avLst/>
          </a:prstGeom>
          <a:noFill/>
          <a:ln w="0">
            <a:noFill/>
          </a:ln>
        </p:spPr>
        <p:txBody>
          <a:bodyPr lIns="19080" rIns="1908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0" name="PlaceHolder 6"/>
          <p:cNvSpPr>
            <a:spLocks noGrp="1"/>
          </p:cNvSpPr>
          <p:nvPr>
            <p:ph type="sldNum" idx="5"/>
          </p:nvPr>
        </p:nvSpPr>
        <p:spPr>
          <a:xfrm>
            <a:off x="3774960" y="9340560"/>
            <a:ext cx="2887920" cy="49212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F5E7B-264B-403C-83B7-013E75DC4B8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887400" y="752400"/>
            <a:ext cx="4886280" cy="3665520"/>
          </a:xfrm>
          <a:prstGeom prst="rect">
            <a:avLst/>
          </a:prstGeom>
          <a:ln w="0">
            <a:noFill/>
          </a:ln>
        </p:spPr>
      </p:sp>
      <p:sp>
        <p:nvSpPr>
          <p:cNvPr id="428" name="PlaceHolder 2"/>
          <p:cNvSpPr>
            <a:spLocks noGrp="1"/>
          </p:cNvSpPr>
          <p:nvPr>
            <p:ph type="body"/>
          </p:nvPr>
        </p:nvSpPr>
        <p:spPr>
          <a:xfrm>
            <a:off x="887040" y="4670280"/>
            <a:ext cx="4886280" cy="442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is the same plan with more information in a 3D view.</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887400" y="752400"/>
            <a:ext cx="4886280" cy="3665520"/>
          </a:xfrm>
          <a:prstGeom prst="rect">
            <a:avLst/>
          </a:prstGeom>
          <a:ln w="0">
            <a:noFill/>
          </a:ln>
        </p:spPr>
      </p:sp>
      <p:sp>
        <p:nvSpPr>
          <p:cNvPr id="430" name="PlaceHolder 2"/>
          <p:cNvSpPr>
            <a:spLocks noGrp="1"/>
          </p:cNvSpPr>
          <p:nvPr>
            <p:ph type="body"/>
          </p:nvPr>
        </p:nvSpPr>
        <p:spPr>
          <a:xfrm>
            <a:off x="887040" y="4670280"/>
            <a:ext cx="4886280" cy="442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is the intended size and location of the treated volume in relation to the PTV and O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887400" y="752400"/>
            <a:ext cx="4886280" cy="3665520"/>
          </a:xfrm>
          <a:prstGeom prst="rect">
            <a:avLst/>
          </a:prstGeom>
          <a:ln w="0">
            <a:noFill/>
          </a:ln>
        </p:spPr>
      </p:sp>
      <p:sp>
        <p:nvSpPr>
          <p:cNvPr id="432" name="PlaceHolder 2"/>
          <p:cNvSpPr>
            <a:spLocks noGrp="1"/>
          </p:cNvSpPr>
          <p:nvPr>
            <p:ph type="body"/>
          </p:nvPr>
        </p:nvSpPr>
        <p:spPr>
          <a:xfrm>
            <a:off x="887040" y="4670280"/>
            <a:ext cx="4886280" cy="442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For various reasons (for example a mistake in the calculations) we can end up with an unintended size of the treated volume – resulting in e.g. insufficient Tumour Control Probability.</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887400" y="752400"/>
            <a:ext cx="4886280" cy="3665520"/>
          </a:xfrm>
          <a:prstGeom prst="rect">
            <a:avLst/>
          </a:prstGeom>
          <a:ln w="0">
            <a:noFill/>
          </a:ln>
        </p:spPr>
      </p:sp>
      <p:sp>
        <p:nvSpPr>
          <p:cNvPr id="434" name="PlaceHolder 2"/>
          <p:cNvSpPr>
            <a:spLocks noGrp="1"/>
          </p:cNvSpPr>
          <p:nvPr>
            <p:ph type="body"/>
          </p:nvPr>
        </p:nvSpPr>
        <p:spPr>
          <a:xfrm>
            <a:off x="887040" y="4670280"/>
            <a:ext cx="4886280" cy="442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nother example where the location of the treated volume has shifted unintentionally.</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887400" y="752400"/>
            <a:ext cx="4886280" cy="3665520"/>
          </a:xfrm>
          <a:prstGeom prst="rect">
            <a:avLst/>
          </a:prstGeom>
          <a:ln w="0">
            <a:noFill/>
          </a:ln>
        </p:spPr>
      </p:sp>
      <p:sp>
        <p:nvSpPr>
          <p:cNvPr id="436" name="PlaceHolder 2"/>
          <p:cNvSpPr>
            <a:spLocks noGrp="1"/>
          </p:cNvSpPr>
          <p:nvPr>
            <p:ph type="body"/>
          </p:nvPr>
        </p:nvSpPr>
        <p:spPr>
          <a:xfrm>
            <a:off x="887040" y="4670280"/>
            <a:ext cx="4886280" cy="442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n example of a simple mistake causing massively different absorbed dose than intended is the event in Costa Rica.</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887400" y="752400"/>
            <a:ext cx="4886280" cy="3665520"/>
          </a:xfrm>
          <a:prstGeom prst="rect">
            <a:avLst/>
          </a:prstGeom>
          <a:ln w="0">
            <a:noFill/>
          </a:ln>
        </p:spPr>
      </p:sp>
      <p:sp>
        <p:nvSpPr>
          <p:cNvPr id="438" name="PlaceHolder 2"/>
          <p:cNvSpPr>
            <a:spLocks noGrp="1"/>
          </p:cNvSpPr>
          <p:nvPr>
            <p:ph type="body"/>
          </p:nvPr>
        </p:nvSpPr>
        <p:spPr>
          <a:xfrm>
            <a:off x="887040" y="4670280"/>
            <a:ext cx="4886280" cy="442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t is of benefit to know the hazards and their characteristics (frequency and consequence) in order to address them properly. When doing the hazard identification, one can use historic data (e.g. incidents that have previously been reported) or “think ahead” of what might happen. When doing the frequency analysis, one should consider that “near misses” (here taken to mean an error that was found before it had any consequence for a patient) might be found with greater regularity than actual errors that affect a patient’s treatment, and would therefore capture valuable data on likelihood of specific errors happening. When doing consequence analysis, the probability models of TCP / NTCP for change in dose could be used – this is however quite a complex task to do.</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887400" y="752400"/>
            <a:ext cx="4886280" cy="3665520"/>
          </a:xfrm>
          <a:prstGeom prst="rect">
            <a:avLst/>
          </a:prstGeom>
          <a:ln w="0">
            <a:noFill/>
          </a:ln>
        </p:spPr>
      </p:sp>
      <p:sp>
        <p:nvSpPr>
          <p:cNvPr id="440" name="PlaceHolder 2"/>
          <p:cNvSpPr>
            <a:spLocks noGrp="1"/>
          </p:cNvSpPr>
          <p:nvPr>
            <p:ph type="body"/>
          </p:nvPr>
        </p:nvSpPr>
        <p:spPr>
          <a:xfrm>
            <a:off x="887040" y="4670280"/>
            <a:ext cx="4886280" cy="442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We don’t only need to know about the risks in radiotherapy (previous slide), we also need to do something (this slid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887400" y="752400"/>
            <a:ext cx="4886280" cy="3665520"/>
          </a:xfrm>
          <a:prstGeom prst="rect">
            <a:avLst/>
          </a:prstGeom>
          <a:ln w="0">
            <a:noFill/>
          </a:ln>
        </p:spPr>
      </p:sp>
      <p:sp>
        <p:nvSpPr>
          <p:cNvPr id="442" name="PlaceHolder 2"/>
          <p:cNvSpPr>
            <a:spLocks noGrp="1"/>
          </p:cNvSpPr>
          <p:nvPr>
            <p:ph type="body"/>
          </p:nvPr>
        </p:nvSpPr>
        <p:spPr>
          <a:xfrm>
            <a:off x="887040" y="4670280"/>
            <a:ext cx="4886280" cy="442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Participants can be reminded about the previous lecture 5.1 on preventio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887400" y="752400"/>
            <a:ext cx="4886280" cy="3665520"/>
          </a:xfrm>
          <a:prstGeom prst="rect">
            <a:avLst/>
          </a:prstGeom>
          <a:ln w="0">
            <a:noFill/>
          </a:ln>
        </p:spPr>
      </p:sp>
      <p:sp>
        <p:nvSpPr>
          <p:cNvPr id="444" name="PlaceHolder 2"/>
          <p:cNvSpPr>
            <a:spLocks noGrp="1"/>
          </p:cNvSpPr>
          <p:nvPr>
            <p:ph type="body"/>
          </p:nvPr>
        </p:nvSpPr>
        <p:spPr>
          <a:xfrm>
            <a:off x="887040" y="4670280"/>
            <a:ext cx="4886280" cy="442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Different types of “layers of safety” are presented over the next few slides. Incident reporting is suggested to be one of these types of safety-layer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887400" y="752400"/>
            <a:ext cx="4886280" cy="3665520"/>
          </a:xfrm>
          <a:prstGeom prst="rect">
            <a:avLst/>
          </a:prstGeom>
          <a:ln w="0">
            <a:noFill/>
          </a:ln>
        </p:spPr>
      </p:sp>
      <p:sp>
        <p:nvSpPr>
          <p:cNvPr id="446" name="PlaceHolder 2"/>
          <p:cNvSpPr>
            <a:spLocks noGrp="1"/>
          </p:cNvSpPr>
          <p:nvPr>
            <p:ph type="body"/>
          </p:nvPr>
        </p:nvSpPr>
        <p:spPr>
          <a:xfrm>
            <a:off x="887040" y="4670280"/>
            <a:ext cx="4886280" cy="442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Having suggested that an incident reporting system is just one type of safety layer, the module will now focus explicitly on incident reporting, and the characteristics thereof.</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887400" y="752400"/>
            <a:ext cx="4886280" cy="3665520"/>
          </a:xfrm>
          <a:prstGeom prst="rect">
            <a:avLst/>
          </a:prstGeom>
          <a:ln w="0">
            <a:noFill/>
          </a:ln>
        </p:spPr>
      </p:sp>
      <p:sp>
        <p:nvSpPr>
          <p:cNvPr id="448" name="PlaceHolder 2"/>
          <p:cNvSpPr>
            <a:spLocks noGrp="1"/>
          </p:cNvSpPr>
          <p:nvPr>
            <p:ph type="body"/>
          </p:nvPr>
        </p:nvSpPr>
        <p:spPr>
          <a:xfrm>
            <a:off x="887040" y="4670280"/>
            <a:ext cx="4886280" cy="442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wo different types of incident reporting systems are the mandatory and the voluntary systems. Examples of these will be given later in the modul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887400" y="752400"/>
            <a:ext cx="4886280" cy="3665520"/>
          </a:xfrm>
          <a:prstGeom prst="rect">
            <a:avLst/>
          </a:prstGeom>
          <a:ln w="0">
            <a:noFill/>
          </a:ln>
        </p:spPr>
      </p:sp>
      <p:sp>
        <p:nvSpPr>
          <p:cNvPr id="450" name="PlaceHolder 2"/>
          <p:cNvSpPr>
            <a:spLocks noGrp="1"/>
          </p:cNvSpPr>
          <p:nvPr>
            <p:ph type="body"/>
          </p:nvPr>
        </p:nvSpPr>
        <p:spPr>
          <a:xfrm>
            <a:off x="887040" y="4670280"/>
            <a:ext cx="4886280" cy="442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Focussing first on the mandatory reporting systems, the characteristics of these systems are given in the following slid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87400" y="752400"/>
            <a:ext cx="4886280" cy="3665520"/>
          </a:xfrm>
          <a:prstGeom prst="rect">
            <a:avLst/>
          </a:prstGeom>
          <a:ln w="0">
            <a:noFill/>
          </a:ln>
        </p:spPr>
      </p:sp>
      <p:sp>
        <p:nvSpPr>
          <p:cNvPr id="420" name="PlaceHolder 2"/>
          <p:cNvSpPr>
            <a:spLocks noGrp="1"/>
          </p:cNvSpPr>
          <p:nvPr>
            <p:ph type="body"/>
          </p:nvPr>
        </p:nvSpPr>
        <p:spPr>
          <a:xfrm>
            <a:off x="887040" y="4670280"/>
            <a:ext cx="4886280" cy="442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first few slides are “back-to-basics” – the intended treatment targets the Planning Target Volume (PTV in red) while avoiding, as much as possible, the Organs at Risk (OR in green). This set of slides is shown in order to illustrate intended treatment versus not intended treatmen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887400" y="752400"/>
            <a:ext cx="4886280" cy="3665520"/>
          </a:xfrm>
          <a:prstGeom prst="rect">
            <a:avLst/>
          </a:prstGeom>
          <a:ln w="0">
            <a:noFill/>
          </a:ln>
        </p:spPr>
      </p:sp>
      <p:sp>
        <p:nvSpPr>
          <p:cNvPr id="452" name="PlaceHolder 2"/>
          <p:cNvSpPr>
            <a:spLocks noGrp="1"/>
          </p:cNvSpPr>
          <p:nvPr>
            <p:ph type="body"/>
          </p:nvPr>
        </p:nvSpPr>
        <p:spPr>
          <a:xfrm>
            <a:off x="887040" y="4670280"/>
            <a:ext cx="4886280" cy="442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From the point of view of legislation and regulations, radiotherapy can be considered to contain elements of both radiation and medicin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887400" y="752400"/>
            <a:ext cx="4886280" cy="3665520"/>
          </a:xfrm>
          <a:prstGeom prst="rect">
            <a:avLst/>
          </a:prstGeom>
          <a:ln w="0">
            <a:noFill/>
          </a:ln>
        </p:spPr>
      </p:sp>
      <p:sp>
        <p:nvSpPr>
          <p:cNvPr id="454" name="PlaceHolder 2"/>
          <p:cNvSpPr>
            <a:spLocks noGrp="1"/>
          </p:cNvSpPr>
          <p:nvPr>
            <p:ph type="body"/>
          </p:nvPr>
        </p:nvSpPr>
        <p:spPr>
          <a:xfrm>
            <a:off x="887040" y="4670280"/>
            <a:ext cx="4886280" cy="442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Focussing now on the voluntary reporting systems, the characteristics of these systems are given in the following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887400" y="752400"/>
            <a:ext cx="4886280" cy="3665520"/>
          </a:xfrm>
          <a:prstGeom prst="rect">
            <a:avLst/>
          </a:prstGeom>
          <a:ln w="0">
            <a:noFill/>
          </a:ln>
        </p:spPr>
      </p:sp>
      <p:sp>
        <p:nvSpPr>
          <p:cNvPr id="456" name="PlaceHolder 2"/>
          <p:cNvSpPr>
            <a:spLocks noGrp="1"/>
          </p:cNvSpPr>
          <p:nvPr>
            <p:ph type="body"/>
          </p:nvPr>
        </p:nvSpPr>
        <p:spPr>
          <a:xfrm>
            <a:off x="887040" y="4670280"/>
            <a:ext cx="4886280" cy="442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is another way of differentiating incident reporting systems. Again, examples of both will be given later in the module.</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887400" y="752400"/>
            <a:ext cx="4886280" cy="3665520"/>
          </a:xfrm>
          <a:prstGeom prst="rect">
            <a:avLst/>
          </a:prstGeom>
          <a:ln w="0">
            <a:noFill/>
          </a:ln>
        </p:spPr>
      </p:sp>
      <p:sp>
        <p:nvSpPr>
          <p:cNvPr id="458" name="PlaceHolder 2"/>
          <p:cNvSpPr>
            <a:spLocks noGrp="1"/>
          </p:cNvSpPr>
          <p:nvPr>
            <p:ph type="body"/>
          </p:nvPr>
        </p:nvSpPr>
        <p:spPr>
          <a:xfrm>
            <a:off x="887040" y="4670280"/>
            <a:ext cx="4886280" cy="442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Focussing now on the internal reporting systems (local incident reporting systems), the characteristics of these systems are given here. Local systems should evolve locally to best meet the needs of the organisation, but could evolve in a way that is open to comparison with best practice in local incident reporting else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887400" y="752400"/>
            <a:ext cx="4886280" cy="3665520"/>
          </a:xfrm>
          <a:prstGeom prst="rect">
            <a:avLst/>
          </a:prstGeom>
          <a:ln w="0">
            <a:noFill/>
          </a:ln>
        </p:spPr>
      </p:sp>
      <p:sp>
        <p:nvSpPr>
          <p:cNvPr id="460" name="PlaceHolder 2"/>
          <p:cNvSpPr>
            <a:spLocks noGrp="1"/>
          </p:cNvSpPr>
          <p:nvPr>
            <p:ph type="body"/>
          </p:nvPr>
        </p:nvSpPr>
        <p:spPr>
          <a:xfrm>
            <a:off x="887040" y="4670280"/>
            <a:ext cx="4886280" cy="442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slide contains some suggested elements of a local incident reporting system – based on a European survey (22 radiotherapy clinics) by the ROSIS group. It is not intended to be complete.</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887400" y="752400"/>
            <a:ext cx="4886280" cy="3665520"/>
          </a:xfrm>
          <a:prstGeom prst="rect">
            <a:avLst/>
          </a:prstGeom>
          <a:ln w="0">
            <a:noFill/>
          </a:ln>
        </p:spPr>
      </p:sp>
      <p:sp>
        <p:nvSpPr>
          <p:cNvPr id="462" name="PlaceHolder 2"/>
          <p:cNvSpPr>
            <a:spLocks noGrp="1"/>
          </p:cNvSpPr>
          <p:nvPr>
            <p:ph type="body"/>
          </p:nvPr>
        </p:nvSpPr>
        <p:spPr>
          <a:xfrm>
            <a:off x="887040" y="4670280"/>
            <a:ext cx="4886280" cy="442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Focussing finally on the external reporting systems, the characteristics of these systems are given her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87400" y="752400"/>
            <a:ext cx="4886280" cy="3665520"/>
          </a:xfrm>
          <a:prstGeom prst="rect">
            <a:avLst/>
          </a:prstGeom>
          <a:ln w="0">
            <a:noFill/>
          </a:ln>
        </p:spPr>
      </p:sp>
      <p:sp>
        <p:nvSpPr>
          <p:cNvPr id="422" name="PlaceHolder 2"/>
          <p:cNvSpPr>
            <a:spLocks noGrp="1"/>
          </p:cNvSpPr>
          <p:nvPr>
            <p:ph type="body"/>
          </p:nvPr>
        </p:nvSpPr>
        <p:spPr>
          <a:xfrm>
            <a:off x="887040" y="4670280"/>
            <a:ext cx="4886280" cy="442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 “volume of crossfire” is built up with irradiation beams from various incidence direction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887400" y="752400"/>
            <a:ext cx="4886280" cy="3665520"/>
          </a:xfrm>
          <a:prstGeom prst="rect">
            <a:avLst/>
          </a:prstGeom>
          <a:ln w="0">
            <a:noFill/>
          </a:ln>
        </p:spPr>
      </p:sp>
      <p:sp>
        <p:nvSpPr>
          <p:cNvPr id="464" name="PlaceHolder 2"/>
          <p:cNvSpPr>
            <a:spLocks noGrp="1"/>
          </p:cNvSpPr>
          <p:nvPr>
            <p:ph type="body"/>
          </p:nvPr>
        </p:nvSpPr>
        <p:spPr>
          <a:xfrm>
            <a:off x="887040" y="4670280"/>
            <a:ext cx="4886280" cy="442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Starting with this slide are a few examples of external incident reporting systems.</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887400" y="752400"/>
            <a:ext cx="4886280" cy="3665520"/>
          </a:xfrm>
          <a:prstGeom prst="rect">
            <a:avLst/>
          </a:prstGeom>
          <a:ln w="0">
            <a:noFill/>
          </a:ln>
        </p:spPr>
      </p:sp>
      <p:sp>
        <p:nvSpPr>
          <p:cNvPr id="466" name="PlaceHolder 2"/>
          <p:cNvSpPr>
            <a:spLocks noGrp="1"/>
          </p:cNvSpPr>
          <p:nvPr>
            <p:ph type="body"/>
          </p:nvPr>
        </p:nvSpPr>
        <p:spPr>
          <a:xfrm>
            <a:off x="887040" y="4670280"/>
            <a:ext cx="4886280" cy="442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next section contains a number of slides where the IAEA system “RADEV” is presented.</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887400" y="752400"/>
            <a:ext cx="4886280" cy="3665520"/>
          </a:xfrm>
          <a:prstGeom prst="rect">
            <a:avLst/>
          </a:prstGeom>
          <a:ln w="0">
            <a:noFill/>
          </a:ln>
        </p:spPr>
      </p:sp>
      <p:sp>
        <p:nvSpPr>
          <p:cNvPr id="468" name="PlaceHolder 2"/>
          <p:cNvSpPr>
            <a:spLocks noGrp="1"/>
          </p:cNvSpPr>
          <p:nvPr>
            <p:ph type="body"/>
          </p:nvPr>
        </p:nvSpPr>
        <p:spPr>
          <a:xfrm>
            <a:off x="887040" y="4670280"/>
            <a:ext cx="4886280" cy="442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Data is intended to be kept centrally at IAEA headquarters, and be fed in and fed back to national nod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887400" y="752400"/>
            <a:ext cx="4886280" cy="3665520"/>
          </a:xfrm>
          <a:prstGeom prst="rect">
            <a:avLst/>
          </a:prstGeom>
          <a:ln w="0">
            <a:noFill/>
          </a:ln>
        </p:spPr>
      </p:sp>
      <p:sp>
        <p:nvSpPr>
          <p:cNvPr id="470" name="PlaceHolder 2"/>
          <p:cNvSpPr>
            <a:spLocks noGrp="1"/>
          </p:cNvSpPr>
          <p:nvPr>
            <p:ph type="body"/>
          </p:nvPr>
        </p:nvSpPr>
        <p:spPr>
          <a:xfrm>
            <a:off x="887040" y="4670280"/>
            <a:ext cx="4886280" cy="442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Various inteded methods for dissemination of RADEV data.</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887400" y="752400"/>
            <a:ext cx="4886280" cy="3665520"/>
          </a:xfrm>
          <a:prstGeom prst="rect">
            <a:avLst/>
          </a:prstGeom>
          <a:ln w="0">
            <a:noFill/>
          </a:ln>
        </p:spPr>
      </p:sp>
      <p:sp>
        <p:nvSpPr>
          <p:cNvPr id="472" name="PlaceHolder 2"/>
          <p:cNvSpPr>
            <a:spLocks noGrp="1"/>
          </p:cNvSpPr>
          <p:nvPr>
            <p:ph type="body"/>
          </p:nvPr>
        </p:nvSpPr>
        <p:spPr>
          <a:xfrm>
            <a:off x="887040" y="4670280"/>
            <a:ext cx="4886280" cy="442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is the profile of information contained in RADEV.</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887400" y="752400"/>
            <a:ext cx="4886280" cy="3665520"/>
          </a:xfrm>
          <a:prstGeom prst="rect">
            <a:avLst/>
          </a:prstGeom>
          <a:ln w="0">
            <a:noFill/>
          </a:ln>
        </p:spPr>
      </p:sp>
      <p:sp>
        <p:nvSpPr>
          <p:cNvPr id="474" name="PlaceHolder 2"/>
          <p:cNvSpPr>
            <a:spLocks noGrp="1"/>
          </p:cNvSpPr>
          <p:nvPr>
            <p:ph type="body"/>
          </p:nvPr>
        </p:nvSpPr>
        <p:spPr>
          <a:xfrm>
            <a:off x="887040" y="4670280"/>
            <a:ext cx="4886280" cy="442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 screenshot of RADEV.</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887400" y="752400"/>
            <a:ext cx="4886280" cy="3665520"/>
          </a:xfrm>
          <a:prstGeom prst="rect">
            <a:avLst/>
          </a:prstGeom>
          <a:ln w="0">
            <a:noFill/>
          </a:ln>
        </p:spPr>
      </p:sp>
      <p:sp>
        <p:nvSpPr>
          <p:cNvPr id="476" name="PlaceHolder 2"/>
          <p:cNvSpPr>
            <a:spLocks noGrp="1"/>
          </p:cNvSpPr>
          <p:nvPr>
            <p:ph type="body"/>
          </p:nvPr>
        </p:nvSpPr>
        <p:spPr>
          <a:xfrm>
            <a:off x="887040" y="4670280"/>
            <a:ext cx="4886280" cy="442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next section contains a number of slides where the “ROSIS” system is presented.</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887400" y="752400"/>
            <a:ext cx="4886280" cy="3665520"/>
          </a:xfrm>
          <a:prstGeom prst="rect">
            <a:avLst/>
          </a:prstGeom>
          <a:ln w="0">
            <a:noFill/>
          </a:ln>
        </p:spPr>
      </p:sp>
      <p:sp>
        <p:nvSpPr>
          <p:cNvPr id="478" name="PlaceHolder 2"/>
          <p:cNvSpPr>
            <a:spLocks noGrp="1"/>
          </p:cNvSpPr>
          <p:nvPr>
            <p:ph type="body"/>
          </p:nvPr>
        </p:nvSpPr>
        <p:spPr>
          <a:xfrm>
            <a:off x="887040" y="4670280"/>
            <a:ext cx="4886280" cy="442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is a composite screenshot of the ROSIS incident report form – filled in on line by registered clinics.</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887400" y="752400"/>
            <a:ext cx="4886280" cy="3665520"/>
          </a:xfrm>
          <a:prstGeom prst="rect">
            <a:avLst/>
          </a:prstGeom>
          <a:ln w="0">
            <a:noFill/>
          </a:ln>
        </p:spPr>
      </p:sp>
      <p:sp>
        <p:nvSpPr>
          <p:cNvPr id="480" name="PlaceHolder 2"/>
          <p:cNvSpPr>
            <a:spLocks noGrp="1"/>
          </p:cNvSpPr>
          <p:nvPr>
            <p:ph type="body"/>
          </p:nvPr>
        </p:nvSpPr>
        <p:spPr>
          <a:xfrm>
            <a:off x="887040" y="4670280"/>
            <a:ext cx="4886280" cy="442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Screenshot of the ROSIS interface on the web.</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887400" y="752400"/>
            <a:ext cx="4886280" cy="3665520"/>
          </a:xfrm>
          <a:prstGeom prst="rect">
            <a:avLst/>
          </a:prstGeom>
          <a:ln w="0">
            <a:noFill/>
          </a:ln>
        </p:spPr>
      </p:sp>
      <p:sp>
        <p:nvSpPr>
          <p:cNvPr id="482" name="PlaceHolder 2"/>
          <p:cNvSpPr>
            <a:spLocks noGrp="1"/>
          </p:cNvSpPr>
          <p:nvPr>
            <p:ph type="body"/>
          </p:nvPr>
        </p:nvSpPr>
        <p:spPr>
          <a:xfrm>
            <a:off x="887040" y="4670280"/>
            <a:ext cx="4886280" cy="442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slide contains an example of an incident that has been submitted to ROSIS – just to give a flavour of what is contained within the database.</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887400" y="752400"/>
            <a:ext cx="4886280" cy="3665520"/>
          </a:xfrm>
          <a:prstGeom prst="rect">
            <a:avLst/>
          </a:prstGeom>
          <a:ln w="0">
            <a:noFill/>
          </a:ln>
        </p:spPr>
      </p:sp>
      <p:sp>
        <p:nvSpPr>
          <p:cNvPr id="484" name="PlaceHolder 2"/>
          <p:cNvSpPr>
            <a:spLocks noGrp="1"/>
          </p:cNvSpPr>
          <p:nvPr>
            <p:ph type="body"/>
          </p:nvPr>
        </p:nvSpPr>
        <p:spPr>
          <a:xfrm>
            <a:off x="887040" y="4670280"/>
            <a:ext cx="4886280" cy="442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following few slides contain some summarised information of the profiles of the first 200 reported incidents to ROSIS – their characteristics in relation to certain questions.</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887400" y="752400"/>
            <a:ext cx="4886280" cy="3665520"/>
          </a:xfrm>
          <a:prstGeom prst="rect">
            <a:avLst/>
          </a:prstGeom>
          <a:ln w="0">
            <a:noFill/>
          </a:ln>
        </p:spPr>
      </p:sp>
      <p:sp>
        <p:nvSpPr>
          <p:cNvPr id="486" name="PlaceHolder 2"/>
          <p:cNvSpPr>
            <a:spLocks noGrp="1"/>
          </p:cNvSpPr>
          <p:nvPr>
            <p:ph type="body"/>
          </p:nvPr>
        </p:nvSpPr>
        <p:spPr>
          <a:xfrm>
            <a:off x="887040" y="4670280"/>
            <a:ext cx="4886280" cy="442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Work in progress (2004): A hazard identification system with corresponding frequency analysis for radiotherap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87400" y="752400"/>
            <a:ext cx="4886280" cy="3665520"/>
          </a:xfrm>
          <a:prstGeom prst="rect">
            <a:avLst/>
          </a:prstGeom>
          <a:ln w="0">
            <a:noFill/>
          </a:ln>
        </p:spPr>
      </p:sp>
      <p:sp>
        <p:nvSpPr>
          <p:cNvPr id="424" name="PlaceHolder 2"/>
          <p:cNvSpPr>
            <a:spLocks noGrp="1"/>
          </p:cNvSpPr>
          <p:nvPr>
            <p:ph type="body"/>
          </p:nvPr>
        </p:nvSpPr>
        <p:spPr>
          <a:xfrm>
            <a:off x="887040" y="4670280"/>
            <a:ext cx="4886280" cy="442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treated volume, given an absorbed dose high enough to achieve the intended purpose of the treatment, is inside the white l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887400" y="752400"/>
            <a:ext cx="4886280" cy="3665520"/>
          </a:xfrm>
          <a:prstGeom prst="rect">
            <a:avLst/>
          </a:prstGeom>
          <a:ln w="0">
            <a:noFill/>
          </a:ln>
        </p:spPr>
      </p:sp>
      <p:sp>
        <p:nvSpPr>
          <p:cNvPr id="426" name="PlaceHolder 2"/>
          <p:cNvSpPr>
            <a:spLocks noGrp="1"/>
          </p:cNvSpPr>
          <p:nvPr>
            <p:ph type="body"/>
          </p:nvPr>
        </p:nvSpPr>
        <p:spPr>
          <a:xfrm>
            <a:off x="887040" y="4670280"/>
            <a:ext cx="4886280" cy="4424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We end up with the intended treatment – the PTV within the treated volu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CDC834A-9084-4D42-A1CB-9113DAFC92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9"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70D6A7-D98B-4521-BE72-F186CE7DA7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2"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66181CA-F3A2-4065-A41C-B0B9D503F4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7"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2343594-B44D-481C-AB68-DFE21CCFBB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49"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1"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4"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8"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9"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0"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8"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FCE0BB-A9AC-4DB5-A189-2CC0BFFB0F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2"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6"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0"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6"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8"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0"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3B9A53-E1DD-4091-981F-ACB0BE4433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2"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3"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23D412-DD5B-4A96-822B-86176E25A8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F31472-741A-4727-9547-DB5DFE7B1B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576246-BA6A-4FDC-AFDA-085848C31E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7"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8"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32885C-5AD6-4B92-9EF8-7DFAD395CB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1"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2"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C3123A-7B30-4FE2-8701-ED83585AE6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5"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6"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3DB658-CFC0-4B76-AFBF-FE442BE393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04920" y="6110280"/>
            <a:ext cx="685800" cy="596880"/>
          </a:xfrm>
          <a:prstGeom prst="rect">
            <a:avLst/>
          </a:prstGeom>
          <a:ln w="0">
            <a:noFill/>
          </a:ln>
        </p:spPr>
      </p:pic>
      <p:sp>
        <p:nvSpPr>
          <p:cNvPr id="1" name=""/>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2" name="" descr=""/>
          <p:cNvPicPr/>
          <p:nvPr/>
        </p:nvPicPr>
        <p:blipFill>
          <a:blip r:embed="rId3"/>
          <a:stretch/>
        </p:blipFill>
        <p:spPr>
          <a:xfrm>
            <a:off x="0" y="0"/>
            <a:ext cx="9144000" cy="686124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ftr" idx="1"/>
          </p:nvPr>
        </p:nvSpPr>
        <p:spPr>
          <a:xfrm>
            <a:off x="2590560" y="6400800"/>
            <a:ext cx="4187880" cy="2937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7B8E5-E723-4847-8C67-070F0B4C6F8D}" type="slidenum">
              <a:rPr b="0" lang="en-GB" sz="1000" spc="-1" strike="noStrike">
                <a:solidFill>
                  <a:srgbClr val="d5d7d8"/>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3" name=""/>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EA</a:t>
            </a:r>
            <a:endParaRPr b="0" lang="en-US" sz="2400" spc="-1" strike="noStrike">
              <a:solidFill>
                <a:srgbClr val="eaeaea"/>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rnational Atomic Energy Agency</a:t>
            </a:r>
            <a:endParaRPr b="0" lang="en-US" sz="900" spc="-1" strike="noStrike">
              <a:solidFill>
                <a:srgbClr val="eaeaea"/>
              </a:solidFill>
              <a:latin typeface="Times New Roman"/>
            </a:endParaRPr>
          </a:p>
        </p:txBody>
      </p:sp>
      <p:pic>
        <p:nvPicPr>
          <p:cNvPr id="44" name="" descr=""/>
          <p:cNvPicPr/>
          <p:nvPr/>
        </p:nvPicPr>
        <p:blipFill>
          <a:blip r:embed="rId2"/>
          <a:stretch/>
        </p:blipFill>
        <p:spPr>
          <a:xfrm>
            <a:off x="4114800" y="5105520"/>
            <a:ext cx="1050840" cy="914400"/>
          </a:xfrm>
          <a:prstGeom prst="rect">
            <a:avLst/>
          </a:prstGeom>
          <a:ln w="0">
            <a:noFill/>
          </a:ln>
        </p:spPr>
      </p:pic>
      <p:pic>
        <p:nvPicPr>
          <p:cNvPr id="45" name="" descr=""/>
          <p:cNvPicPr/>
          <p:nvPr/>
        </p:nvPicPr>
        <p:blipFill>
          <a:blip r:embed="rId3"/>
          <a:stretch/>
        </p:blipFill>
        <p:spPr>
          <a:xfrm>
            <a:off x="0" y="0"/>
            <a:ext cx="9140760" cy="6856560"/>
          </a:xfrm>
          <a:prstGeom prst="rect">
            <a:avLst/>
          </a:prstGeom>
          <a:ln w="0">
            <a:noFill/>
          </a:ln>
        </p:spPr>
      </p:pic>
      <p:sp>
        <p:nvSpPr>
          <p:cNvPr id="46" name="PlaceHolder 1"/>
          <p:cNvSpPr>
            <a:spLocks noGrp="1"/>
          </p:cNvSpPr>
          <p:nvPr>
            <p:ph type="title"/>
          </p:nvPr>
        </p:nvSpPr>
        <p:spPr>
          <a:xfrm>
            <a:off x="0" y="999720"/>
            <a:ext cx="9144000" cy="177156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99cc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601"/>
              </a:spcBef>
              <a:buClr>
                <a:srgbClr val="99cc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urth Outline Level</a:t>
            </a:r>
            <a:endParaRPr b="0" lang="en-US" sz="2400" spc="-1" strike="noStrike">
              <a:solidFill>
                <a:srgbClr val="ffffcc"/>
              </a:solidFill>
              <a:latin typeface="Arial"/>
            </a:endParaRPr>
          </a:p>
          <a:p>
            <a:pPr lvl="4" marL="1828800" algn="ctr">
              <a:spcBef>
                <a:spcPts val="601"/>
              </a:spcBef>
              <a:buClr>
                <a:srgbClr val="99cc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ifth Outline Level</a:t>
            </a:r>
            <a:endParaRPr b="0" lang="en-US" sz="2400" spc="-1" strike="noStrike">
              <a:solidFill>
                <a:srgbClr val="ffffcc"/>
              </a:solidFill>
              <a:latin typeface="Arial"/>
            </a:endParaRPr>
          </a:p>
          <a:p>
            <a:pPr lvl="5" marL="1828800">
              <a:spcBef>
                <a:spcPts val="601"/>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ixth Outline Level</a:t>
            </a:r>
            <a:endParaRPr b="0" lang="en-US" sz="2400" spc="-1" strike="noStrike">
              <a:solidFill>
                <a:srgbClr val="ffffcc"/>
              </a:solidFill>
              <a:latin typeface="Arial"/>
            </a:endParaRPr>
          </a:p>
          <a:p>
            <a:pPr lvl="6" marL="1828800">
              <a:spcBef>
                <a:spcPts val="601"/>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venth Outline Level</a:t>
            </a:r>
            <a:endParaRPr b="0" lang="en-US" sz="24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8.wmf"/><Relationship Id="rId4" Type="http://schemas.openxmlformats.org/officeDocument/2006/relationships/oleObject" Target="../embeddings/oleObject2.bin"/><Relationship Id="rId5" Type="http://schemas.openxmlformats.org/officeDocument/2006/relationships/image" Target="../media/image11.wmf"/><Relationship Id="rId6" Type="http://schemas.openxmlformats.org/officeDocument/2006/relationships/image" Target="../media/image18.wmf"/><Relationship Id="rId7" Type="http://schemas.openxmlformats.org/officeDocument/2006/relationships/oleObject" Target="../embeddings/oleObject3.bin"/><Relationship Id="rId8" Type="http://schemas.openxmlformats.org/officeDocument/2006/relationships/image" Target="../media/image11.wmf"/><Relationship Id="rId9" Type="http://schemas.openxmlformats.org/officeDocument/2006/relationships/slideLayout" Target="../slideLayouts/slideLayout1.xml"/><Relationship Id="rId10"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image" Target="../media/image20.png"/><Relationship Id="rId4" Type="http://schemas.openxmlformats.org/officeDocument/2006/relationships/oleObject" Target="../embeddings/oleObject2.bin"/><Relationship Id="rId5" Type="http://schemas.openxmlformats.org/officeDocument/2006/relationships/image" Target="../media/image11.wmf"/><Relationship Id="rId6" Type="http://schemas.openxmlformats.org/officeDocument/2006/relationships/image" Target="../media/image21.wmf"/><Relationship Id="rId7" Type="http://schemas.openxmlformats.org/officeDocument/2006/relationships/oleObject" Target="../embeddings/oleObject3.bin"/><Relationship Id="rId8" Type="http://schemas.openxmlformats.org/officeDocument/2006/relationships/image" Target="../media/image22.wmf"/><Relationship Id="rId9" Type="http://schemas.openxmlformats.org/officeDocument/2006/relationships/slideLayout" Target="../slideLayouts/slideLayout1.xml"/><Relationship Id="rId10"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1" name=""/>
          <p:cNvSpPr/>
          <p:nvPr/>
        </p:nvSpPr>
        <p:spPr>
          <a:xfrm>
            <a:off x="0" y="1771560"/>
            <a:ext cx="9144000" cy="177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Module 5.2</a:t>
            </a:r>
            <a:r>
              <a:rPr b="1" lang="en-US" sz="3600" spc="-1" strike="noStrike">
                <a:solidFill>
                  <a:srgbClr val="ccecff"/>
                </a:solidFill>
                <a:latin typeface="Arial"/>
              </a:rPr>
              <a:t>: Reporting </a:t>
            </a:r>
            <a:endParaRPr b="0" lang="en-US" sz="3600" spc="-1" strike="noStrike">
              <a:solidFill>
                <a:srgbClr val="eaeaea"/>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and investigating</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5" name=""/>
          <p:cNvSpPr/>
          <p:nvPr/>
        </p:nvSpPr>
        <p:spPr>
          <a:xfrm>
            <a:off x="0" y="1143000"/>
            <a:ext cx="9144000" cy="5715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86" name="" descr=""/>
          <p:cNvPicPr/>
          <p:nvPr/>
        </p:nvPicPr>
        <p:blipFill>
          <a:blip r:embed="rId1"/>
          <a:stretch/>
        </p:blipFill>
        <p:spPr>
          <a:xfrm>
            <a:off x="609480" y="1476360"/>
            <a:ext cx="8077320" cy="5381640"/>
          </a:xfrm>
          <a:prstGeom prst="rect">
            <a:avLst/>
          </a:prstGeom>
          <a:ln w="0">
            <a:noFill/>
          </a:ln>
        </p:spPr>
      </p:pic>
      <p:sp>
        <p:nvSpPr>
          <p:cNvPr id="187" name=""/>
          <p:cNvSpPr/>
          <p:nvPr/>
        </p:nvSpPr>
        <p:spPr>
          <a:xfrm>
            <a:off x="0" y="1143000"/>
            <a:ext cx="7765920" cy="68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tended treatment (3D-view)</a:t>
            </a:r>
            <a:endParaRPr b="0" lang="en-US" sz="2800" spc="-1" strike="noStrike">
              <a:solidFill>
                <a:srgbClr val="eaeaea"/>
              </a:solidFill>
              <a:latin typeface="Times New Roman"/>
            </a:endParaRPr>
          </a:p>
        </p:txBody>
      </p:sp>
      <p:sp>
        <p:nvSpPr>
          <p:cNvPr id="188"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ackground</a:t>
            </a:r>
            <a:endParaRPr b="0" lang="en-US" sz="36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96F5CD33-02F9-4B42-AC5F-946B073DA1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9" name=""/>
          <p:cNvSpPr/>
          <p:nvPr/>
        </p:nvSpPr>
        <p:spPr>
          <a:xfrm>
            <a:off x="0" y="1143000"/>
            <a:ext cx="9144000" cy="5715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90" name=""/>
          <p:cNvSpPr/>
          <p:nvPr/>
        </p:nvSpPr>
        <p:spPr>
          <a:xfrm>
            <a:off x="752400" y="1581120"/>
            <a:ext cx="7632720" cy="4943520"/>
          </a:xfrm>
          <a:custGeom>
            <a:avLst/>
            <a:gdLst/>
            <a:ahLst/>
            <a:rect l="l" t="t" r="r" b="b"/>
            <a:pathLst>
              <a:path w="4808" h="3114">
                <a:moveTo>
                  <a:pt x="84" y="2700"/>
                </a:moveTo>
                <a:cubicBezTo>
                  <a:pt x="75" y="2674"/>
                  <a:pt x="59" y="2653"/>
                  <a:pt x="48" y="2628"/>
                </a:cubicBezTo>
                <a:cubicBezTo>
                  <a:pt x="43" y="2616"/>
                  <a:pt x="40" y="2604"/>
                  <a:pt x="36" y="2592"/>
                </a:cubicBezTo>
                <a:cubicBezTo>
                  <a:pt x="34" y="2586"/>
                  <a:pt x="30" y="2574"/>
                  <a:pt x="30" y="2574"/>
                </a:cubicBezTo>
                <a:cubicBezTo>
                  <a:pt x="19" y="2426"/>
                  <a:pt x="15" y="2278"/>
                  <a:pt x="0" y="2130"/>
                </a:cubicBezTo>
                <a:cubicBezTo>
                  <a:pt x="2" y="2084"/>
                  <a:pt x="3" y="2038"/>
                  <a:pt x="6" y="1992"/>
                </a:cubicBezTo>
                <a:cubicBezTo>
                  <a:pt x="8" y="1957"/>
                  <a:pt x="34" y="1860"/>
                  <a:pt x="54" y="1830"/>
                </a:cubicBezTo>
                <a:cubicBezTo>
                  <a:pt x="62" y="1818"/>
                  <a:pt x="73" y="1808"/>
                  <a:pt x="78" y="1794"/>
                </a:cubicBezTo>
                <a:cubicBezTo>
                  <a:pt x="88" y="1765"/>
                  <a:pt x="97" y="1726"/>
                  <a:pt x="126" y="1716"/>
                </a:cubicBezTo>
                <a:cubicBezTo>
                  <a:pt x="135" y="1690"/>
                  <a:pt x="147" y="1670"/>
                  <a:pt x="156" y="1644"/>
                </a:cubicBezTo>
                <a:cubicBezTo>
                  <a:pt x="153" y="1582"/>
                  <a:pt x="152" y="1507"/>
                  <a:pt x="132" y="1446"/>
                </a:cubicBezTo>
                <a:cubicBezTo>
                  <a:pt x="126" y="1402"/>
                  <a:pt x="125" y="1357"/>
                  <a:pt x="114" y="1314"/>
                </a:cubicBezTo>
                <a:cubicBezTo>
                  <a:pt x="118" y="1203"/>
                  <a:pt x="114" y="1157"/>
                  <a:pt x="144" y="1068"/>
                </a:cubicBezTo>
                <a:cubicBezTo>
                  <a:pt x="155" y="1034"/>
                  <a:pt x="161" y="998"/>
                  <a:pt x="192" y="978"/>
                </a:cubicBezTo>
                <a:cubicBezTo>
                  <a:pt x="204" y="941"/>
                  <a:pt x="231" y="895"/>
                  <a:pt x="270" y="882"/>
                </a:cubicBezTo>
                <a:cubicBezTo>
                  <a:pt x="278" y="858"/>
                  <a:pt x="294" y="852"/>
                  <a:pt x="312" y="834"/>
                </a:cubicBezTo>
                <a:cubicBezTo>
                  <a:pt x="324" y="799"/>
                  <a:pt x="356" y="779"/>
                  <a:pt x="390" y="768"/>
                </a:cubicBezTo>
                <a:cubicBezTo>
                  <a:pt x="406" y="752"/>
                  <a:pt x="417" y="729"/>
                  <a:pt x="438" y="720"/>
                </a:cubicBezTo>
                <a:cubicBezTo>
                  <a:pt x="472" y="705"/>
                  <a:pt x="469" y="715"/>
                  <a:pt x="492" y="696"/>
                </a:cubicBezTo>
                <a:cubicBezTo>
                  <a:pt x="525" y="669"/>
                  <a:pt x="577" y="620"/>
                  <a:pt x="618" y="606"/>
                </a:cubicBezTo>
                <a:cubicBezTo>
                  <a:pt x="622" y="600"/>
                  <a:pt x="625" y="593"/>
                  <a:pt x="630" y="588"/>
                </a:cubicBezTo>
                <a:cubicBezTo>
                  <a:pt x="635" y="583"/>
                  <a:pt x="643" y="581"/>
                  <a:pt x="648" y="576"/>
                </a:cubicBezTo>
                <a:cubicBezTo>
                  <a:pt x="697" y="520"/>
                  <a:pt x="650" y="555"/>
                  <a:pt x="690" y="528"/>
                </a:cubicBezTo>
                <a:cubicBezTo>
                  <a:pt x="733" y="464"/>
                  <a:pt x="666" y="561"/>
                  <a:pt x="720" y="492"/>
                </a:cubicBezTo>
                <a:cubicBezTo>
                  <a:pt x="760" y="441"/>
                  <a:pt x="766" y="418"/>
                  <a:pt x="828" y="390"/>
                </a:cubicBezTo>
                <a:cubicBezTo>
                  <a:pt x="903" y="357"/>
                  <a:pt x="825" y="404"/>
                  <a:pt x="900" y="354"/>
                </a:cubicBezTo>
                <a:cubicBezTo>
                  <a:pt x="906" y="350"/>
                  <a:pt x="918" y="342"/>
                  <a:pt x="918" y="342"/>
                </a:cubicBezTo>
                <a:cubicBezTo>
                  <a:pt x="950" y="294"/>
                  <a:pt x="985" y="277"/>
                  <a:pt x="1032" y="246"/>
                </a:cubicBezTo>
                <a:cubicBezTo>
                  <a:pt x="1102" y="200"/>
                  <a:pt x="1168" y="153"/>
                  <a:pt x="1248" y="126"/>
                </a:cubicBezTo>
                <a:cubicBezTo>
                  <a:pt x="1284" y="114"/>
                  <a:pt x="1318" y="90"/>
                  <a:pt x="1356" y="84"/>
                </a:cubicBezTo>
                <a:cubicBezTo>
                  <a:pt x="1380" y="80"/>
                  <a:pt x="1428" y="72"/>
                  <a:pt x="1428" y="72"/>
                </a:cubicBezTo>
                <a:cubicBezTo>
                  <a:pt x="1561" y="82"/>
                  <a:pt x="1667" y="103"/>
                  <a:pt x="1800" y="108"/>
                </a:cubicBezTo>
                <a:cubicBezTo>
                  <a:pt x="1950" y="146"/>
                  <a:pt x="2094" y="171"/>
                  <a:pt x="2250" y="180"/>
                </a:cubicBezTo>
                <a:cubicBezTo>
                  <a:pt x="2378" y="198"/>
                  <a:pt x="2306" y="193"/>
                  <a:pt x="2466" y="186"/>
                </a:cubicBezTo>
                <a:cubicBezTo>
                  <a:pt x="2552" y="157"/>
                  <a:pt x="2642" y="136"/>
                  <a:pt x="2730" y="114"/>
                </a:cubicBezTo>
                <a:cubicBezTo>
                  <a:pt x="2780" y="101"/>
                  <a:pt x="2825" y="72"/>
                  <a:pt x="2874" y="60"/>
                </a:cubicBezTo>
                <a:cubicBezTo>
                  <a:pt x="2971" y="36"/>
                  <a:pt x="3062" y="13"/>
                  <a:pt x="3162" y="0"/>
                </a:cubicBezTo>
                <a:cubicBezTo>
                  <a:pt x="3248" y="2"/>
                  <a:pt x="3334" y="1"/>
                  <a:pt x="3420" y="6"/>
                </a:cubicBezTo>
                <a:cubicBezTo>
                  <a:pt x="3428" y="6"/>
                  <a:pt x="3461" y="21"/>
                  <a:pt x="3474" y="24"/>
                </a:cubicBezTo>
                <a:cubicBezTo>
                  <a:pt x="3522" y="36"/>
                  <a:pt x="3567" y="53"/>
                  <a:pt x="3612" y="72"/>
                </a:cubicBezTo>
                <a:cubicBezTo>
                  <a:pt x="3642" y="85"/>
                  <a:pt x="3677" y="92"/>
                  <a:pt x="3708" y="102"/>
                </a:cubicBezTo>
                <a:cubicBezTo>
                  <a:pt x="3730" y="109"/>
                  <a:pt x="3762" y="132"/>
                  <a:pt x="3780" y="144"/>
                </a:cubicBezTo>
                <a:cubicBezTo>
                  <a:pt x="3844" y="187"/>
                  <a:pt x="3913" y="227"/>
                  <a:pt x="3978" y="270"/>
                </a:cubicBezTo>
                <a:cubicBezTo>
                  <a:pt x="4047" y="316"/>
                  <a:pt x="4125" y="350"/>
                  <a:pt x="4194" y="396"/>
                </a:cubicBezTo>
                <a:cubicBezTo>
                  <a:pt x="4228" y="419"/>
                  <a:pt x="4264" y="461"/>
                  <a:pt x="4302" y="474"/>
                </a:cubicBezTo>
                <a:cubicBezTo>
                  <a:pt x="4324" y="481"/>
                  <a:pt x="4343" y="491"/>
                  <a:pt x="4362" y="504"/>
                </a:cubicBezTo>
                <a:cubicBezTo>
                  <a:pt x="4385" y="538"/>
                  <a:pt x="4429" y="571"/>
                  <a:pt x="4464" y="594"/>
                </a:cubicBezTo>
                <a:cubicBezTo>
                  <a:pt x="4492" y="636"/>
                  <a:pt x="4476" y="622"/>
                  <a:pt x="4506" y="642"/>
                </a:cubicBezTo>
                <a:cubicBezTo>
                  <a:pt x="4549" y="706"/>
                  <a:pt x="4482" y="609"/>
                  <a:pt x="4536" y="678"/>
                </a:cubicBezTo>
                <a:cubicBezTo>
                  <a:pt x="4561" y="711"/>
                  <a:pt x="4578" y="750"/>
                  <a:pt x="4596" y="786"/>
                </a:cubicBezTo>
                <a:cubicBezTo>
                  <a:pt x="4605" y="804"/>
                  <a:pt x="4618" y="821"/>
                  <a:pt x="4626" y="840"/>
                </a:cubicBezTo>
                <a:cubicBezTo>
                  <a:pt x="4631" y="852"/>
                  <a:pt x="4638" y="876"/>
                  <a:pt x="4638" y="876"/>
                </a:cubicBezTo>
                <a:cubicBezTo>
                  <a:pt x="4640" y="934"/>
                  <a:pt x="4639" y="992"/>
                  <a:pt x="4644" y="1050"/>
                </a:cubicBezTo>
                <a:cubicBezTo>
                  <a:pt x="4645" y="1066"/>
                  <a:pt x="4651" y="1082"/>
                  <a:pt x="4656" y="1098"/>
                </a:cubicBezTo>
                <a:cubicBezTo>
                  <a:pt x="4660" y="1110"/>
                  <a:pt x="4668" y="1134"/>
                  <a:pt x="4668" y="1134"/>
                </a:cubicBezTo>
                <a:cubicBezTo>
                  <a:pt x="4673" y="1209"/>
                  <a:pt x="4686" y="1277"/>
                  <a:pt x="4704" y="1350"/>
                </a:cubicBezTo>
                <a:cubicBezTo>
                  <a:pt x="4706" y="1392"/>
                  <a:pt x="4705" y="1434"/>
                  <a:pt x="4710" y="1476"/>
                </a:cubicBezTo>
                <a:cubicBezTo>
                  <a:pt x="4715" y="1524"/>
                  <a:pt x="4720" y="1499"/>
                  <a:pt x="4734" y="1530"/>
                </a:cubicBezTo>
                <a:cubicBezTo>
                  <a:pt x="4755" y="1577"/>
                  <a:pt x="4778" y="1626"/>
                  <a:pt x="4794" y="1674"/>
                </a:cubicBezTo>
                <a:cubicBezTo>
                  <a:pt x="4800" y="1791"/>
                  <a:pt x="4808" y="1887"/>
                  <a:pt x="4794" y="2010"/>
                </a:cubicBezTo>
                <a:cubicBezTo>
                  <a:pt x="4792" y="2024"/>
                  <a:pt x="4778" y="2034"/>
                  <a:pt x="4770" y="2046"/>
                </a:cubicBezTo>
                <a:cubicBezTo>
                  <a:pt x="4763" y="2057"/>
                  <a:pt x="4762" y="2070"/>
                  <a:pt x="4758" y="2082"/>
                </a:cubicBezTo>
                <a:cubicBezTo>
                  <a:pt x="4732" y="2160"/>
                  <a:pt x="4702" y="2235"/>
                  <a:pt x="4686" y="2316"/>
                </a:cubicBezTo>
                <a:cubicBezTo>
                  <a:pt x="4679" y="2416"/>
                  <a:pt x="4664" y="2465"/>
                  <a:pt x="4626" y="2550"/>
                </a:cubicBezTo>
                <a:cubicBezTo>
                  <a:pt x="4618" y="2567"/>
                  <a:pt x="4621" y="2591"/>
                  <a:pt x="4608" y="2604"/>
                </a:cubicBezTo>
                <a:cubicBezTo>
                  <a:pt x="4586" y="2626"/>
                  <a:pt x="4573" y="2656"/>
                  <a:pt x="4548" y="2676"/>
                </a:cubicBezTo>
                <a:cubicBezTo>
                  <a:pt x="4537" y="2685"/>
                  <a:pt x="4522" y="2690"/>
                  <a:pt x="4512" y="2700"/>
                </a:cubicBezTo>
                <a:cubicBezTo>
                  <a:pt x="4481" y="2731"/>
                  <a:pt x="4458" y="2746"/>
                  <a:pt x="4422" y="2766"/>
                </a:cubicBezTo>
                <a:cubicBezTo>
                  <a:pt x="4411" y="2772"/>
                  <a:pt x="4387" y="2795"/>
                  <a:pt x="4368" y="2796"/>
                </a:cubicBezTo>
                <a:cubicBezTo>
                  <a:pt x="4314" y="2800"/>
                  <a:pt x="4260" y="2800"/>
                  <a:pt x="4206" y="2802"/>
                </a:cubicBezTo>
                <a:cubicBezTo>
                  <a:pt x="4171" y="2808"/>
                  <a:pt x="4140" y="2812"/>
                  <a:pt x="4110" y="2832"/>
                </a:cubicBezTo>
                <a:cubicBezTo>
                  <a:pt x="4096" y="2853"/>
                  <a:pt x="4086" y="2866"/>
                  <a:pt x="4062" y="2874"/>
                </a:cubicBezTo>
                <a:cubicBezTo>
                  <a:pt x="4013" y="2947"/>
                  <a:pt x="3911" y="3000"/>
                  <a:pt x="3828" y="3018"/>
                </a:cubicBezTo>
                <a:cubicBezTo>
                  <a:pt x="3801" y="3024"/>
                  <a:pt x="3779" y="3047"/>
                  <a:pt x="3750" y="3048"/>
                </a:cubicBezTo>
                <a:cubicBezTo>
                  <a:pt x="3676" y="3052"/>
                  <a:pt x="3602" y="3053"/>
                  <a:pt x="3528" y="3054"/>
                </a:cubicBezTo>
                <a:cubicBezTo>
                  <a:pt x="3388" y="3057"/>
                  <a:pt x="3248" y="3058"/>
                  <a:pt x="3108" y="3060"/>
                </a:cubicBezTo>
                <a:cubicBezTo>
                  <a:pt x="2820" y="3079"/>
                  <a:pt x="2984" y="3071"/>
                  <a:pt x="2616" y="3078"/>
                </a:cubicBezTo>
                <a:cubicBezTo>
                  <a:pt x="2372" y="3067"/>
                  <a:pt x="2129" y="3079"/>
                  <a:pt x="1884" y="3084"/>
                </a:cubicBezTo>
                <a:cubicBezTo>
                  <a:pt x="1793" y="3114"/>
                  <a:pt x="1692" y="3088"/>
                  <a:pt x="1596" y="3102"/>
                </a:cubicBezTo>
                <a:cubicBezTo>
                  <a:pt x="1402" y="3098"/>
                  <a:pt x="1314" y="3089"/>
                  <a:pt x="1152" y="3078"/>
                </a:cubicBezTo>
                <a:cubicBezTo>
                  <a:pt x="1072" y="3051"/>
                  <a:pt x="961" y="3075"/>
                  <a:pt x="882" y="3078"/>
                </a:cubicBezTo>
                <a:cubicBezTo>
                  <a:pt x="767" y="3097"/>
                  <a:pt x="834" y="3089"/>
                  <a:pt x="678" y="3096"/>
                </a:cubicBezTo>
                <a:cubicBezTo>
                  <a:pt x="630" y="3090"/>
                  <a:pt x="567" y="3088"/>
                  <a:pt x="522" y="3066"/>
                </a:cubicBezTo>
                <a:cubicBezTo>
                  <a:pt x="485" y="3048"/>
                  <a:pt x="453" y="3019"/>
                  <a:pt x="414" y="3006"/>
                </a:cubicBezTo>
                <a:cubicBezTo>
                  <a:pt x="408" y="3000"/>
                  <a:pt x="403" y="2993"/>
                  <a:pt x="396" y="2988"/>
                </a:cubicBezTo>
                <a:cubicBezTo>
                  <a:pt x="385" y="2979"/>
                  <a:pt x="360" y="2964"/>
                  <a:pt x="360" y="2964"/>
                </a:cubicBezTo>
                <a:cubicBezTo>
                  <a:pt x="346" y="2942"/>
                  <a:pt x="333" y="2942"/>
                  <a:pt x="312" y="2928"/>
                </a:cubicBezTo>
                <a:cubicBezTo>
                  <a:pt x="296" y="2904"/>
                  <a:pt x="276" y="2878"/>
                  <a:pt x="252" y="2862"/>
                </a:cubicBezTo>
                <a:cubicBezTo>
                  <a:pt x="239" y="2842"/>
                  <a:pt x="203" y="2789"/>
                  <a:pt x="186" y="2778"/>
                </a:cubicBezTo>
                <a:cubicBezTo>
                  <a:pt x="170" y="2768"/>
                  <a:pt x="150" y="2766"/>
                  <a:pt x="132" y="2760"/>
                </a:cubicBezTo>
                <a:cubicBezTo>
                  <a:pt x="126" y="2758"/>
                  <a:pt x="114" y="2754"/>
                  <a:pt x="114" y="2754"/>
                </a:cubicBezTo>
                <a:cubicBezTo>
                  <a:pt x="108" y="2746"/>
                  <a:pt x="100" y="2739"/>
                  <a:pt x="96" y="2730"/>
                </a:cubicBezTo>
                <a:cubicBezTo>
                  <a:pt x="83" y="2705"/>
                  <a:pt x="84" y="2679"/>
                  <a:pt x="84" y="2700"/>
                </a:cubicBezTo>
                <a:close/>
              </a:path>
            </a:pathLst>
          </a:custGeom>
          <a:noFill/>
          <a:ln w="572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91" name=""/>
          <p:cNvSpPr/>
          <p:nvPr/>
        </p:nvSpPr>
        <p:spPr>
          <a:xfrm>
            <a:off x="3495600" y="3514680"/>
            <a:ext cx="1648080" cy="1333440"/>
          </a:xfrm>
          <a:custGeom>
            <a:avLst/>
            <a:gdLst/>
            <a:ahLst/>
            <a:rect l="l" t="t" r="r" b="b"/>
            <a:pathLst>
              <a:path w="1038" h="840">
                <a:moveTo>
                  <a:pt x="66" y="672"/>
                </a:moveTo>
                <a:cubicBezTo>
                  <a:pt x="52" y="629"/>
                  <a:pt x="65" y="643"/>
                  <a:pt x="36" y="624"/>
                </a:cubicBezTo>
                <a:cubicBezTo>
                  <a:pt x="29" y="602"/>
                  <a:pt x="19" y="586"/>
                  <a:pt x="12" y="564"/>
                </a:cubicBezTo>
                <a:cubicBezTo>
                  <a:pt x="8" y="552"/>
                  <a:pt x="0" y="528"/>
                  <a:pt x="0" y="528"/>
                </a:cubicBezTo>
                <a:cubicBezTo>
                  <a:pt x="2" y="456"/>
                  <a:pt x="1" y="233"/>
                  <a:pt x="72" y="162"/>
                </a:cubicBezTo>
                <a:cubicBezTo>
                  <a:pt x="84" y="125"/>
                  <a:pt x="112" y="99"/>
                  <a:pt x="144" y="78"/>
                </a:cubicBezTo>
                <a:cubicBezTo>
                  <a:pt x="170" y="39"/>
                  <a:pt x="205" y="32"/>
                  <a:pt x="246" y="18"/>
                </a:cubicBezTo>
                <a:cubicBezTo>
                  <a:pt x="258" y="14"/>
                  <a:pt x="270" y="10"/>
                  <a:pt x="282" y="6"/>
                </a:cubicBezTo>
                <a:cubicBezTo>
                  <a:pt x="288" y="4"/>
                  <a:pt x="300" y="0"/>
                  <a:pt x="300" y="0"/>
                </a:cubicBezTo>
                <a:cubicBezTo>
                  <a:pt x="468" y="5"/>
                  <a:pt x="558" y="10"/>
                  <a:pt x="708" y="60"/>
                </a:cubicBezTo>
                <a:cubicBezTo>
                  <a:pt x="733" y="68"/>
                  <a:pt x="756" y="85"/>
                  <a:pt x="780" y="96"/>
                </a:cubicBezTo>
                <a:cubicBezTo>
                  <a:pt x="802" y="106"/>
                  <a:pt x="829" y="112"/>
                  <a:pt x="852" y="120"/>
                </a:cubicBezTo>
                <a:cubicBezTo>
                  <a:pt x="884" y="131"/>
                  <a:pt x="865" y="122"/>
                  <a:pt x="906" y="150"/>
                </a:cubicBezTo>
                <a:cubicBezTo>
                  <a:pt x="912" y="154"/>
                  <a:pt x="924" y="162"/>
                  <a:pt x="924" y="162"/>
                </a:cubicBezTo>
                <a:cubicBezTo>
                  <a:pt x="952" y="204"/>
                  <a:pt x="936" y="190"/>
                  <a:pt x="966" y="210"/>
                </a:cubicBezTo>
                <a:cubicBezTo>
                  <a:pt x="986" y="269"/>
                  <a:pt x="1023" y="316"/>
                  <a:pt x="1038" y="378"/>
                </a:cubicBezTo>
                <a:cubicBezTo>
                  <a:pt x="1034" y="436"/>
                  <a:pt x="1025" y="473"/>
                  <a:pt x="1032" y="528"/>
                </a:cubicBezTo>
                <a:cubicBezTo>
                  <a:pt x="1026" y="564"/>
                  <a:pt x="1013" y="584"/>
                  <a:pt x="1002" y="618"/>
                </a:cubicBezTo>
                <a:cubicBezTo>
                  <a:pt x="997" y="634"/>
                  <a:pt x="993" y="660"/>
                  <a:pt x="978" y="672"/>
                </a:cubicBezTo>
                <a:cubicBezTo>
                  <a:pt x="929" y="711"/>
                  <a:pt x="993" y="639"/>
                  <a:pt x="942" y="690"/>
                </a:cubicBezTo>
                <a:cubicBezTo>
                  <a:pt x="925" y="707"/>
                  <a:pt x="912" y="728"/>
                  <a:pt x="894" y="744"/>
                </a:cubicBezTo>
                <a:cubicBezTo>
                  <a:pt x="889" y="748"/>
                  <a:pt x="882" y="747"/>
                  <a:pt x="876" y="750"/>
                </a:cubicBezTo>
                <a:cubicBezTo>
                  <a:pt x="863" y="757"/>
                  <a:pt x="852" y="766"/>
                  <a:pt x="840" y="774"/>
                </a:cubicBezTo>
                <a:cubicBezTo>
                  <a:pt x="755" y="831"/>
                  <a:pt x="712" y="832"/>
                  <a:pt x="606" y="840"/>
                </a:cubicBezTo>
                <a:cubicBezTo>
                  <a:pt x="527" y="836"/>
                  <a:pt x="467" y="828"/>
                  <a:pt x="390" y="834"/>
                </a:cubicBezTo>
                <a:cubicBezTo>
                  <a:pt x="319" y="826"/>
                  <a:pt x="243" y="815"/>
                  <a:pt x="180" y="780"/>
                </a:cubicBezTo>
                <a:cubicBezTo>
                  <a:pt x="161" y="769"/>
                  <a:pt x="144" y="756"/>
                  <a:pt x="126" y="744"/>
                </a:cubicBezTo>
                <a:cubicBezTo>
                  <a:pt x="114" y="736"/>
                  <a:pt x="90" y="720"/>
                  <a:pt x="90" y="720"/>
                </a:cubicBezTo>
                <a:cubicBezTo>
                  <a:pt x="72" y="693"/>
                  <a:pt x="81" y="709"/>
                  <a:pt x="66" y="672"/>
                </a:cubicBezTo>
                <a:close/>
              </a:path>
            </a:pathLst>
          </a:custGeom>
          <a:solidFill>
            <a:srgbClr val="ff0000">
              <a:alpha val="50000"/>
            </a:srgbClr>
          </a:solid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92" name=""/>
          <p:cNvSpPr/>
          <p:nvPr/>
        </p:nvSpPr>
        <p:spPr>
          <a:xfrm>
            <a:off x="5081760" y="2390760"/>
            <a:ext cx="2004840" cy="3343320"/>
          </a:xfrm>
          <a:custGeom>
            <a:avLst/>
            <a:gdLst/>
            <a:ahLst/>
            <a:rect l="l" t="t" r="r" b="b"/>
            <a:pathLst>
              <a:path w="1263" h="2106">
                <a:moveTo>
                  <a:pt x="123" y="1818"/>
                </a:moveTo>
                <a:cubicBezTo>
                  <a:pt x="163" y="1810"/>
                  <a:pt x="190" y="1794"/>
                  <a:pt x="225" y="1776"/>
                </a:cubicBezTo>
                <a:cubicBezTo>
                  <a:pt x="243" y="1767"/>
                  <a:pt x="279" y="1746"/>
                  <a:pt x="279" y="1746"/>
                </a:cubicBezTo>
                <a:cubicBezTo>
                  <a:pt x="292" y="1706"/>
                  <a:pt x="309" y="1674"/>
                  <a:pt x="333" y="1638"/>
                </a:cubicBezTo>
                <a:cubicBezTo>
                  <a:pt x="345" y="1619"/>
                  <a:pt x="331" y="1618"/>
                  <a:pt x="351" y="1602"/>
                </a:cubicBezTo>
                <a:cubicBezTo>
                  <a:pt x="356" y="1598"/>
                  <a:pt x="363" y="1599"/>
                  <a:pt x="369" y="1596"/>
                </a:cubicBezTo>
                <a:cubicBezTo>
                  <a:pt x="386" y="1588"/>
                  <a:pt x="392" y="1579"/>
                  <a:pt x="405" y="1566"/>
                </a:cubicBezTo>
                <a:cubicBezTo>
                  <a:pt x="424" y="1509"/>
                  <a:pt x="406" y="1518"/>
                  <a:pt x="459" y="1500"/>
                </a:cubicBezTo>
                <a:cubicBezTo>
                  <a:pt x="465" y="1498"/>
                  <a:pt x="472" y="1498"/>
                  <a:pt x="477" y="1494"/>
                </a:cubicBezTo>
                <a:cubicBezTo>
                  <a:pt x="486" y="1488"/>
                  <a:pt x="517" y="1467"/>
                  <a:pt x="531" y="1458"/>
                </a:cubicBezTo>
                <a:cubicBezTo>
                  <a:pt x="537" y="1454"/>
                  <a:pt x="549" y="1446"/>
                  <a:pt x="549" y="1446"/>
                </a:cubicBezTo>
                <a:cubicBezTo>
                  <a:pt x="553" y="1440"/>
                  <a:pt x="556" y="1433"/>
                  <a:pt x="561" y="1428"/>
                </a:cubicBezTo>
                <a:cubicBezTo>
                  <a:pt x="566" y="1423"/>
                  <a:pt x="578" y="1423"/>
                  <a:pt x="579" y="1416"/>
                </a:cubicBezTo>
                <a:cubicBezTo>
                  <a:pt x="587" y="1350"/>
                  <a:pt x="565" y="1301"/>
                  <a:pt x="513" y="1266"/>
                </a:cubicBezTo>
                <a:cubicBezTo>
                  <a:pt x="502" y="1233"/>
                  <a:pt x="493" y="1224"/>
                  <a:pt x="507" y="1188"/>
                </a:cubicBezTo>
                <a:cubicBezTo>
                  <a:pt x="512" y="1175"/>
                  <a:pt x="523" y="1164"/>
                  <a:pt x="531" y="1152"/>
                </a:cubicBezTo>
                <a:cubicBezTo>
                  <a:pt x="538" y="1141"/>
                  <a:pt x="567" y="1140"/>
                  <a:pt x="567" y="1140"/>
                </a:cubicBezTo>
                <a:cubicBezTo>
                  <a:pt x="594" y="1100"/>
                  <a:pt x="588" y="1098"/>
                  <a:pt x="621" y="1080"/>
                </a:cubicBezTo>
                <a:cubicBezTo>
                  <a:pt x="634" y="1073"/>
                  <a:pt x="657" y="1056"/>
                  <a:pt x="657" y="1056"/>
                </a:cubicBezTo>
                <a:cubicBezTo>
                  <a:pt x="661" y="1045"/>
                  <a:pt x="673" y="1026"/>
                  <a:pt x="645" y="1026"/>
                </a:cubicBezTo>
                <a:cubicBezTo>
                  <a:pt x="627" y="1026"/>
                  <a:pt x="542" y="1051"/>
                  <a:pt x="525" y="1062"/>
                </a:cubicBezTo>
                <a:cubicBezTo>
                  <a:pt x="513" y="1070"/>
                  <a:pt x="489" y="1086"/>
                  <a:pt x="489" y="1086"/>
                </a:cubicBezTo>
                <a:cubicBezTo>
                  <a:pt x="461" y="1127"/>
                  <a:pt x="479" y="1127"/>
                  <a:pt x="447" y="1116"/>
                </a:cubicBezTo>
                <a:cubicBezTo>
                  <a:pt x="431" y="1091"/>
                  <a:pt x="426" y="1066"/>
                  <a:pt x="417" y="1038"/>
                </a:cubicBezTo>
                <a:cubicBezTo>
                  <a:pt x="419" y="1012"/>
                  <a:pt x="419" y="986"/>
                  <a:pt x="423" y="960"/>
                </a:cubicBezTo>
                <a:cubicBezTo>
                  <a:pt x="429" y="922"/>
                  <a:pt x="451" y="884"/>
                  <a:pt x="459" y="846"/>
                </a:cubicBezTo>
                <a:cubicBezTo>
                  <a:pt x="471" y="791"/>
                  <a:pt x="473" y="733"/>
                  <a:pt x="477" y="678"/>
                </a:cubicBezTo>
                <a:cubicBezTo>
                  <a:pt x="475" y="616"/>
                  <a:pt x="475" y="554"/>
                  <a:pt x="471" y="492"/>
                </a:cubicBezTo>
                <a:cubicBezTo>
                  <a:pt x="470" y="470"/>
                  <a:pt x="447" y="457"/>
                  <a:pt x="441" y="438"/>
                </a:cubicBezTo>
                <a:cubicBezTo>
                  <a:pt x="419" y="372"/>
                  <a:pt x="355" y="285"/>
                  <a:pt x="297" y="246"/>
                </a:cubicBezTo>
                <a:cubicBezTo>
                  <a:pt x="235" y="205"/>
                  <a:pt x="169" y="173"/>
                  <a:pt x="99" y="150"/>
                </a:cubicBezTo>
                <a:cubicBezTo>
                  <a:pt x="87" y="146"/>
                  <a:pt x="75" y="141"/>
                  <a:pt x="63" y="138"/>
                </a:cubicBezTo>
                <a:cubicBezTo>
                  <a:pt x="47" y="134"/>
                  <a:pt x="15" y="126"/>
                  <a:pt x="15" y="126"/>
                </a:cubicBezTo>
                <a:cubicBezTo>
                  <a:pt x="0" y="82"/>
                  <a:pt x="34" y="84"/>
                  <a:pt x="69" y="72"/>
                </a:cubicBezTo>
                <a:cubicBezTo>
                  <a:pt x="148" y="46"/>
                  <a:pt x="201" y="25"/>
                  <a:pt x="285" y="18"/>
                </a:cubicBezTo>
                <a:cubicBezTo>
                  <a:pt x="309" y="12"/>
                  <a:pt x="332" y="5"/>
                  <a:pt x="357" y="0"/>
                </a:cubicBezTo>
                <a:cubicBezTo>
                  <a:pt x="410" y="4"/>
                  <a:pt x="454" y="13"/>
                  <a:pt x="507" y="18"/>
                </a:cubicBezTo>
                <a:cubicBezTo>
                  <a:pt x="559" y="35"/>
                  <a:pt x="611" y="49"/>
                  <a:pt x="663" y="66"/>
                </a:cubicBezTo>
                <a:cubicBezTo>
                  <a:pt x="677" y="71"/>
                  <a:pt x="685" y="87"/>
                  <a:pt x="699" y="90"/>
                </a:cubicBezTo>
                <a:cubicBezTo>
                  <a:pt x="723" y="96"/>
                  <a:pt x="739" y="100"/>
                  <a:pt x="759" y="114"/>
                </a:cubicBezTo>
                <a:cubicBezTo>
                  <a:pt x="793" y="166"/>
                  <a:pt x="748" y="105"/>
                  <a:pt x="789" y="138"/>
                </a:cubicBezTo>
                <a:cubicBezTo>
                  <a:pt x="795" y="143"/>
                  <a:pt x="796" y="151"/>
                  <a:pt x="801" y="156"/>
                </a:cubicBezTo>
                <a:cubicBezTo>
                  <a:pt x="806" y="161"/>
                  <a:pt x="813" y="164"/>
                  <a:pt x="819" y="168"/>
                </a:cubicBezTo>
                <a:cubicBezTo>
                  <a:pt x="838" y="197"/>
                  <a:pt x="874" y="203"/>
                  <a:pt x="903" y="222"/>
                </a:cubicBezTo>
                <a:cubicBezTo>
                  <a:pt x="914" y="256"/>
                  <a:pt x="936" y="261"/>
                  <a:pt x="957" y="288"/>
                </a:cubicBezTo>
                <a:cubicBezTo>
                  <a:pt x="988" y="328"/>
                  <a:pt x="1010" y="380"/>
                  <a:pt x="1053" y="408"/>
                </a:cubicBezTo>
                <a:cubicBezTo>
                  <a:pt x="1066" y="447"/>
                  <a:pt x="1096" y="482"/>
                  <a:pt x="1119" y="516"/>
                </a:cubicBezTo>
                <a:cubicBezTo>
                  <a:pt x="1141" y="549"/>
                  <a:pt x="1154" y="589"/>
                  <a:pt x="1173" y="624"/>
                </a:cubicBezTo>
                <a:cubicBezTo>
                  <a:pt x="1188" y="651"/>
                  <a:pt x="1206" y="668"/>
                  <a:pt x="1215" y="696"/>
                </a:cubicBezTo>
                <a:cubicBezTo>
                  <a:pt x="1221" y="757"/>
                  <a:pt x="1232" y="818"/>
                  <a:pt x="1251" y="876"/>
                </a:cubicBezTo>
                <a:cubicBezTo>
                  <a:pt x="1259" y="899"/>
                  <a:pt x="1263" y="948"/>
                  <a:pt x="1263" y="948"/>
                </a:cubicBezTo>
                <a:cubicBezTo>
                  <a:pt x="1254" y="1040"/>
                  <a:pt x="1261" y="1143"/>
                  <a:pt x="1239" y="1230"/>
                </a:cubicBezTo>
                <a:cubicBezTo>
                  <a:pt x="1230" y="1340"/>
                  <a:pt x="1187" y="1442"/>
                  <a:pt x="1143" y="1542"/>
                </a:cubicBezTo>
                <a:cubicBezTo>
                  <a:pt x="1124" y="1584"/>
                  <a:pt x="1120" y="1612"/>
                  <a:pt x="1095" y="1650"/>
                </a:cubicBezTo>
                <a:cubicBezTo>
                  <a:pt x="1072" y="1685"/>
                  <a:pt x="1058" y="1728"/>
                  <a:pt x="1023" y="1752"/>
                </a:cubicBezTo>
                <a:cubicBezTo>
                  <a:pt x="1016" y="1763"/>
                  <a:pt x="975" y="1834"/>
                  <a:pt x="963" y="1842"/>
                </a:cubicBezTo>
                <a:cubicBezTo>
                  <a:pt x="933" y="1862"/>
                  <a:pt x="894" y="1883"/>
                  <a:pt x="873" y="1914"/>
                </a:cubicBezTo>
                <a:cubicBezTo>
                  <a:pt x="865" y="1926"/>
                  <a:pt x="857" y="1938"/>
                  <a:pt x="849" y="1950"/>
                </a:cubicBezTo>
                <a:cubicBezTo>
                  <a:pt x="845" y="1956"/>
                  <a:pt x="844" y="1966"/>
                  <a:pt x="837" y="1968"/>
                </a:cubicBezTo>
                <a:cubicBezTo>
                  <a:pt x="806" y="1978"/>
                  <a:pt x="776" y="1996"/>
                  <a:pt x="747" y="2010"/>
                </a:cubicBezTo>
                <a:cubicBezTo>
                  <a:pt x="705" y="2031"/>
                  <a:pt x="661" y="2056"/>
                  <a:pt x="621" y="2082"/>
                </a:cubicBezTo>
                <a:cubicBezTo>
                  <a:pt x="605" y="2093"/>
                  <a:pt x="567" y="2106"/>
                  <a:pt x="567" y="2106"/>
                </a:cubicBezTo>
                <a:cubicBezTo>
                  <a:pt x="515" y="2104"/>
                  <a:pt x="463" y="2105"/>
                  <a:pt x="411" y="2100"/>
                </a:cubicBezTo>
                <a:cubicBezTo>
                  <a:pt x="364" y="2096"/>
                  <a:pt x="341" y="2065"/>
                  <a:pt x="303" y="2052"/>
                </a:cubicBezTo>
                <a:cubicBezTo>
                  <a:pt x="267" y="2040"/>
                  <a:pt x="256" y="2032"/>
                  <a:pt x="225" y="2010"/>
                </a:cubicBezTo>
                <a:cubicBezTo>
                  <a:pt x="213" y="2002"/>
                  <a:pt x="201" y="1994"/>
                  <a:pt x="189" y="1986"/>
                </a:cubicBezTo>
                <a:cubicBezTo>
                  <a:pt x="183" y="1982"/>
                  <a:pt x="171" y="1974"/>
                  <a:pt x="171" y="1974"/>
                </a:cubicBezTo>
                <a:cubicBezTo>
                  <a:pt x="139" y="1926"/>
                  <a:pt x="181" y="1984"/>
                  <a:pt x="141" y="1944"/>
                </a:cubicBezTo>
                <a:cubicBezTo>
                  <a:pt x="106" y="1909"/>
                  <a:pt x="119" y="1861"/>
                  <a:pt x="123" y="1818"/>
                </a:cubicBezTo>
                <a:close/>
              </a:path>
            </a:pathLst>
          </a:custGeom>
          <a:solidFill>
            <a:srgbClr val="00ff00">
              <a:alpha val="50000"/>
            </a:srgbClr>
          </a:solidFill>
          <a:ln w="57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93" name=""/>
          <p:cNvSpPr/>
          <p:nvPr/>
        </p:nvSpPr>
        <p:spPr>
          <a:xfrm>
            <a:off x="2295360" y="2495520"/>
            <a:ext cx="2381400" cy="3267000"/>
          </a:xfrm>
          <a:custGeom>
            <a:avLst/>
            <a:gdLst/>
            <a:ahLst/>
            <a:rect l="l" t="t" r="r" b="b"/>
            <a:pathLst>
              <a:path w="1500" h="2058">
                <a:moveTo>
                  <a:pt x="1392" y="1518"/>
                </a:moveTo>
                <a:cubicBezTo>
                  <a:pt x="1369" y="1541"/>
                  <a:pt x="1367" y="1567"/>
                  <a:pt x="1344" y="1590"/>
                </a:cubicBezTo>
                <a:cubicBezTo>
                  <a:pt x="1333" y="1645"/>
                  <a:pt x="1306" y="1695"/>
                  <a:pt x="1284" y="1746"/>
                </a:cubicBezTo>
                <a:cubicBezTo>
                  <a:pt x="1269" y="1780"/>
                  <a:pt x="1262" y="1829"/>
                  <a:pt x="1224" y="1842"/>
                </a:cubicBezTo>
                <a:cubicBezTo>
                  <a:pt x="1154" y="1912"/>
                  <a:pt x="1074" y="1970"/>
                  <a:pt x="984" y="2010"/>
                </a:cubicBezTo>
                <a:cubicBezTo>
                  <a:pt x="956" y="2023"/>
                  <a:pt x="923" y="2036"/>
                  <a:pt x="894" y="2046"/>
                </a:cubicBezTo>
                <a:cubicBezTo>
                  <a:pt x="882" y="2050"/>
                  <a:pt x="858" y="2058"/>
                  <a:pt x="858" y="2058"/>
                </a:cubicBezTo>
                <a:cubicBezTo>
                  <a:pt x="804" y="2056"/>
                  <a:pt x="750" y="2057"/>
                  <a:pt x="696" y="2052"/>
                </a:cubicBezTo>
                <a:cubicBezTo>
                  <a:pt x="689" y="2051"/>
                  <a:pt x="685" y="2043"/>
                  <a:pt x="678" y="2040"/>
                </a:cubicBezTo>
                <a:cubicBezTo>
                  <a:pt x="652" y="2029"/>
                  <a:pt x="622" y="2028"/>
                  <a:pt x="594" y="2022"/>
                </a:cubicBezTo>
                <a:cubicBezTo>
                  <a:pt x="577" y="2019"/>
                  <a:pt x="555" y="2006"/>
                  <a:pt x="540" y="1998"/>
                </a:cubicBezTo>
                <a:cubicBezTo>
                  <a:pt x="527" y="1991"/>
                  <a:pt x="504" y="1974"/>
                  <a:pt x="504" y="1974"/>
                </a:cubicBezTo>
                <a:cubicBezTo>
                  <a:pt x="496" y="1962"/>
                  <a:pt x="488" y="1950"/>
                  <a:pt x="480" y="1938"/>
                </a:cubicBezTo>
                <a:cubicBezTo>
                  <a:pt x="476" y="1933"/>
                  <a:pt x="468" y="1935"/>
                  <a:pt x="462" y="1932"/>
                </a:cubicBezTo>
                <a:cubicBezTo>
                  <a:pt x="449" y="1925"/>
                  <a:pt x="436" y="1918"/>
                  <a:pt x="426" y="1908"/>
                </a:cubicBezTo>
                <a:cubicBezTo>
                  <a:pt x="409" y="1891"/>
                  <a:pt x="398" y="1874"/>
                  <a:pt x="378" y="1860"/>
                </a:cubicBezTo>
                <a:cubicBezTo>
                  <a:pt x="363" y="1838"/>
                  <a:pt x="340" y="1815"/>
                  <a:pt x="318" y="1800"/>
                </a:cubicBezTo>
                <a:cubicBezTo>
                  <a:pt x="309" y="1787"/>
                  <a:pt x="297" y="1777"/>
                  <a:pt x="288" y="1764"/>
                </a:cubicBezTo>
                <a:cubicBezTo>
                  <a:pt x="284" y="1759"/>
                  <a:pt x="286" y="1751"/>
                  <a:pt x="282" y="1746"/>
                </a:cubicBezTo>
                <a:cubicBezTo>
                  <a:pt x="270" y="1728"/>
                  <a:pt x="251" y="1710"/>
                  <a:pt x="234" y="1698"/>
                </a:cubicBezTo>
                <a:cubicBezTo>
                  <a:pt x="230" y="1692"/>
                  <a:pt x="227" y="1685"/>
                  <a:pt x="222" y="1680"/>
                </a:cubicBezTo>
                <a:cubicBezTo>
                  <a:pt x="217" y="1675"/>
                  <a:pt x="209" y="1674"/>
                  <a:pt x="204" y="1668"/>
                </a:cubicBezTo>
                <a:cubicBezTo>
                  <a:pt x="200" y="1663"/>
                  <a:pt x="202" y="1655"/>
                  <a:pt x="198" y="1650"/>
                </a:cubicBezTo>
                <a:cubicBezTo>
                  <a:pt x="193" y="1643"/>
                  <a:pt x="186" y="1638"/>
                  <a:pt x="180" y="1632"/>
                </a:cubicBezTo>
                <a:cubicBezTo>
                  <a:pt x="172" y="1608"/>
                  <a:pt x="159" y="1598"/>
                  <a:pt x="138" y="1584"/>
                </a:cubicBezTo>
                <a:cubicBezTo>
                  <a:pt x="105" y="1535"/>
                  <a:pt x="105" y="1471"/>
                  <a:pt x="72" y="1422"/>
                </a:cubicBezTo>
                <a:cubicBezTo>
                  <a:pt x="52" y="1343"/>
                  <a:pt x="20" y="1267"/>
                  <a:pt x="0" y="1188"/>
                </a:cubicBezTo>
                <a:cubicBezTo>
                  <a:pt x="2" y="1064"/>
                  <a:pt x="2" y="940"/>
                  <a:pt x="6" y="816"/>
                </a:cubicBezTo>
                <a:cubicBezTo>
                  <a:pt x="9" y="708"/>
                  <a:pt x="91" y="533"/>
                  <a:pt x="144" y="438"/>
                </a:cubicBezTo>
                <a:cubicBezTo>
                  <a:pt x="167" y="397"/>
                  <a:pt x="195" y="345"/>
                  <a:pt x="228" y="312"/>
                </a:cubicBezTo>
                <a:cubicBezTo>
                  <a:pt x="256" y="284"/>
                  <a:pt x="289" y="260"/>
                  <a:pt x="318" y="234"/>
                </a:cubicBezTo>
                <a:cubicBezTo>
                  <a:pt x="343" y="212"/>
                  <a:pt x="364" y="188"/>
                  <a:pt x="390" y="168"/>
                </a:cubicBezTo>
                <a:cubicBezTo>
                  <a:pt x="401" y="159"/>
                  <a:pt x="426" y="144"/>
                  <a:pt x="426" y="144"/>
                </a:cubicBezTo>
                <a:cubicBezTo>
                  <a:pt x="443" y="119"/>
                  <a:pt x="466" y="116"/>
                  <a:pt x="492" y="102"/>
                </a:cubicBezTo>
                <a:cubicBezTo>
                  <a:pt x="505" y="95"/>
                  <a:pt x="516" y="86"/>
                  <a:pt x="528" y="78"/>
                </a:cubicBezTo>
                <a:cubicBezTo>
                  <a:pt x="564" y="54"/>
                  <a:pt x="649" y="44"/>
                  <a:pt x="690" y="30"/>
                </a:cubicBezTo>
                <a:cubicBezTo>
                  <a:pt x="712" y="23"/>
                  <a:pt x="728" y="7"/>
                  <a:pt x="750" y="0"/>
                </a:cubicBezTo>
                <a:cubicBezTo>
                  <a:pt x="814" y="2"/>
                  <a:pt x="878" y="2"/>
                  <a:pt x="942" y="6"/>
                </a:cubicBezTo>
                <a:cubicBezTo>
                  <a:pt x="1008" y="10"/>
                  <a:pt x="1073" y="47"/>
                  <a:pt x="1140" y="54"/>
                </a:cubicBezTo>
                <a:cubicBezTo>
                  <a:pt x="1196" y="73"/>
                  <a:pt x="1264" y="50"/>
                  <a:pt x="1320" y="36"/>
                </a:cubicBezTo>
                <a:cubicBezTo>
                  <a:pt x="1370" y="40"/>
                  <a:pt x="1442" y="6"/>
                  <a:pt x="1470" y="48"/>
                </a:cubicBezTo>
                <a:cubicBezTo>
                  <a:pt x="1489" y="77"/>
                  <a:pt x="1480" y="59"/>
                  <a:pt x="1494" y="102"/>
                </a:cubicBezTo>
                <a:cubicBezTo>
                  <a:pt x="1496" y="108"/>
                  <a:pt x="1500" y="120"/>
                  <a:pt x="1500" y="120"/>
                </a:cubicBezTo>
                <a:cubicBezTo>
                  <a:pt x="1494" y="137"/>
                  <a:pt x="1494" y="157"/>
                  <a:pt x="1488" y="174"/>
                </a:cubicBezTo>
                <a:lnTo>
                  <a:pt x="1464" y="228"/>
                </a:lnTo>
                <a:cubicBezTo>
                  <a:pt x="1464" y="228"/>
                  <a:pt x="1464" y="228"/>
                  <a:pt x="1464" y="228"/>
                </a:cubicBezTo>
                <a:cubicBezTo>
                  <a:pt x="1462" y="236"/>
                  <a:pt x="1462" y="245"/>
                  <a:pt x="1458" y="252"/>
                </a:cubicBezTo>
                <a:cubicBezTo>
                  <a:pt x="1444" y="276"/>
                  <a:pt x="1413" y="296"/>
                  <a:pt x="1404" y="324"/>
                </a:cubicBezTo>
                <a:cubicBezTo>
                  <a:pt x="1395" y="351"/>
                  <a:pt x="1382" y="376"/>
                  <a:pt x="1362" y="396"/>
                </a:cubicBezTo>
                <a:cubicBezTo>
                  <a:pt x="1352" y="425"/>
                  <a:pt x="1339" y="445"/>
                  <a:pt x="1314" y="462"/>
                </a:cubicBezTo>
                <a:cubicBezTo>
                  <a:pt x="1306" y="485"/>
                  <a:pt x="1296" y="510"/>
                  <a:pt x="1290" y="534"/>
                </a:cubicBezTo>
                <a:cubicBezTo>
                  <a:pt x="1290" y="534"/>
                  <a:pt x="1281" y="573"/>
                  <a:pt x="1278" y="576"/>
                </a:cubicBezTo>
                <a:cubicBezTo>
                  <a:pt x="1274" y="580"/>
                  <a:pt x="1266" y="580"/>
                  <a:pt x="1260" y="582"/>
                </a:cubicBezTo>
                <a:cubicBezTo>
                  <a:pt x="1258" y="588"/>
                  <a:pt x="1258" y="596"/>
                  <a:pt x="1254" y="600"/>
                </a:cubicBezTo>
                <a:cubicBezTo>
                  <a:pt x="1244" y="610"/>
                  <a:pt x="1218" y="624"/>
                  <a:pt x="1218" y="624"/>
                </a:cubicBezTo>
                <a:cubicBezTo>
                  <a:pt x="1160" y="619"/>
                  <a:pt x="1148" y="622"/>
                  <a:pt x="1104" y="600"/>
                </a:cubicBezTo>
                <a:cubicBezTo>
                  <a:pt x="1054" y="617"/>
                  <a:pt x="1134" y="591"/>
                  <a:pt x="1044" y="612"/>
                </a:cubicBezTo>
                <a:cubicBezTo>
                  <a:pt x="1014" y="619"/>
                  <a:pt x="997" y="629"/>
                  <a:pt x="972" y="642"/>
                </a:cubicBezTo>
                <a:cubicBezTo>
                  <a:pt x="949" y="653"/>
                  <a:pt x="918" y="658"/>
                  <a:pt x="894" y="666"/>
                </a:cubicBezTo>
                <a:cubicBezTo>
                  <a:pt x="873" y="673"/>
                  <a:pt x="858" y="690"/>
                  <a:pt x="840" y="702"/>
                </a:cubicBezTo>
                <a:cubicBezTo>
                  <a:pt x="834" y="706"/>
                  <a:pt x="822" y="714"/>
                  <a:pt x="822" y="714"/>
                </a:cubicBezTo>
                <a:cubicBezTo>
                  <a:pt x="794" y="755"/>
                  <a:pt x="772" y="798"/>
                  <a:pt x="744" y="840"/>
                </a:cubicBezTo>
                <a:cubicBezTo>
                  <a:pt x="737" y="851"/>
                  <a:pt x="736" y="864"/>
                  <a:pt x="732" y="876"/>
                </a:cubicBezTo>
                <a:cubicBezTo>
                  <a:pt x="730" y="882"/>
                  <a:pt x="726" y="894"/>
                  <a:pt x="726" y="894"/>
                </a:cubicBezTo>
                <a:cubicBezTo>
                  <a:pt x="720" y="949"/>
                  <a:pt x="714" y="964"/>
                  <a:pt x="720" y="1020"/>
                </a:cubicBezTo>
                <a:cubicBezTo>
                  <a:pt x="722" y="1086"/>
                  <a:pt x="722" y="1152"/>
                  <a:pt x="726" y="1218"/>
                </a:cubicBezTo>
                <a:cubicBezTo>
                  <a:pt x="727" y="1243"/>
                  <a:pt x="757" y="1284"/>
                  <a:pt x="768" y="1308"/>
                </a:cubicBezTo>
                <a:cubicBezTo>
                  <a:pt x="768" y="1308"/>
                  <a:pt x="783" y="1353"/>
                  <a:pt x="786" y="1362"/>
                </a:cubicBezTo>
                <a:cubicBezTo>
                  <a:pt x="788" y="1368"/>
                  <a:pt x="786" y="1378"/>
                  <a:pt x="792" y="1380"/>
                </a:cubicBezTo>
                <a:cubicBezTo>
                  <a:pt x="817" y="1388"/>
                  <a:pt x="826" y="1400"/>
                  <a:pt x="846" y="1416"/>
                </a:cubicBezTo>
                <a:cubicBezTo>
                  <a:pt x="886" y="1447"/>
                  <a:pt x="924" y="1478"/>
                  <a:pt x="972" y="1494"/>
                </a:cubicBezTo>
                <a:cubicBezTo>
                  <a:pt x="1006" y="1505"/>
                  <a:pt x="1040" y="1513"/>
                  <a:pt x="1074" y="1524"/>
                </a:cubicBezTo>
                <a:cubicBezTo>
                  <a:pt x="1086" y="1528"/>
                  <a:pt x="1110" y="1536"/>
                  <a:pt x="1110" y="1536"/>
                </a:cubicBezTo>
                <a:cubicBezTo>
                  <a:pt x="1216" y="1532"/>
                  <a:pt x="1290" y="1524"/>
                  <a:pt x="1392" y="1518"/>
                </a:cubicBezTo>
                <a:close/>
              </a:path>
            </a:pathLst>
          </a:custGeom>
          <a:solidFill>
            <a:srgbClr val="00ff00">
              <a:alpha val="50000"/>
            </a:srgbClr>
          </a:solidFill>
          <a:ln w="57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94" name=""/>
          <p:cNvSpPr/>
          <p:nvPr/>
        </p:nvSpPr>
        <p:spPr>
          <a:xfrm>
            <a:off x="3263760" y="3306600"/>
            <a:ext cx="2030400" cy="1743120"/>
          </a:xfrm>
          <a:custGeom>
            <a:avLst/>
            <a:gdLst/>
            <a:ahLst/>
            <a:rect l="l" t="t" r="r" b="b"/>
            <a:pathLst>
              <a:path w="1279" h="1098">
                <a:moveTo>
                  <a:pt x="67" y="697"/>
                </a:moveTo>
                <a:cubicBezTo>
                  <a:pt x="79" y="732"/>
                  <a:pt x="90" y="770"/>
                  <a:pt x="121" y="790"/>
                </a:cubicBezTo>
                <a:cubicBezTo>
                  <a:pt x="138" y="816"/>
                  <a:pt x="157" y="837"/>
                  <a:pt x="174" y="864"/>
                </a:cubicBezTo>
                <a:cubicBezTo>
                  <a:pt x="201" y="906"/>
                  <a:pt x="157" y="862"/>
                  <a:pt x="194" y="904"/>
                </a:cubicBezTo>
                <a:cubicBezTo>
                  <a:pt x="272" y="994"/>
                  <a:pt x="196" y="904"/>
                  <a:pt x="248" y="951"/>
                </a:cubicBezTo>
                <a:cubicBezTo>
                  <a:pt x="260" y="961"/>
                  <a:pt x="266" y="981"/>
                  <a:pt x="281" y="985"/>
                </a:cubicBezTo>
                <a:cubicBezTo>
                  <a:pt x="317" y="995"/>
                  <a:pt x="346" y="1017"/>
                  <a:pt x="382" y="1025"/>
                </a:cubicBezTo>
                <a:cubicBezTo>
                  <a:pt x="478" y="1046"/>
                  <a:pt x="573" y="1081"/>
                  <a:pt x="670" y="1098"/>
                </a:cubicBezTo>
                <a:cubicBezTo>
                  <a:pt x="711" y="1093"/>
                  <a:pt x="745" y="1077"/>
                  <a:pt x="784" y="1072"/>
                </a:cubicBezTo>
                <a:cubicBezTo>
                  <a:pt x="831" y="1065"/>
                  <a:pt x="878" y="1066"/>
                  <a:pt x="924" y="1052"/>
                </a:cubicBezTo>
                <a:cubicBezTo>
                  <a:pt x="964" y="1040"/>
                  <a:pt x="999" y="1017"/>
                  <a:pt x="1038" y="1005"/>
                </a:cubicBezTo>
                <a:cubicBezTo>
                  <a:pt x="1081" y="962"/>
                  <a:pt x="1120" y="911"/>
                  <a:pt x="1159" y="864"/>
                </a:cubicBezTo>
                <a:cubicBezTo>
                  <a:pt x="1174" y="846"/>
                  <a:pt x="1176" y="827"/>
                  <a:pt x="1192" y="810"/>
                </a:cubicBezTo>
                <a:cubicBezTo>
                  <a:pt x="1215" y="745"/>
                  <a:pt x="1241" y="683"/>
                  <a:pt x="1259" y="616"/>
                </a:cubicBezTo>
                <a:cubicBezTo>
                  <a:pt x="1268" y="583"/>
                  <a:pt x="1279" y="516"/>
                  <a:pt x="1279" y="516"/>
                </a:cubicBezTo>
                <a:cubicBezTo>
                  <a:pt x="1273" y="478"/>
                  <a:pt x="1271" y="423"/>
                  <a:pt x="1253" y="388"/>
                </a:cubicBezTo>
                <a:cubicBezTo>
                  <a:pt x="1250" y="382"/>
                  <a:pt x="1243" y="380"/>
                  <a:pt x="1239" y="375"/>
                </a:cubicBezTo>
                <a:cubicBezTo>
                  <a:pt x="1221" y="353"/>
                  <a:pt x="1204" y="330"/>
                  <a:pt x="1186" y="308"/>
                </a:cubicBezTo>
                <a:cubicBezTo>
                  <a:pt x="1174" y="294"/>
                  <a:pt x="1156" y="283"/>
                  <a:pt x="1145" y="268"/>
                </a:cubicBezTo>
                <a:cubicBezTo>
                  <a:pt x="1109" y="221"/>
                  <a:pt x="1079" y="159"/>
                  <a:pt x="1018" y="141"/>
                </a:cubicBezTo>
                <a:cubicBezTo>
                  <a:pt x="998" y="127"/>
                  <a:pt x="981" y="122"/>
                  <a:pt x="958" y="114"/>
                </a:cubicBezTo>
                <a:cubicBezTo>
                  <a:pt x="940" y="95"/>
                  <a:pt x="925" y="99"/>
                  <a:pt x="904" y="87"/>
                </a:cubicBezTo>
                <a:cubicBezTo>
                  <a:pt x="841" y="52"/>
                  <a:pt x="888" y="65"/>
                  <a:pt x="837" y="54"/>
                </a:cubicBezTo>
                <a:cubicBezTo>
                  <a:pt x="791" y="22"/>
                  <a:pt x="707" y="15"/>
                  <a:pt x="650" y="0"/>
                </a:cubicBezTo>
                <a:cubicBezTo>
                  <a:pt x="539" y="10"/>
                  <a:pt x="466" y="43"/>
                  <a:pt x="362" y="67"/>
                </a:cubicBezTo>
                <a:cubicBezTo>
                  <a:pt x="293" y="83"/>
                  <a:pt x="161" y="109"/>
                  <a:pt x="107" y="154"/>
                </a:cubicBezTo>
                <a:cubicBezTo>
                  <a:pt x="68" y="186"/>
                  <a:pt x="72" y="236"/>
                  <a:pt x="40" y="268"/>
                </a:cubicBezTo>
                <a:cubicBezTo>
                  <a:pt x="32" y="295"/>
                  <a:pt x="23" y="321"/>
                  <a:pt x="14" y="348"/>
                </a:cubicBezTo>
                <a:cubicBezTo>
                  <a:pt x="10" y="361"/>
                  <a:pt x="0" y="388"/>
                  <a:pt x="0" y="388"/>
                </a:cubicBezTo>
                <a:cubicBezTo>
                  <a:pt x="5" y="489"/>
                  <a:pt x="7" y="517"/>
                  <a:pt x="27" y="596"/>
                </a:cubicBezTo>
                <a:cubicBezTo>
                  <a:pt x="34" y="622"/>
                  <a:pt x="36" y="675"/>
                  <a:pt x="54" y="697"/>
                </a:cubicBezTo>
                <a:cubicBezTo>
                  <a:pt x="59" y="703"/>
                  <a:pt x="66" y="710"/>
                  <a:pt x="74" y="710"/>
                </a:cubicBezTo>
                <a:cubicBezTo>
                  <a:pt x="79" y="710"/>
                  <a:pt x="69" y="701"/>
                  <a:pt x="67" y="697"/>
                </a:cubicBezTo>
                <a:close/>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95" name=""/>
          <p:cNvSpPr/>
          <p:nvPr/>
        </p:nvSpPr>
        <p:spPr>
          <a:xfrm>
            <a:off x="0" y="1143000"/>
            <a:ext cx="7765920" cy="68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tended size and location of treated volume</a:t>
            </a:r>
            <a:endParaRPr b="0" lang="en-US" sz="2800" spc="-1" strike="noStrike">
              <a:solidFill>
                <a:srgbClr val="eaeaea"/>
              </a:solidFill>
              <a:latin typeface="Times New Roman"/>
            </a:endParaRPr>
          </a:p>
        </p:txBody>
      </p:sp>
      <p:sp>
        <p:nvSpPr>
          <p:cNvPr id="196"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ackground</a:t>
            </a:r>
            <a:endParaRPr b="0" lang="en-US" sz="36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5A942E22-1557-48E7-818F-299C3F4FB0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7" name=""/>
          <p:cNvSpPr/>
          <p:nvPr/>
        </p:nvSpPr>
        <p:spPr>
          <a:xfrm>
            <a:off x="0" y="1143000"/>
            <a:ext cx="9144000" cy="5715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98" name=""/>
          <p:cNvSpPr/>
          <p:nvPr/>
        </p:nvSpPr>
        <p:spPr>
          <a:xfrm>
            <a:off x="0" y="1143000"/>
            <a:ext cx="7765920" cy="68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Unintended</a:t>
            </a:r>
            <a:r>
              <a:rPr b="0" lang="en-US" sz="2800" spc="-1" strike="noStrike">
                <a:solidFill>
                  <a:srgbClr val="eaeaea"/>
                </a:solidFill>
                <a:latin typeface="Arial"/>
              </a:rPr>
              <a:t> size and location of treated volume</a:t>
            </a:r>
            <a:endParaRPr b="0" lang="en-US" sz="2800" spc="-1" strike="noStrike">
              <a:solidFill>
                <a:srgbClr val="eaeaea"/>
              </a:solidFill>
              <a:latin typeface="Times New Roman"/>
            </a:endParaRPr>
          </a:p>
        </p:txBody>
      </p:sp>
      <p:sp>
        <p:nvSpPr>
          <p:cNvPr id="199"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ackground</a:t>
            </a:r>
            <a:endParaRPr b="0" lang="en-US" sz="3600" spc="-1" strike="noStrike">
              <a:solidFill>
                <a:srgbClr val="eaeaea"/>
              </a:solidFill>
              <a:latin typeface="Times New Roman"/>
            </a:endParaRPr>
          </a:p>
        </p:txBody>
      </p:sp>
      <p:sp>
        <p:nvSpPr>
          <p:cNvPr id="200" name=""/>
          <p:cNvSpPr/>
          <p:nvPr/>
        </p:nvSpPr>
        <p:spPr>
          <a:xfrm>
            <a:off x="752400" y="1581120"/>
            <a:ext cx="7632720" cy="4943520"/>
          </a:xfrm>
          <a:custGeom>
            <a:avLst/>
            <a:gdLst/>
            <a:ahLst/>
            <a:rect l="l" t="t" r="r" b="b"/>
            <a:pathLst>
              <a:path w="4808" h="3114">
                <a:moveTo>
                  <a:pt x="84" y="2700"/>
                </a:moveTo>
                <a:cubicBezTo>
                  <a:pt x="75" y="2674"/>
                  <a:pt x="59" y="2653"/>
                  <a:pt x="48" y="2628"/>
                </a:cubicBezTo>
                <a:cubicBezTo>
                  <a:pt x="43" y="2616"/>
                  <a:pt x="40" y="2604"/>
                  <a:pt x="36" y="2592"/>
                </a:cubicBezTo>
                <a:cubicBezTo>
                  <a:pt x="34" y="2586"/>
                  <a:pt x="30" y="2574"/>
                  <a:pt x="30" y="2574"/>
                </a:cubicBezTo>
                <a:cubicBezTo>
                  <a:pt x="19" y="2426"/>
                  <a:pt x="15" y="2278"/>
                  <a:pt x="0" y="2130"/>
                </a:cubicBezTo>
                <a:cubicBezTo>
                  <a:pt x="2" y="2084"/>
                  <a:pt x="3" y="2038"/>
                  <a:pt x="6" y="1992"/>
                </a:cubicBezTo>
                <a:cubicBezTo>
                  <a:pt x="8" y="1957"/>
                  <a:pt x="34" y="1860"/>
                  <a:pt x="54" y="1830"/>
                </a:cubicBezTo>
                <a:cubicBezTo>
                  <a:pt x="62" y="1818"/>
                  <a:pt x="73" y="1808"/>
                  <a:pt x="78" y="1794"/>
                </a:cubicBezTo>
                <a:cubicBezTo>
                  <a:pt x="88" y="1765"/>
                  <a:pt x="97" y="1726"/>
                  <a:pt x="126" y="1716"/>
                </a:cubicBezTo>
                <a:cubicBezTo>
                  <a:pt x="135" y="1690"/>
                  <a:pt x="147" y="1670"/>
                  <a:pt x="156" y="1644"/>
                </a:cubicBezTo>
                <a:cubicBezTo>
                  <a:pt x="153" y="1582"/>
                  <a:pt x="152" y="1507"/>
                  <a:pt x="132" y="1446"/>
                </a:cubicBezTo>
                <a:cubicBezTo>
                  <a:pt x="126" y="1402"/>
                  <a:pt x="125" y="1357"/>
                  <a:pt x="114" y="1314"/>
                </a:cubicBezTo>
                <a:cubicBezTo>
                  <a:pt x="118" y="1203"/>
                  <a:pt x="114" y="1157"/>
                  <a:pt x="144" y="1068"/>
                </a:cubicBezTo>
                <a:cubicBezTo>
                  <a:pt x="155" y="1034"/>
                  <a:pt x="161" y="998"/>
                  <a:pt x="192" y="978"/>
                </a:cubicBezTo>
                <a:cubicBezTo>
                  <a:pt x="204" y="941"/>
                  <a:pt x="231" y="895"/>
                  <a:pt x="270" y="882"/>
                </a:cubicBezTo>
                <a:cubicBezTo>
                  <a:pt x="278" y="858"/>
                  <a:pt x="294" y="852"/>
                  <a:pt x="312" y="834"/>
                </a:cubicBezTo>
                <a:cubicBezTo>
                  <a:pt x="324" y="799"/>
                  <a:pt x="356" y="779"/>
                  <a:pt x="390" y="768"/>
                </a:cubicBezTo>
                <a:cubicBezTo>
                  <a:pt x="406" y="752"/>
                  <a:pt x="417" y="729"/>
                  <a:pt x="438" y="720"/>
                </a:cubicBezTo>
                <a:cubicBezTo>
                  <a:pt x="472" y="705"/>
                  <a:pt x="469" y="715"/>
                  <a:pt x="492" y="696"/>
                </a:cubicBezTo>
                <a:cubicBezTo>
                  <a:pt x="525" y="669"/>
                  <a:pt x="577" y="620"/>
                  <a:pt x="618" y="606"/>
                </a:cubicBezTo>
                <a:cubicBezTo>
                  <a:pt x="622" y="600"/>
                  <a:pt x="625" y="593"/>
                  <a:pt x="630" y="588"/>
                </a:cubicBezTo>
                <a:cubicBezTo>
                  <a:pt x="635" y="583"/>
                  <a:pt x="643" y="581"/>
                  <a:pt x="648" y="576"/>
                </a:cubicBezTo>
                <a:cubicBezTo>
                  <a:pt x="697" y="520"/>
                  <a:pt x="650" y="555"/>
                  <a:pt x="690" y="528"/>
                </a:cubicBezTo>
                <a:cubicBezTo>
                  <a:pt x="733" y="464"/>
                  <a:pt x="666" y="561"/>
                  <a:pt x="720" y="492"/>
                </a:cubicBezTo>
                <a:cubicBezTo>
                  <a:pt x="760" y="441"/>
                  <a:pt x="766" y="418"/>
                  <a:pt x="828" y="390"/>
                </a:cubicBezTo>
                <a:cubicBezTo>
                  <a:pt x="903" y="357"/>
                  <a:pt x="825" y="404"/>
                  <a:pt x="900" y="354"/>
                </a:cubicBezTo>
                <a:cubicBezTo>
                  <a:pt x="906" y="350"/>
                  <a:pt x="918" y="342"/>
                  <a:pt x="918" y="342"/>
                </a:cubicBezTo>
                <a:cubicBezTo>
                  <a:pt x="950" y="294"/>
                  <a:pt x="985" y="277"/>
                  <a:pt x="1032" y="246"/>
                </a:cubicBezTo>
                <a:cubicBezTo>
                  <a:pt x="1102" y="200"/>
                  <a:pt x="1168" y="153"/>
                  <a:pt x="1248" y="126"/>
                </a:cubicBezTo>
                <a:cubicBezTo>
                  <a:pt x="1284" y="114"/>
                  <a:pt x="1318" y="90"/>
                  <a:pt x="1356" y="84"/>
                </a:cubicBezTo>
                <a:cubicBezTo>
                  <a:pt x="1380" y="80"/>
                  <a:pt x="1428" y="72"/>
                  <a:pt x="1428" y="72"/>
                </a:cubicBezTo>
                <a:cubicBezTo>
                  <a:pt x="1561" y="82"/>
                  <a:pt x="1667" y="103"/>
                  <a:pt x="1800" y="108"/>
                </a:cubicBezTo>
                <a:cubicBezTo>
                  <a:pt x="1950" y="146"/>
                  <a:pt x="2094" y="171"/>
                  <a:pt x="2250" y="180"/>
                </a:cubicBezTo>
                <a:cubicBezTo>
                  <a:pt x="2378" y="198"/>
                  <a:pt x="2306" y="193"/>
                  <a:pt x="2466" y="186"/>
                </a:cubicBezTo>
                <a:cubicBezTo>
                  <a:pt x="2552" y="157"/>
                  <a:pt x="2642" y="136"/>
                  <a:pt x="2730" y="114"/>
                </a:cubicBezTo>
                <a:cubicBezTo>
                  <a:pt x="2780" y="101"/>
                  <a:pt x="2825" y="72"/>
                  <a:pt x="2874" y="60"/>
                </a:cubicBezTo>
                <a:cubicBezTo>
                  <a:pt x="2971" y="36"/>
                  <a:pt x="3062" y="13"/>
                  <a:pt x="3162" y="0"/>
                </a:cubicBezTo>
                <a:cubicBezTo>
                  <a:pt x="3248" y="2"/>
                  <a:pt x="3334" y="1"/>
                  <a:pt x="3420" y="6"/>
                </a:cubicBezTo>
                <a:cubicBezTo>
                  <a:pt x="3428" y="6"/>
                  <a:pt x="3461" y="21"/>
                  <a:pt x="3474" y="24"/>
                </a:cubicBezTo>
                <a:cubicBezTo>
                  <a:pt x="3522" y="36"/>
                  <a:pt x="3567" y="53"/>
                  <a:pt x="3612" y="72"/>
                </a:cubicBezTo>
                <a:cubicBezTo>
                  <a:pt x="3642" y="85"/>
                  <a:pt x="3677" y="92"/>
                  <a:pt x="3708" y="102"/>
                </a:cubicBezTo>
                <a:cubicBezTo>
                  <a:pt x="3730" y="109"/>
                  <a:pt x="3762" y="132"/>
                  <a:pt x="3780" y="144"/>
                </a:cubicBezTo>
                <a:cubicBezTo>
                  <a:pt x="3844" y="187"/>
                  <a:pt x="3913" y="227"/>
                  <a:pt x="3978" y="270"/>
                </a:cubicBezTo>
                <a:cubicBezTo>
                  <a:pt x="4047" y="316"/>
                  <a:pt x="4125" y="350"/>
                  <a:pt x="4194" y="396"/>
                </a:cubicBezTo>
                <a:cubicBezTo>
                  <a:pt x="4228" y="419"/>
                  <a:pt x="4264" y="461"/>
                  <a:pt x="4302" y="474"/>
                </a:cubicBezTo>
                <a:cubicBezTo>
                  <a:pt x="4324" y="481"/>
                  <a:pt x="4343" y="491"/>
                  <a:pt x="4362" y="504"/>
                </a:cubicBezTo>
                <a:cubicBezTo>
                  <a:pt x="4385" y="538"/>
                  <a:pt x="4429" y="571"/>
                  <a:pt x="4464" y="594"/>
                </a:cubicBezTo>
                <a:cubicBezTo>
                  <a:pt x="4492" y="636"/>
                  <a:pt x="4476" y="622"/>
                  <a:pt x="4506" y="642"/>
                </a:cubicBezTo>
                <a:cubicBezTo>
                  <a:pt x="4549" y="706"/>
                  <a:pt x="4482" y="609"/>
                  <a:pt x="4536" y="678"/>
                </a:cubicBezTo>
                <a:cubicBezTo>
                  <a:pt x="4561" y="711"/>
                  <a:pt x="4578" y="750"/>
                  <a:pt x="4596" y="786"/>
                </a:cubicBezTo>
                <a:cubicBezTo>
                  <a:pt x="4605" y="804"/>
                  <a:pt x="4618" y="821"/>
                  <a:pt x="4626" y="840"/>
                </a:cubicBezTo>
                <a:cubicBezTo>
                  <a:pt x="4631" y="852"/>
                  <a:pt x="4638" y="876"/>
                  <a:pt x="4638" y="876"/>
                </a:cubicBezTo>
                <a:cubicBezTo>
                  <a:pt x="4640" y="934"/>
                  <a:pt x="4639" y="992"/>
                  <a:pt x="4644" y="1050"/>
                </a:cubicBezTo>
                <a:cubicBezTo>
                  <a:pt x="4645" y="1066"/>
                  <a:pt x="4651" y="1082"/>
                  <a:pt x="4656" y="1098"/>
                </a:cubicBezTo>
                <a:cubicBezTo>
                  <a:pt x="4660" y="1110"/>
                  <a:pt x="4668" y="1134"/>
                  <a:pt x="4668" y="1134"/>
                </a:cubicBezTo>
                <a:cubicBezTo>
                  <a:pt x="4673" y="1209"/>
                  <a:pt x="4686" y="1277"/>
                  <a:pt x="4704" y="1350"/>
                </a:cubicBezTo>
                <a:cubicBezTo>
                  <a:pt x="4706" y="1392"/>
                  <a:pt x="4705" y="1434"/>
                  <a:pt x="4710" y="1476"/>
                </a:cubicBezTo>
                <a:cubicBezTo>
                  <a:pt x="4715" y="1524"/>
                  <a:pt x="4720" y="1499"/>
                  <a:pt x="4734" y="1530"/>
                </a:cubicBezTo>
                <a:cubicBezTo>
                  <a:pt x="4755" y="1577"/>
                  <a:pt x="4778" y="1626"/>
                  <a:pt x="4794" y="1674"/>
                </a:cubicBezTo>
                <a:cubicBezTo>
                  <a:pt x="4800" y="1791"/>
                  <a:pt x="4808" y="1887"/>
                  <a:pt x="4794" y="2010"/>
                </a:cubicBezTo>
                <a:cubicBezTo>
                  <a:pt x="4792" y="2024"/>
                  <a:pt x="4778" y="2034"/>
                  <a:pt x="4770" y="2046"/>
                </a:cubicBezTo>
                <a:cubicBezTo>
                  <a:pt x="4763" y="2057"/>
                  <a:pt x="4762" y="2070"/>
                  <a:pt x="4758" y="2082"/>
                </a:cubicBezTo>
                <a:cubicBezTo>
                  <a:pt x="4732" y="2160"/>
                  <a:pt x="4702" y="2235"/>
                  <a:pt x="4686" y="2316"/>
                </a:cubicBezTo>
                <a:cubicBezTo>
                  <a:pt x="4679" y="2416"/>
                  <a:pt x="4664" y="2465"/>
                  <a:pt x="4626" y="2550"/>
                </a:cubicBezTo>
                <a:cubicBezTo>
                  <a:pt x="4618" y="2567"/>
                  <a:pt x="4621" y="2591"/>
                  <a:pt x="4608" y="2604"/>
                </a:cubicBezTo>
                <a:cubicBezTo>
                  <a:pt x="4586" y="2626"/>
                  <a:pt x="4573" y="2656"/>
                  <a:pt x="4548" y="2676"/>
                </a:cubicBezTo>
                <a:cubicBezTo>
                  <a:pt x="4537" y="2685"/>
                  <a:pt x="4522" y="2690"/>
                  <a:pt x="4512" y="2700"/>
                </a:cubicBezTo>
                <a:cubicBezTo>
                  <a:pt x="4481" y="2731"/>
                  <a:pt x="4458" y="2746"/>
                  <a:pt x="4422" y="2766"/>
                </a:cubicBezTo>
                <a:cubicBezTo>
                  <a:pt x="4411" y="2772"/>
                  <a:pt x="4387" y="2795"/>
                  <a:pt x="4368" y="2796"/>
                </a:cubicBezTo>
                <a:cubicBezTo>
                  <a:pt x="4314" y="2800"/>
                  <a:pt x="4260" y="2800"/>
                  <a:pt x="4206" y="2802"/>
                </a:cubicBezTo>
                <a:cubicBezTo>
                  <a:pt x="4171" y="2808"/>
                  <a:pt x="4140" y="2812"/>
                  <a:pt x="4110" y="2832"/>
                </a:cubicBezTo>
                <a:cubicBezTo>
                  <a:pt x="4096" y="2853"/>
                  <a:pt x="4086" y="2866"/>
                  <a:pt x="4062" y="2874"/>
                </a:cubicBezTo>
                <a:cubicBezTo>
                  <a:pt x="4013" y="2947"/>
                  <a:pt x="3911" y="3000"/>
                  <a:pt x="3828" y="3018"/>
                </a:cubicBezTo>
                <a:cubicBezTo>
                  <a:pt x="3801" y="3024"/>
                  <a:pt x="3779" y="3047"/>
                  <a:pt x="3750" y="3048"/>
                </a:cubicBezTo>
                <a:cubicBezTo>
                  <a:pt x="3676" y="3052"/>
                  <a:pt x="3602" y="3053"/>
                  <a:pt x="3528" y="3054"/>
                </a:cubicBezTo>
                <a:cubicBezTo>
                  <a:pt x="3388" y="3057"/>
                  <a:pt x="3248" y="3058"/>
                  <a:pt x="3108" y="3060"/>
                </a:cubicBezTo>
                <a:cubicBezTo>
                  <a:pt x="2820" y="3079"/>
                  <a:pt x="2984" y="3071"/>
                  <a:pt x="2616" y="3078"/>
                </a:cubicBezTo>
                <a:cubicBezTo>
                  <a:pt x="2372" y="3067"/>
                  <a:pt x="2129" y="3079"/>
                  <a:pt x="1884" y="3084"/>
                </a:cubicBezTo>
                <a:cubicBezTo>
                  <a:pt x="1793" y="3114"/>
                  <a:pt x="1692" y="3088"/>
                  <a:pt x="1596" y="3102"/>
                </a:cubicBezTo>
                <a:cubicBezTo>
                  <a:pt x="1402" y="3098"/>
                  <a:pt x="1314" y="3089"/>
                  <a:pt x="1152" y="3078"/>
                </a:cubicBezTo>
                <a:cubicBezTo>
                  <a:pt x="1072" y="3051"/>
                  <a:pt x="961" y="3075"/>
                  <a:pt x="882" y="3078"/>
                </a:cubicBezTo>
                <a:cubicBezTo>
                  <a:pt x="767" y="3097"/>
                  <a:pt x="834" y="3089"/>
                  <a:pt x="678" y="3096"/>
                </a:cubicBezTo>
                <a:cubicBezTo>
                  <a:pt x="630" y="3090"/>
                  <a:pt x="567" y="3088"/>
                  <a:pt x="522" y="3066"/>
                </a:cubicBezTo>
                <a:cubicBezTo>
                  <a:pt x="485" y="3048"/>
                  <a:pt x="453" y="3019"/>
                  <a:pt x="414" y="3006"/>
                </a:cubicBezTo>
                <a:cubicBezTo>
                  <a:pt x="408" y="3000"/>
                  <a:pt x="403" y="2993"/>
                  <a:pt x="396" y="2988"/>
                </a:cubicBezTo>
                <a:cubicBezTo>
                  <a:pt x="385" y="2979"/>
                  <a:pt x="360" y="2964"/>
                  <a:pt x="360" y="2964"/>
                </a:cubicBezTo>
                <a:cubicBezTo>
                  <a:pt x="346" y="2942"/>
                  <a:pt x="333" y="2942"/>
                  <a:pt x="312" y="2928"/>
                </a:cubicBezTo>
                <a:cubicBezTo>
                  <a:pt x="296" y="2904"/>
                  <a:pt x="276" y="2878"/>
                  <a:pt x="252" y="2862"/>
                </a:cubicBezTo>
                <a:cubicBezTo>
                  <a:pt x="239" y="2842"/>
                  <a:pt x="203" y="2789"/>
                  <a:pt x="186" y="2778"/>
                </a:cubicBezTo>
                <a:cubicBezTo>
                  <a:pt x="170" y="2768"/>
                  <a:pt x="150" y="2766"/>
                  <a:pt x="132" y="2760"/>
                </a:cubicBezTo>
                <a:cubicBezTo>
                  <a:pt x="126" y="2758"/>
                  <a:pt x="114" y="2754"/>
                  <a:pt x="114" y="2754"/>
                </a:cubicBezTo>
                <a:cubicBezTo>
                  <a:pt x="108" y="2746"/>
                  <a:pt x="100" y="2739"/>
                  <a:pt x="96" y="2730"/>
                </a:cubicBezTo>
                <a:cubicBezTo>
                  <a:pt x="83" y="2705"/>
                  <a:pt x="84" y="2679"/>
                  <a:pt x="84" y="2700"/>
                </a:cubicBezTo>
                <a:close/>
              </a:path>
            </a:pathLst>
          </a:custGeom>
          <a:noFill/>
          <a:ln w="572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1" name=""/>
          <p:cNvSpPr/>
          <p:nvPr/>
        </p:nvSpPr>
        <p:spPr>
          <a:xfrm>
            <a:off x="3495600" y="3514680"/>
            <a:ext cx="1648080" cy="1333440"/>
          </a:xfrm>
          <a:custGeom>
            <a:avLst/>
            <a:gdLst/>
            <a:ahLst/>
            <a:rect l="l" t="t" r="r" b="b"/>
            <a:pathLst>
              <a:path w="1038" h="840">
                <a:moveTo>
                  <a:pt x="66" y="672"/>
                </a:moveTo>
                <a:cubicBezTo>
                  <a:pt x="52" y="629"/>
                  <a:pt x="65" y="643"/>
                  <a:pt x="36" y="624"/>
                </a:cubicBezTo>
                <a:cubicBezTo>
                  <a:pt x="29" y="602"/>
                  <a:pt x="19" y="586"/>
                  <a:pt x="12" y="564"/>
                </a:cubicBezTo>
                <a:cubicBezTo>
                  <a:pt x="8" y="552"/>
                  <a:pt x="0" y="528"/>
                  <a:pt x="0" y="528"/>
                </a:cubicBezTo>
                <a:cubicBezTo>
                  <a:pt x="2" y="456"/>
                  <a:pt x="1" y="233"/>
                  <a:pt x="72" y="162"/>
                </a:cubicBezTo>
                <a:cubicBezTo>
                  <a:pt x="84" y="125"/>
                  <a:pt x="112" y="99"/>
                  <a:pt x="144" y="78"/>
                </a:cubicBezTo>
                <a:cubicBezTo>
                  <a:pt x="170" y="39"/>
                  <a:pt x="205" y="32"/>
                  <a:pt x="246" y="18"/>
                </a:cubicBezTo>
                <a:cubicBezTo>
                  <a:pt x="258" y="14"/>
                  <a:pt x="270" y="10"/>
                  <a:pt x="282" y="6"/>
                </a:cubicBezTo>
                <a:cubicBezTo>
                  <a:pt x="288" y="4"/>
                  <a:pt x="300" y="0"/>
                  <a:pt x="300" y="0"/>
                </a:cubicBezTo>
                <a:cubicBezTo>
                  <a:pt x="468" y="5"/>
                  <a:pt x="558" y="10"/>
                  <a:pt x="708" y="60"/>
                </a:cubicBezTo>
                <a:cubicBezTo>
                  <a:pt x="733" y="68"/>
                  <a:pt x="756" y="85"/>
                  <a:pt x="780" y="96"/>
                </a:cubicBezTo>
                <a:cubicBezTo>
                  <a:pt x="802" y="106"/>
                  <a:pt x="829" y="112"/>
                  <a:pt x="852" y="120"/>
                </a:cubicBezTo>
                <a:cubicBezTo>
                  <a:pt x="884" y="131"/>
                  <a:pt x="865" y="122"/>
                  <a:pt x="906" y="150"/>
                </a:cubicBezTo>
                <a:cubicBezTo>
                  <a:pt x="912" y="154"/>
                  <a:pt x="924" y="162"/>
                  <a:pt x="924" y="162"/>
                </a:cubicBezTo>
                <a:cubicBezTo>
                  <a:pt x="952" y="204"/>
                  <a:pt x="936" y="190"/>
                  <a:pt x="966" y="210"/>
                </a:cubicBezTo>
                <a:cubicBezTo>
                  <a:pt x="986" y="269"/>
                  <a:pt x="1023" y="316"/>
                  <a:pt x="1038" y="378"/>
                </a:cubicBezTo>
                <a:cubicBezTo>
                  <a:pt x="1034" y="436"/>
                  <a:pt x="1025" y="473"/>
                  <a:pt x="1032" y="528"/>
                </a:cubicBezTo>
                <a:cubicBezTo>
                  <a:pt x="1026" y="564"/>
                  <a:pt x="1013" y="584"/>
                  <a:pt x="1002" y="618"/>
                </a:cubicBezTo>
                <a:cubicBezTo>
                  <a:pt x="997" y="634"/>
                  <a:pt x="993" y="660"/>
                  <a:pt x="978" y="672"/>
                </a:cubicBezTo>
                <a:cubicBezTo>
                  <a:pt x="929" y="711"/>
                  <a:pt x="993" y="639"/>
                  <a:pt x="942" y="690"/>
                </a:cubicBezTo>
                <a:cubicBezTo>
                  <a:pt x="925" y="707"/>
                  <a:pt x="912" y="728"/>
                  <a:pt x="894" y="744"/>
                </a:cubicBezTo>
                <a:cubicBezTo>
                  <a:pt x="889" y="748"/>
                  <a:pt x="882" y="747"/>
                  <a:pt x="876" y="750"/>
                </a:cubicBezTo>
                <a:cubicBezTo>
                  <a:pt x="863" y="757"/>
                  <a:pt x="852" y="766"/>
                  <a:pt x="840" y="774"/>
                </a:cubicBezTo>
                <a:cubicBezTo>
                  <a:pt x="755" y="831"/>
                  <a:pt x="712" y="832"/>
                  <a:pt x="606" y="840"/>
                </a:cubicBezTo>
                <a:cubicBezTo>
                  <a:pt x="527" y="836"/>
                  <a:pt x="467" y="828"/>
                  <a:pt x="390" y="834"/>
                </a:cubicBezTo>
                <a:cubicBezTo>
                  <a:pt x="319" y="826"/>
                  <a:pt x="243" y="815"/>
                  <a:pt x="180" y="780"/>
                </a:cubicBezTo>
                <a:cubicBezTo>
                  <a:pt x="161" y="769"/>
                  <a:pt x="144" y="756"/>
                  <a:pt x="126" y="744"/>
                </a:cubicBezTo>
                <a:cubicBezTo>
                  <a:pt x="114" y="736"/>
                  <a:pt x="90" y="720"/>
                  <a:pt x="90" y="720"/>
                </a:cubicBezTo>
                <a:cubicBezTo>
                  <a:pt x="72" y="693"/>
                  <a:pt x="81" y="709"/>
                  <a:pt x="66" y="672"/>
                </a:cubicBezTo>
                <a:close/>
              </a:path>
            </a:pathLst>
          </a:custGeom>
          <a:solidFill>
            <a:srgbClr val="ff0000">
              <a:alpha val="50000"/>
            </a:srgbClr>
          </a:solid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2" name=""/>
          <p:cNvSpPr/>
          <p:nvPr/>
        </p:nvSpPr>
        <p:spPr>
          <a:xfrm>
            <a:off x="5081760" y="2390760"/>
            <a:ext cx="2004840" cy="3343320"/>
          </a:xfrm>
          <a:custGeom>
            <a:avLst/>
            <a:gdLst/>
            <a:ahLst/>
            <a:rect l="l" t="t" r="r" b="b"/>
            <a:pathLst>
              <a:path w="1263" h="2106">
                <a:moveTo>
                  <a:pt x="123" y="1818"/>
                </a:moveTo>
                <a:cubicBezTo>
                  <a:pt x="163" y="1810"/>
                  <a:pt x="190" y="1794"/>
                  <a:pt x="225" y="1776"/>
                </a:cubicBezTo>
                <a:cubicBezTo>
                  <a:pt x="243" y="1767"/>
                  <a:pt x="279" y="1746"/>
                  <a:pt x="279" y="1746"/>
                </a:cubicBezTo>
                <a:cubicBezTo>
                  <a:pt x="292" y="1706"/>
                  <a:pt x="309" y="1674"/>
                  <a:pt x="333" y="1638"/>
                </a:cubicBezTo>
                <a:cubicBezTo>
                  <a:pt x="345" y="1619"/>
                  <a:pt x="331" y="1618"/>
                  <a:pt x="351" y="1602"/>
                </a:cubicBezTo>
                <a:cubicBezTo>
                  <a:pt x="356" y="1598"/>
                  <a:pt x="363" y="1599"/>
                  <a:pt x="369" y="1596"/>
                </a:cubicBezTo>
                <a:cubicBezTo>
                  <a:pt x="386" y="1588"/>
                  <a:pt x="392" y="1579"/>
                  <a:pt x="405" y="1566"/>
                </a:cubicBezTo>
                <a:cubicBezTo>
                  <a:pt x="424" y="1509"/>
                  <a:pt x="406" y="1518"/>
                  <a:pt x="459" y="1500"/>
                </a:cubicBezTo>
                <a:cubicBezTo>
                  <a:pt x="465" y="1498"/>
                  <a:pt x="472" y="1498"/>
                  <a:pt x="477" y="1494"/>
                </a:cubicBezTo>
                <a:cubicBezTo>
                  <a:pt x="486" y="1488"/>
                  <a:pt x="517" y="1467"/>
                  <a:pt x="531" y="1458"/>
                </a:cubicBezTo>
                <a:cubicBezTo>
                  <a:pt x="537" y="1454"/>
                  <a:pt x="549" y="1446"/>
                  <a:pt x="549" y="1446"/>
                </a:cubicBezTo>
                <a:cubicBezTo>
                  <a:pt x="553" y="1440"/>
                  <a:pt x="556" y="1433"/>
                  <a:pt x="561" y="1428"/>
                </a:cubicBezTo>
                <a:cubicBezTo>
                  <a:pt x="566" y="1423"/>
                  <a:pt x="578" y="1423"/>
                  <a:pt x="579" y="1416"/>
                </a:cubicBezTo>
                <a:cubicBezTo>
                  <a:pt x="587" y="1350"/>
                  <a:pt x="565" y="1301"/>
                  <a:pt x="513" y="1266"/>
                </a:cubicBezTo>
                <a:cubicBezTo>
                  <a:pt x="502" y="1233"/>
                  <a:pt x="493" y="1224"/>
                  <a:pt x="507" y="1188"/>
                </a:cubicBezTo>
                <a:cubicBezTo>
                  <a:pt x="512" y="1175"/>
                  <a:pt x="523" y="1164"/>
                  <a:pt x="531" y="1152"/>
                </a:cubicBezTo>
                <a:cubicBezTo>
                  <a:pt x="538" y="1141"/>
                  <a:pt x="567" y="1140"/>
                  <a:pt x="567" y="1140"/>
                </a:cubicBezTo>
                <a:cubicBezTo>
                  <a:pt x="594" y="1100"/>
                  <a:pt x="588" y="1098"/>
                  <a:pt x="621" y="1080"/>
                </a:cubicBezTo>
                <a:cubicBezTo>
                  <a:pt x="634" y="1073"/>
                  <a:pt x="657" y="1056"/>
                  <a:pt x="657" y="1056"/>
                </a:cubicBezTo>
                <a:cubicBezTo>
                  <a:pt x="661" y="1045"/>
                  <a:pt x="673" y="1026"/>
                  <a:pt x="645" y="1026"/>
                </a:cubicBezTo>
                <a:cubicBezTo>
                  <a:pt x="627" y="1026"/>
                  <a:pt x="542" y="1051"/>
                  <a:pt x="525" y="1062"/>
                </a:cubicBezTo>
                <a:cubicBezTo>
                  <a:pt x="513" y="1070"/>
                  <a:pt x="489" y="1086"/>
                  <a:pt x="489" y="1086"/>
                </a:cubicBezTo>
                <a:cubicBezTo>
                  <a:pt x="461" y="1127"/>
                  <a:pt x="479" y="1127"/>
                  <a:pt x="447" y="1116"/>
                </a:cubicBezTo>
                <a:cubicBezTo>
                  <a:pt x="431" y="1091"/>
                  <a:pt x="426" y="1066"/>
                  <a:pt x="417" y="1038"/>
                </a:cubicBezTo>
                <a:cubicBezTo>
                  <a:pt x="419" y="1012"/>
                  <a:pt x="419" y="986"/>
                  <a:pt x="423" y="960"/>
                </a:cubicBezTo>
                <a:cubicBezTo>
                  <a:pt x="429" y="922"/>
                  <a:pt x="451" y="884"/>
                  <a:pt x="459" y="846"/>
                </a:cubicBezTo>
                <a:cubicBezTo>
                  <a:pt x="471" y="791"/>
                  <a:pt x="473" y="733"/>
                  <a:pt x="477" y="678"/>
                </a:cubicBezTo>
                <a:cubicBezTo>
                  <a:pt x="475" y="616"/>
                  <a:pt x="475" y="554"/>
                  <a:pt x="471" y="492"/>
                </a:cubicBezTo>
                <a:cubicBezTo>
                  <a:pt x="470" y="470"/>
                  <a:pt x="447" y="457"/>
                  <a:pt x="441" y="438"/>
                </a:cubicBezTo>
                <a:cubicBezTo>
                  <a:pt x="419" y="372"/>
                  <a:pt x="355" y="285"/>
                  <a:pt x="297" y="246"/>
                </a:cubicBezTo>
                <a:cubicBezTo>
                  <a:pt x="235" y="205"/>
                  <a:pt x="169" y="173"/>
                  <a:pt x="99" y="150"/>
                </a:cubicBezTo>
                <a:cubicBezTo>
                  <a:pt x="87" y="146"/>
                  <a:pt x="75" y="141"/>
                  <a:pt x="63" y="138"/>
                </a:cubicBezTo>
                <a:cubicBezTo>
                  <a:pt x="47" y="134"/>
                  <a:pt x="15" y="126"/>
                  <a:pt x="15" y="126"/>
                </a:cubicBezTo>
                <a:cubicBezTo>
                  <a:pt x="0" y="82"/>
                  <a:pt x="34" y="84"/>
                  <a:pt x="69" y="72"/>
                </a:cubicBezTo>
                <a:cubicBezTo>
                  <a:pt x="148" y="46"/>
                  <a:pt x="201" y="25"/>
                  <a:pt x="285" y="18"/>
                </a:cubicBezTo>
                <a:cubicBezTo>
                  <a:pt x="309" y="12"/>
                  <a:pt x="332" y="5"/>
                  <a:pt x="357" y="0"/>
                </a:cubicBezTo>
                <a:cubicBezTo>
                  <a:pt x="410" y="4"/>
                  <a:pt x="454" y="13"/>
                  <a:pt x="507" y="18"/>
                </a:cubicBezTo>
                <a:cubicBezTo>
                  <a:pt x="559" y="35"/>
                  <a:pt x="611" y="49"/>
                  <a:pt x="663" y="66"/>
                </a:cubicBezTo>
                <a:cubicBezTo>
                  <a:pt x="677" y="71"/>
                  <a:pt x="685" y="87"/>
                  <a:pt x="699" y="90"/>
                </a:cubicBezTo>
                <a:cubicBezTo>
                  <a:pt x="723" y="96"/>
                  <a:pt x="739" y="100"/>
                  <a:pt x="759" y="114"/>
                </a:cubicBezTo>
                <a:cubicBezTo>
                  <a:pt x="793" y="166"/>
                  <a:pt x="748" y="105"/>
                  <a:pt x="789" y="138"/>
                </a:cubicBezTo>
                <a:cubicBezTo>
                  <a:pt x="795" y="143"/>
                  <a:pt x="796" y="151"/>
                  <a:pt x="801" y="156"/>
                </a:cubicBezTo>
                <a:cubicBezTo>
                  <a:pt x="806" y="161"/>
                  <a:pt x="813" y="164"/>
                  <a:pt x="819" y="168"/>
                </a:cubicBezTo>
                <a:cubicBezTo>
                  <a:pt x="838" y="197"/>
                  <a:pt x="874" y="203"/>
                  <a:pt x="903" y="222"/>
                </a:cubicBezTo>
                <a:cubicBezTo>
                  <a:pt x="914" y="256"/>
                  <a:pt x="936" y="261"/>
                  <a:pt x="957" y="288"/>
                </a:cubicBezTo>
                <a:cubicBezTo>
                  <a:pt x="988" y="328"/>
                  <a:pt x="1010" y="380"/>
                  <a:pt x="1053" y="408"/>
                </a:cubicBezTo>
                <a:cubicBezTo>
                  <a:pt x="1066" y="447"/>
                  <a:pt x="1096" y="482"/>
                  <a:pt x="1119" y="516"/>
                </a:cubicBezTo>
                <a:cubicBezTo>
                  <a:pt x="1141" y="549"/>
                  <a:pt x="1154" y="589"/>
                  <a:pt x="1173" y="624"/>
                </a:cubicBezTo>
                <a:cubicBezTo>
                  <a:pt x="1188" y="651"/>
                  <a:pt x="1206" y="668"/>
                  <a:pt x="1215" y="696"/>
                </a:cubicBezTo>
                <a:cubicBezTo>
                  <a:pt x="1221" y="757"/>
                  <a:pt x="1232" y="818"/>
                  <a:pt x="1251" y="876"/>
                </a:cubicBezTo>
                <a:cubicBezTo>
                  <a:pt x="1259" y="899"/>
                  <a:pt x="1263" y="948"/>
                  <a:pt x="1263" y="948"/>
                </a:cubicBezTo>
                <a:cubicBezTo>
                  <a:pt x="1254" y="1040"/>
                  <a:pt x="1261" y="1143"/>
                  <a:pt x="1239" y="1230"/>
                </a:cubicBezTo>
                <a:cubicBezTo>
                  <a:pt x="1230" y="1340"/>
                  <a:pt x="1187" y="1442"/>
                  <a:pt x="1143" y="1542"/>
                </a:cubicBezTo>
                <a:cubicBezTo>
                  <a:pt x="1124" y="1584"/>
                  <a:pt x="1120" y="1612"/>
                  <a:pt x="1095" y="1650"/>
                </a:cubicBezTo>
                <a:cubicBezTo>
                  <a:pt x="1072" y="1685"/>
                  <a:pt x="1058" y="1728"/>
                  <a:pt x="1023" y="1752"/>
                </a:cubicBezTo>
                <a:cubicBezTo>
                  <a:pt x="1016" y="1763"/>
                  <a:pt x="975" y="1834"/>
                  <a:pt x="963" y="1842"/>
                </a:cubicBezTo>
                <a:cubicBezTo>
                  <a:pt x="933" y="1862"/>
                  <a:pt x="894" y="1883"/>
                  <a:pt x="873" y="1914"/>
                </a:cubicBezTo>
                <a:cubicBezTo>
                  <a:pt x="865" y="1926"/>
                  <a:pt x="857" y="1938"/>
                  <a:pt x="849" y="1950"/>
                </a:cubicBezTo>
                <a:cubicBezTo>
                  <a:pt x="845" y="1956"/>
                  <a:pt x="844" y="1966"/>
                  <a:pt x="837" y="1968"/>
                </a:cubicBezTo>
                <a:cubicBezTo>
                  <a:pt x="806" y="1978"/>
                  <a:pt x="776" y="1996"/>
                  <a:pt x="747" y="2010"/>
                </a:cubicBezTo>
                <a:cubicBezTo>
                  <a:pt x="705" y="2031"/>
                  <a:pt x="661" y="2056"/>
                  <a:pt x="621" y="2082"/>
                </a:cubicBezTo>
                <a:cubicBezTo>
                  <a:pt x="605" y="2093"/>
                  <a:pt x="567" y="2106"/>
                  <a:pt x="567" y="2106"/>
                </a:cubicBezTo>
                <a:cubicBezTo>
                  <a:pt x="515" y="2104"/>
                  <a:pt x="463" y="2105"/>
                  <a:pt x="411" y="2100"/>
                </a:cubicBezTo>
                <a:cubicBezTo>
                  <a:pt x="364" y="2096"/>
                  <a:pt x="341" y="2065"/>
                  <a:pt x="303" y="2052"/>
                </a:cubicBezTo>
                <a:cubicBezTo>
                  <a:pt x="267" y="2040"/>
                  <a:pt x="256" y="2032"/>
                  <a:pt x="225" y="2010"/>
                </a:cubicBezTo>
                <a:cubicBezTo>
                  <a:pt x="213" y="2002"/>
                  <a:pt x="201" y="1994"/>
                  <a:pt x="189" y="1986"/>
                </a:cubicBezTo>
                <a:cubicBezTo>
                  <a:pt x="183" y="1982"/>
                  <a:pt x="171" y="1974"/>
                  <a:pt x="171" y="1974"/>
                </a:cubicBezTo>
                <a:cubicBezTo>
                  <a:pt x="139" y="1926"/>
                  <a:pt x="181" y="1984"/>
                  <a:pt x="141" y="1944"/>
                </a:cubicBezTo>
                <a:cubicBezTo>
                  <a:pt x="106" y="1909"/>
                  <a:pt x="119" y="1861"/>
                  <a:pt x="123" y="1818"/>
                </a:cubicBezTo>
                <a:close/>
              </a:path>
            </a:pathLst>
          </a:custGeom>
          <a:solidFill>
            <a:srgbClr val="00ff00">
              <a:alpha val="50000"/>
            </a:srgbClr>
          </a:solidFill>
          <a:ln w="57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3" name=""/>
          <p:cNvSpPr/>
          <p:nvPr/>
        </p:nvSpPr>
        <p:spPr>
          <a:xfrm>
            <a:off x="2295360" y="2495520"/>
            <a:ext cx="2381400" cy="3267000"/>
          </a:xfrm>
          <a:custGeom>
            <a:avLst/>
            <a:gdLst/>
            <a:ahLst/>
            <a:rect l="l" t="t" r="r" b="b"/>
            <a:pathLst>
              <a:path w="1500" h="2058">
                <a:moveTo>
                  <a:pt x="1392" y="1518"/>
                </a:moveTo>
                <a:cubicBezTo>
                  <a:pt x="1369" y="1541"/>
                  <a:pt x="1367" y="1567"/>
                  <a:pt x="1344" y="1590"/>
                </a:cubicBezTo>
                <a:cubicBezTo>
                  <a:pt x="1333" y="1645"/>
                  <a:pt x="1306" y="1695"/>
                  <a:pt x="1284" y="1746"/>
                </a:cubicBezTo>
                <a:cubicBezTo>
                  <a:pt x="1269" y="1780"/>
                  <a:pt x="1262" y="1829"/>
                  <a:pt x="1224" y="1842"/>
                </a:cubicBezTo>
                <a:cubicBezTo>
                  <a:pt x="1154" y="1912"/>
                  <a:pt x="1074" y="1970"/>
                  <a:pt x="984" y="2010"/>
                </a:cubicBezTo>
                <a:cubicBezTo>
                  <a:pt x="956" y="2023"/>
                  <a:pt x="923" y="2036"/>
                  <a:pt x="894" y="2046"/>
                </a:cubicBezTo>
                <a:cubicBezTo>
                  <a:pt x="882" y="2050"/>
                  <a:pt x="858" y="2058"/>
                  <a:pt x="858" y="2058"/>
                </a:cubicBezTo>
                <a:cubicBezTo>
                  <a:pt x="804" y="2056"/>
                  <a:pt x="750" y="2057"/>
                  <a:pt x="696" y="2052"/>
                </a:cubicBezTo>
                <a:cubicBezTo>
                  <a:pt x="689" y="2051"/>
                  <a:pt x="685" y="2043"/>
                  <a:pt x="678" y="2040"/>
                </a:cubicBezTo>
                <a:cubicBezTo>
                  <a:pt x="652" y="2029"/>
                  <a:pt x="622" y="2028"/>
                  <a:pt x="594" y="2022"/>
                </a:cubicBezTo>
                <a:cubicBezTo>
                  <a:pt x="577" y="2019"/>
                  <a:pt x="555" y="2006"/>
                  <a:pt x="540" y="1998"/>
                </a:cubicBezTo>
                <a:cubicBezTo>
                  <a:pt x="527" y="1991"/>
                  <a:pt x="504" y="1974"/>
                  <a:pt x="504" y="1974"/>
                </a:cubicBezTo>
                <a:cubicBezTo>
                  <a:pt x="496" y="1962"/>
                  <a:pt x="488" y="1950"/>
                  <a:pt x="480" y="1938"/>
                </a:cubicBezTo>
                <a:cubicBezTo>
                  <a:pt x="476" y="1933"/>
                  <a:pt x="468" y="1935"/>
                  <a:pt x="462" y="1932"/>
                </a:cubicBezTo>
                <a:cubicBezTo>
                  <a:pt x="449" y="1925"/>
                  <a:pt x="436" y="1918"/>
                  <a:pt x="426" y="1908"/>
                </a:cubicBezTo>
                <a:cubicBezTo>
                  <a:pt x="409" y="1891"/>
                  <a:pt x="398" y="1874"/>
                  <a:pt x="378" y="1860"/>
                </a:cubicBezTo>
                <a:cubicBezTo>
                  <a:pt x="363" y="1838"/>
                  <a:pt x="340" y="1815"/>
                  <a:pt x="318" y="1800"/>
                </a:cubicBezTo>
                <a:cubicBezTo>
                  <a:pt x="309" y="1787"/>
                  <a:pt x="297" y="1777"/>
                  <a:pt x="288" y="1764"/>
                </a:cubicBezTo>
                <a:cubicBezTo>
                  <a:pt x="284" y="1759"/>
                  <a:pt x="286" y="1751"/>
                  <a:pt x="282" y="1746"/>
                </a:cubicBezTo>
                <a:cubicBezTo>
                  <a:pt x="270" y="1728"/>
                  <a:pt x="251" y="1710"/>
                  <a:pt x="234" y="1698"/>
                </a:cubicBezTo>
                <a:cubicBezTo>
                  <a:pt x="230" y="1692"/>
                  <a:pt x="227" y="1685"/>
                  <a:pt x="222" y="1680"/>
                </a:cubicBezTo>
                <a:cubicBezTo>
                  <a:pt x="217" y="1675"/>
                  <a:pt x="209" y="1674"/>
                  <a:pt x="204" y="1668"/>
                </a:cubicBezTo>
                <a:cubicBezTo>
                  <a:pt x="200" y="1663"/>
                  <a:pt x="202" y="1655"/>
                  <a:pt x="198" y="1650"/>
                </a:cubicBezTo>
                <a:cubicBezTo>
                  <a:pt x="193" y="1643"/>
                  <a:pt x="186" y="1638"/>
                  <a:pt x="180" y="1632"/>
                </a:cubicBezTo>
                <a:cubicBezTo>
                  <a:pt x="172" y="1608"/>
                  <a:pt x="159" y="1598"/>
                  <a:pt x="138" y="1584"/>
                </a:cubicBezTo>
                <a:cubicBezTo>
                  <a:pt x="105" y="1535"/>
                  <a:pt x="105" y="1471"/>
                  <a:pt x="72" y="1422"/>
                </a:cubicBezTo>
                <a:cubicBezTo>
                  <a:pt x="52" y="1343"/>
                  <a:pt x="20" y="1267"/>
                  <a:pt x="0" y="1188"/>
                </a:cubicBezTo>
                <a:cubicBezTo>
                  <a:pt x="2" y="1064"/>
                  <a:pt x="2" y="940"/>
                  <a:pt x="6" y="816"/>
                </a:cubicBezTo>
                <a:cubicBezTo>
                  <a:pt x="9" y="708"/>
                  <a:pt x="91" y="533"/>
                  <a:pt x="144" y="438"/>
                </a:cubicBezTo>
                <a:cubicBezTo>
                  <a:pt x="167" y="397"/>
                  <a:pt x="195" y="345"/>
                  <a:pt x="228" y="312"/>
                </a:cubicBezTo>
                <a:cubicBezTo>
                  <a:pt x="256" y="284"/>
                  <a:pt x="289" y="260"/>
                  <a:pt x="318" y="234"/>
                </a:cubicBezTo>
                <a:cubicBezTo>
                  <a:pt x="343" y="212"/>
                  <a:pt x="364" y="188"/>
                  <a:pt x="390" y="168"/>
                </a:cubicBezTo>
                <a:cubicBezTo>
                  <a:pt x="401" y="159"/>
                  <a:pt x="426" y="144"/>
                  <a:pt x="426" y="144"/>
                </a:cubicBezTo>
                <a:cubicBezTo>
                  <a:pt x="443" y="119"/>
                  <a:pt x="466" y="116"/>
                  <a:pt x="492" y="102"/>
                </a:cubicBezTo>
                <a:cubicBezTo>
                  <a:pt x="505" y="95"/>
                  <a:pt x="516" y="86"/>
                  <a:pt x="528" y="78"/>
                </a:cubicBezTo>
                <a:cubicBezTo>
                  <a:pt x="564" y="54"/>
                  <a:pt x="649" y="44"/>
                  <a:pt x="690" y="30"/>
                </a:cubicBezTo>
                <a:cubicBezTo>
                  <a:pt x="712" y="23"/>
                  <a:pt x="728" y="7"/>
                  <a:pt x="750" y="0"/>
                </a:cubicBezTo>
                <a:cubicBezTo>
                  <a:pt x="814" y="2"/>
                  <a:pt x="878" y="2"/>
                  <a:pt x="942" y="6"/>
                </a:cubicBezTo>
                <a:cubicBezTo>
                  <a:pt x="1008" y="10"/>
                  <a:pt x="1073" y="47"/>
                  <a:pt x="1140" y="54"/>
                </a:cubicBezTo>
                <a:cubicBezTo>
                  <a:pt x="1196" y="73"/>
                  <a:pt x="1264" y="50"/>
                  <a:pt x="1320" y="36"/>
                </a:cubicBezTo>
                <a:cubicBezTo>
                  <a:pt x="1370" y="40"/>
                  <a:pt x="1442" y="6"/>
                  <a:pt x="1470" y="48"/>
                </a:cubicBezTo>
                <a:cubicBezTo>
                  <a:pt x="1489" y="77"/>
                  <a:pt x="1480" y="59"/>
                  <a:pt x="1494" y="102"/>
                </a:cubicBezTo>
                <a:cubicBezTo>
                  <a:pt x="1496" y="108"/>
                  <a:pt x="1500" y="120"/>
                  <a:pt x="1500" y="120"/>
                </a:cubicBezTo>
                <a:cubicBezTo>
                  <a:pt x="1494" y="137"/>
                  <a:pt x="1494" y="157"/>
                  <a:pt x="1488" y="174"/>
                </a:cubicBezTo>
                <a:lnTo>
                  <a:pt x="1464" y="228"/>
                </a:lnTo>
                <a:cubicBezTo>
                  <a:pt x="1464" y="228"/>
                  <a:pt x="1464" y="228"/>
                  <a:pt x="1464" y="228"/>
                </a:cubicBezTo>
                <a:cubicBezTo>
                  <a:pt x="1462" y="236"/>
                  <a:pt x="1462" y="245"/>
                  <a:pt x="1458" y="252"/>
                </a:cubicBezTo>
                <a:cubicBezTo>
                  <a:pt x="1444" y="276"/>
                  <a:pt x="1413" y="296"/>
                  <a:pt x="1404" y="324"/>
                </a:cubicBezTo>
                <a:cubicBezTo>
                  <a:pt x="1395" y="351"/>
                  <a:pt x="1382" y="376"/>
                  <a:pt x="1362" y="396"/>
                </a:cubicBezTo>
                <a:cubicBezTo>
                  <a:pt x="1352" y="425"/>
                  <a:pt x="1339" y="445"/>
                  <a:pt x="1314" y="462"/>
                </a:cubicBezTo>
                <a:cubicBezTo>
                  <a:pt x="1306" y="485"/>
                  <a:pt x="1296" y="510"/>
                  <a:pt x="1290" y="534"/>
                </a:cubicBezTo>
                <a:cubicBezTo>
                  <a:pt x="1290" y="534"/>
                  <a:pt x="1281" y="573"/>
                  <a:pt x="1278" y="576"/>
                </a:cubicBezTo>
                <a:cubicBezTo>
                  <a:pt x="1274" y="580"/>
                  <a:pt x="1266" y="580"/>
                  <a:pt x="1260" y="582"/>
                </a:cubicBezTo>
                <a:cubicBezTo>
                  <a:pt x="1258" y="588"/>
                  <a:pt x="1258" y="596"/>
                  <a:pt x="1254" y="600"/>
                </a:cubicBezTo>
                <a:cubicBezTo>
                  <a:pt x="1244" y="610"/>
                  <a:pt x="1218" y="624"/>
                  <a:pt x="1218" y="624"/>
                </a:cubicBezTo>
                <a:cubicBezTo>
                  <a:pt x="1160" y="619"/>
                  <a:pt x="1148" y="622"/>
                  <a:pt x="1104" y="600"/>
                </a:cubicBezTo>
                <a:cubicBezTo>
                  <a:pt x="1054" y="617"/>
                  <a:pt x="1134" y="591"/>
                  <a:pt x="1044" y="612"/>
                </a:cubicBezTo>
                <a:cubicBezTo>
                  <a:pt x="1014" y="619"/>
                  <a:pt x="997" y="629"/>
                  <a:pt x="972" y="642"/>
                </a:cubicBezTo>
                <a:cubicBezTo>
                  <a:pt x="949" y="653"/>
                  <a:pt x="918" y="658"/>
                  <a:pt x="894" y="666"/>
                </a:cubicBezTo>
                <a:cubicBezTo>
                  <a:pt x="873" y="673"/>
                  <a:pt x="858" y="690"/>
                  <a:pt x="840" y="702"/>
                </a:cubicBezTo>
                <a:cubicBezTo>
                  <a:pt x="834" y="706"/>
                  <a:pt x="822" y="714"/>
                  <a:pt x="822" y="714"/>
                </a:cubicBezTo>
                <a:cubicBezTo>
                  <a:pt x="794" y="755"/>
                  <a:pt x="772" y="798"/>
                  <a:pt x="744" y="840"/>
                </a:cubicBezTo>
                <a:cubicBezTo>
                  <a:pt x="737" y="851"/>
                  <a:pt x="736" y="864"/>
                  <a:pt x="732" y="876"/>
                </a:cubicBezTo>
                <a:cubicBezTo>
                  <a:pt x="730" y="882"/>
                  <a:pt x="726" y="894"/>
                  <a:pt x="726" y="894"/>
                </a:cubicBezTo>
                <a:cubicBezTo>
                  <a:pt x="720" y="949"/>
                  <a:pt x="714" y="964"/>
                  <a:pt x="720" y="1020"/>
                </a:cubicBezTo>
                <a:cubicBezTo>
                  <a:pt x="722" y="1086"/>
                  <a:pt x="722" y="1152"/>
                  <a:pt x="726" y="1218"/>
                </a:cubicBezTo>
                <a:cubicBezTo>
                  <a:pt x="727" y="1243"/>
                  <a:pt x="757" y="1284"/>
                  <a:pt x="768" y="1308"/>
                </a:cubicBezTo>
                <a:cubicBezTo>
                  <a:pt x="768" y="1308"/>
                  <a:pt x="783" y="1353"/>
                  <a:pt x="786" y="1362"/>
                </a:cubicBezTo>
                <a:cubicBezTo>
                  <a:pt x="788" y="1368"/>
                  <a:pt x="786" y="1378"/>
                  <a:pt x="792" y="1380"/>
                </a:cubicBezTo>
                <a:cubicBezTo>
                  <a:pt x="817" y="1388"/>
                  <a:pt x="826" y="1400"/>
                  <a:pt x="846" y="1416"/>
                </a:cubicBezTo>
                <a:cubicBezTo>
                  <a:pt x="886" y="1447"/>
                  <a:pt x="924" y="1478"/>
                  <a:pt x="972" y="1494"/>
                </a:cubicBezTo>
                <a:cubicBezTo>
                  <a:pt x="1006" y="1505"/>
                  <a:pt x="1040" y="1513"/>
                  <a:pt x="1074" y="1524"/>
                </a:cubicBezTo>
                <a:cubicBezTo>
                  <a:pt x="1086" y="1528"/>
                  <a:pt x="1110" y="1536"/>
                  <a:pt x="1110" y="1536"/>
                </a:cubicBezTo>
                <a:cubicBezTo>
                  <a:pt x="1216" y="1532"/>
                  <a:pt x="1290" y="1524"/>
                  <a:pt x="1392" y="1518"/>
                </a:cubicBezTo>
                <a:close/>
              </a:path>
            </a:pathLst>
          </a:custGeom>
          <a:solidFill>
            <a:srgbClr val="00ff00">
              <a:alpha val="50000"/>
            </a:srgbClr>
          </a:solidFill>
          <a:ln w="57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4" name=""/>
          <p:cNvSpPr/>
          <p:nvPr/>
        </p:nvSpPr>
        <p:spPr>
          <a:xfrm>
            <a:off x="3581280" y="3581280"/>
            <a:ext cx="1384560" cy="1189080"/>
          </a:xfrm>
          <a:custGeom>
            <a:avLst/>
            <a:gdLst/>
            <a:ahLst/>
            <a:rect l="l" t="t" r="r" b="b"/>
            <a:pathLst>
              <a:path w="1279" h="1098">
                <a:moveTo>
                  <a:pt x="67" y="697"/>
                </a:moveTo>
                <a:cubicBezTo>
                  <a:pt x="79" y="732"/>
                  <a:pt x="90" y="770"/>
                  <a:pt x="121" y="790"/>
                </a:cubicBezTo>
                <a:cubicBezTo>
                  <a:pt x="138" y="816"/>
                  <a:pt x="157" y="837"/>
                  <a:pt x="174" y="864"/>
                </a:cubicBezTo>
                <a:cubicBezTo>
                  <a:pt x="201" y="906"/>
                  <a:pt x="157" y="862"/>
                  <a:pt x="194" y="904"/>
                </a:cubicBezTo>
                <a:cubicBezTo>
                  <a:pt x="272" y="994"/>
                  <a:pt x="196" y="904"/>
                  <a:pt x="248" y="951"/>
                </a:cubicBezTo>
                <a:cubicBezTo>
                  <a:pt x="260" y="961"/>
                  <a:pt x="266" y="981"/>
                  <a:pt x="281" y="985"/>
                </a:cubicBezTo>
                <a:cubicBezTo>
                  <a:pt x="317" y="995"/>
                  <a:pt x="346" y="1017"/>
                  <a:pt x="382" y="1025"/>
                </a:cubicBezTo>
                <a:cubicBezTo>
                  <a:pt x="478" y="1046"/>
                  <a:pt x="573" y="1081"/>
                  <a:pt x="670" y="1098"/>
                </a:cubicBezTo>
                <a:cubicBezTo>
                  <a:pt x="711" y="1093"/>
                  <a:pt x="745" y="1077"/>
                  <a:pt x="784" y="1072"/>
                </a:cubicBezTo>
                <a:cubicBezTo>
                  <a:pt x="831" y="1065"/>
                  <a:pt x="878" y="1066"/>
                  <a:pt x="924" y="1052"/>
                </a:cubicBezTo>
                <a:cubicBezTo>
                  <a:pt x="964" y="1040"/>
                  <a:pt x="999" y="1017"/>
                  <a:pt x="1038" y="1005"/>
                </a:cubicBezTo>
                <a:cubicBezTo>
                  <a:pt x="1081" y="962"/>
                  <a:pt x="1120" y="911"/>
                  <a:pt x="1159" y="864"/>
                </a:cubicBezTo>
                <a:cubicBezTo>
                  <a:pt x="1174" y="846"/>
                  <a:pt x="1176" y="827"/>
                  <a:pt x="1192" y="810"/>
                </a:cubicBezTo>
                <a:cubicBezTo>
                  <a:pt x="1215" y="745"/>
                  <a:pt x="1241" y="683"/>
                  <a:pt x="1259" y="616"/>
                </a:cubicBezTo>
                <a:cubicBezTo>
                  <a:pt x="1268" y="583"/>
                  <a:pt x="1279" y="516"/>
                  <a:pt x="1279" y="516"/>
                </a:cubicBezTo>
                <a:cubicBezTo>
                  <a:pt x="1273" y="478"/>
                  <a:pt x="1271" y="423"/>
                  <a:pt x="1253" y="388"/>
                </a:cubicBezTo>
                <a:cubicBezTo>
                  <a:pt x="1250" y="382"/>
                  <a:pt x="1243" y="380"/>
                  <a:pt x="1239" y="375"/>
                </a:cubicBezTo>
                <a:cubicBezTo>
                  <a:pt x="1221" y="353"/>
                  <a:pt x="1204" y="330"/>
                  <a:pt x="1186" y="308"/>
                </a:cubicBezTo>
                <a:cubicBezTo>
                  <a:pt x="1174" y="294"/>
                  <a:pt x="1156" y="283"/>
                  <a:pt x="1145" y="268"/>
                </a:cubicBezTo>
                <a:cubicBezTo>
                  <a:pt x="1109" y="221"/>
                  <a:pt x="1079" y="159"/>
                  <a:pt x="1018" y="141"/>
                </a:cubicBezTo>
                <a:cubicBezTo>
                  <a:pt x="998" y="127"/>
                  <a:pt x="981" y="122"/>
                  <a:pt x="958" y="114"/>
                </a:cubicBezTo>
                <a:cubicBezTo>
                  <a:pt x="940" y="95"/>
                  <a:pt x="925" y="99"/>
                  <a:pt x="904" y="87"/>
                </a:cubicBezTo>
                <a:cubicBezTo>
                  <a:pt x="841" y="52"/>
                  <a:pt x="888" y="65"/>
                  <a:pt x="837" y="54"/>
                </a:cubicBezTo>
                <a:cubicBezTo>
                  <a:pt x="791" y="22"/>
                  <a:pt x="707" y="15"/>
                  <a:pt x="650" y="0"/>
                </a:cubicBezTo>
                <a:cubicBezTo>
                  <a:pt x="539" y="10"/>
                  <a:pt x="466" y="43"/>
                  <a:pt x="362" y="67"/>
                </a:cubicBezTo>
                <a:cubicBezTo>
                  <a:pt x="293" y="83"/>
                  <a:pt x="161" y="109"/>
                  <a:pt x="107" y="154"/>
                </a:cubicBezTo>
                <a:cubicBezTo>
                  <a:pt x="68" y="186"/>
                  <a:pt x="72" y="236"/>
                  <a:pt x="40" y="268"/>
                </a:cubicBezTo>
                <a:cubicBezTo>
                  <a:pt x="32" y="295"/>
                  <a:pt x="23" y="321"/>
                  <a:pt x="14" y="348"/>
                </a:cubicBezTo>
                <a:cubicBezTo>
                  <a:pt x="10" y="361"/>
                  <a:pt x="0" y="388"/>
                  <a:pt x="0" y="388"/>
                </a:cubicBezTo>
                <a:cubicBezTo>
                  <a:pt x="5" y="489"/>
                  <a:pt x="7" y="517"/>
                  <a:pt x="27" y="596"/>
                </a:cubicBezTo>
                <a:cubicBezTo>
                  <a:pt x="34" y="622"/>
                  <a:pt x="36" y="675"/>
                  <a:pt x="54" y="697"/>
                </a:cubicBezTo>
                <a:cubicBezTo>
                  <a:pt x="59" y="703"/>
                  <a:pt x="66" y="710"/>
                  <a:pt x="74" y="710"/>
                </a:cubicBezTo>
                <a:cubicBezTo>
                  <a:pt x="79" y="710"/>
                  <a:pt x="69" y="701"/>
                  <a:pt x="67" y="697"/>
                </a:cubicBezTo>
                <a:close/>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5" name=""/>
          <p:cNvSpPr/>
          <p:nvPr/>
        </p:nvSpPr>
        <p:spPr>
          <a:xfrm>
            <a:off x="5486400" y="3352680"/>
            <a:ext cx="2438280" cy="17398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a:rPr>
              <a:t>A mistake in the calculations of the treatment might shrink the treated volume unintentionally.</a:t>
            </a:r>
            <a:endParaRPr b="0" lang="en-US" sz="1800" spc="-1" strike="noStrike">
              <a:solidFill>
                <a:srgbClr val="eaeaea"/>
              </a:solidFill>
              <a:latin typeface="Times New Roman"/>
            </a:endParaRPr>
          </a:p>
        </p:txBody>
      </p:sp>
      <p:sp>
        <p:nvSpPr>
          <p:cNvPr id="206" name=""/>
          <p:cNvSpPr/>
          <p:nvPr/>
        </p:nvSpPr>
        <p:spPr>
          <a:xfrm>
            <a:off x="2438280" y="5943600"/>
            <a:ext cx="4496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7c80"/>
                </a:solidFill>
                <a:latin typeface="Arial"/>
              </a:rPr>
              <a:t>Insufficient TCP</a:t>
            </a:r>
            <a:endParaRPr b="0" lang="en-US" sz="18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561995A7-8F9E-46D0-B92C-67A6759A74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7" name=""/>
          <p:cNvSpPr/>
          <p:nvPr/>
        </p:nvSpPr>
        <p:spPr>
          <a:xfrm>
            <a:off x="0" y="1143000"/>
            <a:ext cx="9144000" cy="5715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8" name=""/>
          <p:cNvSpPr/>
          <p:nvPr/>
        </p:nvSpPr>
        <p:spPr>
          <a:xfrm>
            <a:off x="0" y="1143000"/>
            <a:ext cx="7765920" cy="68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Unintended</a:t>
            </a:r>
            <a:r>
              <a:rPr b="0" lang="en-US" sz="2800" spc="-1" strike="noStrike">
                <a:solidFill>
                  <a:srgbClr val="eaeaea"/>
                </a:solidFill>
                <a:latin typeface="Arial"/>
              </a:rPr>
              <a:t> size and location of treated volume</a:t>
            </a:r>
            <a:endParaRPr b="0" lang="en-US" sz="2800" spc="-1" strike="noStrike">
              <a:solidFill>
                <a:srgbClr val="eaeaea"/>
              </a:solidFill>
              <a:latin typeface="Times New Roman"/>
            </a:endParaRPr>
          </a:p>
        </p:txBody>
      </p:sp>
      <p:sp>
        <p:nvSpPr>
          <p:cNvPr id="209"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ackground</a:t>
            </a:r>
            <a:endParaRPr b="0" lang="en-US" sz="3600" spc="-1" strike="noStrike">
              <a:solidFill>
                <a:srgbClr val="eaeaea"/>
              </a:solidFill>
              <a:latin typeface="Times New Roman"/>
            </a:endParaRPr>
          </a:p>
        </p:txBody>
      </p:sp>
      <p:sp>
        <p:nvSpPr>
          <p:cNvPr id="210" name=""/>
          <p:cNvSpPr/>
          <p:nvPr/>
        </p:nvSpPr>
        <p:spPr>
          <a:xfrm>
            <a:off x="752400" y="1581120"/>
            <a:ext cx="7632720" cy="4943520"/>
          </a:xfrm>
          <a:custGeom>
            <a:avLst/>
            <a:gdLst/>
            <a:ahLst/>
            <a:rect l="l" t="t" r="r" b="b"/>
            <a:pathLst>
              <a:path w="4808" h="3114">
                <a:moveTo>
                  <a:pt x="84" y="2700"/>
                </a:moveTo>
                <a:cubicBezTo>
                  <a:pt x="75" y="2674"/>
                  <a:pt x="59" y="2653"/>
                  <a:pt x="48" y="2628"/>
                </a:cubicBezTo>
                <a:cubicBezTo>
                  <a:pt x="43" y="2616"/>
                  <a:pt x="40" y="2604"/>
                  <a:pt x="36" y="2592"/>
                </a:cubicBezTo>
                <a:cubicBezTo>
                  <a:pt x="34" y="2586"/>
                  <a:pt x="30" y="2574"/>
                  <a:pt x="30" y="2574"/>
                </a:cubicBezTo>
                <a:cubicBezTo>
                  <a:pt x="19" y="2426"/>
                  <a:pt x="15" y="2278"/>
                  <a:pt x="0" y="2130"/>
                </a:cubicBezTo>
                <a:cubicBezTo>
                  <a:pt x="2" y="2084"/>
                  <a:pt x="3" y="2038"/>
                  <a:pt x="6" y="1992"/>
                </a:cubicBezTo>
                <a:cubicBezTo>
                  <a:pt x="8" y="1957"/>
                  <a:pt x="34" y="1860"/>
                  <a:pt x="54" y="1830"/>
                </a:cubicBezTo>
                <a:cubicBezTo>
                  <a:pt x="62" y="1818"/>
                  <a:pt x="73" y="1808"/>
                  <a:pt x="78" y="1794"/>
                </a:cubicBezTo>
                <a:cubicBezTo>
                  <a:pt x="88" y="1765"/>
                  <a:pt x="97" y="1726"/>
                  <a:pt x="126" y="1716"/>
                </a:cubicBezTo>
                <a:cubicBezTo>
                  <a:pt x="135" y="1690"/>
                  <a:pt x="147" y="1670"/>
                  <a:pt x="156" y="1644"/>
                </a:cubicBezTo>
                <a:cubicBezTo>
                  <a:pt x="153" y="1582"/>
                  <a:pt x="152" y="1507"/>
                  <a:pt x="132" y="1446"/>
                </a:cubicBezTo>
                <a:cubicBezTo>
                  <a:pt x="126" y="1402"/>
                  <a:pt x="125" y="1357"/>
                  <a:pt x="114" y="1314"/>
                </a:cubicBezTo>
                <a:cubicBezTo>
                  <a:pt x="118" y="1203"/>
                  <a:pt x="114" y="1157"/>
                  <a:pt x="144" y="1068"/>
                </a:cubicBezTo>
                <a:cubicBezTo>
                  <a:pt x="155" y="1034"/>
                  <a:pt x="161" y="998"/>
                  <a:pt x="192" y="978"/>
                </a:cubicBezTo>
                <a:cubicBezTo>
                  <a:pt x="204" y="941"/>
                  <a:pt x="231" y="895"/>
                  <a:pt x="270" y="882"/>
                </a:cubicBezTo>
                <a:cubicBezTo>
                  <a:pt x="278" y="858"/>
                  <a:pt x="294" y="852"/>
                  <a:pt x="312" y="834"/>
                </a:cubicBezTo>
                <a:cubicBezTo>
                  <a:pt x="324" y="799"/>
                  <a:pt x="356" y="779"/>
                  <a:pt x="390" y="768"/>
                </a:cubicBezTo>
                <a:cubicBezTo>
                  <a:pt x="406" y="752"/>
                  <a:pt x="417" y="729"/>
                  <a:pt x="438" y="720"/>
                </a:cubicBezTo>
                <a:cubicBezTo>
                  <a:pt x="472" y="705"/>
                  <a:pt x="469" y="715"/>
                  <a:pt x="492" y="696"/>
                </a:cubicBezTo>
                <a:cubicBezTo>
                  <a:pt x="525" y="669"/>
                  <a:pt x="577" y="620"/>
                  <a:pt x="618" y="606"/>
                </a:cubicBezTo>
                <a:cubicBezTo>
                  <a:pt x="622" y="600"/>
                  <a:pt x="625" y="593"/>
                  <a:pt x="630" y="588"/>
                </a:cubicBezTo>
                <a:cubicBezTo>
                  <a:pt x="635" y="583"/>
                  <a:pt x="643" y="581"/>
                  <a:pt x="648" y="576"/>
                </a:cubicBezTo>
                <a:cubicBezTo>
                  <a:pt x="697" y="520"/>
                  <a:pt x="650" y="555"/>
                  <a:pt x="690" y="528"/>
                </a:cubicBezTo>
                <a:cubicBezTo>
                  <a:pt x="733" y="464"/>
                  <a:pt x="666" y="561"/>
                  <a:pt x="720" y="492"/>
                </a:cubicBezTo>
                <a:cubicBezTo>
                  <a:pt x="760" y="441"/>
                  <a:pt x="766" y="418"/>
                  <a:pt x="828" y="390"/>
                </a:cubicBezTo>
                <a:cubicBezTo>
                  <a:pt x="903" y="357"/>
                  <a:pt x="825" y="404"/>
                  <a:pt x="900" y="354"/>
                </a:cubicBezTo>
                <a:cubicBezTo>
                  <a:pt x="906" y="350"/>
                  <a:pt x="918" y="342"/>
                  <a:pt x="918" y="342"/>
                </a:cubicBezTo>
                <a:cubicBezTo>
                  <a:pt x="950" y="294"/>
                  <a:pt x="985" y="277"/>
                  <a:pt x="1032" y="246"/>
                </a:cubicBezTo>
                <a:cubicBezTo>
                  <a:pt x="1102" y="200"/>
                  <a:pt x="1168" y="153"/>
                  <a:pt x="1248" y="126"/>
                </a:cubicBezTo>
                <a:cubicBezTo>
                  <a:pt x="1284" y="114"/>
                  <a:pt x="1318" y="90"/>
                  <a:pt x="1356" y="84"/>
                </a:cubicBezTo>
                <a:cubicBezTo>
                  <a:pt x="1380" y="80"/>
                  <a:pt x="1428" y="72"/>
                  <a:pt x="1428" y="72"/>
                </a:cubicBezTo>
                <a:cubicBezTo>
                  <a:pt x="1561" y="82"/>
                  <a:pt x="1667" y="103"/>
                  <a:pt x="1800" y="108"/>
                </a:cubicBezTo>
                <a:cubicBezTo>
                  <a:pt x="1950" y="146"/>
                  <a:pt x="2094" y="171"/>
                  <a:pt x="2250" y="180"/>
                </a:cubicBezTo>
                <a:cubicBezTo>
                  <a:pt x="2378" y="198"/>
                  <a:pt x="2306" y="193"/>
                  <a:pt x="2466" y="186"/>
                </a:cubicBezTo>
                <a:cubicBezTo>
                  <a:pt x="2552" y="157"/>
                  <a:pt x="2642" y="136"/>
                  <a:pt x="2730" y="114"/>
                </a:cubicBezTo>
                <a:cubicBezTo>
                  <a:pt x="2780" y="101"/>
                  <a:pt x="2825" y="72"/>
                  <a:pt x="2874" y="60"/>
                </a:cubicBezTo>
                <a:cubicBezTo>
                  <a:pt x="2971" y="36"/>
                  <a:pt x="3062" y="13"/>
                  <a:pt x="3162" y="0"/>
                </a:cubicBezTo>
                <a:cubicBezTo>
                  <a:pt x="3248" y="2"/>
                  <a:pt x="3334" y="1"/>
                  <a:pt x="3420" y="6"/>
                </a:cubicBezTo>
                <a:cubicBezTo>
                  <a:pt x="3428" y="6"/>
                  <a:pt x="3461" y="21"/>
                  <a:pt x="3474" y="24"/>
                </a:cubicBezTo>
                <a:cubicBezTo>
                  <a:pt x="3522" y="36"/>
                  <a:pt x="3567" y="53"/>
                  <a:pt x="3612" y="72"/>
                </a:cubicBezTo>
                <a:cubicBezTo>
                  <a:pt x="3642" y="85"/>
                  <a:pt x="3677" y="92"/>
                  <a:pt x="3708" y="102"/>
                </a:cubicBezTo>
                <a:cubicBezTo>
                  <a:pt x="3730" y="109"/>
                  <a:pt x="3762" y="132"/>
                  <a:pt x="3780" y="144"/>
                </a:cubicBezTo>
                <a:cubicBezTo>
                  <a:pt x="3844" y="187"/>
                  <a:pt x="3913" y="227"/>
                  <a:pt x="3978" y="270"/>
                </a:cubicBezTo>
                <a:cubicBezTo>
                  <a:pt x="4047" y="316"/>
                  <a:pt x="4125" y="350"/>
                  <a:pt x="4194" y="396"/>
                </a:cubicBezTo>
                <a:cubicBezTo>
                  <a:pt x="4228" y="419"/>
                  <a:pt x="4264" y="461"/>
                  <a:pt x="4302" y="474"/>
                </a:cubicBezTo>
                <a:cubicBezTo>
                  <a:pt x="4324" y="481"/>
                  <a:pt x="4343" y="491"/>
                  <a:pt x="4362" y="504"/>
                </a:cubicBezTo>
                <a:cubicBezTo>
                  <a:pt x="4385" y="538"/>
                  <a:pt x="4429" y="571"/>
                  <a:pt x="4464" y="594"/>
                </a:cubicBezTo>
                <a:cubicBezTo>
                  <a:pt x="4492" y="636"/>
                  <a:pt x="4476" y="622"/>
                  <a:pt x="4506" y="642"/>
                </a:cubicBezTo>
                <a:cubicBezTo>
                  <a:pt x="4549" y="706"/>
                  <a:pt x="4482" y="609"/>
                  <a:pt x="4536" y="678"/>
                </a:cubicBezTo>
                <a:cubicBezTo>
                  <a:pt x="4561" y="711"/>
                  <a:pt x="4578" y="750"/>
                  <a:pt x="4596" y="786"/>
                </a:cubicBezTo>
                <a:cubicBezTo>
                  <a:pt x="4605" y="804"/>
                  <a:pt x="4618" y="821"/>
                  <a:pt x="4626" y="840"/>
                </a:cubicBezTo>
                <a:cubicBezTo>
                  <a:pt x="4631" y="852"/>
                  <a:pt x="4638" y="876"/>
                  <a:pt x="4638" y="876"/>
                </a:cubicBezTo>
                <a:cubicBezTo>
                  <a:pt x="4640" y="934"/>
                  <a:pt x="4639" y="992"/>
                  <a:pt x="4644" y="1050"/>
                </a:cubicBezTo>
                <a:cubicBezTo>
                  <a:pt x="4645" y="1066"/>
                  <a:pt x="4651" y="1082"/>
                  <a:pt x="4656" y="1098"/>
                </a:cubicBezTo>
                <a:cubicBezTo>
                  <a:pt x="4660" y="1110"/>
                  <a:pt x="4668" y="1134"/>
                  <a:pt x="4668" y="1134"/>
                </a:cubicBezTo>
                <a:cubicBezTo>
                  <a:pt x="4673" y="1209"/>
                  <a:pt x="4686" y="1277"/>
                  <a:pt x="4704" y="1350"/>
                </a:cubicBezTo>
                <a:cubicBezTo>
                  <a:pt x="4706" y="1392"/>
                  <a:pt x="4705" y="1434"/>
                  <a:pt x="4710" y="1476"/>
                </a:cubicBezTo>
                <a:cubicBezTo>
                  <a:pt x="4715" y="1524"/>
                  <a:pt x="4720" y="1499"/>
                  <a:pt x="4734" y="1530"/>
                </a:cubicBezTo>
                <a:cubicBezTo>
                  <a:pt x="4755" y="1577"/>
                  <a:pt x="4778" y="1626"/>
                  <a:pt x="4794" y="1674"/>
                </a:cubicBezTo>
                <a:cubicBezTo>
                  <a:pt x="4800" y="1791"/>
                  <a:pt x="4808" y="1887"/>
                  <a:pt x="4794" y="2010"/>
                </a:cubicBezTo>
                <a:cubicBezTo>
                  <a:pt x="4792" y="2024"/>
                  <a:pt x="4778" y="2034"/>
                  <a:pt x="4770" y="2046"/>
                </a:cubicBezTo>
                <a:cubicBezTo>
                  <a:pt x="4763" y="2057"/>
                  <a:pt x="4762" y="2070"/>
                  <a:pt x="4758" y="2082"/>
                </a:cubicBezTo>
                <a:cubicBezTo>
                  <a:pt x="4732" y="2160"/>
                  <a:pt x="4702" y="2235"/>
                  <a:pt x="4686" y="2316"/>
                </a:cubicBezTo>
                <a:cubicBezTo>
                  <a:pt x="4679" y="2416"/>
                  <a:pt x="4664" y="2465"/>
                  <a:pt x="4626" y="2550"/>
                </a:cubicBezTo>
                <a:cubicBezTo>
                  <a:pt x="4618" y="2567"/>
                  <a:pt x="4621" y="2591"/>
                  <a:pt x="4608" y="2604"/>
                </a:cubicBezTo>
                <a:cubicBezTo>
                  <a:pt x="4586" y="2626"/>
                  <a:pt x="4573" y="2656"/>
                  <a:pt x="4548" y="2676"/>
                </a:cubicBezTo>
                <a:cubicBezTo>
                  <a:pt x="4537" y="2685"/>
                  <a:pt x="4522" y="2690"/>
                  <a:pt x="4512" y="2700"/>
                </a:cubicBezTo>
                <a:cubicBezTo>
                  <a:pt x="4481" y="2731"/>
                  <a:pt x="4458" y="2746"/>
                  <a:pt x="4422" y="2766"/>
                </a:cubicBezTo>
                <a:cubicBezTo>
                  <a:pt x="4411" y="2772"/>
                  <a:pt x="4387" y="2795"/>
                  <a:pt x="4368" y="2796"/>
                </a:cubicBezTo>
                <a:cubicBezTo>
                  <a:pt x="4314" y="2800"/>
                  <a:pt x="4260" y="2800"/>
                  <a:pt x="4206" y="2802"/>
                </a:cubicBezTo>
                <a:cubicBezTo>
                  <a:pt x="4171" y="2808"/>
                  <a:pt x="4140" y="2812"/>
                  <a:pt x="4110" y="2832"/>
                </a:cubicBezTo>
                <a:cubicBezTo>
                  <a:pt x="4096" y="2853"/>
                  <a:pt x="4086" y="2866"/>
                  <a:pt x="4062" y="2874"/>
                </a:cubicBezTo>
                <a:cubicBezTo>
                  <a:pt x="4013" y="2947"/>
                  <a:pt x="3911" y="3000"/>
                  <a:pt x="3828" y="3018"/>
                </a:cubicBezTo>
                <a:cubicBezTo>
                  <a:pt x="3801" y="3024"/>
                  <a:pt x="3779" y="3047"/>
                  <a:pt x="3750" y="3048"/>
                </a:cubicBezTo>
                <a:cubicBezTo>
                  <a:pt x="3676" y="3052"/>
                  <a:pt x="3602" y="3053"/>
                  <a:pt x="3528" y="3054"/>
                </a:cubicBezTo>
                <a:cubicBezTo>
                  <a:pt x="3388" y="3057"/>
                  <a:pt x="3248" y="3058"/>
                  <a:pt x="3108" y="3060"/>
                </a:cubicBezTo>
                <a:cubicBezTo>
                  <a:pt x="2820" y="3079"/>
                  <a:pt x="2984" y="3071"/>
                  <a:pt x="2616" y="3078"/>
                </a:cubicBezTo>
                <a:cubicBezTo>
                  <a:pt x="2372" y="3067"/>
                  <a:pt x="2129" y="3079"/>
                  <a:pt x="1884" y="3084"/>
                </a:cubicBezTo>
                <a:cubicBezTo>
                  <a:pt x="1793" y="3114"/>
                  <a:pt x="1692" y="3088"/>
                  <a:pt x="1596" y="3102"/>
                </a:cubicBezTo>
                <a:cubicBezTo>
                  <a:pt x="1402" y="3098"/>
                  <a:pt x="1314" y="3089"/>
                  <a:pt x="1152" y="3078"/>
                </a:cubicBezTo>
                <a:cubicBezTo>
                  <a:pt x="1072" y="3051"/>
                  <a:pt x="961" y="3075"/>
                  <a:pt x="882" y="3078"/>
                </a:cubicBezTo>
                <a:cubicBezTo>
                  <a:pt x="767" y="3097"/>
                  <a:pt x="834" y="3089"/>
                  <a:pt x="678" y="3096"/>
                </a:cubicBezTo>
                <a:cubicBezTo>
                  <a:pt x="630" y="3090"/>
                  <a:pt x="567" y="3088"/>
                  <a:pt x="522" y="3066"/>
                </a:cubicBezTo>
                <a:cubicBezTo>
                  <a:pt x="485" y="3048"/>
                  <a:pt x="453" y="3019"/>
                  <a:pt x="414" y="3006"/>
                </a:cubicBezTo>
                <a:cubicBezTo>
                  <a:pt x="408" y="3000"/>
                  <a:pt x="403" y="2993"/>
                  <a:pt x="396" y="2988"/>
                </a:cubicBezTo>
                <a:cubicBezTo>
                  <a:pt x="385" y="2979"/>
                  <a:pt x="360" y="2964"/>
                  <a:pt x="360" y="2964"/>
                </a:cubicBezTo>
                <a:cubicBezTo>
                  <a:pt x="346" y="2942"/>
                  <a:pt x="333" y="2942"/>
                  <a:pt x="312" y="2928"/>
                </a:cubicBezTo>
                <a:cubicBezTo>
                  <a:pt x="296" y="2904"/>
                  <a:pt x="276" y="2878"/>
                  <a:pt x="252" y="2862"/>
                </a:cubicBezTo>
                <a:cubicBezTo>
                  <a:pt x="239" y="2842"/>
                  <a:pt x="203" y="2789"/>
                  <a:pt x="186" y="2778"/>
                </a:cubicBezTo>
                <a:cubicBezTo>
                  <a:pt x="170" y="2768"/>
                  <a:pt x="150" y="2766"/>
                  <a:pt x="132" y="2760"/>
                </a:cubicBezTo>
                <a:cubicBezTo>
                  <a:pt x="126" y="2758"/>
                  <a:pt x="114" y="2754"/>
                  <a:pt x="114" y="2754"/>
                </a:cubicBezTo>
                <a:cubicBezTo>
                  <a:pt x="108" y="2746"/>
                  <a:pt x="100" y="2739"/>
                  <a:pt x="96" y="2730"/>
                </a:cubicBezTo>
                <a:cubicBezTo>
                  <a:pt x="83" y="2705"/>
                  <a:pt x="84" y="2679"/>
                  <a:pt x="84" y="2700"/>
                </a:cubicBezTo>
                <a:close/>
              </a:path>
            </a:pathLst>
          </a:custGeom>
          <a:noFill/>
          <a:ln w="572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1" name=""/>
          <p:cNvSpPr/>
          <p:nvPr/>
        </p:nvSpPr>
        <p:spPr>
          <a:xfrm>
            <a:off x="3495600" y="3514680"/>
            <a:ext cx="1648080" cy="1333440"/>
          </a:xfrm>
          <a:custGeom>
            <a:avLst/>
            <a:gdLst/>
            <a:ahLst/>
            <a:rect l="l" t="t" r="r" b="b"/>
            <a:pathLst>
              <a:path w="1038" h="840">
                <a:moveTo>
                  <a:pt x="66" y="672"/>
                </a:moveTo>
                <a:cubicBezTo>
                  <a:pt x="52" y="629"/>
                  <a:pt x="65" y="643"/>
                  <a:pt x="36" y="624"/>
                </a:cubicBezTo>
                <a:cubicBezTo>
                  <a:pt x="29" y="602"/>
                  <a:pt x="19" y="586"/>
                  <a:pt x="12" y="564"/>
                </a:cubicBezTo>
                <a:cubicBezTo>
                  <a:pt x="8" y="552"/>
                  <a:pt x="0" y="528"/>
                  <a:pt x="0" y="528"/>
                </a:cubicBezTo>
                <a:cubicBezTo>
                  <a:pt x="2" y="456"/>
                  <a:pt x="1" y="233"/>
                  <a:pt x="72" y="162"/>
                </a:cubicBezTo>
                <a:cubicBezTo>
                  <a:pt x="84" y="125"/>
                  <a:pt x="112" y="99"/>
                  <a:pt x="144" y="78"/>
                </a:cubicBezTo>
                <a:cubicBezTo>
                  <a:pt x="170" y="39"/>
                  <a:pt x="205" y="32"/>
                  <a:pt x="246" y="18"/>
                </a:cubicBezTo>
                <a:cubicBezTo>
                  <a:pt x="258" y="14"/>
                  <a:pt x="270" y="10"/>
                  <a:pt x="282" y="6"/>
                </a:cubicBezTo>
                <a:cubicBezTo>
                  <a:pt x="288" y="4"/>
                  <a:pt x="300" y="0"/>
                  <a:pt x="300" y="0"/>
                </a:cubicBezTo>
                <a:cubicBezTo>
                  <a:pt x="468" y="5"/>
                  <a:pt x="558" y="10"/>
                  <a:pt x="708" y="60"/>
                </a:cubicBezTo>
                <a:cubicBezTo>
                  <a:pt x="733" y="68"/>
                  <a:pt x="756" y="85"/>
                  <a:pt x="780" y="96"/>
                </a:cubicBezTo>
                <a:cubicBezTo>
                  <a:pt x="802" y="106"/>
                  <a:pt x="829" y="112"/>
                  <a:pt x="852" y="120"/>
                </a:cubicBezTo>
                <a:cubicBezTo>
                  <a:pt x="884" y="131"/>
                  <a:pt x="865" y="122"/>
                  <a:pt x="906" y="150"/>
                </a:cubicBezTo>
                <a:cubicBezTo>
                  <a:pt x="912" y="154"/>
                  <a:pt x="924" y="162"/>
                  <a:pt x="924" y="162"/>
                </a:cubicBezTo>
                <a:cubicBezTo>
                  <a:pt x="952" y="204"/>
                  <a:pt x="936" y="190"/>
                  <a:pt x="966" y="210"/>
                </a:cubicBezTo>
                <a:cubicBezTo>
                  <a:pt x="986" y="269"/>
                  <a:pt x="1023" y="316"/>
                  <a:pt x="1038" y="378"/>
                </a:cubicBezTo>
                <a:cubicBezTo>
                  <a:pt x="1034" y="436"/>
                  <a:pt x="1025" y="473"/>
                  <a:pt x="1032" y="528"/>
                </a:cubicBezTo>
                <a:cubicBezTo>
                  <a:pt x="1026" y="564"/>
                  <a:pt x="1013" y="584"/>
                  <a:pt x="1002" y="618"/>
                </a:cubicBezTo>
                <a:cubicBezTo>
                  <a:pt x="997" y="634"/>
                  <a:pt x="993" y="660"/>
                  <a:pt x="978" y="672"/>
                </a:cubicBezTo>
                <a:cubicBezTo>
                  <a:pt x="929" y="711"/>
                  <a:pt x="993" y="639"/>
                  <a:pt x="942" y="690"/>
                </a:cubicBezTo>
                <a:cubicBezTo>
                  <a:pt x="925" y="707"/>
                  <a:pt x="912" y="728"/>
                  <a:pt x="894" y="744"/>
                </a:cubicBezTo>
                <a:cubicBezTo>
                  <a:pt x="889" y="748"/>
                  <a:pt x="882" y="747"/>
                  <a:pt x="876" y="750"/>
                </a:cubicBezTo>
                <a:cubicBezTo>
                  <a:pt x="863" y="757"/>
                  <a:pt x="852" y="766"/>
                  <a:pt x="840" y="774"/>
                </a:cubicBezTo>
                <a:cubicBezTo>
                  <a:pt x="755" y="831"/>
                  <a:pt x="712" y="832"/>
                  <a:pt x="606" y="840"/>
                </a:cubicBezTo>
                <a:cubicBezTo>
                  <a:pt x="527" y="836"/>
                  <a:pt x="467" y="828"/>
                  <a:pt x="390" y="834"/>
                </a:cubicBezTo>
                <a:cubicBezTo>
                  <a:pt x="319" y="826"/>
                  <a:pt x="243" y="815"/>
                  <a:pt x="180" y="780"/>
                </a:cubicBezTo>
                <a:cubicBezTo>
                  <a:pt x="161" y="769"/>
                  <a:pt x="144" y="756"/>
                  <a:pt x="126" y="744"/>
                </a:cubicBezTo>
                <a:cubicBezTo>
                  <a:pt x="114" y="736"/>
                  <a:pt x="90" y="720"/>
                  <a:pt x="90" y="720"/>
                </a:cubicBezTo>
                <a:cubicBezTo>
                  <a:pt x="72" y="693"/>
                  <a:pt x="81" y="709"/>
                  <a:pt x="66" y="672"/>
                </a:cubicBezTo>
                <a:close/>
              </a:path>
            </a:pathLst>
          </a:custGeom>
          <a:solidFill>
            <a:srgbClr val="ff0000">
              <a:alpha val="50000"/>
            </a:srgbClr>
          </a:solid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2" name=""/>
          <p:cNvSpPr/>
          <p:nvPr/>
        </p:nvSpPr>
        <p:spPr>
          <a:xfrm>
            <a:off x="5081760" y="2390760"/>
            <a:ext cx="2004840" cy="3343320"/>
          </a:xfrm>
          <a:custGeom>
            <a:avLst/>
            <a:gdLst/>
            <a:ahLst/>
            <a:rect l="l" t="t" r="r" b="b"/>
            <a:pathLst>
              <a:path w="1263" h="2106">
                <a:moveTo>
                  <a:pt x="123" y="1818"/>
                </a:moveTo>
                <a:cubicBezTo>
                  <a:pt x="163" y="1810"/>
                  <a:pt x="190" y="1794"/>
                  <a:pt x="225" y="1776"/>
                </a:cubicBezTo>
                <a:cubicBezTo>
                  <a:pt x="243" y="1767"/>
                  <a:pt x="279" y="1746"/>
                  <a:pt x="279" y="1746"/>
                </a:cubicBezTo>
                <a:cubicBezTo>
                  <a:pt x="292" y="1706"/>
                  <a:pt x="309" y="1674"/>
                  <a:pt x="333" y="1638"/>
                </a:cubicBezTo>
                <a:cubicBezTo>
                  <a:pt x="345" y="1619"/>
                  <a:pt x="331" y="1618"/>
                  <a:pt x="351" y="1602"/>
                </a:cubicBezTo>
                <a:cubicBezTo>
                  <a:pt x="356" y="1598"/>
                  <a:pt x="363" y="1599"/>
                  <a:pt x="369" y="1596"/>
                </a:cubicBezTo>
                <a:cubicBezTo>
                  <a:pt x="386" y="1588"/>
                  <a:pt x="392" y="1579"/>
                  <a:pt x="405" y="1566"/>
                </a:cubicBezTo>
                <a:cubicBezTo>
                  <a:pt x="424" y="1509"/>
                  <a:pt x="406" y="1518"/>
                  <a:pt x="459" y="1500"/>
                </a:cubicBezTo>
                <a:cubicBezTo>
                  <a:pt x="465" y="1498"/>
                  <a:pt x="472" y="1498"/>
                  <a:pt x="477" y="1494"/>
                </a:cubicBezTo>
                <a:cubicBezTo>
                  <a:pt x="486" y="1488"/>
                  <a:pt x="517" y="1467"/>
                  <a:pt x="531" y="1458"/>
                </a:cubicBezTo>
                <a:cubicBezTo>
                  <a:pt x="537" y="1454"/>
                  <a:pt x="549" y="1446"/>
                  <a:pt x="549" y="1446"/>
                </a:cubicBezTo>
                <a:cubicBezTo>
                  <a:pt x="553" y="1440"/>
                  <a:pt x="556" y="1433"/>
                  <a:pt x="561" y="1428"/>
                </a:cubicBezTo>
                <a:cubicBezTo>
                  <a:pt x="566" y="1423"/>
                  <a:pt x="578" y="1423"/>
                  <a:pt x="579" y="1416"/>
                </a:cubicBezTo>
                <a:cubicBezTo>
                  <a:pt x="587" y="1350"/>
                  <a:pt x="565" y="1301"/>
                  <a:pt x="513" y="1266"/>
                </a:cubicBezTo>
                <a:cubicBezTo>
                  <a:pt x="502" y="1233"/>
                  <a:pt x="493" y="1224"/>
                  <a:pt x="507" y="1188"/>
                </a:cubicBezTo>
                <a:cubicBezTo>
                  <a:pt x="512" y="1175"/>
                  <a:pt x="523" y="1164"/>
                  <a:pt x="531" y="1152"/>
                </a:cubicBezTo>
                <a:cubicBezTo>
                  <a:pt x="538" y="1141"/>
                  <a:pt x="567" y="1140"/>
                  <a:pt x="567" y="1140"/>
                </a:cubicBezTo>
                <a:cubicBezTo>
                  <a:pt x="594" y="1100"/>
                  <a:pt x="588" y="1098"/>
                  <a:pt x="621" y="1080"/>
                </a:cubicBezTo>
                <a:cubicBezTo>
                  <a:pt x="634" y="1073"/>
                  <a:pt x="657" y="1056"/>
                  <a:pt x="657" y="1056"/>
                </a:cubicBezTo>
                <a:cubicBezTo>
                  <a:pt x="661" y="1045"/>
                  <a:pt x="673" y="1026"/>
                  <a:pt x="645" y="1026"/>
                </a:cubicBezTo>
                <a:cubicBezTo>
                  <a:pt x="627" y="1026"/>
                  <a:pt x="542" y="1051"/>
                  <a:pt x="525" y="1062"/>
                </a:cubicBezTo>
                <a:cubicBezTo>
                  <a:pt x="513" y="1070"/>
                  <a:pt x="489" y="1086"/>
                  <a:pt x="489" y="1086"/>
                </a:cubicBezTo>
                <a:cubicBezTo>
                  <a:pt x="461" y="1127"/>
                  <a:pt x="479" y="1127"/>
                  <a:pt x="447" y="1116"/>
                </a:cubicBezTo>
                <a:cubicBezTo>
                  <a:pt x="431" y="1091"/>
                  <a:pt x="426" y="1066"/>
                  <a:pt x="417" y="1038"/>
                </a:cubicBezTo>
                <a:cubicBezTo>
                  <a:pt x="419" y="1012"/>
                  <a:pt x="419" y="986"/>
                  <a:pt x="423" y="960"/>
                </a:cubicBezTo>
                <a:cubicBezTo>
                  <a:pt x="429" y="922"/>
                  <a:pt x="451" y="884"/>
                  <a:pt x="459" y="846"/>
                </a:cubicBezTo>
                <a:cubicBezTo>
                  <a:pt x="471" y="791"/>
                  <a:pt x="473" y="733"/>
                  <a:pt x="477" y="678"/>
                </a:cubicBezTo>
                <a:cubicBezTo>
                  <a:pt x="475" y="616"/>
                  <a:pt x="475" y="554"/>
                  <a:pt x="471" y="492"/>
                </a:cubicBezTo>
                <a:cubicBezTo>
                  <a:pt x="470" y="470"/>
                  <a:pt x="447" y="457"/>
                  <a:pt x="441" y="438"/>
                </a:cubicBezTo>
                <a:cubicBezTo>
                  <a:pt x="419" y="372"/>
                  <a:pt x="355" y="285"/>
                  <a:pt x="297" y="246"/>
                </a:cubicBezTo>
                <a:cubicBezTo>
                  <a:pt x="235" y="205"/>
                  <a:pt x="169" y="173"/>
                  <a:pt x="99" y="150"/>
                </a:cubicBezTo>
                <a:cubicBezTo>
                  <a:pt x="87" y="146"/>
                  <a:pt x="75" y="141"/>
                  <a:pt x="63" y="138"/>
                </a:cubicBezTo>
                <a:cubicBezTo>
                  <a:pt x="47" y="134"/>
                  <a:pt x="15" y="126"/>
                  <a:pt x="15" y="126"/>
                </a:cubicBezTo>
                <a:cubicBezTo>
                  <a:pt x="0" y="82"/>
                  <a:pt x="34" y="84"/>
                  <a:pt x="69" y="72"/>
                </a:cubicBezTo>
                <a:cubicBezTo>
                  <a:pt x="148" y="46"/>
                  <a:pt x="201" y="25"/>
                  <a:pt x="285" y="18"/>
                </a:cubicBezTo>
                <a:cubicBezTo>
                  <a:pt x="309" y="12"/>
                  <a:pt x="332" y="5"/>
                  <a:pt x="357" y="0"/>
                </a:cubicBezTo>
                <a:cubicBezTo>
                  <a:pt x="410" y="4"/>
                  <a:pt x="454" y="13"/>
                  <a:pt x="507" y="18"/>
                </a:cubicBezTo>
                <a:cubicBezTo>
                  <a:pt x="559" y="35"/>
                  <a:pt x="611" y="49"/>
                  <a:pt x="663" y="66"/>
                </a:cubicBezTo>
                <a:cubicBezTo>
                  <a:pt x="677" y="71"/>
                  <a:pt x="685" y="87"/>
                  <a:pt x="699" y="90"/>
                </a:cubicBezTo>
                <a:cubicBezTo>
                  <a:pt x="723" y="96"/>
                  <a:pt x="739" y="100"/>
                  <a:pt x="759" y="114"/>
                </a:cubicBezTo>
                <a:cubicBezTo>
                  <a:pt x="793" y="166"/>
                  <a:pt x="748" y="105"/>
                  <a:pt x="789" y="138"/>
                </a:cubicBezTo>
                <a:cubicBezTo>
                  <a:pt x="795" y="143"/>
                  <a:pt x="796" y="151"/>
                  <a:pt x="801" y="156"/>
                </a:cubicBezTo>
                <a:cubicBezTo>
                  <a:pt x="806" y="161"/>
                  <a:pt x="813" y="164"/>
                  <a:pt x="819" y="168"/>
                </a:cubicBezTo>
                <a:cubicBezTo>
                  <a:pt x="838" y="197"/>
                  <a:pt x="874" y="203"/>
                  <a:pt x="903" y="222"/>
                </a:cubicBezTo>
                <a:cubicBezTo>
                  <a:pt x="914" y="256"/>
                  <a:pt x="936" y="261"/>
                  <a:pt x="957" y="288"/>
                </a:cubicBezTo>
                <a:cubicBezTo>
                  <a:pt x="988" y="328"/>
                  <a:pt x="1010" y="380"/>
                  <a:pt x="1053" y="408"/>
                </a:cubicBezTo>
                <a:cubicBezTo>
                  <a:pt x="1066" y="447"/>
                  <a:pt x="1096" y="482"/>
                  <a:pt x="1119" y="516"/>
                </a:cubicBezTo>
                <a:cubicBezTo>
                  <a:pt x="1141" y="549"/>
                  <a:pt x="1154" y="589"/>
                  <a:pt x="1173" y="624"/>
                </a:cubicBezTo>
                <a:cubicBezTo>
                  <a:pt x="1188" y="651"/>
                  <a:pt x="1206" y="668"/>
                  <a:pt x="1215" y="696"/>
                </a:cubicBezTo>
                <a:cubicBezTo>
                  <a:pt x="1221" y="757"/>
                  <a:pt x="1232" y="818"/>
                  <a:pt x="1251" y="876"/>
                </a:cubicBezTo>
                <a:cubicBezTo>
                  <a:pt x="1259" y="899"/>
                  <a:pt x="1263" y="948"/>
                  <a:pt x="1263" y="948"/>
                </a:cubicBezTo>
                <a:cubicBezTo>
                  <a:pt x="1254" y="1040"/>
                  <a:pt x="1261" y="1143"/>
                  <a:pt x="1239" y="1230"/>
                </a:cubicBezTo>
                <a:cubicBezTo>
                  <a:pt x="1230" y="1340"/>
                  <a:pt x="1187" y="1442"/>
                  <a:pt x="1143" y="1542"/>
                </a:cubicBezTo>
                <a:cubicBezTo>
                  <a:pt x="1124" y="1584"/>
                  <a:pt x="1120" y="1612"/>
                  <a:pt x="1095" y="1650"/>
                </a:cubicBezTo>
                <a:cubicBezTo>
                  <a:pt x="1072" y="1685"/>
                  <a:pt x="1058" y="1728"/>
                  <a:pt x="1023" y="1752"/>
                </a:cubicBezTo>
                <a:cubicBezTo>
                  <a:pt x="1016" y="1763"/>
                  <a:pt x="975" y="1834"/>
                  <a:pt x="963" y="1842"/>
                </a:cubicBezTo>
                <a:cubicBezTo>
                  <a:pt x="933" y="1862"/>
                  <a:pt x="894" y="1883"/>
                  <a:pt x="873" y="1914"/>
                </a:cubicBezTo>
                <a:cubicBezTo>
                  <a:pt x="865" y="1926"/>
                  <a:pt x="857" y="1938"/>
                  <a:pt x="849" y="1950"/>
                </a:cubicBezTo>
                <a:cubicBezTo>
                  <a:pt x="845" y="1956"/>
                  <a:pt x="844" y="1966"/>
                  <a:pt x="837" y="1968"/>
                </a:cubicBezTo>
                <a:cubicBezTo>
                  <a:pt x="806" y="1978"/>
                  <a:pt x="776" y="1996"/>
                  <a:pt x="747" y="2010"/>
                </a:cubicBezTo>
                <a:cubicBezTo>
                  <a:pt x="705" y="2031"/>
                  <a:pt x="661" y="2056"/>
                  <a:pt x="621" y="2082"/>
                </a:cubicBezTo>
                <a:cubicBezTo>
                  <a:pt x="605" y="2093"/>
                  <a:pt x="567" y="2106"/>
                  <a:pt x="567" y="2106"/>
                </a:cubicBezTo>
                <a:cubicBezTo>
                  <a:pt x="515" y="2104"/>
                  <a:pt x="463" y="2105"/>
                  <a:pt x="411" y="2100"/>
                </a:cubicBezTo>
                <a:cubicBezTo>
                  <a:pt x="364" y="2096"/>
                  <a:pt x="341" y="2065"/>
                  <a:pt x="303" y="2052"/>
                </a:cubicBezTo>
                <a:cubicBezTo>
                  <a:pt x="267" y="2040"/>
                  <a:pt x="256" y="2032"/>
                  <a:pt x="225" y="2010"/>
                </a:cubicBezTo>
                <a:cubicBezTo>
                  <a:pt x="213" y="2002"/>
                  <a:pt x="201" y="1994"/>
                  <a:pt x="189" y="1986"/>
                </a:cubicBezTo>
                <a:cubicBezTo>
                  <a:pt x="183" y="1982"/>
                  <a:pt x="171" y="1974"/>
                  <a:pt x="171" y="1974"/>
                </a:cubicBezTo>
                <a:cubicBezTo>
                  <a:pt x="139" y="1926"/>
                  <a:pt x="181" y="1984"/>
                  <a:pt x="141" y="1944"/>
                </a:cubicBezTo>
                <a:cubicBezTo>
                  <a:pt x="106" y="1909"/>
                  <a:pt x="119" y="1861"/>
                  <a:pt x="123" y="1818"/>
                </a:cubicBezTo>
                <a:close/>
              </a:path>
            </a:pathLst>
          </a:custGeom>
          <a:solidFill>
            <a:srgbClr val="00ff00">
              <a:alpha val="50000"/>
            </a:srgbClr>
          </a:solidFill>
          <a:ln w="57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3" name=""/>
          <p:cNvSpPr/>
          <p:nvPr/>
        </p:nvSpPr>
        <p:spPr>
          <a:xfrm>
            <a:off x="2295360" y="2495520"/>
            <a:ext cx="2381400" cy="3267000"/>
          </a:xfrm>
          <a:custGeom>
            <a:avLst/>
            <a:gdLst/>
            <a:ahLst/>
            <a:rect l="l" t="t" r="r" b="b"/>
            <a:pathLst>
              <a:path w="1500" h="2058">
                <a:moveTo>
                  <a:pt x="1392" y="1518"/>
                </a:moveTo>
                <a:cubicBezTo>
                  <a:pt x="1369" y="1541"/>
                  <a:pt x="1367" y="1567"/>
                  <a:pt x="1344" y="1590"/>
                </a:cubicBezTo>
                <a:cubicBezTo>
                  <a:pt x="1333" y="1645"/>
                  <a:pt x="1306" y="1695"/>
                  <a:pt x="1284" y="1746"/>
                </a:cubicBezTo>
                <a:cubicBezTo>
                  <a:pt x="1269" y="1780"/>
                  <a:pt x="1262" y="1829"/>
                  <a:pt x="1224" y="1842"/>
                </a:cubicBezTo>
                <a:cubicBezTo>
                  <a:pt x="1154" y="1912"/>
                  <a:pt x="1074" y="1970"/>
                  <a:pt x="984" y="2010"/>
                </a:cubicBezTo>
                <a:cubicBezTo>
                  <a:pt x="956" y="2023"/>
                  <a:pt x="923" y="2036"/>
                  <a:pt x="894" y="2046"/>
                </a:cubicBezTo>
                <a:cubicBezTo>
                  <a:pt x="882" y="2050"/>
                  <a:pt x="858" y="2058"/>
                  <a:pt x="858" y="2058"/>
                </a:cubicBezTo>
                <a:cubicBezTo>
                  <a:pt x="804" y="2056"/>
                  <a:pt x="750" y="2057"/>
                  <a:pt x="696" y="2052"/>
                </a:cubicBezTo>
                <a:cubicBezTo>
                  <a:pt x="689" y="2051"/>
                  <a:pt x="685" y="2043"/>
                  <a:pt x="678" y="2040"/>
                </a:cubicBezTo>
                <a:cubicBezTo>
                  <a:pt x="652" y="2029"/>
                  <a:pt x="622" y="2028"/>
                  <a:pt x="594" y="2022"/>
                </a:cubicBezTo>
                <a:cubicBezTo>
                  <a:pt x="577" y="2019"/>
                  <a:pt x="555" y="2006"/>
                  <a:pt x="540" y="1998"/>
                </a:cubicBezTo>
                <a:cubicBezTo>
                  <a:pt x="527" y="1991"/>
                  <a:pt x="504" y="1974"/>
                  <a:pt x="504" y="1974"/>
                </a:cubicBezTo>
                <a:cubicBezTo>
                  <a:pt x="496" y="1962"/>
                  <a:pt x="488" y="1950"/>
                  <a:pt x="480" y="1938"/>
                </a:cubicBezTo>
                <a:cubicBezTo>
                  <a:pt x="476" y="1933"/>
                  <a:pt x="468" y="1935"/>
                  <a:pt x="462" y="1932"/>
                </a:cubicBezTo>
                <a:cubicBezTo>
                  <a:pt x="449" y="1925"/>
                  <a:pt x="436" y="1918"/>
                  <a:pt x="426" y="1908"/>
                </a:cubicBezTo>
                <a:cubicBezTo>
                  <a:pt x="409" y="1891"/>
                  <a:pt x="398" y="1874"/>
                  <a:pt x="378" y="1860"/>
                </a:cubicBezTo>
                <a:cubicBezTo>
                  <a:pt x="363" y="1838"/>
                  <a:pt x="340" y="1815"/>
                  <a:pt x="318" y="1800"/>
                </a:cubicBezTo>
                <a:cubicBezTo>
                  <a:pt x="309" y="1787"/>
                  <a:pt x="297" y="1777"/>
                  <a:pt x="288" y="1764"/>
                </a:cubicBezTo>
                <a:cubicBezTo>
                  <a:pt x="284" y="1759"/>
                  <a:pt x="286" y="1751"/>
                  <a:pt x="282" y="1746"/>
                </a:cubicBezTo>
                <a:cubicBezTo>
                  <a:pt x="270" y="1728"/>
                  <a:pt x="251" y="1710"/>
                  <a:pt x="234" y="1698"/>
                </a:cubicBezTo>
                <a:cubicBezTo>
                  <a:pt x="230" y="1692"/>
                  <a:pt x="227" y="1685"/>
                  <a:pt x="222" y="1680"/>
                </a:cubicBezTo>
                <a:cubicBezTo>
                  <a:pt x="217" y="1675"/>
                  <a:pt x="209" y="1674"/>
                  <a:pt x="204" y="1668"/>
                </a:cubicBezTo>
                <a:cubicBezTo>
                  <a:pt x="200" y="1663"/>
                  <a:pt x="202" y="1655"/>
                  <a:pt x="198" y="1650"/>
                </a:cubicBezTo>
                <a:cubicBezTo>
                  <a:pt x="193" y="1643"/>
                  <a:pt x="186" y="1638"/>
                  <a:pt x="180" y="1632"/>
                </a:cubicBezTo>
                <a:cubicBezTo>
                  <a:pt x="172" y="1608"/>
                  <a:pt x="159" y="1598"/>
                  <a:pt x="138" y="1584"/>
                </a:cubicBezTo>
                <a:cubicBezTo>
                  <a:pt x="105" y="1535"/>
                  <a:pt x="105" y="1471"/>
                  <a:pt x="72" y="1422"/>
                </a:cubicBezTo>
                <a:cubicBezTo>
                  <a:pt x="52" y="1343"/>
                  <a:pt x="20" y="1267"/>
                  <a:pt x="0" y="1188"/>
                </a:cubicBezTo>
                <a:cubicBezTo>
                  <a:pt x="2" y="1064"/>
                  <a:pt x="2" y="940"/>
                  <a:pt x="6" y="816"/>
                </a:cubicBezTo>
                <a:cubicBezTo>
                  <a:pt x="9" y="708"/>
                  <a:pt x="91" y="533"/>
                  <a:pt x="144" y="438"/>
                </a:cubicBezTo>
                <a:cubicBezTo>
                  <a:pt x="167" y="397"/>
                  <a:pt x="195" y="345"/>
                  <a:pt x="228" y="312"/>
                </a:cubicBezTo>
                <a:cubicBezTo>
                  <a:pt x="256" y="284"/>
                  <a:pt x="289" y="260"/>
                  <a:pt x="318" y="234"/>
                </a:cubicBezTo>
                <a:cubicBezTo>
                  <a:pt x="343" y="212"/>
                  <a:pt x="364" y="188"/>
                  <a:pt x="390" y="168"/>
                </a:cubicBezTo>
                <a:cubicBezTo>
                  <a:pt x="401" y="159"/>
                  <a:pt x="426" y="144"/>
                  <a:pt x="426" y="144"/>
                </a:cubicBezTo>
                <a:cubicBezTo>
                  <a:pt x="443" y="119"/>
                  <a:pt x="466" y="116"/>
                  <a:pt x="492" y="102"/>
                </a:cubicBezTo>
                <a:cubicBezTo>
                  <a:pt x="505" y="95"/>
                  <a:pt x="516" y="86"/>
                  <a:pt x="528" y="78"/>
                </a:cubicBezTo>
                <a:cubicBezTo>
                  <a:pt x="564" y="54"/>
                  <a:pt x="649" y="44"/>
                  <a:pt x="690" y="30"/>
                </a:cubicBezTo>
                <a:cubicBezTo>
                  <a:pt x="712" y="23"/>
                  <a:pt x="728" y="7"/>
                  <a:pt x="750" y="0"/>
                </a:cubicBezTo>
                <a:cubicBezTo>
                  <a:pt x="814" y="2"/>
                  <a:pt x="878" y="2"/>
                  <a:pt x="942" y="6"/>
                </a:cubicBezTo>
                <a:cubicBezTo>
                  <a:pt x="1008" y="10"/>
                  <a:pt x="1073" y="47"/>
                  <a:pt x="1140" y="54"/>
                </a:cubicBezTo>
                <a:cubicBezTo>
                  <a:pt x="1196" y="73"/>
                  <a:pt x="1264" y="50"/>
                  <a:pt x="1320" y="36"/>
                </a:cubicBezTo>
                <a:cubicBezTo>
                  <a:pt x="1370" y="40"/>
                  <a:pt x="1442" y="6"/>
                  <a:pt x="1470" y="48"/>
                </a:cubicBezTo>
                <a:cubicBezTo>
                  <a:pt x="1489" y="77"/>
                  <a:pt x="1480" y="59"/>
                  <a:pt x="1494" y="102"/>
                </a:cubicBezTo>
                <a:cubicBezTo>
                  <a:pt x="1496" y="108"/>
                  <a:pt x="1500" y="120"/>
                  <a:pt x="1500" y="120"/>
                </a:cubicBezTo>
                <a:cubicBezTo>
                  <a:pt x="1494" y="137"/>
                  <a:pt x="1494" y="157"/>
                  <a:pt x="1488" y="174"/>
                </a:cubicBezTo>
                <a:lnTo>
                  <a:pt x="1464" y="228"/>
                </a:lnTo>
                <a:cubicBezTo>
                  <a:pt x="1464" y="228"/>
                  <a:pt x="1464" y="228"/>
                  <a:pt x="1464" y="228"/>
                </a:cubicBezTo>
                <a:cubicBezTo>
                  <a:pt x="1462" y="236"/>
                  <a:pt x="1462" y="245"/>
                  <a:pt x="1458" y="252"/>
                </a:cubicBezTo>
                <a:cubicBezTo>
                  <a:pt x="1444" y="276"/>
                  <a:pt x="1413" y="296"/>
                  <a:pt x="1404" y="324"/>
                </a:cubicBezTo>
                <a:cubicBezTo>
                  <a:pt x="1395" y="351"/>
                  <a:pt x="1382" y="376"/>
                  <a:pt x="1362" y="396"/>
                </a:cubicBezTo>
                <a:cubicBezTo>
                  <a:pt x="1352" y="425"/>
                  <a:pt x="1339" y="445"/>
                  <a:pt x="1314" y="462"/>
                </a:cubicBezTo>
                <a:cubicBezTo>
                  <a:pt x="1306" y="485"/>
                  <a:pt x="1296" y="510"/>
                  <a:pt x="1290" y="534"/>
                </a:cubicBezTo>
                <a:cubicBezTo>
                  <a:pt x="1290" y="534"/>
                  <a:pt x="1281" y="573"/>
                  <a:pt x="1278" y="576"/>
                </a:cubicBezTo>
                <a:cubicBezTo>
                  <a:pt x="1274" y="580"/>
                  <a:pt x="1266" y="580"/>
                  <a:pt x="1260" y="582"/>
                </a:cubicBezTo>
                <a:cubicBezTo>
                  <a:pt x="1258" y="588"/>
                  <a:pt x="1258" y="596"/>
                  <a:pt x="1254" y="600"/>
                </a:cubicBezTo>
                <a:cubicBezTo>
                  <a:pt x="1244" y="610"/>
                  <a:pt x="1218" y="624"/>
                  <a:pt x="1218" y="624"/>
                </a:cubicBezTo>
                <a:cubicBezTo>
                  <a:pt x="1160" y="619"/>
                  <a:pt x="1148" y="622"/>
                  <a:pt x="1104" y="600"/>
                </a:cubicBezTo>
                <a:cubicBezTo>
                  <a:pt x="1054" y="617"/>
                  <a:pt x="1134" y="591"/>
                  <a:pt x="1044" y="612"/>
                </a:cubicBezTo>
                <a:cubicBezTo>
                  <a:pt x="1014" y="619"/>
                  <a:pt x="997" y="629"/>
                  <a:pt x="972" y="642"/>
                </a:cubicBezTo>
                <a:cubicBezTo>
                  <a:pt x="949" y="653"/>
                  <a:pt x="918" y="658"/>
                  <a:pt x="894" y="666"/>
                </a:cubicBezTo>
                <a:cubicBezTo>
                  <a:pt x="873" y="673"/>
                  <a:pt x="858" y="690"/>
                  <a:pt x="840" y="702"/>
                </a:cubicBezTo>
                <a:cubicBezTo>
                  <a:pt x="834" y="706"/>
                  <a:pt x="822" y="714"/>
                  <a:pt x="822" y="714"/>
                </a:cubicBezTo>
                <a:cubicBezTo>
                  <a:pt x="794" y="755"/>
                  <a:pt x="772" y="798"/>
                  <a:pt x="744" y="840"/>
                </a:cubicBezTo>
                <a:cubicBezTo>
                  <a:pt x="737" y="851"/>
                  <a:pt x="736" y="864"/>
                  <a:pt x="732" y="876"/>
                </a:cubicBezTo>
                <a:cubicBezTo>
                  <a:pt x="730" y="882"/>
                  <a:pt x="726" y="894"/>
                  <a:pt x="726" y="894"/>
                </a:cubicBezTo>
                <a:cubicBezTo>
                  <a:pt x="720" y="949"/>
                  <a:pt x="714" y="964"/>
                  <a:pt x="720" y="1020"/>
                </a:cubicBezTo>
                <a:cubicBezTo>
                  <a:pt x="722" y="1086"/>
                  <a:pt x="722" y="1152"/>
                  <a:pt x="726" y="1218"/>
                </a:cubicBezTo>
                <a:cubicBezTo>
                  <a:pt x="727" y="1243"/>
                  <a:pt x="757" y="1284"/>
                  <a:pt x="768" y="1308"/>
                </a:cubicBezTo>
                <a:cubicBezTo>
                  <a:pt x="768" y="1308"/>
                  <a:pt x="783" y="1353"/>
                  <a:pt x="786" y="1362"/>
                </a:cubicBezTo>
                <a:cubicBezTo>
                  <a:pt x="788" y="1368"/>
                  <a:pt x="786" y="1378"/>
                  <a:pt x="792" y="1380"/>
                </a:cubicBezTo>
                <a:cubicBezTo>
                  <a:pt x="817" y="1388"/>
                  <a:pt x="826" y="1400"/>
                  <a:pt x="846" y="1416"/>
                </a:cubicBezTo>
                <a:cubicBezTo>
                  <a:pt x="886" y="1447"/>
                  <a:pt x="924" y="1478"/>
                  <a:pt x="972" y="1494"/>
                </a:cubicBezTo>
                <a:cubicBezTo>
                  <a:pt x="1006" y="1505"/>
                  <a:pt x="1040" y="1513"/>
                  <a:pt x="1074" y="1524"/>
                </a:cubicBezTo>
                <a:cubicBezTo>
                  <a:pt x="1086" y="1528"/>
                  <a:pt x="1110" y="1536"/>
                  <a:pt x="1110" y="1536"/>
                </a:cubicBezTo>
                <a:cubicBezTo>
                  <a:pt x="1216" y="1532"/>
                  <a:pt x="1290" y="1524"/>
                  <a:pt x="1392" y="1518"/>
                </a:cubicBezTo>
                <a:close/>
              </a:path>
            </a:pathLst>
          </a:custGeom>
          <a:solidFill>
            <a:srgbClr val="00ff00">
              <a:alpha val="50000"/>
            </a:srgbClr>
          </a:solidFill>
          <a:ln w="57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4" name=""/>
          <p:cNvSpPr/>
          <p:nvPr/>
        </p:nvSpPr>
        <p:spPr>
          <a:xfrm>
            <a:off x="2819520" y="3276720"/>
            <a:ext cx="2030400" cy="1743120"/>
          </a:xfrm>
          <a:custGeom>
            <a:avLst/>
            <a:gdLst/>
            <a:ahLst/>
            <a:rect l="l" t="t" r="r" b="b"/>
            <a:pathLst>
              <a:path w="1279" h="1098">
                <a:moveTo>
                  <a:pt x="67" y="697"/>
                </a:moveTo>
                <a:cubicBezTo>
                  <a:pt x="79" y="732"/>
                  <a:pt x="90" y="770"/>
                  <a:pt x="121" y="790"/>
                </a:cubicBezTo>
                <a:cubicBezTo>
                  <a:pt x="138" y="816"/>
                  <a:pt x="157" y="837"/>
                  <a:pt x="174" y="864"/>
                </a:cubicBezTo>
                <a:cubicBezTo>
                  <a:pt x="201" y="906"/>
                  <a:pt x="157" y="862"/>
                  <a:pt x="194" y="904"/>
                </a:cubicBezTo>
                <a:cubicBezTo>
                  <a:pt x="272" y="994"/>
                  <a:pt x="196" y="904"/>
                  <a:pt x="248" y="951"/>
                </a:cubicBezTo>
                <a:cubicBezTo>
                  <a:pt x="260" y="961"/>
                  <a:pt x="266" y="981"/>
                  <a:pt x="281" y="985"/>
                </a:cubicBezTo>
                <a:cubicBezTo>
                  <a:pt x="317" y="995"/>
                  <a:pt x="346" y="1017"/>
                  <a:pt x="382" y="1025"/>
                </a:cubicBezTo>
                <a:cubicBezTo>
                  <a:pt x="478" y="1046"/>
                  <a:pt x="573" y="1081"/>
                  <a:pt x="670" y="1098"/>
                </a:cubicBezTo>
                <a:cubicBezTo>
                  <a:pt x="711" y="1093"/>
                  <a:pt x="745" y="1077"/>
                  <a:pt x="784" y="1072"/>
                </a:cubicBezTo>
                <a:cubicBezTo>
                  <a:pt x="831" y="1065"/>
                  <a:pt x="878" y="1066"/>
                  <a:pt x="924" y="1052"/>
                </a:cubicBezTo>
                <a:cubicBezTo>
                  <a:pt x="964" y="1040"/>
                  <a:pt x="999" y="1017"/>
                  <a:pt x="1038" y="1005"/>
                </a:cubicBezTo>
                <a:cubicBezTo>
                  <a:pt x="1081" y="962"/>
                  <a:pt x="1120" y="911"/>
                  <a:pt x="1159" y="864"/>
                </a:cubicBezTo>
                <a:cubicBezTo>
                  <a:pt x="1174" y="846"/>
                  <a:pt x="1176" y="827"/>
                  <a:pt x="1192" y="810"/>
                </a:cubicBezTo>
                <a:cubicBezTo>
                  <a:pt x="1215" y="745"/>
                  <a:pt x="1241" y="683"/>
                  <a:pt x="1259" y="616"/>
                </a:cubicBezTo>
                <a:cubicBezTo>
                  <a:pt x="1268" y="583"/>
                  <a:pt x="1279" y="516"/>
                  <a:pt x="1279" y="516"/>
                </a:cubicBezTo>
                <a:cubicBezTo>
                  <a:pt x="1273" y="478"/>
                  <a:pt x="1271" y="423"/>
                  <a:pt x="1253" y="388"/>
                </a:cubicBezTo>
                <a:cubicBezTo>
                  <a:pt x="1250" y="382"/>
                  <a:pt x="1243" y="380"/>
                  <a:pt x="1239" y="375"/>
                </a:cubicBezTo>
                <a:cubicBezTo>
                  <a:pt x="1221" y="353"/>
                  <a:pt x="1204" y="330"/>
                  <a:pt x="1186" y="308"/>
                </a:cubicBezTo>
                <a:cubicBezTo>
                  <a:pt x="1174" y="294"/>
                  <a:pt x="1156" y="283"/>
                  <a:pt x="1145" y="268"/>
                </a:cubicBezTo>
                <a:cubicBezTo>
                  <a:pt x="1109" y="221"/>
                  <a:pt x="1079" y="159"/>
                  <a:pt x="1018" y="141"/>
                </a:cubicBezTo>
                <a:cubicBezTo>
                  <a:pt x="998" y="127"/>
                  <a:pt x="981" y="122"/>
                  <a:pt x="958" y="114"/>
                </a:cubicBezTo>
                <a:cubicBezTo>
                  <a:pt x="940" y="95"/>
                  <a:pt x="925" y="99"/>
                  <a:pt x="904" y="87"/>
                </a:cubicBezTo>
                <a:cubicBezTo>
                  <a:pt x="841" y="52"/>
                  <a:pt x="888" y="65"/>
                  <a:pt x="837" y="54"/>
                </a:cubicBezTo>
                <a:cubicBezTo>
                  <a:pt x="791" y="22"/>
                  <a:pt x="707" y="15"/>
                  <a:pt x="650" y="0"/>
                </a:cubicBezTo>
                <a:cubicBezTo>
                  <a:pt x="539" y="10"/>
                  <a:pt x="466" y="43"/>
                  <a:pt x="362" y="67"/>
                </a:cubicBezTo>
                <a:cubicBezTo>
                  <a:pt x="293" y="83"/>
                  <a:pt x="161" y="109"/>
                  <a:pt x="107" y="154"/>
                </a:cubicBezTo>
                <a:cubicBezTo>
                  <a:pt x="68" y="186"/>
                  <a:pt x="72" y="236"/>
                  <a:pt x="40" y="268"/>
                </a:cubicBezTo>
                <a:cubicBezTo>
                  <a:pt x="32" y="295"/>
                  <a:pt x="23" y="321"/>
                  <a:pt x="14" y="348"/>
                </a:cubicBezTo>
                <a:cubicBezTo>
                  <a:pt x="10" y="361"/>
                  <a:pt x="0" y="388"/>
                  <a:pt x="0" y="388"/>
                </a:cubicBezTo>
                <a:cubicBezTo>
                  <a:pt x="5" y="489"/>
                  <a:pt x="7" y="517"/>
                  <a:pt x="27" y="596"/>
                </a:cubicBezTo>
                <a:cubicBezTo>
                  <a:pt x="34" y="622"/>
                  <a:pt x="36" y="675"/>
                  <a:pt x="54" y="697"/>
                </a:cubicBezTo>
                <a:cubicBezTo>
                  <a:pt x="59" y="703"/>
                  <a:pt x="66" y="710"/>
                  <a:pt x="74" y="710"/>
                </a:cubicBezTo>
                <a:cubicBezTo>
                  <a:pt x="79" y="710"/>
                  <a:pt x="69" y="701"/>
                  <a:pt x="67" y="697"/>
                </a:cubicBezTo>
                <a:close/>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5" name=""/>
          <p:cNvSpPr/>
          <p:nvPr/>
        </p:nvSpPr>
        <p:spPr>
          <a:xfrm>
            <a:off x="5486400" y="3352680"/>
            <a:ext cx="2438280" cy="20142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a:rPr>
              <a:t>A mistake in the transfer of calculated parameters might shift the treated volume to an unintended position.</a:t>
            </a:r>
            <a:endParaRPr b="0" lang="en-US" sz="1800" spc="-1" strike="noStrike">
              <a:solidFill>
                <a:srgbClr val="eaeaea"/>
              </a:solidFill>
              <a:latin typeface="Times New Roman"/>
            </a:endParaRPr>
          </a:p>
        </p:txBody>
      </p:sp>
      <p:sp>
        <p:nvSpPr>
          <p:cNvPr id="216" name=""/>
          <p:cNvSpPr/>
          <p:nvPr/>
        </p:nvSpPr>
        <p:spPr>
          <a:xfrm>
            <a:off x="2438280" y="5943600"/>
            <a:ext cx="4496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7c80"/>
                </a:solidFill>
                <a:latin typeface="Arial"/>
              </a:rPr>
              <a:t>Insufficient TCP, unacceptable NTCP</a:t>
            </a:r>
            <a:endParaRPr b="0" lang="en-US" sz="18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611EDE32-1058-45AE-BD0E-B0AD8267D8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17" name=""/>
          <p:cNvSpPr/>
          <p:nvPr/>
        </p:nvSpPr>
        <p:spPr>
          <a:xfrm>
            <a:off x="0" y="1143000"/>
            <a:ext cx="9144000" cy="5715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18" name=""/>
          <p:cNvSpPr/>
          <p:nvPr/>
        </p:nvSpPr>
        <p:spPr>
          <a:xfrm>
            <a:off x="0" y="1143000"/>
            <a:ext cx="7765920" cy="68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Unintended</a:t>
            </a:r>
            <a:r>
              <a:rPr b="0" lang="en-US" sz="2800" spc="-1" strike="noStrike">
                <a:solidFill>
                  <a:srgbClr val="eaeaea"/>
                </a:solidFill>
                <a:latin typeface="Arial"/>
              </a:rPr>
              <a:t> size and location of treated volume</a:t>
            </a:r>
            <a:endParaRPr b="0" lang="en-US" sz="2800" spc="-1" strike="noStrike">
              <a:solidFill>
                <a:srgbClr val="eaeaea"/>
              </a:solidFill>
              <a:latin typeface="Times New Roman"/>
            </a:endParaRPr>
          </a:p>
        </p:txBody>
      </p:sp>
      <p:sp>
        <p:nvSpPr>
          <p:cNvPr id="219"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ackground</a:t>
            </a:r>
            <a:endParaRPr b="0" lang="en-US" sz="3600" spc="-1" strike="noStrike">
              <a:solidFill>
                <a:srgbClr val="eaeaea"/>
              </a:solidFill>
              <a:latin typeface="Times New Roman"/>
            </a:endParaRPr>
          </a:p>
        </p:txBody>
      </p:sp>
      <p:sp>
        <p:nvSpPr>
          <p:cNvPr id="220" name=""/>
          <p:cNvSpPr/>
          <p:nvPr/>
        </p:nvSpPr>
        <p:spPr>
          <a:xfrm>
            <a:off x="5081760" y="2390760"/>
            <a:ext cx="2004840" cy="3343320"/>
          </a:xfrm>
          <a:custGeom>
            <a:avLst/>
            <a:gdLst/>
            <a:ahLst/>
            <a:rect l="l" t="t" r="r" b="b"/>
            <a:pathLst>
              <a:path w="1263" h="2106">
                <a:moveTo>
                  <a:pt x="123" y="1818"/>
                </a:moveTo>
                <a:cubicBezTo>
                  <a:pt x="163" y="1810"/>
                  <a:pt x="190" y="1794"/>
                  <a:pt x="225" y="1776"/>
                </a:cubicBezTo>
                <a:cubicBezTo>
                  <a:pt x="243" y="1767"/>
                  <a:pt x="279" y="1746"/>
                  <a:pt x="279" y="1746"/>
                </a:cubicBezTo>
                <a:cubicBezTo>
                  <a:pt x="292" y="1706"/>
                  <a:pt x="309" y="1674"/>
                  <a:pt x="333" y="1638"/>
                </a:cubicBezTo>
                <a:cubicBezTo>
                  <a:pt x="345" y="1619"/>
                  <a:pt x="331" y="1618"/>
                  <a:pt x="351" y="1602"/>
                </a:cubicBezTo>
                <a:cubicBezTo>
                  <a:pt x="356" y="1598"/>
                  <a:pt x="363" y="1599"/>
                  <a:pt x="369" y="1596"/>
                </a:cubicBezTo>
                <a:cubicBezTo>
                  <a:pt x="386" y="1588"/>
                  <a:pt x="392" y="1579"/>
                  <a:pt x="405" y="1566"/>
                </a:cubicBezTo>
                <a:cubicBezTo>
                  <a:pt x="424" y="1509"/>
                  <a:pt x="406" y="1518"/>
                  <a:pt x="459" y="1500"/>
                </a:cubicBezTo>
                <a:cubicBezTo>
                  <a:pt x="465" y="1498"/>
                  <a:pt x="472" y="1498"/>
                  <a:pt x="477" y="1494"/>
                </a:cubicBezTo>
                <a:cubicBezTo>
                  <a:pt x="486" y="1488"/>
                  <a:pt x="517" y="1467"/>
                  <a:pt x="531" y="1458"/>
                </a:cubicBezTo>
                <a:cubicBezTo>
                  <a:pt x="537" y="1454"/>
                  <a:pt x="549" y="1446"/>
                  <a:pt x="549" y="1446"/>
                </a:cubicBezTo>
                <a:cubicBezTo>
                  <a:pt x="553" y="1440"/>
                  <a:pt x="556" y="1433"/>
                  <a:pt x="561" y="1428"/>
                </a:cubicBezTo>
                <a:cubicBezTo>
                  <a:pt x="566" y="1423"/>
                  <a:pt x="578" y="1423"/>
                  <a:pt x="579" y="1416"/>
                </a:cubicBezTo>
                <a:cubicBezTo>
                  <a:pt x="587" y="1350"/>
                  <a:pt x="565" y="1301"/>
                  <a:pt x="513" y="1266"/>
                </a:cubicBezTo>
                <a:cubicBezTo>
                  <a:pt x="502" y="1233"/>
                  <a:pt x="493" y="1224"/>
                  <a:pt x="507" y="1188"/>
                </a:cubicBezTo>
                <a:cubicBezTo>
                  <a:pt x="512" y="1175"/>
                  <a:pt x="523" y="1164"/>
                  <a:pt x="531" y="1152"/>
                </a:cubicBezTo>
                <a:cubicBezTo>
                  <a:pt x="538" y="1141"/>
                  <a:pt x="567" y="1140"/>
                  <a:pt x="567" y="1140"/>
                </a:cubicBezTo>
                <a:cubicBezTo>
                  <a:pt x="594" y="1100"/>
                  <a:pt x="588" y="1098"/>
                  <a:pt x="621" y="1080"/>
                </a:cubicBezTo>
                <a:cubicBezTo>
                  <a:pt x="634" y="1073"/>
                  <a:pt x="657" y="1056"/>
                  <a:pt x="657" y="1056"/>
                </a:cubicBezTo>
                <a:cubicBezTo>
                  <a:pt x="661" y="1045"/>
                  <a:pt x="673" y="1026"/>
                  <a:pt x="645" y="1026"/>
                </a:cubicBezTo>
                <a:cubicBezTo>
                  <a:pt x="627" y="1026"/>
                  <a:pt x="542" y="1051"/>
                  <a:pt x="525" y="1062"/>
                </a:cubicBezTo>
                <a:cubicBezTo>
                  <a:pt x="513" y="1070"/>
                  <a:pt x="489" y="1086"/>
                  <a:pt x="489" y="1086"/>
                </a:cubicBezTo>
                <a:cubicBezTo>
                  <a:pt x="461" y="1127"/>
                  <a:pt x="479" y="1127"/>
                  <a:pt x="447" y="1116"/>
                </a:cubicBezTo>
                <a:cubicBezTo>
                  <a:pt x="431" y="1091"/>
                  <a:pt x="426" y="1066"/>
                  <a:pt x="417" y="1038"/>
                </a:cubicBezTo>
                <a:cubicBezTo>
                  <a:pt x="419" y="1012"/>
                  <a:pt x="419" y="986"/>
                  <a:pt x="423" y="960"/>
                </a:cubicBezTo>
                <a:cubicBezTo>
                  <a:pt x="429" y="922"/>
                  <a:pt x="451" y="884"/>
                  <a:pt x="459" y="846"/>
                </a:cubicBezTo>
                <a:cubicBezTo>
                  <a:pt x="471" y="791"/>
                  <a:pt x="473" y="733"/>
                  <a:pt x="477" y="678"/>
                </a:cubicBezTo>
                <a:cubicBezTo>
                  <a:pt x="475" y="616"/>
                  <a:pt x="475" y="554"/>
                  <a:pt x="471" y="492"/>
                </a:cubicBezTo>
                <a:cubicBezTo>
                  <a:pt x="470" y="470"/>
                  <a:pt x="447" y="457"/>
                  <a:pt x="441" y="438"/>
                </a:cubicBezTo>
                <a:cubicBezTo>
                  <a:pt x="419" y="372"/>
                  <a:pt x="355" y="285"/>
                  <a:pt x="297" y="246"/>
                </a:cubicBezTo>
                <a:cubicBezTo>
                  <a:pt x="235" y="205"/>
                  <a:pt x="169" y="173"/>
                  <a:pt x="99" y="150"/>
                </a:cubicBezTo>
                <a:cubicBezTo>
                  <a:pt x="87" y="146"/>
                  <a:pt x="75" y="141"/>
                  <a:pt x="63" y="138"/>
                </a:cubicBezTo>
                <a:cubicBezTo>
                  <a:pt x="47" y="134"/>
                  <a:pt x="15" y="126"/>
                  <a:pt x="15" y="126"/>
                </a:cubicBezTo>
                <a:cubicBezTo>
                  <a:pt x="0" y="82"/>
                  <a:pt x="34" y="84"/>
                  <a:pt x="69" y="72"/>
                </a:cubicBezTo>
                <a:cubicBezTo>
                  <a:pt x="148" y="46"/>
                  <a:pt x="201" y="25"/>
                  <a:pt x="285" y="18"/>
                </a:cubicBezTo>
                <a:cubicBezTo>
                  <a:pt x="309" y="12"/>
                  <a:pt x="332" y="5"/>
                  <a:pt x="357" y="0"/>
                </a:cubicBezTo>
                <a:cubicBezTo>
                  <a:pt x="410" y="4"/>
                  <a:pt x="454" y="13"/>
                  <a:pt x="507" y="18"/>
                </a:cubicBezTo>
                <a:cubicBezTo>
                  <a:pt x="559" y="35"/>
                  <a:pt x="611" y="49"/>
                  <a:pt x="663" y="66"/>
                </a:cubicBezTo>
                <a:cubicBezTo>
                  <a:pt x="677" y="71"/>
                  <a:pt x="685" y="87"/>
                  <a:pt x="699" y="90"/>
                </a:cubicBezTo>
                <a:cubicBezTo>
                  <a:pt x="723" y="96"/>
                  <a:pt x="739" y="100"/>
                  <a:pt x="759" y="114"/>
                </a:cubicBezTo>
                <a:cubicBezTo>
                  <a:pt x="793" y="166"/>
                  <a:pt x="748" y="105"/>
                  <a:pt x="789" y="138"/>
                </a:cubicBezTo>
                <a:cubicBezTo>
                  <a:pt x="795" y="143"/>
                  <a:pt x="796" y="151"/>
                  <a:pt x="801" y="156"/>
                </a:cubicBezTo>
                <a:cubicBezTo>
                  <a:pt x="806" y="161"/>
                  <a:pt x="813" y="164"/>
                  <a:pt x="819" y="168"/>
                </a:cubicBezTo>
                <a:cubicBezTo>
                  <a:pt x="838" y="197"/>
                  <a:pt x="874" y="203"/>
                  <a:pt x="903" y="222"/>
                </a:cubicBezTo>
                <a:cubicBezTo>
                  <a:pt x="914" y="256"/>
                  <a:pt x="936" y="261"/>
                  <a:pt x="957" y="288"/>
                </a:cubicBezTo>
                <a:cubicBezTo>
                  <a:pt x="988" y="328"/>
                  <a:pt x="1010" y="380"/>
                  <a:pt x="1053" y="408"/>
                </a:cubicBezTo>
                <a:cubicBezTo>
                  <a:pt x="1066" y="447"/>
                  <a:pt x="1096" y="482"/>
                  <a:pt x="1119" y="516"/>
                </a:cubicBezTo>
                <a:cubicBezTo>
                  <a:pt x="1141" y="549"/>
                  <a:pt x="1154" y="589"/>
                  <a:pt x="1173" y="624"/>
                </a:cubicBezTo>
                <a:cubicBezTo>
                  <a:pt x="1188" y="651"/>
                  <a:pt x="1206" y="668"/>
                  <a:pt x="1215" y="696"/>
                </a:cubicBezTo>
                <a:cubicBezTo>
                  <a:pt x="1221" y="757"/>
                  <a:pt x="1232" y="818"/>
                  <a:pt x="1251" y="876"/>
                </a:cubicBezTo>
                <a:cubicBezTo>
                  <a:pt x="1259" y="899"/>
                  <a:pt x="1263" y="948"/>
                  <a:pt x="1263" y="948"/>
                </a:cubicBezTo>
                <a:cubicBezTo>
                  <a:pt x="1254" y="1040"/>
                  <a:pt x="1261" y="1143"/>
                  <a:pt x="1239" y="1230"/>
                </a:cubicBezTo>
                <a:cubicBezTo>
                  <a:pt x="1230" y="1340"/>
                  <a:pt x="1187" y="1442"/>
                  <a:pt x="1143" y="1542"/>
                </a:cubicBezTo>
                <a:cubicBezTo>
                  <a:pt x="1124" y="1584"/>
                  <a:pt x="1120" y="1612"/>
                  <a:pt x="1095" y="1650"/>
                </a:cubicBezTo>
                <a:cubicBezTo>
                  <a:pt x="1072" y="1685"/>
                  <a:pt x="1058" y="1728"/>
                  <a:pt x="1023" y="1752"/>
                </a:cubicBezTo>
                <a:cubicBezTo>
                  <a:pt x="1016" y="1763"/>
                  <a:pt x="975" y="1834"/>
                  <a:pt x="963" y="1842"/>
                </a:cubicBezTo>
                <a:cubicBezTo>
                  <a:pt x="933" y="1862"/>
                  <a:pt x="894" y="1883"/>
                  <a:pt x="873" y="1914"/>
                </a:cubicBezTo>
                <a:cubicBezTo>
                  <a:pt x="865" y="1926"/>
                  <a:pt x="857" y="1938"/>
                  <a:pt x="849" y="1950"/>
                </a:cubicBezTo>
                <a:cubicBezTo>
                  <a:pt x="845" y="1956"/>
                  <a:pt x="844" y="1966"/>
                  <a:pt x="837" y="1968"/>
                </a:cubicBezTo>
                <a:cubicBezTo>
                  <a:pt x="806" y="1978"/>
                  <a:pt x="776" y="1996"/>
                  <a:pt x="747" y="2010"/>
                </a:cubicBezTo>
                <a:cubicBezTo>
                  <a:pt x="705" y="2031"/>
                  <a:pt x="661" y="2056"/>
                  <a:pt x="621" y="2082"/>
                </a:cubicBezTo>
                <a:cubicBezTo>
                  <a:pt x="605" y="2093"/>
                  <a:pt x="567" y="2106"/>
                  <a:pt x="567" y="2106"/>
                </a:cubicBezTo>
                <a:cubicBezTo>
                  <a:pt x="515" y="2104"/>
                  <a:pt x="463" y="2105"/>
                  <a:pt x="411" y="2100"/>
                </a:cubicBezTo>
                <a:cubicBezTo>
                  <a:pt x="364" y="2096"/>
                  <a:pt x="341" y="2065"/>
                  <a:pt x="303" y="2052"/>
                </a:cubicBezTo>
                <a:cubicBezTo>
                  <a:pt x="267" y="2040"/>
                  <a:pt x="256" y="2032"/>
                  <a:pt x="225" y="2010"/>
                </a:cubicBezTo>
                <a:cubicBezTo>
                  <a:pt x="213" y="2002"/>
                  <a:pt x="201" y="1994"/>
                  <a:pt x="189" y="1986"/>
                </a:cubicBezTo>
                <a:cubicBezTo>
                  <a:pt x="183" y="1982"/>
                  <a:pt x="171" y="1974"/>
                  <a:pt x="171" y="1974"/>
                </a:cubicBezTo>
                <a:cubicBezTo>
                  <a:pt x="139" y="1926"/>
                  <a:pt x="181" y="1984"/>
                  <a:pt x="141" y="1944"/>
                </a:cubicBezTo>
                <a:cubicBezTo>
                  <a:pt x="106" y="1909"/>
                  <a:pt x="119" y="1861"/>
                  <a:pt x="123" y="1818"/>
                </a:cubicBezTo>
                <a:close/>
              </a:path>
            </a:pathLst>
          </a:custGeom>
          <a:solidFill>
            <a:srgbClr val="00ff00">
              <a:alpha val="50000"/>
            </a:srgbClr>
          </a:solidFill>
          <a:ln w="57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1" name=""/>
          <p:cNvSpPr/>
          <p:nvPr/>
        </p:nvSpPr>
        <p:spPr>
          <a:xfrm>
            <a:off x="2295360" y="2495520"/>
            <a:ext cx="2381400" cy="3267000"/>
          </a:xfrm>
          <a:custGeom>
            <a:avLst/>
            <a:gdLst/>
            <a:ahLst/>
            <a:rect l="l" t="t" r="r" b="b"/>
            <a:pathLst>
              <a:path w="1500" h="2058">
                <a:moveTo>
                  <a:pt x="1392" y="1518"/>
                </a:moveTo>
                <a:cubicBezTo>
                  <a:pt x="1369" y="1541"/>
                  <a:pt x="1367" y="1567"/>
                  <a:pt x="1344" y="1590"/>
                </a:cubicBezTo>
                <a:cubicBezTo>
                  <a:pt x="1333" y="1645"/>
                  <a:pt x="1306" y="1695"/>
                  <a:pt x="1284" y="1746"/>
                </a:cubicBezTo>
                <a:cubicBezTo>
                  <a:pt x="1269" y="1780"/>
                  <a:pt x="1262" y="1829"/>
                  <a:pt x="1224" y="1842"/>
                </a:cubicBezTo>
                <a:cubicBezTo>
                  <a:pt x="1154" y="1912"/>
                  <a:pt x="1074" y="1970"/>
                  <a:pt x="984" y="2010"/>
                </a:cubicBezTo>
                <a:cubicBezTo>
                  <a:pt x="956" y="2023"/>
                  <a:pt x="923" y="2036"/>
                  <a:pt x="894" y="2046"/>
                </a:cubicBezTo>
                <a:cubicBezTo>
                  <a:pt x="882" y="2050"/>
                  <a:pt x="858" y="2058"/>
                  <a:pt x="858" y="2058"/>
                </a:cubicBezTo>
                <a:cubicBezTo>
                  <a:pt x="804" y="2056"/>
                  <a:pt x="750" y="2057"/>
                  <a:pt x="696" y="2052"/>
                </a:cubicBezTo>
                <a:cubicBezTo>
                  <a:pt x="689" y="2051"/>
                  <a:pt x="685" y="2043"/>
                  <a:pt x="678" y="2040"/>
                </a:cubicBezTo>
                <a:cubicBezTo>
                  <a:pt x="652" y="2029"/>
                  <a:pt x="622" y="2028"/>
                  <a:pt x="594" y="2022"/>
                </a:cubicBezTo>
                <a:cubicBezTo>
                  <a:pt x="577" y="2019"/>
                  <a:pt x="555" y="2006"/>
                  <a:pt x="540" y="1998"/>
                </a:cubicBezTo>
                <a:cubicBezTo>
                  <a:pt x="527" y="1991"/>
                  <a:pt x="504" y="1974"/>
                  <a:pt x="504" y="1974"/>
                </a:cubicBezTo>
                <a:cubicBezTo>
                  <a:pt x="496" y="1962"/>
                  <a:pt x="488" y="1950"/>
                  <a:pt x="480" y="1938"/>
                </a:cubicBezTo>
                <a:cubicBezTo>
                  <a:pt x="476" y="1933"/>
                  <a:pt x="468" y="1935"/>
                  <a:pt x="462" y="1932"/>
                </a:cubicBezTo>
                <a:cubicBezTo>
                  <a:pt x="449" y="1925"/>
                  <a:pt x="436" y="1918"/>
                  <a:pt x="426" y="1908"/>
                </a:cubicBezTo>
                <a:cubicBezTo>
                  <a:pt x="409" y="1891"/>
                  <a:pt x="398" y="1874"/>
                  <a:pt x="378" y="1860"/>
                </a:cubicBezTo>
                <a:cubicBezTo>
                  <a:pt x="363" y="1838"/>
                  <a:pt x="340" y="1815"/>
                  <a:pt x="318" y="1800"/>
                </a:cubicBezTo>
                <a:cubicBezTo>
                  <a:pt x="309" y="1787"/>
                  <a:pt x="297" y="1777"/>
                  <a:pt x="288" y="1764"/>
                </a:cubicBezTo>
                <a:cubicBezTo>
                  <a:pt x="284" y="1759"/>
                  <a:pt x="286" y="1751"/>
                  <a:pt x="282" y="1746"/>
                </a:cubicBezTo>
                <a:cubicBezTo>
                  <a:pt x="270" y="1728"/>
                  <a:pt x="251" y="1710"/>
                  <a:pt x="234" y="1698"/>
                </a:cubicBezTo>
                <a:cubicBezTo>
                  <a:pt x="230" y="1692"/>
                  <a:pt x="227" y="1685"/>
                  <a:pt x="222" y="1680"/>
                </a:cubicBezTo>
                <a:cubicBezTo>
                  <a:pt x="217" y="1675"/>
                  <a:pt x="209" y="1674"/>
                  <a:pt x="204" y="1668"/>
                </a:cubicBezTo>
                <a:cubicBezTo>
                  <a:pt x="200" y="1663"/>
                  <a:pt x="202" y="1655"/>
                  <a:pt x="198" y="1650"/>
                </a:cubicBezTo>
                <a:cubicBezTo>
                  <a:pt x="193" y="1643"/>
                  <a:pt x="186" y="1638"/>
                  <a:pt x="180" y="1632"/>
                </a:cubicBezTo>
                <a:cubicBezTo>
                  <a:pt x="172" y="1608"/>
                  <a:pt x="159" y="1598"/>
                  <a:pt x="138" y="1584"/>
                </a:cubicBezTo>
                <a:cubicBezTo>
                  <a:pt x="105" y="1535"/>
                  <a:pt x="105" y="1471"/>
                  <a:pt x="72" y="1422"/>
                </a:cubicBezTo>
                <a:cubicBezTo>
                  <a:pt x="52" y="1343"/>
                  <a:pt x="20" y="1267"/>
                  <a:pt x="0" y="1188"/>
                </a:cubicBezTo>
                <a:cubicBezTo>
                  <a:pt x="2" y="1064"/>
                  <a:pt x="2" y="940"/>
                  <a:pt x="6" y="816"/>
                </a:cubicBezTo>
                <a:cubicBezTo>
                  <a:pt x="9" y="708"/>
                  <a:pt x="91" y="533"/>
                  <a:pt x="144" y="438"/>
                </a:cubicBezTo>
                <a:cubicBezTo>
                  <a:pt x="167" y="397"/>
                  <a:pt x="195" y="345"/>
                  <a:pt x="228" y="312"/>
                </a:cubicBezTo>
                <a:cubicBezTo>
                  <a:pt x="256" y="284"/>
                  <a:pt x="289" y="260"/>
                  <a:pt x="318" y="234"/>
                </a:cubicBezTo>
                <a:cubicBezTo>
                  <a:pt x="343" y="212"/>
                  <a:pt x="364" y="188"/>
                  <a:pt x="390" y="168"/>
                </a:cubicBezTo>
                <a:cubicBezTo>
                  <a:pt x="401" y="159"/>
                  <a:pt x="426" y="144"/>
                  <a:pt x="426" y="144"/>
                </a:cubicBezTo>
                <a:cubicBezTo>
                  <a:pt x="443" y="119"/>
                  <a:pt x="466" y="116"/>
                  <a:pt x="492" y="102"/>
                </a:cubicBezTo>
                <a:cubicBezTo>
                  <a:pt x="505" y="95"/>
                  <a:pt x="516" y="86"/>
                  <a:pt x="528" y="78"/>
                </a:cubicBezTo>
                <a:cubicBezTo>
                  <a:pt x="564" y="54"/>
                  <a:pt x="649" y="44"/>
                  <a:pt x="690" y="30"/>
                </a:cubicBezTo>
                <a:cubicBezTo>
                  <a:pt x="712" y="23"/>
                  <a:pt x="728" y="7"/>
                  <a:pt x="750" y="0"/>
                </a:cubicBezTo>
                <a:cubicBezTo>
                  <a:pt x="814" y="2"/>
                  <a:pt x="878" y="2"/>
                  <a:pt x="942" y="6"/>
                </a:cubicBezTo>
                <a:cubicBezTo>
                  <a:pt x="1008" y="10"/>
                  <a:pt x="1073" y="47"/>
                  <a:pt x="1140" y="54"/>
                </a:cubicBezTo>
                <a:cubicBezTo>
                  <a:pt x="1196" y="73"/>
                  <a:pt x="1264" y="50"/>
                  <a:pt x="1320" y="36"/>
                </a:cubicBezTo>
                <a:cubicBezTo>
                  <a:pt x="1370" y="40"/>
                  <a:pt x="1442" y="6"/>
                  <a:pt x="1470" y="48"/>
                </a:cubicBezTo>
                <a:cubicBezTo>
                  <a:pt x="1489" y="77"/>
                  <a:pt x="1480" y="59"/>
                  <a:pt x="1494" y="102"/>
                </a:cubicBezTo>
                <a:cubicBezTo>
                  <a:pt x="1496" y="108"/>
                  <a:pt x="1500" y="120"/>
                  <a:pt x="1500" y="120"/>
                </a:cubicBezTo>
                <a:cubicBezTo>
                  <a:pt x="1494" y="137"/>
                  <a:pt x="1494" y="157"/>
                  <a:pt x="1488" y="174"/>
                </a:cubicBezTo>
                <a:lnTo>
                  <a:pt x="1464" y="228"/>
                </a:lnTo>
                <a:cubicBezTo>
                  <a:pt x="1464" y="228"/>
                  <a:pt x="1464" y="228"/>
                  <a:pt x="1464" y="228"/>
                </a:cubicBezTo>
                <a:cubicBezTo>
                  <a:pt x="1462" y="236"/>
                  <a:pt x="1462" y="245"/>
                  <a:pt x="1458" y="252"/>
                </a:cubicBezTo>
                <a:cubicBezTo>
                  <a:pt x="1444" y="276"/>
                  <a:pt x="1413" y="296"/>
                  <a:pt x="1404" y="324"/>
                </a:cubicBezTo>
                <a:cubicBezTo>
                  <a:pt x="1395" y="351"/>
                  <a:pt x="1382" y="376"/>
                  <a:pt x="1362" y="396"/>
                </a:cubicBezTo>
                <a:cubicBezTo>
                  <a:pt x="1352" y="425"/>
                  <a:pt x="1339" y="445"/>
                  <a:pt x="1314" y="462"/>
                </a:cubicBezTo>
                <a:cubicBezTo>
                  <a:pt x="1306" y="485"/>
                  <a:pt x="1296" y="510"/>
                  <a:pt x="1290" y="534"/>
                </a:cubicBezTo>
                <a:cubicBezTo>
                  <a:pt x="1290" y="534"/>
                  <a:pt x="1281" y="573"/>
                  <a:pt x="1278" y="576"/>
                </a:cubicBezTo>
                <a:cubicBezTo>
                  <a:pt x="1274" y="580"/>
                  <a:pt x="1266" y="580"/>
                  <a:pt x="1260" y="582"/>
                </a:cubicBezTo>
                <a:cubicBezTo>
                  <a:pt x="1258" y="588"/>
                  <a:pt x="1258" y="596"/>
                  <a:pt x="1254" y="600"/>
                </a:cubicBezTo>
                <a:cubicBezTo>
                  <a:pt x="1244" y="610"/>
                  <a:pt x="1218" y="624"/>
                  <a:pt x="1218" y="624"/>
                </a:cubicBezTo>
                <a:cubicBezTo>
                  <a:pt x="1160" y="619"/>
                  <a:pt x="1148" y="622"/>
                  <a:pt x="1104" y="600"/>
                </a:cubicBezTo>
                <a:cubicBezTo>
                  <a:pt x="1054" y="617"/>
                  <a:pt x="1134" y="591"/>
                  <a:pt x="1044" y="612"/>
                </a:cubicBezTo>
                <a:cubicBezTo>
                  <a:pt x="1014" y="619"/>
                  <a:pt x="997" y="629"/>
                  <a:pt x="972" y="642"/>
                </a:cubicBezTo>
                <a:cubicBezTo>
                  <a:pt x="949" y="653"/>
                  <a:pt x="918" y="658"/>
                  <a:pt x="894" y="666"/>
                </a:cubicBezTo>
                <a:cubicBezTo>
                  <a:pt x="873" y="673"/>
                  <a:pt x="858" y="690"/>
                  <a:pt x="840" y="702"/>
                </a:cubicBezTo>
                <a:cubicBezTo>
                  <a:pt x="834" y="706"/>
                  <a:pt x="822" y="714"/>
                  <a:pt x="822" y="714"/>
                </a:cubicBezTo>
                <a:cubicBezTo>
                  <a:pt x="794" y="755"/>
                  <a:pt x="772" y="798"/>
                  <a:pt x="744" y="840"/>
                </a:cubicBezTo>
                <a:cubicBezTo>
                  <a:pt x="737" y="851"/>
                  <a:pt x="736" y="864"/>
                  <a:pt x="732" y="876"/>
                </a:cubicBezTo>
                <a:cubicBezTo>
                  <a:pt x="730" y="882"/>
                  <a:pt x="726" y="894"/>
                  <a:pt x="726" y="894"/>
                </a:cubicBezTo>
                <a:cubicBezTo>
                  <a:pt x="720" y="949"/>
                  <a:pt x="714" y="964"/>
                  <a:pt x="720" y="1020"/>
                </a:cubicBezTo>
                <a:cubicBezTo>
                  <a:pt x="722" y="1086"/>
                  <a:pt x="722" y="1152"/>
                  <a:pt x="726" y="1218"/>
                </a:cubicBezTo>
                <a:cubicBezTo>
                  <a:pt x="727" y="1243"/>
                  <a:pt x="757" y="1284"/>
                  <a:pt x="768" y="1308"/>
                </a:cubicBezTo>
                <a:cubicBezTo>
                  <a:pt x="768" y="1308"/>
                  <a:pt x="783" y="1353"/>
                  <a:pt x="786" y="1362"/>
                </a:cubicBezTo>
                <a:cubicBezTo>
                  <a:pt x="788" y="1368"/>
                  <a:pt x="786" y="1378"/>
                  <a:pt x="792" y="1380"/>
                </a:cubicBezTo>
                <a:cubicBezTo>
                  <a:pt x="817" y="1388"/>
                  <a:pt x="826" y="1400"/>
                  <a:pt x="846" y="1416"/>
                </a:cubicBezTo>
                <a:cubicBezTo>
                  <a:pt x="886" y="1447"/>
                  <a:pt x="924" y="1478"/>
                  <a:pt x="972" y="1494"/>
                </a:cubicBezTo>
                <a:cubicBezTo>
                  <a:pt x="1006" y="1505"/>
                  <a:pt x="1040" y="1513"/>
                  <a:pt x="1074" y="1524"/>
                </a:cubicBezTo>
                <a:cubicBezTo>
                  <a:pt x="1086" y="1528"/>
                  <a:pt x="1110" y="1536"/>
                  <a:pt x="1110" y="1536"/>
                </a:cubicBezTo>
                <a:cubicBezTo>
                  <a:pt x="1216" y="1532"/>
                  <a:pt x="1290" y="1524"/>
                  <a:pt x="1392" y="1518"/>
                </a:cubicBezTo>
                <a:close/>
              </a:path>
            </a:pathLst>
          </a:custGeom>
          <a:solidFill>
            <a:srgbClr val="00ff00">
              <a:alpha val="50000"/>
            </a:srgbClr>
          </a:solidFill>
          <a:ln w="57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2" name=""/>
          <p:cNvSpPr/>
          <p:nvPr/>
        </p:nvSpPr>
        <p:spPr>
          <a:xfrm>
            <a:off x="752400" y="1581120"/>
            <a:ext cx="7632720" cy="4943520"/>
          </a:xfrm>
          <a:custGeom>
            <a:avLst/>
            <a:gdLst/>
            <a:ahLst/>
            <a:rect l="l" t="t" r="r" b="b"/>
            <a:pathLst>
              <a:path w="4808" h="3114">
                <a:moveTo>
                  <a:pt x="84" y="2700"/>
                </a:moveTo>
                <a:cubicBezTo>
                  <a:pt x="75" y="2674"/>
                  <a:pt x="59" y="2653"/>
                  <a:pt x="48" y="2628"/>
                </a:cubicBezTo>
                <a:cubicBezTo>
                  <a:pt x="43" y="2616"/>
                  <a:pt x="40" y="2604"/>
                  <a:pt x="36" y="2592"/>
                </a:cubicBezTo>
                <a:cubicBezTo>
                  <a:pt x="34" y="2586"/>
                  <a:pt x="30" y="2574"/>
                  <a:pt x="30" y="2574"/>
                </a:cubicBezTo>
                <a:cubicBezTo>
                  <a:pt x="19" y="2426"/>
                  <a:pt x="15" y="2278"/>
                  <a:pt x="0" y="2130"/>
                </a:cubicBezTo>
                <a:cubicBezTo>
                  <a:pt x="2" y="2084"/>
                  <a:pt x="3" y="2038"/>
                  <a:pt x="6" y="1992"/>
                </a:cubicBezTo>
                <a:cubicBezTo>
                  <a:pt x="8" y="1957"/>
                  <a:pt x="34" y="1860"/>
                  <a:pt x="54" y="1830"/>
                </a:cubicBezTo>
                <a:cubicBezTo>
                  <a:pt x="62" y="1818"/>
                  <a:pt x="73" y="1808"/>
                  <a:pt x="78" y="1794"/>
                </a:cubicBezTo>
                <a:cubicBezTo>
                  <a:pt x="88" y="1765"/>
                  <a:pt x="97" y="1726"/>
                  <a:pt x="126" y="1716"/>
                </a:cubicBezTo>
                <a:cubicBezTo>
                  <a:pt x="135" y="1690"/>
                  <a:pt x="147" y="1670"/>
                  <a:pt x="156" y="1644"/>
                </a:cubicBezTo>
                <a:cubicBezTo>
                  <a:pt x="153" y="1582"/>
                  <a:pt x="152" y="1507"/>
                  <a:pt x="132" y="1446"/>
                </a:cubicBezTo>
                <a:cubicBezTo>
                  <a:pt x="126" y="1402"/>
                  <a:pt x="125" y="1357"/>
                  <a:pt x="114" y="1314"/>
                </a:cubicBezTo>
                <a:cubicBezTo>
                  <a:pt x="118" y="1203"/>
                  <a:pt x="114" y="1157"/>
                  <a:pt x="144" y="1068"/>
                </a:cubicBezTo>
                <a:cubicBezTo>
                  <a:pt x="155" y="1034"/>
                  <a:pt x="161" y="998"/>
                  <a:pt x="192" y="978"/>
                </a:cubicBezTo>
                <a:cubicBezTo>
                  <a:pt x="204" y="941"/>
                  <a:pt x="231" y="895"/>
                  <a:pt x="270" y="882"/>
                </a:cubicBezTo>
                <a:cubicBezTo>
                  <a:pt x="278" y="858"/>
                  <a:pt x="294" y="852"/>
                  <a:pt x="312" y="834"/>
                </a:cubicBezTo>
                <a:cubicBezTo>
                  <a:pt x="324" y="799"/>
                  <a:pt x="356" y="779"/>
                  <a:pt x="390" y="768"/>
                </a:cubicBezTo>
                <a:cubicBezTo>
                  <a:pt x="406" y="752"/>
                  <a:pt x="417" y="729"/>
                  <a:pt x="438" y="720"/>
                </a:cubicBezTo>
                <a:cubicBezTo>
                  <a:pt x="472" y="705"/>
                  <a:pt x="469" y="715"/>
                  <a:pt x="492" y="696"/>
                </a:cubicBezTo>
                <a:cubicBezTo>
                  <a:pt x="525" y="669"/>
                  <a:pt x="577" y="620"/>
                  <a:pt x="618" y="606"/>
                </a:cubicBezTo>
                <a:cubicBezTo>
                  <a:pt x="622" y="600"/>
                  <a:pt x="625" y="593"/>
                  <a:pt x="630" y="588"/>
                </a:cubicBezTo>
                <a:cubicBezTo>
                  <a:pt x="635" y="583"/>
                  <a:pt x="643" y="581"/>
                  <a:pt x="648" y="576"/>
                </a:cubicBezTo>
                <a:cubicBezTo>
                  <a:pt x="697" y="520"/>
                  <a:pt x="650" y="555"/>
                  <a:pt x="690" y="528"/>
                </a:cubicBezTo>
                <a:cubicBezTo>
                  <a:pt x="733" y="464"/>
                  <a:pt x="666" y="561"/>
                  <a:pt x="720" y="492"/>
                </a:cubicBezTo>
                <a:cubicBezTo>
                  <a:pt x="760" y="441"/>
                  <a:pt x="766" y="418"/>
                  <a:pt x="828" y="390"/>
                </a:cubicBezTo>
                <a:cubicBezTo>
                  <a:pt x="903" y="357"/>
                  <a:pt x="825" y="404"/>
                  <a:pt x="900" y="354"/>
                </a:cubicBezTo>
                <a:cubicBezTo>
                  <a:pt x="906" y="350"/>
                  <a:pt x="918" y="342"/>
                  <a:pt x="918" y="342"/>
                </a:cubicBezTo>
                <a:cubicBezTo>
                  <a:pt x="950" y="294"/>
                  <a:pt x="985" y="277"/>
                  <a:pt x="1032" y="246"/>
                </a:cubicBezTo>
                <a:cubicBezTo>
                  <a:pt x="1102" y="200"/>
                  <a:pt x="1168" y="153"/>
                  <a:pt x="1248" y="126"/>
                </a:cubicBezTo>
                <a:cubicBezTo>
                  <a:pt x="1284" y="114"/>
                  <a:pt x="1318" y="90"/>
                  <a:pt x="1356" y="84"/>
                </a:cubicBezTo>
                <a:cubicBezTo>
                  <a:pt x="1380" y="80"/>
                  <a:pt x="1428" y="72"/>
                  <a:pt x="1428" y="72"/>
                </a:cubicBezTo>
                <a:cubicBezTo>
                  <a:pt x="1561" y="82"/>
                  <a:pt x="1667" y="103"/>
                  <a:pt x="1800" y="108"/>
                </a:cubicBezTo>
                <a:cubicBezTo>
                  <a:pt x="1950" y="146"/>
                  <a:pt x="2094" y="171"/>
                  <a:pt x="2250" y="180"/>
                </a:cubicBezTo>
                <a:cubicBezTo>
                  <a:pt x="2378" y="198"/>
                  <a:pt x="2306" y="193"/>
                  <a:pt x="2466" y="186"/>
                </a:cubicBezTo>
                <a:cubicBezTo>
                  <a:pt x="2552" y="157"/>
                  <a:pt x="2642" y="136"/>
                  <a:pt x="2730" y="114"/>
                </a:cubicBezTo>
                <a:cubicBezTo>
                  <a:pt x="2780" y="101"/>
                  <a:pt x="2825" y="72"/>
                  <a:pt x="2874" y="60"/>
                </a:cubicBezTo>
                <a:cubicBezTo>
                  <a:pt x="2971" y="36"/>
                  <a:pt x="3062" y="13"/>
                  <a:pt x="3162" y="0"/>
                </a:cubicBezTo>
                <a:cubicBezTo>
                  <a:pt x="3248" y="2"/>
                  <a:pt x="3334" y="1"/>
                  <a:pt x="3420" y="6"/>
                </a:cubicBezTo>
                <a:cubicBezTo>
                  <a:pt x="3428" y="6"/>
                  <a:pt x="3461" y="21"/>
                  <a:pt x="3474" y="24"/>
                </a:cubicBezTo>
                <a:cubicBezTo>
                  <a:pt x="3522" y="36"/>
                  <a:pt x="3567" y="53"/>
                  <a:pt x="3612" y="72"/>
                </a:cubicBezTo>
                <a:cubicBezTo>
                  <a:pt x="3642" y="85"/>
                  <a:pt x="3677" y="92"/>
                  <a:pt x="3708" y="102"/>
                </a:cubicBezTo>
                <a:cubicBezTo>
                  <a:pt x="3730" y="109"/>
                  <a:pt x="3762" y="132"/>
                  <a:pt x="3780" y="144"/>
                </a:cubicBezTo>
                <a:cubicBezTo>
                  <a:pt x="3844" y="187"/>
                  <a:pt x="3913" y="227"/>
                  <a:pt x="3978" y="270"/>
                </a:cubicBezTo>
                <a:cubicBezTo>
                  <a:pt x="4047" y="316"/>
                  <a:pt x="4125" y="350"/>
                  <a:pt x="4194" y="396"/>
                </a:cubicBezTo>
                <a:cubicBezTo>
                  <a:pt x="4228" y="419"/>
                  <a:pt x="4264" y="461"/>
                  <a:pt x="4302" y="474"/>
                </a:cubicBezTo>
                <a:cubicBezTo>
                  <a:pt x="4324" y="481"/>
                  <a:pt x="4343" y="491"/>
                  <a:pt x="4362" y="504"/>
                </a:cubicBezTo>
                <a:cubicBezTo>
                  <a:pt x="4385" y="538"/>
                  <a:pt x="4429" y="571"/>
                  <a:pt x="4464" y="594"/>
                </a:cubicBezTo>
                <a:cubicBezTo>
                  <a:pt x="4492" y="636"/>
                  <a:pt x="4476" y="622"/>
                  <a:pt x="4506" y="642"/>
                </a:cubicBezTo>
                <a:cubicBezTo>
                  <a:pt x="4549" y="706"/>
                  <a:pt x="4482" y="609"/>
                  <a:pt x="4536" y="678"/>
                </a:cubicBezTo>
                <a:cubicBezTo>
                  <a:pt x="4561" y="711"/>
                  <a:pt x="4578" y="750"/>
                  <a:pt x="4596" y="786"/>
                </a:cubicBezTo>
                <a:cubicBezTo>
                  <a:pt x="4605" y="804"/>
                  <a:pt x="4618" y="821"/>
                  <a:pt x="4626" y="840"/>
                </a:cubicBezTo>
                <a:cubicBezTo>
                  <a:pt x="4631" y="852"/>
                  <a:pt x="4638" y="876"/>
                  <a:pt x="4638" y="876"/>
                </a:cubicBezTo>
                <a:cubicBezTo>
                  <a:pt x="4640" y="934"/>
                  <a:pt x="4639" y="992"/>
                  <a:pt x="4644" y="1050"/>
                </a:cubicBezTo>
                <a:cubicBezTo>
                  <a:pt x="4645" y="1066"/>
                  <a:pt x="4651" y="1082"/>
                  <a:pt x="4656" y="1098"/>
                </a:cubicBezTo>
                <a:cubicBezTo>
                  <a:pt x="4660" y="1110"/>
                  <a:pt x="4668" y="1134"/>
                  <a:pt x="4668" y="1134"/>
                </a:cubicBezTo>
                <a:cubicBezTo>
                  <a:pt x="4673" y="1209"/>
                  <a:pt x="4686" y="1277"/>
                  <a:pt x="4704" y="1350"/>
                </a:cubicBezTo>
                <a:cubicBezTo>
                  <a:pt x="4706" y="1392"/>
                  <a:pt x="4705" y="1434"/>
                  <a:pt x="4710" y="1476"/>
                </a:cubicBezTo>
                <a:cubicBezTo>
                  <a:pt x="4715" y="1524"/>
                  <a:pt x="4720" y="1499"/>
                  <a:pt x="4734" y="1530"/>
                </a:cubicBezTo>
                <a:cubicBezTo>
                  <a:pt x="4755" y="1577"/>
                  <a:pt x="4778" y="1626"/>
                  <a:pt x="4794" y="1674"/>
                </a:cubicBezTo>
                <a:cubicBezTo>
                  <a:pt x="4800" y="1791"/>
                  <a:pt x="4808" y="1887"/>
                  <a:pt x="4794" y="2010"/>
                </a:cubicBezTo>
                <a:cubicBezTo>
                  <a:pt x="4792" y="2024"/>
                  <a:pt x="4778" y="2034"/>
                  <a:pt x="4770" y="2046"/>
                </a:cubicBezTo>
                <a:cubicBezTo>
                  <a:pt x="4763" y="2057"/>
                  <a:pt x="4762" y="2070"/>
                  <a:pt x="4758" y="2082"/>
                </a:cubicBezTo>
                <a:cubicBezTo>
                  <a:pt x="4732" y="2160"/>
                  <a:pt x="4702" y="2235"/>
                  <a:pt x="4686" y="2316"/>
                </a:cubicBezTo>
                <a:cubicBezTo>
                  <a:pt x="4679" y="2416"/>
                  <a:pt x="4664" y="2465"/>
                  <a:pt x="4626" y="2550"/>
                </a:cubicBezTo>
                <a:cubicBezTo>
                  <a:pt x="4618" y="2567"/>
                  <a:pt x="4621" y="2591"/>
                  <a:pt x="4608" y="2604"/>
                </a:cubicBezTo>
                <a:cubicBezTo>
                  <a:pt x="4586" y="2626"/>
                  <a:pt x="4573" y="2656"/>
                  <a:pt x="4548" y="2676"/>
                </a:cubicBezTo>
                <a:cubicBezTo>
                  <a:pt x="4537" y="2685"/>
                  <a:pt x="4522" y="2690"/>
                  <a:pt x="4512" y="2700"/>
                </a:cubicBezTo>
                <a:cubicBezTo>
                  <a:pt x="4481" y="2731"/>
                  <a:pt x="4458" y="2746"/>
                  <a:pt x="4422" y="2766"/>
                </a:cubicBezTo>
                <a:cubicBezTo>
                  <a:pt x="4411" y="2772"/>
                  <a:pt x="4387" y="2795"/>
                  <a:pt x="4368" y="2796"/>
                </a:cubicBezTo>
                <a:cubicBezTo>
                  <a:pt x="4314" y="2800"/>
                  <a:pt x="4260" y="2800"/>
                  <a:pt x="4206" y="2802"/>
                </a:cubicBezTo>
                <a:cubicBezTo>
                  <a:pt x="4171" y="2808"/>
                  <a:pt x="4140" y="2812"/>
                  <a:pt x="4110" y="2832"/>
                </a:cubicBezTo>
                <a:cubicBezTo>
                  <a:pt x="4096" y="2853"/>
                  <a:pt x="4086" y="2866"/>
                  <a:pt x="4062" y="2874"/>
                </a:cubicBezTo>
                <a:cubicBezTo>
                  <a:pt x="4013" y="2947"/>
                  <a:pt x="3911" y="3000"/>
                  <a:pt x="3828" y="3018"/>
                </a:cubicBezTo>
                <a:cubicBezTo>
                  <a:pt x="3801" y="3024"/>
                  <a:pt x="3779" y="3047"/>
                  <a:pt x="3750" y="3048"/>
                </a:cubicBezTo>
                <a:cubicBezTo>
                  <a:pt x="3676" y="3052"/>
                  <a:pt x="3602" y="3053"/>
                  <a:pt x="3528" y="3054"/>
                </a:cubicBezTo>
                <a:cubicBezTo>
                  <a:pt x="3388" y="3057"/>
                  <a:pt x="3248" y="3058"/>
                  <a:pt x="3108" y="3060"/>
                </a:cubicBezTo>
                <a:cubicBezTo>
                  <a:pt x="2820" y="3079"/>
                  <a:pt x="2984" y="3071"/>
                  <a:pt x="2616" y="3078"/>
                </a:cubicBezTo>
                <a:cubicBezTo>
                  <a:pt x="2372" y="3067"/>
                  <a:pt x="2129" y="3079"/>
                  <a:pt x="1884" y="3084"/>
                </a:cubicBezTo>
                <a:cubicBezTo>
                  <a:pt x="1793" y="3114"/>
                  <a:pt x="1692" y="3088"/>
                  <a:pt x="1596" y="3102"/>
                </a:cubicBezTo>
                <a:cubicBezTo>
                  <a:pt x="1402" y="3098"/>
                  <a:pt x="1314" y="3089"/>
                  <a:pt x="1152" y="3078"/>
                </a:cubicBezTo>
                <a:cubicBezTo>
                  <a:pt x="1072" y="3051"/>
                  <a:pt x="961" y="3075"/>
                  <a:pt x="882" y="3078"/>
                </a:cubicBezTo>
                <a:cubicBezTo>
                  <a:pt x="767" y="3097"/>
                  <a:pt x="834" y="3089"/>
                  <a:pt x="678" y="3096"/>
                </a:cubicBezTo>
                <a:cubicBezTo>
                  <a:pt x="630" y="3090"/>
                  <a:pt x="567" y="3088"/>
                  <a:pt x="522" y="3066"/>
                </a:cubicBezTo>
                <a:cubicBezTo>
                  <a:pt x="485" y="3048"/>
                  <a:pt x="453" y="3019"/>
                  <a:pt x="414" y="3006"/>
                </a:cubicBezTo>
                <a:cubicBezTo>
                  <a:pt x="408" y="3000"/>
                  <a:pt x="403" y="2993"/>
                  <a:pt x="396" y="2988"/>
                </a:cubicBezTo>
                <a:cubicBezTo>
                  <a:pt x="385" y="2979"/>
                  <a:pt x="360" y="2964"/>
                  <a:pt x="360" y="2964"/>
                </a:cubicBezTo>
                <a:cubicBezTo>
                  <a:pt x="346" y="2942"/>
                  <a:pt x="333" y="2942"/>
                  <a:pt x="312" y="2928"/>
                </a:cubicBezTo>
                <a:cubicBezTo>
                  <a:pt x="296" y="2904"/>
                  <a:pt x="276" y="2878"/>
                  <a:pt x="252" y="2862"/>
                </a:cubicBezTo>
                <a:cubicBezTo>
                  <a:pt x="239" y="2842"/>
                  <a:pt x="203" y="2789"/>
                  <a:pt x="186" y="2778"/>
                </a:cubicBezTo>
                <a:cubicBezTo>
                  <a:pt x="170" y="2768"/>
                  <a:pt x="150" y="2766"/>
                  <a:pt x="132" y="2760"/>
                </a:cubicBezTo>
                <a:cubicBezTo>
                  <a:pt x="126" y="2758"/>
                  <a:pt x="114" y="2754"/>
                  <a:pt x="114" y="2754"/>
                </a:cubicBezTo>
                <a:cubicBezTo>
                  <a:pt x="108" y="2746"/>
                  <a:pt x="100" y="2739"/>
                  <a:pt x="96" y="2730"/>
                </a:cubicBezTo>
                <a:cubicBezTo>
                  <a:pt x="83" y="2705"/>
                  <a:pt x="84" y="2679"/>
                  <a:pt x="84" y="2700"/>
                </a:cubicBezTo>
                <a:close/>
              </a:path>
            </a:pathLst>
          </a:custGeom>
          <a:noFill/>
          <a:ln w="572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3" name=""/>
          <p:cNvSpPr/>
          <p:nvPr/>
        </p:nvSpPr>
        <p:spPr>
          <a:xfrm>
            <a:off x="3124080" y="3200400"/>
            <a:ext cx="2362320" cy="2133720"/>
          </a:xfrm>
          <a:custGeom>
            <a:avLst/>
            <a:gdLst/>
            <a:ahLst/>
            <a:rect l="l" t="t" r="r" b="b"/>
            <a:pathLst>
              <a:path w="1279" h="1098">
                <a:moveTo>
                  <a:pt x="67" y="697"/>
                </a:moveTo>
                <a:cubicBezTo>
                  <a:pt x="79" y="732"/>
                  <a:pt x="90" y="770"/>
                  <a:pt x="121" y="790"/>
                </a:cubicBezTo>
                <a:cubicBezTo>
                  <a:pt x="138" y="816"/>
                  <a:pt x="157" y="837"/>
                  <a:pt x="174" y="864"/>
                </a:cubicBezTo>
                <a:cubicBezTo>
                  <a:pt x="201" y="906"/>
                  <a:pt x="157" y="862"/>
                  <a:pt x="194" y="904"/>
                </a:cubicBezTo>
                <a:cubicBezTo>
                  <a:pt x="272" y="994"/>
                  <a:pt x="196" y="904"/>
                  <a:pt x="248" y="951"/>
                </a:cubicBezTo>
                <a:cubicBezTo>
                  <a:pt x="260" y="961"/>
                  <a:pt x="266" y="981"/>
                  <a:pt x="281" y="985"/>
                </a:cubicBezTo>
                <a:cubicBezTo>
                  <a:pt x="317" y="995"/>
                  <a:pt x="346" y="1017"/>
                  <a:pt x="382" y="1025"/>
                </a:cubicBezTo>
                <a:cubicBezTo>
                  <a:pt x="478" y="1046"/>
                  <a:pt x="573" y="1081"/>
                  <a:pt x="670" y="1098"/>
                </a:cubicBezTo>
                <a:cubicBezTo>
                  <a:pt x="711" y="1093"/>
                  <a:pt x="745" y="1077"/>
                  <a:pt x="784" y="1072"/>
                </a:cubicBezTo>
                <a:cubicBezTo>
                  <a:pt x="831" y="1065"/>
                  <a:pt x="878" y="1066"/>
                  <a:pt x="924" y="1052"/>
                </a:cubicBezTo>
                <a:cubicBezTo>
                  <a:pt x="964" y="1040"/>
                  <a:pt x="999" y="1017"/>
                  <a:pt x="1038" y="1005"/>
                </a:cubicBezTo>
                <a:cubicBezTo>
                  <a:pt x="1081" y="962"/>
                  <a:pt x="1120" y="911"/>
                  <a:pt x="1159" y="864"/>
                </a:cubicBezTo>
                <a:cubicBezTo>
                  <a:pt x="1174" y="846"/>
                  <a:pt x="1176" y="827"/>
                  <a:pt x="1192" y="810"/>
                </a:cubicBezTo>
                <a:cubicBezTo>
                  <a:pt x="1215" y="745"/>
                  <a:pt x="1241" y="683"/>
                  <a:pt x="1259" y="616"/>
                </a:cubicBezTo>
                <a:cubicBezTo>
                  <a:pt x="1268" y="583"/>
                  <a:pt x="1279" y="516"/>
                  <a:pt x="1279" y="516"/>
                </a:cubicBezTo>
                <a:cubicBezTo>
                  <a:pt x="1273" y="478"/>
                  <a:pt x="1271" y="423"/>
                  <a:pt x="1253" y="388"/>
                </a:cubicBezTo>
                <a:cubicBezTo>
                  <a:pt x="1250" y="382"/>
                  <a:pt x="1243" y="380"/>
                  <a:pt x="1239" y="375"/>
                </a:cubicBezTo>
                <a:cubicBezTo>
                  <a:pt x="1221" y="353"/>
                  <a:pt x="1204" y="330"/>
                  <a:pt x="1186" y="308"/>
                </a:cubicBezTo>
                <a:cubicBezTo>
                  <a:pt x="1174" y="294"/>
                  <a:pt x="1156" y="283"/>
                  <a:pt x="1145" y="268"/>
                </a:cubicBezTo>
                <a:cubicBezTo>
                  <a:pt x="1109" y="221"/>
                  <a:pt x="1079" y="159"/>
                  <a:pt x="1018" y="141"/>
                </a:cubicBezTo>
                <a:cubicBezTo>
                  <a:pt x="998" y="127"/>
                  <a:pt x="981" y="122"/>
                  <a:pt x="958" y="114"/>
                </a:cubicBezTo>
                <a:cubicBezTo>
                  <a:pt x="940" y="95"/>
                  <a:pt x="925" y="99"/>
                  <a:pt x="904" y="87"/>
                </a:cubicBezTo>
                <a:cubicBezTo>
                  <a:pt x="841" y="52"/>
                  <a:pt x="888" y="65"/>
                  <a:pt x="837" y="54"/>
                </a:cubicBezTo>
                <a:cubicBezTo>
                  <a:pt x="791" y="22"/>
                  <a:pt x="707" y="15"/>
                  <a:pt x="650" y="0"/>
                </a:cubicBezTo>
                <a:cubicBezTo>
                  <a:pt x="539" y="10"/>
                  <a:pt x="466" y="43"/>
                  <a:pt x="362" y="67"/>
                </a:cubicBezTo>
                <a:cubicBezTo>
                  <a:pt x="293" y="83"/>
                  <a:pt x="161" y="109"/>
                  <a:pt x="107" y="154"/>
                </a:cubicBezTo>
                <a:cubicBezTo>
                  <a:pt x="68" y="186"/>
                  <a:pt x="72" y="236"/>
                  <a:pt x="40" y="268"/>
                </a:cubicBezTo>
                <a:cubicBezTo>
                  <a:pt x="32" y="295"/>
                  <a:pt x="23" y="321"/>
                  <a:pt x="14" y="348"/>
                </a:cubicBezTo>
                <a:cubicBezTo>
                  <a:pt x="10" y="361"/>
                  <a:pt x="0" y="388"/>
                  <a:pt x="0" y="388"/>
                </a:cubicBezTo>
                <a:cubicBezTo>
                  <a:pt x="5" y="489"/>
                  <a:pt x="7" y="517"/>
                  <a:pt x="27" y="596"/>
                </a:cubicBezTo>
                <a:cubicBezTo>
                  <a:pt x="34" y="622"/>
                  <a:pt x="36" y="675"/>
                  <a:pt x="54" y="697"/>
                </a:cubicBezTo>
                <a:cubicBezTo>
                  <a:pt x="59" y="703"/>
                  <a:pt x="66" y="710"/>
                  <a:pt x="74" y="710"/>
                </a:cubicBezTo>
                <a:cubicBezTo>
                  <a:pt x="79" y="710"/>
                  <a:pt x="69" y="701"/>
                  <a:pt x="67" y="697"/>
                </a:cubicBezTo>
                <a:close/>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4" name=""/>
          <p:cNvSpPr/>
          <p:nvPr/>
        </p:nvSpPr>
        <p:spPr>
          <a:xfrm>
            <a:off x="2819520" y="2971800"/>
            <a:ext cx="2895480" cy="2616120"/>
          </a:xfrm>
          <a:custGeom>
            <a:avLst/>
            <a:gdLst/>
            <a:ahLst/>
            <a:rect l="l" t="t" r="r" b="b"/>
            <a:pathLst>
              <a:path w="1279" h="1098">
                <a:moveTo>
                  <a:pt x="67" y="697"/>
                </a:moveTo>
                <a:cubicBezTo>
                  <a:pt x="79" y="732"/>
                  <a:pt x="90" y="770"/>
                  <a:pt x="121" y="790"/>
                </a:cubicBezTo>
                <a:cubicBezTo>
                  <a:pt x="138" y="816"/>
                  <a:pt x="157" y="837"/>
                  <a:pt x="174" y="864"/>
                </a:cubicBezTo>
                <a:cubicBezTo>
                  <a:pt x="201" y="906"/>
                  <a:pt x="157" y="862"/>
                  <a:pt x="194" y="904"/>
                </a:cubicBezTo>
                <a:cubicBezTo>
                  <a:pt x="272" y="994"/>
                  <a:pt x="196" y="904"/>
                  <a:pt x="248" y="951"/>
                </a:cubicBezTo>
                <a:cubicBezTo>
                  <a:pt x="260" y="961"/>
                  <a:pt x="266" y="981"/>
                  <a:pt x="281" y="985"/>
                </a:cubicBezTo>
                <a:cubicBezTo>
                  <a:pt x="317" y="995"/>
                  <a:pt x="346" y="1017"/>
                  <a:pt x="382" y="1025"/>
                </a:cubicBezTo>
                <a:cubicBezTo>
                  <a:pt x="478" y="1046"/>
                  <a:pt x="573" y="1081"/>
                  <a:pt x="670" y="1098"/>
                </a:cubicBezTo>
                <a:cubicBezTo>
                  <a:pt x="711" y="1093"/>
                  <a:pt x="745" y="1077"/>
                  <a:pt x="784" y="1072"/>
                </a:cubicBezTo>
                <a:cubicBezTo>
                  <a:pt x="831" y="1065"/>
                  <a:pt x="878" y="1066"/>
                  <a:pt x="924" y="1052"/>
                </a:cubicBezTo>
                <a:cubicBezTo>
                  <a:pt x="964" y="1040"/>
                  <a:pt x="999" y="1017"/>
                  <a:pt x="1038" y="1005"/>
                </a:cubicBezTo>
                <a:cubicBezTo>
                  <a:pt x="1081" y="962"/>
                  <a:pt x="1120" y="911"/>
                  <a:pt x="1159" y="864"/>
                </a:cubicBezTo>
                <a:cubicBezTo>
                  <a:pt x="1174" y="846"/>
                  <a:pt x="1176" y="827"/>
                  <a:pt x="1192" y="810"/>
                </a:cubicBezTo>
                <a:cubicBezTo>
                  <a:pt x="1215" y="745"/>
                  <a:pt x="1241" y="683"/>
                  <a:pt x="1259" y="616"/>
                </a:cubicBezTo>
                <a:cubicBezTo>
                  <a:pt x="1268" y="583"/>
                  <a:pt x="1279" y="516"/>
                  <a:pt x="1279" y="516"/>
                </a:cubicBezTo>
                <a:cubicBezTo>
                  <a:pt x="1273" y="478"/>
                  <a:pt x="1271" y="423"/>
                  <a:pt x="1253" y="388"/>
                </a:cubicBezTo>
                <a:cubicBezTo>
                  <a:pt x="1250" y="382"/>
                  <a:pt x="1243" y="380"/>
                  <a:pt x="1239" y="375"/>
                </a:cubicBezTo>
                <a:cubicBezTo>
                  <a:pt x="1221" y="353"/>
                  <a:pt x="1204" y="330"/>
                  <a:pt x="1186" y="308"/>
                </a:cubicBezTo>
                <a:cubicBezTo>
                  <a:pt x="1174" y="294"/>
                  <a:pt x="1156" y="283"/>
                  <a:pt x="1145" y="268"/>
                </a:cubicBezTo>
                <a:cubicBezTo>
                  <a:pt x="1109" y="221"/>
                  <a:pt x="1079" y="159"/>
                  <a:pt x="1018" y="141"/>
                </a:cubicBezTo>
                <a:cubicBezTo>
                  <a:pt x="998" y="127"/>
                  <a:pt x="981" y="122"/>
                  <a:pt x="958" y="114"/>
                </a:cubicBezTo>
                <a:cubicBezTo>
                  <a:pt x="940" y="95"/>
                  <a:pt x="925" y="99"/>
                  <a:pt x="904" y="87"/>
                </a:cubicBezTo>
                <a:cubicBezTo>
                  <a:pt x="841" y="52"/>
                  <a:pt x="888" y="65"/>
                  <a:pt x="837" y="54"/>
                </a:cubicBezTo>
                <a:cubicBezTo>
                  <a:pt x="791" y="22"/>
                  <a:pt x="707" y="15"/>
                  <a:pt x="650" y="0"/>
                </a:cubicBezTo>
                <a:cubicBezTo>
                  <a:pt x="539" y="10"/>
                  <a:pt x="466" y="43"/>
                  <a:pt x="362" y="67"/>
                </a:cubicBezTo>
                <a:cubicBezTo>
                  <a:pt x="293" y="83"/>
                  <a:pt x="161" y="109"/>
                  <a:pt x="107" y="154"/>
                </a:cubicBezTo>
                <a:cubicBezTo>
                  <a:pt x="68" y="186"/>
                  <a:pt x="72" y="236"/>
                  <a:pt x="40" y="268"/>
                </a:cubicBezTo>
                <a:cubicBezTo>
                  <a:pt x="32" y="295"/>
                  <a:pt x="23" y="321"/>
                  <a:pt x="14" y="348"/>
                </a:cubicBezTo>
                <a:cubicBezTo>
                  <a:pt x="10" y="361"/>
                  <a:pt x="0" y="388"/>
                  <a:pt x="0" y="388"/>
                </a:cubicBezTo>
                <a:cubicBezTo>
                  <a:pt x="5" y="489"/>
                  <a:pt x="7" y="517"/>
                  <a:pt x="27" y="596"/>
                </a:cubicBezTo>
                <a:cubicBezTo>
                  <a:pt x="34" y="622"/>
                  <a:pt x="36" y="675"/>
                  <a:pt x="54" y="697"/>
                </a:cubicBezTo>
                <a:cubicBezTo>
                  <a:pt x="59" y="703"/>
                  <a:pt x="66" y="710"/>
                  <a:pt x="74" y="710"/>
                </a:cubicBezTo>
                <a:cubicBezTo>
                  <a:pt x="79" y="710"/>
                  <a:pt x="69" y="701"/>
                  <a:pt x="67" y="697"/>
                </a:cubicBezTo>
                <a:close/>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5" name=""/>
          <p:cNvSpPr/>
          <p:nvPr/>
        </p:nvSpPr>
        <p:spPr>
          <a:xfrm>
            <a:off x="2514600" y="2743200"/>
            <a:ext cx="3581280" cy="3098880"/>
          </a:xfrm>
          <a:custGeom>
            <a:avLst/>
            <a:gdLst/>
            <a:ahLst/>
            <a:rect l="l" t="t" r="r" b="b"/>
            <a:pathLst>
              <a:path w="1279" h="1098">
                <a:moveTo>
                  <a:pt x="67" y="697"/>
                </a:moveTo>
                <a:cubicBezTo>
                  <a:pt x="79" y="732"/>
                  <a:pt x="90" y="770"/>
                  <a:pt x="121" y="790"/>
                </a:cubicBezTo>
                <a:cubicBezTo>
                  <a:pt x="138" y="816"/>
                  <a:pt x="157" y="837"/>
                  <a:pt x="174" y="864"/>
                </a:cubicBezTo>
                <a:cubicBezTo>
                  <a:pt x="201" y="906"/>
                  <a:pt x="157" y="862"/>
                  <a:pt x="194" y="904"/>
                </a:cubicBezTo>
                <a:cubicBezTo>
                  <a:pt x="272" y="994"/>
                  <a:pt x="196" y="904"/>
                  <a:pt x="248" y="951"/>
                </a:cubicBezTo>
                <a:cubicBezTo>
                  <a:pt x="260" y="961"/>
                  <a:pt x="266" y="981"/>
                  <a:pt x="281" y="985"/>
                </a:cubicBezTo>
                <a:cubicBezTo>
                  <a:pt x="317" y="995"/>
                  <a:pt x="346" y="1017"/>
                  <a:pt x="382" y="1025"/>
                </a:cubicBezTo>
                <a:cubicBezTo>
                  <a:pt x="478" y="1046"/>
                  <a:pt x="573" y="1081"/>
                  <a:pt x="670" y="1098"/>
                </a:cubicBezTo>
                <a:cubicBezTo>
                  <a:pt x="711" y="1093"/>
                  <a:pt x="745" y="1077"/>
                  <a:pt x="784" y="1072"/>
                </a:cubicBezTo>
                <a:cubicBezTo>
                  <a:pt x="831" y="1065"/>
                  <a:pt x="878" y="1066"/>
                  <a:pt x="924" y="1052"/>
                </a:cubicBezTo>
                <a:cubicBezTo>
                  <a:pt x="964" y="1040"/>
                  <a:pt x="999" y="1017"/>
                  <a:pt x="1038" y="1005"/>
                </a:cubicBezTo>
                <a:cubicBezTo>
                  <a:pt x="1081" y="962"/>
                  <a:pt x="1120" y="911"/>
                  <a:pt x="1159" y="864"/>
                </a:cubicBezTo>
                <a:cubicBezTo>
                  <a:pt x="1174" y="846"/>
                  <a:pt x="1176" y="827"/>
                  <a:pt x="1192" y="810"/>
                </a:cubicBezTo>
                <a:cubicBezTo>
                  <a:pt x="1215" y="745"/>
                  <a:pt x="1241" y="683"/>
                  <a:pt x="1259" y="616"/>
                </a:cubicBezTo>
                <a:cubicBezTo>
                  <a:pt x="1268" y="583"/>
                  <a:pt x="1279" y="516"/>
                  <a:pt x="1279" y="516"/>
                </a:cubicBezTo>
                <a:cubicBezTo>
                  <a:pt x="1273" y="478"/>
                  <a:pt x="1271" y="423"/>
                  <a:pt x="1253" y="388"/>
                </a:cubicBezTo>
                <a:cubicBezTo>
                  <a:pt x="1250" y="382"/>
                  <a:pt x="1243" y="380"/>
                  <a:pt x="1239" y="375"/>
                </a:cubicBezTo>
                <a:cubicBezTo>
                  <a:pt x="1221" y="353"/>
                  <a:pt x="1204" y="330"/>
                  <a:pt x="1186" y="308"/>
                </a:cubicBezTo>
                <a:cubicBezTo>
                  <a:pt x="1174" y="294"/>
                  <a:pt x="1156" y="283"/>
                  <a:pt x="1145" y="268"/>
                </a:cubicBezTo>
                <a:cubicBezTo>
                  <a:pt x="1109" y="221"/>
                  <a:pt x="1079" y="159"/>
                  <a:pt x="1018" y="141"/>
                </a:cubicBezTo>
                <a:cubicBezTo>
                  <a:pt x="998" y="127"/>
                  <a:pt x="981" y="122"/>
                  <a:pt x="958" y="114"/>
                </a:cubicBezTo>
                <a:cubicBezTo>
                  <a:pt x="940" y="95"/>
                  <a:pt x="925" y="99"/>
                  <a:pt x="904" y="87"/>
                </a:cubicBezTo>
                <a:cubicBezTo>
                  <a:pt x="841" y="52"/>
                  <a:pt x="888" y="65"/>
                  <a:pt x="837" y="54"/>
                </a:cubicBezTo>
                <a:cubicBezTo>
                  <a:pt x="791" y="22"/>
                  <a:pt x="707" y="15"/>
                  <a:pt x="650" y="0"/>
                </a:cubicBezTo>
                <a:cubicBezTo>
                  <a:pt x="539" y="10"/>
                  <a:pt x="466" y="43"/>
                  <a:pt x="362" y="67"/>
                </a:cubicBezTo>
                <a:cubicBezTo>
                  <a:pt x="293" y="83"/>
                  <a:pt x="161" y="109"/>
                  <a:pt x="107" y="154"/>
                </a:cubicBezTo>
                <a:cubicBezTo>
                  <a:pt x="68" y="186"/>
                  <a:pt x="72" y="236"/>
                  <a:pt x="40" y="268"/>
                </a:cubicBezTo>
                <a:cubicBezTo>
                  <a:pt x="32" y="295"/>
                  <a:pt x="23" y="321"/>
                  <a:pt x="14" y="348"/>
                </a:cubicBezTo>
                <a:cubicBezTo>
                  <a:pt x="10" y="361"/>
                  <a:pt x="0" y="388"/>
                  <a:pt x="0" y="388"/>
                </a:cubicBezTo>
                <a:cubicBezTo>
                  <a:pt x="5" y="489"/>
                  <a:pt x="7" y="517"/>
                  <a:pt x="27" y="596"/>
                </a:cubicBezTo>
                <a:cubicBezTo>
                  <a:pt x="34" y="622"/>
                  <a:pt x="36" y="675"/>
                  <a:pt x="54" y="697"/>
                </a:cubicBezTo>
                <a:cubicBezTo>
                  <a:pt x="59" y="703"/>
                  <a:pt x="66" y="710"/>
                  <a:pt x="74" y="710"/>
                </a:cubicBezTo>
                <a:cubicBezTo>
                  <a:pt x="79" y="710"/>
                  <a:pt x="69" y="701"/>
                  <a:pt x="67" y="697"/>
                </a:cubicBezTo>
                <a:close/>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6" name=""/>
          <p:cNvSpPr/>
          <p:nvPr/>
        </p:nvSpPr>
        <p:spPr>
          <a:xfrm>
            <a:off x="2209680" y="2438280"/>
            <a:ext cx="4267440" cy="3692520"/>
          </a:xfrm>
          <a:custGeom>
            <a:avLst/>
            <a:gdLst/>
            <a:ahLst/>
            <a:rect l="l" t="t" r="r" b="b"/>
            <a:pathLst>
              <a:path w="1279" h="1098">
                <a:moveTo>
                  <a:pt x="67" y="697"/>
                </a:moveTo>
                <a:cubicBezTo>
                  <a:pt x="79" y="732"/>
                  <a:pt x="90" y="770"/>
                  <a:pt x="121" y="790"/>
                </a:cubicBezTo>
                <a:cubicBezTo>
                  <a:pt x="138" y="816"/>
                  <a:pt x="157" y="837"/>
                  <a:pt x="174" y="864"/>
                </a:cubicBezTo>
                <a:cubicBezTo>
                  <a:pt x="201" y="906"/>
                  <a:pt x="157" y="862"/>
                  <a:pt x="194" y="904"/>
                </a:cubicBezTo>
                <a:cubicBezTo>
                  <a:pt x="272" y="994"/>
                  <a:pt x="196" y="904"/>
                  <a:pt x="248" y="951"/>
                </a:cubicBezTo>
                <a:cubicBezTo>
                  <a:pt x="260" y="961"/>
                  <a:pt x="266" y="981"/>
                  <a:pt x="281" y="985"/>
                </a:cubicBezTo>
                <a:cubicBezTo>
                  <a:pt x="317" y="995"/>
                  <a:pt x="346" y="1017"/>
                  <a:pt x="382" y="1025"/>
                </a:cubicBezTo>
                <a:cubicBezTo>
                  <a:pt x="478" y="1046"/>
                  <a:pt x="573" y="1081"/>
                  <a:pt x="670" y="1098"/>
                </a:cubicBezTo>
                <a:cubicBezTo>
                  <a:pt x="711" y="1093"/>
                  <a:pt x="745" y="1077"/>
                  <a:pt x="784" y="1072"/>
                </a:cubicBezTo>
                <a:cubicBezTo>
                  <a:pt x="831" y="1065"/>
                  <a:pt x="878" y="1066"/>
                  <a:pt x="924" y="1052"/>
                </a:cubicBezTo>
                <a:cubicBezTo>
                  <a:pt x="964" y="1040"/>
                  <a:pt x="999" y="1017"/>
                  <a:pt x="1038" y="1005"/>
                </a:cubicBezTo>
                <a:cubicBezTo>
                  <a:pt x="1081" y="962"/>
                  <a:pt x="1120" y="911"/>
                  <a:pt x="1159" y="864"/>
                </a:cubicBezTo>
                <a:cubicBezTo>
                  <a:pt x="1174" y="846"/>
                  <a:pt x="1176" y="827"/>
                  <a:pt x="1192" y="810"/>
                </a:cubicBezTo>
                <a:cubicBezTo>
                  <a:pt x="1215" y="745"/>
                  <a:pt x="1241" y="683"/>
                  <a:pt x="1259" y="616"/>
                </a:cubicBezTo>
                <a:cubicBezTo>
                  <a:pt x="1268" y="583"/>
                  <a:pt x="1279" y="516"/>
                  <a:pt x="1279" y="516"/>
                </a:cubicBezTo>
                <a:cubicBezTo>
                  <a:pt x="1273" y="478"/>
                  <a:pt x="1271" y="423"/>
                  <a:pt x="1253" y="388"/>
                </a:cubicBezTo>
                <a:cubicBezTo>
                  <a:pt x="1250" y="382"/>
                  <a:pt x="1243" y="380"/>
                  <a:pt x="1239" y="375"/>
                </a:cubicBezTo>
                <a:cubicBezTo>
                  <a:pt x="1221" y="353"/>
                  <a:pt x="1204" y="330"/>
                  <a:pt x="1186" y="308"/>
                </a:cubicBezTo>
                <a:cubicBezTo>
                  <a:pt x="1174" y="294"/>
                  <a:pt x="1156" y="283"/>
                  <a:pt x="1145" y="268"/>
                </a:cubicBezTo>
                <a:cubicBezTo>
                  <a:pt x="1109" y="221"/>
                  <a:pt x="1079" y="159"/>
                  <a:pt x="1018" y="141"/>
                </a:cubicBezTo>
                <a:cubicBezTo>
                  <a:pt x="998" y="127"/>
                  <a:pt x="981" y="122"/>
                  <a:pt x="958" y="114"/>
                </a:cubicBezTo>
                <a:cubicBezTo>
                  <a:pt x="940" y="95"/>
                  <a:pt x="925" y="99"/>
                  <a:pt x="904" y="87"/>
                </a:cubicBezTo>
                <a:cubicBezTo>
                  <a:pt x="841" y="52"/>
                  <a:pt x="888" y="65"/>
                  <a:pt x="837" y="54"/>
                </a:cubicBezTo>
                <a:cubicBezTo>
                  <a:pt x="791" y="22"/>
                  <a:pt x="707" y="15"/>
                  <a:pt x="650" y="0"/>
                </a:cubicBezTo>
                <a:cubicBezTo>
                  <a:pt x="539" y="10"/>
                  <a:pt x="466" y="43"/>
                  <a:pt x="362" y="67"/>
                </a:cubicBezTo>
                <a:cubicBezTo>
                  <a:pt x="293" y="83"/>
                  <a:pt x="161" y="109"/>
                  <a:pt x="107" y="154"/>
                </a:cubicBezTo>
                <a:cubicBezTo>
                  <a:pt x="68" y="186"/>
                  <a:pt x="72" y="236"/>
                  <a:pt x="40" y="268"/>
                </a:cubicBezTo>
                <a:cubicBezTo>
                  <a:pt x="32" y="295"/>
                  <a:pt x="23" y="321"/>
                  <a:pt x="14" y="348"/>
                </a:cubicBezTo>
                <a:cubicBezTo>
                  <a:pt x="10" y="361"/>
                  <a:pt x="0" y="388"/>
                  <a:pt x="0" y="388"/>
                </a:cubicBezTo>
                <a:cubicBezTo>
                  <a:pt x="5" y="489"/>
                  <a:pt x="7" y="517"/>
                  <a:pt x="27" y="596"/>
                </a:cubicBezTo>
                <a:cubicBezTo>
                  <a:pt x="34" y="622"/>
                  <a:pt x="36" y="675"/>
                  <a:pt x="54" y="697"/>
                </a:cubicBezTo>
                <a:cubicBezTo>
                  <a:pt x="59" y="703"/>
                  <a:pt x="66" y="710"/>
                  <a:pt x="74" y="710"/>
                </a:cubicBezTo>
                <a:cubicBezTo>
                  <a:pt x="79" y="710"/>
                  <a:pt x="69" y="701"/>
                  <a:pt x="67" y="697"/>
                </a:cubicBezTo>
                <a:close/>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7" name=""/>
          <p:cNvSpPr/>
          <p:nvPr/>
        </p:nvSpPr>
        <p:spPr>
          <a:xfrm>
            <a:off x="1905120" y="2133720"/>
            <a:ext cx="4876560" cy="4276440"/>
          </a:xfrm>
          <a:custGeom>
            <a:avLst/>
            <a:gdLst/>
            <a:ahLst/>
            <a:rect l="l" t="t" r="r" b="b"/>
            <a:pathLst>
              <a:path w="1279" h="1098">
                <a:moveTo>
                  <a:pt x="67" y="697"/>
                </a:moveTo>
                <a:cubicBezTo>
                  <a:pt x="79" y="732"/>
                  <a:pt x="90" y="770"/>
                  <a:pt x="121" y="790"/>
                </a:cubicBezTo>
                <a:cubicBezTo>
                  <a:pt x="138" y="816"/>
                  <a:pt x="157" y="837"/>
                  <a:pt x="174" y="864"/>
                </a:cubicBezTo>
                <a:cubicBezTo>
                  <a:pt x="201" y="906"/>
                  <a:pt x="157" y="862"/>
                  <a:pt x="194" y="904"/>
                </a:cubicBezTo>
                <a:cubicBezTo>
                  <a:pt x="272" y="994"/>
                  <a:pt x="196" y="904"/>
                  <a:pt x="248" y="951"/>
                </a:cubicBezTo>
                <a:cubicBezTo>
                  <a:pt x="260" y="961"/>
                  <a:pt x="266" y="981"/>
                  <a:pt x="281" y="985"/>
                </a:cubicBezTo>
                <a:cubicBezTo>
                  <a:pt x="317" y="995"/>
                  <a:pt x="346" y="1017"/>
                  <a:pt x="382" y="1025"/>
                </a:cubicBezTo>
                <a:cubicBezTo>
                  <a:pt x="478" y="1046"/>
                  <a:pt x="573" y="1081"/>
                  <a:pt x="670" y="1098"/>
                </a:cubicBezTo>
                <a:cubicBezTo>
                  <a:pt x="711" y="1093"/>
                  <a:pt x="745" y="1077"/>
                  <a:pt x="784" y="1072"/>
                </a:cubicBezTo>
                <a:cubicBezTo>
                  <a:pt x="831" y="1065"/>
                  <a:pt x="878" y="1066"/>
                  <a:pt x="924" y="1052"/>
                </a:cubicBezTo>
                <a:cubicBezTo>
                  <a:pt x="964" y="1040"/>
                  <a:pt x="999" y="1017"/>
                  <a:pt x="1038" y="1005"/>
                </a:cubicBezTo>
                <a:cubicBezTo>
                  <a:pt x="1081" y="962"/>
                  <a:pt x="1120" y="911"/>
                  <a:pt x="1159" y="864"/>
                </a:cubicBezTo>
                <a:cubicBezTo>
                  <a:pt x="1174" y="846"/>
                  <a:pt x="1176" y="827"/>
                  <a:pt x="1192" y="810"/>
                </a:cubicBezTo>
                <a:cubicBezTo>
                  <a:pt x="1215" y="745"/>
                  <a:pt x="1241" y="683"/>
                  <a:pt x="1259" y="616"/>
                </a:cubicBezTo>
                <a:cubicBezTo>
                  <a:pt x="1268" y="583"/>
                  <a:pt x="1279" y="516"/>
                  <a:pt x="1279" y="516"/>
                </a:cubicBezTo>
                <a:cubicBezTo>
                  <a:pt x="1273" y="478"/>
                  <a:pt x="1271" y="423"/>
                  <a:pt x="1253" y="388"/>
                </a:cubicBezTo>
                <a:cubicBezTo>
                  <a:pt x="1250" y="382"/>
                  <a:pt x="1243" y="380"/>
                  <a:pt x="1239" y="375"/>
                </a:cubicBezTo>
                <a:cubicBezTo>
                  <a:pt x="1221" y="353"/>
                  <a:pt x="1204" y="330"/>
                  <a:pt x="1186" y="308"/>
                </a:cubicBezTo>
                <a:cubicBezTo>
                  <a:pt x="1174" y="294"/>
                  <a:pt x="1156" y="283"/>
                  <a:pt x="1145" y="268"/>
                </a:cubicBezTo>
                <a:cubicBezTo>
                  <a:pt x="1109" y="221"/>
                  <a:pt x="1079" y="159"/>
                  <a:pt x="1018" y="141"/>
                </a:cubicBezTo>
                <a:cubicBezTo>
                  <a:pt x="998" y="127"/>
                  <a:pt x="981" y="122"/>
                  <a:pt x="958" y="114"/>
                </a:cubicBezTo>
                <a:cubicBezTo>
                  <a:pt x="940" y="95"/>
                  <a:pt x="925" y="99"/>
                  <a:pt x="904" y="87"/>
                </a:cubicBezTo>
                <a:cubicBezTo>
                  <a:pt x="841" y="52"/>
                  <a:pt x="888" y="65"/>
                  <a:pt x="837" y="54"/>
                </a:cubicBezTo>
                <a:cubicBezTo>
                  <a:pt x="791" y="22"/>
                  <a:pt x="707" y="15"/>
                  <a:pt x="650" y="0"/>
                </a:cubicBezTo>
                <a:cubicBezTo>
                  <a:pt x="539" y="10"/>
                  <a:pt x="466" y="43"/>
                  <a:pt x="362" y="67"/>
                </a:cubicBezTo>
                <a:cubicBezTo>
                  <a:pt x="293" y="83"/>
                  <a:pt x="161" y="109"/>
                  <a:pt x="107" y="154"/>
                </a:cubicBezTo>
                <a:cubicBezTo>
                  <a:pt x="68" y="186"/>
                  <a:pt x="72" y="236"/>
                  <a:pt x="40" y="268"/>
                </a:cubicBezTo>
                <a:cubicBezTo>
                  <a:pt x="32" y="295"/>
                  <a:pt x="23" y="321"/>
                  <a:pt x="14" y="348"/>
                </a:cubicBezTo>
                <a:cubicBezTo>
                  <a:pt x="10" y="361"/>
                  <a:pt x="0" y="388"/>
                  <a:pt x="0" y="388"/>
                </a:cubicBezTo>
                <a:cubicBezTo>
                  <a:pt x="5" y="489"/>
                  <a:pt x="7" y="517"/>
                  <a:pt x="27" y="596"/>
                </a:cubicBezTo>
                <a:cubicBezTo>
                  <a:pt x="34" y="622"/>
                  <a:pt x="36" y="675"/>
                  <a:pt x="54" y="697"/>
                </a:cubicBezTo>
                <a:cubicBezTo>
                  <a:pt x="59" y="703"/>
                  <a:pt x="66" y="710"/>
                  <a:pt x="74" y="710"/>
                </a:cubicBezTo>
                <a:cubicBezTo>
                  <a:pt x="79" y="710"/>
                  <a:pt x="69" y="701"/>
                  <a:pt x="67" y="697"/>
                </a:cubicBezTo>
                <a:close/>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8" name=""/>
          <p:cNvSpPr/>
          <p:nvPr/>
        </p:nvSpPr>
        <p:spPr>
          <a:xfrm>
            <a:off x="3495600" y="3514680"/>
            <a:ext cx="1648080" cy="1333440"/>
          </a:xfrm>
          <a:custGeom>
            <a:avLst/>
            <a:gdLst/>
            <a:ahLst/>
            <a:rect l="l" t="t" r="r" b="b"/>
            <a:pathLst>
              <a:path w="1038" h="840">
                <a:moveTo>
                  <a:pt x="66" y="672"/>
                </a:moveTo>
                <a:cubicBezTo>
                  <a:pt x="52" y="629"/>
                  <a:pt x="65" y="643"/>
                  <a:pt x="36" y="624"/>
                </a:cubicBezTo>
                <a:cubicBezTo>
                  <a:pt x="29" y="602"/>
                  <a:pt x="19" y="586"/>
                  <a:pt x="12" y="564"/>
                </a:cubicBezTo>
                <a:cubicBezTo>
                  <a:pt x="8" y="552"/>
                  <a:pt x="0" y="528"/>
                  <a:pt x="0" y="528"/>
                </a:cubicBezTo>
                <a:cubicBezTo>
                  <a:pt x="2" y="456"/>
                  <a:pt x="1" y="233"/>
                  <a:pt x="72" y="162"/>
                </a:cubicBezTo>
                <a:cubicBezTo>
                  <a:pt x="84" y="125"/>
                  <a:pt x="112" y="99"/>
                  <a:pt x="144" y="78"/>
                </a:cubicBezTo>
                <a:cubicBezTo>
                  <a:pt x="170" y="39"/>
                  <a:pt x="205" y="32"/>
                  <a:pt x="246" y="18"/>
                </a:cubicBezTo>
                <a:cubicBezTo>
                  <a:pt x="258" y="14"/>
                  <a:pt x="270" y="10"/>
                  <a:pt x="282" y="6"/>
                </a:cubicBezTo>
                <a:cubicBezTo>
                  <a:pt x="288" y="4"/>
                  <a:pt x="300" y="0"/>
                  <a:pt x="300" y="0"/>
                </a:cubicBezTo>
                <a:cubicBezTo>
                  <a:pt x="468" y="5"/>
                  <a:pt x="558" y="10"/>
                  <a:pt x="708" y="60"/>
                </a:cubicBezTo>
                <a:cubicBezTo>
                  <a:pt x="733" y="68"/>
                  <a:pt x="756" y="85"/>
                  <a:pt x="780" y="96"/>
                </a:cubicBezTo>
                <a:cubicBezTo>
                  <a:pt x="802" y="106"/>
                  <a:pt x="829" y="112"/>
                  <a:pt x="852" y="120"/>
                </a:cubicBezTo>
                <a:cubicBezTo>
                  <a:pt x="884" y="131"/>
                  <a:pt x="865" y="122"/>
                  <a:pt x="906" y="150"/>
                </a:cubicBezTo>
                <a:cubicBezTo>
                  <a:pt x="912" y="154"/>
                  <a:pt x="924" y="162"/>
                  <a:pt x="924" y="162"/>
                </a:cubicBezTo>
                <a:cubicBezTo>
                  <a:pt x="952" y="204"/>
                  <a:pt x="936" y="190"/>
                  <a:pt x="966" y="210"/>
                </a:cubicBezTo>
                <a:cubicBezTo>
                  <a:pt x="986" y="269"/>
                  <a:pt x="1023" y="316"/>
                  <a:pt x="1038" y="378"/>
                </a:cubicBezTo>
                <a:cubicBezTo>
                  <a:pt x="1034" y="436"/>
                  <a:pt x="1025" y="473"/>
                  <a:pt x="1032" y="528"/>
                </a:cubicBezTo>
                <a:cubicBezTo>
                  <a:pt x="1026" y="564"/>
                  <a:pt x="1013" y="584"/>
                  <a:pt x="1002" y="618"/>
                </a:cubicBezTo>
                <a:cubicBezTo>
                  <a:pt x="997" y="634"/>
                  <a:pt x="993" y="660"/>
                  <a:pt x="978" y="672"/>
                </a:cubicBezTo>
                <a:cubicBezTo>
                  <a:pt x="929" y="711"/>
                  <a:pt x="993" y="639"/>
                  <a:pt x="942" y="690"/>
                </a:cubicBezTo>
                <a:cubicBezTo>
                  <a:pt x="925" y="707"/>
                  <a:pt x="912" y="728"/>
                  <a:pt x="894" y="744"/>
                </a:cubicBezTo>
                <a:cubicBezTo>
                  <a:pt x="889" y="748"/>
                  <a:pt x="882" y="747"/>
                  <a:pt x="876" y="750"/>
                </a:cubicBezTo>
                <a:cubicBezTo>
                  <a:pt x="863" y="757"/>
                  <a:pt x="852" y="766"/>
                  <a:pt x="840" y="774"/>
                </a:cubicBezTo>
                <a:cubicBezTo>
                  <a:pt x="755" y="831"/>
                  <a:pt x="712" y="832"/>
                  <a:pt x="606" y="840"/>
                </a:cubicBezTo>
                <a:cubicBezTo>
                  <a:pt x="527" y="836"/>
                  <a:pt x="467" y="828"/>
                  <a:pt x="390" y="834"/>
                </a:cubicBezTo>
                <a:cubicBezTo>
                  <a:pt x="319" y="826"/>
                  <a:pt x="243" y="815"/>
                  <a:pt x="180" y="780"/>
                </a:cubicBezTo>
                <a:cubicBezTo>
                  <a:pt x="161" y="769"/>
                  <a:pt x="144" y="756"/>
                  <a:pt x="126" y="744"/>
                </a:cubicBezTo>
                <a:cubicBezTo>
                  <a:pt x="114" y="736"/>
                  <a:pt x="90" y="720"/>
                  <a:pt x="90" y="720"/>
                </a:cubicBezTo>
                <a:cubicBezTo>
                  <a:pt x="72" y="693"/>
                  <a:pt x="81" y="709"/>
                  <a:pt x="66" y="672"/>
                </a:cubicBezTo>
                <a:close/>
              </a:path>
            </a:pathLst>
          </a:custGeom>
          <a:solidFill>
            <a:srgbClr val="ff0000">
              <a:alpha val="50000"/>
            </a:srgbClr>
          </a:solid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9" name=""/>
          <p:cNvSpPr/>
          <p:nvPr/>
        </p:nvSpPr>
        <p:spPr>
          <a:xfrm>
            <a:off x="5486400" y="3352680"/>
            <a:ext cx="2438280" cy="14655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a:rPr>
              <a:t>There are examples of simple mistakes causing massively different absorbed dose than intended. </a:t>
            </a:r>
            <a:endParaRPr b="0" lang="en-US" sz="1800" spc="-1" strike="noStrike">
              <a:solidFill>
                <a:srgbClr val="eaeaea"/>
              </a:solidFill>
              <a:latin typeface="Times New Roman"/>
            </a:endParaRPr>
          </a:p>
        </p:txBody>
      </p:sp>
      <p:sp>
        <p:nvSpPr>
          <p:cNvPr id="230" name=""/>
          <p:cNvSpPr/>
          <p:nvPr/>
        </p:nvSpPr>
        <p:spPr>
          <a:xfrm>
            <a:off x="2438280" y="5943600"/>
            <a:ext cx="449604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7c80"/>
                </a:solidFill>
                <a:latin typeface="Arial"/>
              </a:rPr>
              <a:t>Unacceptable NTCP</a:t>
            </a:r>
            <a:endParaRPr b="0" lang="en-US" sz="18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C45DC7C6-A139-4338-B1C4-1085C597A0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31" name=""/>
          <p:cNvSpPr/>
          <p:nvPr/>
        </p:nvSpPr>
        <p:spPr>
          <a:xfrm>
            <a:off x="533520" y="1219320"/>
            <a:ext cx="8153280" cy="423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cc00"/>
                </a:solidFill>
                <a:latin typeface="Arial"/>
              </a:rPr>
              <a:t>Medical errors are a major problem (Institute of Medicine (USA), 1999):</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 </a:t>
            </a:r>
            <a:r>
              <a:rPr b="0" lang="en-IE" sz="2400" spc="-1" strike="noStrike">
                <a:solidFill>
                  <a:srgbClr val="ffffff"/>
                </a:solidFill>
                <a:latin typeface="Arial"/>
              </a:rPr>
              <a:t>As many as 44,000 to 98,000 people die in hospitals (USA) each year as result of medical errors</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 </a:t>
            </a:r>
            <a:r>
              <a:rPr b="0" lang="en-IE" sz="2400" spc="-1" strike="noStrike">
                <a:solidFill>
                  <a:srgbClr val="ffffff"/>
                </a:solidFill>
                <a:latin typeface="Arial"/>
              </a:rPr>
              <a:t>This compares to 43,458 for motor vehicle accidents or 42,297 for breast cancer</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ffffff"/>
                </a:solidFill>
                <a:latin typeface="Arial"/>
              </a:rPr>
              <a:t> </a:t>
            </a:r>
            <a:r>
              <a:rPr b="0" i="1" lang="en-IE" sz="2400" spc="-1" strike="noStrike">
                <a:solidFill>
                  <a:srgbClr val="ffffff"/>
                </a:solidFill>
                <a:latin typeface="Arial"/>
              </a:rPr>
              <a:t>Comment: It is likely that medical errors occur with at least the same frequency in other countries</a:t>
            </a:r>
            <a:endParaRPr b="0" lang="en-US" sz="2400" spc="-1" strike="noStrike">
              <a:solidFill>
                <a:srgbClr val="eaeaea"/>
              </a:solidFill>
              <a:latin typeface="Times New Roman"/>
            </a:endParaRPr>
          </a:p>
        </p:txBody>
      </p:sp>
      <p:sp>
        <p:nvSpPr>
          <p:cNvPr id="232"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ackground</a:t>
            </a:r>
            <a:endParaRPr b="0" lang="en-US" sz="36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924F7F95-76E7-45E9-8A57-DEB7C2D5AB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33" name=""/>
          <p:cNvSpPr/>
          <p:nvPr/>
        </p:nvSpPr>
        <p:spPr>
          <a:xfrm>
            <a:off x="533520" y="1219320"/>
            <a:ext cx="8153280" cy="347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cc00"/>
                </a:solidFill>
                <a:latin typeface="Arial"/>
              </a:rPr>
              <a:t>Medical errors are a </a:t>
            </a:r>
            <a:r>
              <a:rPr b="0" lang="en-IE" sz="2800" spc="-1" strike="noStrike" u="sng">
                <a:solidFill>
                  <a:srgbClr val="ffcc00"/>
                </a:solidFill>
                <a:uFillTx/>
                <a:latin typeface="Arial"/>
              </a:rPr>
              <a:t>costly</a:t>
            </a:r>
            <a:r>
              <a:rPr b="0" lang="en-IE" sz="2800" spc="-1" strike="noStrike">
                <a:solidFill>
                  <a:srgbClr val="ffcc00"/>
                </a:solidFill>
                <a:latin typeface="Arial"/>
              </a:rPr>
              <a:t> problem (Institute of Medicine (USA) 1999):</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 </a:t>
            </a:r>
            <a:r>
              <a:rPr b="0" lang="en-IE" sz="2400" spc="-1" strike="noStrike">
                <a:solidFill>
                  <a:srgbClr val="ffffff"/>
                </a:solidFill>
                <a:latin typeface="Arial"/>
              </a:rPr>
              <a:t>There are estimates that medical errors cost the USA around US$ 37,600,000,000 each year</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 </a:t>
            </a:r>
            <a:r>
              <a:rPr b="0" lang="en-IE" sz="2400" spc="-1" strike="noStrike">
                <a:solidFill>
                  <a:srgbClr val="ffffff"/>
                </a:solidFill>
                <a:latin typeface="Arial"/>
              </a:rPr>
              <a:t>About half of this cost is associated with preventable errors</a:t>
            </a:r>
            <a:endParaRPr b="0" lang="en-US" sz="2400" spc="-1" strike="noStrike">
              <a:solidFill>
                <a:srgbClr val="eaeaea"/>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4" name=""/>
          <p:cNvSpPr txBox="1"/>
          <p:nvPr/>
        </p:nvSpPr>
        <p:spPr>
          <a:xfrm rot="418800">
            <a:off x="4191120" y="3733560"/>
            <a:ext cx="979200" cy="240336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a:t>
            </a:r>
            <a:endParaRPr b="0" lang="en-US" sz="96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235"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ackground</a:t>
            </a:r>
            <a:endParaRPr b="0" lang="en-US" sz="36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18F03A88-C8B8-4D9E-A1C1-701DB5FF15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36"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ackground</a:t>
            </a:r>
            <a:endParaRPr b="0" lang="en-US" sz="3600" spc="-1" strike="noStrike">
              <a:solidFill>
                <a:srgbClr val="eaeaea"/>
              </a:solidFill>
              <a:latin typeface="Times New Roman"/>
            </a:endParaRPr>
          </a:p>
        </p:txBody>
      </p:sp>
      <p:sp>
        <p:nvSpPr>
          <p:cNvPr id="237" name=""/>
          <p:cNvSpPr/>
          <p:nvPr/>
        </p:nvSpPr>
        <p:spPr>
          <a:xfrm>
            <a:off x="298440" y="1295280"/>
            <a:ext cx="8464680" cy="49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With hindsight, it is easy to see a disaster waiting to happen.  We need to develop the capability to achieve the much more difficult - to spot one coming</a:t>
            </a:r>
            <a:endParaRPr b="0" lang="en-US" sz="3200" spc="-1" strike="noStrike">
              <a:solidFill>
                <a:srgbClr val="eaeaea"/>
              </a:solidFill>
              <a:latin typeface="Times New Roman"/>
            </a:endParaRPr>
          </a:p>
          <a:p>
            <a:pPr marL="343080" indent="-343080"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DoH An organization with a Memory</a:t>
            </a:r>
            <a:endParaRPr b="0" lang="en-US" sz="14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97683BD7-D487-42E9-9C39-6EB21D4F01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38" name=""/>
          <p:cNvSpPr/>
          <p:nvPr/>
        </p:nvSpPr>
        <p:spPr>
          <a:xfrm>
            <a:off x="533520" y="1219320"/>
            <a:ext cx="8229600" cy="503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When addressing this:</a:t>
            </a:r>
            <a:r>
              <a:rPr b="0" lang="en-IE" sz="2800" spc="-1" strike="noStrike">
                <a:solidFill>
                  <a:srgbClr val="ffcc00"/>
                </a:solidFill>
                <a:latin typeface="Arial"/>
              </a:rPr>
              <a:t> what we need to know:</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Arial"/>
              </a:rPr>
              <a:t>    </a:t>
            </a:r>
            <a:r>
              <a:rPr b="0" lang="en-IE" sz="2200" spc="-1" strike="noStrike">
                <a:solidFill>
                  <a:srgbClr val="ffffff"/>
                </a:solidFill>
                <a:latin typeface="Arial"/>
              </a:rPr>
              <a:t>What can go wrong in the process? (</a:t>
            </a:r>
            <a:r>
              <a:rPr b="0" lang="en-IE" sz="2200" spc="-1" strike="noStrike">
                <a:solidFill>
                  <a:srgbClr val="ffcc00"/>
                </a:solidFill>
                <a:latin typeface="Arial"/>
              </a:rPr>
              <a:t>Hazard identification</a:t>
            </a:r>
            <a:r>
              <a:rPr b="0" lang="en-IE" sz="2200" spc="-1" strike="noStrike">
                <a:solidFill>
                  <a:srgbClr val="ffffff"/>
                </a:solidFill>
                <a:latin typeface="Arial"/>
              </a:rPr>
              <a:t>)</a:t>
            </a:r>
            <a:endParaRPr b="0" lang="en-US" sz="2200" spc="-1" strike="noStrike">
              <a:solidFill>
                <a:srgbClr val="eaeaea"/>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cc00"/>
                </a:solidFill>
                <a:latin typeface="Arial"/>
              </a:rPr>
              <a:t>Systematic review of inherent hazards in system</a:t>
            </a:r>
            <a:endParaRPr b="0" lang="en-US" sz="2000" spc="-1" strike="noStrike">
              <a:solidFill>
                <a:srgbClr val="eaeaea"/>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Many methods can be used, </a:t>
            </a:r>
            <a:r>
              <a:rPr b="0" i="1" lang="en-IE" sz="2000" spc="-1" strike="noStrike">
                <a:solidFill>
                  <a:srgbClr val="ffffff"/>
                </a:solidFill>
                <a:latin typeface="Arial"/>
              </a:rPr>
              <a:t>e.g.</a:t>
            </a:r>
            <a:r>
              <a:rPr b="0" lang="en-IE" sz="2000" spc="-1" strike="noStrike">
                <a:solidFill>
                  <a:srgbClr val="ffffff"/>
                </a:solidFill>
                <a:latin typeface="Arial"/>
              </a:rPr>
              <a:t> foresight and review of retrospective data (reported incidents)</a:t>
            </a:r>
            <a:endParaRPr b="0" lang="en-US" sz="2000" spc="-1" strike="noStrike">
              <a:solidFill>
                <a:srgbClr val="eaeaea"/>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Arial"/>
              </a:rPr>
              <a:t>    </a:t>
            </a:r>
            <a:r>
              <a:rPr b="0" lang="en-IE" sz="2200" spc="-1" strike="noStrike">
                <a:solidFill>
                  <a:srgbClr val="ffffff"/>
                </a:solidFill>
                <a:latin typeface="Arial"/>
              </a:rPr>
              <a:t>How likely is this to happen? (</a:t>
            </a:r>
            <a:r>
              <a:rPr b="0" lang="en-IE" sz="2200" spc="-1" strike="noStrike">
                <a:solidFill>
                  <a:srgbClr val="ffcc00"/>
                </a:solidFill>
                <a:latin typeface="Arial"/>
              </a:rPr>
              <a:t>Frequency analysis</a:t>
            </a:r>
            <a:r>
              <a:rPr b="0" lang="en-IE" sz="2200" spc="-1" strike="noStrike">
                <a:solidFill>
                  <a:srgbClr val="ffffff"/>
                </a:solidFill>
                <a:latin typeface="Arial"/>
              </a:rPr>
              <a:t>)</a:t>
            </a:r>
            <a:endParaRPr b="0" lang="en-US" sz="2200" spc="-1" strike="noStrike">
              <a:solidFill>
                <a:srgbClr val="eaeaea"/>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cc00"/>
                </a:solidFill>
                <a:latin typeface="Arial"/>
              </a:rPr>
              <a:t>Determination of frequency of these events</a:t>
            </a:r>
            <a:endParaRPr b="0" lang="en-US" sz="2000" spc="-1" strike="noStrike">
              <a:solidFill>
                <a:srgbClr val="eaeaea"/>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Retrospective data (reported incidents) – “near misses” have special role since data is more often captured at this stage</a:t>
            </a:r>
            <a:endParaRPr b="0" lang="en-US" sz="2000" spc="-1" strike="noStrike">
              <a:solidFill>
                <a:srgbClr val="eaeaea"/>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Arial"/>
              </a:rPr>
              <a:t>    </a:t>
            </a:r>
            <a:r>
              <a:rPr b="0" lang="en-IE" sz="2200" spc="-1" strike="noStrike">
                <a:solidFill>
                  <a:srgbClr val="ffffff"/>
                </a:solidFill>
                <a:latin typeface="Arial"/>
              </a:rPr>
              <a:t>What are the consequences? (</a:t>
            </a:r>
            <a:r>
              <a:rPr b="0" lang="en-IE" sz="2200" spc="-1" strike="noStrike">
                <a:solidFill>
                  <a:srgbClr val="ffcc00"/>
                </a:solidFill>
                <a:latin typeface="Arial"/>
              </a:rPr>
              <a:t>Consequence analysis</a:t>
            </a:r>
            <a:r>
              <a:rPr b="0" lang="en-IE" sz="2200" spc="-1" strike="noStrike">
                <a:solidFill>
                  <a:srgbClr val="ffffff"/>
                </a:solidFill>
                <a:latin typeface="Arial"/>
              </a:rPr>
              <a:t>)</a:t>
            </a:r>
            <a:endParaRPr b="0" lang="en-US" sz="2200" spc="-1" strike="noStrike">
              <a:solidFill>
                <a:srgbClr val="eaeaea"/>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cc00"/>
                </a:solidFill>
                <a:latin typeface="Arial"/>
              </a:rPr>
              <a:t>Estimation of impact if the event occurs</a:t>
            </a:r>
            <a:endParaRPr b="0" lang="en-US" sz="2000" spc="-1" strike="noStrike">
              <a:solidFill>
                <a:srgbClr val="eaeaea"/>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Consequence models are required – in radiotherapy </a:t>
            </a:r>
            <a:r>
              <a:rPr b="0" i="1" lang="en-IE" sz="2000" spc="-1" strike="noStrike">
                <a:solidFill>
                  <a:srgbClr val="ffffff"/>
                </a:solidFill>
                <a:latin typeface="Arial"/>
              </a:rPr>
              <a:t>e.g.</a:t>
            </a:r>
            <a:r>
              <a:rPr b="0" lang="en-IE" sz="2000" spc="-1" strike="noStrike">
                <a:solidFill>
                  <a:srgbClr val="ffffff"/>
                </a:solidFill>
                <a:latin typeface="Arial"/>
              </a:rPr>
              <a:t> undesired outcome of treatment</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cc00"/>
                </a:solidFill>
                <a:latin typeface="Arial"/>
              </a:rPr>
              <a:t>The combination of frequency and consequence tells us the risk</a:t>
            </a:r>
            <a:endParaRPr b="0" lang="en-US" sz="2200" spc="-1" strike="noStrike">
              <a:solidFill>
                <a:srgbClr val="eaeaea"/>
              </a:solidFill>
              <a:latin typeface="Times New Roman"/>
            </a:endParaRPr>
          </a:p>
        </p:txBody>
      </p:sp>
      <p:sp>
        <p:nvSpPr>
          <p:cNvPr id="239"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ackground</a:t>
            </a:r>
            <a:endParaRPr b="0" lang="en-US" sz="36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27391743-C2FD-4EB5-A7BA-870965030B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0" name=""/>
          <p:cNvSpPr/>
          <p:nvPr/>
        </p:nvSpPr>
        <p:spPr>
          <a:xfrm>
            <a:off x="533520" y="1219320"/>
            <a:ext cx="8229600" cy="362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When addressing this:</a:t>
            </a:r>
            <a:r>
              <a:rPr b="0" lang="en-IE" sz="2800" spc="-1" strike="noStrike">
                <a:solidFill>
                  <a:srgbClr val="ffcc00"/>
                </a:solidFill>
                <a:latin typeface="Arial"/>
              </a:rPr>
              <a:t> what we need to do:</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Arial"/>
              </a:rPr>
              <a:t>To improve the safety in radiotherapy, we should aim to:</a:t>
            </a:r>
            <a:endParaRPr b="0" lang="en-US" sz="22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Arial"/>
              </a:rPr>
              <a:t>   </a:t>
            </a:r>
            <a:r>
              <a:rPr b="0" lang="en-IE" sz="2200" spc="-1" strike="noStrike">
                <a:solidFill>
                  <a:srgbClr val="ffcc00"/>
                </a:solidFill>
                <a:latin typeface="Arial"/>
              </a:rPr>
              <a:t>Minimize occurrence of errors</a:t>
            </a:r>
            <a:r>
              <a:rPr b="0" lang="en-IE" sz="2200" spc="-1" strike="noStrike">
                <a:solidFill>
                  <a:srgbClr val="ffffff"/>
                </a:solidFill>
                <a:latin typeface="Arial"/>
              </a:rPr>
              <a:t> (but some errors will still occur) </a:t>
            </a:r>
            <a:endParaRPr b="0" lang="en-US" sz="22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Arial"/>
              </a:rPr>
              <a:t>   </a:t>
            </a:r>
            <a:r>
              <a:rPr b="0" lang="en-IE" sz="2200" spc="-1" strike="noStrike">
                <a:solidFill>
                  <a:srgbClr val="ffcc00"/>
                </a:solidFill>
                <a:latin typeface="Arial"/>
              </a:rPr>
              <a:t>Find errors before they are causing harm</a:t>
            </a:r>
            <a:r>
              <a:rPr b="0" lang="en-IE" sz="2200" spc="-1" strike="noStrike">
                <a:solidFill>
                  <a:srgbClr val="ffffff"/>
                </a:solidFill>
                <a:latin typeface="Arial"/>
              </a:rPr>
              <a:t> (but some errors will still be present at treatment where they might cause harm)</a:t>
            </a:r>
            <a:endParaRPr b="0" lang="en-US" sz="22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Arial"/>
              </a:rPr>
              <a:t>   </a:t>
            </a:r>
            <a:r>
              <a:rPr b="0" lang="en-IE" sz="2200" spc="-1" strike="noStrike">
                <a:solidFill>
                  <a:srgbClr val="ffcc00"/>
                </a:solidFill>
                <a:latin typeface="Arial"/>
              </a:rPr>
              <a:t>Minimize the harm caused</a:t>
            </a:r>
            <a:endParaRPr b="0" lang="en-US" sz="2200" spc="-1" strike="noStrike">
              <a:solidFill>
                <a:srgbClr val="eaeaea"/>
              </a:solidFill>
              <a:latin typeface="Times New Roman"/>
            </a:endParaRPr>
          </a:p>
        </p:txBody>
      </p:sp>
      <p:sp>
        <p:nvSpPr>
          <p:cNvPr id="241"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ackground</a:t>
            </a:r>
            <a:endParaRPr b="0" lang="en-US" sz="36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C15DE4AE-5F85-40E5-827E-4F91D8EB9E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2" name=""/>
          <p:cNvSpPr/>
          <p:nvPr/>
        </p:nvSpPr>
        <p:spPr>
          <a:xfrm>
            <a:off x="0" y="0"/>
            <a:ext cx="9144000" cy="6858000"/>
          </a:xfrm>
          <a:prstGeom prst="rect">
            <a:avLst/>
          </a:prstGeom>
          <a:solidFill>
            <a:srgbClr val="fdda59"/>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93" name=""/>
          <p:cNvSpPr/>
          <p:nvPr/>
        </p:nvSpPr>
        <p:spPr>
          <a:xfrm>
            <a:off x="595440" y="2647800"/>
            <a:ext cx="7953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Background information</a:t>
            </a:r>
            <a:endParaRPr b="0" lang="en-US" sz="36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CE7D9570-F586-46A3-BEEF-19751B13D0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2" name=""/>
          <p:cNvSpPr/>
          <p:nvPr/>
        </p:nvSpPr>
        <p:spPr>
          <a:xfrm>
            <a:off x="533520" y="1219320"/>
            <a:ext cx="8229600" cy="128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When addressing this:</a:t>
            </a:r>
            <a:r>
              <a:rPr b="0" lang="en-IE" sz="2800" spc="-1" strike="noStrike">
                <a:solidFill>
                  <a:srgbClr val="ffcc00"/>
                </a:solidFill>
                <a:latin typeface="Arial"/>
              </a:rPr>
              <a:t> what we need to do:</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Arial"/>
              </a:rPr>
              <a:t>We aim to minimise the risk through </a:t>
            </a:r>
            <a:r>
              <a:rPr b="0" lang="en-IE" sz="2200" spc="-1" strike="noStrike">
                <a:solidFill>
                  <a:srgbClr val="ffcc00"/>
                </a:solidFill>
                <a:latin typeface="Arial"/>
              </a:rPr>
              <a:t>multilayered prevention</a:t>
            </a:r>
            <a:endParaRPr b="0" lang="en-US" sz="2200" spc="-1" strike="noStrike">
              <a:solidFill>
                <a:srgbClr val="eaeaea"/>
              </a:solidFill>
              <a:latin typeface="Times New Roman"/>
            </a:endParaRPr>
          </a:p>
        </p:txBody>
      </p:sp>
      <p:sp>
        <p:nvSpPr>
          <p:cNvPr id="243"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ackground</a:t>
            </a:r>
            <a:endParaRPr b="0" lang="en-US" sz="3600" spc="-1" strike="noStrike">
              <a:solidFill>
                <a:srgbClr val="eaeaea"/>
              </a:solidFill>
              <a:latin typeface="Times New Roman"/>
            </a:endParaRPr>
          </a:p>
        </p:txBody>
      </p:sp>
      <p:pic>
        <p:nvPicPr>
          <p:cNvPr id="244" name="" descr=""/>
          <p:cNvPicPr/>
          <p:nvPr/>
        </p:nvPicPr>
        <p:blipFill>
          <a:blip r:embed="rId1"/>
          <a:stretch/>
        </p:blipFill>
        <p:spPr>
          <a:xfrm>
            <a:off x="2209680" y="3124080"/>
            <a:ext cx="4056120" cy="2886120"/>
          </a:xfrm>
          <a:prstGeom prst="rect">
            <a:avLst/>
          </a:prstGeom>
          <a:ln w="0">
            <a:noFill/>
          </a:ln>
        </p:spPr>
      </p:pic>
      <p:sp>
        <p:nvSpPr>
          <p:cNvPr id="245" name=""/>
          <p:cNvSpPr/>
          <p:nvPr/>
        </p:nvSpPr>
        <p:spPr>
          <a:xfrm>
            <a:off x="3651480" y="2743200"/>
            <a:ext cx="1358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Initiating events</a:t>
            </a:r>
            <a:endParaRPr b="0" lang="en-US" sz="1400" spc="-1" strike="noStrike">
              <a:solidFill>
                <a:srgbClr val="eaeaea"/>
              </a:solidFill>
              <a:latin typeface="Times New Roman"/>
            </a:endParaRPr>
          </a:p>
        </p:txBody>
      </p:sp>
      <p:sp>
        <p:nvSpPr>
          <p:cNvPr id="246" name=""/>
          <p:cNvSpPr/>
          <p:nvPr/>
        </p:nvSpPr>
        <p:spPr>
          <a:xfrm>
            <a:off x="3423240" y="6095880"/>
            <a:ext cx="1841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Accidental exposures</a:t>
            </a:r>
            <a:endParaRPr b="0" lang="en-US" sz="14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C61D690F-2315-4EC6-AD0E-B985C0D391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7" name=""/>
          <p:cNvSpPr/>
          <p:nvPr/>
        </p:nvSpPr>
        <p:spPr>
          <a:xfrm>
            <a:off x="3429000" y="3276720"/>
            <a:ext cx="2133720" cy="289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48" name=""/>
          <p:cNvSpPr/>
          <p:nvPr/>
        </p:nvSpPr>
        <p:spPr>
          <a:xfrm>
            <a:off x="533520" y="1143000"/>
            <a:ext cx="8229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These layers should encompass:</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Actions where potential deviations from intended dose and geometry can be found before the first irradiation fraction of the patient (</a:t>
            </a:r>
            <a:r>
              <a:rPr b="0" i="1" lang="en-IE" sz="2400" spc="-1" strike="noStrike">
                <a:solidFill>
                  <a:srgbClr val="eaeaea"/>
                </a:solidFill>
                <a:latin typeface="Arial"/>
              </a:rPr>
              <a:t>e.g.</a:t>
            </a:r>
            <a:r>
              <a:rPr b="0" lang="en-IE" sz="2400" spc="-1" strike="noStrike">
                <a:solidFill>
                  <a:srgbClr val="eaeaea"/>
                </a:solidFill>
                <a:latin typeface="Arial"/>
              </a:rPr>
              <a:t> chart-checking)</a:t>
            </a:r>
            <a:endParaRPr b="0" lang="en-US" sz="2400" spc="-1" strike="noStrike">
              <a:solidFill>
                <a:srgbClr val="eaeaea"/>
              </a:solidFill>
              <a:latin typeface="Times New Roman"/>
            </a:endParaRPr>
          </a:p>
        </p:txBody>
      </p:sp>
      <p:sp>
        <p:nvSpPr>
          <p:cNvPr id="249"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ackground</a:t>
            </a:r>
            <a:endParaRPr b="0" lang="en-US" sz="3600" spc="-1" strike="noStrike">
              <a:solidFill>
                <a:srgbClr val="eaeaea"/>
              </a:solidFill>
              <a:latin typeface="Times New Roman"/>
            </a:endParaRPr>
          </a:p>
        </p:txBody>
      </p:sp>
      <p:pic>
        <p:nvPicPr>
          <p:cNvPr id="250" name="" descr=""/>
          <p:cNvPicPr/>
          <p:nvPr/>
        </p:nvPicPr>
        <p:blipFill>
          <a:blip r:embed="rId1"/>
          <a:stretch/>
        </p:blipFill>
        <p:spPr>
          <a:xfrm>
            <a:off x="3505320" y="3276720"/>
            <a:ext cx="2000160" cy="2895480"/>
          </a:xfrm>
          <a:prstGeom prst="rect">
            <a:avLst/>
          </a:prstGeom>
          <a:ln w="0">
            <a:noFill/>
          </a:ln>
        </p:spPr>
      </p:pic>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959E7E3A-E215-41B1-9C10-4B243C17A7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51" name=""/>
          <p:cNvSpPr/>
          <p:nvPr/>
        </p:nvSpPr>
        <p:spPr>
          <a:xfrm>
            <a:off x="533520" y="112068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These layers should encompass:</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Actions where deviations can be found during or after the treatment course (</a:t>
            </a:r>
            <a:r>
              <a:rPr b="0" i="1" lang="en-IE" sz="2400" spc="-1" strike="noStrike">
                <a:solidFill>
                  <a:srgbClr val="eaeaea"/>
                </a:solidFill>
                <a:latin typeface="Arial"/>
              </a:rPr>
              <a:t>e.g.</a:t>
            </a:r>
            <a:r>
              <a:rPr b="0" lang="en-IE" sz="2400" spc="-1" strike="noStrike">
                <a:solidFill>
                  <a:srgbClr val="eaeaea"/>
                </a:solidFill>
                <a:latin typeface="Arial"/>
              </a:rPr>
              <a:t> in-vivo dosimetry)</a:t>
            </a:r>
            <a:endParaRPr b="0" lang="en-US" sz="2400" spc="-1" strike="noStrike">
              <a:solidFill>
                <a:srgbClr val="eaeaea"/>
              </a:solidFill>
              <a:latin typeface="Times New Roman"/>
            </a:endParaRPr>
          </a:p>
        </p:txBody>
      </p:sp>
      <p:sp>
        <p:nvSpPr>
          <p:cNvPr id="252"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ackground</a:t>
            </a:r>
            <a:endParaRPr b="0" lang="en-US" sz="3600" spc="-1" strike="noStrike">
              <a:solidFill>
                <a:srgbClr val="eaeaea"/>
              </a:solidFill>
              <a:latin typeface="Times New Roman"/>
            </a:endParaRPr>
          </a:p>
        </p:txBody>
      </p:sp>
      <p:pic>
        <p:nvPicPr>
          <p:cNvPr id="253" name="" descr=""/>
          <p:cNvPicPr/>
          <p:nvPr/>
        </p:nvPicPr>
        <p:blipFill>
          <a:blip r:embed="rId1"/>
          <a:stretch/>
        </p:blipFill>
        <p:spPr>
          <a:xfrm>
            <a:off x="3548160" y="3102120"/>
            <a:ext cx="2047680" cy="2990880"/>
          </a:xfrm>
          <a:prstGeom prst="rect">
            <a:avLst/>
          </a:prstGeom>
          <a:ln w="0">
            <a:noFill/>
          </a:ln>
        </p:spPr>
      </p:pic>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9A288A3E-70C3-4F13-99F9-2A243B35BE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54" name=""/>
          <p:cNvSpPr/>
          <p:nvPr/>
        </p:nvSpPr>
        <p:spPr>
          <a:xfrm>
            <a:off x="533520" y="112068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These layers should encompass:</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Application of safety technology (</a:t>
            </a:r>
            <a:r>
              <a:rPr b="0" i="1" lang="en-IE" sz="2400" spc="-1" strike="noStrike">
                <a:solidFill>
                  <a:srgbClr val="eaeaea"/>
                </a:solidFill>
                <a:latin typeface="Arial"/>
              </a:rPr>
              <a:t>e.g.</a:t>
            </a:r>
            <a:r>
              <a:rPr b="0" lang="en-IE" sz="2400" spc="-1" strike="noStrike">
                <a:solidFill>
                  <a:srgbClr val="eaeaea"/>
                </a:solidFill>
                <a:latin typeface="Arial"/>
              </a:rPr>
              <a:t> integrated radiotherapy networking)</a:t>
            </a:r>
            <a:endParaRPr b="0" lang="en-US" sz="2400" spc="-1" strike="noStrike">
              <a:solidFill>
                <a:srgbClr val="eaeaea"/>
              </a:solidFill>
              <a:latin typeface="Times New Roman"/>
            </a:endParaRPr>
          </a:p>
        </p:txBody>
      </p:sp>
      <p:sp>
        <p:nvSpPr>
          <p:cNvPr id="255"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ackground</a:t>
            </a:r>
            <a:endParaRPr b="0" lang="en-US" sz="3600" spc="-1" strike="noStrike">
              <a:solidFill>
                <a:srgbClr val="eaeaea"/>
              </a:solidFill>
              <a:latin typeface="Times New Roman"/>
            </a:endParaRPr>
          </a:p>
        </p:txBody>
      </p:sp>
      <p:pic>
        <p:nvPicPr>
          <p:cNvPr id="256" name="" descr=""/>
          <p:cNvPicPr/>
          <p:nvPr/>
        </p:nvPicPr>
        <p:blipFill>
          <a:blip r:embed="rId1"/>
          <a:stretch/>
        </p:blipFill>
        <p:spPr>
          <a:xfrm>
            <a:off x="1604880" y="2668680"/>
            <a:ext cx="5934240" cy="3352680"/>
          </a:xfrm>
          <a:prstGeom prst="rect">
            <a:avLst/>
          </a:prstGeom>
          <a:ln w="0">
            <a:noFill/>
          </a:ln>
        </p:spPr>
      </p:pic>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2F4DDD3C-8B55-4FAC-A2BC-3F796BC3E0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57" name=""/>
          <p:cNvSpPr/>
          <p:nvPr/>
        </p:nvSpPr>
        <p:spPr>
          <a:xfrm>
            <a:off x="533520" y="1120680"/>
            <a:ext cx="8229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These layers should encompass:</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Actions where contributing factors such as staffing-levels and structure, training and communication are addressed (</a:t>
            </a:r>
            <a:r>
              <a:rPr b="0" i="1" lang="en-IE" sz="2400" spc="-1" strike="noStrike">
                <a:solidFill>
                  <a:srgbClr val="eaeaea"/>
                </a:solidFill>
                <a:latin typeface="Arial"/>
              </a:rPr>
              <a:t>e.g.</a:t>
            </a:r>
            <a:r>
              <a:rPr b="0" lang="en-IE" sz="2400" spc="-1" strike="noStrike">
                <a:solidFill>
                  <a:srgbClr val="eaeaea"/>
                </a:solidFill>
                <a:latin typeface="Arial"/>
              </a:rPr>
              <a:t> monitoring of workload)</a:t>
            </a:r>
            <a:endParaRPr b="0" lang="en-US" sz="2400" spc="-1" strike="noStrike">
              <a:solidFill>
                <a:srgbClr val="eaeaea"/>
              </a:solidFill>
              <a:latin typeface="Times New Roman"/>
            </a:endParaRPr>
          </a:p>
        </p:txBody>
      </p:sp>
      <p:sp>
        <p:nvSpPr>
          <p:cNvPr id="258"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ackground</a:t>
            </a:r>
            <a:endParaRPr b="0" lang="en-US" sz="3600" spc="-1" strike="noStrike">
              <a:solidFill>
                <a:srgbClr val="eaeaea"/>
              </a:solidFill>
              <a:latin typeface="Times New Roman"/>
            </a:endParaRPr>
          </a:p>
        </p:txBody>
      </p:sp>
      <p:pic>
        <p:nvPicPr>
          <p:cNvPr id="259" name="" descr=""/>
          <p:cNvPicPr/>
          <p:nvPr/>
        </p:nvPicPr>
        <p:blipFill>
          <a:blip r:embed="rId1"/>
          <a:stretch/>
        </p:blipFill>
        <p:spPr>
          <a:xfrm>
            <a:off x="3492360" y="3357720"/>
            <a:ext cx="2372040" cy="2381040"/>
          </a:xfrm>
          <a:prstGeom prst="rect">
            <a:avLst/>
          </a:prstGeom>
          <a:ln w="0">
            <a:noFill/>
          </a:ln>
        </p:spPr>
      </p:pic>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3C57543B-3084-463F-9D4D-41EEA0050E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60" name=""/>
          <p:cNvSpPr/>
          <p:nvPr/>
        </p:nvSpPr>
        <p:spPr>
          <a:xfrm>
            <a:off x="533520" y="112068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These layers should encompass:</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Application of safety procedures (</a:t>
            </a:r>
            <a:r>
              <a:rPr b="0" i="1" lang="en-IE" sz="2400" spc="-1" strike="noStrike">
                <a:solidFill>
                  <a:srgbClr val="eaeaea"/>
                </a:solidFill>
                <a:latin typeface="Arial"/>
              </a:rPr>
              <a:t>e.g.</a:t>
            </a:r>
            <a:r>
              <a:rPr b="0" lang="en-IE" sz="2400" spc="-1" strike="noStrike">
                <a:solidFill>
                  <a:srgbClr val="eaeaea"/>
                </a:solidFill>
                <a:latin typeface="Arial"/>
              </a:rPr>
              <a:t> incident reporting systems)</a:t>
            </a:r>
            <a:endParaRPr b="0" lang="en-US" sz="2400" spc="-1" strike="noStrike">
              <a:solidFill>
                <a:srgbClr val="eaeaea"/>
              </a:solidFill>
              <a:latin typeface="Times New Roman"/>
            </a:endParaRPr>
          </a:p>
        </p:txBody>
      </p:sp>
      <p:sp>
        <p:nvSpPr>
          <p:cNvPr id="261" name=""/>
          <p:cNvSpPr/>
          <p:nvPr/>
        </p:nvSpPr>
        <p:spPr>
          <a:xfrm>
            <a:off x="3429000" y="3429000"/>
            <a:ext cx="2743200" cy="380880"/>
          </a:xfrm>
          <a:prstGeom prst="line">
            <a:avLst/>
          </a:prstGeom>
          <a:ln w="25560">
            <a:solidFill>
              <a:srgbClr val="eaeaea"/>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62" name=""/>
          <p:cNvSpPr/>
          <p:nvPr/>
        </p:nvSpPr>
        <p:spPr>
          <a:xfrm flipV="1">
            <a:off x="3429000" y="3912840"/>
            <a:ext cx="2971800" cy="1268280"/>
          </a:xfrm>
          <a:prstGeom prst="line">
            <a:avLst/>
          </a:prstGeom>
          <a:ln w="25560">
            <a:solidFill>
              <a:srgbClr val="eaeaea"/>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aphicFrame>
        <p:nvGraphicFramePr>
          <p:cNvPr id="263" name=""/>
          <p:cNvGraphicFramePr/>
          <p:nvPr/>
        </p:nvGraphicFramePr>
        <p:xfrm>
          <a:off x="1600200" y="2819520"/>
          <a:ext cx="1981080" cy="1523880"/>
        </p:xfrm>
        <a:graphic>
          <a:graphicData uri="http://schemas.openxmlformats.org/presentationml/2006/ole">
            <p:oleObj r:id="rId1" spid="">
              <p:embed/>
              <p:pic>
                <p:nvPicPr>
                  <p:cNvPr id="264" name="" descr=""/>
                  <p:cNvPicPr/>
                  <p:nvPr/>
                </p:nvPicPr>
                <p:blipFill>
                  <a:blip r:embed="rId2"/>
                  <a:stretch/>
                </p:blipFill>
                <p:spPr>
                  <a:xfrm>
                    <a:off x="1600200" y="2819520"/>
                    <a:ext cx="1981080" cy="1523880"/>
                  </a:xfrm>
                  <a:prstGeom prst="rect">
                    <a:avLst/>
                  </a:prstGeom>
                  <a:ln w="0">
                    <a:noFill/>
                  </a:ln>
                </p:spPr>
              </p:pic>
            </p:oleObj>
          </a:graphicData>
        </a:graphic>
      </p:graphicFrame>
      <p:graphicFrame>
        <p:nvGraphicFramePr>
          <p:cNvPr id="265" name=""/>
          <p:cNvGraphicFramePr/>
          <p:nvPr/>
        </p:nvGraphicFramePr>
        <p:xfrm>
          <a:off x="5638680" y="3048120"/>
          <a:ext cx="3276720" cy="2519280"/>
        </p:xfrm>
        <a:graphic>
          <a:graphicData uri="http://schemas.openxmlformats.org/presentationml/2006/ole">
            <p:oleObj r:id="rId3" spid="">
              <p:embed/>
              <p:pic>
                <p:nvPicPr>
                  <p:cNvPr id="266" name="" descr=""/>
                  <p:cNvPicPr/>
                  <p:nvPr/>
                </p:nvPicPr>
                <p:blipFill>
                  <a:blip r:embed="rId4"/>
                  <a:stretch/>
                </p:blipFill>
                <p:spPr>
                  <a:xfrm>
                    <a:off x="5638680" y="3048120"/>
                    <a:ext cx="3276720" cy="2519280"/>
                  </a:xfrm>
                  <a:prstGeom prst="rect">
                    <a:avLst/>
                  </a:prstGeom>
                  <a:ln w="0">
                    <a:noFill/>
                  </a:ln>
                </p:spPr>
              </p:pic>
            </p:oleObj>
          </a:graphicData>
        </a:graphic>
      </p:graphicFrame>
      <p:sp>
        <p:nvSpPr>
          <p:cNvPr id="267" name=""/>
          <p:cNvSpPr/>
          <p:nvPr/>
        </p:nvSpPr>
        <p:spPr>
          <a:xfrm>
            <a:off x="6781320" y="3581280"/>
            <a:ext cx="975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OSIS</a:t>
            </a:r>
            <a:endParaRPr b="0" lang="en-US" sz="2000" spc="-1" strike="noStrike">
              <a:solidFill>
                <a:srgbClr val="eaeaea"/>
              </a:solidFill>
              <a:latin typeface="Times New Roman"/>
            </a:endParaRPr>
          </a:p>
        </p:txBody>
      </p:sp>
      <p:graphicFrame>
        <p:nvGraphicFramePr>
          <p:cNvPr id="268" name=""/>
          <p:cNvGraphicFramePr/>
          <p:nvPr/>
        </p:nvGraphicFramePr>
        <p:xfrm>
          <a:off x="1676520" y="4648320"/>
          <a:ext cx="1981080" cy="1523880"/>
        </p:xfrm>
        <a:graphic>
          <a:graphicData uri="http://schemas.openxmlformats.org/presentationml/2006/ole">
            <p:oleObj r:id="rId5" spid="">
              <p:embed/>
              <p:pic>
                <p:nvPicPr>
                  <p:cNvPr id="269" name="" descr=""/>
                  <p:cNvPicPr/>
                  <p:nvPr/>
                </p:nvPicPr>
                <p:blipFill>
                  <a:blip r:embed="rId6"/>
                  <a:stretch/>
                </p:blipFill>
                <p:spPr>
                  <a:xfrm>
                    <a:off x="1676520" y="4648320"/>
                    <a:ext cx="1981080" cy="1523880"/>
                  </a:xfrm>
                  <a:prstGeom prst="rect">
                    <a:avLst/>
                  </a:prstGeom>
                  <a:ln w="0">
                    <a:noFill/>
                  </a:ln>
                </p:spPr>
              </p:pic>
            </p:oleObj>
          </a:graphicData>
        </a:graphic>
      </p:graphicFrame>
      <p:sp>
        <p:nvSpPr>
          <p:cNvPr id="270"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ackground</a:t>
            </a:r>
            <a:endParaRPr b="0" lang="en-US" sz="36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A4DC6FE3-32A9-43C4-9170-FE382691EA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71" name=""/>
          <p:cNvSpPr/>
          <p:nvPr/>
        </p:nvSpPr>
        <p:spPr>
          <a:xfrm>
            <a:off x="0" y="0"/>
            <a:ext cx="9144000" cy="6858000"/>
          </a:xfrm>
          <a:prstGeom prst="rect">
            <a:avLst/>
          </a:prstGeom>
          <a:solidFill>
            <a:srgbClr val="fdda59"/>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72" name=""/>
          <p:cNvSpPr/>
          <p:nvPr/>
        </p:nvSpPr>
        <p:spPr>
          <a:xfrm>
            <a:off x="595440" y="2647800"/>
            <a:ext cx="7953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Incident reporting systems:</a:t>
            </a:r>
            <a:endParaRPr b="0" lang="en-US" sz="3600" spc="-1" strike="noStrike">
              <a:solidFill>
                <a:srgbClr val="eaeaea"/>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mandatory or voluntary systems</a:t>
            </a:r>
            <a:endParaRPr b="0" lang="en-US" sz="36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5678BC5E-B075-4734-8725-A395201076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73"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ncident reporting systems</a:t>
            </a:r>
            <a:endParaRPr b="0" lang="en-US" sz="3600" spc="-1" strike="noStrike">
              <a:solidFill>
                <a:srgbClr val="eaeaea"/>
              </a:solidFill>
              <a:latin typeface="Times New Roman"/>
            </a:endParaRPr>
          </a:p>
        </p:txBody>
      </p:sp>
      <p:sp>
        <p:nvSpPr>
          <p:cNvPr id="274" name=""/>
          <p:cNvSpPr/>
          <p:nvPr/>
        </p:nvSpPr>
        <p:spPr>
          <a:xfrm>
            <a:off x="533520" y="1219320"/>
            <a:ext cx="8229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Different types of incident reporting systems:</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Mandatory reporting systems:</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Reporting of certain events is required (</a:t>
            </a:r>
            <a:r>
              <a:rPr b="0" i="1" lang="en-IE" sz="2400" spc="-1" strike="noStrike">
                <a:solidFill>
                  <a:srgbClr val="eaeaea"/>
                </a:solidFill>
                <a:latin typeface="Arial"/>
              </a:rPr>
              <a:t>e.g.</a:t>
            </a:r>
            <a:r>
              <a:rPr b="0" lang="en-IE" sz="2400" spc="-1" strike="noStrike">
                <a:solidFill>
                  <a:srgbClr val="eaeaea"/>
                </a:solidFill>
                <a:latin typeface="Arial"/>
              </a:rPr>
              <a:t> reporting to regulatory authorities of events above certain magnitude)</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Voluntary reporting systems:</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Reporting is encouraged (</a:t>
            </a:r>
            <a:r>
              <a:rPr b="0" i="1" lang="en-IE" sz="2400" spc="-1" strike="noStrike">
                <a:solidFill>
                  <a:srgbClr val="eaeaea"/>
                </a:solidFill>
                <a:latin typeface="Arial"/>
              </a:rPr>
              <a:t>e.g.</a:t>
            </a:r>
            <a:r>
              <a:rPr b="0" lang="en-IE" sz="2400" spc="-1" strike="noStrike">
                <a:solidFill>
                  <a:srgbClr val="eaeaea"/>
                </a:solidFill>
                <a:latin typeface="Arial"/>
              </a:rPr>
              <a:t> reporting to professional body)</a:t>
            </a:r>
            <a:endParaRPr b="0" lang="en-US" sz="24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197E563A-BFB6-4959-8318-CBCC62F564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75"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Mandatory reporting systems</a:t>
            </a:r>
            <a:endParaRPr b="0" lang="en-US" sz="3600" spc="-1" strike="noStrike">
              <a:solidFill>
                <a:srgbClr val="eaeaea"/>
              </a:solidFill>
              <a:latin typeface="Times New Roman"/>
            </a:endParaRPr>
          </a:p>
        </p:txBody>
      </p:sp>
      <p:sp>
        <p:nvSpPr>
          <p:cNvPr id="276" name=""/>
          <p:cNvSpPr/>
          <p:nvPr/>
        </p:nvSpPr>
        <p:spPr>
          <a:xfrm>
            <a:off x="533520" y="1219320"/>
            <a:ext cx="82296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Mandatory reporting (to regulatory authorities) should …</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 </a:t>
            </a:r>
            <a:r>
              <a:rPr b="0" lang="en-IE" sz="2400" spc="-1" strike="noStrike">
                <a:solidFill>
                  <a:srgbClr val="eaeaea"/>
                </a:solidFill>
                <a:latin typeface="Arial"/>
              </a:rPr>
              <a:t>ensure providers of medical care are held accountable </a:t>
            </a:r>
            <a:r>
              <a:rPr b="0" lang="en-IE" sz="2400" spc="-1" strike="noStrike">
                <a:solidFill>
                  <a:srgbClr val="eaeaea"/>
                </a:solidFill>
                <a:latin typeface="Arial"/>
              </a:rPr>
              <a:t>	</a:t>
            </a:r>
            <a:r>
              <a:rPr b="0" lang="en-IE" sz="2400" spc="-1" strike="noStrike">
                <a:solidFill>
                  <a:srgbClr val="eaeaea"/>
                </a:solidFill>
                <a:latin typeface="Arial"/>
              </a:rPr>
              <a:t>to the public</a:t>
            </a: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 </a:t>
            </a:r>
            <a:r>
              <a:rPr b="0" lang="en-IE" sz="2400" spc="-1" strike="noStrike">
                <a:solidFill>
                  <a:srgbClr val="eaeaea"/>
                </a:solidFill>
                <a:latin typeface="Arial"/>
              </a:rPr>
              <a:t>focus on serious errors resulting in injury or death</a:t>
            </a: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 </a:t>
            </a:r>
            <a:r>
              <a:rPr b="0" lang="en-IE" sz="2400" spc="-1" strike="noStrike">
                <a:solidFill>
                  <a:srgbClr val="eaeaea"/>
                </a:solidFill>
                <a:latin typeface="Arial"/>
              </a:rPr>
              <a:t>require reporting of information in a standardized </a:t>
            </a:r>
            <a:r>
              <a:rPr b="0" lang="en-IE" sz="2400" spc="-1" strike="noStrike">
                <a:solidFill>
                  <a:srgbClr val="eaeaea"/>
                </a:solidFill>
                <a:latin typeface="Arial"/>
              </a:rPr>
              <a:t>	</a:t>
            </a:r>
            <a:r>
              <a:rPr b="0" lang="en-IE" sz="2400" spc="-1" strike="noStrike">
                <a:solidFill>
                  <a:srgbClr val="eaeaea"/>
                </a:solidFill>
                <a:latin typeface="Arial"/>
              </a:rPr>
              <a:t>format to a national database</a:t>
            </a:r>
            <a:endParaRPr b="0" lang="en-US" sz="24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D98B3989-DC00-408E-A3ED-D0269689C6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77"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Mandatory reporting systems</a:t>
            </a:r>
            <a:endParaRPr b="0" lang="en-US" sz="3600" spc="-1" strike="noStrike">
              <a:solidFill>
                <a:srgbClr val="eaeaea"/>
              </a:solidFill>
              <a:latin typeface="Times New Roman"/>
            </a:endParaRPr>
          </a:p>
        </p:txBody>
      </p:sp>
      <p:sp>
        <p:nvSpPr>
          <p:cNvPr id="278" name=""/>
          <p:cNvSpPr/>
          <p:nvPr/>
        </p:nvSpPr>
        <p:spPr>
          <a:xfrm>
            <a:off x="533520" y="1219320"/>
            <a:ext cx="82296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Three main purposes:</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Provide public with a guaranteed level of protection by </a:t>
            </a:r>
            <a:r>
              <a:rPr b="0" lang="en-IE" sz="2400" spc="-1" strike="noStrike">
                <a:solidFill>
                  <a:srgbClr val="eaeaea"/>
                </a:solidFill>
                <a:latin typeface="Arial"/>
              </a:rPr>
              <a:t>	</a:t>
            </a:r>
            <a:r>
              <a:rPr b="0" lang="en-IE" sz="2400" spc="-1" strike="noStrike">
                <a:solidFill>
                  <a:srgbClr val="eaeaea"/>
                </a:solidFill>
                <a:latin typeface="Arial"/>
              </a:rPr>
              <a:t>assuring that most-serious errors are </a:t>
            </a:r>
            <a:r>
              <a:rPr b="0" lang="en-IE" sz="2400" spc="-1" strike="noStrike">
                <a:solidFill>
                  <a:srgbClr val="ffcc00"/>
                </a:solidFill>
                <a:latin typeface="Arial"/>
              </a:rPr>
              <a:t>reported and </a:t>
            </a:r>
            <a:r>
              <a:rPr b="0" lang="en-IE" sz="2400" spc="-1" strike="noStrike">
                <a:solidFill>
                  <a:srgbClr val="ffcc00"/>
                </a:solidFill>
                <a:latin typeface="Arial"/>
              </a:rPr>
              <a:t>	</a:t>
            </a:r>
            <a:r>
              <a:rPr b="0" lang="en-IE" sz="2400" spc="-1" strike="noStrike">
                <a:solidFill>
                  <a:srgbClr val="ffcc00"/>
                </a:solidFill>
                <a:latin typeface="Arial"/>
              </a:rPr>
              <a:t>investigated</a:t>
            </a:r>
            <a:r>
              <a:rPr b="0" lang="en-IE" sz="2400" spc="-1" strike="noStrike">
                <a:solidFill>
                  <a:srgbClr val="eaeaea"/>
                </a:solidFill>
                <a:latin typeface="Arial"/>
              </a:rPr>
              <a:t>, and </a:t>
            </a:r>
            <a:r>
              <a:rPr b="0" lang="en-IE" sz="2400" spc="-1" strike="noStrike">
                <a:solidFill>
                  <a:srgbClr val="ffcc00"/>
                </a:solidFill>
                <a:latin typeface="Arial"/>
              </a:rPr>
              <a:t>action is taken</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ffcc00"/>
                </a:solidFill>
                <a:latin typeface="Arial"/>
              </a:rPr>
              <a:t>Provide an incentive</a:t>
            </a:r>
            <a:r>
              <a:rPr b="0" lang="en-IE" sz="2400" spc="-1" strike="noStrike">
                <a:solidFill>
                  <a:srgbClr val="eaeaea"/>
                </a:solidFill>
                <a:latin typeface="Arial"/>
              </a:rPr>
              <a:t> to hospitals to improve patient safety</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Require hospitals to </a:t>
            </a:r>
            <a:r>
              <a:rPr b="0" lang="en-IE" sz="2400" spc="-1" strike="noStrike">
                <a:solidFill>
                  <a:srgbClr val="ffcc00"/>
                </a:solidFill>
                <a:latin typeface="Arial"/>
              </a:rPr>
              <a:t>invest in patient safety</a:t>
            </a:r>
            <a:r>
              <a:rPr b="0" lang="en-IE" sz="2400" spc="-1" strike="noStrike">
                <a:solidFill>
                  <a:srgbClr val="eaeaea"/>
                </a:solidFill>
                <a:latin typeface="Arial"/>
              </a:rPr>
              <a:t>, helping to </a:t>
            </a:r>
            <a:r>
              <a:rPr b="0" lang="en-IE" sz="2400" spc="-1" strike="noStrike">
                <a:solidFill>
                  <a:srgbClr val="eaeaea"/>
                </a:solidFill>
                <a:latin typeface="Arial"/>
              </a:rPr>
              <a:t>	</a:t>
            </a:r>
            <a:r>
              <a:rPr b="0" lang="en-IE" sz="2400" spc="-1" strike="noStrike">
                <a:solidFill>
                  <a:srgbClr val="eaeaea"/>
                </a:solidFill>
                <a:latin typeface="Arial"/>
              </a:rPr>
              <a:t>assure that hospitals offer comparable care</a:t>
            </a:r>
            <a:endParaRPr b="0" lang="en-US" sz="24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04B572EE-6CD3-4FE7-9EE0-053CBE468F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4" name=""/>
          <p:cNvSpPr/>
          <p:nvPr/>
        </p:nvSpPr>
        <p:spPr>
          <a:xfrm>
            <a:off x="0" y="1143000"/>
            <a:ext cx="9144000" cy="5715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95"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ackground</a:t>
            </a:r>
            <a:endParaRPr b="0" lang="en-US" sz="3600" spc="-1" strike="noStrike">
              <a:solidFill>
                <a:srgbClr val="eaeaea"/>
              </a:solidFill>
              <a:latin typeface="Times New Roman"/>
            </a:endParaRPr>
          </a:p>
        </p:txBody>
      </p:sp>
      <p:pic>
        <p:nvPicPr>
          <p:cNvPr id="96" name="" descr=""/>
          <p:cNvPicPr/>
          <p:nvPr/>
        </p:nvPicPr>
        <p:blipFill>
          <a:blip r:embed="rId1"/>
          <a:stretch/>
        </p:blipFill>
        <p:spPr>
          <a:xfrm>
            <a:off x="609480" y="1371600"/>
            <a:ext cx="7925040" cy="5149800"/>
          </a:xfrm>
          <a:prstGeom prst="rect">
            <a:avLst/>
          </a:prstGeom>
          <a:ln w="0">
            <a:noFill/>
          </a:ln>
        </p:spPr>
      </p:pic>
      <p:sp>
        <p:nvSpPr>
          <p:cNvPr id="97" name=""/>
          <p:cNvSpPr/>
          <p:nvPr/>
        </p:nvSpPr>
        <p:spPr>
          <a:xfrm>
            <a:off x="752400" y="1581120"/>
            <a:ext cx="7632720" cy="4943520"/>
          </a:xfrm>
          <a:custGeom>
            <a:avLst/>
            <a:gdLst/>
            <a:ahLst/>
            <a:rect l="l" t="t" r="r" b="b"/>
            <a:pathLst>
              <a:path w="4808" h="3114">
                <a:moveTo>
                  <a:pt x="84" y="2700"/>
                </a:moveTo>
                <a:cubicBezTo>
                  <a:pt x="75" y="2674"/>
                  <a:pt x="59" y="2653"/>
                  <a:pt x="48" y="2628"/>
                </a:cubicBezTo>
                <a:cubicBezTo>
                  <a:pt x="43" y="2616"/>
                  <a:pt x="40" y="2604"/>
                  <a:pt x="36" y="2592"/>
                </a:cubicBezTo>
                <a:cubicBezTo>
                  <a:pt x="34" y="2586"/>
                  <a:pt x="30" y="2574"/>
                  <a:pt x="30" y="2574"/>
                </a:cubicBezTo>
                <a:cubicBezTo>
                  <a:pt x="19" y="2426"/>
                  <a:pt x="15" y="2278"/>
                  <a:pt x="0" y="2130"/>
                </a:cubicBezTo>
                <a:cubicBezTo>
                  <a:pt x="2" y="2084"/>
                  <a:pt x="3" y="2038"/>
                  <a:pt x="6" y="1992"/>
                </a:cubicBezTo>
                <a:cubicBezTo>
                  <a:pt x="8" y="1957"/>
                  <a:pt x="34" y="1860"/>
                  <a:pt x="54" y="1830"/>
                </a:cubicBezTo>
                <a:cubicBezTo>
                  <a:pt x="62" y="1818"/>
                  <a:pt x="73" y="1808"/>
                  <a:pt x="78" y="1794"/>
                </a:cubicBezTo>
                <a:cubicBezTo>
                  <a:pt x="88" y="1765"/>
                  <a:pt x="97" y="1726"/>
                  <a:pt x="126" y="1716"/>
                </a:cubicBezTo>
                <a:cubicBezTo>
                  <a:pt x="135" y="1690"/>
                  <a:pt x="147" y="1670"/>
                  <a:pt x="156" y="1644"/>
                </a:cubicBezTo>
                <a:cubicBezTo>
                  <a:pt x="153" y="1582"/>
                  <a:pt x="152" y="1507"/>
                  <a:pt x="132" y="1446"/>
                </a:cubicBezTo>
                <a:cubicBezTo>
                  <a:pt x="126" y="1402"/>
                  <a:pt x="125" y="1357"/>
                  <a:pt x="114" y="1314"/>
                </a:cubicBezTo>
                <a:cubicBezTo>
                  <a:pt x="118" y="1203"/>
                  <a:pt x="114" y="1157"/>
                  <a:pt x="144" y="1068"/>
                </a:cubicBezTo>
                <a:cubicBezTo>
                  <a:pt x="155" y="1034"/>
                  <a:pt x="161" y="998"/>
                  <a:pt x="192" y="978"/>
                </a:cubicBezTo>
                <a:cubicBezTo>
                  <a:pt x="204" y="941"/>
                  <a:pt x="231" y="895"/>
                  <a:pt x="270" y="882"/>
                </a:cubicBezTo>
                <a:cubicBezTo>
                  <a:pt x="278" y="858"/>
                  <a:pt x="294" y="852"/>
                  <a:pt x="312" y="834"/>
                </a:cubicBezTo>
                <a:cubicBezTo>
                  <a:pt x="324" y="799"/>
                  <a:pt x="356" y="779"/>
                  <a:pt x="390" y="768"/>
                </a:cubicBezTo>
                <a:cubicBezTo>
                  <a:pt x="406" y="752"/>
                  <a:pt x="417" y="729"/>
                  <a:pt x="438" y="720"/>
                </a:cubicBezTo>
                <a:cubicBezTo>
                  <a:pt x="472" y="705"/>
                  <a:pt x="469" y="715"/>
                  <a:pt x="492" y="696"/>
                </a:cubicBezTo>
                <a:cubicBezTo>
                  <a:pt x="525" y="669"/>
                  <a:pt x="577" y="620"/>
                  <a:pt x="618" y="606"/>
                </a:cubicBezTo>
                <a:cubicBezTo>
                  <a:pt x="622" y="600"/>
                  <a:pt x="625" y="593"/>
                  <a:pt x="630" y="588"/>
                </a:cubicBezTo>
                <a:cubicBezTo>
                  <a:pt x="635" y="583"/>
                  <a:pt x="643" y="581"/>
                  <a:pt x="648" y="576"/>
                </a:cubicBezTo>
                <a:cubicBezTo>
                  <a:pt x="697" y="520"/>
                  <a:pt x="650" y="555"/>
                  <a:pt x="690" y="528"/>
                </a:cubicBezTo>
                <a:cubicBezTo>
                  <a:pt x="733" y="464"/>
                  <a:pt x="666" y="561"/>
                  <a:pt x="720" y="492"/>
                </a:cubicBezTo>
                <a:cubicBezTo>
                  <a:pt x="760" y="441"/>
                  <a:pt x="766" y="418"/>
                  <a:pt x="828" y="390"/>
                </a:cubicBezTo>
                <a:cubicBezTo>
                  <a:pt x="903" y="357"/>
                  <a:pt x="825" y="404"/>
                  <a:pt x="900" y="354"/>
                </a:cubicBezTo>
                <a:cubicBezTo>
                  <a:pt x="906" y="350"/>
                  <a:pt x="918" y="342"/>
                  <a:pt x="918" y="342"/>
                </a:cubicBezTo>
                <a:cubicBezTo>
                  <a:pt x="950" y="294"/>
                  <a:pt x="985" y="277"/>
                  <a:pt x="1032" y="246"/>
                </a:cubicBezTo>
                <a:cubicBezTo>
                  <a:pt x="1102" y="200"/>
                  <a:pt x="1168" y="153"/>
                  <a:pt x="1248" y="126"/>
                </a:cubicBezTo>
                <a:cubicBezTo>
                  <a:pt x="1284" y="114"/>
                  <a:pt x="1318" y="90"/>
                  <a:pt x="1356" y="84"/>
                </a:cubicBezTo>
                <a:cubicBezTo>
                  <a:pt x="1380" y="80"/>
                  <a:pt x="1428" y="72"/>
                  <a:pt x="1428" y="72"/>
                </a:cubicBezTo>
                <a:cubicBezTo>
                  <a:pt x="1561" y="82"/>
                  <a:pt x="1667" y="103"/>
                  <a:pt x="1800" y="108"/>
                </a:cubicBezTo>
                <a:cubicBezTo>
                  <a:pt x="1950" y="146"/>
                  <a:pt x="2094" y="171"/>
                  <a:pt x="2250" y="180"/>
                </a:cubicBezTo>
                <a:cubicBezTo>
                  <a:pt x="2378" y="198"/>
                  <a:pt x="2306" y="193"/>
                  <a:pt x="2466" y="186"/>
                </a:cubicBezTo>
                <a:cubicBezTo>
                  <a:pt x="2552" y="157"/>
                  <a:pt x="2642" y="136"/>
                  <a:pt x="2730" y="114"/>
                </a:cubicBezTo>
                <a:cubicBezTo>
                  <a:pt x="2780" y="101"/>
                  <a:pt x="2825" y="72"/>
                  <a:pt x="2874" y="60"/>
                </a:cubicBezTo>
                <a:cubicBezTo>
                  <a:pt x="2971" y="36"/>
                  <a:pt x="3062" y="13"/>
                  <a:pt x="3162" y="0"/>
                </a:cubicBezTo>
                <a:cubicBezTo>
                  <a:pt x="3248" y="2"/>
                  <a:pt x="3334" y="1"/>
                  <a:pt x="3420" y="6"/>
                </a:cubicBezTo>
                <a:cubicBezTo>
                  <a:pt x="3428" y="6"/>
                  <a:pt x="3461" y="21"/>
                  <a:pt x="3474" y="24"/>
                </a:cubicBezTo>
                <a:cubicBezTo>
                  <a:pt x="3522" y="36"/>
                  <a:pt x="3567" y="53"/>
                  <a:pt x="3612" y="72"/>
                </a:cubicBezTo>
                <a:cubicBezTo>
                  <a:pt x="3642" y="85"/>
                  <a:pt x="3677" y="92"/>
                  <a:pt x="3708" y="102"/>
                </a:cubicBezTo>
                <a:cubicBezTo>
                  <a:pt x="3730" y="109"/>
                  <a:pt x="3762" y="132"/>
                  <a:pt x="3780" y="144"/>
                </a:cubicBezTo>
                <a:cubicBezTo>
                  <a:pt x="3844" y="187"/>
                  <a:pt x="3913" y="227"/>
                  <a:pt x="3978" y="270"/>
                </a:cubicBezTo>
                <a:cubicBezTo>
                  <a:pt x="4047" y="316"/>
                  <a:pt x="4125" y="350"/>
                  <a:pt x="4194" y="396"/>
                </a:cubicBezTo>
                <a:cubicBezTo>
                  <a:pt x="4228" y="419"/>
                  <a:pt x="4264" y="461"/>
                  <a:pt x="4302" y="474"/>
                </a:cubicBezTo>
                <a:cubicBezTo>
                  <a:pt x="4324" y="481"/>
                  <a:pt x="4343" y="491"/>
                  <a:pt x="4362" y="504"/>
                </a:cubicBezTo>
                <a:cubicBezTo>
                  <a:pt x="4385" y="538"/>
                  <a:pt x="4429" y="571"/>
                  <a:pt x="4464" y="594"/>
                </a:cubicBezTo>
                <a:cubicBezTo>
                  <a:pt x="4492" y="636"/>
                  <a:pt x="4476" y="622"/>
                  <a:pt x="4506" y="642"/>
                </a:cubicBezTo>
                <a:cubicBezTo>
                  <a:pt x="4549" y="706"/>
                  <a:pt x="4482" y="609"/>
                  <a:pt x="4536" y="678"/>
                </a:cubicBezTo>
                <a:cubicBezTo>
                  <a:pt x="4561" y="711"/>
                  <a:pt x="4578" y="750"/>
                  <a:pt x="4596" y="786"/>
                </a:cubicBezTo>
                <a:cubicBezTo>
                  <a:pt x="4605" y="804"/>
                  <a:pt x="4618" y="821"/>
                  <a:pt x="4626" y="840"/>
                </a:cubicBezTo>
                <a:cubicBezTo>
                  <a:pt x="4631" y="852"/>
                  <a:pt x="4638" y="876"/>
                  <a:pt x="4638" y="876"/>
                </a:cubicBezTo>
                <a:cubicBezTo>
                  <a:pt x="4640" y="934"/>
                  <a:pt x="4639" y="992"/>
                  <a:pt x="4644" y="1050"/>
                </a:cubicBezTo>
                <a:cubicBezTo>
                  <a:pt x="4645" y="1066"/>
                  <a:pt x="4651" y="1082"/>
                  <a:pt x="4656" y="1098"/>
                </a:cubicBezTo>
                <a:cubicBezTo>
                  <a:pt x="4660" y="1110"/>
                  <a:pt x="4668" y="1134"/>
                  <a:pt x="4668" y="1134"/>
                </a:cubicBezTo>
                <a:cubicBezTo>
                  <a:pt x="4673" y="1209"/>
                  <a:pt x="4686" y="1277"/>
                  <a:pt x="4704" y="1350"/>
                </a:cubicBezTo>
                <a:cubicBezTo>
                  <a:pt x="4706" y="1392"/>
                  <a:pt x="4705" y="1434"/>
                  <a:pt x="4710" y="1476"/>
                </a:cubicBezTo>
                <a:cubicBezTo>
                  <a:pt x="4715" y="1524"/>
                  <a:pt x="4720" y="1499"/>
                  <a:pt x="4734" y="1530"/>
                </a:cubicBezTo>
                <a:cubicBezTo>
                  <a:pt x="4755" y="1577"/>
                  <a:pt x="4778" y="1626"/>
                  <a:pt x="4794" y="1674"/>
                </a:cubicBezTo>
                <a:cubicBezTo>
                  <a:pt x="4800" y="1791"/>
                  <a:pt x="4808" y="1887"/>
                  <a:pt x="4794" y="2010"/>
                </a:cubicBezTo>
                <a:cubicBezTo>
                  <a:pt x="4792" y="2024"/>
                  <a:pt x="4778" y="2034"/>
                  <a:pt x="4770" y="2046"/>
                </a:cubicBezTo>
                <a:cubicBezTo>
                  <a:pt x="4763" y="2057"/>
                  <a:pt x="4762" y="2070"/>
                  <a:pt x="4758" y="2082"/>
                </a:cubicBezTo>
                <a:cubicBezTo>
                  <a:pt x="4732" y="2160"/>
                  <a:pt x="4702" y="2235"/>
                  <a:pt x="4686" y="2316"/>
                </a:cubicBezTo>
                <a:cubicBezTo>
                  <a:pt x="4679" y="2416"/>
                  <a:pt x="4664" y="2465"/>
                  <a:pt x="4626" y="2550"/>
                </a:cubicBezTo>
                <a:cubicBezTo>
                  <a:pt x="4618" y="2567"/>
                  <a:pt x="4621" y="2591"/>
                  <a:pt x="4608" y="2604"/>
                </a:cubicBezTo>
                <a:cubicBezTo>
                  <a:pt x="4586" y="2626"/>
                  <a:pt x="4573" y="2656"/>
                  <a:pt x="4548" y="2676"/>
                </a:cubicBezTo>
                <a:cubicBezTo>
                  <a:pt x="4537" y="2685"/>
                  <a:pt x="4522" y="2690"/>
                  <a:pt x="4512" y="2700"/>
                </a:cubicBezTo>
                <a:cubicBezTo>
                  <a:pt x="4481" y="2731"/>
                  <a:pt x="4458" y="2746"/>
                  <a:pt x="4422" y="2766"/>
                </a:cubicBezTo>
                <a:cubicBezTo>
                  <a:pt x="4411" y="2772"/>
                  <a:pt x="4387" y="2795"/>
                  <a:pt x="4368" y="2796"/>
                </a:cubicBezTo>
                <a:cubicBezTo>
                  <a:pt x="4314" y="2800"/>
                  <a:pt x="4260" y="2800"/>
                  <a:pt x="4206" y="2802"/>
                </a:cubicBezTo>
                <a:cubicBezTo>
                  <a:pt x="4171" y="2808"/>
                  <a:pt x="4140" y="2812"/>
                  <a:pt x="4110" y="2832"/>
                </a:cubicBezTo>
                <a:cubicBezTo>
                  <a:pt x="4096" y="2853"/>
                  <a:pt x="4086" y="2866"/>
                  <a:pt x="4062" y="2874"/>
                </a:cubicBezTo>
                <a:cubicBezTo>
                  <a:pt x="4013" y="2947"/>
                  <a:pt x="3911" y="3000"/>
                  <a:pt x="3828" y="3018"/>
                </a:cubicBezTo>
                <a:cubicBezTo>
                  <a:pt x="3801" y="3024"/>
                  <a:pt x="3779" y="3047"/>
                  <a:pt x="3750" y="3048"/>
                </a:cubicBezTo>
                <a:cubicBezTo>
                  <a:pt x="3676" y="3052"/>
                  <a:pt x="3602" y="3053"/>
                  <a:pt x="3528" y="3054"/>
                </a:cubicBezTo>
                <a:cubicBezTo>
                  <a:pt x="3388" y="3057"/>
                  <a:pt x="3248" y="3058"/>
                  <a:pt x="3108" y="3060"/>
                </a:cubicBezTo>
                <a:cubicBezTo>
                  <a:pt x="2820" y="3079"/>
                  <a:pt x="2984" y="3071"/>
                  <a:pt x="2616" y="3078"/>
                </a:cubicBezTo>
                <a:cubicBezTo>
                  <a:pt x="2372" y="3067"/>
                  <a:pt x="2129" y="3079"/>
                  <a:pt x="1884" y="3084"/>
                </a:cubicBezTo>
                <a:cubicBezTo>
                  <a:pt x="1793" y="3114"/>
                  <a:pt x="1692" y="3088"/>
                  <a:pt x="1596" y="3102"/>
                </a:cubicBezTo>
                <a:cubicBezTo>
                  <a:pt x="1402" y="3098"/>
                  <a:pt x="1314" y="3089"/>
                  <a:pt x="1152" y="3078"/>
                </a:cubicBezTo>
                <a:cubicBezTo>
                  <a:pt x="1072" y="3051"/>
                  <a:pt x="961" y="3075"/>
                  <a:pt x="882" y="3078"/>
                </a:cubicBezTo>
                <a:cubicBezTo>
                  <a:pt x="767" y="3097"/>
                  <a:pt x="834" y="3089"/>
                  <a:pt x="678" y="3096"/>
                </a:cubicBezTo>
                <a:cubicBezTo>
                  <a:pt x="630" y="3090"/>
                  <a:pt x="567" y="3088"/>
                  <a:pt x="522" y="3066"/>
                </a:cubicBezTo>
                <a:cubicBezTo>
                  <a:pt x="485" y="3048"/>
                  <a:pt x="453" y="3019"/>
                  <a:pt x="414" y="3006"/>
                </a:cubicBezTo>
                <a:cubicBezTo>
                  <a:pt x="408" y="3000"/>
                  <a:pt x="403" y="2993"/>
                  <a:pt x="396" y="2988"/>
                </a:cubicBezTo>
                <a:cubicBezTo>
                  <a:pt x="385" y="2979"/>
                  <a:pt x="360" y="2964"/>
                  <a:pt x="360" y="2964"/>
                </a:cubicBezTo>
                <a:cubicBezTo>
                  <a:pt x="346" y="2942"/>
                  <a:pt x="333" y="2942"/>
                  <a:pt x="312" y="2928"/>
                </a:cubicBezTo>
                <a:cubicBezTo>
                  <a:pt x="296" y="2904"/>
                  <a:pt x="276" y="2878"/>
                  <a:pt x="252" y="2862"/>
                </a:cubicBezTo>
                <a:cubicBezTo>
                  <a:pt x="239" y="2842"/>
                  <a:pt x="203" y="2789"/>
                  <a:pt x="186" y="2778"/>
                </a:cubicBezTo>
                <a:cubicBezTo>
                  <a:pt x="170" y="2768"/>
                  <a:pt x="150" y="2766"/>
                  <a:pt x="132" y="2760"/>
                </a:cubicBezTo>
                <a:cubicBezTo>
                  <a:pt x="126" y="2758"/>
                  <a:pt x="114" y="2754"/>
                  <a:pt x="114" y="2754"/>
                </a:cubicBezTo>
                <a:cubicBezTo>
                  <a:pt x="108" y="2746"/>
                  <a:pt x="100" y="2739"/>
                  <a:pt x="96" y="2730"/>
                </a:cubicBezTo>
                <a:cubicBezTo>
                  <a:pt x="83" y="2705"/>
                  <a:pt x="84" y="2679"/>
                  <a:pt x="84" y="2700"/>
                </a:cubicBezTo>
                <a:close/>
              </a:path>
            </a:pathLst>
          </a:custGeom>
          <a:noFill/>
          <a:ln w="572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8" name=""/>
          <p:cNvSpPr/>
          <p:nvPr/>
        </p:nvSpPr>
        <p:spPr>
          <a:xfrm>
            <a:off x="5081760" y="2390760"/>
            <a:ext cx="2004840" cy="3343320"/>
          </a:xfrm>
          <a:custGeom>
            <a:avLst/>
            <a:gdLst/>
            <a:ahLst/>
            <a:rect l="l" t="t" r="r" b="b"/>
            <a:pathLst>
              <a:path w="1263" h="2106">
                <a:moveTo>
                  <a:pt x="123" y="1818"/>
                </a:moveTo>
                <a:cubicBezTo>
                  <a:pt x="163" y="1810"/>
                  <a:pt x="190" y="1794"/>
                  <a:pt x="225" y="1776"/>
                </a:cubicBezTo>
                <a:cubicBezTo>
                  <a:pt x="243" y="1767"/>
                  <a:pt x="279" y="1746"/>
                  <a:pt x="279" y="1746"/>
                </a:cubicBezTo>
                <a:cubicBezTo>
                  <a:pt x="292" y="1706"/>
                  <a:pt x="309" y="1674"/>
                  <a:pt x="333" y="1638"/>
                </a:cubicBezTo>
                <a:cubicBezTo>
                  <a:pt x="345" y="1619"/>
                  <a:pt x="331" y="1618"/>
                  <a:pt x="351" y="1602"/>
                </a:cubicBezTo>
                <a:cubicBezTo>
                  <a:pt x="356" y="1598"/>
                  <a:pt x="363" y="1599"/>
                  <a:pt x="369" y="1596"/>
                </a:cubicBezTo>
                <a:cubicBezTo>
                  <a:pt x="386" y="1588"/>
                  <a:pt x="392" y="1579"/>
                  <a:pt x="405" y="1566"/>
                </a:cubicBezTo>
                <a:cubicBezTo>
                  <a:pt x="424" y="1509"/>
                  <a:pt x="406" y="1518"/>
                  <a:pt x="459" y="1500"/>
                </a:cubicBezTo>
                <a:cubicBezTo>
                  <a:pt x="465" y="1498"/>
                  <a:pt x="472" y="1498"/>
                  <a:pt x="477" y="1494"/>
                </a:cubicBezTo>
                <a:cubicBezTo>
                  <a:pt x="486" y="1488"/>
                  <a:pt x="517" y="1467"/>
                  <a:pt x="531" y="1458"/>
                </a:cubicBezTo>
                <a:cubicBezTo>
                  <a:pt x="537" y="1454"/>
                  <a:pt x="549" y="1446"/>
                  <a:pt x="549" y="1446"/>
                </a:cubicBezTo>
                <a:cubicBezTo>
                  <a:pt x="553" y="1440"/>
                  <a:pt x="556" y="1433"/>
                  <a:pt x="561" y="1428"/>
                </a:cubicBezTo>
                <a:cubicBezTo>
                  <a:pt x="566" y="1423"/>
                  <a:pt x="578" y="1423"/>
                  <a:pt x="579" y="1416"/>
                </a:cubicBezTo>
                <a:cubicBezTo>
                  <a:pt x="587" y="1350"/>
                  <a:pt x="565" y="1301"/>
                  <a:pt x="513" y="1266"/>
                </a:cubicBezTo>
                <a:cubicBezTo>
                  <a:pt x="502" y="1233"/>
                  <a:pt x="493" y="1224"/>
                  <a:pt x="507" y="1188"/>
                </a:cubicBezTo>
                <a:cubicBezTo>
                  <a:pt x="512" y="1175"/>
                  <a:pt x="523" y="1164"/>
                  <a:pt x="531" y="1152"/>
                </a:cubicBezTo>
                <a:cubicBezTo>
                  <a:pt x="538" y="1141"/>
                  <a:pt x="567" y="1140"/>
                  <a:pt x="567" y="1140"/>
                </a:cubicBezTo>
                <a:cubicBezTo>
                  <a:pt x="594" y="1100"/>
                  <a:pt x="588" y="1098"/>
                  <a:pt x="621" y="1080"/>
                </a:cubicBezTo>
                <a:cubicBezTo>
                  <a:pt x="634" y="1073"/>
                  <a:pt x="657" y="1056"/>
                  <a:pt x="657" y="1056"/>
                </a:cubicBezTo>
                <a:cubicBezTo>
                  <a:pt x="661" y="1045"/>
                  <a:pt x="673" y="1026"/>
                  <a:pt x="645" y="1026"/>
                </a:cubicBezTo>
                <a:cubicBezTo>
                  <a:pt x="627" y="1026"/>
                  <a:pt x="542" y="1051"/>
                  <a:pt x="525" y="1062"/>
                </a:cubicBezTo>
                <a:cubicBezTo>
                  <a:pt x="513" y="1070"/>
                  <a:pt x="489" y="1086"/>
                  <a:pt x="489" y="1086"/>
                </a:cubicBezTo>
                <a:cubicBezTo>
                  <a:pt x="461" y="1127"/>
                  <a:pt x="479" y="1127"/>
                  <a:pt x="447" y="1116"/>
                </a:cubicBezTo>
                <a:cubicBezTo>
                  <a:pt x="431" y="1091"/>
                  <a:pt x="426" y="1066"/>
                  <a:pt x="417" y="1038"/>
                </a:cubicBezTo>
                <a:cubicBezTo>
                  <a:pt x="419" y="1012"/>
                  <a:pt x="419" y="986"/>
                  <a:pt x="423" y="960"/>
                </a:cubicBezTo>
                <a:cubicBezTo>
                  <a:pt x="429" y="922"/>
                  <a:pt x="451" y="884"/>
                  <a:pt x="459" y="846"/>
                </a:cubicBezTo>
                <a:cubicBezTo>
                  <a:pt x="471" y="791"/>
                  <a:pt x="473" y="733"/>
                  <a:pt x="477" y="678"/>
                </a:cubicBezTo>
                <a:cubicBezTo>
                  <a:pt x="475" y="616"/>
                  <a:pt x="475" y="554"/>
                  <a:pt x="471" y="492"/>
                </a:cubicBezTo>
                <a:cubicBezTo>
                  <a:pt x="470" y="470"/>
                  <a:pt x="447" y="457"/>
                  <a:pt x="441" y="438"/>
                </a:cubicBezTo>
                <a:cubicBezTo>
                  <a:pt x="419" y="372"/>
                  <a:pt x="355" y="285"/>
                  <a:pt x="297" y="246"/>
                </a:cubicBezTo>
                <a:cubicBezTo>
                  <a:pt x="235" y="205"/>
                  <a:pt x="169" y="173"/>
                  <a:pt x="99" y="150"/>
                </a:cubicBezTo>
                <a:cubicBezTo>
                  <a:pt x="87" y="146"/>
                  <a:pt x="75" y="141"/>
                  <a:pt x="63" y="138"/>
                </a:cubicBezTo>
                <a:cubicBezTo>
                  <a:pt x="47" y="134"/>
                  <a:pt x="15" y="126"/>
                  <a:pt x="15" y="126"/>
                </a:cubicBezTo>
                <a:cubicBezTo>
                  <a:pt x="0" y="82"/>
                  <a:pt x="34" y="84"/>
                  <a:pt x="69" y="72"/>
                </a:cubicBezTo>
                <a:cubicBezTo>
                  <a:pt x="148" y="46"/>
                  <a:pt x="201" y="25"/>
                  <a:pt x="285" y="18"/>
                </a:cubicBezTo>
                <a:cubicBezTo>
                  <a:pt x="309" y="12"/>
                  <a:pt x="332" y="5"/>
                  <a:pt x="357" y="0"/>
                </a:cubicBezTo>
                <a:cubicBezTo>
                  <a:pt x="410" y="4"/>
                  <a:pt x="454" y="13"/>
                  <a:pt x="507" y="18"/>
                </a:cubicBezTo>
                <a:cubicBezTo>
                  <a:pt x="559" y="35"/>
                  <a:pt x="611" y="49"/>
                  <a:pt x="663" y="66"/>
                </a:cubicBezTo>
                <a:cubicBezTo>
                  <a:pt x="677" y="71"/>
                  <a:pt x="685" y="87"/>
                  <a:pt x="699" y="90"/>
                </a:cubicBezTo>
                <a:cubicBezTo>
                  <a:pt x="723" y="96"/>
                  <a:pt x="739" y="100"/>
                  <a:pt x="759" y="114"/>
                </a:cubicBezTo>
                <a:cubicBezTo>
                  <a:pt x="793" y="166"/>
                  <a:pt x="748" y="105"/>
                  <a:pt x="789" y="138"/>
                </a:cubicBezTo>
                <a:cubicBezTo>
                  <a:pt x="795" y="143"/>
                  <a:pt x="796" y="151"/>
                  <a:pt x="801" y="156"/>
                </a:cubicBezTo>
                <a:cubicBezTo>
                  <a:pt x="806" y="161"/>
                  <a:pt x="813" y="164"/>
                  <a:pt x="819" y="168"/>
                </a:cubicBezTo>
                <a:cubicBezTo>
                  <a:pt x="838" y="197"/>
                  <a:pt x="874" y="203"/>
                  <a:pt x="903" y="222"/>
                </a:cubicBezTo>
                <a:cubicBezTo>
                  <a:pt x="914" y="256"/>
                  <a:pt x="936" y="261"/>
                  <a:pt x="957" y="288"/>
                </a:cubicBezTo>
                <a:cubicBezTo>
                  <a:pt x="988" y="328"/>
                  <a:pt x="1010" y="380"/>
                  <a:pt x="1053" y="408"/>
                </a:cubicBezTo>
                <a:cubicBezTo>
                  <a:pt x="1066" y="447"/>
                  <a:pt x="1096" y="482"/>
                  <a:pt x="1119" y="516"/>
                </a:cubicBezTo>
                <a:cubicBezTo>
                  <a:pt x="1141" y="549"/>
                  <a:pt x="1154" y="589"/>
                  <a:pt x="1173" y="624"/>
                </a:cubicBezTo>
                <a:cubicBezTo>
                  <a:pt x="1188" y="651"/>
                  <a:pt x="1206" y="668"/>
                  <a:pt x="1215" y="696"/>
                </a:cubicBezTo>
                <a:cubicBezTo>
                  <a:pt x="1221" y="757"/>
                  <a:pt x="1232" y="818"/>
                  <a:pt x="1251" y="876"/>
                </a:cubicBezTo>
                <a:cubicBezTo>
                  <a:pt x="1259" y="899"/>
                  <a:pt x="1263" y="948"/>
                  <a:pt x="1263" y="948"/>
                </a:cubicBezTo>
                <a:cubicBezTo>
                  <a:pt x="1254" y="1040"/>
                  <a:pt x="1261" y="1143"/>
                  <a:pt x="1239" y="1230"/>
                </a:cubicBezTo>
                <a:cubicBezTo>
                  <a:pt x="1230" y="1340"/>
                  <a:pt x="1187" y="1442"/>
                  <a:pt x="1143" y="1542"/>
                </a:cubicBezTo>
                <a:cubicBezTo>
                  <a:pt x="1124" y="1584"/>
                  <a:pt x="1120" y="1612"/>
                  <a:pt x="1095" y="1650"/>
                </a:cubicBezTo>
                <a:cubicBezTo>
                  <a:pt x="1072" y="1685"/>
                  <a:pt x="1058" y="1728"/>
                  <a:pt x="1023" y="1752"/>
                </a:cubicBezTo>
                <a:cubicBezTo>
                  <a:pt x="1016" y="1763"/>
                  <a:pt x="975" y="1834"/>
                  <a:pt x="963" y="1842"/>
                </a:cubicBezTo>
                <a:cubicBezTo>
                  <a:pt x="933" y="1862"/>
                  <a:pt x="894" y="1883"/>
                  <a:pt x="873" y="1914"/>
                </a:cubicBezTo>
                <a:cubicBezTo>
                  <a:pt x="865" y="1926"/>
                  <a:pt x="857" y="1938"/>
                  <a:pt x="849" y="1950"/>
                </a:cubicBezTo>
                <a:cubicBezTo>
                  <a:pt x="845" y="1956"/>
                  <a:pt x="844" y="1966"/>
                  <a:pt x="837" y="1968"/>
                </a:cubicBezTo>
                <a:cubicBezTo>
                  <a:pt x="806" y="1978"/>
                  <a:pt x="776" y="1996"/>
                  <a:pt x="747" y="2010"/>
                </a:cubicBezTo>
                <a:cubicBezTo>
                  <a:pt x="705" y="2031"/>
                  <a:pt x="661" y="2056"/>
                  <a:pt x="621" y="2082"/>
                </a:cubicBezTo>
                <a:cubicBezTo>
                  <a:pt x="605" y="2093"/>
                  <a:pt x="567" y="2106"/>
                  <a:pt x="567" y="2106"/>
                </a:cubicBezTo>
                <a:cubicBezTo>
                  <a:pt x="515" y="2104"/>
                  <a:pt x="463" y="2105"/>
                  <a:pt x="411" y="2100"/>
                </a:cubicBezTo>
                <a:cubicBezTo>
                  <a:pt x="364" y="2096"/>
                  <a:pt x="341" y="2065"/>
                  <a:pt x="303" y="2052"/>
                </a:cubicBezTo>
                <a:cubicBezTo>
                  <a:pt x="267" y="2040"/>
                  <a:pt x="256" y="2032"/>
                  <a:pt x="225" y="2010"/>
                </a:cubicBezTo>
                <a:cubicBezTo>
                  <a:pt x="213" y="2002"/>
                  <a:pt x="201" y="1994"/>
                  <a:pt x="189" y="1986"/>
                </a:cubicBezTo>
                <a:cubicBezTo>
                  <a:pt x="183" y="1982"/>
                  <a:pt x="171" y="1974"/>
                  <a:pt x="171" y="1974"/>
                </a:cubicBezTo>
                <a:cubicBezTo>
                  <a:pt x="139" y="1926"/>
                  <a:pt x="181" y="1984"/>
                  <a:pt x="141" y="1944"/>
                </a:cubicBezTo>
                <a:cubicBezTo>
                  <a:pt x="106" y="1909"/>
                  <a:pt x="119" y="1861"/>
                  <a:pt x="123" y="1818"/>
                </a:cubicBezTo>
                <a:close/>
              </a:path>
            </a:pathLst>
          </a:custGeom>
          <a:solidFill>
            <a:srgbClr val="00ff00">
              <a:alpha val="50000"/>
            </a:srgbClr>
          </a:solidFill>
          <a:ln w="57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9" name=""/>
          <p:cNvSpPr/>
          <p:nvPr/>
        </p:nvSpPr>
        <p:spPr>
          <a:xfrm>
            <a:off x="2295360" y="2495520"/>
            <a:ext cx="2381400" cy="3267000"/>
          </a:xfrm>
          <a:custGeom>
            <a:avLst/>
            <a:gdLst/>
            <a:ahLst/>
            <a:rect l="l" t="t" r="r" b="b"/>
            <a:pathLst>
              <a:path w="1500" h="2058">
                <a:moveTo>
                  <a:pt x="1392" y="1518"/>
                </a:moveTo>
                <a:cubicBezTo>
                  <a:pt x="1369" y="1541"/>
                  <a:pt x="1367" y="1567"/>
                  <a:pt x="1344" y="1590"/>
                </a:cubicBezTo>
                <a:cubicBezTo>
                  <a:pt x="1333" y="1645"/>
                  <a:pt x="1306" y="1695"/>
                  <a:pt x="1284" y="1746"/>
                </a:cubicBezTo>
                <a:cubicBezTo>
                  <a:pt x="1269" y="1780"/>
                  <a:pt x="1262" y="1829"/>
                  <a:pt x="1224" y="1842"/>
                </a:cubicBezTo>
                <a:cubicBezTo>
                  <a:pt x="1154" y="1912"/>
                  <a:pt x="1074" y="1970"/>
                  <a:pt x="984" y="2010"/>
                </a:cubicBezTo>
                <a:cubicBezTo>
                  <a:pt x="956" y="2023"/>
                  <a:pt x="923" y="2036"/>
                  <a:pt x="894" y="2046"/>
                </a:cubicBezTo>
                <a:cubicBezTo>
                  <a:pt x="882" y="2050"/>
                  <a:pt x="858" y="2058"/>
                  <a:pt x="858" y="2058"/>
                </a:cubicBezTo>
                <a:cubicBezTo>
                  <a:pt x="804" y="2056"/>
                  <a:pt x="750" y="2057"/>
                  <a:pt x="696" y="2052"/>
                </a:cubicBezTo>
                <a:cubicBezTo>
                  <a:pt x="689" y="2051"/>
                  <a:pt x="685" y="2043"/>
                  <a:pt x="678" y="2040"/>
                </a:cubicBezTo>
                <a:cubicBezTo>
                  <a:pt x="652" y="2029"/>
                  <a:pt x="622" y="2028"/>
                  <a:pt x="594" y="2022"/>
                </a:cubicBezTo>
                <a:cubicBezTo>
                  <a:pt x="577" y="2019"/>
                  <a:pt x="555" y="2006"/>
                  <a:pt x="540" y="1998"/>
                </a:cubicBezTo>
                <a:cubicBezTo>
                  <a:pt x="527" y="1991"/>
                  <a:pt x="504" y="1974"/>
                  <a:pt x="504" y="1974"/>
                </a:cubicBezTo>
                <a:cubicBezTo>
                  <a:pt x="496" y="1962"/>
                  <a:pt x="488" y="1950"/>
                  <a:pt x="480" y="1938"/>
                </a:cubicBezTo>
                <a:cubicBezTo>
                  <a:pt x="476" y="1933"/>
                  <a:pt x="468" y="1935"/>
                  <a:pt x="462" y="1932"/>
                </a:cubicBezTo>
                <a:cubicBezTo>
                  <a:pt x="449" y="1925"/>
                  <a:pt x="436" y="1918"/>
                  <a:pt x="426" y="1908"/>
                </a:cubicBezTo>
                <a:cubicBezTo>
                  <a:pt x="409" y="1891"/>
                  <a:pt x="398" y="1874"/>
                  <a:pt x="378" y="1860"/>
                </a:cubicBezTo>
                <a:cubicBezTo>
                  <a:pt x="363" y="1838"/>
                  <a:pt x="340" y="1815"/>
                  <a:pt x="318" y="1800"/>
                </a:cubicBezTo>
                <a:cubicBezTo>
                  <a:pt x="309" y="1787"/>
                  <a:pt x="297" y="1777"/>
                  <a:pt x="288" y="1764"/>
                </a:cubicBezTo>
                <a:cubicBezTo>
                  <a:pt x="284" y="1759"/>
                  <a:pt x="286" y="1751"/>
                  <a:pt x="282" y="1746"/>
                </a:cubicBezTo>
                <a:cubicBezTo>
                  <a:pt x="270" y="1728"/>
                  <a:pt x="251" y="1710"/>
                  <a:pt x="234" y="1698"/>
                </a:cubicBezTo>
                <a:cubicBezTo>
                  <a:pt x="230" y="1692"/>
                  <a:pt x="227" y="1685"/>
                  <a:pt x="222" y="1680"/>
                </a:cubicBezTo>
                <a:cubicBezTo>
                  <a:pt x="217" y="1675"/>
                  <a:pt x="209" y="1674"/>
                  <a:pt x="204" y="1668"/>
                </a:cubicBezTo>
                <a:cubicBezTo>
                  <a:pt x="200" y="1663"/>
                  <a:pt x="202" y="1655"/>
                  <a:pt x="198" y="1650"/>
                </a:cubicBezTo>
                <a:cubicBezTo>
                  <a:pt x="193" y="1643"/>
                  <a:pt x="186" y="1638"/>
                  <a:pt x="180" y="1632"/>
                </a:cubicBezTo>
                <a:cubicBezTo>
                  <a:pt x="172" y="1608"/>
                  <a:pt x="159" y="1598"/>
                  <a:pt x="138" y="1584"/>
                </a:cubicBezTo>
                <a:cubicBezTo>
                  <a:pt x="105" y="1535"/>
                  <a:pt x="105" y="1471"/>
                  <a:pt x="72" y="1422"/>
                </a:cubicBezTo>
                <a:cubicBezTo>
                  <a:pt x="52" y="1343"/>
                  <a:pt x="20" y="1267"/>
                  <a:pt x="0" y="1188"/>
                </a:cubicBezTo>
                <a:cubicBezTo>
                  <a:pt x="2" y="1064"/>
                  <a:pt x="2" y="940"/>
                  <a:pt x="6" y="816"/>
                </a:cubicBezTo>
                <a:cubicBezTo>
                  <a:pt x="9" y="708"/>
                  <a:pt x="91" y="533"/>
                  <a:pt x="144" y="438"/>
                </a:cubicBezTo>
                <a:cubicBezTo>
                  <a:pt x="167" y="397"/>
                  <a:pt x="195" y="345"/>
                  <a:pt x="228" y="312"/>
                </a:cubicBezTo>
                <a:cubicBezTo>
                  <a:pt x="256" y="284"/>
                  <a:pt x="289" y="260"/>
                  <a:pt x="318" y="234"/>
                </a:cubicBezTo>
                <a:cubicBezTo>
                  <a:pt x="343" y="212"/>
                  <a:pt x="364" y="188"/>
                  <a:pt x="390" y="168"/>
                </a:cubicBezTo>
                <a:cubicBezTo>
                  <a:pt x="401" y="159"/>
                  <a:pt x="426" y="144"/>
                  <a:pt x="426" y="144"/>
                </a:cubicBezTo>
                <a:cubicBezTo>
                  <a:pt x="443" y="119"/>
                  <a:pt x="466" y="116"/>
                  <a:pt x="492" y="102"/>
                </a:cubicBezTo>
                <a:cubicBezTo>
                  <a:pt x="505" y="95"/>
                  <a:pt x="516" y="86"/>
                  <a:pt x="528" y="78"/>
                </a:cubicBezTo>
                <a:cubicBezTo>
                  <a:pt x="564" y="54"/>
                  <a:pt x="649" y="44"/>
                  <a:pt x="690" y="30"/>
                </a:cubicBezTo>
                <a:cubicBezTo>
                  <a:pt x="712" y="23"/>
                  <a:pt x="728" y="7"/>
                  <a:pt x="750" y="0"/>
                </a:cubicBezTo>
                <a:cubicBezTo>
                  <a:pt x="814" y="2"/>
                  <a:pt x="878" y="2"/>
                  <a:pt x="942" y="6"/>
                </a:cubicBezTo>
                <a:cubicBezTo>
                  <a:pt x="1008" y="10"/>
                  <a:pt x="1073" y="47"/>
                  <a:pt x="1140" y="54"/>
                </a:cubicBezTo>
                <a:cubicBezTo>
                  <a:pt x="1196" y="73"/>
                  <a:pt x="1264" y="50"/>
                  <a:pt x="1320" y="36"/>
                </a:cubicBezTo>
                <a:cubicBezTo>
                  <a:pt x="1370" y="40"/>
                  <a:pt x="1442" y="6"/>
                  <a:pt x="1470" y="48"/>
                </a:cubicBezTo>
                <a:cubicBezTo>
                  <a:pt x="1489" y="77"/>
                  <a:pt x="1480" y="59"/>
                  <a:pt x="1494" y="102"/>
                </a:cubicBezTo>
                <a:cubicBezTo>
                  <a:pt x="1496" y="108"/>
                  <a:pt x="1500" y="120"/>
                  <a:pt x="1500" y="120"/>
                </a:cubicBezTo>
                <a:cubicBezTo>
                  <a:pt x="1494" y="137"/>
                  <a:pt x="1494" y="157"/>
                  <a:pt x="1488" y="174"/>
                </a:cubicBezTo>
                <a:lnTo>
                  <a:pt x="1464" y="228"/>
                </a:lnTo>
                <a:cubicBezTo>
                  <a:pt x="1464" y="228"/>
                  <a:pt x="1464" y="228"/>
                  <a:pt x="1464" y="228"/>
                </a:cubicBezTo>
                <a:cubicBezTo>
                  <a:pt x="1462" y="236"/>
                  <a:pt x="1462" y="245"/>
                  <a:pt x="1458" y="252"/>
                </a:cubicBezTo>
                <a:cubicBezTo>
                  <a:pt x="1444" y="276"/>
                  <a:pt x="1413" y="296"/>
                  <a:pt x="1404" y="324"/>
                </a:cubicBezTo>
                <a:cubicBezTo>
                  <a:pt x="1395" y="351"/>
                  <a:pt x="1382" y="376"/>
                  <a:pt x="1362" y="396"/>
                </a:cubicBezTo>
                <a:cubicBezTo>
                  <a:pt x="1352" y="425"/>
                  <a:pt x="1339" y="445"/>
                  <a:pt x="1314" y="462"/>
                </a:cubicBezTo>
                <a:cubicBezTo>
                  <a:pt x="1306" y="485"/>
                  <a:pt x="1296" y="510"/>
                  <a:pt x="1290" y="534"/>
                </a:cubicBezTo>
                <a:cubicBezTo>
                  <a:pt x="1290" y="534"/>
                  <a:pt x="1281" y="573"/>
                  <a:pt x="1278" y="576"/>
                </a:cubicBezTo>
                <a:cubicBezTo>
                  <a:pt x="1274" y="580"/>
                  <a:pt x="1266" y="580"/>
                  <a:pt x="1260" y="582"/>
                </a:cubicBezTo>
                <a:cubicBezTo>
                  <a:pt x="1258" y="588"/>
                  <a:pt x="1258" y="596"/>
                  <a:pt x="1254" y="600"/>
                </a:cubicBezTo>
                <a:cubicBezTo>
                  <a:pt x="1244" y="610"/>
                  <a:pt x="1218" y="624"/>
                  <a:pt x="1218" y="624"/>
                </a:cubicBezTo>
                <a:cubicBezTo>
                  <a:pt x="1160" y="619"/>
                  <a:pt x="1148" y="622"/>
                  <a:pt x="1104" y="600"/>
                </a:cubicBezTo>
                <a:cubicBezTo>
                  <a:pt x="1054" y="617"/>
                  <a:pt x="1134" y="591"/>
                  <a:pt x="1044" y="612"/>
                </a:cubicBezTo>
                <a:cubicBezTo>
                  <a:pt x="1014" y="619"/>
                  <a:pt x="997" y="629"/>
                  <a:pt x="972" y="642"/>
                </a:cubicBezTo>
                <a:cubicBezTo>
                  <a:pt x="949" y="653"/>
                  <a:pt x="918" y="658"/>
                  <a:pt x="894" y="666"/>
                </a:cubicBezTo>
                <a:cubicBezTo>
                  <a:pt x="873" y="673"/>
                  <a:pt x="858" y="690"/>
                  <a:pt x="840" y="702"/>
                </a:cubicBezTo>
                <a:cubicBezTo>
                  <a:pt x="834" y="706"/>
                  <a:pt x="822" y="714"/>
                  <a:pt x="822" y="714"/>
                </a:cubicBezTo>
                <a:cubicBezTo>
                  <a:pt x="794" y="755"/>
                  <a:pt x="772" y="798"/>
                  <a:pt x="744" y="840"/>
                </a:cubicBezTo>
                <a:cubicBezTo>
                  <a:pt x="737" y="851"/>
                  <a:pt x="736" y="864"/>
                  <a:pt x="732" y="876"/>
                </a:cubicBezTo>
                <a:cubicBezTo>
                  <a:pt x="730" y="882"/>
                  <a:pt x="726" y="894"/>
                  <a:pt x="726" y="894"/>
                </a:cubicBezTo>
                <a:cubicBezTo>
                  <a:pt x="720" y="949"/>
                  <a:pt x="714" y="964"/>
                  <a:pt x="720" y="1020"/>
                </a:cubicBezTo>
                <a:cubicBezTo>
                  <a:pt x="722" y="1086"/>
                  <a:pt x="722" y="1152"/>
                  <a:pt x="726" y="1218"/>
                </a:cubicBezTo>
                <a:cubicBezTo>
                  <a:pt x="727" y="1243"/>
                  <a:pt x="757" y="1284"/>
                  <a:pt x="768" y="1308"/>
                </a:cubicBezTo>
                <a:cubicBezTo>
                  <a:pt x="768" y="1308"/>
                  <a:pt x="783" y="1353"/>
                  <a:pt x="786" y="1362"/>
                </a:cubicBezTo>
                <a:cubicBezTo>
                  <a:pt x="788" y="1368"/>
                  <a:pt x="786" y="1378"/>
                  <a:pt x="792" y="1380"/>
                </a:cubicBezTo>
                <a:cubicBezTo>
                  <a:pt x="817" y="1388"/>
                  <a:pt x="826" y="1400"/>
                  <a:pt x="846" y="1416"/>
                </a:cubicBezTo>
                <a:cubicBezTo>
                  <a:pt x="886" y="1447"/>
                  <a:pt x="924" y="1478"/>
                  <a:pt x="972" y="1494"/>
                </a:cubicBezTo>
                <a:cubicBezTo>
                  <a:pt x="1006" y="1505"/>
                  <a:pt x="1040" y="1513"/>
                  <a:pt x="1074" y="1524"/>
                </a:cubicBezTo>
                <a:cubicBezTo>
                  <a:pt x="1086" y="1528"/>
                  <a:pt x="1110" y="1536"/>
                  <a:pt x="1110" y="1536"/>
                </a:cubicBezTo>
                <a:cubicBezTo>
                  <a:pt x="1216" y="1532"/>
                  <a:pt x="1290" y="1524"/>
                  <a:pt x="1392" y="1518"/>
                </a:cubicBezTo>
                <a:close/>
              </a:path>
            </a:pathLst>
          </a:custGeom>
          <a:solidFill>
            <a:srgbClr val="00ff00">
              <a:alpha val="50000"/>
            </a:srgbClr>
          </a:solidFill>
          <a:ln w="57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0" name=""/>
          <p:cNvSpPr/>
          <p:nvPr/>
        </p:nvSpPr>
        <p:spPr>
          <a:xfrm>
            <a:off x="4606920" y="5362560"/>
            <a:ext cx="279360" cy="285840"/>
          </a:xfrm>
          <a:custGeom>
            <a:avLst/>
            <a:gdLst/>
            <a:ahLst/>
            <a:rect l="l" t="t" r="r" b="b"/>
            <a:pathLst>
              <a:path w="176" h="180">
                <a:moveTo>
                  <a:pt x="92" y="0"/>
                </a:moveTo>
                <a:cubicBezTo>
                  <a:pt x="49" y="9"/>
                  <a:pt x="43" y="25"/>
                  <a:pt x="14" y="54"/>
                </a:cubicBezTo>
                <a:cubicBezTo>
                  <a:pt x="0" y="97"/>
                  <a:pt x="26" y="145"/>
                  <a:pt x="50" y="180"/>
                </a:cubicBezTo>
                <a:cubicBezTo>
                  <a:pt x="78" y="178"/>
                  <a:pt x="107" y="180"/>
                  <a:pt x="134" y="174"/>
                </a:cubicBezTo>
                <a:cubicBezTo>
                  <a:pt x="153" y="170"/>
                  <a:pt x="171" y="118"/>
                  <a:pt x="176" y="102"/>
                </a:cubicBezTo>
                <a:cubicBezTo>
                  <a:pt x="175" y="98"/>
                  <a:pt x="171" y="58"/>
                  <a:pt x="164" y="48"/>
                </a:cubicBezTo>
                <a:cubicBezTo>
                  <a:pt x="147" y="22"/>
                  <a:pt x="116" y="16"/>
                  <a:pt x="92" y="0"/>
                </a:cubicBezTo>
                <a:close/>
              </a:path>
            </a:pathLst>
          </a:custGeom>
          <a:solidFill>
            <a:srgbClr val="00ff00">
              <a:alpha val="50000"/>
            </a:srgbClr>
          </a:solidFill>
          <a:ln w="57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1" name=""/>
          <p:cNvSpPr/>
          <p:nvPr/>
        </p:nvSpPr>
        <p:spPr>
          <a:xfrm>
            <a:off x="3495600" y="3514680"/>
            <a:ext cx="1648080" cy="1333440"/>
          </a:xfrm>
          <a:custGeom>
            <a:avLst/>
            <a:gdLst/>
            <a:ahLst/>
            <a:rect l="l" t="t" r="r" b="b"/>
            <a:pathLst>
              <a:path w="1038" h="840">
                <a:moveTo>
                  <a:pt x="66" y="672"/>
                </a:moveTo>
                <a:cubicBezTo>
                  <a:pt x="52" y="629"/>
                  <a:pt x="65" y="643"/>
                  <a:pt x="36" y="624"/>
                </a:cubicBezTo>
                <a:cubicBezTo>
                  <a:pt x="29" y="602"/>
                  <a:pt x="19" y="586"/>
                  <a:pt x="12" y="564"/>
                </a:cubicBezTo>
                <a:cubicBezTo>
                  <a:pt x="8" y="552"/>
                  <a:pt x="0" y="528"/>
                  <a:pt x="0" y="528"/>
                </a:cubicBezTo>
                <a:cubicBezTo>
                  <a:pt x="2" y="456"/>
                  <a:pt x="1" y="233"/>
                  <a:pt x="72" y="162"/>
                </a:cubicBezTo>
                <a:cubicBezTo>
                  <a:pt x="84" y="125"/>
                  <a:pt x="112" y="99"/>
                  <a:pt x="144" y="78"/>
                </a:cubicBezTo>
                <a:cubicBezTo>
                  <a:pt x="170" y="39"/>
                  <a:pt x="205" y="32"/>
                  <a:pt x="246" y="18"/>
                </a:cubicBezTo>
                <a:cubicBezTo>
                  <a:pt x="258" y="14"/>
                  <a:pt x="270" y="10"/>
                  <a:pt x="282" y="6"/>
                </a:cubicBezTo>
                <a:cubicBezTo>
                  <a:pt x="288" y="4"/>
                  <a:pt x="300" y="0"/>
                  <a:pt x="300" y="0"/>
                </a:cubicBezTo>
                <a:cubicBezTo>
                  <a:pt x="468" y="5"/>
                  <a:pt x="558" y="10"/>
                  <a:pt x="708" y="60"/>
                </a:cubicBezTo>
                <a:cubicBezTo>
                  <a:pt x="733" y="68"/>
                  <a:pt x="756" y="85"/>
                  <a:pt x="780" y="96"/>
                </a:cubicBezTo>
                <a:cubicBezTo>
                  <a:pt x="802" y="106"/>
                  <a:pt x="829" y="112"/>
                  <a:pt x="852" y="120"/>
                </a:cubicBezTo>
                <a:cubicBezTo>
                  <a:pt x="884" y="131"/>
                  <a:pt x="865" y="122"/>
                  <a:pt x="906" y="150"/>
                </a:cubicBezTo>
                <a:cubicBezTo>
                  <a:pt x="912" y="154"/>
                  <a:pt x="924" y="162"/>
                  <a:pt x="924" y="162"/>
                </a:cubicBezTo>
                <a:cubicBezTo>
                  <a:pt x="952" y="204"/>
                  <a:pt x="936" y="190"/>
                  <a:pt x="966" y="210"/>
                </a:cubicBezTo>
                <a:cubicBezTo>
                  <a:pt x="986" y="269"/>
                  <a:pt x="1023" y="316"/>
                  <a:pt x="1038" y="378"/>
                </a:cubicBezTo>
                <a:cubicBezTo>
                  <a:pt x="1034" y="436"/>
                  <a:pt x="1025" y="473"/>
                  <a:pt x="1032" y="528"/>
                </a:cubicBezTo>
                <a:cubicBezTo>
                  <a:pt x="1026" y="564"/>
                  <a:pt x="1013" y="584"/>
                  <a:pt x="1002" y="618"/>
                </a:cubicBezTo>
                <a:cubicBezTo>
                  <a:pt x="997" y="634"/>
                  <a:pt x="993" y="660"/>
                  <a:pt x="978" y="672"/>
                </a:cubicBezTo>
                <a:cubicBezTo>
                  <a:pt x="929" y="711"/>
                  <a:pt x="993" y="639"/>
                  <a:pt x="942" y="690"/>
                </a:cubicBezTo>
                <a:cubicBezTo>
                  <a:pt x="925" y="707"/>
                  <a:pt x="912" y="728"/>
                  <a:pt x="894" y="744"/>
                </a:cubicBezTo>
                <a:cubicBezTo>
                  <a:pt x="889" y="748"/>
                  <a:pt x="882" y="747"/>
                  <a:pt x="876" y="750"/>
                </a:cubicBezTo>
                <a:cubicBezTo>
                  <a:pt x="863" y="757"/>
                  <a:pt x="852" y="766"/>
                  <a:pt x="840" y="774"/>
                </a:cubicBezTo>
                <a:cubicBezTo>
                  <a:pt x="755" y="831"/>
                  <a:pt x="712" y="832"/>
                  <a:pt x="606" y="840"/>
                </a:cubicBezTo>
                <a:cubicBezTo>
                  <a:pt x="527" y="836"/>
                  <a:pt x="467" y="828"/>
                  <a:pt x="390" y="834"/>
                </a:cubicBezTo>
                <a:cubicBezTo>
                  <a:pt x="319" y="826"/>
                  <a:pt x="243" y="815"/>
                  <a:pt x="180" y="780"/>
                </a:cubicBezTo>
                <a:cubicBezTo>
                  <a:pt x="161" y="769"/>
                  <a:pt x="144" y="756"/>
                  <a:pt x="126" y="744"/>
                </a:cubicBezTo>
                <a:cubicBezTo>
                  <a:pt x="114" y="736"/>
                  <a:pt x="90" y="720"/>
                  <a:pt x="90" y="720"/>
                </a:cubicBezTo>
                <a:cubicBezTo>
                  <a:pt x="72" y="693"/>
                  <a:pt x="81" y="709"/>
                  <a:pt x="66" y="672"/>
                </a:cubicBezTo>
                <a:close/>
              </a:path>
            </a:pathLst>
          </a:custGeom>
          <a:solidFill>
            <a:srgbClr val="ff0000">
              <a:alpha val="50000"/>
            </a:srgbClr>
          </a:solid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2" name=""/>
          <p:cNvSpPr/>
          <p:nvPr/>
        </p:nvSpPr>
        <p:spPr>
          <a:xfrm>
            <a:off x="0" y="1143000"/>
            <a:ext cx="7765920" cy="68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argeting PTV while avoiding OR</a:t>
            </a:r>
            <a:endParaRPr b="0" lang="en-US" sz="28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19E0D179-F1EB-45B4-A87E-31E1AE3E15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79"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Mandatory reporting systems</a:t>
            </a:r>
            <a:endParaRPr b="0" lang="en-US" sz="3600" spc="-1" strike="noStrike">
              <a:solidFill>
                <a:srgbClr val="eaeaea"/>
              </a:solidFill>
              <a:latin typeface="Times New Roman"/>
            </a:endParaRPr>
          </a:p>
        </p:txBody>
      </p:sp>
      <p:sp>
        <p:nvSpPr>
          <p:cNvPr id="280" name=""/>
          <p:cNvSpPr/>
          <p:nvPr/>
        </p:nvSpPr>
        <p:spPr>
          <a:xfrm>
            <a:off x="533520" y="1219320"/>
            <a:ext cx="82296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Filing of a report should not trigger a release of information</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 </a:t>
            </a:r>
            <a:r>
              <a:rPr b="0" lang="en-IE" sz="2400" spc="-1" strike="noStrike">
                <a:solidFill>
                  <a:srgbClr val="ffffff"/>
                </a:solidFill>
                <a:latin typeface="Arial"/>
              </a:rPr>
              <a:t>Reporting should </a:t>
            </a:r>
            <a:r>
              <a:rPr b="0" lang="en-IE" sz="2400" spc="-1" strike="noStrike">
                <a:solidFill>
                  <a:srgbClr val="ffcc00"/>
                </a:solidFill>
                <a:latin typeface="Arial"/>
              </a:rPr>
              <a:t>trigger an investigation</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 </a:t>
            </a:r>
            <a:r>
              <a:rPr b="0" lang="en-IE" sz="2400" spc="-1" strike="noStrike">
                <a:solidFill>
                  <a:srgbClr val="ffffff"/>
                </a:solidFill>
                <a:latin typeface="Arial"/>
              </a:rPr>
              <a:t>Release of information should occur only after incident </a:t>
            </a:r>
            <a:r>
              <a:rPr b="0" lang="en-IE" sz="2400" spc="-1" strike="noStrike">
                <a:solidFill>
                  <a:srgbClr val="ffffff"/>
                </a:solidFill>
                <a:latin typeface="Arial"/>
              </a:rPr>
              <a:t>	</a:t>
            </a:r>
            <a:r>
              <a:rPr b="0" lang="en-IE" sz="2400" spc="-1" strike="noStrike">
                <a:solidFill>
                  <a:srgbClr val="ffffff"/>
                </a:solidFill>
                <a:latin typeface="Arial"/>
              </a:rPr>
              <a:t>has been investigated thoroughly</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 </a:t>
            </a:r>
            <a:r>
              <a:rPr b="0" lang="en-IE" sz="2400" spc="-1" strike="noStrike">
                <a:solidFill>
                  <a:srgbClr val="ffffff"/>
                </a:solidFill>
                <a:latin typeface="Arial"/>
              </a:rPr>
              <a:t>Information released should be accurate</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Employees should feel confident that response to reporting of significant error will be reasonable and justified</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45798C83-26D0-41BC-9FAC-3C2EE7C1782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81"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Mandatory reporting systems</a:t>
            </a:r>
            <a:endParaRPr b="0" lang="en-US" sz="3600" spc="-1" strike="noStrike">
              <a:solidFill>
                <a:srgbClr val="eaeaea"/>
              </a:solidFill>
              <a:latin typeface="Times New Roman"/>
            </a:endParaRPr>
          </a:p>
        </p:txBody>
      </p:sp>
      <p:sp>
        <p:nvSpPr>
          <p:cNvPr id="282" name=""/>
          <p:cNvSpPr/>
          <p:nvPr/>
        </p:nvSpPr>
        <p:spPr>
          <a:xfrm>
            <a:off x="533520" y="1219320"/>
            <a:ext cx="8229600" cy="454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Radiotherapy: A mix of radiation and medicine</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 </a:t>
            </a:r>
            <a:r>
              <a:rPr b="0" lang="en-IE" sz="2000" spc="-1" strike="noStrike">
                <a:solidFill>
                  <a:srgbClr val="ffffff"/>
                </a:solidFill>
                <a:latin typeface="Arial"/>
              </a:rPr>
              <a:t>Legislation and regulations concerning reporting of incidents in </a:t>
            </a:r>
            <a:r>
              <a:rPr b="0" lang="en-IE" sz="2000" spc="-1" strike="noStrike">
                <a:solidFill>
                  <a:srgbClr val="ffffff"/>
                </a:solidFill>
                <a:latin typeface="Arial"/>
              </a:rPr>
              <a:t>	</a:t>
            </a:r>
            <a:r>
              <a:rPr b="0" lang="en-IE" sz="2000" spc="-1" strike="noStrike">
                <a:solidFill>
                  <a:srgbClr val="ffffff"/>
                </a:solidFill>
                <a:latin typeface="Arial"/>
              </a:rPr>
              <a:t>radiotherapy can be </a:t>
            </a:r>
            <a:r>
              <a:rPr b="0" lang="en-IE" sz="2000" spc="-1" strike="noStrike">
                <a:solidFill>
                  <a:srgbClr val="ffcc00"/>
                </a:solidFill>
                <a:latin typeface="Arial"/>
              </a:rPr>
              <a:t>covered in relation to radiation protection </a:t>
            </a:r>
            <a:r>
              <a:rPr b="0" lang="en-IE" sz="2000" spc="-1" strike="noStrike">
                <a:solidFill>
                  <a:srgbClr val="ffcc00"/>
                </a:solidFill>
                <a:latin typeface="Arial"/>
              </a:rPr>
              <a:t>	</a:t>
            </a:r>
            <a:r>
              <a:rPr b="0" lang="en-IE" sz="2000" spc="-1" strike="noStrike">
                <a:solidFill>
                  <a:srgbClr val="ffcc00"/>
                </a:solidFill>
                <a:latin typeface="Arial"/>
              </a:rPr>
              <a:t>and / or health</a:t>
            </a:r>
            <a:endParaRPr b="0" lang="en-US" sz="2000" spc="-1" strike="noStrike">
              <a:solidFill>
                <a:srgbClr val="eaeaea"/>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In some countries, </a:t>
            </a:r>
            <a:r>
              <a:rPr b="0" lang="en-IE" sz="2000" spc="-1" strike="noStrike">
                <a:solidFill>
                  <a:srgbClr val="ffcc00"/>
                </a:solidFill>
                <a:latin typeface="Arial"/>
              </a:rPr>
              <a:t>radiation protection legislation</a:t>
            </a:r>
            <a:r>
              <a:rPr b="0" lang="en-IE" sz="2000" spc="-1" strike="noStrike">
                <a:solidFill>
                  <a:srgbClr val="ffffff"/>
                </a:solidFill>
                <a:latin typeface="Arial"/>
              </a:rPr>
              <a:t> makes it mandatory </a:t>
            </a:r>
            <a:r>
              <a:rPr b="0" lang="en-IE" sz="2000" spc="-1" strike="noStrike">
                <a:solidFill>
                  <a:srgbClr val="ffffff"/>
                </a:solidFill>
                <a:latin typeface="Arial"/>
              </a:rPr>
              <a:t>	</a:t>
            </a:r>
            <a:r>
              <a:rPr b="0" lang="en-IE" sz="2000" spc="-1" strike="noStrike">
                <a:solidFill>
                  <a:srgbClr val="ffffff"/>
                </a:solidFill>
                <a:latin typeface="Arial"/>
              </a:rPr>
              <a:t>to report radiotherapy incidents to a higher authority</a:t>
            </a:r>
            <a:endParaRPr b="0" lang="en-US" sz="2000" spc="-1" strike="noStrike">
              <a:solidFill>
                <a:srgbClr val="eaeaea"/>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In some countries, </a:t>
            </a:r>
            <a:r>
              <a:rPr b="0" lang="en-IE" sz="2000" spc="-1" strike="noStrike">
                <a:solidFill>
                  <a:srgbClr val="ffcc00"/>
                </a:solidFill>
                <a:latin typeface="Arial"/>
              </a:rPr>
              <a:t>health legislation</a:t>
            </a:r>
            <a:r>
              <a:rPr b="0" lang="en-IE" sz="2000" spc="-1" strike="noStrike">
                <a:solidFill>
                  <a:srgbClr val="ffffff"/>
                </a:solidFill>
                <a:latin typeface="Arial"/>
              </a:rPr>
              <a:t> makes it mandatory to report </a:t>
            </a:r>
            <a:r>
              <a:rPr b="0" lang="en-IE" sz="2000" spc="-1" strike="noStrike">
                <a:solidFill>
                  <a:srgbClr val="ffffff"/>
                </a:solidFill>
                <a:latin typeface="Arial"/>
              </a:rPr>
              <a:t>	</a:t>
            </a:r>
            <a:r>
              <a:rPr b="0" lang="en-IE" sz="2000" spc="-1" strike="noStrike">
                <a:solidFill>
                  <a:srgbClr val="ffffff"/>
                </a:solidFill>
                <a:latin typeface="Arial"/>
              </a:rPr>
              <a:t>radiotherapy incidents to a higher authority</a:t>
            </a:r>
            <a:endParaRPr b="0" lang="en-US" sz="2000" spc="-1" strike="noStrike">
              <a:solidFill>
                <a:srgbClr val="eaeaea"/>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Some countries stipulate that </a:t>
            </a:r>
            <a:r>
              <a:rPr b="0" lang="en-IE" sz="2000" spc="-1" strike="noStrike">
                <a:solidFill>
                  <a:srgbClr val="ffcc00"/>
                </a:solidFill>
                <a:latin typeface="Arial"/>
              </a:rPr>
              <a:t>local recording</a:t>
            </a:r>
            <a:r>
              <a:rPr b="0" lang="en-IE" sz="2000" spc="-1" strike="noStrike">
                <a:solidFill>
                  <a:srgbClr val="ffffff"/>
                </a:solidFill>
                <a:latin typeface="Arial"/>
              </a:rPr>
              <a:t> of incidents is </a:t>
            </a:r>
            <a:r>
              <a:rPr b="0" lang="en-IE" sz="2000" spc="-1" strike="noStrike">
                <a:solidFill>
                  <a:srgbClr val="ffffff"/>
                </a:solidFill>
                <a:latin typeface="Arial"/>
              </a:rPr>
              <a:t>	</a:t>
            </a:r>
            <a:r>
              <a:rPr b="0" lang="en-IE" sz="2000" spc="-1" strike="noStrike">
                <a:solidFill>
                  <a:srgbClr val="ffffff"/>
                </a:solidFill>
                <a:latin typeface="Arial"/>
              </a:rPr>
              <a:t>mandatory. </a:t>
            </a:r>
            <a:r>
              <a:rPr b="0" lang="en-IE" sz="2000" spc="-1" strike="noStrike">
                <a:solidFill>
                  <a:srgbClr val="ffcc00"/>
                </a:solidFill>
                <a:latin typeface="Arial"/>
              </a:rPr>
              <a:t>Potential incidents</a:t>
            </a:r>
            <a:r>
              <a:rPr b="0" lang="en-IE" sz="2000" spc="-1" strike="noStrike">
                <a:solidFill>
                  <a:srgbClr val="ffffff"/>
                </a:solidFill>
                <a:latin typeface="Arial"/>
              </a:rPr>
              <a:t> are covered in some countries</a:t>
            </a:r>
            <a:endParaRPr b="0" lang="en-US" sz="20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45BA753C-3B68-4FC3-8E02-3E90B61350A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83"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Voluntary reporting systems</a:t>
            </a:r>
            <a:endParaRPr b="0" lang="en-US" sz="3600" spc="-1" strike="noStrike">
              <a:solidFill>
                <a:srgbClr val="eaeaea"/>
              </a:solidFill>
              <a:latin typeface="Times New Roman"/>
            </a:endParaRPr>
          </a:p>
        </p:txBody>
      </p:sp>
      <p:sp>
        <p:nvSpPr>
          <p:cNvPr id="284" name=""/>
          <p:cNvSpPr/>
          <p:nvPr/>
        </p:nvSpPr>
        <p:spPr>
          <a:xfrm>
            <a:off x="533520" y="1219320"/>
            <a:ext cx="82296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Voluntary reporting systems should …</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 </a:t>
            </a:r>
            <a:r>
              <a:rPr b="0" lang="en-IE" sz="2400" spc="-1" strike="noStrike">
                <a:solidFill>
                  <a:srgbClr val="eaeaea"/>
                </a:solidFill>
                <a:latin typeface="Arial"/>
              </a:rPr>
              <a:t>encourage hospitals to focus on improvement of safety </a:t>
            </a:r>
            <a:r>
              <a:rPr b="0" lang="en-IE" sz="2400" spc="-1" strike="noStrike">
                <a:solidFill>
                  <a:srgbClr val="eaeaea"/>
                </a:solidFill>
                <a:latin typeface="Arial"/>
              </a:rPr>
              <a:t>	</a:t>
            </a:r>
            <a:r>
              <a:rPr b="0" lang="en-IE" sz="2400" spc="-1" strike="noStrike">
                <a:solidFill>
                  <a:srgbClr val="eaeaea"/>
                </a:solidFill>
                <a:latin typeface="Arial"/>
              </a:rPr>
              <a:t>environment</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 </a:t>
            </a:r>
            <a:r>
              <a:rPr b="0" lang="en-IE" sz="2400" spc="-1" strike="noStrike">
                <a:solidFill>
                  <a:srgbClr val="eaeaea"/>
                </a:solidFill>
                <a:latin typeface="Arial"/>
              </a:rPr>
              <a:t>focus on errors that result in little or no harm to patients</a:t>
            </a:r>
            <a:endParaRPr b="0" lang="en-US" sz="24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50C4D3D1-9855-4884-A0CC-25F3B467385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85"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Voluntary reporting systems</a:t>
            </a:r>
            <a:endParaRPr b="0" lang="en-US" sz="3600" spc="-1" strike="noStrike">
              <a:solidFill>
                <a:srgbClr val="eaeaea"/>
              </a:solidFill>
              <a:latin typeface="Times New Roman"/>
            </a:endParaRPr>
          </a:p>
        </p:txBody>
      </p:sp>
      <p:sp>
        <p:nvSpPr>
          <p:cNvPr id="286" name=""/>
          <p:cNvSpPr/>
          <p:nvPr/>
        </p:nvSpPr>
        <p:spPr>
          <a:xfrm>
            <a:off x="533520" y="1219320"/>
            <a:ext cx="8229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Emphasis should be on improving patient safety</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Mechanisms should ensure that information and lessons </a:t>
            </a:r>
            <a:r>
              <a:rPr b="0" lang="en-IE" sz="2400" spc="-1" strike="noStrike">
                <a:solidFill>
                  <a:srgbClr val="eaeaea"/>
                </a:solidFill>
                <a:latin typeface="Arial"/>
              </a:rPr>
              <a:t>	</a:t>
            </a:r>
            <a:r>
              <a:rPr b="0" lang="en-IE" sz="2400" spc="-1" strike="noStrike">
                <a:solidFill>
                  <a:srgbClr val="eaeaea"/>
                </a:solidFill>
                <a:latin typeface="Arial"/>
              </a:rPr>
              <a:t>learned can be </a:t>
            </a:r>
            <a:r>
              <a:rPr b="0" lang="en-IE" sz="2400" spc="-1" strike="noStrike">
                <a:solidFill>
                  <a:srgbClr val="ffcc00"/>
                </a:solidFill>
                <a:latin typeface="Arial"/>
              </a:rPr>
              <a:t>shared effectively</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Reporting system should allow analysis to </a:t>
            </a:r>
            <a:r>
              <a:rPr b="0" lang="en-IE" sz="2400" spc="-1" strike="noStrike">
                <a:solidFill>
                  <a:srgbClr val="ffcc00"/>
                </a:solidFill>
                <a:latin typeface="Arial"/>
              </a:rPr>
              <a:t>select most </a:t>
            </a:r>
            <a:r>
              <a:rPr b="0" lang="en-IE" sz="2400" spc="-1" strike="noStrike">
                <a:solidFill>
                  <a:srgbClr val="ffcc00"/>
                </a:solidFill>
                <a:latin typeface="Arial"/>
              </a:rPr>
              <a:t>	</a:t>
            </a:r>
            <a:r>
              <a:rPr b="0" lang="en-IE" sz="2400" spc="-1" strike="noStrike">
                <a:solidFill>
                  <a:srgbClr val="ffcc00"/>
                </a:solidFill>
                <a:latin typeface="Arial"/>
              </a:rPr>
              <a:t>effective means</a:t>
            </a:r>
            <a:r>
              <a:rPr b="0" lang="en-IE" sz="2400" spc="-1" strike="noStrike">
                <a:solidFill>
                  <a:srgbClr val="eaeaea"/>
                </a:solidFill>
                <a:latin typeface="Arial"/>
              </a:rPr>
              <a:t> for improving safety</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Focus should be on accurate and complete reporting of </a:t>
            </a:r>
            <a:r>
              <a:rPr b="0" lang="en-IE" sz="2400" spc="-1" strike="noStrike">
                <a:solidFill>
                  <a:srgbClr val="eaeaea"/>
                </a:solidFill>
                <a:latin typeface="Arial"/>
              </a:rPr>
              <a:t>	</a:t>
            </a:r>
            <a:r>
              <a:rPr b="0" lang="en-IE" sz="2400" spc="-1" strike="noStrike">
                <a:solidFill>
                  <a:srgbClr val="eaeaea"/>
                </a:solidFill>
                <a:latin typeface="Arial"/>
              </a:rPr>
              <a:t>information to facilitate speedy investigation and </a:t>
            </a:r>
            <a:r>
              <a:rPr b="0" lang="en-IE" sz="2400" spc="-1" strike="noStrike">
                <a:solidFill>
                  <a:srgbClr val="eaeaea"/>
                </a:solidFill>
                <a:latin typeface="Arial"/>
              </a:rPr>
              <a:t>	</a:t>
            </a:r>
            <a:r>
              <a:rPr b="0" lang="en-IE" sz="2400" spc="-1" strike="noStrike">
                <a:solidFill>
                  <a:srgbClr val="eaeaea"/>
                </a:solidFill>
                <a:latin typeface="Arial"/>
              </a:rPr>
              <a:t>action</a:t>
            </a:r>
            <a:endParaRPr b="0" lang="en-US" sz="24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2A731FD4-D129-4017-9A62-A52410EBC73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87"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Voluntary reporting systems</a:t>
            </a:r>
            <a:endParaRPr b="0" lang="en-US" sz="3600" spc="-1" strike="noStrike">
              <a:solidFill>
                <a:srgbClr val="eaeaea"/>
              </a:solidFill>
              <a:latin typeface="Times New Roman"/>
            </a:endParaRPr>
          </a:p>
        </p:txBody>
      </p:sp>
      <p:sp>
        <p:nvSpPr>
          <p:cNvPr id="288" name=""/>
          <p:cNvSpPr/>
          <p:nvPr/>
        </p:nvSpPr>
        <p:spPr>
          <a:xfrm>
            <a:off x="533520" y="1219320"/>
            <a:ext cx="82296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Voluntary reporting systems should be protected from the legal system</a:t>
            </a:r>
            <a:r>
              <a:rPr b="0" lang="en-IE" sz="2400" spc="-1" strike="noStrike">
                <a:solidFill>
                  <a:srgbClr val="eaeaea"/>
                </a:solidFill>
                <a:latin typeface="Arial"/>
              </a:rPr>
              <a:t> </a:t>
            </a: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ffffff"/>
                </a:solidFill>
                <a:latin typeface="Arial"/>
              </a:rPr>
              <a:t>Mechanism should allow handling in confidence</a:t>
            </a:r>
            <a:endParaRPr b="0" lang="en-US" sz="2400" spc="-1" strike="noStrike">
              <a:solidFill>
                <a:srgbClr val="eaeaea"/>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 </a:t>
            </a:r>
            <a:r>
              <a:rPr b="0" lang="en-IE" sz="2400" spc="-1" strike="noStrike">
                <a:solidFill>
                  <a:srgbClr val="ffffff"/>
                </a:solidFill>
                <a:latin typeface="Arial"/>
              </a:rPr>
              <a:t>Mechanisms should allow for anonymous reporting of </a:t>
            </a:r>
            <a:r>
              <a:rPr b="0" lang="en-IE" sz="2400" spc="-1" strike="noStrike">
                <a:solidFill>
                  <a:srgbClr val="ffffff"/>
                </a:solidFill>
                <a:latin typeface="Arial"/>
              </a:rPr>
              <a:t>	</a:t>
            </a:r>
            <a:r>
              <a:rPr b="0" lang="en-IE" sz="2400" spc="-1" strike="noStrike">
                <a:solidFill>
                  <a:srgbClr val="ffffff"/>
                </a:solidFill>
                <a:latin typeface="Arial"/>
              </a:rPr>
              <a:t>errors or circumstances that could lead to errors</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Staff should not fear punishment</a:t>
            </a: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Signalling likelihood of retribution or punishment </a:t>
            </a:r>
            <a:r>
              <a:rPr b="0" lang="en-IE" sz="2400" spc="-1" strike="noStrike">
                <a:solidFill>
                  <a:srgbClr val="eaeaea"/>
                </a:solidFill>
                <a:latin typeface="Arial"/>
              </a:rPr>
              <a:t>	</a:t>
            </a:r>
            <a:r>
              <a:rPr b="0" lang="en-IE" sz="2400" spc="-1" strike="noStrike">
                <a:solidFill>
                  <a:srgbClr val="eaeaea"/>
                </a:solidFill>
                <a:latin typeface="Arial"/>
              </a:rPr>
              <a:t>discourages reporting of errors</a:t>
            </a: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Failure to report errors increases likelihood that error will </a:t>
            </a:r>
            <a:r>
              <a:rPr b="0" lang="en-IE" sz="2400" spc="-1" strike="noStrike">
                <a:solidFill>
                  <a:srgbClr val="eaeaea"/>
                </a:solidFill>
                <a:latin typeface="Arial"/>
              </a:rPr>
              <a:t>	</a:t>
            </a:r>
            <a:r>
              <a:rPr b="0" lang="en-IE" sz="2400" spc="-1" strike="noStrike">
                <a:solidFill>
                  <a:srgbClr val="eaeaea"/>
                </a:solidFill>
                <a:latin typeface="Arial"/>
              </a:rPr>
              <a:t>be repeated</a:t>
            </a: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Also increases probability that errors may go undetected </a:t>
            </a:r>
            <a:r>
              <a:rPr b="0" lang="en-IE" sz="2400" spc="-1" strike="noStrike">
                <a:solidFill>
                  <a:srgbClr val="eaeaea"/>
                </a:solidFill>
                <a:latin typeface="Arial"/>
              </a:rPr>
              <a:t>	</a:t>
            </a:r>
            <a:r>
              <a:rPr b="0" lang="en-IE" sz="2400" spc="-1" strike="noStrike">
                <a:solidFill>
                  <a:srgbClr val="eaeaea"/>
                </a:solidFill>
                <a:latin typeface="Arial"/>
              </a:rPr>
              <a:t>until consequences very severe </a:t>
            </a:r>
            <a:endParaRPr b="0" lang="en-US" sz="24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FBA751A9-158F-4160-8FBC-859E0AD25E1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89" name=""/>
          <p:cNvSpPr/>
          <p:nvPr/>
        </p:nvSpPr>
        <p:spPr>
          <a:xfrm>
            <a:off x="0" y="0"/>
            <a:ext cx="9144000" cy="6858000"/>
          </a:xfrm>
          <a:prstGeom prst="rect">
            <a:avLst/>
          </a:prstGeom>
          <a:solidFill>
            <a:srgbClr val="fdda59"/>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90" name=""/>
          <p:cNvSpPr/>
          <p:nvPr/>
        </p:nvSpPr>
        <p:spPr>
          <a:xfrm>
            <a:off x="595440" y="2647800"/>
            <a:ext cx="7953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Incident reporting systems:</a:t>
            </a:r>
            <a:endParaRPr b="0" lang="en-US" sz="3600" spc="-1" strike="noStrike">
              <a:solidFill>
                <a:srgbClr val="eaeaea"/>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internal or external systems</a:t>
            </a:r>
            <a:endParaRPr b="0" lang="en-US" sz="36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077E2FCA-F684-44BA-B822-8F3C07DA9B3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91"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ncident reporting systems</a:t>
            </a:r>
            <a:endParaRPr b="0" lang="en-US" sz="3600" spc="-1" strike="noStrike">
              <a:solidFill>
                <a:srgbClr val="eaeaea"/>
              </a:solidFill>
              <a:latin typeface="Times New Roman"/>
            </a:endParaRPr>
          </a:p>
        </p:txBody>
      </p:sp>
      <p:sp>
        <p:nvSpPr>
          <p:cNvPr id="292" name=""/>
          <p:cNvSpPr/>
          <p:nvPr/>
        </p:nvSpPr>
        <p:spPr>
          <a:xfrm>
            <a:off x="533520" y="1219320"/>
            <a:ext cx="82296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Different types of incident reporting systems:</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Internal reporting systems:</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Reporting inside organization (</a:t>
            </a:r>
            <a:r>
              <a:rPr b="0" i="1" lang="en-IE" sz="2400" spc="-1" strike="noStrike">
                <a:solidFill>
                  <a:srgbClr val="eaeaea"/>
                </a:solidFill>
                <a:latin typeface="Arial"/>
              </a:rPr>
              <a:t>e.g.</a:t>
            </a:r>
            <a:r>
              <a:rPr b="0" lang="en-IE" sz="2400" spc="-1" strike="noStrike">
                <a:solidFill>
                  <a:srgbClr val="eaeaea"/>
                </a:solidFill>
                <a:latin typeface="Arial"/>
              </a:rPr>
              <a:t> local incident reports)</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External reporting systems:</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Reporting outside organization (</a:t>
            </a:r>
            <a:r>
              <a:rPr b="0" i="1" lang="en-IE" sz="2400" spc="-1" strike="noStrike">
                <a:solidFill>
                  <a:srgbClr val="eaeaea"/>
                </a:solidFill>
                <a:latin typeface="Arial"/>
              </a:rPr>
              <a:t>e.g.</a:t>
            </a:r>
            <a:r>
              <a:rPr b="0" lang="en-IE" sz="2400" spc="-1" strike="noStrike">
                <a:solidFill>
                  <a:srgbClr val="eaeaea"/>
                </a:solidFill>
                <a:latin typeface="Arial"/>
              </a:rPr>
              <a:t> web-based systems)</a:t>
            </a:r>
            <a:endParaRPr b="0" lang="en-US" sz="24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C6E9E0CA-0F57-4059-8EF4-E2B3C479529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93"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nternal reporting systems</a:t>
            </a:r>
            <a:endParaRPr b="0" lang="en-US" sz="3600" spc="-1" strike="noStrike">
              <a:solidFill>
                <a:srgbClr val="eaeaea"/>
              </a:solidFill>
              <a:latin typeface="Times New Roman"/>
            </a:endParaRPr>
          </a:p>
        </p:txBody>
      </p:sp>
      <p:sp>
        <p:nvSpPr>
          <p:cNvPr id="294" name=""/>
          <p:cNvSpPr/>
          <p:nvPr/>
        </p:nvSpPr>
        <p:spPr>
          <a:xfrm>
            <a:off x="533520" y="1219320"/>
            <a:ext cx="82296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Reporting of incidents within organization</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Specific in relation to intra-organization …</a:t>
            </a:r>
            <a:endParaRPr b="0" lang="en-US" sz="2400" spc="-1" strike="noStrike">
              <a:solidFill>
                <a:srgbClr val="eaeaea"/>
              </a:solidFill>
              <a:latin typeface="Times New Roman"/>
            </a:endParaRPr>
          </a:p>
          <a:p>
            <a:pPr lvl="2" marL="914400">
              <a:lnSpc>
                <a:spcPct val="100000"/>
              </a:lnSpc>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 … </a:t>
            </a:r>
            <a:r>
              <a:rPr b="0" lang="en-IE" sz="2400" spc="-1" strike="noStrike">
                <a:solidFill>
                  <a:srgbClr val="ffcc00"/>
                </a:solidFill>
                <a:latin typeface="Arial"/>
              </a:rPr>
              <a:t>procedures</a:t>
            </a:r>
            <a:endParaRPr b="0" lang="en-US" sz="2400" spc="-1" strike="noStrike">
              <a:solidFill>
                <a:srgbClr val="eaeaea"/>
              </a:solidFill>
              <a:latin typeface="Times New Roman"/>
            </a:endParaRPr>
          </a:p>
          <a:p>
            <a:pPr lvl="2" marL="914400">
              <a:lnSpc>
                <a:spcPct val="100000"/>
              </a:lnSpc>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 … </a:t>
            </a:r>
            <a:r>
              <a:rPr b="0" lang="en-IE" sz="2400" spc="-1" strike="noStrike">
                <a:solidFill>
                  <a:srgbClr val="ffcc00"/>
                </a:solidFill>
                <a:latin typeface="Arial"/>
              </a:rPr>
              <a:t>equipment</a:t>
            </a:r>
            <a:endParaRPr b="0" lang="en-US" sz="2400" spc="-1" strike="noStrike">
              <a:solidFill>
                <a:srgbClr val="eaeaea"/>
              </a:solidFill>
              <a:latin typeface="Times New Roman"/>
            </a:endParaRPr>
          </a:p>
          <a:p>
            <a:pPr lvl="2" marL="914400">
              <a:lnSpc>
                <a:spcPct val="100000"/>
              </a:lnSpc>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 … </a:t>
            </a:r>
            <a:r>
              <a:rPr b="0" lang="en-IE" sz="2400" spc="-1" strike="noStrike">
                <a:solidFill>
                  <a:srgbClr val="ffcc00"/>
                </a:solidFill>
                <a:latin typeface="Arial"/>
              </a:rPr>
              <a:t>characteristics</a:t>
            </a:r>
            <a:endParaRPr b="0" lang="en-US" sz="2400" spc="-1" strike="noStrike">
              <a:solidFill>
                <a:srgbClr val="eaeaea"/>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Lessons to learn” become more direct and explicit</a:t>
            </a: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Follows up management of actual patients affected by the incidents</a:t>
            </a: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Should evolve locally, but could be aided from the outside</a:t>
            </a: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911D02D9-CC26-4E2C-B642-93FB835AE46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95"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nternal reporting systems</a:t>
            </a:r>
            <a:endParaRPr b="0" lang="en-US" sz="3600" spc="-1" strike="noStrike">
              <a:solidFill>
                <a:srgbClr val="eaeaea"/>
              </a:solidFill>
              <a:latin typeface="Times New Roman"/>
            </a:endParaRPr>
          </a:p>
        </p:txBody>
      </p:sp>
      <p:sp>
        <p:nvSpPr>
          <p:cNvPr id="296" name=""/>
          <p:cNvSpPr/>
          <p:nvPr/>
        </p:nvSpPr>
        <p:spPr>
          <a:xfrm>
            <a:off x="533520" y="1219320"/>
            <a:ext cx="8229600" cy="417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What type of information is it useful to include in an internal incident reporting system?</a:t>
            </a:r>
            <a:endParaRPr b="0" lang="en-US" sz="2400" spc="-1" strike="noStrike">
              <a:solidFill>
                <a:srgbClr val="eaeaea"/>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457200" indent="-457200">
              <a:lnSpc>
                <a:spcPct val="100000"/>
              </a:lnSpc>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Administrative information </a:t>
            </a:r>
            <a:r>
              <a:rPr b="0" lang="en-IE" sz="2000" spc="-1" strike="noStrike">
                <a:solidFill>
                  <a:srgbClr val="eaeaea"/>
                </a:solidFill>
                <a:latin typeface="Arial"/>
              </a:rPr>
              <a:t>(signatures, etc.)</a:t>
            </a:r>
            <a:endParaRPr b="0" lang="en-US" sz="2000" spc="-1" strike="noStrike">
              <a:solidFill>
                <a:srgbClr val="eaeaea"/>
              </a:solidFill>
              <a:latin typeface="Times New Roman"/>
            </a:endParaRPr>
          </a:p>
          <a:p>
            <a:pPr marL="457200" indent="-457200">
              <a:lnSpc>
                <a:spcPct val="100000"/>
              </a:lnSpc>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Patient information </a:t>
            </a:r>
            <a:r>
              <a:rPr b="0" lang="en-IE" sz="2000" spc="-1" strike="noStrike">
                <a:solidFill>
                  <a:srgbClr val="eaeaea"/>
                </a:solidFill>
                <a:latin typeface="Arial"/>
              </a:rPr>
              <a:t>(patient name and number, etc.)</a:t>
            </a:r>
            <a:endParaRPr b="0" lang="en-US" sz="2000" spc="-1" strike="noStrike">
              <a:solidFill>
                <a:srgbClr val="eaeaea"/>
              </a:solidFill>
              <a:latin typeface="Times New Roman"/>
            </a:endParaRPr>
          </a:p>
          <a:p>
            <a:pPr marL="457200" indent="-457200">
              <a:lnSpc>
                <a:spcPct val="100000"/>
              </a:lnSpc>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Incident information </a:t>
            </a:r>
            <a:r>
              <a:rPr b="0" lang="en-IE" sz="2000" spc="-1" strike="noStrike">
                <a:solidFill>
                  <a:srgbClr val="eaeaea"/>
                </a:solidFill>
                <a:latin typeface="Arial"/>
              </a:rPr>
              <a:t>(description of event, cause of event, when and where did event occur, who detected event (and when, where and how), estimation of deviation, clinical significance, contributing factors, etc.)</a:t>
            </a:r>
            <a:endParaRPr b="0" lang="en-US" sz="2000" spc="-1" strike="noStrike">
              <a:solidFill>
                <a:srgbClr val="eaeaea"/>
              </a:solidFill>
              <a:latin typeface="Times New Roman"/>
            </a:endParaRPr>
          </a:p>
          <a:p>
            <a:pPr marL="457200" indent="-457200">
              <a:lnSpc>
                <a:spcPct val="100000"/>
              </a:lnSpc>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Action information </a:t>
            </a:r>
            <a:r>
              <a:rPr b="0" lang="en-IE" sz="2000" spc="-1" strike="noStrike">
                <a:solidFill>
                  <a:srgbClr val="eaeaea"/>
                </a:solidFill>
                <a:latin typeface="Arial"/>
              </a:rPr>
              <a:t>(corrective action (and who is responsible for this), preventive action (to prevent recurrence), information to communicate (to patient, physician, authorities), etc.)</a:t>
            </a:r>
            <a:endParaRPr b="0" lang="en-US" sz="20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5A4CB871-2B81-4B4C-B57A-F084AA2E917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97"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ternal reporting systems</a:t>
            </a:r>
            <a:endParaRPr b="0" lang="en-US" sz="3600" spc="-1" strike="noStrike">
              <a:solidFill>
                <a:srgbClr val="eaeaea"/>
              </a:solidFill>
              <a:latin typeface="Times New Roman"/>
            </a:endParaRPr>
          </a:p>
        </p:txBody>
      </p:sp>
      <p:sp>
        <p:nvSpPr>
          <p:cNvPr id="298" name=""/>
          <p:cNvSpPr/>
          <p:nvPr/>
        </p:nvSpPr>
        <p:spPr>
          <a:xfrm>
            <a:off x="533520" y="1219320"/>
            <a:ext cx="82296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Reporting of incidents outside organization</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	</a:t>
            </a: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Lessons to learn” will come from a bigger pool of events</a:t>
            </a: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An incident in another hospital can lead to identification of </a:t>
            </a:r>
            <a:r>
              <a:rPr b="0" lang="en-IE" sz="2400" spc="-1" strike="noStrike">
                <a:solidFill>
                  <a:srgbClr val="eaeaea"/>
                </a:solidFill>
                <a:latin typeface="Arial"/>
              </a:rPr>
              <a:t>	</a:t>
            </a:r>
            <a:r>
              <a:rPr b="0" lang="en-IE" sz="2400" spc="-1" strike="noStrike">
                <a:solidFill>
                  <a:srgbClr val="eaeaea"/>
                </a:solidFill>
                <a:latin typeface="Arial"/>
              </a:rPr>
              <a:t>the hazard before a similar incident is realised </a:t>
            </a:r>
            <a:r>
              <a:rPr b="0" lang="en-IE" sz="2400" spc="-1" strike="noStrike">
                <a:solidFill>
                  <a:srgbClr val="eaeaea"/>
                </a:solidFill>
                <a:latin typeface="Arial"/>
              </a:rPr>
              <a:t>	</a:t>
            </a:r>
            <a:r>
              <a:rPr b="0" lang="en-IE" sz="2400" spc="-1" strike="noStrike">
                <a:solidFill>
                  <a:srgbClr val="eaeaea"/>
                </a:solidFill>
                <a:latin typeface="Arial"/>
              </a:rPr>
              <a:t>locally</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With a more extensive pool of events, </a:t>
            </a:r>
            <a:r>
              <a:rPr b="0" lang="en-IE" sz="2400" spc="-1" strike="noStrike">
                <a:solidFill>
                  <a:srgbClr val="ffcc00"/>
                </a:solidFill>
                <a:latin typeface="Arial"/>
              </a:rPr>
              <a:t>safety-critical steps</a:t>
            </a:r>
            <a:r>
              <a:rPr b="0" lang="en-IE" sz="2400" spc="-1" strike="noStrike">
                <a:solidFill>
                  <a:srgbClr val="eaeaea"/>
                </a:solidFill>
                <a:latin typeface="Arial"/>
              </a:rPr>
              <a:t> </a:t>
            </a:r>
            <a:r>
              <a:rPr b="0" lang="en-IE" sz="2400" spc="-1" strike="noStrike">
                <a:solidFill>
                  <a:srgbClr val="eaeaea"/>
                </a:solidFill>
                <a:latin typeface="Arial"/>
              </a:rPr>
              <a:t>	</a:t>
            </a:r>
            <a:r>
              <a:rPr b="0" lang="en-IE" sz="2400" spc="-1" strike="noStrike">
                <a:solidFill>
                  <a:srgbClr val="eaeaea"/>
                </a:solidFill>
                <a:latin typeface="Arial"/>
              </a:rPr>
              <a:t>in the radiotherapy process can be identified</a:t>
            </a: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A general culture of </a:t>
            </a:r>
            <a:r>
              <a:rPr b="0" lang="en-IE" sz="2400" spc="-1" strike="noStrike">
                <a:solidFill>
                  <a:srgbClr val="ffcc00"/>
                </a:solidFill>
                <a:latin typeface="Arial"/>
              </a:rPr>
              <a:t>safety-awareness</a:t>
            </a:r>
            <a:r>
              <a:rPr b="0" lang="en-IE" sz="2400" spc="-1" strike="noStrike">
                <a:solidFill>
                  <a:srgbClr val="eaeaea"/>
                </a:solidFill>
                <a:latin typeface="Arial"/>
              </a:rPr>
              <a:t> can be created by </a:t>
            </a:r>
            <a:r>
              <a:rPr b="0" lang="en-IE" sz="2400" spc="-1" strike="noStrike">
                <a:solidFill>
                  <a:srgbClr val="eaeaea"/>
                </a:solidFill>
                <a:latin typeface="Arial"/>
              </a:rPr>
              <a:t>	</a:t>
            </a:r>
            <a:r>
              <a:rPr b="0" lang="en-IE" sz="2400" spc="-1" strike="noStrike">
                <a:solidFill>
                  <a:srgbClr val="eaeaea"/>
                </a:solidFill>
                <a:latin typeface="Arial"/>
              </a:rPr>
              <a:t>making this information available</a:t>
            </a:r>
            <a:endParaRPr b="0" lang="en-US" sz="24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CDC705BA-7FFE-4954-AB58-363CE0B78F2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3" name=""/>
          <p:cNvSpPr/>
          <p:nvPr/>
        </p:nvSpPr>
        <p:spPr>
          <a:xfrm>
            <a:off x="0" y="1143000"/>
            <a:ext cx="9144000" cy="5715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4"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ackground</a:t>
            </a:r>
            <a:endParaRPr b="0" lang="en-US" sz="3600" spc="-1" strike="noStrike">
              <a:solidFill>
                <a:srgbClr val="eaeaea"/>
              </a:solidFill>
              <a:latin typeface="Times New Roman"/>
            </a:endParaRPr>
          </a:p>
        </p:txBody>
      </p:sp>
      <p:pic>
        <p:nvPicPr>
          <p:cNvPr id="105" name="" descr=""/>
          <p:cNvPicPr/>
          <p:nvPr/>
        </p:nvPicPr>
        <p:blipFill>
          <a:blip r:embed="rId1"/>
          <a:stretch/>
        </p:blipFill>
        <p:spPr>
          <a:xfrm>
            <a:off x="609480" y="1371600"/>
            <a:ext cx="7925040" cy="5149800"/>
          </a:xfrm>
          <a:prstGeom prst="rect">
            <a:avLst/>
          </a:prstGeom>
          <a:ln w="0">
            <a:noFill/>
          </a:ln>
        </p:spPr>
      </p:pic>
      <p:sp>
        <p:nvSpPr>
          <p:cNvPr id="106" name=""/>
          <p:cNvSpPr/>
          <p:nvPr/>
        </p:nvSpPr>
        <p:spPr>
          <a:xfrm>
            <a:off x="752400" y="1581120"/>
            <a:ext cx="7632720" cy="4943520"/>
          </a:xfrm>
          <a:custGeom>
            <a:avLst/>
            <a:gdLst/>
            <a:ahLst/>
            <a:rect l="l" t="t" r="r" b="b"/>
            <a:pathLst>
              <a:path w="4808" h="3114">
                <a:moveTo>
                  <a:pt x="84" y="2700"/>
                </a:moveTo>
                <a:cubicBezTo>
                  <a:pt x="75" y="2674"/>
                  <a:pt x="59" y="2653"/>
                  <a:pt x="48" y="2628"/>
                </a:cubicBezTo>
                <a:cubicBezTo>
                  <a:pt x="43" y="2616"/>
                  <a:pt x="40" y="2604"/>
                  <a:pt x="36" y="2592"/>
                </a:cubicBezTo>
                <a:cubicBezTo>
                  <a:pt x="34" y="2586"/>
                  <a:pt x="30" y="2574"/>
                  <a:pt x="30" y="2574"/>
                </a:cubicBezTo>
                <a:cubicBezTo>
                  <a:pt x="19" y="2426"/>
                  <a:pt x="15" y="2278"/>
                  <a:pt x="0" y="2130"/>
                </a:cubicBezTo>
                <a:cubicBezTo>
                  <a:pt x="2" y="2084"/>
                  <a:pt x="3" y="2038"/>
                  <a:pt x="6" y="1992"/>
                </a:cubicBezTo>
                <a:cubicBezTo>
                  <a:pt x="8" y="1957"/>
                  <a:pt x="34" y="1860"/>
                  <a:pt x="54" y="1830"/>
                </a:cubicBezTo>
                <a:cubicBezTo>
                  <a:pt x="62" y="1818"/>
                  <a:pt x="73" y="1808"/>
                  <a:pt x="78" y="1794"/>
                </a:cubicBezTo>
                <a:cubicBezTo>
                  <a:pt x="88" y="1765"/>
                  <a:pt x="97" y="1726"/>
                  <a:pt x="126" y="1716"/>
                </a:cubicBezTo>
                <a:cubicBezTo>
                  <a:pt x="135" y="1690"/>
                  <a:pt x="147" y="1670"/>
                  <a:pt x="156" y="1644"/>
                </a:cubicBezTo>
                <a:cubicBezTo>
                  <a:pt x="153" y="1582"/>
                  <a:pt x="152" y="1507"/>
                  <a:pt x="132" y="1446"/>
                </a:cubicBezTo>
                <a:cubicBezTo>
                  <a:pt x="126" y="1402"/>
                  <a:pt x="125" y="1357"/>
                  <a:pt x="114" y="1314"/>
                </a:cubicBezTo>
                <a:cubicBezTo>
                  <a:pt x="118" y="1203"/>
                  <a:pt x="114" y="1157"/>
                  <a:pt x="144" y="1068"/>
                </a:cubicBezTo>
                <a:cubicBezTo>
                  <a:pt x="155" y="1034"/>
                  <a:pt x="161" y="998"/>
                  <a:pt x="192" y="978"/>
                </a:cubicBezTo>
                <a:cubicBezTo>
                  <a:pt x="204" y="941"/>
                  <a:pt x="231" y="895"/>
                  <a:pt x="270" y="882"/>
                </a:cubicBezTo>
                <a:cubicBezTo>
                  <a:pt x="278" y="858"/>
                  <a:pt x="294" y="852"/>
                  <a:pt x="312" y="834"/>
                </a:cubicBezTo>
                <a:cubicBezTo>
                  <a:pt x="324" y="799"/>
                  <a:pt x="356" y="779"/>
                  <a:pt x="390" y="768"/>
                </a:cubicBezTo>
                <a:cubicBezTo>
                  <a:pt x="406" y="752"/>
                  <a:pt x="417" y="729"/>
                  <a:pt x="438" y="720"/>
                </a:cubicBezTo>
                <a:cubicBezTo>
                  <a:pt x="472" y="705"/>
                  <a:pt x="469" y="715"/>
                  <a:pt x="492" y="696"/>
                </a:cubicBezTo>
                <a:cubicBezTo>
                  <a:pt x="525" y="669"/>
                  <a:pt x="577" y="620"/>
                  <a:pt x="618" y="606"/>
                </a:cubicBezTo>
                <a:cubicBezTo>
                  <a:pt x="622" y="600"/>
                  <a:pt x="625" y="593"/>
                  <a:pt x="630" y="588"/>
                </a:cubicBezTo>
                <a:cubicBezTo>
                  <a:pt x="635" y="583"/>
                  <a:pt x="643" y="581"/>
                  <a:pt x="648" y="576"/>
                </a:cubicBezTo>
                <a:cubicBezTo>
                  <a:pt x="697" y="520"/>
                  <a:pt x="650" y="555"/>
                  <a:pt x="690" y="528"/>
                </a:cubicBezTo>
                <a:cubicBezTo>
                  <a:pt x="733" y="464"/>
                  <a:pt x="666" y="561"/>
                  <a:pt x="720" y="492"/>
                </a:cubicBezTo>
                <a:cubicBezTo>
                  <a:pt x="760" y="441"/>
                  <a:pt x="766" y="418"/>
                  <a:pt x="828" y="390"/>
                </a:cubicBezTo>
                <a:cubicBezTo>
                  <a:pt x="903" y="357"/>
                  <a:pt x="825" y="404"/>
                  <a:pt x="900" y="354"/>
                </a:cubicBezTo>
                <a:cubicBezTo>
                  <a:pt x="906" y="350"/>
                  <a:pt x="918" y="342"/>
                  <a:pt x="918" y="342"/>
                </a:cubicBezTo>
                <a:cubicBezTo>
                  <a:pt x="950" y="294"/>
                  <a:pt x="985" y="277"/>
                  <a:pt x="1032" y="246"/>
                </a:cubicBezTo>
                <a:cubicBezTo>
                  <a:pt x="1102" y="200"/>
                  <a:pt x="1168" y="153"/>
                  <a:pt x="1248" y="126"/>
                </a:cubicBezTo>
                <a:cubicBezTo>
                  <a:pt x="1284" y="114"/>
                  <a:pt x="1318" y="90"/>
                  <a:pt x="1356" y="84"/>
                </a:cubicBezTo>
                <a:cubicBezTo>
                  <a:pt x="1380" y="80"/>
                  <a:pt x="1428" y="72"/>
                  <a:pt x="1428" y="72"/>
                </a:cubicBezTo>
                <a:cubicBezTo>
                  <a:pt x="1561" y="82"/>
                  <a:pt x="1667" y="103"/>
                  <a:pt x="1800" y="108"/>
                </a:cubicBezTo>
                <a:cubicBezTo>
                  <a:pt x="1950" y="146"/>
                  <a:pt x="2094" y="171"/>
                  <a:pt x="2250" y="180"/>
                </a:cubicBezTo>
                <a:cubicBezTo>
                  <a:pt x="2378" y="198"/>
                  <a:pt x="2306" y="193"/>
                  <a:pt x="2466" y="186"/>
                </a:cubicBezTo>
                <a:cubicBezTo>
                  <a:pt x="2552" y="157"/>
                  <a:pt x="2642" y="136"/>
                  <a:pt x="2730" y="114"/>
                </a:cubicBezTo>
                <a:cubicBezTo>
                  <a:pt x="2780" y="101"/>
                  <a:pt x="2825" y="72"/>
                  <a:pt x="2874" y="60"/>
                </a:cubicBezTo>
                <a:cubicBezTo>
                  <a:pt x="2971" y="36"/>
                  <a:pt x="3062" y="13"/>
                  <a:pt x="3162" y="0"/>
                </a:cubicBezTo>
                <a:cubicBezTo>
                  <a:pt x="3248" y="2"/>
                  <a:pt x="3334" y="1"/>
                  <a:pt x="3420" y="6"/>
                </a:cubicBezTo>
                <a:cubicBezTo>
                  <a:pt x="3428" y="6"/>
                  <a:pt x="3461" y="21"/>
                  <a:pt x="3474" y="24"/>
                </a:cubicBezTo>
                <a:cubicBezTo>
                  <a:pt x="3522" y="36"/>
                  <a:pt x="3567" y="53"/>
                  <a:pt x="3612" y="72"/>
                </a:cubicBezTo>
                <a:cubicBezTo>
                  <a:pt x="3642" y="85"/>
                  <a:pt x="3677" y="92"/>
                  <a:pt x="3708" y="102"/>
                </a:cubicBezTo>
                <a:cubicBezTo>
                  <a:pt x="3730" y="109"/>
                  <a:pt x="3762" y="132"/>
                  <a:pt x="3780" y="144"/>
                </a:cubicBezTo>
                <a:cubicBezTo>
                  <a:pt x="3844" y="187"/>
                  <a:pt x="3913" y="227"/>
                  <a:pt x="3978" y="270"/>
                </a:cubicBezTo>
                <a:cubicBezTo>
                  <a:pt x="4047" y="316"/>
                  <a:pt x="4125" y="350"/>
                  <a:pt x="4194" y="396"/>
                </a:cubicBezTo>
                <a:cubicBezTo>
                  <a:pt x="4228" y="419"/>
                  <a:pt x="4264" y="461"/>
                  <a:pt x="4302" y="474"/>
                </a:cubicBezTo>
                <a:cubicBezTo>
                  <a:pt x="4324" y="481"/>
                  <a:pt x="4343" y="491"/>
                  <a:pt x="4362" y="504"/>
                </a:cubicBezTo>
                <a:cubicBezTo>
                  <a:pt x="4385" y="538"/>
                  <a:pt x="4429" y="571"/>
                  <a:pt x="4464" y="594"/>
                </a:cubicBezTo>
                <a:cubicBezTo>
                  <a:pt x="4492" y="636"/>
                  <a:pt x="4476" y="622"/>
                  <a:pt x="4506" y="642"/>
                </a:cubicBezTo>
                <a:cubicBezTo>
                  <a:pt x="4549" y="706"/>
                  <a:pt x="4482" y="609"/>
                  <a:pt x="4536" y="678"/>
                </a:cubicBezTo>
                <a:cubicBezTo>
                  <a:pt x="4561" y="711"/>
                  <a:pt x="4578" y="750"/>
                  <a:pt x="4596" y="786"/>
                </a:cubicBezTo>
                <a:cubicBezTo>
                  <a:pt x="4605" y="804"/>
                  <a:pt x="4618" y="821"/>
                  <a:pt x="4626" y="840"/>
                </a:cubicBezTo>
                <a:cubicBezTo>
                  <a:pt x="4631" y="852"/>
                  <a:pt x="4638" y="876"/>
                  <a:pt x="4638" y="876"/>
                </a:cubicBezTo>
                <a:cubicBezTo>
                  <a:pt x="4640" y="934"/>
                  <a:pt x="4639" y="992"/>
                  <a:pt x="4644" y="1050"/>
                </a:cubicBezTo>
                <a:cubicBezTo>
                  <a:pt x="4645" y="1066"/>
                  <a:pt x="4651" y="1082"/>
                  <a:pt x="4656" y="1098"/>
                </a:cubicBezTo>
                <a:cubicBezTo>
                  <a:pt x="4660" y="1110"/>
                  <a:pt x="4668" y="1134"/>
                  <a:pt x="4668" y="1134"/>
                </a:cubicBezTo>
                <a:cubicBezTo>
                  <a:pt x="4673" y="1209"/>
                  <a:pt x="4686" y="1277"/>
                  <a:pt x="4704" y="1350"/>
                </a:cubicBezTo>
                <a:cubicBezTo>
                  <a:pt x="4706" y="1392"/>
                  <a:pt x="4705" y="1434"/>
                  <a:pt x="4710" y="1476"/>
                </a:cubicBezTo>
                <a:cubicBezTo>
                  <a:pt x="4715" y="1524"/>
                  <a:pt x="4720" y="1499"/>
                  <a:pt x="4734" y="1530"/>
                </a:cubicBezTo>
                <a:cubicBezTo>
                  <a:pt x="4755" y="1577"/>
                  <a:pt x="4778" y="1626"/>
                  <a:pt x="4794" y="1674"/>
                </a:cubicBezTo>
                <a:cubicBezTo>
                  <a:pt x="4800" y="1791"/>
                  <a:pt x="4808" y="1887"/>
                  <a:pt x="4794" y="2010"/>
                </a:cubicBezTo>
                <a:cubicBezTo>
                  <a:pt x="4792" y="2024"/>
                  <a:pt x="4778" y="2034"/>
                  <a:pt x="4770" y="2046"/>
                </a:cubicBezTo>
                <a:cubicBezTo>
                  <a:pt x="4763" y="2057"/>
                  <a:pt x="4762" y="2070"/>
                  <a:pt x="4758" y="2082"/>
                </a:cubicBezTo>
                <a:cubicBezTo>
                  <a:pt x="4732" y="2160"/>
                  <a:pt x="4702" y="2235"/>
                  <a:pt x="4686" y="2316"/>
                </a:cubicBezTo>
                <a:cubicBezTo>
                  <a:pt x="4679" y="2416"/>
                  <a:pt x="4664" y="2465"/>
                  <a:pt x="4626" y="2550"/>
                </a:cubicBezTo>
                <a:cubicBezTo>
                  <a:pt x="4618" y="2567"/>
                  <a:pt x="4621" y="2591"/>
                  <a:pt x="4608" y="2604"/>
                </a:cubicBezTo>
                <a:cubicBezTo>
                  <a:pt x="4586" y="2626"/>
                  <a:pt x="4573" y="2656"/>
                  <a:pt x="4548" y="2676"/>
                </a:cubicBezTo>
                <a:cubicBezTo>
                  <a:pt x="4537" y="2685"/>
                  <a:pt x="4522" y="2690"/>
                  <a:pt x="4512" y="2700"/>
                </a:cubicBezTo>
                <a:cubicBezTo>
                  <a:pt x="4481" y="2731"/>
                  <a:pt x="4458" y="2746"/>
                  <a:pt x="4422" y="2766"/>
                </a:cubicBezTo>
                <a:cubicBezTo>
                  <a:pt x="4411" y="2772"/>
                  <a:pt x="4387" y="2795"/>
                  <a:pt x="4368" y="2796"/>
                </a:cubicBezTo>
                <a:cubicBezTo>
                  <a:pt x="4314" y="2800"/>
                  <a:pt x="4260" y="2800"/>
                  <a:pt x="4206" y="2802"/>
                </a:cubicBezTo>
                <a:cubicBezTo>
                  <a:pt x="4171" y="2808"/>
                  <a:pt x="4140" y="2812"/>
                  <a:pt x="4110" y="2832"/>
                </a:cubicBezTo>
                <a:cubicBezTo>
                  <a:pt x="4096" y="2853"/>
                  <a:pt x="4086" y="2866"/>
                  <a:pt x="4062" y="2874"/>
                </a:cubicBezTo>
                <a:cubicBezTo>
                  <a:pt x="4013" y="2947"/>
                  <a:pt x="3911" y="3000"/>
                  <a:pt x="3828" y="3018"/>
                </a:cubicBezTo>
                <a:cubicBezTo>
                  <a:pt x="3801" y="3024"/>
                  <a:pt x="3779" y="3047"/>
                  <a:pt x="3750" y="3048"/>
                </a:cubicBezTo>
                <a:cubicBezTo>
                  <a:pt x="3676" y="3052"/>
                  <a:pt x="3602" y="3053"/>
                  <a:pt x="3528" y="3054"/>
                </a:cubicBezTo>
                <a:cubicBezTo>
                  <a:pt x="3388" y="3057"/>
                  <a:pt x="3248" y="3058"/>
                  <a:pt x="3108" y="3060"/>
                </a:cubicBezTo>
                <a:cubicBezTo>
                  <a:pt x="2820" y="3079"/>
                  <a:pt x="2984" y="3071"/>
                  <a:pt x="2616" y="3078"/>
                </a:cubicBezTo>
                <a:cubicBezTo>
                  <a:pt x="2372" y="3067"/>
                  <a:pt x="2129" y="3079"/>
                  <a:pt x="1884" y="3084"/>
                </a:cubicBezTo>
                <a:cubicBezTo>
                  <a:pt x="1793" y="3114"/>
                  <a:pt x="1692" y="3088"/>
                  <a:pt x="1596" y="3102"/>
                </a:cubicBezTo>
                <a:cubicBezTo>
                  <a:pt x="1402" y="3098"/>
                  <a:pt x="1314" y="3089"/>
                  <a:pt x="1152" y="3078"/>
                </a:cubicBezTo>
                <a:cubicBezTo>
                  <a:pt x="1072" y="3051"/>
                  <a:pt x="961" y="3075"/>
                  <a:pt x="882" y="3078"/>
                </a:cubicBezTo>
                <a:cubicBezTo>
                  <a:pt x="767" y="3097"/>
                  <a:pt x="834" y="3089"/>
                  <a:pt x="678" y="3096"/>
                </a:cubicBezTo>
                <a:cubicBezTo>
                  <a:pt x="630" y="3090"/>
                  <a:pt x="567" y="3088"/>
                  <a:pt x="522" y="3066"/>
                </a:cubicBezTo>
                <a:cubicBezTo>
                  <a:pt x="485" y="3048"/>
                  <a:pt x="453" y="3019"/>
                  <a:pt x="414" y="3006"/>
                </a:cubicBezTo>
                <a:cubicBezTo>
                  <a:pt x="408" y="3000"/>
                  <a:pt x="403" y="2993"/>
                  <a:pt x="396" y="2988"/>
                </a:cubicBezTo>
                <a:cubicBezTo>
                  <a:pt x="385" y="2979"/>
                  <a:pt x="360" y="2964"/>
                  <a:pt x="360" y="2964"/>
                </a:cubicBezTo>
                <a:cubicBezTo>
                  <a:pt x="346" y="2942"/>
                  <a:pt x="333" y="2942"/>
                  <a:pt x="312" y="2928"/>
                </a:cubicBezTo>
                <a:cubicBezTo>
                  <a:pt x="296" y="2904"/>
                  <a:pt x="276" y="2878"/>
                  <a:pt x="252" y="2862"/>
                </a:cubicBezTo>
                <a:cubicBezTo>
                  <a:pt x="239" y="2842"/>
                  <a:pt x="203" y="2789"/>
                  <a:pt x="186" y="2778"/>
                </a:cubicBezTo>
                <a:cubicBezTo>
                  <a:pt x="170" y="2768"/>
                  <a:pt x="150" y="2766"/>
                  <a:pt x="132" y="2760"/>
                </a:cubicBezTo>
                <a:cubicBezTo>
                  <a:pt x="126" y="2758"/>
                  <a:pt x="114" y="2754"/>
                  <a:pt x="114" y="2754"/>
                </a:cubicBezTo>
                <a:cubicBezTo>
                  <a:pt x="108" y="2746"/>
                  <a:pt x="100" y="2739"/>
                  <a:pt x="96" y="2730"/>
                </a:cubicBezTo>
                <a:cubicBezTo>
                  <a:pt x="83" y="2705"/>
                  <a:pt x="84" y="2679"/>
                  <a:pt x="84" y="2700"/>
                </a:cubicBezTo>
                <a:close/>
              </a:path>
            </a:pathLst>
          </a:custGeom>
          <a:noFill/>
          <a:ln w="572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7" name=""/>
          <p:cNvSpPr/>
          <p:nvPr/>
        </p:nvSpPr>
        <p:spPr>
          <a:xfrm>
            <a:off x="5081760" y="2390760"/>
            <a:ext cx="2004840" cy="3343320"/>
          </a:xfrm>
          <a:custGeom>
            <a:avLst/>
            <a:gdLst/>
            <a:ahLst/>
            <a:rect l="l" t="t" r="r" b="b"/>
            <a:pathLst>
              <a:path w="1263" h="2106">
                <a:moveTo>
                  <a:pt x="123" y="1818"/>
                </a:moveTo>
                <a:cubicBezTo>
                  <a:pt x="163" y="1810"/>
                  <a:pt x="190" y="1794"/>
                  <a:pt x="225" y="1776"/>
                </a:cubicBezTo>
                <a:cubicBezTo>
                  <a:pt x="243" y="1767"/>
                  <a:pt x="279" y="1746"/>
                  <a:pt x="279" y="1746"/>
                </a:cubicBezTo>
                <a:cubicBezTo>
                  <a:pt x="292" y="1706"/>
                  <a:pt x="309" y="1674"/>
                  <a:pt x="333" y="1638"/>
                </a:cubicBezTo>
                <a:cubicBezTo>
                  <a:pt x="345" y="1619"/>
                  <a:pt x="331" y="1618"/>
                  <a:pt x="351" y="1602"/>
                </a:cubicBezTo>
                <a:cubicBezTo>
                  <a:pt x="356" y="1598"/>
                  <a:pt x="363" y="1599"/>
                  <a:pt x="369" y="1596"/>
                </a:cubicBezTo>
                <a:cubicBezTo>
                  <a:pt x="386" y="1588"/>
                  <a:pt x="392" y="1579"/>
                  <a:pt x="405" y="1566"/>
                </a:cubicBezTo>
                <a:cubicBezTo>
                  <a:pt x="424" y="1509"/>
                  <a:pt x="406" y="1518"/>
                  <a:pt x="459" y="1500"/>
                </a:cubicBezTo>
                <a:cubicBezTo>
                  <a:pt x="465" y="1498"/>
                  <a:pt x="472" y="1498"/>
                  <a:pt x="477" y="1494"/>
                </a:cubicBezTo>
                <a:cubicBezTo>
                  <a:pt x="486" y="1488"/>
                  <a:pt x="517" y="1467"/>
                  <a:pt x="531" y="1458"/>
                </a:cubicBezTo>
                <a:cubicBezTo>
                  <a:pt x="537" y="1454"/>
                  <a:pt x="549" y="1446"/>
                  <a:pt x="549" y="1446"/>
                </a:cubicBezTo>
                <a:cubicBezTo>
                  <a:pt x="553" y="1440"/>
                  <a:pt x="556" y="1433"/>
                  <a:pt x="561" y="1428"/>
                </a:cubicBezTo>
                <a:cubicBezTo>
                  <a:pt x="566" y="1423"/>
                  <a:pt x="578" y="1423"/>
                  <a:pt x="579" y="1416"/>
                </a:cubicBezTo>
                <a:cubicBezTo>
                  <a:pt x="587" y="1350"/>
                  <a:pt x="565" y="1301"/>
                  <a:pt x="513" y="1266"/>
                </a:cubicBezTo>
                <a:cubicBezTo>
                  <a:pt x="502" y="1233"/>
                  <a:pt x="493" y="1224"/>
                  <a:pt x="507" y="1188"/>
                </a:cubicBezTo>
                <a:cubicBezTo>
                  <a:pt x="512" y="1175"/>
                  <a:pt x="523" y="1164"/>
                  <a:pt x="531" y="1152"/>
                </a:cubicBezTo>
                <a:cubicBezTo>
                  <a:pt x="538" y="1141"/>
                  <a:pt x="567" y="1140"/>
                  <a:pt x="567" y="1140"/>
                </a:cubicBezTo>
                <a:cubicBezTo>
                  <a:pt x="594" y="1100"/>
                  <a:pt x="588" y="1098"/>
                  <a:pt x="621" y="1080"/>
                </a:cubicBezTo>
                <a:cubicBezTo>
                  <a:pt x="634" y="1073"/>
                  <a:pt x="657" y="1056"/>
                  <a:pt x="657" y="1056"/>
                </a:cubicBezTo>
                <a:cubicBezTo>
                  <a:pt x="661" y="1045"/>
                  <a:pt x="673" y="1026"/>
                  <a:pt x="645" y="1026"/>
                </a:cubicBezTo>
                <a:cubicBezTo>
                  <a:pt x="627" y="1026"/>
                  <a:pt x="542" y="1051"/>
                  <a:pt x="525" y="1062"/>
                </a:cubicBezTo>
                <a:cubicBezTo>
                  <a:pt x="513" y="1070"/>
                  <a:pt x="489" y="1086"/>
                  <a:pt x="489" y="1086"/>
                </a:cubicBezTo>
                <a:cubicBezTo>
                  <a:pt x="461" y="1127"/>
                  <a:pt x="479" y="1127"/>
                  <a:pt x="447" y="1116"/>
                </a:cubicBezTo>
                <a:cubicBezTo>
                  <a:pt x="431" y="1091"/>
                  <a:pt x="426" y="1066"/>
                  <a:pt x="417" y="1038"/>
                </a:cubicBezTo>
                <a:cubicBezTo>
                  <a:pt x="419" y="1012"/>
                  <a:pt x="419" y="986"/>
                  <a:pt x="423" y="960"/>
                </a:cubicBezTo>
                <a:cubicBezTo>
                  <a:pt x="429" y="922"/>
                  <a:pt x="451" y="884"/>
                  <a:pt x="459" y="846"/>
                </a:cubicBezTo>
                <a:cubicBezTo>
                  <a:pt x="471" y="791"/>
                  <a:pt x="473" y="733"/>
                  <a:pt x="477" y="678"/>
                </a:cubicBezTo>
                <a:cubicBezTo>
                  <a:pt x="475" y="616"/>
                  <a:pt x="475" y="554"/>
                  <a:pt x="471" y="492"/>
                </a:cubicBezTo>
                <a:cubicBezTo>
                  <a:pt x="470" y="470"/>
                  <a:pt x="447" y="457"/>
                  <a:pt x="441" y="438"/>
                </a:cubicBezTo>
                <a:cubicBezTo>
                  <a:pt x="419" y="372"/>
                  <a:pt x="355" y="285"/>
                  <a:pt x="297" y="246"/>
                </a:cubicBezTo>
                <a:cubicBezTo>
                  <a:pt x="235" y="205"/>
                  <a:pt x="169" y="173"/>
                  <a:pt x="99" y="150"/>
                </a:cubicBezTo>
                <a:cubicBezTo>
                  <a:pt x="87" y="146"/>
                  <a:pt x="75" y="141"/>
                  <a:pt x="63" y="138"/>
                </a:cubicBezTo>
                <a:cubicBezTo>
                  <a:pt x="47" y="134"/>
                  <a:pt x="15" y="126"/>
                  <a:pt x="15" y="126"/>
                </a:cubicBezTo>
                <a:cubicBezTo>
                  <a:pt x="0" y="82"/>
                  <a:pt x="34" y="84"/>
                  <a:pt x="69" y="72"/>
                </a:cubicBezTo>
                <a:cubicBezTo>
                  <a:pt x="148" y="46"/>
                  <a:pt x="201" y="25"/>
                  <a:pt x="285" y="18"/>
                </a:cubicBezTo>
                <a:cubicBezTo>
                  <a:pt x="309" y="12"/>
                  <a:pt x="332" y="5"/>
                  <a:pt x="357" y="0"/>
                </a:cubicBezTo>
                <a:cubicBezTo>
                  <a:pt x="410" y="4"/>
                  <a:pt x="454" y="13"/>
                  <a:pt x="507" y="18"/>
                </a:cubicBezTo>
                <a:cubicBezTo>
                  <a:pt x="559" y="35"/>
                  <a:pt x="611" y="49"/>
                  <a:pt x="663" y="66"/>
                </a:cubicBezTo>
                <a:cubicBezTo>
                  <a:pt x="677" y="71"/>
                  <a:pt x="685" y="87"/>
                  <a:pt x="699" y="90"/>
                </a:cubicBezTo>
                <a:cubicBezTo>
                  <a:pt x="723" y="96"/>
                  <a:pt x="739" y="100"/>
                  <a:pt x="759" y="114"/>
                </a:cubicBezTo>
                <a:cubicBezTo>
                  <a:pt x="793" y="166"/>
                  <a:pt x="748" y="105"/>
                  <a:pt x="789" y="138"/>
                </a:cubicBezTo>
                <a:cubicBezTo>
                  <a:pt x="795" y="143"/>
                  <a:pt x="796" y="151"/>
                  <a:pt x="801" y="156"/>
                </a:cubicBezTo>
                <a:cubicBezTo>
                  <a:pt x="806" y="161"/>
                  <a:pt x="813" y="164"/>
                  <a:pt x="819" y="168"/>
                </a:cubicBezTo>
                <a:cubicBezTo>
                  <a:pt x="838" y="197"/>
                  <a:pt x="874" y="203"/>
                  <a:pt x="903" y="222"/>
                </a:cubicBezTo>
                <a:cubicBezTo>
                  <a:pt x="914" y="256"/>
                  <a:pt x="936" y="261"/>
                  <a:pt x="957" y="288"/>
                </a:cubicBezTo>
                <a:cubicBezTo>
                  <a:pt x="988" y="328"/>
                  <a:pt x="1010" y="380"/>
                  <a:pt x="1053" y="408"/>
                </a:cubicBezTo>
                <a:cubicBezTo>
                  <a:pt x="1066" y="447"/>
                  <a:pt x="1096" y="482"/>
                  <a:pt x="1119" y="516"/>
                </a:cubicBezTo>
                <a:cubicBezTo>
                  <a:pt x="1141" y="549"/>
                  <a:pt x="1154" y="589"/>
                  <a:pt x="1173" y="624"/>
                </a:cubicBezTo>
                <a:cubicBezTo>
                  <a:pt x="1188" y="651"/>
                  <a:pt x="1206" y="668"/>
                  <a:pt x="1215" y="696"/>
                </a:cubicBezTo>
                <a:cubicBezTo>
                  <a:pt x="1221" y="757"/>
                  <a:pt x="1232" y="818"/>
                  <a:pt x="1251" y="876"/>
                </a:cubicBezTo>
                <a:cubicBezTo>
                  <a:pt x="1259" y="899"/>
                  <a:pt x="1263" y="948"/>
                  <a:pt x="1263" y="948"/>
                </a:cubicBezTo>
                <a:cubicBezTo>
                  <a:pt x="1254" y="1040"/>
                  <a:pt x="1261" y="1143"/>
                  <a:pt x="1239" y="1230"/>
                </a:cubicBezTo>
                <a:cubicBezTo>
                  <a:pt x="1230" y="1340"/>
                  <a:pt x="1187" y="1442"/>
                  <a:pt x="1143" y="1542"/>
                </a:cubicBezTo>
                <a:cubicBezTo>
                  <a:pt x="1124" y="1584"/>
                  <a:pt x="1120" y="1612"/>
                  <a:pt x="1095" y="1650"/>
                </a:cubicBezTo>
                <a:cubicBezTo>
                  <a:pt x="1072" y="1685"/>
                  <a:pt x="1058" y="1728"/>
                  <a:pt x="1023" y="1752"/>
                </a:cubicBezTo>
                <a:cubicBezTo>
                  <a:pt x="1016" y="1763"/>
                  <a:pt x="975" y="1834"/>
                  <a:pt x="963" y="1842"/>
                </a:cubicBezTo>
                <a:cubicBezTo>
                  <a:pt x="933" y="1862"/>
                  <a:pt x="894" y="1883"/>
                  <a:pt x="873" y="1914"/>
                </a:cubicBezTo>
                <a:cubicBezTo>
                  <a:pt x="865" y="1926"/>
                  <a:pt x="857" y="1938"/>
                  <a:pt x="849" y="1950"/>
                </a:cubicBezTo>
                <a:cubicBezTo>
                  <a:pt x="845" y="1956"/>
                  <a:pt x="844" y="1966"/>
                  <a:pt x="837" y="1968"/>
                </a:cubicBezTo>
                <a:cubicBezTo>
                  <a:pt x="806" y="1978"/>
                  <a:pt x="776" y="1996"/>
                  <a:pt x="747" y="2010"/>
                </a:cubicBezTo>
                <a:cubicBezTo>
                  <a:pt x="705" y="2031"/>
                  <a:pt x="661" y="2056"/>
                  <a:pt x="621" y="2082"/>
                </a:cubicBezTo>
                <a:cubicBezTo>
                  <a:pt x="605" y="2093"/>
                  <a:pt x="567" y="2106"/>
                  <a:pt x="567" y="2106"/>
                </a:cubicBezTo>
                <a:cubicBezTo>
                  <a:pt x="515" y="2104"/>
                  <a:pt x="463" y="2105"/>
                  <a:pt x="411" y="2100"/>
                </a:cubicBezTo>
                <a:cubicBezTo>
                  <a:pt x="364" y="2096"/>
                  <a:pt x="341" y="2065"/>
                  <a:pt x="303" y="2052"/>
                </a:cubicBezTo>
                <a:cubicBezTo>
                  <a:pt x="267" y="2040"/>
                  <a:pt x="256" y="2032"/>
                  <a:pt x="225" y="2010"/>
                </a:cubicBezTo>
                <a:cubicBezTo>
                  <a:pt x="213" y="2002"/>
                  <a:pt x="201" y="1994"/>
                  <a:pt x="189" y="1986"/>
                </a:cubicBezTo>
                <a:cubicBezTo>
                  <a:pt x="183" y="1982"/>
                  <a:pt x="171" y="1974"/>
                  <a:pt x="171" y="1974"/>
                </a:cubicBezTo>
                <a:cubicBezTo>
                  <a:pt x="139" y="1926"/>
                  <a:pt x="181" y="1984"/>
                  <a:pt x="141" y="1944"/>
                </a:cubicBezTo>
                <a:cubicBezTo>
                  <a:pt x="106" y="1909"/>
                  <a:pt x="119" y="1861"/>
                  <a:pt x="123" y="1818"/>
                </a:cubicBezTo>
                <a:close/>
              </a:path>
            </a:pathLst>
          </a:custGeom>
          <a:solidFill>
            <a:srgbClr val="00ff00">
              <a:alpha val="50000"/>
            </a:srgbClr>
          </a:solidFill>
          <a:ln w="57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8" name=""/>
          <p:cNvSpPr/>
          <p:nvPr/>
        </p:nvSpPr>
        <p:spPr>
          <a:xfrm>
            <a:off x="2295360" y="2495520"/>
            <a:ext cx="2381400" cy="3267000"/>
          </a:xfrm>
          <a:custGeom>
            <a:avLst/>
            <a:gdLst/>
            <a:ahLst/>
            <a:rect l="l" t="t" r="r" b="b"/>
            <a:pathLst>
              <a:path w="1500" h="2058">
                <a:moveTo>
                  <a:pt x="1392" y="1518"/>
                </a:moveTo>
                <a:cubicBezTo>
                  <a:pt x="1369" y="1541"/>
                  <a:pt x="1367" y="1567"/>
                  <a:pt x="1344" y="1590"/>
                </a:cubicBezTo>
                <a:cubicBezTo>
                  <a:pt x="1333" y="1645"/>
                  <a:pt x="1306" y="1695"/>
                  <a:pt x="1284" y="1746"/>
                </a:cubicBezTo>
                <a:cubicBezTo>
                  <a:pt x="1269" y="1780"/>
                  <a:pt x="1262" y="1829"/>
                  <a:pt x="1224" y="1842"/>
                </a:cubicBezTo>
                <a:cubicBezTo>
                  <a:pt x="1154" y="1912"/>
                  <a:pt x="1074" y="1970"/>
                  <a:pt x="984" y="2010"/>
                </a:cubicBezTo>
                <a:cubicBezTo>
                  <a:pt x="956" y="2023"/>
                  <a:pt x="923" y="2036"/>
                  <a:pt x="894" y="2046"/>
                </a:cubicBezTo>
                <a:cubicBezTo>
                  <a:pt x="882" y="2050"/>
                  <a:pt x="858" y="2058"/>
                  <a:pt x="858" y="2058"/>
                </a:cubicBezTo>
                <a:cubicBezTo>
                  <a:pt x="804" y="2056"/>
                  <a:pt x="750" y="2057"/>
                  <a:pt x="696" y="2052"/>
                </a:cubicBezTo>
                <a:cubicBezTo>
                  <a:pt x="689" y="2051"/>
                  <a:pt x="685" y="2043"/>
                  <a:pt x="678" y="2040"/>
                </a:cubicBezTo>
                <a:cubicBezTo>
                  <a:pt x="652" y="2029"/>
                  <a:pt x="622" y="2028"/>
                  <a:pt x="594" y="2022"/>
                </a:cubicBezTo>
                <a:cubicBezTo>
                  <a:pt x="577" y="2019"/>
                  <a:pt x="555" y="2006"/>
                  <a:pt x="540" y="1998"/>
                </a:cubicBezTo>
                <a:cubicBezTo>
                  <a:pt x="527" y="1991"/>
                  <a:pt x="504" y="1974"/>
                  <a:pt x="504" y="1974"/>
                </a:cubicBezTo>
                <a:cubicBezTo>
                  <a:pt x="496" y="1962"/>
                  <a:pt x="488" y="1950"/>
                  <a:pt x="480" y="1938"/>
                </a:cubicBezTo>
                <a:cubicBezTo>
                  <a:pt x="476" y="1933"/>
                  <a:pt x="468" y="1935"/>
                  <a:pt x="462" y="1932"/>
                </a:cubicBezTo>
                <a:cubicBezTo>
                  <a:pt x="449" y="1925"/>
                  <a:pt x="436" y="1918"/>
                  <a:pt x="426" y="1908"/>
                </a:cubicBezTo>
                <a:cubicBezTo>
                  <a:pt x="409" y="1891"/>
                  <a:pt x="398" y="1874"/>
                  <a:pt x="378" y="1860"/>
                </a:cubicBezTo>
                <a:cubicBezTo>
                  <a:pt x="363" y="1838"/>
                  <a:pt x="340" y="1815"/>
                  <a:pt x="318" y="1800"/>
                </a:cubicBezTo>
                <a:cubicBezTo>
                  <a:pt x="309" y="1787"/>
                  <a:pt x="297" y="1777"/>
                  <a:pt x="288" y="1764"/>
                </a:cubicBezTo>
                <a:cubicBezTo>
                  <a:pt x="284" y="1759"/>
                  <a:pt x="286" y="1751"/>
                  <a:pt x="282" y="1746"/>
                </a:cubicBezTo>
                <a:cubicBezTo>
                  <a:pt x="270" y="1728"/>
                  <a:pt x="251" y="1710"/>
                  <a:pt x="234" y="1698"/>
                </a:cubicBezTo>
                <a:cubicBezTo>
                  <a:pt x="230" y="1692"/>
                  <a:pt x="227" y="1685"/>
                  <a:pt x="222" y="1680"/>
                </a:cubicBezTo>
                <a:cubicBezTo>
                  <a:pt x="217" y="1675"/>
                  <a:pt x="209" y="1674"/>
                  <a:pt x="204" y="1668"/>
                </a:cubicBezTo>
                <a:cubicBezTo>
                  <a:pt x="200" y="1663"/>
                  <a:pt x="202" y="1655"/>
                  <a:pt x="198" y="1650"/>
                </a:cubicBezTo>
                <a:cubicBezTo>
                  <a:pt x="193" y="1643"/>
                  <a:pt x="186" y="1638"/>
                  <a:pt x="180" y="1632"/>
                </a:cubicBezTo>
                <a:cubicBezTo>
                  <a:pt x="172" y="1608"/>
                  <a:pt x="159" y="1598"/>
                  <a:pt x="138" y="1584"/>
                </a:cubicBezTo>
                <a:cubicBezTo>
                  <a:pt x="105" y="1535"/>
                  <a:pt x="105" y="1471"/>
                  <a:pt x="72" y="1422"/>
                </a:cubicBezTo>
                <a:cubicBezTo>
                  <a:pt x="52" y="1343"/>
                  <a:pt x="20" y="1267"/>
                  <a:pt x="0" y="1188"/>
                </a:cubicBezTo>
                <a:cubicBezTo>
                  <a:pt x="2" y="1064"/>
                  <a:pt x="2" y="940"/>
                  <a:pt x="6" y="816"/>
                </a:cubicBezTo>
                <a:cubicBezTo>
                  <a:pt x="9" y="708"/>
                  <a:pt x="91" y="533"/>
                  <a:pt x="144" y="438"/>
                </a:cubicBezTo>
                <a:cubicBezTo>
                  <a:pt x="167" y="397"/>
                  <a:pt x="195" y="345"/>
                  <a:pt x="228" y="312"/>
                </a:cubicBezTo>
                <a:cubicBezTo>
                  <a:pt x="256" y="284"/>
                  <a:pt x="289" y="260"/>
                  <a:pt x="318" y="234"/>
                </a:cubicBezTo>
                <a:cubicBezTo>
                  <a:pt x="343" y="212"/>
                  <a:pt x="364" y="188"/>
                  <a:pt x="390" y="168"/>
                </a:cubicBezTo>
                <a:cubicBezTo>
                  <a:pt x="401" y="159"/>
                  <a:pt x="426" y="144"/>
                  <a:pt x="426" y="144"/>
                </a:cubicBezTo>
                <a:cubicBezTo>
                  <a:pt x="443" y="119"/>
                  <a:pt x="466" y="116"/>
                  <a:pt x="492" y="102"/>
                </a:cubicBezTo>
                <a:cubicBezTo>
                  <a:pt x="505" y="95"/>
                  <a:pt x="516" y="86"/>
                  <a:pt x="528" y="78"/>
                </a:cubicBezTo>
                <a:cubicBezTo>
                  <a:pt x="564" y="54"/>
                  <a:pt x="649" y="44"/>
                  <a:pt x="690" y="30"/>
                </a:cubicBezTo>
                <a:cubicBezTo>
                  <a:pt x="712" y="23"/>
                  <a:pt x="728" y="7"/>
                  <a:pt x="750" y="0"/>
                </a:cubicBezTo>
                <a:cubicBezTo>
                  <a:pt x="814" y="2"/>
                  <a:pt x="878" y="2"/>
                  <a:pt x="942" y="6"/>
                </a:cubicBezTo>
                <a:cubicBezTo>
                  <a:pt x="1008" y="10"/>
                  <a:pt x="1073" y="47"/>
                  <a:pt x="1140" y="54"/>
                </a:cubicBezTo>
                <a:cubicBezTo>
                  <a:pt x="1196" y="73"/>
                  <a:pt x="1264" y="50"/>
                  <a:pt x="1320" y="36"/>
                </a:cubicBezTo>
                <a:cubicBezTo>
                  <a:pt x="1370" y="40"/>
                  <a:pt x="1442" y="6"/>
                  <a:pt x="1470" y="48"/>
                </a:cubicBezTo>
                <a:cubicBezTo>
                  <a:pt x="1489" y="77"/>
                  <a:pt x="1480" y="59"/>
                  <a:pt x="1494" y="102"/>
                </a:cubicBezTo>
                <a:cubicBezTo>
                  <a:pt x="1496" y="108"/>
                  <a:pt x="1500" y="120"/>
                  <a:pt x="1500" y="120"/>
                </a:cubicBezTo>
                <a:cubicBezTo>
                  <a:pt x="1494" y="137"/>
                  <a:pt x="1494" y="157"/>
                  <a:pt x="1488" y="174"/>
                </a:cubicBezTo>
                <a:lnTo>
                  <a:pt x="1464" y="228"/>
                </a:lnTo>
                <a:cubicBezTo>
                  <a:pt x="1464" y="228"/>
                  <a:pt x="1464" y="228"/>
                  <a:pt x="1464" y="228"/>
                </a:cubicBezTo>
                <a:cubicBezTo>
                  <a:pt x="1462" y="236"/>
                  <a:pt x="1462" y="245"/>
                  <a:pt x="1458" y="252"/>
                </a:cubicBezTo>
                <a:cubicBezTo>
                  <a:pt x="1444" y="276"/>
                  <a:pt x="1413" y="296"/>
                  <a:pt x="1404" y="324"/>
                </a:cubicBezTo>
                <a:cubicBezTo>
                  <a:pt x="1395" y="351"/>
                  <a:pt x="1382" y="376"/>
                  <a:pt x="1362" y="396"/>
                </a:cubicBezTo>
                <a:cubicBezTo>
                  <a:pt x="1352" y="425"/>
                  <a:pt x="1339" y="445"/>
                  <a:pt x="1314" y="462"/>
                </a:cubicBezTo>
                <a:cubicBezTo>
                  <a:pt x="1306" y="485"/>
                  <a:pt x="1296" y="510"/>
                  <a:pt x="1290" y="534"/>
                </a:cubicBezTo>
                <a:cubicBezTo>
                  <a:pt x="1290" y="534"/>
                  <a:pt x="1281" y="573"/>
                  <a:pt x="1278" y="576"/>
                </a:cubicBezTo>
                <a:cubicBezTo>
                  <a:pt x="1274" y="580"/>
                  <a:pt x="1266" y="580"/>
                  <a:pt x="1260" y="582"/>
                </a:cubicBezTo>
                <a:cubicBezTo>
                  <a:pt x="1258" y="588"/>
                  <a:pt x="1258" y="596"/>
                  <a:pt x="1254" y="600"/>
                </a:cubicBezTo>
                <a:cubicBezTo>
                  <a:pt x="1244" y="610"/>
                  <a:pt x="1218" y="624"/>
                  <a:pt x="1218" y="624"/>
                </a:cubicBezTo>
                <a:cubicBezTo>
                  <a:pt x="1160" y="619"/>
                  <a:pt x="1148" y="622"/>
                  <a:pt x="1104" y="600"/>
                </a:cubicBezTo>
                <a:cubicBezTo>
                  <a:pt x="1054" y="617"/>
                  <a:pt x="1134" y="591"/>
                  <a:pt x="1044" y="612"/>
                </a:cubicBezTo>
                <a:cubicBezTo>
                  <a:pt x="1014" y="619"/>
                  <a:pt x="997" y="629"/>
                  <a:pt x="972" y="642"/>
                </a:cubicBezTo>
                <a:cubicBezTo>
                  <a:pt x="949" y="653"/>
                  <a:pt x="918" y="658"/>
                  <a:pt x="894" y="666"/>
                </a:cubicBezTo>
                <a:cubicBezTo>
                  <a:pt x="873" y="673"/>
                  <a:pt x="858" y="690"/>
                  <a:pt x="840" y="702"/>
                </a:cubicBezTo>
                <a:cubicBezTo>
                  <a:pt x="834" y="706"/>
                  <a:pt x="822" y="714"/>
                  <a:pt x="822" y="714"/>
                </a:cubicBezTo>
                <a:cubicBezTo>
                  <a:pt x="794" y="755"/>
                  <a:pt x="772" y="798"/>
                  <a:pt x="744" y="840"/>
                </a:cubicBezTo>
                <a:cubicBezTo>
                  <a:pt x="737" y="851"/>
                  <a:pt x="736" y="864"/>
                  <a:pt x="732" y="876"/>
                </a:cubicBezTo>
                <a:cubicBezTo>
                  <a:pt x="730" y="882"/>
                  <a:pt x="726" y="894"/>
                  <a:pt x="726" y="894"/>
                </a:cubicBezTo>
                <a:cubicBezTo>
                  <a:pt x="720" y="949"/>
                  <a:pt x="714" y="964"/>
                  <a:pt x="720" y="1020"/>
                </a:cubicBezTo>
                <a:cubicBezTo>
                  <a:pt x="722" y="1086"/>
                  <a:pt x="722" y="1152"/>
                  <a:pt x="726" y="1218"/>
                </a:cubicBezTo>
                <a:cubicBezTo>
                  <a:pt x="727" y="1243"/>
                  <a:pt x="757" y="1284"/>
                  <a:pt x="768" y="1308"/>
                </a:cubicBezTo>
                <a:cubicBezTo>
                  <a:pt x="768" y="1308"/>
                  <a:pt x="783" y="1353"/>
                  <a:pt x="786" y="1362"/>
                </a:cubicBezTo>
                <a:cubicBezTo>
                  <a:pt x="788" y="1368"/>
                  <a:pt x="786" y="1378"/>
                  <a:pt x="792" y="1380"/>
                </a:cubicBezTo>
                <a:cubicBezTo>
                  <a:pt x="817" y="1388"/>
                  <a:pt x="826" y="1400"/>
                  <a:pt x="846" y="1416"/>
                </a:cubicBezTo>
                <a:cubicBezTo>
                  <a:pt x="886" y="1447"/>
                  <a:pt x="924" y="1478"/>
                  <a:pt x="972" y="1494"/>
                </a:cubicBezTo>
                <a:cubicBezTo>
                  <a:pt x="1006" y="1505"/>
                  <a:pt x="1040" y="1513"/>
                  <a:pt x="1074" y="1524"/>
                </a:cubicBezTo>
                <a:cubicBezTo>
                  <a:pt x="1086" y="1528"/>
                  <a:pt x="1110" y="1536"/>
                  <a:pt x="1110" y="1536"/>
                </a:cubicBezTo>
                <a:cubicBezTo>
                  <a:pt x="1216" y="1532"/>
                  <a:pt x="1290" y="1524"/>
                  <a:pt x="1392" y="1518"/>
                </a:cubicBezTo>
                <a:close/>
              </a:path>
            </a:pathLst>
          </a:custGeom>
          <a:solidFill>
            <a:srgbClr val="00ff00">
              <a:alpha val="50000"/>
            </a:srgbClr>
          </a:solidFill>
          <a:ln w="57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9" name=""/>
          <p:cNvSpPr/>
          <p:nvPr/>
        </p:nvSpPr>
        <p:spPr>
          <a:xfrm rot="10806600">
            <a:off x="3121200" y="1364400"/>
            <a:ext cx="2365200" cy="5031000"/>
          </a:xfrm>
          <a:custGeom>
            <a:avLst/>
            <a:gdLst>
              <a:gd name="textAreaLeft" fmla="*/ 333000 w 2365200"/>
              <a:gd name="textAreaRight" fmla="*/ 2032200 w 2365200"/>
              <a:gd name="textAreaTop" fmla="*/ 708840 h 5031000"/>
              <a:gd name="textAreaBottom" fmla="*/ 4322160 h 5031000"/>
            </a:gdLst>
            <a:ahLst/>
            <a:rect l="textAreaLeft" t="textAreaTop" r="textAreaRight" b="textAreaBottom"/>
            <a:pathLst>
              <a:path w="21600" h="21600">
                <a:moveTo>
                  <a:pt x="0" y="0"/>
                </a:moveTo>
                <a:lnTo>
                  <a:pt x="21600" y="0"/>
                </a:lnTo>
                <a:lnTo>
                  <a:pt x="19272" y="21600"/>
                </a:lnTo>
                <a:lnTo>
                  <a:pt x="2328" y="21600"/>
                </a:lnTo>
                <a:close/>
              </a:path>
            </a:pathLst>
          </a:custGeom>
          <a:solidFill>
            <a:srgbClr val="99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0" name=""/>
          <p:cNvSpPr/>
          <p:nvPr/>
        </p:nvSpPr>
        <p:spPr>
          <a:xfrm>
            <a:off x="4606920" y="5362560"/>
            <a:ext cx="279360" cy="285840"/>
          </a:xfrm>
          <a:custGeom>
            <a:avLst/>
            <a:gdLst/>
            <a:ahLst/>
            <a:rect l="l" t="t" r="r" b="b"/>
            <a:pathLst>
              <a:path w="176" h="180">
                <a:moveTo>
                  <a:pt x="92" y="0"/>
                </a:moveTo>
                <a:cubicBezTo>
                  <a:pt x="49" y="9"/>
                  <a:pt x="43" y="25"/>
                  <a:pt x="14" y="54"/>
                </a:cubicBezTo>
                <a:cubicBezTo>
                  <a:pt x="0" y="97"/>
                  <a:pt x="26" y="145"/>
                  <a:pt x="50" y="180"/>
                </a:cubicBezTo>
                <a:cubicBezTo>
                  <a:pt x="78" y="178"/>
                  <a:pt x="107" y="180"/>
                  <a:pt x="134" y="174"/>
                </a:cubicBezTo>
                <a:cubicBezTo>
                  <a:pt x="153" y="170"/>
                  <a:pt x="171" y="118"/>
                  <a:pt x="176" y="102"/>
                </a:cubicBezTo>
                <a:cubicBezTo>
                  <a:pt x="175" y="98"/>
                  <a:pt x="171" y="58"/>
                  <a:pt x="164" y="48"/>
                </a:cubicBezTo>
                <a:cubicBezTo>
                  <a:pt x="147" y="22"/>
                  <a:pt x="116" y="16"/>
                  <a:pt x="92" y="0"/>
                </a:cubicBezTo>
                <a:close/>
              </a:path>
            </a:pathLst>
          </a:custGeom>
          <a:solidFill>
            <a:srgbClr val="00ff00">
              <a:alpha val="50000"/>
            </a:srgbClr>
          </a:solidFill>
          <a:ln w="57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1" name=""/>
          <p:cNvSpPr/>
          <p:nvPr/>
        </p:nvSpPr>
        <p:spPr>
          <a:xfrm>
            <a:off x="4191120" y="1523880"/>
            <a:ext cx="228600" cy="762120"/>
          </a:xfrm>
          <a:prstGeom prst="downArrow">
            <a:avLst>
              <a:gd name="adj1" fmla="val 50000"/>
              <a:gd name="adj2" fmla="val 83346"/>
            </a:avLst>
          </a:prstGeom>
          <a:solidFill>
            <a:srgbClr val="99cc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2" name=""/>
          <p:cNvSpPr/>
          <p:nvPr/>
        </p:nvSpPr>
        <p:spPr>
          <a:xfrm>
            <a:off x="3495600" y="3514680"/>
            <a:ext cx="1648080" cy="1333440"/>
          </a:xfrm>
          <a:custGeom>
            <a:avLst/>
            <a:gdLst/>
            <a:ahLst/>
            <a:rect l="l" t="t" r="r" b="b"/>
            <a:pathLst>
              <a:path w="1038" h="840">
                <a:moveTo>
                  <a:pt x="66" y="672"/>
                </a:moveTo>
                <a:cubicBezTo>
                  <a:pt x="52" y="629"/>
                  <a:pt x="65" y="643"/>
                  <a:pt x="36" y="624"/>
                </a:cubicBezTo>
                <a:cubicBezTo>
                  <a:pt x="29" y="602"/>
                  <a:pt x="19" y="586"/>
                  <a:pt x="12" y="564"/>
                </a:cubicBezTo>
                <a:cubicBezTo>
                  <a:pt x="8" y="552"/>
                  <a:pt x="0" y="528"/>
                  <a:pt x="0" y="528"/>
                </a:cubicBezTo>
                <a:cubicBezTo>
                  <a:pt x="2" y="456"/>
                  <a:pt x="1" y="233"/>
                  <a:pt x="72" y="162"/>
                </a:cubicBezTo>
                <a:cubicBezTo>
                  <a:pt x="84" y="125"/>
                  <a:pt x="112" y="99"/>
                  <a:pt x="144" y="78"/>
                </a:cubicBezTo>
                <a:cubicBezTo>
                  <a:pt x="170" y="39"/>
                  <a:pt x="205" y="32"/>
                  <a:pt x="246" y="18"/>
                </a:cubicBezTo>
                <a:cubicBezTo>
                  <a:pt x="258" y="14"/>
                  <a:pt x="270" y="10"/>
                  <a:pt x="282" y="6"/>
                </a:cubicBezTo>
                <a:cubicBezTo>
                  <a:pt x="288" y="4"/>
                  <a:pt x="300" y="0"/>
                  <a:pt x="300" y="0"/>
                </a:cubicBezTo>
                <a:cubicBezTo>
                  <a:pt x="468" y="5"/>
                  <a:pt x="558" y="10"/>
                  <a:pt x="708" y="60"/>
                </a:cubicBezTo>
                <a:cubicBezTo>
                  <a:pt x="733" y="68"/>
                  <a:pt x="756" y="85"/>
                  <a:pt x="780" y="96"/>
                </a:cubicBezTo>
                <a:cubicBezTo>
                  <a:pt x="802" y="106"/>
                  <a:pt x="829" y="112"/>
                  <a:pt x="852" y="120"/>
                </a:cubicBezTo>
                <a:cubicBezTo>
                  <a:pt x="884" y="131"/>
                  <a:pt x="865" y="122"/>
                  <a:pt x="906" y="150"/>
                </a:cubicBezTo>
                <a:cubicBezTo>
                  <a:pt x="912" y="154"/>
                  <a:pt x="924" y="162"/>
                  <a:pt x="924" y="162"/>
                </a:cubicBezTo>
                <a:cubicBezTo>
                  <a:pt x="952" y="204"/>
                  <a:pt x="936" y="190"/>
                  <a:pt x="966" y="210"/>
                </a:cubicBezTo>
                <a:cubicBezTo>
                  <a:pt x="986" y="269"/>
                  <a:pt x="1023" y="316"/>
                  <a:pt x="1038" y="378"/>
                </a:cubicBezTo>
                <a:cubicBezTo>
                  <a:pt x="1034" y="436"/>
                  <a:pt x="1025" y="473"/>
                  <a:pt x="1032" y="528"/>
                </a:cubicBezTo>
                <a:cubicBezTo>
                  <a:pt x="1026" y="564"/>
                  <a:pt x="1013" y="584"/>
                  <a:pt x="1002" y="618"/>
                </a:cubicBezTo>
                <a:cubicBezTo>
                  <a:pt x="997" y="634"/>
                  <a:pt x="993" y="660"/>
                  <a:pt x="978" y="672"/>
                </a:cubicBezTo>
                <a:cubicBezTo>
                  <a:pt x="929" y="711"/>
                  <a:pt x="993" y="639"/>
                  <a:pt x="942" y="690"/>
                </a:cubicBezTo>
                <a:cubicBezTo>
                  <a:pt x="925" y="707"/>
                  <a:pt x="912" y="728"/>
                  <a:pt x="894" y="744"/>
                </a:cubicBezTo>
                <a:cubicBezTo>
                  <a:pt x="889" y="748"/>
                  <a:pt x="882" y="747"/>
                  <a:pt x="876" y="750"/>
                </a:cubicBezTo>
                <a:cubicBezTo>
                  <a:pt x="863" y="757"/>
                  <a:pt x="852" y="766"/>
                  <a:pt x="840" y="774"/>
                </a:cubicBezTo>
                <a:cubicBezTo>
                  <a:pt x="755" y="831"/>
                  <a:pt x="712" y="832"/>
                  <a:pt x="606" y="840"/>
                </a:cubicBezTo>
                <a:cubicBezTo>
                  <a:pt x="527" y="836"/>
                  <a:pt x="467" y="828"/>
                  <a:pt x="390" y="834"/>
                </a:cubicBezTo>
                <a:cubicBezTo>
                  <a:pt x="319" y="826"/>
                  <a:pt x="243" y="815"/>
                  <a:pt x="180" y="780"/>
                </a:cubicBezTo>
                <a:cubicBezTo>
                  <a:pt x="161" y="769"/>
                  <a:pt x="144" y="756"/>
                  <a:pt x="126" y="744"/>
                </a:cubicBezTo>
                <a:cubicBezTo>
                  <a:pt x="114" y="736"/>
                  <a:pt x="90" y="720"/>
                  <a:pt x="90" y="720"/>
                </a:cubicBezTo>
                <a:cubicBezTo>
                  <a:pt x="72" y="693"/>
                  <a:pt x="81" y="709"/>
                  <a:pt x="66" y="672"/>
                </a:cubicBezTo>
                <a:close/>
              </a:path>
            </a:pathLst>
          </a:custGeom>
          <a:solidFill>
            <a:srgbClr val="ff0000">
              <a:alpha val="50000"/>
            </a:srgbClr>
          </a:solid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3" name=""/>
          <p:cNvSpPr/>
          <p:nvPr/>
        </p:nvSpPr>
        <p:spPr>
          <a:xfrm>
            <a:off x="0" y="1143000"/>
            <a:ext cx="7765920" cy="68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argeting PTV while avoiding OR</a:t>
            </a:r>
            <a:endParaRPr b="0" lang="en-US" sz="28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912513DD-E888-4762-8345-95143EF8439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99" name=""/>
          <p:cNvSpPr/>
          <p:nvPr/>
        </p:nvSpPr>
        <p:spPr>
          <a:xfrm>
            <a:off x="228600" y="152280"/>
            <a:ext cx="4038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ccecff"/>
                </a:solidFill>
                <a:latin typeface="Arial"/>
              </a:rPr>
              <a:t>IRID </a:t>
            </a:r>
            <a:r>
              <a:rPr b="1" lang="en-GB" sz="2000" spc="-1" strike="noStrike">
                <a:solidFill>
                  <a:srgbClr val="ccecff"/>
                </a:solidFill>
                <a:latin typeface="Arial"/>
              </a:rPr>
              <a:t>Ionising Radiations Incident Database</a:t>
            </a:r>
            <a:endParaRPr b="0" lang="en-US" sz="2000" spc="-1" strike="noStrike">
              <a:solidFill>
                <a:srgbClr val="eaeaea"/>
              </a:solidFill>
              <a:latin typeface="Times New Roman"/>
            </a:endParaRPr>
          </a:p>
        </p:txBody>
      </p:sp>
      <p:sp>
        <p:nvSpPr>
          <p:cNvPr id="300" name=""/>
          <p:cNvSpPr/>
          <p:nvPr/>
        </p:nvSpPr>
        <p:spPr>
          <a:xfrm>
            <a:off x="228600" y="1676520"/>
            <a:ext cx="4267080" cy="411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ffcc00"/>
                </a:solidFill>
                <a:latin typeface="Arial"/>
              </a:rPr>
              <a:t>Supporting organizations:</a:t>
            </a:r>
            <a:endParaRPr b="0" lang="en-US" sz="2200" spc="-1" strike="noStrike">
              <a:solidFill>
                <a:srgbClr val="eaeaea"/>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a:rPr>
              <a:t>  </a:t>
            </a:r>
            <a:r>
              <a:rPr b="1" lang="en-IE" sz="2000" spc="-1" strike="noStrike">
                <a:solidFill>
                  <a:srgbClr val="ffffff"/>
                </a:solidFill>
                <a:latin typeface="Arial"/>
              </a:rPr>
              <a:t>National Radiological Protection Board (NRPB) – UK</a:t>
            </a:r>
            <a:endParaRPr b="0" lang="en-US" sz="2000" spc="-1" strike="noStrike">
              <a:solidFill>
                <a:srgbClr val="eaeaea"/>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a:rPr>
              <a:t> </a:t>
            </a:r>
            <a:r>
              <a:rPr b="1" lang="en-IE" sz="2000" spc="-1" strike="noStrike">
                <a:solidFill>
                  <a:srgbClr val="ffffff"/>
                </a:solidFill>
                <a:latin typeface="Arial"/>
              </a:rPr>
              <a:t>Health and Safety Executive (HSE) – UK</a:t>
            </a:r>
            <a:endParaRPr b="0" lang="en-US" sz="2000" spc="-1" strike="noStrike">
              <a:solidFill>
                <a:srgbClr val="eaeaea"/>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a:rPr>
              <a:t> </a:t>
            </a:r>
            <a:r>
              <a:rPr b="1" lang="en-IE" sz="2000" spc="-1" strike="noStrike">
                <a:solidFill>
                  <a:srgbClr val="ffffff"/>
                </a:solidFill>
                <a:latin typeface="Arial"/>
              </a:rPr>
              <a:t>Environment Agency – UK</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ffcc00"/>
                </a:solidFill>
                <a:latin typeface="Arial"/>
              </a:rPr>
              <a:t>Some characteristics:</a:t>
            </a:r>
            <a:endParaRPr b="0" lang="en-US" sz="2200" spc="-1" strike="noStrike">
              <a:solidFill>
                <a:srgbClr val="eaeaea"/>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a:rPr>
              <a:t>  </a:t>
            </a:r>
            <a:r>
              <a:rPr b="1" lang="en-IE" sz="2000" spc="-1" strike="noStrike">
                <a:solidFill>
                  <a:srgbClr val="ffffff"/>
                </a:solidFill>
                <a:latin typeface="Arial"/>
              </a:rPr>
              <a:t>National database (UK) of (non-nuclear sector) radiation incidents</a:t>
            </a:r>
            <a:endParaRPr b="0" lang="en-US" sz="2000" spc="-1" strike="noStrike">
              <a:solidFill>
                <a:srgbClr val="eaeaea"/>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a:rPr>
              <a:t> </a:t>
            </a:r>
            <a:r>
              <a:rPr b="1" lang="en-IE" sz="2000" spc="-1" strike="noStrike">
                <a:solidFill>
                  <a:srgbClr val="ffffff"/>
                </a:solidFill>
                <a:latin typeface="Arial"/>
              </a:rPr>
              <a:t>Excludes patient exposure incidents</a:t>
            </a:r>
            <a:endParaRPr b="0" lang="en-US" sz="2000" spc="-1" strike="noStrike">
              <a:solidFill>
                <a:srgbClr val="eaeaea"/>
              </a:solidFill>
              <a:latin typeface="Times New Roman"/>
            </a:endParaRPr>
          </a:p>
        </p:txBody>
      </p:sp>
      <p:sp>
        <p:nvSpPr>
          <p:cNvPr id="301" name=""/>
          <p:cNvSpPr/>
          <p:nvPr/>
        </p:nvSpPr>
        <p:spPr>
          <a:xfrm>
            <a:off x="228600" y="1219320"/>
            <a:ext cx="41911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ffcc00"/>
                </a:solidFill>
                <a:latin typeface="Arial"/>
              </a:rPr>
              <a:t>http://www.irid.org.uk/</a:t>
            </a:r>
            <a:endParaRPr b="0" lang="en-US" sz="2200" spc="-1" strike="noStrike">
              <a:solidFill>
                <a:srgbClr val="eaeaea"/>
              </a:solidFill>
              <a:latin typeface="Times New Roman"/>
            </a:endParaRPr>
          </a:p>
        </p:txBody>
      </p:sp>
      <p:pic>
        <p:nvPicPr>
          <p:cNvPr id="302" name="" descr=""/>
          <p:cNvPicPr/>
          <p:nvPr/>
        </p:nvPicPr>
        <p:blipFill>
          <a:blip r:embed="rId1"/>
          <a:stretch/>
        </p:blipFill>
        <p:spPr>
          <a:xfrm>
            <a:off x="4746600" y="152280"/>
            <a:ext cx="4176720" cy="6229440"/>
          </a:xfrm>
          <a:prstGeom prst="rect">
            <a:avLst/>
          </a:prstGeom>
          <a:ln w="0">
            <a:noFill/>
          </a:ln>
        </p:spPr>
      </p:pic>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15617550-E351-43B0-B3E0-543338221CA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03" name=""/>
          <p:cNvSpPr/>
          <p:nvPr/>
        </p:nvSpPr>
        <p:spPr>
          <a:xfrm>
            <a:off x="228600" y="152280"/>
            <a:ext cx="4191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ccecff"/>
                </a:solidFill>
                <a:latin typeface="Arial"/>
              </a:rPr>
              <a:t>ENR </a:t>
            </a:r>
            <a:r>
              <a:rPr b="1" lang="en-IE" sz="2000" spc="-1" strike="noStrike">
                <a:solidFill>
                  <a:srgbClr val="ccecff"/>
                </a:solidFill>
                <a:latin typeface="Arial"/>
              </a:rPr>
              <a:t>Event Notification Reports</a:t>
            </a:r>
            <a:endParaRPr b="0" lang="en-US" sz="2000" spc="-1" strike="noStrike">
              <a:solidFill>
                <a:srgbClr val="eaeaea"/>
              </a:solidFill>
              <a:latin typeface="Times New Roman"/>
            </a:endParaRPr>
          </a:p>
        </p:txBody>
      </p:sp>
      <p:sp>
        <p:nvSpPr>
          <p:cNvPr id="304" name=""/>
          <p:cNvSpPr/>
          <p:nvPr/>
        </p:nvSpPr>
        <p:spPr>
          <a:xfrm>
            <a:off x="228600" y="1676520"/>
            <a:ext cx="4267080" cy="350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ffcc00"/>
                </a:solidFill>
                <a:latin typeface="Arial"/>
              </a:rPr>
              <a:t>Supporting organization:</a:t>
            </a:r>
            <a:endParaRPr b="0" lang="en-US" sz="2200" spc="-1" strike="noStrike">
              <a:solidFill>
                <a:srgbClr val="eaeaea"/>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a:rPr>
              <a:t> </a:t>
            </a:r>
            <a:r>
              <a:rPr b="1" lang="en-IE" sz="2000" spc="-1" strike="noStrike">
                <a:solidFill>
                  <a:srgbClr val="ffffff"/>
                </a:solidFill>
                <a:latin typeface="Arial"/>
              </a:rPr>
              <a:t>Nuclear Regulatory Commission (USA) </a:t>
            </a:r>
            <a:r>
              <a:rPr b="1" i="1" lang="en-IE" sz="2000" spc="-1" strike="noStrike">
                <a:solidFill>
                  <a:srgbClr val="ffffff"/>
                </a:solidFill>
                <a:latin typeface="Arial"/>
              </a:rPr>
              <a:t>(regulates US civilian use of nuclear materials)</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ffcc00"/>
                </a:solidFill>
                <a:latin typeface="Arial"/>
              </a:rPr>
              <a:t>Some characteristics:</a:t>
            </a:r>
            <a:endParaRPr b="0" lang="en-US" sz="2200" spc="-1" strike="noStrike">
              <a:solidFill>
                <a:srgbClr val="eaeaea"/>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a:rPr>
              <a:t> </a:t>
            </a:r>
            <a:r>
              <a:rPr b="1" lang="en-IE" sz="2000" spc="-1" strike="noStrike">
                <a:solidFill>
                  <a:srgbClr val="ffffff"/>
                </a:solidFill>
                <a:latin typeface="Arial"/>
              </a:rPr>
              <a:t>Mainly industrial events, but also some medical (cobalt and brachytherapy)</a:t>
            </a:r>
            <a:endParaRPr b="0" lang="en-US" sz="2000" spc="-1" strike="noStrike">
              <a:solidFill>
                <a:srgbClr val="eaeaea"/>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a:rPr>
              <a:t> </a:t>
            </a:r>
            <a:r>
              <a:rPr b="1" lang="en-IE" sz="2000" spc="-1" strike="noStrike">
                <a:solidFill>
                  <a:srgbClr val="ffffff"/>
                </a:solidFill>
                <a:latin typeface="Arial"/>
              </a:rPr>
              <a:t>Feedback as preliminary notification reports</a:t>
            </a:r>
            <a:endParaRPr b="0" lang="en-US" sz="2000" spc="-1" strike="noStrike">
              <a:solidFill>
                <a:srgbClr val="eaeaea"/>
              </a:solidFill>
              <a:latin typeface="Times New Roman"/>
            </a:endParaRPr>
          </a:p>
        </p:txBody>
      </p:sp>
      <p:sp>
        <p:nvSpPr>
          <p:cNvPr id="305" name=""/>
          <p:cNvSpPr/>
          <p:nvPr/>
        </p:nvSpPr>
        <p:spPr>
          <a:xfrm>
            <a:off x="228600" y="1219320"/>
            <a:ext cx="4267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ffcc00"/>
                </a:solidFill>
                <a:latin typeface="Arial"/>
              </a:rPr>
              <a:t>http://www.nrc.gov/</a:t>
            </a:r>
            <a:endParaRPr b="0" lang="en-US" sz="2200" spc="-1" strike="noStrike">
              <a:solidFill>
                <a:srgbClr val="eaeaea"/>
              </a:solidFill>
              <a:latin typeface="Times New Roman"/>
            </a:endParaRPr>
          </a:p>
        </p:txBody>
      </p:sp>
      <p:pic>
        <p:nvPicPr>
          <p:cNvPr id="306" name="" descr=""/>
          <p:cNvPicPr/>
          <p:nvPr/>
        </p:nvPicPr>
        <p:blipFill>
          <a:blip r:embed="rId1"/>
          <a:stretch/>
        </p:blipFill>
        <p:spPr>
          <a:xfrm>
            <a:off x="4892760" y="152280"/>
            <a:ext cx="4030560" cy="6013440"/>
          </a:xfrm>
          <a:prstGeom prst="rect">
            <a:avLst/>
          </a:prstGeom>
          <a:ln w="0">
            <a:noFill/>
          </a:ln>
        </p:spPr>
      </p:pic>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7BE977A8-D445-4258-A4F6-A7B664DC06C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07" name=""/>
          <p:cNvSpPr/>
          <p:nvPr/>
        </p:nvSpPr>
        <p:spPr>
          <a:xfrm>
            <a:off x="228600" y="152280"/>
            <a:ext cx="4191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ccecff"/>
                </a:solidFill>
                <a:latin typeface="Arial"/>
              </a:rPr>
              <a:t>RELIR </a:t>
            </a:r>
            <a:r>
              <a:rPr b="1" lang="en-IE" sz="2000" spc="-1" strike="noStrike">
                <a:solidFill>
                  <a:srgbClr val="ccecff"/>
                </a:solidFill>
                <a:latin typeface="Arial"/>
              </a:rPr>
              <a:t>Retours d’Exp</a:t>
            </a:r>
            <a:r>
              <a:rPr b="1" lang="en-IE" sz="2000" spc="-1" strike="noStrike">
                <a:solidFill>
                  <a:srgbClr val="ccecff"/>
                </a:solidFill>
                <a:latin typeface="Arial"/>
                <a:ea typeface="Arial"/>
              </a:rPr>
              <a:t>érience sur Les Incidents Radiologiques</a:t>
            </a:r>
            <a:endParaRPr b="0" lang="en-US" sz="2000" spc="-1" strike="noStrike">
              <a:solidFill>
                <a:srgbClr val="eaeaea"/>
              </a:solidFill>
              <a:latin typeface="Times New Roman"/>
            </a:endParaRPr>
          </a:p>
        </p:txBody>
      </p:sp>
      <p:sp>
        <p:nvSpPr>
          <p:cNvPr id="308" name=""/>
          <p:cNvSpPr/>
          <p:nvPr/>
        </p:nvSpPr>
        <p:spPr>
          <a:xfrm>
            <a:off x="228600" y="1676520"/>
            <a:ext cx="4267080" cy="350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ffcc00"/>
                </a:solidFill>
                <a:latin typeface="Arial"/>
              </a:rPr>
              <a:t>Supporting organizations:</a:t>
            </a:r>
            <a:endParaRPr b="0" lang="en-US" sz="2200" spc="-1" strike="noStrike">
              <a:solidFill>
                <a:srgbClr val="eaeaea"/>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a:rPr>
              <a:t> </a:t>
            </a:r>
            <a:r>
              <a:rPr b="1" lang="en-IE" sz="2000" spc="-1" strike="noStrike">
                <a:solidFill>
                  <a:srgbClr val="ffffff"/>
                </a:solidFill>
                <a:latin typeface="Arial"/>
              </a:rPr>
              <a:t>French Radiological Protection Society (SFRP)</a:t>
            </a:r>
            <a:endParaRPr b="0" lang="en-US" sz="2000" spc="-1" strike="noStrike">
              <a:solidFill>
                <a:srgbClr val="eaeaea"/>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a:rPr>
              <a:t> … </a:t>
            </a:r>
            <a:r>
              <a:rPr b="1" lang="en-IE" sz="2000" spc="-1" strike="noStrike">
                <a:solidFill>
                  <a:srgbClr val="ffffff"/>
                </a:solidFill>
                <a:latin typeface="Arial"/>
              </a:rPr>
              <a:t>+ Institute Curie (France)</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ffcc00"/>
                </a:solidFill>
                <a:latin typeface="Arial"/>
              </a:rPr>
              <a:t>Some characteristics:</a:t>
            </a:r>
            <a:endParaRPr b="0" lang="en-US" sz="2200" spc="-1" strike="noStrike">
              <a:solidFill>
                <a:srgbClr val="eaeaea"/>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a:rPr>
              <a:t> </a:t>
            </a:r>
            <a:r>
              <a:rPr b="1" lang="en-IE" sz="2000" spc="-1" strike="noStrike">
                <a:solidFill>
                  <a:srgbClr val="ffffff"/>
                </a:solidFill>
                <a:latin typeface="Arial"/>
              </a:rPr>
              <a:t>As IRID, but also accidental medical exposure</a:t>
            </a:r>
            <a:endParaRPr b="0" lang="en-US" sz="2000" spc="-1" strike="noStrike">
              <a:solidFill>
                <a:srgbClr val="eaeaea"/>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a:rPr>
              <a:t> </a:t>
            </a:r>
            <a:r>
              <a:rPr b="1" lang="en-IE" sz="2000" spc="-1" strike="noStrike">
                <a:solidFill>
                  <a:srgbClr val="ffffff"/>
                </a:solidFill>
                <a:latin typeface="Arial"/>
              </a:rPr>
              <a:t>Incidents assessed by radiation protection specialist for the specific activity: “Moderator”</a:t>
            </a:r>
            <a:endParaRPr b="0" lang="en-US" sz="2000" spc="-1" strike="noStrike">
              <a:solidFill>
                <a:srgbClr val="eaeaea"/>
              </a:solidFill>
              <a:latin typeface="Times New Roman"/>
            </a:endParaRPr>
          </a:p>
        </p:txBody>
      </p:sp>
      <p:sp>
        <p:nvSpPr>
          <p:cNvPr id="309" name=""/>
          <p:cNvSpPr/>
          <p:nvPr/>
        </p:nvSpPr>
        <p:spPr>
          <a:xfrm>
            <a:off x="228600" y="1219320"/>
            <a:ext cx="4267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ffcc00"/>
                </a:solidFill>
                <a:latin typeface="Arial"/>
              </a:rPr>
              <a:t>http://relir.cepn.asso.fr/</a:t>
            </a:r>
            <a:endParaRPr b="0" lang="en-US" sz="2200" spc="-1" strike="noStrike">
              <a:solidFill>
                <a:srgbClr val="eaeaea"/>
              </a:solidFill>
              <a:latin typeface="Times New Roman"/>
            </a:endParaRPr>
          </a:p>
        </p:txBody>
      </p:sp>
      <p:pic>
        <p:nvPicPr>
          <p:cNvPr id="310" name="" descr=""/>
          <p:cNvPicPr/>
          <p:nvPr/>
        </p:nvPicPr>
        <p:blipFill>
          <a:blip r:embed="rId1"/>
          <a:stretch/>
        </p:blipFill>
        <p:spPr>
          <a:xfrm>
            <a:off x="4859280" y="404640"/>
            <a:ext cx="3957840" cy="5904000"/>
          </a:xfrm>
          <a:prstGeom prst="rect">
            <a:avLst/>
          </a:prstGeom>
          <a:ln w="0">
            <a:noFill/>
          </a:ln>
        </p:spPr>
      </p:pic>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FBA31BE7-7D9D-442C-BA04-455E6E639BC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11" name=""/>
          <p:cNvSpPr/>
          <p:nvPr/>
        </p:nvSpPr>
        <p:spPr>
          <a:xfrm>
            <a:off x="228600" y="152280"/>
            <a:ext cx="4038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ccecff"/>
                </a:solidFill>
                <a:latin typeface="Arial"/>
              </a:rPr>
              <a:t>AHRQ WebM&amp;M </a:t>
            </a:r>
            <a:r>
              <a:rPr b="1" lang="en-IE" sz="2000" spc="-1" strike="noStrike">
                <a:solidFill>
                  <a:srgbClr val="ccecff"/>
                </a:solidFill>
                <a:latin typeface="Arial"/>
              </a:rPr>
              <a:t>Morbidity &amp; Mortality</a:t>
            </a:r>
            <a:endParaRPr b="0" lang="en-US" sz="2000" spc="-1" strike="noStrike">
              <a:solidFill>
                <a:srgbClr val="eaeaea"/>
              </a:solidFill>
              <a:latin typeface="Times New Roman"/>
            </a:endParaRPr>
          </a:p>
        </p:txBody>
      </p:sp>
      <p:sp>
        <p:nvSpPr>
          <p:cNvPr id="312" name=""/>
          <p:cNvSpPr/>
          <p:nvPr/>
        </p:nvSpPr>
        <p:spPr>
          <a:xfrm>
            <a:off x="228600" y="1676520"/>
            <a:ext cx="4267080" cy="442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ffcc00"/>
                </a:solidFill>
                <a:latin typeface="Arial"/>
              </a:rPr>
              <a:t>Supporting organization:</a:t>
            </a:r>
            <a:endParaRPr b="0" lang="en-US" sz="2200" spc="-1" strike="noStrike">
              <a:solidFill>
                <a:srgbClr val="eaeaea"/>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a:rPr>
              <a:t> </a:t>
            </a:r>
            <a:r>
              <a:rPr b="1" lang="en-IE" sz="2000" spc="-1" strike="noStrike">
                <a:solidFill>
                  <a:srgbClr val="ffffff"/>
                </a:solidFill>
                <a:latin typeface="Arial"/>
              </a:rPr>
              <a:t>Agency for Healthcare Research and Quality (AHRQ) US </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a:rPr>
              <a:t>(part of US DoH)</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ffcc00"/>
                </a:solidFill>
                <a:latin typeface="Arial"/>
              </a:rPr>
              <a:t>Some characteristics:</a:t>
            </a:r>
            <a:endParaRPr b="0" lang="en-US" sz="2200" spc="-1" strike="noStrike">
              <a:solidFill>
                <a:srgbClr val="eaeaea"/>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a:rPr>
              <a:t> </a:t>
            </a:r>
            <a:r>
              <a:rPr b="1" lang="en-IE" sz="2000" spc="-1" strike="noStrike">
                <a:solidFill>
                  <a:srgbClr val="ffffff"/>
                </a:solidFill>
                <a:latin typeface="Arial"/>
              </a:rPr>
              <a:t>National forum (US) on patient safety and health care quality</a:t>
            </a:r>
            <a:endParaRPr b="0" lang="en-US" sz="2000" spc="-1" strike="noStrike">
              <a:solidFill>
                <a:srgbClr val="eaeaea"/>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a:rPr>
              <a:t> </a:t>
            </a:r>
            <a:r>
              <a:rPr b="1" lang="en-IE" sz="2000" spc="-1" strike="noStrike">
                <a:solidFill>
                  <a:srgbClr val="ffffff"/>
                </a:solidFill>
                <a:latin typeface="Arial"/>
              </a:rPr>
              <a:t>Features expert analysis of medical errors reported anonymously</a:t>
            </a:r>
            <a:endParaRPr b="0" lang="en-US" sz="2000" spc="-1" strike="noStrike">
              <a:solidFill>
                <a:srgbClr val="eaeaea"/>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a:rPr>
              <a:t> </a:t>
            </a:r>
            <a:r>
              <a:rPr b="1" lang="en-IE" sz="2000" spc="-1" strike="noStrike">
                <a:solidFill>
                  <a:srgbClr val="ffffff"/>
                </a:solidFill>
                <a:latin typeface="Arial"/>
              </a:rPr>
              <a:t>Features interactive learning modules on patient safety and forums for online discussion</a:t>
            </a:r>
            <a:endParaRPr b="0" lang="en-US" sz="2000" spc="-1" strike="noStrike">
              <a:solidFill>
                <a:srgbClr val="eaeaea"/>
              </a:solidFill>
              <a:latin typeface="Times New Roman"/>
            </a:endParaRPr>
          </a:p>
        </p:txBody>
      </p:sp>
      <p:sp>
        <p:nvSpPr>
          <p:cNvPr id="313" name=""/>
          <p:cNvSpPr/>
          <p:nvPr/>
        </p:nvSpPr>
        <p:spPr>
          <a:xfrm>
            <a:off x="228600" y="1219320"/>
            <a:ext cx="41911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ffcc00"/>
                </a:solidFill>
                <a:latin typeface="Arial"/>
              </a:rPr>
              <a:t>http://www.webmm.ahrq.gov/</a:t>
            </a:r>
            <a:endParaRPr b="0" lang="en-US" sz="2200" spc="-1" strike="noStrike">
              <a:solidFill>
                <a:srgbClr val="eaeaea"/>
              </a:solidFill>
              <a:latin typeface="Times New Roman"/>
            </a:endParaRPr>
          </a:p>
        </p:txBody>
      </p:sp>
      <p:pic>
        <p:nvPicPr>
          <p:cNvPr id="314" name="" descr=""/>
          <p:cNvPicPr/>
          <p:nvPr/>
        </p:nvPicPr>
        <p:blipFill>
          <a:blip r:embed="rId1"/>
          <a:stretch/>
        </p:blipFill>
        <p:spPr>
          <a:xfrm>
            <a:off x="4643280" y="260280"/>
            <a:ext cx="4083120" cy="6089760"/>
          </a:xfrm>
          <a:prstGeom prst="rect">
            <a:avLst/>
          </a:prstGeom>
          <a:ln w="0">
            <a:noFill/>
          </a:ln>
        </p:spPr>
      </p:pic>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8DE4CEA5-7DBB-4AE8-8BB4-7CDF69BAB68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15" name=""/>
          <p:cNvSpPr/>
          <p:nvPr/>
        </p:nvSpPr>
        <p:spPr>
          <a:xfrm>
            <a:off x="0" y="0"/>
            <a:ext cx="9144000" cy="6858000"/>
          </a:xfrm>
          <a:prstGeom prst="rect">
            <a:avLst/>
          </a:prstGeom>
          <a:solidFill>
            <a:srgbClr val="fdda59"/>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16" name=""/>
          <p:cNvSpPr/>
          <p:nvPr/>
        </p:nvSpPr>
        <p:spPr>
          <a:xfrm>
            <a:off x="595440" y="2647800"/>
            <a:ext cx="7953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he RADEV system</a:t>
            </a:r>
            <a:endParaRPr b="0" lang="en-US" sz="36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97637FB9-A666-430B-B7B0-33A3F360BD8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17"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RADEV</a:t>
            </a:r>
            <a:endParaRPr b="0" lang="en-US" sz="3600" spc="-1" strike="noStrike">
              <a:solidFill>
                <a:srgbClr val="eaeaea"/>
              </a:solidFill>
              <a:latin typeface="Times New Roman"/>
            </a:endParaRPr>
          </a:p>
        </p:txBody>
      </p:sp>
      <p:sp>
        <p:nvSpPr>
          <p:cNvPr id="318" name=""/>
          <p:cNvSpPr/>
          <p:nvPr/>
        </p:nvSpPr>
        <p:spPr>
          <a:xfrm>
            <a:off x="533520" y="121932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Radiation Events Database</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Supporting organizations:</a:t>
            </a: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	</a:t>
            </a:r>
            <a:r>
              <a:rPr b="0" lang="en-IE" sz="2400" spc="-1" strike="noStrike">
                <a:solidFill>
                  <a:srgbClr val="eaeaea"/>
                </a:solidFill>
                <a:latin typeface="Arial"/>
              </a:rPr>
              <a:t>International Atomic Energy Agency (IAEA)</a:t>
            </a: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	</a:t>
            </a:r>
            <a:r>
              <a:rPr b="0" lang="en-IE" sz="2400" spc="-1" strike="noStrike">
                <a:solidFill>
                  <a:srgbClr val="eaeaea"/>
                </a:solidFill>
                <a:latin typeface="Arial"/>
              </a:rPr>
              <a:t>National regulatory authorities in signatory states</a:t>
            </a:r>
            <a:endParaRPr b="0" lang="en-US" sz="2400" spc="-1" strike="noStrike">
              <a:solidFill>
                <a:srgbClr val="eaeaea"/>
              </a:solidFill>
              <a:latin typeface="Times New Roman"/>
            </a:endParaRPr>
          </a:p>
        </p:txBody>
      </p:sp>
      <p:pic>
        <p:nvPicPr>
          <p:cNvPr id="319" name="" descr=""/>
          <p:cNvPicPr/>
          <p:nvPr/>
        </p:nvPicPr>
        <p:blipFill>
          <a:blip r:embed="rId1"/>
          <a:stretch/>
        </p:blipFill>
        <p:spPr>
          <a:xfrm>
            <a:off x="2133720" y="2895480"/>
            <a:ext cx="5333760" cy="3753000"/>
          </a:xfrm>
          <a:prstGeom prst="rect">
            <a:avLst/>
          </a:prstGeom>
          <a:ln w="0">
            <a:noFill/>
          </a:ln>
        </p:spPr>
      </p:pic>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8E2ABA82-99E9-4536-B19A-7CDFD80A42F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20"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RADEV</a:t>
            </a:r>
            <a:endParaRPr b="0" lang="en-US" sz="3600" spc="-1" strike="noStrike">
              <a:solidFill>
                <a:srgbClr val="eaeaea"/>
              </a:solidFill>
              <a:latin typeface="Times New Roman"/>
            </a:endParaRPr>
          </a:p>
        </p:txBody>
      </p:sp>
      <p:sp>
        <p:nvSpPr>
          <p:cNvPr id="321" name=""/>
          <p:cNvSpPr/>
          <p:nvPr/>
        </p:nvSpPr>
        <p:spPr>
          <a:xfrm>
            <a:off x="533520" y="1143000"/>
            <a:ext cx="8229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The purpose of RADEV is to help </a:t>
            </a:r>
            <a:r>
              <a:rPr b="0" lang="en-IE" sz="2400" spc="-1" strike="noStrike">
                <a:solidFill>
                  <a:srgbClr val="ffcc00"/>
                </a:solidFill>
                <a:latin typeface="Arial"/>
              </a:rPr>
              <a:t>prevent accidents</a:t>
            </a:r>
            <a:r>
              <a:rPr b="0" lang="en-IE" sz="2400" spc="-1" strike="noStrike">
                <a:solidFill>
                  <a:srgbClr val="eaeaea"/>
                </a:solidFill>
                <a:latin typeface="Arial"/>
              </a:rPr>
              <a:t> or </a:t>
            </a:r>
            <a:r>
              <a:rPr b="0" lang="en-IE" sz="2400" spc="-1" strike="noStrike">
                <a:solidFill>
                  <a:srgbClr val="ffcc00"/>
                </a:solidFill>
                <a:latin typeface="Arial"/>
              </a:rPr>
              <a:t>mitigate their consequences</a:t>
            </a:r>
            <a:r>
              <a:rPr b="0" lang="en-IE" sz="2400" spc="-1" strike="noStrike">
                <a:solidFill>
                  <a:srgbClr val="eaeaea"/>
                </a:solidFill>
                <a:latin typeface="Arial"/>
              </a:rPr>
              <a:t>, and to help Member States, IAEA and other organizations to </a:t>
            </a:r>
            <a:r>
              <a:rPr b="0" lang="en-IE" sz="2400" spc="-1" strike="noStrike">
                <a:solidFill>
                  <a:srgbClr val="ffcc00"/>
                </a:solidFill>
                <a:latin typeface="Arial"/>
              </a:rPr>
              <a:t>identify priorities</a:t>
            </a:r>
            <a:r>
              <a:rPr b="0" lang="en-IE" sz="2400" spc="-1" strike="noStrike">
                <a:solidFill>
                  <a:srgbClr val="eaeaea"/>
                </a:solidFill>
                <a:latin typeface="Arial"/>
              </a:rPr>
              <a:t> in their radiation safety programmes and to </a:t>
            </a:r>
            <a:r>
              <a:rPr b="0" lang="en-IE" sz="2400" spc="-1" strike="noStrike">
                <a:solidFill>
                  <a:srgbClr val="ffcc00"/>
                </a:solidFill>
                <a:latin typeface="Arial"/>
              </a:rPr>
              <a:t>facilitate efficient allocation of resources</a:t>
            </a:r>
            <a:endParaRPr b="0" lang="en-US" sz="2400" spc="-1" strike="noStrike">
              <a:solidFill>
                <a:srgbClr val="eaeaea"/>
              </a:solidFill>
              <a:latin typeface="Times New Roman"/>
            </a:endParaRPr>
          </a:p>
        </p:txBody>
      </p:sp>
      <p:pic>
        <p:nvPicPr>
          <p:cNvPr id="322" name="" descr=""/>
          <p:cNvPicPr/>
          <p:nvPr/>
        </p:nvPicPr>
        <p:blipFill>
          <a:blip r:embed="rId1"/>
          <a:stretch/>
        </p:blipFill>
        <p:spPr>
          <a:xfrm>
            <a:off x="2133720" y="2971800"/>
            <a:ext cx="5867280" cy="3659040"/>
          </a:xfrm>
          <a:prstGeom prst="rect">
            <a:avLst/>
          </a:prstGeom>
          <a:ln w="0">
            <a:noFill/>
          </a:ln>
        </p:spPr>
      </p:pic>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C0ECDDC8-0F6E-43EB-9BE4-C0A4E5B4282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23" name=""/>
          <p:cNvSpPr/>
          <p:nvPr/>
        </p:nvSpPr>
        <p:spPr>
          <a:xfrm>
            <a:off x="533520" y="1219320"/>
            <a:ext cx="8229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A centralized RADEV database is being established at IAEA’s headquarters in Vienna to …</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	</a:t>
            </a: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 </a:t>
            </a:r>
            <a:r>
              <a:rPr b="0" lang="en-IE" sz="2400" spc="-1" strike="noStrike">
                <a:solidFill>
                  <a:srgbClr val="eaeaea"/>
                </a:solidFill>
                <a:latin typeface="Arial"/>
              </a:rPr>
              <a:t>provide a </a:t>
            </a:r>
            <a:r>
              <a:rPr b="0" lang="en-IE" sz="2400" spc="-1" strike="noStrike">
                <a:solidFill>
                  <a:srgbClr val="ffcc00"/>
                </a:solidFill>
                <a:latin typeface="Arial"/>
              </a:rPr>
              <a:t>repository of information</a:t>
            </a:r>
            <a:r>
              <a:rPr b="0" lang="en-IE" sz="2400" spc="-1" strike="noStrike">
                <a:solidFill>
                  <a:srgbClr val="eaeaea"/>
                </a:solidFill>
                <a:latin typeface="Arial"/>
              </a:rPr>
              <a:t> on accidents, near-</a:t>
            </a:r>
            <a:r>
              <a:rPr b="0" lang="en-IE" sz="2400" spc="-1" strike="noStrike">
                <a:solidFill>
                  <a:srgbClr val="eaeaea"/>
                </a:solidFill>
                <a:latin typeface="Arial"/>
              </a:rPr>
              <a:t>	</a:t>
            </a:r>
            <a:r>
              <a:rPr b="0" lang="en-IE" sz="2400" spc="-1" strike="noStrike">
                <a:solidFill>
                  <a:srgbClr val="eaeaea"/>
                </a:solidFill>
                <a:latin typeface="Arial"/>
              </a:rPr>
              <a:t>misses and any other unusual events involving </a:t>
            </a:r>
            <a:r>
              <a:rPr b="0" lang="en-IE" sz="2400" spc="-1" strike="noStrike">
                <a:solidFill>
                  <a:srgbClr val="eaeaea"/>
                </a:solidFill>
                <a:latin typeface="Arial"/>
              </a:rPr>
              <a:t>	</a:t>
            </a:r>
            <a:r>
              <a:rPr b="0" lang="en-IE" sz="2400" spc="-1" strike="noStrike">
                <a:solidFill>
                  <a:srgbClr val="eaeaea"/>
                </a:solidFill>
                <a:latin typeface="Arial"/>
              </a:rPr>
              <a:t>radiation sources not directly involved in the </a:t>
            </a:r>
            <a:r>
              <a:rPr b="0" lang="en-IE" sz="2400" spc="-1" strike="noStrike">
                <a:solidFill>
                  <a:srgbClr val="eaeaea"/>
                </a:solidFill>
                <a:latin typeface="Arial"/>
              </a:rPr>
              <a:t>	</a:t>
            </a:r>
            <a:r>
              <a:rPr b="0" lang="en-IE" sz="2400" spc="-1" strike="noStrike">
                <a:solidFill>
                  <a:srgbClr val="eaeaea"/>
                </a:solidFill>
                <a:latin typeface="Arial"/>
              </a:rPr>
              <a:t>production of nuclear power or its fuel cycle</a:t>
            </a: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 </a:t>
            </a:r>
            <a:r>
              <a:rPr b="0" lang="en-IE" sz="2400" spc="-1" strike="noStrike">
                <a:solidFill>
                  <a:srgbClr val="eaeaea"/>
                </a:solidFill>
                <a:latin typeface="Arial"/>
              </a:rPr>
              <a:t>categorize events in a standardised manner to facilitate </a:t>
            </a:r>
            <a:r>
              <a:rPr b="0" lang="en-IE" sz="2400" spc="-1" strike="noStrike">
                <a:solidFill>
                  <a:srgbClr val="eaeaea"/>
                </a:solidFill>
                <a:latin typeface="Arial"/>
              </a:rPr>
              <a:t>	</a:t>
            </a:r>
            <a:r>
              <a:rPr b="0" lang="en-IE" sz="2400" spc="-1" strike="noStrike">
                <a:solidFill>
                  <a:srgbClr val="eaeaea"/>
                </a:solidFill>
                <a:latin typeface="Arial"/>
              </a:rPr>
              <a:t>the </a:t>
            </a:r>
            <a:r>
              <a:rPr b="0" lang="en-IE" sz="2400" spc="-1" strike="noStrike">
                <a:solidFill>
                  <a:srgbClr val="ffcc00"/>
                </a:solidFill>
                <a:latin typeface="Arial"/>
              </a:rPr>
              <a:t>search for events</a:t>
            </a:r>
            <a:r>
              <a:rPr b="0" lang="en-IE" sz="2400" spc="-1" strike="noStrike">
                <a:solidFill>
                  <a:srgbClr val="eaeaea"/>
                </a:solidFill>
                <a:latin typeface="Arial"/>
              </a:rPr>
              <a:t> fitting particular profiles, the </a:t>
            </a:r>
            <a:r>
              <a:rPr b="0" lang="en-IE" sz="2400" spc="-1" strike="noStrike">
                <a:solidFill>
                  <a:srgbClr val="eaeaea"/>
                </a:solidFill>
                <a:latin typeface="Arial"/>
              </a:rPr>
              <a:t>	</a:t>
            </a:r>
            <a:r>
              <a:rPr b="0" lang="en-IE" sz="2400" spc="-1" strike="noStrike">
                <a:solidFill>
                  <a:srgbClr val="ffcc00"/>
                </a:solidFill>
                <a:latin typeface="Arial"/>
              </a:rPr>
              <a:t>identification of causes and the lessons to be </a:t>
            </a:r>
            <a:r>
              <a:rPr b="0" lang="en-IE" sz="2400" spc="-1" strike="noStrike">
                <a:solidFill>
                  <a:srgbClr val="ffcc00"/>
                </a:solidFill>
                <a:latin typeface="Arial"/>
              </a:rPr>
              <a:t>	</a:t>
            </a:r>
            <a:r>
              <a:rPr b="0" lang="en-IE" sz="2400" spc="-1" strike="noStrike">
                <a:solidFill>
                  <a:srgbClr val="ffcc00"/>
                </a:solidFill>
                <a:latin typeface="Arial"/>
              </a:rPr>
              <a:t>learned</a:t>
            </a:r>
            <a:endParaRPr b="0" lang="en-US" sz="2400" spc="-1" strike="noStrike">
              <a:solidFill>
                <a:srgbClr val="eaeaea"/>
              </a:solidFill>
              <a:latin typeface="Times New Roman"/>
            </a:endParaRPr>
          </a:p>
        </p:txBody>
      </p:sp>
      <p:sp>
        <p:nvSpPr>
          <p:cNvPr id="324"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RADEV</a:t>
            </a:r>
            <a:endParaRPr b="0" lang="en-US" sz="36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91D361A7-F041-4AA7-BC20-5D40240237A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25" name=""/>
          <p:cNvSpPr/>
          <p:nvPr/>
        </p:nvSpPr>
        <p:spPr>
          <a:xfrm>
            <a:off x="533520" y="1219320"/>
            <a:ext cx="82296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A centralized RADEV database is being established at IAEA’s headquarters in Vienna to …</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	</a:t>
            </a: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 </a:t>
            </a:r>
            <a:r>
              <a:rPr b="0" lang="en-IE" sz="2400" spc="-1" strike="noStrike">
                <a:solidFill>
                  <a:srgbClr val="eaeaea"/>
                </a:solidFill>
                <a:latin typeface="Arial"/>
              </a:rPr>
              <a:t>provide a means to </a:t>
            </a:r>
            <a:r>
              <a:rPr b="0" lang="en-IE" sz="2400" spc="-1" strike="noStrike">
                <a:solidFill>
                  <a:srgbClr val="ffcc00"/>
                </a:solidFill>
                <a:latin typeface="Arial"/>
              </a:rPr>
              <a:t>analyze trends</a:t>
            </a:r>
            <a:r>
              <a:rPr b="0" lang="en-IE" sz="2400" spc="-1" strike="noStrike">
                <a:solidFill>
                  <a:srgbClr val="eaeaea"/>
                </a:solidFill>
                <a:latin typeface="Arial"/>
              </a:rPr>
              <a:t> in radiation events</a:t>
            </a: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 </a:t>
            </a:r>
            <a:r>
              <a:rPr b="0" lang="en-IE" sz="2400" spc="-1" strike="noStrike">
                <a:solidFill>
                  <a:srgbClr val="eaeaea"/>
                </a:solidFill>
                <a:latin typeface="Arial"/>
              </a:rPr>
              <a:t>provide summary descriptions of events that can be </a:t>
            </a:r>
            <a:r>
              <a:rPr b="0" lang="en-IE" sz="2400" spc="-1" strike="noStrike">
                <a:solidFill>
                  <a:srgbClr val="eaeaea"/>
                </a:solidFill>
                <a:latin typeface="Arial"/>
              </a:rPr>
              <a:t>	</a:t>
            </a:r>
            <a:r>
              <a:rPr b="0" lang="en-IE" sz="2400" spc="-1" strike="noStrike">
                <a:solidFill>
                  <a:srgbClr val="eaeaea"/>
                </a:solidFill>
                <a:latin typeface="Arial"/>
              </a:rPr>
              <a:t>used directly as </a:t>
            </a:r>
            <a:r>
              <a:rPr b="0" lang="en-IE" sz="2400" spc="-1" strike="noStrike">
                <a:solidFill>
                  <a:srgbClr val="ffcc00"/>
                </a:solidFill>
                <a:latin typeface="Arial"/>
              </a:rPr>
              <a:t>training material</a:t>
            </a:r>
            <a:endParaRPr b="0" lang="en-US" sz="2400" spc="-1" strike="noStrike">
              <a:solidFill>
                <a:srgbClr val="eaeaea"/>
              </a:solidFill>
              <a:latin typeface="Times New Roman"/>
            </a:endParaRPr>
          </a:p>
        </p:txBody>
      </p:sp>
      <p:sp>
        <p:nvSpPr>
          <p:cNvPr id="326"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RADEV</a:t>
            </a:r>
            <a:endParaRPr b="0" lang="en-US" sz="36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B2E74281-24E9-4D8B-8A30-1C0F1D67FDD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27" name=""/>
          <p:cNvSpPr/>
          <p:nvPr/>
        </p:nvSpPr>
        <p:spPr>
          <a:xfrm>
            <a:off x="533520" y="1219320"/>
            <a:ext cx="822960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The scope of RADEV:</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Events with actual/potentially </a:t>
            </a:r>
            <a:r>
              <a:rPr b="0" lang="en-IE" sz="2400" spc="-1" strike="noStrike">
                <a:solidFill>
                  <a:srgbClr val="ffcc00"/>
                </a:solidFill>
                <a:latin typeface="Arial"/>
              </a:rPr>
              <a:t>significant</a:t>
            </a:r>
            <a:r>
              <a:rPr b="0" lang="en-IE" sz="2400" spc="-1" strike="noStrike">
                <a:solidFill>
                  <a:srgbClr val="eaeaea"/>
                </a:solidFill>
                <a:latin typeface="Arial"/>
              </a:rPr>
              <a:t> radiation protection consequences and from which lessons can be learned:</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lvl="2" marL="914400">
              <a:lnSpc>
                <a:spcPct val="100000"/>
              </a:lnSpc>
              <a:buClr>
                <a:srgbClr val="eaea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accidents</a:t>
            </a:r>
            <a:endParaRPr b="0" lang="en-US" sz="2400" spc="-1" strike="noStrike">
              <a:solidFill>
                <a:srgbClr val="eaeaea"/>
              </a:solidFill>
              <a:latin typeface="Times New Roman"/>
            </a:endParaRPr>
          </a:p>
          <a:p>
            <a:pPr lvl="2" marL="914400">
              <a:lnSpc>
                <a:spcPct val="100000"/>
              </a:lnSpc>
              <a:buClr>
                <a:srgbClr val="eaea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near misses</a:t>
            </a:r>
            <a:endParaRPr b="0" lang="en-US" sz="2400" spc="-1" strike="noStrike">
              <a:solidFill>
                <a:srgbClr val="eaeaea"/>
              </a:solidFill>
              <a:latin typeface="Times New Roman"/>
            </a:endParaRPr>
          </a:p>
          <a:p>
            <a:pPr lvl="2" marL="914400">
              <a:lnSpc>
                <a:spcPct val="100000"/>
              </a:lnSpc>
              <a:buClr>
                <a:srgbClr val="eaea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any other unusual* events</a:t>
            </a:r>
            <a:endParaRPr b="0" lang="en-US" sz="2400" spc="-1" strike="noStrike">
              <a:solidFill>
                <a:srgbClr val="eaeaea"/>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IE" sz="2200" spc="-1" strike="noStrike">
                <a:solidFill>
                  <a:srgbClr val="eaeaea"/>
                </a:solidFill>
                <a:latin typeface="Arial"/>
              </a:rPr>
              <a:t>(*e.g.: malicious acts, deliberate acts)</a:t>
            </a:r>
            <a:endParaRPr b="0" lang="en-US" sz="2200" spc="-1" strike="noStrike">
              <a:solidFill>
                <a:srgbClr val="eaeaea"/>
              </a:solidFill>
              <a:latin typeface="Times New Roman"/>
            </a:endParaRPr>
          </a:p>
        </p:txBody>
      </p:sp>
      <p:sp>
        <p:nvSpPr>
          <p:cNvPr id="328"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RADEV</a:t>
            </a:r>
            <a:endParaRPr b="0" lang="en-US" sz="36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20EBE4FE-9DFC-449E-AC0C-847606BFCE8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4" name=""/>
          <p:cNvSpPr/>
          <p:nvPr/>
        </p:nvSpPr>
        <p:spPr>
          <a:xfrm>
            <a:off x="0" y="1143000"/>
            <a:ext cx="9144000" cy="5715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5"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ackground</a:t>
            </a:r>
            <a:endParaRPr b="0" lang="en-US" sz="3600" spc="-1" strike="noStrike">
              <a:solidFill>
                <a:srgbClr val="eaeaea"/>
              </a:solidFill>
              <a:latin typeface="Times New Roman"/>
            </a:endParaRPr>
          </a:p>
        </p:txBody>
      </p:sp>
      <p:pic>
        <p:nvPicPr>
          <p:cNvPr id="116" name="" descr=""/>
          <p:cNvPicPr/>
          <p:nvPr/>
        </p:nvPicPr>
        <p:blipFill>
          <a:blip r:embed="rId1"/>
          <a:stretch/>
        </p:blipFill>
        <p:spPr>
          <a:xfrm>
            <a:off x="609480" y="1371600"/>
            <a:ext cx="7925040" cy="5149800"/>
          </a:xfrm>
          <a:prstGeom prst="rect">
            <a:avLst/>
          </a:prstGeom>
          <a:ln w="0">
            <a:noFill/>
          </a:ln>
        </p:spPr>
      </p:pic>
      <p:sp>
        <p:nvSpPr>
          <p:cNvPr id="117" name=""/>
          <p:cNvSpPr/>
          <p:nvPr/>
        </p:nvSpPr>
        <p:spPr>
          <a:xfrm>
            <a:off x="752400" y="1581120"/>
            <a:ext cx="7632720" cy="4943520"/>
          </a:xfrm>
          <a:custGeom>
            <a:avLst/>
            <a:gdLst/>
            <a:ahLst/>
            <a:rect l="l" t="t" r="r" b="b"/>
            <a:pathLst>
              <a:path w="4808" h="3114">
                <a:moveTo>
                  <a:pt x="84" y="2700"/>
                </a:moveTo>
                <a:cubicBezTo>
                  <a:pt x="75" y="2674"/>
                  <a:pt x="59" y="2653"/>
                  <a:pt x="48" y="2628"/>
                </a:cubicBezTo>
                <a:cubicBezTo>
                  <a:pt x="43" y="2616"/>
                  <a:pt x="40" y="2604"/>
                  <a:pt x="36" y="2592"/>
                </a:cubicBezTo>
                <a:cubicBezTo>
                  <a:pt x="34" y="2586"/>
                  <a:pt x="30" y="2574"/>
                  <a:pt x="30" y="2574"/>
                </a:cubicBezTo>
                <a:cubicBezTo>
                  <a:pt x="19" y="2426"/>
                  <a:pt x="15" y="2278"/>
                  <a:pt x="0" y="2130"/>
                </a:cubicBezTo>
                <a:cubicBezTo>
                  <a:pt x="2" y="2084"/>
                  <a:pt x="3" y="2038"/>
                  <a:pt x="6" y="1992"/>
                </a:cubicBezTo>
                <a:cubicBezTo>
                  <a:pt x="8" y="1957"/>
                  <a:pt x="34" y="1860"/>
                  <a:pt x="54" y="1830"/>
                </a:cubicBezTo>
                <a:cubicBezTo>
                  <a:pt x="62" y="1818"/>
                  <a:pt x="73" y="1808"/>
                  <a:pt x="78" y="1794"/>
                </a:cubicBezTo>
                <a:cubicBezTo>
                  <a:pt x="88" y="1765"/>
                  <a:pt x="97" y="1726"/>
                  <a:pt x="126" y="1716"/>
                </a:cubicBezTo>
                <a:cubicBezTo>
                  <a:pt x="135" y="1690"/>
                  <a:pt x="147" y="1670"/>
                  <a:pt x="156" y="1644"/>
                </a:cubicBezTo>
                <a:cubicBezTo>
                  <a:pt x="153" y="1582"/>
                  <a:pt x="152" y="1507"/>
                  <a:pt x="132" y="1446"/>
                </a:cubicBezTo>
                <a:cubicBezTo>
                  <a:pt x="126" y="1402"/>
                  <a:pt x="125" y="1357"/>
                  <a:pt x="114" y="1314"/>
                </a:cubicBezTo>
                <a:cubicBezTo>
                  <a:pt x="118" y="1203"/>
                  <a:pt x="114" y="1157"/>
                  <a:pt x="144" y="1068"/>
                </a:cubicBezTo>
                <a:cubicBezTo>
                  <a:pt x="155" y="1034"/>
                  <a:pt x="161" y="998"/>
                  <a:pt x="192" y="978"/>
                </a:cubicBezTo>
                <a:cubicBezTo>
                  <a:pt x="204" y="941"/>
                  <a:pt x="231" y="895"/>
                  <a:pt x="270" y="882"/>
                </a:cubicBezTo>
                <a:cubicBezTo>
                  <a:pt x="278" y="858"/>
                  <a:pt x="294" y="852"/>
                  <a:pt x="312" y="834"/>
                </a:cubicBezTo>
                <a:cubicBezTo>
                  <a:pt x="324" y="799"/>
                  <a:pt x="356" y="779"/>
                  <a:pt x="390" y="768"/>
                </a:cubicBezTo>
                <a:cubicBezTo>
                  <a:pt x="406" y="752"/>
                  <a:pt x="417" y="729"/>
                  <a:pt x="438" y="720"/>
                </a:cubicBezTo>
                <a:cubicBezTo>
                  <a:pt x="472" y="705"/>
                  <a:pt x="469" y="715"/>
                  <a:pt x="492" y="696"/>
                </a:cubicBezTo>
                <a:cubicBezTo>
                  <a:pt x="525" y="669"/>
                  <a:pt x="577" y="620"/>
                  <a:pt x="618" y="606"/>
                </a:cubicBezTo>
                <a:cubicBezTo>
                  <a:pt x="622" y="600"/>
                  <a:pt x="625" y="593"/>
                  <a:pt x="630" y="588"/>
                </a:cubicBezTo>
                <a:cubicBezTo>
                  <a:pt x="635" y="583"/>
                  <a:pt x="643" y="581"/>
                  <a:pt x="648" y="576"/>
                </a:cubicBezTo>
                <a:cubicBezTo>
                  <a:pt x="697" y="520"/>
                  <a:pt x="650" y="555"/>
                  <a:pt x="690" y="528"/>
                </a:cubicBezTo>
                <a:cubicBezTo>
                  <a:pt x="733" y="464"/>
                  <a:pt x="666" y="561"/>
                  <a:pt x="720" y="492"/>
                </a:cubicBezTo>
                <a:cubicBezTo>
                  <a:pt x="760" y="441"/>
                  <a:pt x="766" y="418"/>
                  <a:pt x="828" y="390"/>
                </a:cubicBezTo>
                <a:cubicBezTo>
                  <a:pt x="903" y="357"/>
                  <a:pt x="825" y="404"/>
                  <a:pt x="900" y="354"/>
                </a:cubicBezTo>
                <a:cubicBezTo>
                  <a:pt x="906" y="350"/>
                  <a:pt x="918" y="342"/>
                  <a:pt x="918" y="342"/>
                </a:cubicBezTo>
                <a:cubicBezTo>
                  <a:pt x="950" y="294"/>
                  <a:pt x="985" y="277"/>
                  <a:pt x="1032" y="246"/>
                </a:cubicBezTo>
                <a:cubicBezTo>
                  <a:pt x="1102" y="200"/>
                  <a:pt x="1168" y="153"/>
                  <a:pt x="1248" y="126"/>
                </a:cubicBezTo>
                <a:cubicBezTo>
                  <a:pt x="1284" y="114"/>
                  <a:pt x="1318" y="90"/>
                  <a:pt x="1356" y="84"/>
                </a:cubicBezTo>
                <a:cubicBezTo>
                  <a:pt x="1380" y="80"/>
                  <a:pt x="1428" y="72"/>
                  <a:pt x="1428" y="72"/>
                </a:cubicBezTo>
                <a:cubicBezTo>
                  <a:pt x="1561" y="82"/>
                  <a:pt x="1667" y="103"/>
                  <a:pt x="1800" y="108"/>
                </a:cubicBezTo>
                <a:cubicBezTo>
                  <a:pt x="1950" y="146"/>
                  <a:pt x="2094" y="171"/>
                  <a:pt x="2250" y="180"/>
                </a:cubicBezTo>
                <a:cubicBezTo>
                  <a:pt x="2378" y="198"/>
                  <a:pt x="2306" y="193"/>
                  <a:pt x="2466" y="186"/>
                </a:cubicBezTo>
                <a:cubicBezTo>
                  <a:pt x="2552" y="157"/>
                  <a:pt x="2642" y="136"/>
                  <a:pt x="2730" y="114"/>
                </a:cubicBezTo>
                <a:cubicBezTo>
                  <a:pt x="2780" y="101"/>
                  <a:pt x="2825" y="72"/>
                  <a:pt x="2874" y="60"/>
                </a:cubicBezTo>
                <a:cubicBezTo>
                  <a:pt x="2971" y="36"/>
                  <a:pt x="3062" y="13"/>
                  <a:pt x="3162" y="0"/>
                </a:cubicBezTo>
                <a:cubicBezTo>
                  <a:pt x="3248" y="2"/>
                  <a:pt x="3334" y="1"/>
                  <a:pt x="3420" y="6"/>
                </a:cubicBezTo>
                <a:cubicBezTo>
                  <a:pt x="3428" y="6"/>
                  <a:pt x="3461" y="21"/>
                  <a:pt x="3474" y="24"/>
                </a:cubicBezTo>
                <a:cubicBezTo>
                  <a:pt x="3522" y="36"/>
                  <a:pt x="3567" y="53"/>
                  <a:pt x="3612" y="72"/>
                </a:cubicBezTo>
                <a:cubicBezTo>
                  <a:pt x="3642" y="85"/>
                  <a:pt x="3677" y="92"/>
                  <a:pt x="3708" y="102"/>
                </a:cubicBezTo>
                <a:cubicBezTo>
                  <a:pt x="3730" y="109"/>
                  <a:pt x="3762" y="132"/>
                  <a:pt x="3780" y="144"/>
                </a:cubicBezTo>
                <a:cubicBezTo>
                  <a:pt x="3844" y="187"/>
                  <a:pt x="3913" y="227"/>
                  <a:pt x="3978" y="270"/>
                </a:cubicBezTo>
                <a:cubicBezTo>
                  <a:pt x="4047" y="316"/>
                  <a:pt x="4125" y="350"/>
                  <a:pt x="4194" y="396"/>
                </a:cubicBezTo>
                <a:cubicBezTo>
                  <a:pt x="4228" y="419"/>
                  <a:pt x="4264" y="461"/>
                  <a:pt x="4302" y="474"/>
                </a:cubicBezTo>
                <a:cubicBezTo>
                  <a:pt x="4324" y="481"/>
                  <a:pt x="4343" y="491"/>
                  <a:pt x="4362" y="504"/>
                </a:cubicBezTo>
                <a:cubicBezTo>
                  <a:pt x="4385" y="538"/>
                  <a:pt x="4429" y="571"/>
                  <a:pt x="4464" y="594"/>
                </a:cubicBezTo>
                <a:cubicBezTo>
                  <a:pt x="4492" y="636"/>
                  <a:pt x="4476" y="622"/>
                  <a:pt x="4506" y="642"/>
                </a:cubicBezTo>
                <a:cubicBezTo>
                  <a:pt x="4549" y="706"/>
                  <a:pt x="4482" y="609"/>
                  <a:pt x="4536" y="678"/>
                </a:cubicBezTo>
                <a:cubicBezTo>
                  <a:pt x="4561" y="711"/>
                  <a:pt x="4578" y="750"/>
                  <a:pt x="4596" y="786"/>
                </a:cubicBezTo>
                <a:cubicBezTo>
                  <a:pt x="4605" y="804"/>
                  <a:pt x="4618" y="821"/>
                  <a:pt x="4626" y="840"/>
                </a:cubicBezTo>
                <a:cubicBezTo>
                  <a:pt x="4631" y="852"/>
                  <a:pt x="4638" y="876"/>
                  <a:pt x="4638" y="876"/>
                </a:cubicBezTo>
                <a:cubicBezTo>
                  <a:pt x="4640" y="934"/>
                  <a:pt x="4639" y="992"/>
                  <a:pt x="4644" y="1050"/>
                </a:cubicBezTo>
                <a:cubicBezTo>
                  <a:pt x="4645" y="1066"/>
                  <a:pt x="4651" y="1082"/>
                  <a:pt x="4656" y="1098"/>
                </a:cubicBezTo>
                <a:cubicBezTo>
                  <a:pt x="4660" y="1110"/>
                  <a:pt x="4668" y="1134"/>
                  <a:pt x="4668" y="1134"/>
                </a:cubicBezTo>
                <a:cubicBezTo>
                  <a:pt x="4673" y="1209"/>
                  <a:pt x="4686" y="1277"/>
                  <a:pt x="4704" y="1350"/>
                </a:cubicBezTo>
                <a:cubicBezTo>
                  <a:pt x="4706" y="1392"/>
                  <a:pt x="4705" y="1434"/>
                  <a:pt x="4710" y="1476"/>
                </a:cubicBezTo>
                <a:cubicBezTo>
                  <a:pt x="4715" y="1524"/>
                  <a:pt x="4720" y="1499"/>
                  <a:pt x="4734" y="1530"/>
                </a:cubicBezTo>
                <a:cubicBezTo>
                  <a:pt x="4755" y="1577"/>
                  <a:pt x="4778" y="1626"/>
                  <a:pt x="4794" y="1674"/>
                </a:cubicBezTo>
                <a:cubicBezTo>
                  <a:pt x="4800" y="1791"/>
                  <a:pt x="4808" y="1887"/>
                  <a:pt x="4794" y="2010"/>
                </a:cubicBezTo>
                <a:cubicBezTo>
                  <a:pt x="4792" y="2024"/>
                  <a:pt x="4778" y="2034"/>
                  <a:pt x="4770" y="2046"/>
                </a:cubicBezTo>
                <a:cubicBezTo>
                  <a:pt x="4763" y="2057"/>
                  <a:pt x="4762" y="2070"/>
                  <a:pt x="4758" y="2082"/>
                </a:cubicBezTo>
                <a:cubicBezTo>
                  <a:pt x="4732" y="2160"/>
                  <a:pt x="4702" y="2235"/>
                  <a:pt x="4686" y="2316"/>
                </a:cubicBezTo>
                <a:cubicBezTo>
                  <a:pt x="4679" y="2416"/>
                  <a:pt x="4664" y="2465"/>
                  <a:pt x="4626" y="2550"/>
                </a:cubicBezTo>
                <a:cubicBezTo>
                  <a:pt x="4618" y="2567"/>
                  <a:pt x="4621" y="2591"/>
                  <a:pt x="4608" y="2604"/>
                </a:cubicBezTo>
                <a:cubicBezTo>
                  <a:pt x="4586" y="2626"/>
                  <a:pt x="4573" y="2656"/>
                  <a:pt x="4548" y="2676"/>
                </a:cubicBezTo>
                <a:cubicBezTo>
                  <a:pt x="4537" y="2685"/>
                  <a:pt x="4522" y="2690"/>
                  <a:pt x="4512" y="2700"/>
                </a:cubicBezTo>
                <a:cubicBezTo>
                  <a:pt x="4481" y="2731"/>
                  <a:pt x="4458" y="2746"/>
                  <a:pt x="4422" y="2766"/>
                </a:cubicBezTo>
                <a:cubicBezTo>
                  <a:pt x="4411" y="2772"/>
                  <a:pt x="4387" y="2795"/>
                  <a:pt x="4368" y="2796"/>
                </a:cubicBezTo>
                <a:cubicBezTo>
                  <a:pt x="4314" y="2800"/>
                  <a:pt x="4260" y="2800"/>
                  <a:pt x="4206" y="2802"/>
                </a:cubicBezTo>
                <a:cubicBezTo>
                  <a:pt x="4171" y="2808"/>
                  <a:pt x="4140" y="2812"/>
                  <a:pt x="4110" y="2832"/>
                </a:cubicBezTo>
                <a:cubicBezTo>
                  <a:pt x="4096" y="2853"/>
                  <a:pt x="4086" y="2866"/>
                  <a:pt x="4062" y="2874"/>
                </a:cubicBezTo>
                <a:cubicBezTo>
                  <a:pt x="4013" y="2947"/>
                  <a:pt x="3911" y="3000"/>
                  <a:pt x="3828" y="3018"/>
                </a:cubicBezTo>
                <a:cubicBezTo>
                  <a:pt x="3801" y="3024"/>
                  <a:pt x="3779" y="3047"/>
                  <a:pt x="3750" y="3048"/>
                </a:cubicBezTo>
                <a:cubicBezTo>
                  <a:pt x="3676" y="3052"/>
                  <a:pt x="3602" y="3053"/>
                  <a:pt x="3528" y="3054"/>
                </a:cubicBezTo>
                <a:cubicBezTo>
                  <a:pt x="3388" y="3057"/>
                  <a:pt x="3248" y="3058"/>
                  <a:pt x="3108" y="3060"/>
                </a:cubicBezTo>
                <a:cubicBezTo>
                  <a:pt x="2820" y="3079"/>
                  <a:pt x="2984" y="3071"/>
                  <a:pt x="2616" y="3078"/>
                </a:cubicBezTo>
                <a:cubicBezTo>
                  <a:pt x="2372" y="3067"/>
                  <a:pt x="2129" y="3079"/>
                  <a:pt x="1884" y="3084"/>
                </a:cubicBezTo>
                <a:cubicBezTo>
                  <a:pt x="1793" y="3114"/>
                  <a:pt x="1692" y="3088"/>
                  <a:pt x="1596" y="3102"/>
                </a:cubicBezTo>
                <a:cubicBezTo>
                  <a:pt x="1402" y="3098"/>
                  <a:pt x="1314" y="3089"/>
                  <a:pt x="1152" y="3078"/>
                </a:cubicBezTo>
                <a:cubicBezTo>
                  <a:pt x="1072" y="3051"/>
                  <a:pt x="961" y="3075"/>
                  <a:pt x="882" y="3078"/>
                </a:cubicBezTo>
                <a:cubicBezTo>
                  <a:pt x="767" y="3097"/>
                  <a:pt x="834" y="3089"/>
                  <a:pt x="678" y="3096"/>
                </a:cubicBezTo>
                <a:cubicBezTo>
                  <a:pt x="630" y="3090"/>
                  <a:pt x="567" y="3088"/>
                  <a:pt x="522" y="3066"/>
                </a:cubicBezTo>
                <a:cubicBezTo>
                  <a:pt x="485" y="3048"/>
                  <a:pt x="453" y="3019"/>
                  <a:pt x="414" y="3006"/>
                </a:cubicBezTo>
                <a:cubicBezTo>
                  <a:pt x="408" y="3000"/>
                  <a:pt x="403" y="2993"/>
                  <a:pt x="396" y="2988"/>
                </a:cubicBezTo>
                <a:cubicBezTo>
                  <a:pt x="385" y="2979"/>
                  <a:pt x="360" y="2964"/>
                  <a:pt x="360" y="2964"/>
                </a:cubicBezTo>
                <a:cubicBezTo>
                  <a:pt x="346" y="2942"/>
                  <a:pt x="333" y="2942"/>
                  <a:pt x="312" y="2928"/>
                </a:cubicBezTo>
                <a:cubicBezTo>
                  <a:pt x="296" y="2904"/>
                  <a:pt x="276" y="2878"/>
                  <a:pt x="252" y="2862"/>
                </a:cubicBezTo>
                <a:cubicBezTo>
                  <a:pt x="239" y="2842"/>
                  <a:pt x="203" y="2789"/>
                  <a:pt x="186" y="2778"/>
                </a:cubicBezTo>
                <a:cubicBezTo>
                  <a:pt x="170" y="2768"/>
                  <a:pt x="150" y="2766"/>
                  <a:pt x="132" y="2760"/>
                </a:cubicBezTo>
                <a:cubicBezTo>
                  <a:pt x="126" y="2758"/>
                  <a:pt x="114" y="2754"/>
                  <a:pt x="114" y="2754"/>
                </a:cubicBezTo>
                <a:cubicBezTo>
                  <a:pt x="108" y="2746"/>
                  <a:pt x="100" y="2739"/>
                  <a:pt x="96" y="2730"/>
                </a:cubicBezTo>
                <a:cubicBezTo>
                  <a:pt x="83" y="2705"/>
                  <a:pt x="84" y="2679"/>
                  <a:pt x="84" y="2700"/>
                </a:cubicBezTo>
                <a:close/>
              </a:path>
            </a:pathLst>
          </a:custGeom>
          <a:noFill/>
          <a:ln w="572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8" name=""/>
          <p:cNvSpPr/>
          <p:nvPr/>
        </p:nvSpPr>
        <p:spPr>
          <a:xfrm>
            <a:off x="5081760" y="2390760"/>
            <a:ext cx="2004840" cy="3343320"/>
          </a:xfrm>
          <a:custGeom>
            <a:avLst/>
            <a:gdLst/>
            <a:ahLst/>
            <a:rect l="l" t="t" r="r" b="b"/>
            <a:pathLst>
              <a:path w="1263" h="2106">
                <a:moveTo>
                  <a:pt x="123" y="1818"/>
                </a:moveTo>
                <a:cubicBezTo>
                  <a:pt x="163" y="1810"/>
                  <a:pt x="190" y="1794"/>
                  <a:pt x="225" y="1776"/>
                </a:cubicBezTo>
                <a:cubicBezTo>
                  <a:pt x="243" y="1767"/>
                  <a:pt x="279" y="1746"/>
                  <a:pt x="279" y="1746"/>
                </a:cubicBezTo>
                <a:cubicBezTo>
                  <a:pt x="292" y="1706"/>
                  <a:pt x="309" y="1674"/>
                  <a:pt x="333" y="1638"/>
                </a:cubicBezTo>
                <a:cubicBezTo>
                  <a:pt x="345" y="1619"/>
                  <a:pt x="331" y="1618"/>
                  <a:pt x="351" y="1602"/>
                </a:cubicBezTo>
                <a:cubicBezTo>
                  <a:pt x="356" y="1598"/>
                  <a:pt x="363" y="1599"/>
                  <a:pt x="369" y="1596"/>
                </a:cubicBezTo>
                <a:cubicBezTo>
                  <a:pt x="386" y="1588"/>
                  <a:pt x="392" y="1579"/>
                  <a:pt x="405" y="1566"/>
                </a:cubicBezTo>
                <a:cubicBezTo>
                  <a:pt x="424" y="1509"/>
                  <a:pt x="406" y="1518"/>
                  <a:pt x="459" y="1500"/>
                </a:cubicBezTo>
                <a:cubicBezTo>
                  <a:pt x="465" y="1498"/>
                  <a:pt x="472" y="1498"/>
                  <a:pt x="477" y="1494"/>
                </a:cubicBezTo>
                <a:cubicBezTo>
                  <a:pt x="486" y="1488"/>
                  <a:pt x="517" y="1467"/>
                  <a:pt x="531" y="1458"/>
                </a:cubicBezTo>
                <a:cubicBezTo>
                  <a:pt x="537" y="1454"/>
                  <a:pt x="549" y="1446"/>
                  <a:pt x="549" y="1446"/>
                </a:cubicBezTo>
                <a:cubicBezTo>
                  <a:pt x="553" y="1440"/>
                  <a:pt x="556" y="1433"/>
                  <a:pt x="561" y="1428"/>
                </a:cubicBezTo>
                <a:cubicBezTo>
                  <a:pt x="566" y="1423"/>
                  <a:pt x="578" y="1423"/>
                  <a:pt x="579" y="1416"/>
                </a:cubicBezTo>
                <a:cubicBezTo>
                  <a:pt x="587" y="1350"/>
                  <a:pt x="565" y="1301"/>
                  <a:pt x="513" y="1266"/>
                </a:cubicBezTo>
                <a:cubicBezTo>
                  <a:pt x="502" y="1233"/>
                  <a:pt x="493" y="1224"/>
                  <a:pt x="507" y="1188"/>
                </a:cubicBezTo>
                <a:cubicBezTo>
                  <a:pt x="512" y="1175"/>
                  <a:pt x="523" y="1164"/>
                  <a:pt x="531" y="1152"/>
                </a:cubicBezTo>
                <a:cubicBezTo>
                  <a:pt x="538" y="1141"/>
                  <a:pt x="567" y="1140"/>
                  <a:pt x="567" y="1140"/>
                </a:cubicBezTo>
                <a:cubicBezTo>
                  <a:pt x="594" y="1100"/>
                  <a:pt x="588" y="1098"/>
                  <a:pt x="621" y="1080"/>
                </a:cubicBezTo>
                <a:cubicBezTo>
                  <a:pt x="634" y="1073"/>
                  <a:pt x="657" y="1056"/>
                  <a:pt x="657" y="1056"/>
                </a:cubicBezTo>
                <a:cubicBezTo>
                  <a:pt x="661" y="1045"/>
                  <a:pt x="673" y="1026"/>
                  <a:pt x="645" y="1026"/>
                </a:cubicBezTo>
                <a:cubicBezTo>
                  <a:pt x="627" y="1026"/>
                  <a:pt x="542" y="1051"/>
                  <a:pt x="525" y="1062"/>
                </a:cubicBezTo>
                <a:cubicBezTo>
                  <a:pt x="513" y="1070"/>
                  <a:pt x="489" y="1086"/>
                  <a:pt x="489" y="1086"/>
                </a:cubicBezTo>
                <a:cubicBezTo>
                  <a:pt x="461" y="1127"/>
                  <a:pt x="479" y="1127"/>
                  <a:pt x="447" y="1116"/>
                </a:cubicBezTo>
                <a:cubicBezTo>
                  <a:pt x="431" y="1091"/>
                  <a:pt x="426" y="1066"/>
                  <a:pt x="417" y="1038"/>
                </a:cubicBezTo>
                <a:cubicBezTo>
                  <a:pt x="419" y="1012"/>
                  <a:pt x="419" y="986"/>
                  <a:pt x="423" y="960"/>
                </a:cubicBezTo>
                <a:cubicBezTo>
                  <a:pt x="429" y="922"/>
                  <a:pt x="451" y="884"/>
                  <a:pt x="459" y="846"/>
                </a:cubicBezTo>
                <a:cubicBezTo>
                  <a:pt x="471" y="791"/>
                  <a:pt x="473" y="733"/>
                  <a:pt x="477" y="678"/>
                </a:cubicBezTo>
                <a:cubicBezTo>
                  <a:pt x="475" y="616"/>
                  <a:pt x="475" y="554"/>
                  <a:pt x="471" y="492"/>
                </a:cubicBezTo>
                <a:cubicBezTo>
                  <a:pt x="470" y="470"/>
                  <a:pt x="447" y="457"/>
                  <a:pt x="441" y="438"/>
                </a:cubicBezTo>
                <a:cubicBezTo>
                  <a:pt x="419" y="372"/>
                  <a:pt x="355" y="285"/>
                  <a:pt x="297" y="246"/>
                </a:cubicBezTo>
                <a:cubicBezTo>
                  <a:pt x="235" y="205"/>
                  <a:pt x="169" y="173"/>
                  <a:pt x="99" y="150"/>
                </a:cubicBezTo>
                <a:cubicBezTo>
                  <a:pt x="87" y="146"/>
                  <a:pt x="75" y="141"/>
                  <a:pt x="63" y="138"/>
                </a:cubicBezTo>
                <a:cubicBezTo>
                  <a:pt x="47" y="134"/>
                  <a:pt x="15" y="126"/>
                  <a:pt x="15" y="126"/>
                </a:cubicBezTo>
                <a:cubicBezTo>
                  <a:pt x="0" y="82"/>
                  <a:pt x="34" y="84"/>
                  <a:pt x="69" y="72"/>
                </a:cubicBezTo>
                <a:cubicBezTo>
                  <a:pt x="148" y="46"/>
                  <a:pt x="201" y="25"/>
                  <a:pt x="285" y="18"/>
                </a:cubicBezTo>
                <a:cubicBezTo>
                  <a:pt x="309" y="12"/>
                  <a:pt x="332" y="5"/>
                  <a:pt x="357" y="0"/>
                </a:cubicBezTo>
                <a:cubicBezTo>
                  <a:pt x="410" y="4"/>
                  <a:pt x="454" y="13"/>
                  <a:pt x="507" y="18"/>
                </a:cubicBezTo>
                <a:cubicBezTo>
                  <a:pt x="559" y="35"/>
                  <a:pt x="611" y="49"/>
                  <a:pt x="663" y="66"/>
                </a:cubicBezTo>
                <a:cubicBezTo>
                  <a:pt x="677" y="71"/>
                  <a:pt x="685" y="87"/>
                  <a:pt x="699" y="90"/>
                </a:cubicBezTo>
                <a:cubicBezTo>
                  <a:pt x="723" y="96"/>
                  <a:pt x="739" y="100"/>
                  <a:pt x="759" y="114"/>
                </a:cubicBezTo>
                <a:cubicBezTo>
                  <a:pt x="793" y="166"/>
                  <a:pt x="748" y="105"/>
                  <a:pt x="789" y="138"/>
                </a:cubicBezTo>
                <a:cubicBezTo>
                  <a:pt x="795" y="143"/>
                  <a:pt x="796" y="151"/>
                  <a:pt x="801" y="156"/>
                </a:cubicBezTo>
                <a:cubicBezTo>
                  <a:pt x="806" y="161"/>
                  <a:pt x="813" y="164"/>
                  <a:pt x="819" y="168"/>
                </a:cubicBezTo>
                <a:cubicBezTo>
                  <a:pt x="838" y="197"/>
                  <a:pt x="874" y="203"/>
                  <a:pt x="903" y="222"/>
                </a:cubicBezTo>
                <a:cubicBezTo>
                  <a:pt x="914" y="256"/>
                  <a:pt x="936" y="261"/>
                  <a:pt x="957" y="288"/>
                </a:cubicBezTo>
                <a:cubicBezTo>
                  <a:pt x="988" y="328"/>
                  <a:pt x="1010" y="380"/>
                  <a:pt x="1053" y="408"/>
                </a:cubicBezTo>
                <a:cubicBezTo>
                  <a:pt x="1066" y="447"/>
                  <a:pt x="1096" y="482"/>
                  <a:pt x="1119" y="516"/>
                </a:cubicBezTo>
                <a:cubicBezTo>
                  <a:pt x="1141" y="549"/>
                  <a:pt x="1154" y="589"/>
                  <a:pt x="1173" y="624"/>
                </a:cubicBezTo>
                <a:cubicBezTo>
                  <a:pt x="1188" y="651"/>
                  <a:pt x="1206" y="668"/>
                  <a:pt x="1215" y="696"/>
                </a:cubicBezTo>
                <a:cubicBezTo>
                  <a:pt x="1221" y="757"/>
                  <a:pt x="1232" y="818"/>
                  <a:pt x="1251" y="876"/>
                </a:cubicBezTo>
                <a:cubicBezTo>
                  <a:pt x="1259" y="899"/>
                  <a:pt x="1263" y="948"/>
                  <a:pt x="1263" y="948"/>
                </a:cubicBezTo>
                <a:cubicBezTo>
                  <a:pt x="1254" y="1040"/>
                  <a:pt x="1261" y="1143"/>
                  <a:pt x="1239" y="1230"/>
                </a:cubicBezTo>
                <a:cubicBezTo>
                  <a:pt x="1230" y="1340"/>
                  <a:pt x="1187" y="1442"/>
                  <a:pt x="1143" y="1542"/>
                </a:cubicBezTo>
                <a:cubicBezTo>
                  <a:pt x="1124" y="1584"/>
                  <a:pt x="1120" y="1612"/>
                  <a:pt x="1095" y="1650"/>
                </a:cubicBezTo>
                <a:cubicBezTo>
                  <a:pt x="1072" y="1685"/>
                  <a:pt x="1058" y="1728"/>
                  <a:pt x="1023" y="1752"/>
                </a:cubicBezTo>
                <a:cubicBezTo>
                  <a:pt x="1016" y="1763"/>
                  <a:pt x="975" y="1834"/>
                  <a:pt x="963" y="1842"/>
                </a:cubicBezTo>
                <a:cubicBezTo>
                  <a:pt x="933" y="1862"/>
                  <a:pt x="894" y="1883"/>
                  <a:pt x="873" y="1914"/>
                </a:cubicBezTo>
                <a:cubicBezTo>
                  <a:pt x="865" y="1926"/>
                  <a:pt x="857" y="1938"/>
                  <a:pt x="849" y="1950"/>
                </a:cubicBezTo>
                <a:cubicBezTo>
                  <a:pt x="845" y="1956"/>
                  <a:pt x="844" y="1966"/>
                  <a:pt x="837" y="1968"/>
                </a:cubicBezTo>
                <a:cubicBezTo>
                  <a:pt x="806" y="1978"/>
                  <a:pt x="776" y="1996"/>
                  <a:pt x="747" y="2010"/>
                </a:cubicBezTo>
                <a:cubicBezTo>
                  <a:pt x="705" y="2031"/>
                  <a:pt x="661" y="2056"/>
                  <a:pt x="621" y="2082"/>
                </a:cubicBezTo>
                <a:cubicBezTo>
                  <a:pt x="605" y="2093"/>
                  <a:pt x="567" y="2106"/>
                  <a:pt x="567" y="2106"/>
                </a:cubicBezTo>
                <a:cubicBezTo>
                  <a:pt x="515" y="2104"/>
                  <a:pt x="463" y="2105"/>
                  <a:pt x="411" y="2100"/>
                </a:cubicBezTo>
                <a:cubicBezTo>
                  <a:pt x="364" y="2096"/>
                  <a:pt x="341" y="2065"/>
                  <a:pt x="303" y="2052"/>
                </a:cubicBezTo>
                <a:cubicBezTo>
                  <a:pt x="267" y="2040"/>
                  <a:pt x="256" y="2032"/>
                  <a:pt x="225" y="2010"/>
                </a:cubicBezTo>
                <a:cubicBezTo>
                  <a:pt x="213" y="2002"/>
                  <a:pt x="201" y="1994"/>
                  <a:pt x="189" y="1986"/>
                </a:cubicBezTo>
                <a:cubicBezTo>
                  <a:pt x="183" y="1982"/>
                  <a:pt x="171" y="1974"/>
                  <a:pt x="171" y="1974"/>
                </a:cubicBezTo>
                <a:cubicBezTo>
                  <a:pt x="139" y="1926"/>
                  <a:pt x="181" y="1984"/>
                  <a:pt x="141" y="1944"/>
                </a:cubicBezTo>
                <a:cubicBezTo>
                  <a:pt x="106" y="1909"/>
                  <a:pt x="119" y="1861"/>
                  <a:pt x="123" y="1818"/>
                </a:cubicBezTo>
                <a:close/>
              </a:path>
            </a:pathLst>
          </a:custGeom>
          <a:solidFill>
            <a:srgbClr val="00ff00">
              <a:alpha val="50000"/>
            </a:srgbClr>
          </a:solidFill>
          <a:ln w="57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9" name=""/>
          <p:cNvSpPr/>
          <p:nvPr/>
        </p:nvSpPr>
        <p:spPr>
          <a:xfrm>
            <a:off x="2295360" y="2495520"/>
            <a:ext cx="2381400" cy="3267000"/>
          </a:xfrm>
          <a:custGeom>
            <a:avLst/>
            <a:gdLst/>
            <a:ahLst/>
            <a:rect l="l" t="t" r="r" b="b"/>
            <a:pathLst>
              <a:path w="1500" h="2058">
                <a:moveTo>
                  <a:pt x="1392" y="1518"/>
                </a:moveTo>
                <a:cubicBezTo>
                  <a:pt x="1369" y="1541"/>
                  <a:pt x="1367" y="1567"/>
                  <a:pt x="1344" y="1590"/>
                </a:cubicBezTo>
                <a:cubicBezTo>
                  <a:pt x="1333" y="1645"/>
                  <a:pt x="1306" y="1695"/>
                  <a:pt x="1284" y="1746"/>
                </a:cubicBezTo>
                <a:cubicBezTo>
                  <a:pt x="1269" y="1780"/>
                  <a:pt x="1262" y="1829"/>
                  <a:pt x="1224" y="1842"/>
                </a:cubicBezTo>
                <a:cubicBezTo>
                  <a:pt x="1154" y="1912"/>
                  <a:pt x="1074" y="1970"/>
                  <a:pt x="984" y="2010"/>
                </a:cubicBezTo>
                <a:cubicBezTo>
                  <a:pt x="956" y="2023"/>
                  <a:pt x="923" y="2036"/>
                  <a:pt x="894" y="2046"/>
                </a:cubicBezTo>
                <a:cubicBezTo>
                  <a:pt x="882" y="2050"/>
                  <a:pt x="858" y="2058"/>
                  <a:pt x="858" y="2058"/>
                </a:cubicBezTo>
                <a:cubicBezTo>
                  <a:pt x="804" y="2056"/>
                  <a:pt x="750" y="2057"/>
                  <a:pt x="696" y="2052"/>
                </a:cubicBezTo>
                <a:cubicBezTo>
                  <a:pt x="689" y="2051"/>
                  <a:pt x="685" y="2043"/>
                  <a:pt x="678" y="2040"/>
                </a:cubicBezTo>
                <a:cubicBezTo>
                  <a:pt x="652" y="2029"/>
                  <a:pt x="622" y="2028"/>
                  <a:pt x="594" y="2022"/>
                </a:cubicBezTo>
                <a:cubicBezTo>
                  <a:pt x="577" y="2019"/>
                  <a:pt x="555" y="2006"/>
                  <a:pt x="540" y="1998"/>
                </a:cubicBezTo>
                <a:cubicBezTo>
                  <a:pt x="527" y="1991"/>
                  <a:pt x="504" y="1974"/>
                  <a:pt x="504" y="1974"/>
                </a:cubicBezTo>
                <a:cubicBezTo>
                  <a:pt x="496" y="1962"/>
                  <a:pt x="488" y="1950"/>
                  <a:pt x="480" y="1938"/>
                </a:cubicBezTo>
                <a:cubicBezTo>
                  <a:pt x="476" y="1933"/>
                  <a:pt x="468" y="1935"/>
                  <a:pt x="462" y="1932"/>
                </a:cubicBezTo>
                <a:cubicBezTo>
                  <a:pt x="449" y="1925"/>
                  <a:pt x="436" y="1918"/>
                  <a:pt x="426" y="1908"/>
                </a:cubicBezTo>
                <a:cubicBezTo>
                  <a:pt x="409" y="1891"/>
                  <a:pt x="398" y="1874"/>
                  <a:pt x="378" y="1860"/>
                </a:cubicBezTo>
                <a:cubicBezTo>
                  <a:pt x="363" y="1838"/>
                  <a:pt x="340" y="1815"/>
                  <a:pt x="318" y="1800"/>
                </a:cubicBezTo>
                <a:cubicBezTo>
                  <a:pt x="309" y="1787"/>
                  <a:pt x="297" y="1777"/>
                  <a:pt x="288" y="1764"/>
                </a:cubicBezTo>
                <a:cubicBezTo>
                  <a:pt x="284" y="1759"/>
                  <a:pt x="286" y="1751"/>
                  <a:pt x="282" y="1746"/>
                </a:cubicBezTo>
                <a:cubicBezTo>
                  <a:pt x="270" y="1728"/>
                  <a:pt x="251" y="1710"/>
                  <a:pt x="234" y="1698"/>
                </a:cubicBezTo>
                <a:cubicBezTo>
                  <a:pt x="230" y="1692"/>
                  <a:pt x="227" y="1685"/>
                  <a:pt x="222" y="1680"/>
                </a:cubicBezTo>
                <a:cubicBezTo>
                  <a:pt x="217" y="1675"/>
                  <a:pt x="209" y="1674"/>
                  <a:pt x="204" y="1668"/>
                </a:cubicBezTo>
                <a:cubicBezTo>
                  <a:pt x="200" y="1663"/>
                  <a:pt x="202" y="1655"/>
                  <a:pt x="198" y="1650"/>
                </a:cubicBezTo>
                <a:cubicBezTo>
                  <a:pt x="193" y="1643"/>
                  <a:pt x="186" y="1638"/>
                  <a:pt x="180" y="1632"/>
                </a:cubicBezTo>
                <a:cubicBezTo>
                  <a:pt x="172" y="1608"/>
                  <a:pt x="159" y="1598"/>
                  <a:pt x="138" y="1584"/>
                </a:cubicBezTo>
                <a:cubicBezTo>
                  <a:pt x="105" y="1535"/>
                  <a:pt x="105" y="1471"/>
                  <a:pt x="72" y="1422"/>
                </a:cubicBezTo>
                <a:cubicBezTo>
                  <a:pt x="52" y="1343"/>
                  <a:pt x="20" y="1267"/>
                  <a:pt x="0" y="1188"/>
                </a:cubicBezTo>
                <a:cubicBezTo>
                  <a:pt x="2" y="1064"/>
                  <a:pt x="2" y="940"/>
                  <a:pt x="6" y="816"/>
                </a:cubicBezTo>
                <a:cubicBezTo>
                  <a:pt x="9" y="708"/>
                  <a:pt x="91" y="533"/>
                  <a:pt x="144" y="438"/>
                </a:cubicBezTo>
                <a:cubicBezTo>
                  <a:pt x="167" y="397"/>
                  <a:pt x="195" y="345"/>
                  <a:pt x="228" y="312"/>
                </a:cubicBezTo>
                <a:cubicBezTo>
                  <a:pt x="256" y="284"/>
                  <a:pt x="289" y="260"/>
                  <a:pt x="318" y="234"/>
                </a:cubicBezTo>
                <a:cubicBezTo>
                  <a:pt x="343" y="212"/>
                  <a:pt x="364" y="188"/>
                  <a:pt x="390" y="168"/>
                </a:cubicBezTo>
                <a:cubicBezTo>
                  <a:pt x="401" y="159"/>
                  <a:pt x="426" y="144"/>
                  <a:pt x="426" y="144"/>
                </a:cubicBezTo>
                <a:cubicBezTo>
                  <a:pt x="443" y="119"/>
                  <a:pt x="466" y="116"/>
                  <a:pt x="492" y="102"/>
                </a:cubicBezTo>
                <a:cubicBezTo>
                  <a:pt x="505" y="95"/>
                  <a:pt x="516" y="86"/>
                  <a:pt x="528" y="78"/>
                </a:cubicBezTo>
                <a:cubicBezTo>
                  <a:pt x="564" y="54"/>
                  <a:pt x="649" y="44"/>
                  <a:pt x="690" y="30"/>
                </a:cubicBezTo>
                <a:cubicBezTo>
                  <a:pt x="712" y="23"/>
                  <a:pt x="728" y="7"/>
                  <a:pt x="750" y="0"/>
                </a:cubicBezTo>
                <a:cubicBezTo>
                  <a:pt x="814" y="2"/>
                  <a:pt x="878" y="2"/>
                  <a:pt x="942" y="6"/>
                </a:cubicBezTo>
                <a:cubicBezTo>
                  <a:pt x="1008" y="10"/>
                  <a:pt x="1073" y="47"/>
                  <a:pt x="1140" y="54"/>
                </a:cubicBezTo>
                <a:cubicBezTo>
                  <a:pt x="1196" y="73"/>
                  <a:pt x="1264" y="50"/>
                  <a:pt x="1320" y="36"/>
                </a:cubicBezTo>
                <a:cubicBezTo>
                  <a:pt x="1370" y="40"/>
                  <a:pt x="1442" y="6"/>
                  <a:pt x="1470" y="48"/>
                </a:cubicBezTo>
                <a:cubicBezTo>
                  <a:pt x="1489" y="77"/>
                  <a:pt x="1480" y="59"/>
                  <a:pt x="1494" y="102"/>
                </a:cubicBezTo>
                <a:cubicBezTo>
                  <a:pt x="1496" y="108"/>
                  <a:pt x="1500" y="120"/>
                  <a:pt x="1500" y="120"/>
                </a:cubicBezTo>
                <a:cubicBezTo>
                  <a:pt x="1494" y="137"/>
                  <a:pt x="1494" y="157"/>
                  <a:pt x="1488" y="174"/>
                </a:cubicBezTo>
                <a:lnTo>
                  <a:pt x="1464" y="228"/>
                </a:lnTo>
                <a:cubicBezTo>
                  <a:pt x="1464" y="228"/>
                  <a:pt x="1464" y="228"/>
                  <a:pt x="1464" y="228"/>
                </a:cubicBezTo>
                <a:cubicBezTo>
                  <a:pt x="1462" y="236"/>
                  <a:pt x="1462" y="245"/>
                  <a:pt x="1458" y="252"/>
                </a:cubicBezTo>
                <a:cubicBezTo>
                  <a:pt x="1444" y="276"/>
                  <a:pt x="1413" y="296"/>
                  <a:pt x="1404" y="324"/>
                </a:cubicBezTo>
                <a:cubicBezTo>
                  <a:pt x="1395" y="351"/>
                  <a:pt x="1382" y="376"/>
                  <a:pt x="1362" y="396"/>
                </a:cubicBezTo>
                <a:cubicBezTo>
                  <a:pt x="1352" y="425"/>
                  <a:pt x="1339" y="445"/>
                  <a:pt x="1314" y="462"/>
                </a:cubicBezTo>
                <a:cubicBezTo>
                  <a:pt x="1306" y="485"/>
                  <a:pt x="1296" y="510"/>
                  <a:pt x="1290" y="534"/>
                </a:cubicBezTo>
                <a:cubicBezTo>
                  <a:pt x="1290" y="534"/>
                  <a:pt x="1281" y="573"/>
                  <a:pt x="1278" y="576"/>
                </a:cubicBezTo>
                <a:cubicBezTo>
                  <a:pt x="1274" y="580"/>
                  <a:pt x="1266" y="580"/>
                  <a:pt x="1260" y="582"/>
                </a:cubicBezTo>
                <a:cubicBezTo>
                  <a:pt x="1258" y="588"/>
                  <a:pt x="1258" y="596"/>
                  <a:pt x="1254" y="600"/>
                </a:cubicBezTo>
                <a:cubicBezTo>
                  <a:pt x="1244" y="610"/>
                  <a:pt x="1218" y="624"/>
                  <a:pt x="1218" y="624"/>
                </a:cubicBezTo>
                <a:cubicBezTo>
                  <a:pt x="1160" y="619"/>
                  <a:pt x="1148" y="622"/>
                  <a:pt x="1104" y="600"/>
                </a:cubicBezTo>
                <a:cubicBezTo>
                  <a:pt x="1054" y="617"/>
                  <a:pt x="1134" y="591"/>
                  <a:pt x="1044" y="612"/>
                </a:cubicBezTo>
                <a:cubicBezTo>
                  <a:pt x="1014" y="619"/>
                  <a:pt x="997" y="629"/>
                  <a:pt x="972" y="642"/>
                </a:cubicBezTo>
                <a:cubicBezTo>
                  <a:pt x="949" y="653"/>
                  <a:pt x="918" y="658"/>
                  <a:pt x="894" y="666"/>
                </a:cubicBezTo>
                <a:cubicBezTo>
                  <a:pt x="873" y="673"/>
                  <a:pt x="858" y="690"/>
                  <a:pt x="840" y="702"/>
                </a:cubicBezTo>
                <a:cubicBezTo>
                  <a:pt x="834" y="706"/>
                  <a:pt x="822" y="714"/>
                  <a:pt x="822" y="714"/>
                </a:cubicBezTo>
                <a:cubicBezTo>
                  <a:pt x="794" y="755"/>
                  <a:pt x="772" y="798"/>
                  <a:pt x="744" y="840"/>
                </a:cubicBezTo>
                <a:cubicBezTo>
                  <a:pt x="737" y="851"/>
                  <a:pt x="736" y="864"/>
                  <a:pt x="732" y="876"/>
                </a:cubicBezTo>
                <a:cubicBezTo>
                  <a:pt x="730" y="882"/>
                  <a:pt x="726" y="894"/>
                  <a:pt x="726" y="894"/>
                </a:cubicBezTo>
                <a:cubicBezTo>
                  <a:pt x="720" y="949"/>
                  <a:pt x="714" y="964"/>
                  <a:pt x="720" y="1020"/>
                </a:cubicBezTo>
                <a:cubicBezTo>
                  <a:pt x="722" y="1086"/>
                  <a:pt x="722" y="1152"/>
                  <a:pt x="726" y="1218"/>
                </a:cubicBezTo>
                <a:cubicBezTo>
                  <a:pt x="727" y="1243"/>
                  <a:pt x="757" y="1284"/>
                  <a:pt x="768" y="1308"/>
                </a:cubicBezTo>
                <a:cubicBezTo>
                  <a:pt x="768" y="1308"/>
                  <a:pt x="783" y="1353"/>
                  <a:pt x="786" y="1362"/>
                </a:cubicBezTo>
                <a:cubicBezTo>
                  <a:pt x="788" y="1368"/>
                  <a:pt x="786" y="1378"/>
                  <a:pt x="792" y="1380"/>
                </a:cubicBezTo>
                <a:cubicBezTo>
                  <a:pt x="817" y="1388"/>
                  <a:pt x="826" y="1400"/>
                  <a:pt x="846" y="1416"/>
                </a:cubicBezTo>
                <a:cubicBezTo>
                  <a:pt x="886" y="1447"/>
                  <a:pt x="924" y="1478"/>
                  <a:pt x="972" y="1494"/>
                </a:cubicBezTo>
                <a:cubicBezTo>
                  <a:pt x="1006" y="1505"/>
                  <a:pt x="1040" y="1513"/>
                  <a:pt x="1074" y="1524"/>
                </a:cubicBezTo>
                <a:cubicBezTo>
                  <a:pt x="1086" y="1528"/>
                  <a:pt x="1110" y="1536"/>
                  <a:pt x="1110" y="1536"/>
                </a:cubicBezTo>
                <a:cubicBezTo>
                  <a:pt x="1216" y="1532"/>
                  <a:pt x="1290" y="1524"/>
                  <a:pt x="1392" y="1518"/>
                </a:cubicBezTo>
                <a:close/>
              </a:path>
            </a:pathLst>
          </a:custGeom>
          <a:solidFill>
            <a:srgbClr val="00ff00">
              <a:alpha val="50000"/>
            </a:srgbClr>
          </a:solidFill>
          <a:ln w="57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0" name=""/>
          <p:cNvSpPr/>
          <p:nvPr/>
        </p:nvSpPr>
        <p:spPr>
          <a:xfrm rot="6600">
            <a:off x="3120840" y="1365120"/>
            <a:ext cx="2365200" cy="5031000"/>
          </a:xfrm>
          <a:custGeom>
            <a:avLst/>
            <a:gdLst>
              <a:gd name="textAreaLeft" fmla="*/ 333000 w 2365200"/>
              <a:gd name="textAreaRight" fmla="*/ 2032200 w 2365200"/>
              <a:gd name="textAreaTop" fmla="*/ 708840 h 5031000"/>
              <a:gd name="textAreaBottom" fmla="*/ 4322160 h 5031000"/>
            </a:gdLst>
            <a:ahLst/>
            <a:rect l="textAreaLeft" t="textAreaTop" r="textAreaRight" b="textAreaBottom"/>
            <a:pathLst>
              <a:path w="21600" h="21600">
                <a:moveTo>
                  <a:pt x="0" y="0"/>
                </a:moveTo>
                <a:lnTo>
                  <a:pt x="21600" y="0"/>
                </a:lnTo>
                <a:lnTo>
                  <a:pt x="19272" y="21600"/>
                </a:lnTo>
                <a:lnTo>
                  <a:pt x="2328" y="21600"/>
                </a:lnTo>
                <a:close/>
              </a:path>
            </a:pathLst>
          </a:custGeom>
          <a:solidFill>
            <a:srgbClr val="99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1" name=""/>
          <p:cNvSpPr/>
          <p:nvPr/>
        </p:nvSpPr>
        <p:spPr>
          <a:xfrm rot="10806600">
            <a:off x="3121200" y="1364400"/>
            <a:ext cx="2365200" cy="5031000"/>
          </a:xfrm>
          <a:custGeom>
            <a:avLst/>
            <a:gdLst>
              <a:gd name="textAreaLeft" fmla="*/ 333000 w 2365200"/>
              <a:gd name="textAreaRight" fmla="*/ 2032200 w 2365200"/>
              <a:gd name="textAreaTop" fmla="*/ 708840 h 5031000"/>
              <a:gd name="textAreaBottom" fmla="*/ 4322160 h 5031000"/>
            </a:gdLst>
            <a:ahLst/>
            <a:rect l="textAreaLeft" t="textAreaTop" r="textAreaRight" b="textAreaBottom"/>
            <a:pathLst>
              <a:path w="21600" h="21600">
                <a:moveTo>
                  <a:pt x="0" y="0"/>
                </a:moveTo>
                <a:lnTo>
                  <a:pt x="21600" y="0"/>
                </a:lnTo>
                <a:lnTo>
                  <a:pt x="19272" y="21600"/>
                </a:lnTo>
                <a:lnTo>
                  <a:pt x="2328" y="21600"/>
                </a:lnTo>
                <a:close/>
              </a:path>
            </a:pathLst>
          </a:custGeom>
          <a:solidFill>
            <a:srgbClr val="99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2" name=""/>
          <p:cNvSpPr/>
          <p:nvPr/>
        </p:nvSpPr>
        <p:spPr>
          <a:xfrm>
            <a:off x="4606920" y="5362560"/>
            <a:ext cx="279360" cy="285840"/>
          </a:xfrm>
          <a:custGeom>
            <a:avLst/>
            <a:gdLst/>
            <a:ahLst/>
            <a:rect l="l" t="t" r="r" b="b"/>
            <a:pathLst>
              <a:path w="176" h="180">
                <a:moveTo>
                  <a:pt x="92" y="0"/>
                </a:moveTo>
                <a:cubicBezTo>
                  <a:pt x="49" y="9"/>
                  <a:pt x="43" y="25"/>
                  <a:pt x="14" y="54"/>
                </a:cubicBezTo>
                <a:cubicBezTo>
                  <a:pt x="0" y="97"/>
                  <a:pt x="26" y="145"/>
                  <a:pt x="50" y="180"/>
                </a:cubicBezTo>
                <a:cubicBezTo>
                  <a:pt x="78" y="178"/>
                  <a:pt x="107" y="180"/>
                  <a:pt x="134" y="174"/>
                </a:cubicBezTo>
                <a:cubicBezTo>
                  <a:pt x="153" y="170"/>
                  <a:pt x="171" y="118"/>
                  <a:pt x="176" y="102"/>
                </a:cubicBezTo>
                <a:cubicBezTo>
                  <a:pt x="175" y="98"/>
                  <a:pt x="171" y="58"/>
                  <a:pt x="164" y="48"/>
                </a:cubicBezTo>
                <a:cubicBezTo>
                  <a:pt x="147" y="22"/>
                  <a:pt x="116" y="16"/>
                  <a:pt x="92" y="0"/>
                </a:cubicBezTo>
                <a:close/>
              </a:path>
            </a:pathLst>
          </a:custGeom>
          <a:solidFill>
            <a:srgbClr val="00ff00">
              <a:alpha val="50000"/>
            </a:srgbClr>
          </a:solidFill>
          <a:ln w="57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3" name=""/>
          <p:cNvSpPr/>
          <p:nvPr/>
        </p:nvSpPr>
        <p:spPr>
          <a:xfrm>
            <a:off x="4191120" y="1523880"/>
            <a:ext cx="228600" cy="762120"/>
          </a:xfrm>
          <a:prstGeom prst="downArrow">
            <a:avLst>
              <a:gd name="adj1" fmla="val 50000"/>
              <a:gd name="adj2" fmla="val 83346"/>
            </a:avLst>
          </a:prstGeom>
          <a:solidFill>
            <a:srgbClr val="99cc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4" name=""/>
          <p:cNvSpPr/>
          <p:nvPr/>
        </p:nvSpPr>
        <p:spPr>
          <a:xfrm>
            <a:off x="4191120" y="5486400"/>
            <a:ext cx="228600" cy="762120"/>
          </a:xfrm>
          <a:prstGeom prst="upArrow">
            <a:avLst>
              <a:gd name="adj1" fmla="val 50000"/>
              <a:gd name="adj2" fmla="val 83346"/>
            </a:avLst>
          </a:prstGeom>
          <a:solidFill>
            <a:srgbClr val="99cc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5" name=""/>
          <p:cNvSpPr/>
          <p:nvPr/>
        </p:nvSpPr>
        <p:spPr>
          <a:xfrm>
            <a:off x="3495600" y="3514680"/>
            <a:ext cx="1648080" cy="1333440"/>
          </a:xfrm>
          <a:custGeom>
            <a:avLst/>
            <a:gdLst/>
            <a:ahLst/>
            <a:rect l="l" t="t" r="r" b="b"/>
            <a:pathLst>
              <a:path w="1038" h="840">
                <a:moveTo>
                  <a:pt x="66" y="672"/>
                </a:moveTo>
                <a:cubicBezTo>
                  <a:pt x="52" y="629"/>
                  <a:pt x="65" y="643"/>
                  <a:pt x="36" y="624"/>
                </a:cubicBezTo>
                <a:cubicBezTo>
                  <a:pt x="29" y="602"/>
                  <a:pt x="19" y="586"/>
                  <a:pt x="12" y="564"/>
                </a:cubicBezTo>
                <a:cubicBezTo>
                  <a:pt x="8" y="552"/>
                  <a:pt x="0" y="528"/>
                  <a:pt x="0" y="528"/>
                </a:cubicBezTo>
                <a:cubicBezTo>
                  <a:pt x="2" y="456"/>
                  <a:pt x="1" y="233"/>
                  <a:pt x="72" y="162"/>
                </a:cubicBezTo>
                <a:cubicBezTo>
                  <a:pt x="84" y="125"/>
                  <a:pt x="112" y="99"/>
                  <a:pt x="144" y="78"/>
                </a:cubicBezTo>
                <a:cubicBezTo>
                  <a:pt x="170" y="39"/>
                  <a:pt x="205" y="32"/>
                  <a:pt x="246" y="18"/>
                </a:cubicBezTo>
                <a:cubicBezTo>
                  <a:pt x="258" y="14"/>
                  <a:pt x="270" y="10"/>
                  <a:pt x="282" y="6"/>
                </a:cubicBezTo>
                <a:cubicBezTo>
                  <a:pt x="288" y="4"/>
                  <a:pt x="300" y="0"/>
                  <a:pt x="300" y="0"/>
                </a:cubicBezTo>
                <a:cubicBezTo>
                  <a:pt x="468" y="5"/>
                  <a:pt x="558" y="10"/>
                  <a:pt x="708" y="60"/>
                </a:cubicBezTo>
                <a:cubicBezTo>
                  <a:pt x="733" y="68"/>
                  <a:pt x="756" y="85"/>
                  <a:pt x="780" y="96"/>
                </a:cubicBezTo>
                <a:cubicBezTo>
                  <a:pt x="802" y="106"/>
                  <a:pt x="829" y="112"/>
                  <a:pt x="852" y="120"/>
                </a:cubicBezTo>
                <a:cubicBezTo>
                  <a:pt x="884" y="131"/>
                  <a:pt x="865" y="122"/>
                  <a:pt x="906" y="150"/>
                </a:cubicBezTo>
                <a:cubicBezTo>
                  <a:pt x="912" y="154"/>
                  <a:pt x="924" y="162"/>
                  <a:pt x="924" y="162"/>
                </a:cubicBezTo>
                <a:cubicBezTo>
                  <a:pt x="952" y="204"/>
                  <a:pt x="936" y="190"/>
                  <a:pt x="966" y="210"/>
                </a:cubicBezTo>
                <a:cubicBezTo>
                  <a:pt x="986" y="269"/>
                  <a:pt x="1023" y="316"/>
                  <a:pt x="1038" y="378"/>
                </a:cubicBezTo>
                <a:cubicBezTo>
                  <a:pt x="1034" y="436"/>
                  <a:pt x="1025" y="473"/>
                  <a:pt x="1032" y="528"/>
                </a:cubicBezTo>
                <a:cubicBezTo>
                  <a:pt x="1026" y="564"/>
                  <a:pt x="1013" y="584"/>
                  <a:pt x="1002" y="618"/>
                </a:cubicBezTo>
                <a:cubicBezTo>
                  <a:pt x="997" y="634"/>
                  <a:pt x="993" y="660"/>
                  <a:pt x="978" y="672"/>
                </a:cubicBezTo>
                <a:cubicBezTo>
                  <a:pt x="929" y="711"/>
                  <a:pt x="993" y="639"/>
                  <a:pt x="942" y="690"/>
                </a:cubicBezTo>
                <a:cubicBezTo>
                  <a:pt x="925" y="707"/>
                  <a:pt x="912" y="728"/>
                  <a:pt x="894" y="744"/>
                </a:cubicBezTo>
                <a:cubicBezTo>
                  <a:pt x="889" y="748"/>
                  <a:pt x="882" y="747"/>
                  <a:pt x="876" y="750"/>
                </a:cubicBezTo>
                <a:cubicBezTo>
                  <a:pt x="863" y="757"/>
                  <a:pt x="852" y="766"/>
                  <a:pt x="840" y="774"/>
                </a:cubicBezTo>
                <a:cubicBezTo>
                  <a:pt x="755" y="831"/>
                  <a:pt x="712" y="832"/>
                  <a:pt x="606" y="840"/>
                </a:cubicBezTo>
                <a:cubicBezTo>
                  <a:pt x="527" y="836"/>
                  <a:pt x="467" y="828"/>
                  <a:pt x="390" y="834"/>
                </a:cubicBezTo>
                <a:cubicBezTo>
                  <a:pt x="319" y="826"/>
                  <a:pt x="243" y="815"/>
                  <a:pt x="180" y="780"/>
                </a:cubicBezTo>
                <a:cubicBezTo>
                  <a:pt x="161" y="769"/>
                  <a:pt x="144" y="756"/>
                  <a:pt x="126" y="744"/>
                </a:cubicBezTo>
                <a:cubicBezTo>
                  <a:pt x="114" y="736"/>
                  <a:pt x="90" y="720"/>
                  <a:pt x="90" y="720"/>
                </a:cubicBezTo>
                <a:cubicBezTo>
                  <a:pt x="72" y="693"/>
                  <a:pt x="81" y="709"/>
                  <a:pt x="66" y="672"/>
                </a:cubicBezTo>
                <a:close/>
              </a:path>
            </a:pathLst>
          </a:custGeom>
          <a:solidFill>
            <a:srgbClr val="ff0000">
              <a:alpha val="50000"/>
            </a:srgbClr>
          </a:solid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6" name=""/>
          <p:cNvSpPr/>
          <p:nvPr/>
        </p:nvSpPr>
        <p:spPr>
          <a:xfrm>
            <a:off x="0" y="1143000"/>
            <a:ext cx="7765920" cy="68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argeting PTV while avoiding OR</a:t>
            </a:r>
            <a:endParaRPr b="0" lang="en-US" sz="28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EE2FA834-5D6B-4EBD-A89D-04040C172C5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29" name=""/>
          <p:cNvSpPr/>
          <p:nvPr/>
        </p:nvSpPr>
        <p:spPr>
          <a:xfrm>
            <a:off x="533520" y="1219320"/>
            <a:ext cx="82296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The scope of RADEV:</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Include:</a:t>
            </a:r>
            <a:endParaRPr b="0" lang="en-US" sz="2400" spc="-1" strike="noStrike">
              <a:solidFill>
                <a:srgbClr val="eaeaea"/>
              </a:solidFill>
              <a:latin typeface="Times New Roman"/>
            </a:endParaRPr>
          </a:p>
          <a:p>
            <a:pPr lvl="1" marL="4572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Worker / public exposure</a:t>
            </a:r>
            <a:endParaRPr b="0" lang="en-US" sz="2400" spc="-1" strike="noStrike">
              <a:solidFill>
                <a:srgbClr val="eaeaea"/>
              </a:solidFill>
              <a:latin typeface="Times New Roman"/>
            </a:endParaRPr>
          </a:p>
          <a:p>
            <a:pPr lvl="1" marL="4572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Loss of control of sources (lost, found, stolen, illegally </a:t>
            </a:r>
            <a:r>
              <a:rPr b="0" lang="en-IE" sz="2400" spc="-1" strike="noStrike">
                <a:solidFill>
                  <a:srgbClr val="eaeaea"/>
                </a:solidFill>
                <a:latin typeface="Arial"/>
              </a:rPr>
              <a:t>	</a:t>
            </a:r>
            <a:r>
              <a:rPr b="0" lang="en-IE" sz="2400" spc="-1" strike="noStrike">
                <a:solidFill>
                  <a:srgbClr val="eaeaea"/>
                </a:solidFill>
                <a:latin typeface="Arial"/>
              </a:rPr>
              <a:t>transported or sold)</a:t>
            </a:r>
            <a:endParaRPr b="0" lang="en-US" sz="2400" spc="-1" strike="noStrike">
              <a:solidFill>
                <a:srgbClr val="eaeaea"/>
              </a:solidFill>
              <a:latin typeface="Times New Roman"/>
            </a:endParaRPr>
          </a:p>
          <a:p>
            <a:pPr lvl="1" marL="4572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Patient exposure significantly different than intended</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Exclude:</a:t>
            </a:r>
            <a:endParaRPr b="0" lang="en-US" sz="2400" spc="-1" strike="noStrike">
              <a:solidFill>
                <a:srgbClr val="eaeaea"/>
              </a:solidFill>
              <a:latin typeface="Times New Roman"/>
            </a:endParaRPr>
          </a:p>
          <a:p>
            <a:pPr lvl="1" marL="4572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Nuclear power plants, fuel cycle and weapons</a:t>
            </a:r>
            <a:endParaRPr b="0" lang="en-US" sz="2400" spc="-1" strike="noStrike">
              <a:solidFill>
                <a:srgbClr val="eaeaea"/>
              </a:solidFill>
              <a:latin typeface="Times New Roman"/>
            </a:endParaRPr>
          </a:p>
          <a:p>
            <a:pPr lvl="1" marL="4572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Transport</a:t>
            </a:r>
            <a:endParaRPr b="0" lang="en-US" sz="2400" spc="-1" strike="noStrike">
              <a:solidFill>
                <a:srgbClr val="eaeaea"/>
              </a:solidFill>
              <a:latin typeface="Times New Roman"/>
            </a:endParaRPr>
          </a:p>
          <a:p>
            <a:pPr lvl="1" marL="4572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Illicit trafficking of nuclear materials</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0"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RADEV</a:t>
            </a:r>
            <a:endParaRPr b="0" lang="en-US" sz="36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DD8FEC9D-8D6C-4920-81EC-C9D436971C5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31"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RADEV</a:t>
            </a:r>
            <a:endParaRPr b="0" lang="en-US" sz="3600" spc="-1" strike="noStrike">
              <a:solidFill>
                <a:srgbClr val="eaeaea"/>
              </a:solidFill>
              <a:latin typeface="Times New Roman"/>
            </a:endParaRPr>
          </a:p>
        </p:txBody>
      </p:sp>
      <p:sp>
        <p:nvSpPr>
          <p:cNvPr id="332" name=""/>
          <p:cNvSpPr/>
          <p:nvPr/>
        </p:nvSpPr>
        <p:spPr>
          <a:xfrm>
            <a:off x="762120" y="1295280"/>
            <a:ext cx="800100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66ff66"/>
                </a:solidFill>
                <a:latin typeface="Arial"/>
              </a:rPr>
              <a:t>Data collection and dissemination</a:t>
            </a:r>
            <a:endParaRPr b="0" lang="en-US" sz="2200" spc="-1" strike="noStrike">
              <a:solidFill>
                <a:srgbClr val="eaeaea"/>
              </a:solidFill>
              <a:latin typeface="Times New Roman"/>
            </a:endParaRPr>
          </a:p>
        </p:txBody>
      </p:sp>
      <p:sp>
        <p:nvSpPr>
          <p:cNvPr id="333" name=""/>
          <p:cNvSpPr/>
          <p:nvPr/>
        </p:nvSpPr>
        <p:spPr>
          <a:xfrm>
            <a:off x="6095880" y="4800600"/>
            <a:ext cx="2438640" cy="8380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34" name=""/>
          <p:cNvSpPr/>
          <p:nvPr/>
        </p:nvSpPr>
        <p:spPr>
          <a:xfrm>
            <a:off x="6019920" y="4800600"/>
            <a:ext cx="259704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RADEV</a:t>
            </a:r>
            <a:endParaRPr b="0" lang="en-US" sz="2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nternational</a:t>
            </a:r>
            <a:endParaRPr b="0" lang="en-US" sz="2400" spc="-1" strike="noStrike">
              <a:solidFill>
                <a:srgbClr val="eaeaea"/>
              </a:solidFill>
              <a:latin typeface="Times New Roman"/>
            </a:endParaRPr>
          </a:p>
        </p:txBody>
      </p:sp>
      <p:sp>
        <p:nvSpPr>
          <p:cNvPr id="335" name=""/>
          <p:cNvSpPr/>
          <p:nvPr/>
        </p:nvSpPr>
        <p:spPr>
          <a:xfrm>
            <a:off x="3033720" y="2290680"/>
            <a:ext cx="3051000" cy="1067040"/>
          </a:xfrm>
          <a:prstGeom prst="line">
            <a:avLst/>
          </a:prstGeom>
          <a:ln w="25560">
            <a:solidFill>
              <a:srgbClr val="eaeaea"/>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36" name=""/>
          <p:cNvSpPr/>
          <p:nvPr/>
        </p:nvSpPr>
        <p:spPr>
          <a:xfrm flipV="1">
            <a:off x="3144960" y="4043520"/>
            <a:ext cx="2857320" cy="1218960"/>
          </a:xfrm>
          <a:prstGeom prst="line">
            <a:avLst/>
          </a:prstGeom>
          <a:ln w="25560">
            <a:solidFill>
              <a:srgbClr val="eaeaea"/>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aphicFrame>
        <p:nvGraphicFramePr>
          <p:cNvPr id="337" name=""/>
          <p:cNvGraphicFramePr/>
          <p:nvPr/>
        </p:nvGraphicFramePr>
        <p:xfrm>
          <a:off x="304920" y="914400"/>
          <a:ext cx="3276360" cy="2519280"/>
        </p:xfrm>
        <a:graphic>
          <a:graphicData uri="http://schemas.openxmlformats.org/presentationml/2006/ole">
            <p:oleObj r:id="rId1" spid="">
              <p:embed/>
              <p:pic>
                <p:nvPicPr>
                  <p:cNvPr id="338" name="" descr=""/>
                  <p:cNvPicPr/>
                  <p:nvPr/>
                </p:nvPicPr>
                <p:blipFill>
                  <a:blip r:embed="rId2"/>
                  <a:stretch/>
                </p:blipFill>
                <p:spPr>
                  <a:xfrm>
                    <a:off x="304920" y="914400"/>
                    <a:ext cx="3276360" cy="2519280"/>
                  </a:xfrm>
                  <a:prstGeom prst="rect">
                    <a:avLst/>
                  </a:prstGeom>
                  <a:ln w="0">
                    <a:noFill/>
                  </a:ln>
                </p:spPr>
              </p:pic>
            </p:oleObj>
          </a:graphicData>
        </a:graphic>
      </p:graphicFrame>
      <p:pic>
        <p:nvPicPr>
          <p:cNvPr id="339" name="" descr=""/>
          <p:cNvPicPr/>
          <p:nvPr/>
        </p:nvPicPr>
        <p:blipFill>
          <a:blip r:embed="rId3"/>
          <a:stretch/>
        </p:blipFill>
        <p:spPr>
          <a:xfrm>
            <a:off x="1650960" y="1380960"/>
            <a:ext cx="584280" cy="736920"/>
          </a:xfrm>
          <a:prstGeom prst="rect">
            <a:avLst/>
          </a:prstGeom>
          <a:ln w="0">
            <a:noFill/>
          </a:ln>
        </p:spPr>
      </p:pic>
      <p:sp>
        <p:nvSpPr>
          <p:cNvPr id="340" name=""/>
          <p:cNvSpPr/>
          <p:nvPr/>
        </p:nvSpPr>
        <p:spPr>
          <a:xfrm>
            <a:off x="1390680" y="1349280"/>
            <a:ext cx="11048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RADEV</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National</a:t>
            </a:r>
            <a:endParaRPr b="0" lang="en-US" sz="1800" spc="-1" strike="noStrike">
              <a:solidFill>
                <a:srgbClr val="eaeaea"/>
              </a:solidFill>
              <a:latin typeface="Times New Roman"/>
            </a:endParaRPr>
          </a:p>
        </p:txBody>
      </p:sp>
      <p:graphicFrame>
        <p:nvGraphicFramePr>
          <p:cNvPr id="341" name=""/>
          <p:cNvGraphicFramePr/>
          <p:nvPr/>
        </p:nvGraphicFramePr>
        <p:xfrm>
          <a:off x="434880" y="3809880"/>
          <a:ext cx="3276720" cy="2519640"/>
        </p:xfrm>
        <a:graphic>
          <a:graphicData uri="http://schemas.openxmlformats.org/presentationml/2006/ole">
            <p:oleObj r:id="rId4" spid="">
              <p:embed/>
              <p:pic>
                <p:nvPicPr>
                  <p:cNvPr id="342" name="" descr=""/>
                  <p:cNvPicPr/>
                  <p:nvPr/>
                </p:nvPicPr>
                <p:blipFill>
                  <a:blip r:embed="rId5"/>
                  <a:stretch/>
                </p:blipFill>
                <p:spPr>
                  <a:xfrm>
                    <a:off x="434880" y="3809880"/>
                    <a:ext cx="3276720" cy="2519640"/>
                  </a:xfrm>
                  <a:prstGeom prst="rect">
                    <a:avLst/>
                  </a:prstGeom>
                  <a:ln w="0">
                    <a:noFill/>
                  </a:ln>
                </p:spPr>
              </p:pic>
            </p:oleObj>
          </a:graphicData>
        </a:graphic>
      </p:graphicFrame>
      <p:pic>
        <p:nvPicPr>
          <p:cNvPr id="343" name="" descr=""/>
          <p:cNvPicPr/>
          <p:nvPr/>
        </p:nvPicPr>
        <p:blipFill>
          <a:blip r:embed="rId6"/>
          <a:stretch/>
        </p:blipFill>
        <p:spPr>
          <a:xfrm>
            <a:off x="1779480" y="4276800"/>
            <a:ext cx="585720" cy="736560"/>
          </a:xfrm>
          <a:prstGeom prst="rect">
            <a:avLst/>
          </a:prstGeom>
          <a:ln w="0">
            <a:noFill/>
          </a:ln>
        </p:spPr>
      </p:pic>
      <p:sp>
        <p:nvSpPr>
          <p:cNvPr id="344" name=""/>
          <p:cNvSpPr/>
          <p:nvPr/>
        </p:nvSpPr>
        <p:spPr>
          <a:xfrm>
            <a:off x="1521000" y="4245120"/>
            <a:ext cx="11030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RADEV</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National</a:t>
            </a:r>
            <a:endParaRPr b="0" lang="en-US" sz="1800" spc="-1" strike="noStrike">
              <a:solidFill>
                <a:srgbClr val="eaeaea"/>
              </a:solidFill>
              <a:latin typeface="Times New Roman"/>
            </a:endParaRPr>
          </a:p>
        </p:txBody>
      </p:sp>
      <p:graphicFrame>
        <p:nvGraphicFramePr>
          <p:cNvPr id="345" name=""/>
          <p:cNvGraphicFramePr/>
          <p:nvPr/>
        </p:nvGraphicFramePr>
        <p:xfrm>
          <a:off x="5632560" y="2211480"/>
          <a:ext cx="3276360" cy="2519280"/>
        </p:xfrm>
        <a:graphic>
          <a:graphicData uri="http://schemas.openxmlformats.org/presentationml/2006/ole">
            <p:oleObj r:id="rId7" spid="">
              <p:embed/>
              <p:pic>
                <p:nvPicPr>
                  <p:cNvPr id="346" name="" descr=""/>
                  <p:cNvPicPr/>
                  <p:nvPr/>
                </p:nvPicPr>
                <p:blipFill>
                  <a:blip r:embed="rId8"/>
                  <a:stretch/>
                </p:blipFill>
                <p:spPr>
                  <a:xfrm>
                    <a:off x="5632560" y="2211480"/>
                    <a:ext cx="3276360" cy="2519280"/>
                  </a:xfrm>
                  <a:prstGeom prst="rect">
                    <a:avLst/>
                  </a:prstGeom>
                  <a:ln w="0">
                    <a:noFill/>
                  </a:ln>
                </p:spPr>
              </p:pic>
            </p:oleObj>
          </a:graphicData>
        </a:graphic>
      </p:graphicFrame>
      <p:sp>
        <p:nvSpPr>
          <p:cNvPr id="347" name=""/>
          <p:cNvSpPr/>
          <p:nvPr/>
        </p:nvSpPr>
        <p:spPr>
          <a:xfrm>
            <a:off x="6705360" y="2666880"/>
            <a:ext cx="992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AEA</a:t>
            </a:r>
            <a:endParaRPr b="0" lang="en-US" sz="2800" spc="-1" strike="noStrike">
              <a:solidFill>
                <a:srgbClr val="eaeaea"/>
              </a:solidFill>
              <a:latin typeface="Times New Roman"/>
            </a:endParaRPr>
          </a:p>
        </p:txBody>
      </p:sp>
      <p:sp>
        <p:nvSpPr>
          <p:cNvPr id="348" name=""/>
          <p:cNvSpPr/>
          <p:nvPr/>
        </p:nvSpPr>
        <p:spPr>
          <a:xfrm>
            <a:off x="3186000" y="2443320"/>
            <a:ext cx="3051360" cy="1066680"/>
          </a:xfrm>
          <a:prstGeom prst="line">
            <a:avLst/>
          </a:prstGeom>
          <a:ln w="25560">
            <a:solidFill>
              <a:srgbClr val="0000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49" name=""/>
          <p:cNvSpPr/>
          <p:nvPr/>
        </p:nvSpPr>
        <p:spPr>
          <a:xfrm flipV="1">
            <a:off x="3297240" y="4195440"/>
            <a:ext cx="2857320" cy="1219320"/>
          </a:xfrm>
          <a:prstGeom prst="line">
            <a:avLst/>
          </a:prstGeom>
          <a:ln w="25560">
            <a:solidFill>
              <a:srgbClr val="0000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66D23EDC-C9F8-4CFB-BBA6-16B485464F5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50" name=""/>
          <p:cNvSpPr/>
          <p:nvPr/>
        </p:nvSpPr>
        <p:spPr>
          <a:xfrm>
            <a:off x="609480" y="1066680"/>
            <a:ext cx="800100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66ff66"/>
                </a:solidFill>
                <a:latin typeface="Arial"/>
              </a:rPr>
              <a:t>Dissemination of information</a:t>
            </a:r>
            <a:endParaRPr b="0" lang="en-US" sz="2200" spc="-1" strike="noStrike">
              <a:solidFill>
                <a:srgbClr val="eaeaea"/>
              </a:solidFill>
              <a:latin typeface="Times New Roman"/>
            </a:endParaRPr>
          </a:p>
        </p:txBody>
      </p:sp>
      <p:graphicFrame>
        <p:nvGraphicFramePr>
          <p:cNvPr id="351" name=""/>
          <p:cNvGraphicFramePr/>
          <p:nvPr/>
        </p:nvGraphicFramePr>
        <p:xfrm>
          <a:off x="1827360" y="1336680"/>
          <a:ext cx="785520" cy="1022400"/>
        </p:xfrm>
        <a:graphic>
          <a:graphicData uri="http://schemas.openxmlformats.org/presentationml/2006/ole">
            <p:oleObj r:id="rId1" spid="">
              <p:embed/>
              <p:pic>
                <p:nvPicPr>
                  <p:cNvPr id="352" name="" descr=""/>
                  <p:cNvPicPr/>
                  <p:nvPr/>
                </p:nvPicPr>
                <p:blipFill>
                  <a:blip r:embed="rId2"/>
                  <a:stretch/>
                </p:blipFill>
                <p:spPr>
                  <a:xfrm>
                    <a:off x="1827360" y="1336680"/>
                    <a:ext cx="785520" cy="1022400"/>
                  </a:xfrm>
                  <a:prstGeom prst="rect">
                    <a:avLst/>
                  </a:prstGeom>
                  <a:ln w="0">
                    <a:noFill/>
                  </a:ln>
                </p:spPr>
              </p:pic>
            </p:oleObj>
          </a:graphicData>
        </a:graphic>
      </p:graphicFrame>
      <p:pic>
        <p:nvPicPr>
          <p:cNvPr id="353" name="" descr=""/>
          <p:cNvPicPr/>
          <p:nvPr/>
        </p:nvPicPr>
        <p:blipFill>
          <a:blip r:embed="rId3"/>
          <a:stretch/>
        </p:blipFill>
        <p:spPr>
          <a:xfrm>
            <a:off x="5334120" y="1600200"/>
            <a:ext cx="3638520" cy="1519200"/>
          </a:xfrm>
          <a:prstGeom prst="rect">
            <a:avLst/>
          </a:prstGeom>
          <a:ln w="0">
            <a:noFill/>
          </a:ln>
        </p:spPr>
      </p:pic>
      <p:sp>
        <p:nvSpPr>
          <p:cNvPr id="354" name=""/>
          <p:cNvSpPr/>
          <p:nvPr/>
        </p:nvSpPr>
        <p:spPr>
          <a:xfrm>
            <a:off x="2401920" y="5251320"/>
            <a:ext cx="259884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RADEV</a:t>
            </a:r>
            <a:endParaRPr b="0" lang="en-US" sz="2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nternational</a:t>
            </a:r>
            <a:endParaRPr b="0" lang="en-US" sz="2400" spc="-1" strike="noStrike">
              <a:solidFill>
                <a:srgbClr val="eaeaea"/>
              </a:solidFill>
              <a:latin typeface="Times New Roman"/>
            </a:endParaRPr>
          </a:p>
        </p:txBody>
      </p:sp>
      <p:graphicFrame>
        <p:nvGraphicFramePr>
          <p:cNvPr id="355" name=""/>
          <p:cNvGraphicFramePr/>
          <p:nvPr/>
        </p:nvGraphicFramePr>
        <p:xfrm>
          <a:off x="2598840" y="3343320"/>
          <a:ext cx="2012760" cy="1757160"/>
        </p:xfrm>
        <a:graphic>
          <a:graphicData uri="http://schemas.openxmlformats.org/presentationml/2006/ole">
            <p:oleObj r:id="rId4" spid="">
              <p:embed/>
              <p:pic>
                <p:nvPicPr>
                  <p:cNvPr id="356" name="" descr=""/>
                  <p:cNvPicPr/>
                  <p:nvPr/>
                </p:nvPicPr>
                <p:blipFill>
                  <a:blip r:embed="rId5"/>
                  <a:stretch/>
                </p:blipFill>
                <p:spPr>
                  <a:xfrm>
                    <a:off x="2598840" y="3343320"/>
                    <a:ext cx="2012760" cy="1757160"/>
                  </a:xfrm>
                  <a:prstGeom prst="rect">
                    <a:avLst/>
                  </a:prstGeom>
                  <a:ln w="0">
                    <a:noFill/>
                  </a:ln>
                </p:spPr>
              </p:pic>
            </p:oleObj>
          </a:graphicData>
        </a:graphic>
      </p:graphicFrame>
      <p:pic>
        <p:nvPicPr>
          <p:cNvPr id="357" name="" descr=""/>
          <p:cNvPicPr/>
          <p:nvPr/>
        </p:nvPicPr>
        <p:blipFill>
          <a:blip r:embed="rId6"/>
          <a:stretch/>
        </p:blipFill>
        <p:spPr>
          <a:xfrm>
            <a:off x="297000" y="2165400"/>
            <a:ext cx="1328760" cy="809640"/>
          </a:xfrm>
          <a:prstGeom prst="rect">
            <a:avLst/>
          </a:prstGeom>
          <a:ln w="0">
            <a:noFill/>
          </a:ln>
        </p:spPr>
      </p:pic>
      <p:sp>
        <p:nvSpPr>
          <p:cNvPr id="358" name=""/>
          <p:cNvSpPr/>
          <p:nvPr/>
        </p:nvSpPr>
        <p:spPr>
          <a:xfrm>
            <a:off x="3200400" y="3605040"/>
            <a:ext cx="861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IAEA</a:t>
            </a:r>
            <a:endParaRPr b="0" lang="en-US" sz="2000" spc="-1" strike="noStrike">
              <a:solidFill>
                <a:srgbClr val="eaeaea"/>
              </a:solidFill>
              <a:latin typeface="Times New Roman"/>
            </a:endParaRPr>
          </a:p>
        </p:txBody>
      </p:sp>
      <p:sp>
        <p:nvSpPr>
          <p:cNvPr id="359" name=""/>
          <p:cNvSpPr/>
          <p:nvPr/>
        </p:nvSpPr>
        <p:spPr>
          <a:xfrm>
            <a:off x="6476040" y="3124080"/>
            <a:ext cx="1219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Internet</a:t>
            </a:r>
            <a:endParaRPr b="0" lang="en-US" sz="2400" spc="-1" strike="noStrike">
              <a:solidFill>
                <a:srgbClr val="eaeaea"/>
              </a:solidFill>
              <a:latin typeface="Times New Roman"/>
            </a:endParaRPr>
          </a:p>
        </p:txBody>
      </p:sp>
      <p:graphicFrame>
        <p:nvGraphicFramePr>
          <p:cNvPr id="360" name=""/>
          <p:cNvGraphicFramePr/>
          <p:nvPr/>
        </p:nvGraphicFramePr>
        <p:xfrm>
          <a:off x="304920" y="4724280"/>
          <a:ext cx="1806480" cy="1094040"/>
        </p:xfrm>
        <a:graphic>
          <a:graphicData uri="http://schemas.openxmlformats.org/presentationml/2006/ole">
            <p:oleObj r:id="rId7" spid="">
              <p:embed/>
              <p:pic>
                <p:nvPicPr>
                  <p:cNvPr id="361" name="" descr=""/>
                  <p:cNvPicPr/>
                  <p:nvPr/>
                </p:nvPicPr>
                <p:blipFill>
                  <a:blip r:embed="rId8"/>
                  <a:stretch/>
                </p:blipFill>
                <p:spPr>
                  <a:xfrm>
                    <a:off x="304920" y="4724280"/>
                    <a:ext cx="1806480" cy="1094040"/>
                  </a:xfrm>
                  <a:prstGeom prst="rect">
                    <a:avLst/>
                  </a:prstGeom>
                  <a:ln w="0">
                    <a:noFill/>
                  </a:ln>
                </p:spPr>
              </p:pic>
            </p:oleObj>
          </a:graphicData>
        </a:graphic>
      </p:graphicFrame>
      <p:sp>
        <p:nvSpPr>
          <p:cNvPr id="362" name=""/>
          <p:cNvSpPr/>
          <p:nvPr/>
        </p:nvSpPr>
        <p:spPr>
          <a:xfrm flipV="1">
            <a:off x="4419720" y="2742840"/>
            <a:ext cx="780840" cy="609480"/>
          </a:xfrm>
          <a:prstGeom prst="line">
            <a:avLst/>
          </a:prstGeom>
          <a:ln w="507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63" name=""/>
          <p:cNvSpPr/>
          <p:nvPr/>
        </p:nvSpPr>
        <p:spPr>
          <a:xfrm>
            <a:off x="4741920" y="4413240"/>
            <a:ext cx="1233360" cy="457200"/>
          </a:xfrm>
          <a:prstGeom prst="line">
            <a:avLst/>
          </a:prstGeom>
          <a:ln w="507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64" name=""/>
          <p:cNvSpPr/>
          <p:nvPr/>
        </p:nvSpPr>
        <p:spPr>
          <a:xfrm>
            <a:off x="1884240" y="2889360"/>
            <a:ext cx="1040040" cy="533160"/>
          </a:xfrm>
          <a:prstGeom prst="line">
            <a:avLst/>
          </a:prstGeom>
          <a:ln w="50760">
            <a:solidFill>
              <a:srgbClr val="00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65" name=""/>
          <p:cNvSpPr/>
          <p:nvPr/>
        </p:nvSpPr>
        <p:spPr>
          <a:xfrm flipH="1">
            <a:off x="1753920" y="4336920"/>
            <a:ext cx="779400" cy="304920"/>
          </a:xfrm>
          <a:prstGeom prst="line">
            <a:avLst/>
          </a:prstGeom>
          <a:ln w="507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66" name=""/>
          <p:cNvSpPr/>
          <p:nvPr/>
        </p:nvSpPr>
        <p:spPr>
          <a:xfrm>
            <a:off x="226440" y="4038480"/>
            <a:ext cx="15872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Professional</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Journals</a:t>
            </a:r>
            <a:endParaRPr b="0" lang="en-US" sz="2000" spc="-1" strike="noStrike">
              <a:solidFill>
                <a:srgbClr val="eaeaea"/>
              </a:solidFill>
              <a:latin typeface="Times New Roman"/>
            </a:endParaRPr>
          </a:p>
        </p:txBody>
      </p:sp>
      <p:sp>
        <p:nvSpPr>
          <p:cNvPr id="367" name=""/>
          <p:cNvSpPr/>
          <p:nvPr/>
        </p:nvSpPr>
        <p:spPr>
          <a:xfrm>
            <a:off x="6032520" y="4495680"/>
            <a:ext cx="1171440" cy="1922040"/>
          </a:xfrm>
          <a:prstGeom prst="rect">
            <a:avLst/>
          </a:prstGeom>
          <a:solidFill>
            <a:srgbClr val="000099"/>
          </a:solidFill>
          <a:ln w="12600">
            <a:solidFill>
              <a:srgbClr val="eaeaea"/>
            </a:solidFill>
            <a:miter/>
          </a:ln>
          <a:effectLst>
            <a:outerShdw dist="107932" dir="2700000" blurRad="0" rotWithShape="0">
              <a:srgbClr val="808080"/>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IAEA</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RADEV</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Annual</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Report</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368" name=""/>
          <p:cNvSpPr/>
          <p:nvPr/>
        </p:nvSpPr>
        <p:spPr>
          <a:xfrm>
            <a:off x="6041880" y="6165720"/>
            <a:ext cx="116856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69"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RADEV</a:t>
            </a:r>
            <a:endParaRPr b="0" lang="en-US" sz="36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B8455A17-2090-447F-AE09-9659F809A88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70" name=""/>
          <p:cNvSpPr/>
          <p:nvPr/>
        </p:nvSpPr>
        <p:spPr>
          <a:xfrm>
            <a:off x="609480" y="1371600"/>
            <a:ext cx="8001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Information included in this searchable database:</a:t>
            </a:r>
            <a:endParaRPr b="0" lang="en-US" sz="2400" spc="-1" strike="noStrike">
              <a:solidFill>
                <a:srgbClr val="eaeaea"/>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  </a:t>
            </a:r>
            <a:r>
              <a:rPr b="0" lang="en-IE" sz="2400" spc="-1" strike="noStrike">
                <a:solidFill>
                  <a:srgbClr val="ffffff"/>
                </a:solidFill>
                <a:latin typeface="Arial"/>
              </a:rPr>
              <a:t>Description of event (free-text)</a:t>
            </a:r>
            <a:endParaRPr b="0" lang="en-US" sz="2400" spc="-1" strike="noStrike">
              <a:solidFill>
                <a:srgbClr val="eaeaea"/>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  </a:t>
            </a:r>
            <a:r>
              <a:rPr b="0" lang="en-IE" sz="2400" spc="-1" strike="noStrike">
                <a:solidFill>
                  <a:srgbClr val="ffffff"/>
                </a:solidFill>
                <a:latin typeface="Arial"/>
              </a:rPr>
              <a:t>Type of practice involved in event (drop-down list)</a:t>
            </a:r>
            <a:endParaRPr b="0" lang="en-US" sz="2400" spc="-1" strike="noStrike">
              <a:solidFill>
                <a:srgbClr val="eaeaea"/>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  </a:t>
            </a:r>
            <a:r>
              <a:rPr b="0" lang="en-IE" sz="2400" spc="-1" strike="noStrike">
                <a:solidFill>
                  <a:srgbClr val="ffffff"/>
                </a:solidFill>
                <a:latin typeface="Arial"/>
              </a:rPr>
              <a:t>Radiation source (drop-down list)</a:t>
            </a:r>
            <a:endParaRPr b="0" lang="en-US" sz="2400" spc="-1" strike="noStrike">
              <a:solidFill>
                <a:srgbClr val="eaeaea"/>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  </a:t>
            </a:r>
            <a:r>
              <a:rPr b="0" lang="en-IE" sz="2400" spc="-1" strike="noStrike">
                <a:solidFill>
                  <a:srgbClr val="ffffff"/>
                </a:solidFill>
                <a:latin typeface="Arial"/>
              </a:rPr>
              <a:t>Type of event (drop-down list)</a:t>
            </a:r>
            <a:endParaRPr b="0" lang="en-US" sz="2400" spc="-1" strike="noStrike">
              <a:solidFill>
                <a:srgbClr val="eaeaea"/>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  </a:t>
            </a:r>
            <a:r>
              <a:rPr b="0" lang="en-IE" sz="2400" spc="-1" strike="noStrike">
                <a:solidFill>
                  <a:srgbClr val="ffffff"/>
                </a:solidFill>
                <a:latin typeface="Arial"/>
              </a:rPr>
              <a:t>Causes (drop-down list)</a:t>
            </a:r>
            <a:endParaRPr b="0" lang="en-US" sz="2400" spc="-1" strike="noStrike">
              <a:solidFill>
                <a:srgbClr val="eaeaea"/>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  </a:t>
            </a:r>
            <a:r>
              <a:rPr b="0" lang="en-IE" sz="2400" spc="-1" strike="noStrike">
                <a:solidFill>
                  <a:srgbClr val="ffffff"/>
                </a:solidFill>
                <a:latin typeface="Arial"/>
              </a:rPr>
              <a:t>Lessons to learn (free-text)</a:t>
            </a:r>
            <a:endParaRPr b="0" lang="en-US" sz="2400" spc="-1" strike="noStrike">
              <a:solidFill>
                <a:srgbClr val="eaeaea"/>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  </a:t>
            </a:r>
            <a:r>
              <a:rPr b="0" lang="en-IE" sz="2400" spc="-1" strike="noStrike">
                <a:solidFill>
                  <a:srgbClr val="ffffff"/>
                </a:solidFill>
                <a:latin typeface="Arial"/>
              </a:rPr>
              <a:t>Response brought on by event (tick-box)</a:t>
            </a:r>
            <a:endParaRPr b="0" lang="en-US" sz="2400" spc="-1" strike="noStrike">
              <a:solidFill>
                <a:srgbClr val="eaeaea"/>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  </a:t>
            </a:r>
            <a:r>
              <a:rPr b="0" lang="en-IE" sz="2400" spc="-1" strike="noStrike">
                <a:solidFill>
                  <a:srgbClr val="ffffff"/>
                </a:solidFill>
                <a:latin typeface="Arial"/>
              </a:rPr>
              <a:t>Corrective action (free-text)</a:t>
            </a:r>
            <a:endParaRPr b="0" lang="en-US" sz="2400" spc="-1" strike="noStrike">
              <a:solidFill>
                <a:srgbClr val="eaeaea"/>
              </a:solidFill>
              <a:latin typeface="Times New Roman"/>
            </a:endParaRPr>
          </a:p>
        </p:txBody>
      </p:sp>
      <p:sp>
        <p:nvSpPr>
          <p:cNvPr id="371"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RADEV</a:t>
            </a:r>
            <a:endParaRPr b="0" lang="en-US" sz="36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45338CD9-BEC2-4639-B4CA-24BBD8E5CBF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0" y="0"/>
            <a:ext cx="9144000" cy="6856560"/>
          </a:xfrm>
          <a:prstGeom prst="rect">
            <a:avLst/>
          </a:prstGeom>
          <a:ln w="0">
            <a:noFill/>
          </a:ln>
        </p:spPr>
      </p:pic>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B0780433-CD64-49A8-87C1-8883A3483C1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73" name=""/>
          <p:cNvSpPr/>
          <p:nvPr/>
        </p:nvSpPr>
        <p:spPr>
          <a:xfrm>
            <a:off x="0" y="0"/>
            <a:ext cx="9144000" cy="6858000"/>
          </a:xfrm>
          <a:prstGeom prst="rect">
            <a:avLst/>
          </a:prstGeom>
          <a:solidFill>
            <a:srgbClr val="fdda59"/>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74" name=""/>
          <p:cNvSpPr/>
          <p:nvPr/>
        </p:nvSpPr>
        <p:spPr>
          <a:xfrm>
            <a:off x="595440" y="2647800"/>
            <a:ext cx="7953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he ROSIS system</a:t>
            </a:r>
            <a:endParaRPr b="0" lang="en-US" sz="36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3B241AEC-15A8-4E6E-96EA-3ACAD497710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75" name=""/>
          <p:cNvSpPr/>
          <p:nvPr/>
        </p:nvSpPr>
        <p:spPr>
          <a:xfrm>
            <a:off x="228600" y="1219320"/>
            <a:ext cx="4267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ffcc00"/>
                </a:solidFill>
                <a:latin typeface="Arial"/>
              </a:rPr>
              <a:t>http://www.rosis.info</a:t>
            </a:r>
            <a:endParaRPr b="0" lang="en-US" sz="2200" spc="-1" strike="noStrike">
              <a:solidFill>
                <a:srgbClr val="eaeaea"/>
              </a:solidFill>
              <a:latin typeface="Times New Roman"/>
            </a:endParaRPr>
          </a:p>
        </p:txBody>
      </p:sp>
      <p:sp>
        <p:nvSpPr>
          <p:cNvPr id="376" name=""/>
          <p:cNvSpPr/>
          <p:nvPr/>
        </p:nvSpPr>
        <p:spPr>
          <a:xfrm>
            <a:off x="228600" y="152280"/>
            <a:ext cx="4343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ccecff"/>
                </a:solidFill>
                <a:latin typeface="Arial"/>
              </a:rPr>
              <a:t>ROSIS </a:t>
            </a:r>
            <a:r>
              <a:rPr b="1" lang="en-IE" sz="2000" spc="-1" strike="noStrike">
                <a:solidFill>
                  <a:srgbClr val="ccecff"/>
                </a:solidFill>
                <a:latin typeface="Arial"/>
              </a:rPr>
              <a:t>Radiation Oncology Safety Information System</a:t>
            </a:r>
            <a:endParaRPr b="0" lang="en-US" sz="2000" spc="-1" strike="noStrike">
              <a:solidFill>
                <a:srgbClr val="eaeaea"/>
              </a:solidFill>
              <a:latin typeface="Times New Roman"/>
            </a:endParaRPr>
          </a:p>
        </p:txBody>
      </p:sp>
      <p:sp>
        <p:nvSpPr>
          <p:cNvPr id="377" name=""/>
          <p:cNvSpPr/>
          <p:nvPr/>
        </p:nvSpPr>
        <p:spPr>
          <a:xfrm>
            <a:off x="228600" y="1676520"/>
            <a:ext cx="3886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ffcc00"/>
                </a:solidFill>
                <a:latin typeface="Arial"/>
              </a:rPr>
              <a:t>Supporting organization during the development phase:</a:t>
            </a:r>
            <a:endParaRPr b="0" lang="en-US" sz="2200" spc="-1" strike="noStrike">
              <a:solidFill>
                <a:srgbClr val="eaeaea"/>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a:rPr>
              <a:t> </a:t>
            </a:r>
            <a:r>
              <a:rPr b="1" lang="en-IE" sz="2000" spc="-1" strike="noStrike">
                <a:solidFill>
                  <a:srgbClr val="ffffff"/>
                </a:solidFill>
                <a:latin typeface="Arial"/>
              </a:rPr>
              <a:t>European Society for Therapeutic Radiology and Oncology (ESTRO)</a:t>
            </a:r>
            <a:endParaRPr b="0" lang="en-US" sz="2000" spc="-1" strike="noStrike">
              <a:solidFill>
                <a:srgbClr val="eaeaea"/>
              </a:solidFill>
              <a:latin typeface="Times New Roman"/>
            </a:endParaRPr>
          </a:p>
        </p:txBody>
      </p:sp>
      <p:pic>
        <p:nvPicPr>
          <p:cNvPr id="378" name="" descr=""/>
          <p:cNvPicPr/>
          <p:nvPr/>
        </p:nvPicPr>
        <p:blipFill>
          <a:blip r:embed="rId1"/>
          <a:stretch/>
        </p:blipFill>
        <p:spPr>
          <a:xfrm>
            <a:off x="4932360" y="404640"/>
            <a:ext cx="3851280" cy="5945400"/>
          </a:xfrm>
          <a:prstGeom prst="rect">
            <a:avLst/>
          </a:prstGeom>
          <a:ln w="0">
            <a:noFill/>
          </a:ln>
        </p:spPr>
      </p:pic>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F0B183FC-203B-4DF1-967B-7F2D0EFA1F7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79" name=""/>
          <p:cNvSpPr/>
          <p:nvPr/>
        </p:nvSpPr>
        <p:spPr>
          <a:xfrm>
            <a:off x="533520" y="1219320"/>
            <a:ext cx="82296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Proposed in 2001 by Mary Coffey and Ola Holmberg</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u="sng">
                <a:solidFill>
                  <a:srgbClr val="ffcc00"/>
                </a:solidFill>
                <a:uFillTx/>
                <a:latin typeface="Arial"/>
              </a:rPr>
              <a:t>Steering Committee:</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Ola Holmberg, Project Leader, Malm</a:t>
            </a:r>
            <a:r>
              <a:rPr b="0" lang="en-IE" sz="2400" spc="-1" strike="noStrike">
                <a:solidFill>
                  <a:srgbClr val="ffcc00"/>
                </a:solidFill>
                <a:latin typeface="Arial"/>
                <a:ea typeface="Arial"/>
              </a:rPr>
              <a:t>ö</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Mary Coffey, Dublin</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Joanne Cunningham, Research Assistant, Dublin</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Tommy Knöös, Lund</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Ingrid Kristensen, Lund</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Torsten Landberg, Copenhagen</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Håkan Nyström, Copenhagen</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Ann Barrett, Norwich</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Hans Svensson, Stockholm</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Guy Francois, ESTRO, Brussels</a:t>
            </a:r>
            <a:endParaRPr b="0" lang="en-US" sz="2400" spc="-1" strike="noStrike">
              <a:solidFill>
                <a:srgbClr val="eaeaea"/>
              </a:solidFill>
              <a:latin typeface="Times New Roman"/>
            </a:endParaRPr>
          </a:p>
        </p:txBody>
      </p:sp>
      <p:sp>
        <p:nvSpPr>
          <p:cNvPr id="380"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ROSIS</a:t>
            </a:r>
            <a:endParaRPr b="0" lang="en-US" sz="3600" spc="-1" strike="noStrike">
              <a:solidFill>
                <a:srgbClr val="eaeaea"/>
              </a:solidFill>
              <a:latin typeface="Times New Roman"/>
            </a:endParaRPr>
          </a:p>
        </p:txBody>
      </p:sp>
      <p:sp>
        <p:nvSpPr>
          <p:cNvPr id="381" name=""/>
          <p:cNvSpPr/>
          <p:nvPr/>
        </p:nvSpPr>
        <p:spPr>
          <a:xfrm>
            <a:off x="7848720" y="266688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cc00"/>
                </a:solidFill>
                <a:latin typeface="Arial"/>
              </a:rPr>
              <a:t>Working </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cc00"/>
                </a:solidFill>
                <a:latin typeface="Arial"/>
              </a:rPr>
              <a:t>group</a:t>
            </a:r>
            <a:endParaRPr b="0" lang="en-US" sz="1800" spc="-1" strike="noStrike">
              <a:solidFill>
                <a:srgbClr val="eaeaea"/>
              </a:solidFill>
              <a:latin typeface="Times New Roman"/>
            </a:endParaRPr>
          </a:p>
        </p:txBody>
      </p:sp>
      <p:sp>
        <p:nvSpPr>
          <p:cNvPr id="382" name=""/>
          <p:cNvSpPr/>
          <p:nvPr/>
        </p:nvSpPr>
        <p:spPr>
          <a:xfrm>
            <a:off x="7620120" y="2286000"/>
            <a:ext cx="0" cy="144792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83" name=""/>
          <p:cNvSpPr/>
          <p:nvPr/>
        </p:nvSpPr>
        <p:spPr>
          <a:xfrm>
            <a:off x="7772400" y="2286000"/>
            <a:ext cx="0" cy="144792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A84214B2-6E7A-4707-9CA0-E90EDAF995E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84" name=""/>
          <p:cNvSpPr/>
          <p:nvPr/>
        </p:nvSpPr>
        <p:spPr>
          <a:xfrm>
            <a:off x="533520" y="1219320"/>
            <a:ext cx="8229600" cy="4848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Main objectives:</a:t>
            </a:r>
            <a:endParaRPr b="0" lang="en-US" sz="2400" spc="-1" strike="noStrike">
              <a:solidFill>
                <a:srgbClr val="eaeaea"/>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457200" indent="-457200">
              <a:lnSpc>
                <a:spcPct val="100000"/>
              </a:lnSpc>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To establish a </a:t>
            </a:r>
            <a:r>
              <a:rPr b="0" lang="en-IE" sz="2400" spc="-1" strike="noStrike">
                <a:solidFill>
                  <a:srgbClr val="ffcc00"/>
                </a:solidFill>
                <a:latin typeface="Arial"/>
              </a:rPr>
              <a:t>web-based system</a:t>
            </a:r>
            <a:r>
              <a:rPr b="0" lang="en-IE" sz="2400" spc="-1" strike="noStrike">
                <a:solidFill>
                  <a:srgbClr val="eaeaea"/>
                </a:solidFill>
                <a:latin typeface="Arial"/>
              </a:rPr>
              <a:t> whereby radiotherapy incidents can be analysed in a systematic and objective way, and the </a:t>
            </a:r>
            <a:r>
              <a:rPr b="0" lang="en-IE" sz="2400" spc="-1" strike="noStrike">
                <a:solidFill>
                  <a:srgbClr val="ffcc00"/>
                </a:solidFill>
                <a:latin typeface="Arial"/>
              </a:rPr>
              <a:t>information shared through web-access to a centralised database</a:t>
            </a:r>
            <a:endParaRPr b="0" lang="en-US" sz="2400" spc="-1" strike="noStrike">
              <a:solidFill>
                <a:srgbClr val="eaeaea"/>
              </a:solidFill>
              <a:latin typeface="Times New Roman"/>
            </a:endParaRPr>
          </a:p>
          <a:p>
            <a:pPr marL="457200" indent="-457200">
              <a:lnSpc>
                <a:spcPct val="100000"/>
              </a:lnSpc>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457200" indent="-457200">
              <a:lnSpc>
                <a:spcPct val="100000"/>
              </a:lnSpc>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To enable radiotherapy clinics to address safety issues </a:t>
            </a:r>
            <a:r>
              <a:rPr b="0" lang="en-IE" sz="2400" spc="-1" strike="noStrike">
                <a:solidFill>
                  <a:srgbClr val="ffcc00"/>
                </a:solidFill>
                <a:latin typeface="Arial"/>
              </a:rPr>
              <a:t>before an accidental exposure occurs</a:t>
            </a:r>
            <a:r>
              <a:rPr b="0" lang="en-IE" sz="2400" spc="-1" strike="noStrike">
                <a:solidFill>
                  <a:srgbClr val="eaeaea"/>
                </a:solidFill>
                <a:latin typeface="Arial"/>
              </a:rPr>
              <a:t> and to create a general culture of </a:t>
            </a:r>
            <a:r>
              <a:rPr b="0" lang="en-IE" sz="2400" spc="-1" strike="noStrike">
                <a:solidFill>
                  <a:srgbClr val="ffcc00"/>
                </a:solidFill>
                <a:latin typeface="Arial"/>
              </a:rPr>
              <a:t>safety awareness</a:t>
            </a:r>
            <a:r>
              <a:rPr b="0" lang="en-IE" sz="2400" spc="-1" strike="noStrike">
                <a:solidFill>
                  <a:srgbClr val="eaeaea"/>
                </a:solidFill>
                <a:latin typeface="Arial"/>
              </a:rPr>
              <a:t> by making information available on details of incidents, near-incidents and corrective actions, submitted on-line by other radiotherapy clinics</a:t>
            </a:r>
            <a:endParaRPr b="0" lang="en-US" sz="2400" spc="-1" strike="noStrike">
              <a:solidFill>
                <a:srgbClr val="eaeaea"/>
              </a:solidFill>
              <a:latin typeface="Times New Roman"/>
            </a:endParaRPr>
          </a:p>
        </p:txBody>
      </p:sp>
      <p:sp>
        <p:nvSpPr>
          <p:cNvPr id="385"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ROSIS</a:t>
            </a:r>
            <a:endParaRPr b="0" lang="en-US" sz="36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AFB07E06-6A71-4BED-88C1-80900D5CCDE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86" name=""/>
          <p:cNvSpPr/>
          <p:nvPr/>
        </p:nvSpPr>
        <p:spPr>
          <a:xfrm>
            <a:off x="533520" y="1219320"/>
            <a:ext cx="8229600" cy="4848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Main objectives:</a:t>
            </a:r>
            <a:endParaRPr b="0" lang="en-US" sz="2400" spc="-1" strike="noStrike">
              <a:solidFill>
                <a:srgbClr val="eaeaea"/>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457200" indent="-457200">
              <a:lnSpc>
                <a:spcPct val="100000"/>
              </a:lnSpc>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To define a </a:t>
            </a:r>
            <a:r>
              <a:rPr b="0" lang="en-IE" sz="2400" spc="-1" strike="noStrike">
                <a:solidFill>
                  <a:srgbClr val="ffcc00"/>
                </a:solidFill>
                <a:latin typeface="Arial"/>
              </a:rPr>
              <a:t>hazard classification system</a:t>
            </a:r>
            <a:r>
              <a:rPr b="0" lang="en-IE" sz="2400" spc="-1" strike="noStrike">
                <a:solidFill>
                  <a:srgbClr val="ffffff"/>
                </a:solidFill>
                <a:latin typeface="Arial"/>
              </a:rPr>
              <a:t> and perform </a:t>
            </a:r>
            <a:r>
              <a:rPr b="0" lang="en-IE" sz="2400" spc="-1" strike="noStrike">
                <a:solidFill>
                  <a:srgbClr val="ffcc00"/>
                </a:solidFill>
                <a:latin typeface="Arial"/>
              </a:rPr>
              <a:t>frequency analysis</a:t>
            </a:r>
            <a:r>
              <a:rPr b="0" lang="en-IE" sz="2400" spc="-1" strike="noStrike">
                <a:solidFill>
                  <a:srgbClr val="ffffff"/>
                </a:solidFill>
                <a:latin typeface="Arial"/>
              </a:rPr>
              <a:t>, leading to the identification of </a:t>
            </a:r>
            <a:r>
              <a:rPr b="0" lang="en-IE" sz="2400" spc="-1" strike="noStrike">
                <a:solidFill>
                  <a:srgbClr val="ffcc00"/>
                </a:solidFill>
                <a:latin typeface="Arial"/>
              </a:rPr>
              <a:t>safety-critical steps</a:t>
            </a:r>
            <a:r>
              <a:rPr b="0" lang="en-IE" sz="2400" spc="-1" strike="noStrike">
                <a:solidFill>
                  <a:srgbClr val="ffffff"/>
                </a:solidFill>
                <a:latin typeface="Arial"/>
              </a:rPr>
              <a:t> in the radiotherapy treatment process where errors are likely to occur or be detected</a:t>
            </a:r>
            <a:endParaRPr b="0" lang="en-US" sz="2400" spc="-1" strike="noStrike">
              <a:solidFill>
                <a:srgbClr val="eaeaea"/>
              </a:solidFill>
              <a:latin typeface="Times New Roman"/>
            </a:endParaRPr>
          </a:p>
          <a:p>
            <a:pPr marL="457200" indent="-457200">
              <a:lnSpc>
                <a:spcPct val="100000"/>
              </a:lnSpc>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457200" indent="-457200">
              <a:lnSpc>
                <a:spcPct val="100000"/>
              </a:lnSpc>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To allow </a:t>
            </a:r>
            <a:r>
              <a:rPr b="0" lang="en-IE" sz="2400" spc="-1" strike="noStrike">
                <a:solidFill>
                  <a:srgbClr val="ffcc00"/>
                </a:solidFill>
                <a:latin typeface="Arial"/>
              </a:rPr>
              <a:t>current best practice in incident reporting</a:t>
            </a:r>
            <a:r>
              <a:rPr b="0" lang="en-IE" sz="2400" spc="-1" strike="noStrike">
                <a:solidFill>
                  <a:srgbClr val="ffffff"/>
                </a:solidFill>
                <a:latin typeface="Arial"/>
              </a:rPr>
              <a:t> within medical as well as non-medical settings to be utilized in radiotherapy by identifying high-reliability organizations outside radiotherapy and the methods used within these organizations for incident and near-incident reporting, evaluation and feedback</a:t>
            </a:r>
            <a:endParaRPr b="0" lang="en-US" sz="2400" spc="-1" strike="noStrike">
              <a:solidFill>
                <a:srgbClr val="eaeaea"/>
              </a:solidFill>
              <a:latin typeface="Times New Roman"/>
            </a:endParaRPr>
          </a:p>
        </p:txBody>
      </p:sp>
      <p:sp>
        <p:nvSpPr>
          <p:cNvPr id="387"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ROSIS</a:t>
            </a:r>
            <a:endParaRPr b="0" lang="en-US" sz="36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3A9DA22D-5BDC-458A-A9FA-BAAE435E840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7" name=""/>
          <p:cNvSpPr/>
          <p:nvPr/>
        </p:nvSpPr>
        <p:spPr>
          <a:xfrm>
            <a:off x="0" y="1143000"/>
            <a:ext cx="9144000" cy="5715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8"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ackground</a:t>
            </a:r>
            <a:endParaRPr b="0" lang="en-US" sz="3600" spc="-1" strike="noStrike">
              <a:solidFill>
                <a:srgbClr val="eaeaea"/>
              </a:solidFill>
              <a:latin typeface="Times New Roman"/>
            </a:endParaRPr>
          </a:p>
        </p:txBody>
      </p:sp>
      <p:pic>
        <p:nvPicPr>
          <p:cNvPr id="129" name="" descr=""/>
          <p:cNvPicPr/>
          <p:nvPr/>
        </p:nvPicPr>
        <p:blipFill>
          <a:blip r:embed="rId1"/>
          <a:stretch/>
        </p:blipFill>
        <p:spPr>
          <a:xfrm>
            <a:off x="609480" y="1371600"/>
            <a:ext cx="7925040" cy="5149800"/>
          </a:xfrm>
          <a:prstGeom prst="rect">
            <a:avLst/>
          </a:prstGeom>
          <a:ln w="0">
            <a:noFill/>
          </a:ln>
        </p:spPr>
      </p:pic>
      <p:sp>
        <p:nvSpPr>
          <p:cNvPr id="130" name=""/>
          <p:cNvSpPr/>
          <p:nvPr/>
        </p:nvSpPr>
        <p:spPr>
          <a:xfrm>
            <a:off x="752400" y="1581120"/>
            <a:ext cx="7632720" cy="4943520"/>
          </a:xfrm>
          <a:custGeom>
            <a:avLst/>
            <a:gdLst/>
            <a:ahLst/>
            <a:rect l="l" t="t" r="r" b="b"/>
            <a:pathLst>
              <a:path w="4808" h="3114">
                <a:moveTo>
                  <a:pt x="84" y="2700"/>
                </a:moveTo>
                <a:cubicBezTo>
                  <a:pt x="75" y="2674"/>
                  <a:pt x="59" y="2653"/>
                  <a:pt x="48" y="2628"/>
                </a:cubicBezTo>
                <a:cubicBezTo>
                  <a:pt x="43" y="2616"/>
                  <a:pt x="40" y="2604"/>
                  <a:pt x="36" y="2592"/>
                </a:cubicBezTo>
                <a:cubicBezTo>
                  <a:pt x="34" y="2586"/>
                  <a:pt x="30" y="2574"/>
                  <a:pt x="30" y="2574"/>
                </a:cubicBezTo>
                <a:cubicBezTo>
                  <a:pt x="19" y="2426"/>
                  <a:pt x="15" y="2278"/>
                  <a:pt x="0" y="2130"/>
                </a:cubicBezTo>
                <a:cubicBezTo>
                  <a:pt x="2" y="2084"/>
                  <a:pt x="3" y="2038"/>
                  <a:pt x="6" y="1992"/>
                </a:cubicBezTo>
                <a:cubicBezTo>
                  <a:pt x="8" y="1957"/>
                  <a:pt x="34" y="1860"/>
                  <a:pt x="54" y="1830"/>
                </a:cubicBezTo>
                <a:cubicBezTo>
                  <a:pt x="62" y="1818"/>
                  <a:pt x="73" y="1808"/>
                  <a:pt x="78" y="1794"/>
                </a:cubicBezTo>
                <a:cubicBezTo>
                  <a:pt x="88" y="1765"/>
                  <a:pt x="97" y="1726"/>
                  <a:pt x="126" y="1716"/>
                </a:cubicBezTo>
                <a:cubicBezTo>
                  <a:pt x="135" y="1690"/>
                  <a:pt x="147" y="1670"/>
                  <a:pt x="156" y="1644"/>
                </a:cubicBezTo>
                <a:cubicBezTo>
                  <a:pt x="153" y="1582"/>
                  <a:pt x="152" y="1507"/>
                  <a:pt x="132" y="1446"/>
                </a:cubicBezTo>
                <a:cubicBezTo>
                  <a:pt x="126" y="1402"/>
                  <a:pt x="125" y="1357"/>
                  <a:pt x="114" y="1314"/>
                </a:cubicBezTo>
                <a:cubicBezTo>
                  <a:pt x="118" y="1203"/>
                  <a:pt x="114" y="1157"/>
                  <a:pt x="144" y="1068"/>
                </a:cubicBezTo>
                <a:cubicBezTo>
                  <a:pt x="155" y="1034"/>
                  <a:pt x="161" y="998"/>
                  <a:pt x="192" y="978"/>
                </a:cubicBezTo>
                <a:cubicBezTo>
                  <a:pt x="204" y="941"/>
                  <a:pt x="231" y="895"/>
                  <a:pt x="270" y="882"/>
                </a:cubicBezTo>
                <a:cubicBezTo>
                  <a:pt x="278" y="858"/>
                  <a:pt x="294" y="852"/>
                  <a:pt x="312" y="834"/>
                </a:cubicBezTo>
                <a:cubicBezTo>
                  <a:pt x="324" y="799"/>
                  <a:pt x="356" y="779"/>
                  <a:pt x="390" y="768"/>
                </a:cubicBezTo>
                <a:cubicBezTo>
                  <a:pt x="406" y="752"/>
                  <a:pt x="417" y="729"/>
                  <a:pt x="438" y="720"/>
                </a:cubicBezTo>
                <a:cubicBezTo>
                  <a:pt x="472" y="705"/>
                  <a:pt x="469" y="715"/>
                  <a:pt x="492" y="696"/>
                </a:cubicBezTo>
                <a:cubicBezTo>
                  <a:pt x="525" y="669"/>
                  <a:pt x="577" y="620"/>
                  <a:pt x="618" y="606"/>
                </a:cubicBezTo>
                <a:cubicBezTo>
                  <a:pt x="622" y="600"/>
                  <a:pt x="625" y="593"/>
                  <a:pt x="630" y="588"/>
                </a:cubicBezTo>
                <a:cubicBezTo>
                  <a:pt x="635" y="583"/>
                  <a:pt x="643" y="581"/>
                  <a:pt x="648" y="576"/>
                </a:cubicBezTo>
                <a:cubicBezTo>
                  <a:pt x="697" y="520"/>
                  <a:pt x="650" y="555"/>
                  <a:pt x="690" y="528"/>
                </a:cubicBezTo>
                <a:cubicBezTo>
                  <a:pt x="733" y="464"/>
                  <a:pt x="666" y="561"/>
                  <a:pt x="720" y="492"/>
                </a:cubicBezTo>
                <a:cubicBezTo>
                  <a:pt x="760" y="441"/>
                  <a:pt x="766" y="418"/>
                  <a:pt x="828" y="390"/>
                </a:cubicBezTo>
                <a:cubicBezTo>
                  <a:pt x="903" y="357"/>
                  <a:pt x="825" y="404"/>
                  <a:pt x="900" y="354"/>
                </a:cubicBezTo>
                <a:cubicBezTo>
                  <a:pt x="906" y="350"/>
                  <a:pt x="918" y="342"/>
                  <a:pt x="918" y="342"/>
                </a:cubicBezTo>
                <a:cubicBezTo>
                  <a:pt x="950" y="294"/>
                  <a:pt x="985" y="277"/>
                  <a:pt x="1032" y="246"/>
                </a:cubicBezTo>
                <a:cubicBezTo>
                  <a:pt x="1102" y="200"/>
                  <a:pt x="1168" y="153"/>
                  <a:pt x="1248" y="126"/>
                </a:cubicBezTo>
                <a:cubicBezTo>
                  <a:pt x="1284" y="114"/>
                  <a:pt x="1318" y="90"/>
                  <a:pt x="1356" y="84"/>
                </a:cubicBezTo>
                <a:cubicBezTo>
                  <a:pt x="1380" y="80"/>
                  <a:pt x="1428" y="72"/>
                  <a:pt x="1428" y="72"/>
                </a:cubicBezTo>
                <a:cubicBezTo>
                  <a:pt x="1561" y="82"/>
                  <a:pt x="1667" y="103"/>
                  <a:pt x="1800" y="108"/>
                </a:cubicBezTo>
                <a:cubicBezTo>
                  <a:pt x="1950" y="146"/>
                  <a:pt x="2094" y="171"/>
                  <a:pt x="2250" y="180"/>
                </a:cubicBezTo>
                <a:cubicBezTo>
                  <a:pt x="2378" y="198"/>
                  <a:pt x="2306" y="193"/>
                  <a:pt x="2466" y="186"/>
                </a:cubicBezTo>
                <a:cubicBezTo>
                  <a:pt x="2552" y="157"/>
                  <a:pt x="2642" y="136"/>
                  <a:pt x="2730" y="114"/>
                </a:cubicBezTo>
                <a:cubicBezTo>
                  <a:pt x="2780" y="101"/>
                  <a:pt x="2825" y="72"/>
                  <a:pt x="2874" y="60"/>
                </a:cubicBezTo>
                <a:cubicBezTo>
                  <a:pt x="2971" y="36"/>
                  <a:pt x="3062" y="13"/>
                  <a:pt x="3162" y="0"/>
                </a:cubicBezTo>
                <a:cubicBezTo>
                  <a:pt x="3248" y="2"/>
                  <a:pt x="3334" y="1"/>
                  <a:pt x="3420" y="6"/>
                </a:cubicBezTo>
                <a:cubicBezTo>
                  <a:pt x="3428" y="6"/>
                  <a:pt x="3461" y="21"/>
                  <a:pt x="3474" y="24"/>
                </a:cubicBezTo>
                <a:cubicBezTo>
                  <a:pt x="3522" y="36"/>
                  <a:pt x="3567" y="53"/>
                  <a:pt x="3612" y="72"/>
                </a:cubicBezTo>
                <a:cubicBezTo>
                  <a:pt x="3642" y="85"/>
                  <a:pt x="3677" y="92"/>
                  <a:pt x="3708" y="102"/>
                </a:cubicBezTo>
                <a:cubicBezTo>
                  <a:pt x="3730" y="109"/>
                  <a:pt x="3762" y="132"/>
                  <a:pt x="3780" y="144"/>
                </a:cubicBezTo>
                <a:cubicBezTo>
                  <a:pt x="3844" y="187"/>
                  <a:pt x="3913" y="227"/>
                  <a:pt x="3978" y="270"/>
                </a:cubicBezTo>
                <a:cubicBezTo>
                  <a:pt x="4047" y="316"/>
                  <a:pt x="4125" y="350"/>
                  <a:pt x="4194" y="396"/>
                </a:cubicBezTo>
                <a:cubicBezTo>
                  <a:pt x="4228" y="419"/>
                  <a:pt x="4264" y="461"/>
                  <a:pt x="4302" y="474"/>
                </a:cubicBezTo>
                <a:cubicBezTo>
                  <a:pt x="4324" y="481"/>
                  <a:pt x="4343" y="491"/>
                  <a:pt x="4362" y="504"/>
                </a:cubicBezTo>
                <a:cubicBezTo>
                  <a:pt x="4385" y="538"/>
                  <a:pt x="4429" y="571"/>
                  <a:pt x="4464" y="594"/>
                </a:cubicBezTo>
                <a:cubicBezTo>
                  <a:pt x="4492" y="636"/>
                  <a:pt x="4476" y="622"/>
                  <a:pt x="4506" y="642"/>
                </a:cubicBezTo>
                <a:cubicBezTo>
                  <a:pt x="4549" y="706"/>
                  <a:pt x="4482" y="609"/>
                  <a:pt x="4536" y="678"/>
                </a:cubicBezTo>
                <a:cubicBezTo>
                  <a:pt x="4561" y="711"/>
                  <a:pt x="4578" y="750"/>
                  <a:pt x="4596" y="786"/>
                </a:cubicBezTo>
                <a:cubicBezTo>
                  <a:pt x="4605" y="804"/>
                  <a:pt x="4618" y="821"/>
                  <a:pt x="4626" y="840"/>
                </a:cubicBezTo>
                <a:cubicBezTo>
                  <a:pt x="4631" y="852"/>
                  <a:pt x="4638" y="876"/>
                  <a:pt x="4638" y="876"/>
                </a:cubicBezTo>
                <a:cubicBezTo>
                  <a:pt x="4640" y="934"/>
                  <a:pt x="4639" y="992"/>
                  <a:pt x="4644" y="1050"/>
                </a:cubicBezTo>
                <a:cubicBezTo>
                  <a:pt x="4645" y="1066"/>
                  <a:pt x="4651" y="1082"/>
                  <a:pt x="4656" y="1098"/>
                </a:cubicBezTo>
                <a:cubicBezTo>
                  <a:pt x="4660" y="1110"/>
                  <a:pt x="4668" y="1134"/>
                  <a:pt x="4668" y="1134"/>
                </a:cubicBezTo>
                <a:cubicBezTo>
                  <a:pt x="4673" y="1209"/>
                  <a:pt x="4686" y="1277"/>
                  <a:pt x="4704" y="1350"/>
                </a:cubicBezTo>
                <a:cubicBezTo>
                  <a:pt x="4706" y="1392"/>
                  <a:pt x="4705" y="1434"/>
                  <a:pt x="4710" y="1476"/>
                </a:cubicBezTo>
                <a:cubicBezTo>
                  <a:pt x="4715" y="1524"/>
                  <a:pt x="4720" y="1499"/>
                  <a:pt x="4734" y="1530"/>
                </a:cubicBezTo>
                <a:cubicBezTo>
                  <a:pt x="4755" y="1577"/>
                  <a:pt x="4778" y="1626"/>
                  <a:pt x="4794" y="1674"/>
                </a:cubicBezTo>
                <a:cubicBezTo>
                  <a:pt x="4800" y="1791"/>
                  <a:pt x="4808" y="1887"/>
                  <a:pt x="4794" y="2010"/>
                </a:cubicBezTo>
                <a:cubicBezTo>
                  <a:pt x="4792" y="2024"/>
                  <a:pt x="4778" y="2034"/>
                  <a:pt x="4770" y="2046"/>
                </a:cubicBezTo>
                <a:cubicBezTo>
                  <a:pt x="4763" y="2057"/>
                  <a:pt x="4762" y="2070"/>
                  <a:pt x="4758" y="2082"/>
                </a:cubicBezTo>
                <a:cubicBezTo>
                  <a:pt x="4732" y="2160"/>
                  <a:pt x="4702" y="2235"/>
                  <a:pt x="4686" y="2316"/>
                </a:cubicBezTo>
                <a:cubicBezTo>
                  <a:pt x="4679" y="2416"/>
                  <a:pt x="4664" y="2465"/>
                  <a:pt x="4626" y="2550"/>
                </a:cubicBezTo>
                <a:cubicBezTo>
                  <a:pt x="4618" y="2567"/>
                  <a:pt x="4621" y="2591"/>
                  <a:pt x="4608" y="2604"/>
                </a:cubicBezTo>
                <a:cubicBezTo>
                  <a:pt x="4586" y="2626"/>
                  <a:pt x="4573" y="2656"/>
                  <a:pt x="4548" y="2676"/>
                </a:cubicBezTo>
                <a:cubicBezTo>
                  <a:pt x="4537" y="2685"/>
                  <a:pt x="4522" y="2690"/>
                  <a:pt x="4512" y="2700"/>
                </a:cubicBezTo>
                <a:cubicBezTo>
                  <a:pt x="4481" y="2731"/>
                  <a:pt x="4458" y="2746"/>
                  <a:pt x="4422" y="2766"/>
                </a:cubicBezTo>
                <a:cubicBezTo>
                  <a:pt x="4411" y="2772"/>
                  <a:pt x="4387" y="2795"/>
                  <a:pt x="4368" y="2796"/>
                </a:cubicBezTo>
                <a:cubicBezTo>
                  <a:pt x="4314" y="2800"/>
                  <a:pt x="4260" y="2800"/>
                  <a:pt x="4206" y="2802"/>
                </a:cubicBezTo>
                <a:cubicBezTo>
                  <a:pt x="4171" y="2808"/>
                  <a:pt x="4140" y="2812"/>
                  <a:pt x="4110" y="2832"/>
                </a:cubicBezTo>
                <a:cubicBezTo>
                  <a:pt x="4096" y="2853"/>
                  <a:pt x="4086" y="2866"/>
                  <a:pt x="4062" y="2874"/>
                </a:cubicBezTo>
                <a:cubicBezTo>
                  <a:pt x="4013" y="2947"/>
                  <a:pt x="3911" y="3000"/>
                  <a:pt x="3828" y="3018"/>
                </a:cubicBezTo>
                <a:cubicBezTo>
                  <a:pt x="3801" y="3024"/>
                  <a:pt x="3779" y="3047"/>
                  <a:pt x="3750" y="3048"/>
                </a:cubicBezTo>
                <a:cubicBezTo>
                  <a:pt x="3676" y="3052"/>
                  <a:pt x="3602" y="3053"/>
                  <a:pt x="3528" y="3054"/>
                </a:cubicBezTo>
                <a:cubicBezTo>
                  <a:pt x="3388" y="3057"/>
                  <a:pt x="3248" y="3058"/>
                  <a:pt x="3108" y="3060"/>
                </a:cubicBezTo>
                <a:cubicBezTo>
                  <a:pt x="2820" y="3079"/>
                  <a:pt x="2984" y="3071"/>
                  <a:pt x="2616" y="3078"/>
                </a:cubicBezTo>
                <a:cubicBezTo>
                  <a:pt x="2372" y="3067"/>
                  <a:pt x="2129" y="3079"/>
                  <a:pt x="1884" y="3084"/>
                </a:cubicBezTo>
                <a:cubicBezTo>
                  <a:pt x="1793" y="3114"/>
                  <a:pt x="1692" y="3088"/>
                  <a:pt x="1596" y="3102"/>
                </a:cubicBezTo>
                <a:cubicBezTo>
                  <a:pt x="1402" y="3098"/>
                  <a:pt x="1314" y="3089"/>
                  <a:pt x="1152" y="3078"/>
                </a:cubicBezTo>
                <a:cubicBezTo>
                  <a:pt x="1072" y="3051"/>
                  <a:pt x="961" y="3075"/>
                  <a:pt x="882" y="3078"/>
                </a:cubicBezTo>
                <a:cubicBezTo>
                  <a:pt x="767" y="3097"/>
                  <a:pt x="834" y="3089"/>
                  <a:pt x="678" y="3096"/>
                </a:cubicBezTo>
                <a:cubicBezTo>
                  <a:pt x="630" y="3090"/>
                  <a:pt x="567" y="3088"/>
                  <a:pt x="522" y="3066"/>
                </a:cubicBezTo>
                <a:cubicBezTo>
                  <a:pt x="485" y="3048"/>
                  <a:pt x="453" y="3019"/>
                  <a:pt x="414" y="3006"/>
                </a:cubicBezTo>
                <a:cubicBezTo>
                  <a:pt x="408" y="3000"/>
                  <a:pt x="403" y="2993"/>
                  <a:pt x="396" y="2988"/>
                </a:cubicBezTo>
                <a:cubicBezTo>
                  <a:pt x="385" y="2979"/>
                  <a:pt x="360" y="2964"/>
                  <a:pt x="360" y="2964"/>
                </a:cubicBezTo>
                <a:cubicBezTo>
                  <a:pt x="346" y="2942"/>
                  <a:pt x="333" y="2942"/>
                  <a:pt x="312" y="2928"/>
                </a:cubicBezTo>
                <a:cubicBezTo>
                  <a:pt x="296" y="2904"/>
                  <a:pt x="276" y="2878"/>
                  <a:pt x="252" y="2862"/>
                </a:cubicBezTo>
                <a:cubicBezTo>
                  <a:pt x="239" y="2842"/>
                  <a:pt x="203" y="2789"/>
                  <a:pt x="186" y="2778"/>
                </a:cubicBezTo>
                <a:cubicBezTo>
                  <a:pt x="170" y="2768"/>
                  <a:pt x="150" y="2766"/>
                  <a:pt x="132" y="2760"/>
                </a:cubicBezTo>
                <a:cubicBezTo>
                  <a:pt x="126" y="2758"/>
                  <a:pt x="114" y="2754"/>
                  <a:pt x="114" y="2754"/>
                </a:cubicBezTo>
                <a:cubicBezTo>
                  <a:pt x="108" y="2746"/>
                  <a:pt x="100" y="2739"/>
                  <a:pt x="96" y="2730"/>
                </a:cubicBezTo>
                <a:cubicBezTo>
                  <a:pt x="83" y="2705"/>
                  <a:pt x="84" y="2679"/>
                  <a:pt x="84" y="2700"/>
                </a:cubicBezTo>
                <a:close/>
              </a:path>
            </a:pathLst>
          </a:custGeom>
          <a:noFill/>
          <a:ln w="572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1" name=""/>
          <p:cNvSpPr/>
          <p:nvPr/>
        </p:nvSpPr>
        <p:spPr>
          <a:xfrm>
            <a:off x="5081760" y="2390760"/>
            <a:ext cx="2004840" cy="3343320"/>
          </a:xfrm>
          <a:custGeom>
            <a:avLst/>
            <a:gdLst/>
            <a:ahLst/>
            <a:rect l="l" t="t" r="r" b="b"/>
            <a:pathLst>
              <a:path w="1263" h="2106">
                <a:moveTo>
                  <a:pt x="123" y="1818"/>
                </a:moveTo>
                <a:cubicBezTo>
                  <a:pt x="163" y="1810"/>
                  <a:pt x="190" y="1794"/>
                  <a:pt x="225" y="1776"/>
                </a:cubicBezTo>
                <a:cubicBezTo>
                  <a:pt x="243" y="1767"/>
                  <a:pt x="279" y="1746"/>
                  <a:pt x="279" y="1746"/>
                </a:cubicBezTo>
                <a:cubicBezTo>
                  <a:pt x="292" y="1706"/>
                  <a:pt x="309" y="1674"/>
                  <a:pt x="333" y="1638"/>
                </a:cubicBezTo>
                <a:cubicBezTo>
                  <a:pt x="345" y="1619"/>
                  <a:pt x="331" y="1618"/>
                  <a:pt x="351" y="1602"/>
                </a:cubicBezTo>
                <a:cubicBezTo>
                  <a:pt x="356" y="1598"/>
                  <a:pt x="363" y="1599"/>
                  <a:pt x="369" y="1596"/>
                </a:cubicBezTo>
                <a:cubicBezTo>
                  <a:pt x="386" y="1588"/>
                  <a:pt x="392" y="1579"/>
                  <a:pt x="405" y="1566"/>
                </a:cubicBezTo>
                <a:cubicBezTo>
                  <a:pt x="424" y="1509"/>
                  <a:pt x="406" y="1518"/>
                  <a:pt x="459" y="1500"/>
                </a:cubicBezTo>
                <a:cubicBezTo>
                  <a:pt x="465" y="1498"/>
                  <a:pt x="472" y="1498"/>
                  <a:pt x="477" y="1494"/>
                </a:cubicBezTo>
                <a:cubicBezTo>
                  <a:pt x="486" y="1488"/>
                  <a:pt x="517" y="1467"/>
                  <a:pt x="531" y="1458"/>
                </a:cubicBezTo>
                <a:cubicBezTo>
                  <a:pt x="537" y="1454"/>
                  <a:pt x="549" y="1446"/>
                  <a:pt x="549" y="1446"/>
                </a:cubicBezTo>
                <a:cubicBezTo>
                  <a:pt x="553" y="1440"/>
                  <a:pt x="556" y="1433"/>
                  <a:pt x="561" y="1428"/>
                </a:cubicBezTo>
                <a:cubicBezTo>
                  <a:pt x="566" y="1423"/>
                  <a:pt x="578" y="1423"/>
                  <a:pt x="579" y="1416"/>
                </a:cubicBezTo>
                <a:cubicBezTo>
                  <a:pt x="587" y="1350"/>
                  <a:pt x="565" y="1301"/>
                  <a:pt x="513" y="1266"/>
                </a:cubicBezTo>
                <a:cubicBezTo>
                  <a:pt x="502" y="1233"/>
                  <a:pt x="493" y="1224"/>
                  <a:pt x="507" y="1188"/>
                </a:cubicBezTo>
                <a:cubicBezTo>
                  <a:pt x="512" y="1175"/>
                  <a:pt x="523" y="1164"/>
                  <a:pt x="531" y="1152"/>
                </a:cubicBezTo>
                <a:cubicBezTo>
                  <a:pt x="538" y="1141"/>
                  <a:pt x="567" y="1140"/>
                  <a:pt x="567" y="1140"/>
                </a:cubicBezTo>
                <a:cubicBezTo>
                  <a:pt x="594" y="1100"/>
                  <a:pt x="588" y="1098"/>
                  <a:pt x="621" y="1080"/>
                </a:cubicBezTo>
                <a:cubicBezTo>
                  <a:pt x="634" y="1073"/>
                  <a:pt x="657" y="1056"/>
                  <a:pt x="657" y="1056"/>
                </a:cubicBezTo>
                <a:cubicBezTo>
                  <a:pt x="661" y="1045"/>
                  <a:pt x="673" y="1026"/>
                  <a:pt x="645" y="1026"/>
                </a:cubicBezTo>
                <a:cubicBezTo>
                  <a:pt x="627" y="1026"/>
                  <a:pt x="542" y="1051"/>
                  <a:pt x="525" y="1062"/>
                </a:cubicBezTo>
                <a:cubicBezTo>
                  <a:pt x="513" y="1070"/>
                  <a:pt x="489" y="1086"/>
                  <a:pt x="489" y="1086"/>
                </a:cubicBezTo>
                <a:cubicBezTo>
                  <a:pt x="461" y="1127"/>
                  <a:pt x="479" y="1127"/>
                  <a:pt x="447" y="1116"/>
                </a:cubicBezTo>
                <a:cubicBezTo>
                  <a:pt x="431" y="1091"/>
                  <a:pt x="426" y="1066"/>
                  <a:pt x="417" y="1038"/>
                </a:cubicBezTo>
                <a:cubicBezTo>
                  <a:pt x="419" y="1012"/>
                  <a:pt x="419" y="986"/>
                  <a:pt x="423" y="960"/>
                </a:cubicBezTo>
                <a:cubicBezTo>
                  <a:pt x="429" y="922"/>
                  <a:pt x="451" y="884"/>
                  <a:pt x="459" y="846"/>
                </a:cubicBezTo>
                <a:cubicBezTo>
                  <a:pt x="471" y="791"/>
                  <a:pt x="473" y="733"/>
                  <a:pt x="477" y="678"/>
                </a:cubicBezTo>
                <a:cubicBezTo>
                  <a:pt x="475" y="616"/>
                  <a:pt x="475" y="554"/>
                  <a:pt x="471" y="492"/>
                </a:cubicBezTo>
                <a:cubicBezTo>
                  <a:pt x="470" y="470"/>
                  <a:pt x="447" y="457"/>
                  <a:pt x="441" y="438"/>
                </a:cubicBezTo>
                <a:cubicBezTo>
                  <a:pt x="419" y="372"/>
                  <a:pt x="355" y="285"/>
                  <a:pt x="297" y="246"/>
                </a:cubicBezTo>
                <a:cubicBezTo>
                  <a:pt x="235" y="205"/>
                  <a:pt x="169" y="173"/>
                  <a:pt x="99" y="150"/>
                </a:cubicBezTo>
                <a:cubicBezTo>
                  <a:pt x="87" y="146"/>
                  <a:pt x="75" y="141"/>
                  <a:pt x="63" y="138"/>
                </a:cubicBezTo>
                <a:cubicBezTo>
                  <a:pt x="47" y="134"/>
                  <a:pt x="15" y="126"/>
                  <a:pt x="15" y="126"/>
                </a:cubicBezTo>
                <a:cubicBezTo>
                  <a:pt x="0" y="82"/>
                  <a:pt x="34" y="84"/>
                  <a:pt x="69" y="72"/>
                </a:cubicBezTo>
                <a:cubicBezTo>
                  <a:pt x="148" y="46"/>
                  <a:pt x="201" y="25"/>
                  <a:pt x="285" y="18"/>
                </a:cubicBezTo>
                <a:cubicBezTo>
                  <a:pt x="309" y="12"/>
                  <a:pt x="332" y="5"/>
                  <a:pt x="357" y="0"/>
                </a:cubicBezTo>
                <a:cubicBezTo>
                  <a:pt x="410" y="4"/>
                  <a:pt x="454" y="13"/>
                  <a:pt x="507" y="18"/>
                </a:cubicBezTo>
                <a:cubicBezTo>
                  <a:pt x="559" y="35"/>
                  <a:pt x="611" y="49"/>
                  <a:pt x="663" y="66"/>
                </a:cubicBezTo>
                <a:cubicBezTo>
                  <a:pt x="677" y="71"/>
                  <a:pt x="685" y="87"/>
                  <a:pt x="699" y="90"/>
                </a:cubicBezTo>
                <a:cubicBezTo>
                  <a:pt x="723" y="96"/>
                  <a:pt x="739" y="100"/>
                  <a:pt x="759" y="114"/>
                </a:cubicBezTo>
                <a:cubicBezTo>
                  <a:pt x="793" y="166"/>
                  <a:pt x="748" y="105"/>
                  <a:pt x="789" y="138"/>
                </a:cubicBezTo>
                <a:cubicBezTo>
                  <a:pt x="795" y="143"/>
                  <a:pt x="796" y="151"/>
                  <a:pt x="801" y="156"/>
                </a:cubicBezTo>
                <a:cubicBezTo>
                  <a:pt x="806" y="161"/>
                  <a:pt x="813" y="164"/>
                  <a:pt x="819" y="168"/>
                </a:cubicBezTo>
                <a:cubicBezTo>
                  <a:pt x="838" y="197"/>
                  <a:pt x="874" y="203"/>
                  <a:pt x="903" y="222"/>
                </a:cubicBezTo>
                <a:cubicBezTo>
                  <a:pt x="914" y="256"/>
                  <a:pt x="936" y="261"/>
                  <a:pt x="957" y="288"/>
                </a:cubicBezTo>
                <a:cubicBezTo>
                  <a:pt x="988" y="328"/>
                  <a:pt x="1010" y="380"/>
                  <a:pt x="1053" y="408"/>
                </a:cubicBezTo>
                <a:cubicBezTo>
                  <a:pt x="1066" y="447"/>
                  <a:pt x="1096" y="482"/>
                  <a:pt x="1119" y="516"/>
                </a:cubicBezTo>
                <a:cubicBezTo>
                  <a:pt x="1141" y="549"/>
                  <a:pt x="1154" y="589"/>
                  <a:pt x="1173" y="624"/>
                </a:cubicBezTo>
                <a:cubicBezTo>
                  <a:pt x="1188" y="651"/>
                  <a:pt x="1206" y="668"/>
                  <a:pt x="1215" y="696"/>
                </a:cubicBezTo>
                <a:cubicBezTo>
                  <a:pt x="1221" y="757"/>
                  <a:pt x="1232" y="818"/>
                  <a:pt x="1251" y="876"/>
                </a:cubicBezTo>
                <a:cubicBezTo>
                  <a:pt x="1259" y="899"/>
                  <a:pt x="1263" y="948"/>
                  <a:pt x="1263" y="948"/>
                </a:cubicBezTo>
                <a:cubicBezTo>
                  <a:pt x="1254" y="1040"/>
                  <a:pt x="1261" y="1143"/>
                  <a:pt x="1239" y="1230"/>
                </a:cubicBezTo>
                <a:cubicBezTo>
                  <a:pt x="1230" y="1340"/>
                  <a:pt x="1187" y="1442"/>
                  <a:pt x="1143" y="1542"/>
                </a:cubicBezTo>
                <a:cubicBezTo>
                  <a:pt x="1124" y="1584"/>
                  <a:pt x="1120" y="1612"/>
                  <a:pt x="1095" y="1650"/>
                </a:cubicBezTo>
                <a:cubicBezTo>
                  <a:pt x="1072" y="1685"/>
                  <a:pt x="1058" y="1728"/>
                  <a:pt x="1023" y="1752"/>
                </a:cubicBezTo>
                <a:cubicBezTo>
                  <a:pt x="1016" y="1763"/>
                  <a:pt x="975" y="1834"/>
                  <a:pt x="963" y="1842"/>
                </a:cubicBezTo>
                <a:cubicBezTo>
                  <a:pt x="933" y="1862"/>
                  <a:pt x="894" y="1883"/>
                  <a:pt x="873" y="1914"/>
                </a:cubicBezTo>
                <a:cubicBezTo>
                  <a:pt x="865" y="1926"/>
                  <a:pt x="857" y="1938"/>
                  <a:pt x="849" y="1950"/>
                </a:cubicBezTo>
                <a:cubicBezTo>
                  <a:pt x="845" y="1956"/>
                  <a:pt x="844" y="1966"/>
                  <a:pt x="837" y="1968"/>
                </a:cubicBezTo>
                <a:cubicBezTo>
                  <a:pt x="806" y="1978"/>
                  <a:pt x="776" y="1996"/>
                  <a:pt x="747" y="2010"/>
                </a:cubicBezTo>
                <a:cubicBezTo>
                  <a:pt x="705" y="2031"/>
                  <a:pt x="661" y="2056"/>
                  <a:pt x="621" y="2082"/>
                </a:cubicBezTo>
                <a:cubicBezTo>
                  <a:pt x="605" y="2093"/>
                  <a:pt x="567" y="2106"/>
                  <a:pt x="567" y="2106"/>
                </a:cubicBezTo>
                <a:cubicBezTo>
                  <a:pt x="515" y="2104"/>
                  <a:pt x="463" y="2105"/>
                  <a:pt x="411" y="2100"/>
                </a:cubicBezTo>
                <a:cubicBezTo>
                  <a:pt x="364" y="2096"/>
                  <a:pt x="341" y="2065"/>
                  <a:pt x="303" y="2052"/>
                </a:cubicBezTo>
                <a:cubicBezTo>
                  <a:pt x="267" y="2040"/>
                  <a:pt x="256" y="2032"/>
                  <a:pt x="225" y="2010"/>
                </a:cubicBezTo>
                <a:cubicBezTo>
                  <a:pt x="213" y="2002"/>
                  <a:pt x="201" y="1994"/>
                  <a:pt x="189" y="1986"/>
                </a:cubicBezTo>
                <a:cubicBezTo>
                  <a:pt x="183" y="1982"/>
                  <a:pt x="171" y="1974"/>
                  <a:pt x="171" y="1974"/>
                </a:cubicBezTo>
                <a:cubicBezTo>
                  <a:pt x="139" y="1926"/>
                  <a:pt x="181" y="1984"/>
                  <a:pt x="141" y="1944"/>
                </a:cubicBezTo>
                <a:cubicBezTo>
                  <a:pt x="106" y="1909"/>
                  <a:pt x="119" y="1861"/>
                  <a:pt x="123" y="1818"/>
                </a:cubicBezTo>
                <a:close/>
              </a:path>
            </a:pathLst>
          </a:custGeom>
          <a:solidFill>
            <a:srgbClr val="00ff00">
              <a:alpha val="50000"/>
            </a:srgbClr>
          </a:solidFill>
          <a:ln w="57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2" name=""/>
          <p:cNvSpPr/>
          <p:nvPr/>
        </p:nvSpPr>
        <p:spPr>
          <a:xfrm>
            <a:off x="2295360" y="2495520"/>
            <a:ext cx="2381400" cy="3267000"/>
          </a:xfrm>
          <a:custGeom>
            <a:avLst/>
            <a:gdLst/>
            <a:ahLst/>
            <a:rect l="l" t="t" r="r" b="b"/>
            <a:pathLst>
              <a:path w="1500" h="2058">
                <a:moveTo>
                  <a:pt x="1392" y="1518"/>
                </a:moveTo>
                <a:cubicBezTo>
                  <a:pt x="1369" y="1541"/>
                  <a:pt x="1367" y="1567"/>
                  <a:pt x="1344" y="1590"/>
                </a:cubicBezTo>
                <a:cubicBezTo>
                  <a:pt x="1333" y="1645"/>
                  <a:pt x="1306" y="1695"/>
                  <a:pt x="1284" y="1746"/>
                </a:cubicBezTo>
                <a:cubicBezTo>
                  <a:pt x="1269" y="1780"/>
                  <a:pt x="1262" y="1829"/>
                  <a:pt x="1224" y="1842"/>
                </a:cubicBezTo>
                <a:cubicBezTo>
                  <a:pt x="1154" y="1912"/>
                  <a:pt x="1074" y="1970"/>
                  <a:pt x="984" y="2010"/>
                </a:cubicBezTo>
                <a:cubicBezTo>
                  <a:pt x="956" y="2023"/>
                  <a:pt x="923" y="2036"/>
                  <a:pt x="894" y="2046"/>
                </a:cubicBezTo>
                <a:cubicBezTo>
                  <a:pt x="882" y="2050"/>
                  <a:pt x="858" y="2058"/>
                  <a:pt x="858" y="2058"/>
                </a:cubicBezTo>
                <a:cubicBezTo>
                  <a:pt x="804" y="2056"/>
                  <a:pt x="750" y="2057"/>
                  <a:pt x="696" y="2052"/>
                </a:cubicBezTo>
                <a:cubicBezTo>
                  <a:pt x="689" y="2051"/>
                  <a:pt x="685" y="2043"/>
                  <a:pt x="678" y="2040"/>
                </a:cubicBezTo>
                <a:cubicBezTo>
                  <a:pt x="652" y="2029"/>
                  <a:pt x="622" y="2028"/>
                  <a:pt x="594" y="2022"/>
                </a:cubicBezTo>
                <a:cubicBezTo>
                  <a:pt x="577" y="2019"/>
                  <a:pt x="555" y="2006"/>
                  <a:pt x="540" y="1998"/>
                </a:cubicBezTo>
                <a:cubicBezTo>
                  <a:pt x="527" y="1991"/>
                  <a:pt x="504" y="1974"/>
                  <a:pt x="504" y="1974"/>
                </a:cubicBezTo>
                <a:cubicBezTo>
                  <a:pt x="496" y="1962"/>
                  <a:pt x="488" y="1950"/>
                  <a:pt x="480" y="1938"/>
                </a:cubicBezTo>
                <a:cubicBezTo>
                  <a:pt x="476" y="1933"/>
                  <a:pt x="468" y="1935"/>
                  <a:pt x="462" y="1932"/>
                </a:cubicBezTo>
                <a:cubicBezTo>
                  <a:pt x="449" y="1925"/>
                  <a:pt x="436" y="1918"/>
                  <a:pt x="426" y="1908"/>
                </a:cubicBezTo>
                <a:cubicBezTo>
                  <a:pt x="409" y="1891"/>
                  <a:pt x="398" y="1874"/>
                  <a:pt x="378" y="1860"/>
                </a:cubicBezTo>
                <a:cubicBezTo>
                  <a:pt x="363" y="1838"/>
                  <a:pt x="340" y="1815"/>
                  <a:pt x="318" y="1800"/>
                </a:cubicBezTo>
                <a:cubicBezTo>
                  <a:pt x="309" y="1787"/>
                  <a:pt x="297" y="1777"/>
                  <a:pt x="288" y="1764"/>
                </a:cubicBezTo>
                <a:cubicBezTo>
                  <a:pt x="284" y="1759"/>
                  <a:pt x="286" y="1751"/>
                  <a:pt x="282" y="1746"/>
                </a:cubicBezTo>
                <a:cubicBezTo>
                  <a:pt x="270" y="1728"/>
                  <a:pt x="251" y="1710"/>
                  <a:pt x="234" y="1698"/>
                </a:cubicBezTo>
                <a:cubicBezTo>
                  <a:pt x="230" y="1692"/>
                  <a:pt x="227" y="1685"/>
                  <a:pt x="222" y="1680"/>
                </a:cubicBezTo>
                <a:cubicBezTo>
                  <a:pt x="217" y="1675"/>
                  <a:pt x="209" y="1674"/>
                  <a:pt x="204" y="1668"/>
                </a:cubicBezTo>
                <a:cubicBezTo>
                  <a:pt x="200" y="1663"/>
                  <a:pt x="202" y="1655"/>
                  <a:pt x="198" y="1650"/>
                </a:cubicBezTo>
                <a:cubicBezTo>
                  <a:pt x="193" y="1643"/>
                  <a:pt x="186" y="1638"/>
                  <a:pt x="180" y="1632"/>
                </a:cubicBezTo>
                <a:cubicBezTo>
                  <a:pt x="172" y="1608"/>
                  <a:pt x="159" y="1598"/>
                  <a:pt x="138" y="1584"/>
                </a:cubicBezTo>
                <a:cubicBezTo>
                  <a:pt x="105" y="1535"/>
                  <a:pt x="105" y="1471"/>
                  <a:pt x="72" y="1422"/>
                </a:cubicBezTo>
                <a:cubicBezTo>
                  <a:pt x="52" y="1343"/>
                  <a:pt x="20" y="1267"/>
                  <a:pt x="0" y="1188"/>
                </a:cubicBezTo>
                <a:cubicBezTo>
                  <a:pt x="2" y="1064"/>
                  <a:pt x="2" y="940"/>
                  <a:pt x="6" y="816"/>
                </a:cubicBezTo>
                <a:cubicBezTo>
                  <a:pt x="9" y="708"/>
                  <a:pt x="91" y="533"/>
                  <a:pt x="144" y="438"/>
                </a:cubicBezTo>
                <a:cubicBezTo>
                  <a:pt x="167" y="397"/>
                  <a:pt x="195" y="345"/>
                  <a:pt x="228" y="312"/>
                </a:cubicBezTo>
                <a:cubicBezTo>
                  <a:pt x="256" y="284"/>
                  <a:pt x="289" y="260"/>
                  <a:pt x="318" y="234"/>
                </a:cubicBezTo>
                <a:cubicBezTo>
                  <a:pt x="343" y="212"/>
                  <a:pt x="364" y="188"/>
                  <a:pt x="390" y="168"/>
                </a:cubicBezTo>
                <a:cubicBezTo>
                  <a:pt x="401" y="159"/>
                  <a:pt x="426" y="144"/>
                  <a:pt x="426" y="144"/>
                </a:cubicBezTo>
                <a:cubicBezTo>
                  <a:pt x="443" y="119"/>
                  <a:pt x="466" y="116"/>
                  <a:pt x="492" y="102"/>
                </a:cubicBezTo>
                <a:cubicBezTo>
                  <a:pt x="505" y="95"/>
                  <a:pt x="516" y="86"/>
                  <a:pt x="528" y="78"/>
                </a:cubicBezTo>
                <a:cubicBezTo>
                  <a:pt x="564" y="54"/>
                  <a:pt x="649" y="44"/>
                  <a:pt x="690" y="30"/>
                </a:cubicBezTo>
                <a:cubicBezTo>
                  <a:pt x="712" y="23"/>
                  <a:pt x="728" y="7"/>
                  <a:pt x="750" y="0"/>
                </a:cubicBezTo>
                <a:cubicBezTo>
                  <a:pt x="814" y="2"/>
                  <a:pt x="878" y="2"/>
                  <a:pt x="942" y="6"/>
                </a:cubicBezTo>
                <a:cubicBezTo>
                  <a:pt x="1008" y="10"/>
                  <a:pt x="1073" y="47"/>
                  <a:pt x="1140" y="54"/>
                </a:cubicBezTo>
                <a:cubicBezTo>
                  <a:pt x="1196" y="73"/>
                  <a:pt x="1264" y="50"/>
                  <a:pt x="1320" y="36"/>
                </a:cubicBezTo>
                <a:cubicBezTo>
                  <a:pt x="1370" y="40"/>
                  <a:pt x="1442" y="6"/>
                  <a:pt x="1470" y="48"/>
                </a:cubicBezTo>
                <a:cubicBezTo>
                  <a:pt x="1489" y="77"/>
                  <a:pt x="1480" y="59"/>
                  <a:pt x="1494" y="102"/>
                </a:cubicBezTo>
                <a:cubicBezTo>
                  <a:pt x="1496" y="108"/>
                  <a:pt x="1500" y="120"/>
                  <a:pt x="1500" y="120"/>
                </a:cubicBezTo>
                <a:cubicBezTo>
                  <a:pt x="1494" y="137"/>
                  <a:pt x="1494" y="157"/>
                  <a:pt x="1488" y="174"/>
                </a:cubicBezTo>
                <a:lnTo>
                  <a:pt x="1464" y="228"/>
                </a:lnTo>
                <a:cubicBezTo>
                  <a:pt x="1464" y="228"/>
                  <a:pt x="1464" y="228"/>
                  <a:pt x="1464" y="228"/>
                </a:cubicBezTo>
                <a:cubicBezTo>
                  <a:pt x="1462" y="236"/>
                  <a:pt x="1462" y="245"/>
                  <a:pt x="1458" y="252"/>
                </a:cubicBezTo>
                <a:cubicBezTo>
                  <a:pt x="1444" y="276"/>
                  <a:pt x="1413" y="296"/>
                  <a:pt x="1404" y="324"/>
                </a:cubicBezTo>
                <a:cubicBezTo>
                  <a:pt x="1395" y="351"/>
                  <a:pt x="1382" y="376"/>
                  <a:pt x="1362" y="396"/>
                </a:cubicBezTo>
                <a:cubicBezTo>
                  <a:pt x="1352" y="425"/>
                  <a:pt x="1339" y="445"/>
                  <a:pt x="1314" y="462"/>
                </a:cubicBezTo>
                <a:cubicBezTo>
                  <a:pt x="1306" y="485"/>
                  <a:pt x="1296" y="510"/>
                  <a:pt x="1290" y="534"/>
                </a:cubicBezTo>
                <a:cubicBezTo>
                  <a:pt x="1290" y="534"/>
                  <a:pt x="1281" y="573"/>
                  <a:pt x="1278" y="576"/>
                </a:cubicBezTo>
                <a:cubicBezTo>
                  <a:pt x="1274" y="580"/>
                  <a:pt x="1266" y="580"/>
                  <a:pt x="1260" y="582"/>
                </a:cubicBezTo>
                <a:cubicBezTo>
                  <a:pt x="1258" y="588"/>
                  <a:pt x="1258" y="596"/>
                  <a:pt x="1254" y="600"/>
                </a:cubicBezTo>
                <a:cubicBezTo>
                  <a:pt x="1244" y="610"/>
                  <a:pt x="1218" y="624"/>
                  <a:pt x="1218" y="624"/>
                </a:cubicBezTo>
                <a:cubicBezTo>
                  <a:pt x="1160" y="619"/>
                  <a:pt x="1148" y="622"/>
                  <a:pt x="1104" y="600"/>
                </a:cubicBezTo>
                <a:cubicBezTo>
                  <a:pt x="1054" y="617"/>
                  <a:pt x="1134" y="591"/>
                  <a:pt x="1044" y="612"/>
                </a:cubicBezTo>
                <a:cubicBezTo>
                  <a:pt x="1014" y="619"/>
                  <a:pt x="997" y="629"/>
                  <a:pt x="972" y="642"/>
                </a:cubicBezTo>
                <a:cubicBezTo>
                  <a:pt x="949" y="653"/>
                  <a:pt x="918" y="658"/>
                  <a:pt x="894" y="666"/>
                </a:cubicBezTo>
                <a:cubicBezTo>
                  <a:pt x="873" y="673"/>
                  <a:pt x="858" y="690"/>
                  <a:pt x="840" y="702"/>
                </a:cubicBezTo>
                <a:cubicBezTo>
                  <a:pt x="834" y="706"/>
                  <a:pt x="822" y="714"/>
                  <a:pt x="822" y="714"/>
                </a:cubicBezTo>
                <a:cubicBezTo>
                  <a:pt x="794" y="755"/>
                  <a:pt x="772" y="798"/>
                  <a:pt x="744" y="840"/>
                </a:cubicBezTo>
                <a:cubicBezTo>
                  <a:pt x="737" y="851"/>
                  <a:pt x="736" y="864"/>
                  <a:pt x="732" y="876"/>
                </a:cubicBezTo>
                <a:cubicBezTo>
                  <a:pt x="730" y="882"/>
                  <a:pt x="726" y="894"/>
                  <a:pt x="726" y="894"/>
                </a:cubicBezTo>
                <a:cubicBezTo>
                  <a:pt x="720" y="949"/>
                  <a:pt x="714" y="964"/>
                  <a:pt x="720" y="1020"/>
                </a:cubicBezTo>
                <a:cubicBezTo>
                  <a:pt x="722" y="1086"/>
                  <a:pt x="722" y="1152"/>
                  <a:pt x="726" y="1218"/>
                </a:cubicBezTo>
                <a:cubicBezTo>
                  <a:pt x="727" y="1243"/>
                  <a:pt x="757" y="1284"/>
                  <a:pt x="768" y="1308"/>
                </a:cubicBezTo>
                <a:cubicBezTo>
                  <a:pt x="768" y="1308"/>
                  <a:pt x="783" y="1353"/>
                  <a:pt x="786" y="1362"/>
                </a:cubicBezTo>
                <a:cubicBezTo>
                  <a:pt x="788" y="1368"/>
                  <a:pt x="786" y="1378"/>
                  <a:pt x="792" y="1380"/>
                </a:cubicBezTo>
                <a:cubicBezTo>
                  <a:pt x="817" y="1388"/>
                  <a:pt x="826" y="1400"/>
                  <a:pt x="846" y="1416"/>
                </a:cubicBezTo>
                <a:cubicBezTo>
                  <a:pt x="886" y="1447"/>
                  <a:pt x="924" y="1478"/>
                  <a:pt x="972" y="1494"/>
                </a:cubicBezTo>
                <a:cubicBezTo>
                  <a:pt x="1006" y="1505"/>
                  <a:pt x="1040" y="1513"/>
                  <a:pt x="1074" y="1524"/>
                </a:cubicBezTo>
                <a:cubicBezTo>
                  <a:pt x="1086" y="1528"/>
                  <a:pt x="1110" y="1536"/>
                  <a:pt x="1110" y="1536"/>
                </a:cubicBezTo>
                <a:cubicBezTo>
                  <a:pt x="1216" y="1532"/>
                  <a:pt x="1290" y="1524"/>
                  <a:pt x="1392" y="1518"/>
                </a:cubicBezTo>
                <a:close/>
              </a:path>
            </a:pathLst>
          </a:custGeom>
          <a:solidFill>
            <a:srgbClr val="00ff00">
              <a:alpha val="50000"/>
            </a:srgbClr>
          </a:solidFill>
          <a:ln w="57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3" name=""/>
          <p:cNvSpPr/>
          <p:nvPr/>
        </p:nvSpPr>
        <p:spPr>
          <a:xfrm rot="6600">
            <a:off x="3120840" y="1365120"/>
            <a:ext cx="2365200" cy="5031000"/>
          </a:xfrm>
          <a:custGeom>
            <a:avLst/>
            <a:gdLst>
              <a:gd name="textAreaLeft" fmla="*/ 333000 w 2365200"/>
              <a:gd name="textAreaRight" fmla="*/ 2032200 w 2365200"/>
              <a:gd name="textAreaTop" fmla="*/ 708840 h 5031000"/>
              <a:gd name="textAreaBottom" fmla="*/ 4322160 h 5031000"/>
            </a:gdLst>
            <a:ahLst/>
            <a:rect l="textAreaLeft" t="textAreaTop" r="textAreaRight" b="textAreaBottom"/>
            <a:pathLst>
              <a:path w="21600" h="21600">
                <a:moveTo>
                  <a:pt x="0" y="0"/>
                </a:moveTo>
                <a:lnTo>
                  <a:pt x="21600" y="0"/>
                </a:lnTo>
                <a:lnTo>
                  <a:pt x="19272" y="21600"/>
                </a:lnTo>
                <a:lnTo>
                  <a:pt x="2328" y="21600"/>
                </a:lnTo>
                <a:close/>
              </a:path>
            </a:pathLst>
          </a:custGeom>
          <a:solidFill>
            <a:srgbClr val="99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34" name=""/>
          <p:cNvSpPr/>
          <p:nvPr/>
        </p:nvSpPr>
        <p:spPr>
          <a:xfrm rot="10806600">
            <a:off x="3121200" y="1364400"/>
            <a:ext cx="2365200" cy="5031000"/>
          </a:xfrm>
          <a:custGeom>
            <a:avLst/>
            <a:gdLst>
              <a:gd name="textAreaLeft" fmla="*/ 333000 w 2365200"/>
              <a:gd name="textAreaRight" fmla="*/ 2032200 w 2365200"/>
              <a:gd name="textAreaTop" fmla="*/ 708840 h 5031000"/>
              <a:gd name="textAreaBottom" fmla="*/ 4322160 h 5031000"/>
            </a:gdLst>
            <a:ahLst/>
            <a:rect l="textAreaLeft" t="textAreaTop" r="textAreaRight" b="textAreaBottom"/>
            <a:pathLst>
              <a:path w="21600" h="21600">
                <a:moveTo>
                  <a:pt x="0" y="0"/>
                </a:moveTo>
                <a:lnTo>
                  <a:pt x="21600" y="0"/>
                </a:lnTo>
                <a:lnTo>
                  <a:pt x="19272" y="21600"/>
                </a:lnTo>
                <a:lnTo>
                  <a:pt x="2328" y="21600"/>
                </a:lnTo>
                <a:close/>
              </a:path>
            </a:pathLst>
          </a:custGeom>
          <a:solidFill>
            <a:srgbClr val="99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35" name=""/>
          <p:cNvSpPr/>
          <p:nvPr/>
        </p:nvSpPr>
        <p:spPr>
          <a:xfrm>
            <a:off x="4606920" y="5362560"/>
            <a:ext cx="279360" cy="285840"/>
          </a:xfrm>
          <a:custGeom>
            <a:avLst/>
            <a:gdLst/>
            <a:ahLst/>
            <a:rect l="l" t="t" r="r" b="b"/>
            <a:pathLst>
              <a:path w="176" h="180">
                <a:moveTo>
                  <a:pt x="92" y="0"/>
                </a:moveTo>
                <a:cubicBezTo>
                  <a:pt x="49" y="9"/>
                  <a:pt x="43" y="25"/>
                  <a:pt x="14" y="54"/>
                </a:cubicBezTo>
                <a:cubicBezTo>
                  <a:pt x="0" y="97"/>
                  <a:pt x="26" y="145"/>
                  <a:pt x="50" y="180"/>
                </a:cubicBezTo>
                <a:cubicBezTo>
                  <a:pt x="78" y="178"/>
                  <a:pt x="107" y="180"/>
                  <a:pt x="134" y="174"/>
                </a:cubicBezTo>
                <a:cubicBezTo>
                  <a:pt x="153" y="170"/>
                  <a:pt x="171" y="118"/>
                  <a:pt x="176" y="102"/>
                </a:cubicBezTo>
                <a:cubicBezTo>
                  <a:pt x="175" y="98"/>
                  <a:pt x="171" y="58"/>
                  <a:pt x="164" y="48"/>
                </a:cubicBezTo>
                <a:cubicBezTo>
                  <a:pt x="147" y="22"/>
                  <a:pt x="116" y="16"/>
                  <a:pt x="92" y="0"/>
                </a:cubicBezTo>
                <a:close/>
              </a:path>
            </a:pathLst>
          </a:custGeom>
          <a:solidFill>
            <a:srgbClr val="00ff00">
              <a:alpha val="50000"/>
            </a:srgbClr>
          </a:solidFill>
          <a:ln w="57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6" name=""/>
          <p:cNvSpPr/>
          <p:nvPr/>
        </p:nvSpPr>
        <p:spPr>
          <a:xfrm>
            <a:off x="4191120" y="1523880"/>
            <a:ext cx="228600" cy="762120"/>
          </a:xfrm>
          <a:prstGeom prst="downArrow">
            <a:avLst>
              <a:gd name="adj1" fmla="val 50000"/>
              <a:gd name="adj2" fmla="val 83346"/>
            </a:avLst>
          </a:prstGeom>
          <a:solidFill>
            <a:srgbClr val="99cc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37" name=""/>
          <p:cNvSpPr/>
          <p:nvPr/>
        </p:nvSpPr>
        <p:spPr>
          <a:xfrm>
            <a:off x="4191120" y="5486400"/>
            <a:ext cx="228600" cy="762120"/>
          </a:xfrm>
          <a:prstGeom prst="upArrow">
            <a:avLst>
              <a:gd name="adj1" fmla="val 50000"/>
              <a:gd name="adj2" fmla="val 83346"/>
            </a:avLst>
          </a:prstGeom>
          <a:solidFill>
            <a:srgbClr val="99cc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38" name=""/>
          <p:cNvSpPr/>
          <p:nvPr/>
        </p:nvSpPr>
        <p:spPr>
          <a:xfrm rot="5088600">
            <a:off x="3537360" y="348480"/>
            <a:ext cx="1916280" cy="7620120"/>
          </a:xfrm>
          <a:custGeom>
            <a:avLst/>
            <a:gdLst>
              <a:gd name="textAreaLeft" fmla="*/ 317880 w 1916280"/>
              <a:gd name="textAreaRight" fmla="*/ 1598400 w 1916280"/>
              <a:gd name="textAreaTop" fmla="*/ 1264320 h 7620120"/>
              <a:gd name="textAreaBottom" fmla="*/ 6355800 h 7620120"/>
            </a:gdLst>
            <a:ahLst/>
            <a:rect l="textAreaLeft" t="textAreaTop" r="textAreaRight" b="textAreaBottom"/>
            <a:pathLst>
              <a:path w="21600" h="21600">
                <a:moveTo>
                  <a:pt x="0" y="0"/>
                </a:moveTo>
                <a:lnTo>
                  <a:pt x="21600" y="0"/>
                </a:lnTo>
                <a:lnTo>
                  <a:pt x="18299" y="21600"/>
                </a:lnTo>
                <a:lnTo>
                  <a:pt x="3301" y="21600"/>
                </a:lnTo>
                <a:close/>
              </a:path>
            </a:pathLst>
          </a:custGeom>
          <a:solidFill>
            <a:srgbClr val="99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39" name=""/>
          <p:cNvSpPr/>
          <p:nvPr/>
        </p:nvSpPr>
        <p:spPr>
          <a:xfrm>
            <a:off x="3495600" y="3514680"/>
            <a:ext cx="1648080" cy="1333440"/>
          </a:xfrm>
          <a:custGeom>
            <a:avLst/>
            <a:gdLst/>
            <a:ahLst/>
            <a:rect l="l" t="t" r="r" b="b"/>
            <a:pathLst>
              <a:path w="1038" h="840">
                <a:moveTo>
                  <a:pt x="66" y="672"/>
                </a:moveTo>
                <a:cubicBezTo>
                  <a:pt x="52" y="629"/>
                  <a:pt x="65" y="643"/>
                  <a:pt x="36" y="624"/>
                </a:cubicBezTo>
                <a:cubicBezTo>
                  <a:pt x="29" y="602"/>
                  <a:pt x="19" y="586"/>
                  <a:pt x="12" y="564"/>
                </a:cubicBezTo>
                <a:cubicBezTo>
                  <a:pt x="8" y="552"/>
                  <a:pt x="0" y="528"/>
                  <a:pt x="0" y="528"/>
                </a:cubicBezTo>
                <a:cubicBezTo>
                  <a:pt x="2" y="456"/>
                  <a:pt x="1" y="233"/>
                  <a:pt x="72" y="162"/>
                </a:cubicBezTo>
                <a:cubicBezTo>
                  <a:pt x="84" y="125"/>
                  <a:pt x="112" y="99"/>
                  <a:pt x="144" y="78"/>
                </a:cubicBezTo>
                <a:cubicBezTo>
                  <a:pt x="170" y="39"/>
                  <a:pt x="205" y="32"/>
                  <a:pt x="246" y="18"/>
                </a:cubicBezTo>
                <a:cubicBezTo>
                  <a:pt x="258" y="14"/>
                  <a:pt x="270" y="10"/>
                  <a:pt x="282" y="6"/>
                </a:cubicBezTo>
                <a:cubicBezTo>
                  <a:pt x="288" y="4"/>
                  <a:pt x="300" y="0"/>
                  <a:pt x="300" y="0"/>
                </a:cubicBezTo>
                <a:cubicBezTo>
                  <a:pt x="468" y="5"/>
                  <a:pt x="558" y="10"/>
                  <a:pt x="708" y="60"/>
                </a:cubicBezTo>
                <a:cubicBezTo>
                  <a:pt x="733" y="68"/>
                  <a:pt x="756" y="85"/>
                  <a:pt x="780" y="96"/>
                </a:cubicBezTo>
                <a:cubicBezTo>
                  <a:pt x="802" y="106"/>
                  <a:pt x="829" y="112"/>
                  <a:pt x="852" y="120"/>
                </a:cubicBezTo>
                <a:cubicBezTo>
                  <a:pt x="884" y="131"/>
                  <a:pt x="865" y="122"/>
                  <a:pt x="906" y="150"/>
                </a:cubicBezTo>
                <a:cubicBezTo>
                  <a:pt x="912" y="154"/>
                  <a:pt x="924" y="162"/>
                  <a:pt x="924" y="162"/>
                </a:cubicBezTo>
                <a:cubicBezTo>
                  <a:pt x="952" y="204"/>
                  <a:pt x="936" y="190"/>
                  <a:pt x="966" y="210"/>
                </a:cubicBezTo>
                <a:cubicBezTo>
                  <a:pt x="986" y="269"/>
                  <a:pt x="1023" y="316"/>
                  <a:pt x="1038" y="378"/>
                </a:cubicBezTo>
                <a:cubicBezTo>
                  <a:pt x="1034" y="436"/>
                  <a:pt x="1025" y="473"/>
                  <a:pt x="1032" y="528"/>
                </a:cubicBezTo>
                <a:cubicBezTo>
                  <a:pt x="1026" y="564"/>
                  <a:pt x="1013" y="584"/>
                  <a:pt x="1002" y="618"/>
                </a:cubicBezTo>
                <a:cubicBezTo>
                  <a:pt x="997" y="634"/>
                  <a:pt x="993" y="660"/>
                  <a:pt x="978" y="672"/>
                </a:cubicBezTo>
                <a:cubicBezTo>
                  <a:pt x="929" y="711"/>
                  <a:pt x="993" y="639"/>
                  <a:pt x="942" y="690"/>
                </a:cubicBezTo>
                <a:cubicBezTo>
                  <a:pt x="925" y="707"/>
                  <a:pt x="912" y="728"/>
                  <a:pt x="894" y="744"/>
                </a:cubicBezTo>
                <a:cubicBezTo>
                  <a:pt x="889" y="748"/>
                  <a:pt x="882" y="747"/>
                  <a:pt x="876" y="750"/>
                </a:cubicBezTo>
                <a:cubicBezTo>
                  <a:pt x="863" y="757"/>
                  <a:pt x="852" y="766"/>
                  <a:pt x="840" y="774"/>
                </a:cubicBezTo>
                <a:cubicBezTo>
                  <a:pt x="755" y="831"/>
                  <a:pt x="712" y="832"/>
                  <a:pt x="606" y="840"/>
                </a:cubicBezTo>
                <a:cubicBezTo>
                  <a:pt x="527" y="836"/>
                  <a:pt x="467" y="828"/>
                  <a:pt x="390" y="834"/>
                </a:cubicBezTo>
                <a:cubicBezTo>
                  <a:pt x="319" y="826"/>
                  <a:pt x="243" y="815"/>
                  <a:pt x="180" y="780"/>
                </a:cubicBezTo>
                <a:cubicBezTo>
                  <a:pt x="161" y="769"/>
                  <a:pt x="144" y="756"/>
                  <a:pt x="126" y="744"/>
                </a:cubicBezTo>
                <a:cubicBezTo>
                  <a:pt x="114" y="736"/>
                  <a:pt x="90" y="720"/>
                  <a:pt x="90" y="720"/>
                </a:cubicBezTo>
                <a:cubicBezTo>
                  <a:pt x="72" y="693"/>
                  <a:pt x="81" y="709"/>
                  <a:pt x="66" y="672"/>
                </a:cubicBezTo>
                <a:close/>
              </a:path>
            </a:pathLst>
          </a:custGeom>
          <a:solidFill>
            <a:srgbClr val="ff0000">
              <a:alpha val="50000"/>
            </a:srgbClr>
          </a:solid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0" name=""/>
          <p:cNvSpPr/>
          <p:nvPr/>
        </p:nvSpPr>
        <p:spPr>
          <a:xfrm rot="5058000">
            <a:off x="1180440" y="4076280"/>
            <a:ext cx="228600" cy="762120"/>
          </a:xfrm>
          <a:prstGeom prst="upArrow">
            <a:avLst>
              <a:gd name="adj1" fmla="val 50000"/>
              <a:gd name="adj2" fmla="val 83346"/>
            </a:avLst>
          </a:prstGeom>
          <a:solidFill>
            <a:srgbClr val="99cc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1" name=""/>
          <p:cNvSpPr/>
          <p:nvPr/>
        </p:nvSpPr>
        <p:spPr>
          <a:xfrm>
            <a:off x="0" y="1143000"/>
            <a:ext cx="7765920" cy="68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argeting PTV while avoiding OR</a:t>
            </a:r>
            <a:endParaRPr b="0" lang="en-US" sz="28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2FD46D2C-A7B2-47DD-A48E-A3070DE4BEA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88" name=""/>
          <p:cNvSpPr/>
          <p:nvPr/>
        </p:nvSpPr>
        <p:spPr>
          <a:xfrm>
            <a:off x="533520" y="1219320"/>
            <a:ext cx="82296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How does the reporting work?</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 </a:t>
            </a:r>
            <a:r>
              <a:rPr b="0" lang="en-IE" sz="2400" spc="-1" strike="noStrike">
                <a:solidFill>
                  <a:srgbClr val="ffffff"/>
                </a:solidFill>
                <a:latin typeface="Arial"/>
              </a:rPr>
              <a:t>On ROSIS web-site: </a:t>
            </a:r>
            <a:r>
              <a:rPr b="0" lang="en-IE" sz="2400" spc="-1" strike="noStrike">
                <a:solidFill>
                  <a:srgbClr val="ffcc00"/>
                </a:solidFill>
                <a:latin typeface="Arial"/>
              </a:rPr>
              <a:t>www.rosis.info</a:t>
            </a:r>
            <a:endParaRPr b="0" lang="en-US" sz="2400" spc="-1" strike="noStrike">
              <a:solidFill>
                <a:srgbClr val="eaeaea"/>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 </a:t>
            </a:r>
            <a:r>
              <a:rPr b="0" lang="en-IE" sz="2400" spc="-1" strike="noStrike">
                <a:solidFill>
                  <a:srgbClr val="ffffff"/>
                </a:solidFill>
                <a:latin typeface="Arial"/>
              </a:rPr>
              <a:t>First time: fill in “Department-form” (profile of dept.)</a:t>
            </a:r>
            <a:endParaRPr b="0" lang="en-US" sz="2400" spc="-1" strike="noStrike">
              <a:solidFill>
                <a:srgbClr val="eaeaea"/>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 </a:t>
            </a:r>
            <a:r>
              <a:rPr b="0" lang="en-IE" sz="2400" spc="-1" strike="noStrike">
                <a:solidFill>
                  <a:srgbClr val="ffffff"/>
                </a:solidFill>
                <a:latin typeface="Arial"/>
              </a:rPr>
              <a:t>Submit “Department-form” on-line</a:t>
            </a:r>
            <a:endParaRPr b="0" lang="en-US" sz="2400" spc="-1" strike="noStrike">
              <a:solidFill>
                <a:srgbClr val="eaeaea"/>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 </a:t>
            </a:r>
            <a:r>
              <a:rPr b="0" lang="en-IE" sz="2400" spc="-1" strike="noStrike">
                <a:solidFill>
                  <a:srgbClr val="ffffff"/>
                </a:solidFill>
                <a:latin typeface="Arial"/>
              </a:rPr>
              <a:t>A “Clinic-ID” (unique number) will be sent back</a:t>
            </a:r>
            <a:endParaRPr b="0" lang="en-US" sz="2400" spc="-1" strike="noStrike">
              <a:solidFill>
                <a:srgbClr val="eaeaea"/>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 </a:t>
            </a:r>
            <a:r>
              <a:rPr b="0" lang="en-IE" sz="2400" spc="-1" strike="noStrike">
                <a:solidFill>
                  <a:srgbClr val="ffffff"/>
                </a:solidFill>
                <a:latin typeface="Arial"/>
              </a:rPr>
              <a:t>When the clinic wants to submit an event / incident to </a:t>
            </a:r>
            <a:r>
              <a:rPr b="0" lang="en-IE" sz="2400" spc="-1" strike="noStrike">
                <a:solidFill>
                  <a:srgbClr val="ffffff"/>
                </a:solidFill>
                <a:latin typeface="Arial"/>
              </a:rPr>
              <a:t>	</a:t>
            </a:r>
            <a:r>
              <a:rPr b="0" lang="en-IE" sz="2400" spc="-1" strike="noStrike">
                <a:solidFill>
                  <a:srgbClr val="ffffff"/>
                </a:solidFill>
                <a:latin typeface="Arial"/>
              </a:rPr>
              <a:t>ROSIS, the “Incident-form” is filled out and </a:t>
            </a:r>
            <a:r>
              <a:rPr b="0" lang="en-IE" sz="2400" spc="-1" strike="noStrike">
                <a:solidFill>
                  <a:srgbClr val="ffffff"/>
                </a:solidFill>
                <a:latin typeface="Arial"/>
              </a:rPr>
              <a:t>	</a:t>
            </a:r>
            <a:r>
              <a:rPr b="0" lang="en-IE" sz="2400" spc="-1" strike="noStrike">
                <a:solidFill>
                  <a:srgbClr val="ffffff"/>
                </a:solidFill>
                <a:latin typeface="Arial"/>
              </a:rPr>
              <a:t>submitted on-line</a:t>
            </a:r>
            <a:endParaRPr b="0" lang="en-US" sz="2400" spc="-1" strike="noStrike">
              <a:solidFill>
                <a:srgbClr val="eaeaea"/>
              </a:solidFill>
              <a:latin typeface="Times New Roman"/>
            </a:endParaRPr>
          </a:p>
        </p:txBody>
      </p:sp>
      <p:sp>
        <p:nvSpPr>
          <p:cNvPr id="389"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ROSIS</a:t>
            </a:r>
            <a:endParaRPr b="0" lang="en-US" sz="36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B5FBF892-2E94-4535-9341-5412F8A7DED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85760" y="0"/>
            <a:ext cx="8772480" cy="6858000"/>
          </a:xfrm>
          <a:prstGeom prst="rect">
            <a:avLst/>
          </a:prstGeom>
          <a:ln w="0">
            <a:noFill/>
          </a:ln>
        </p:spPr>
      </p:pic>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2B6AE150-6C1A-4A15-A119-BE171D305B3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9144000" cy="6873840"/>
          </a:xfrm>
          <a:prstGeom prst="rect">
            <a:avLst/>
          </a:prstGeom>
          <a:ln w="0">
            <a:noFill/>
          </a:ln>
        </p:spPr>
      </p:pic>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A90AF5F0-9E50-471B-8F61-DA45CD2A988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92" name=""/>
          <p:cNvSpPr/>
          <p:nvPr/>
        </p:nvSpPr>
        <p:spPr>
          <a:xfrm>
            <a:off x="533520" y="1219320"/>
            <a:ext cx="82296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How does the sharing of data work?</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 </a:t>
            </a:r>
            <a:r>
              <a:rPr b="0" lang="en-IE" sz="2400" spc="-1" strike="noStrike">
                <a:solidFill>
                  <a:srgbClr val="ffffff"/>
                </a:solidFill>
                <a:latin typeface="Arial"/>
              </a:rPr>
              <a:t>On ROSIS web-site: </a:t>
            </a:r>
            <a:r>
              <a:rPr b="0" lang="en-IE" sz="2400" spc="-1" strike="noStrike">
                <a:solidFill>
                  <a:srgbClr val="ffcc00"/>
                </a:solidFill>
                <a:latin typeface="Arial"/>
              </a:rPr>
              <a:t>www.rosis.info</a:t>
            </a:r>
            <a:endParaRPr b="0" lang="en-US" sz="2400" spc="-1" strike="noStrike">
              <a:solidFill>
                <a:srgbClr val="eaeaea"/>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 </a:t>
            </a:r>
            <a:r>
              <a:rPr b="0" lang="en-IE" sz="2400" spc="-1" strike="noStrike">
                <a:solidFill>
                  <a:srgbClr val="ffffff"/>
                </a:solidFill>
                <a:latin typeface="Arial"/>
              </a:rPr>
              <a:t>Click on “ROSIS Data” and “Goto queries”</a:t>
            </a:r>
            <a:endParaRPr b="0" lang="en-US" sz="2400" spc="-1" strike="noStrike">
              <a:solidFill>
                <a:srgbClr val="eaeaea"/>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 </a:t>
            </a:r>
            <a:r>
              <a:rPr b="0" lang="en-IE" sz="2400" spc="-1" strike="noStrike">
                <a:solidFill>
                  <a:srgbClr val="ffffff"/>
                </a:solidFill>
                <a:latin typeface="Arial"/>
              </a:rPr>
              <a:t>You can now do free searches in the entire database of reported incidents (&gt;1000 in 2007) or make specific queries such as “Where in the process / By whom / Through what type of QA procedures – are incidents discovered in radiotherapy”. Anyone can search, but the clinic needs to be registered to submit</a:t>
            </a:r>
            <a:endParaRPr b="0" lang="en-US" sz="2400" spc="-1" strike="noStrike">
              <a:solidFill>
                <a:srgbClr val="eaeaea"/>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93"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ROSIS</a:t>
            </a:r>
            <a:endParaRPr b="0" lang="en-US" sz="36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2F293D6C-6179-4CCB-85A5-F9542A408B8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94"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ROSIS</a:t>
            </a:r>
            <a:endParaRPr b="0" lang="en-US" sz="3600" spc="-1" strike="noStrike">
              <a:solidFill>
                <a:srgbClr val="eaeaea"/>
              </a:solidFill>
              <a:latin typeface="Times New Roman"/>
            </a:endParaRPr>
          </a:p>
        </p:txBody>
      </p:sp>
      <p:sp>
        <p:nvSpPr>
          <p:cNvPr id="395" name=""/>
          <p:cNvSpPr/>
          <p:nvPr/>
        </p:nvSpPr>
        <p:spPr>
          <a:xfrm>
            <a:off x="380880" y="1143000"/>
            <a:ext cx="495324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cc00"/>
                </a:solidFill>
                <a:latin typeface="Arial"/>
              </a:rPr>
              <a:t>Incident:</a:t>
            </a:r>
            <a:r>
              <a:rPr b="1" lang="en-IE" sz="1600" spc="-1" strike="noStrike">
                <a:solidFill>
                  <a:srgbClr val="ffcc00"/>
                </a:solidFill>
                <a:latin typeface="Arial"/>
              </a:rPr>
              <a:t>	</a:t>
            </a:r>
            <a:r>
              <a:rPr b="1" lang="en-IE" sz="1600" spc="-1" strike="noStrike">
                <a:solidFill>
                  <a:srgbClr val="ffffff"/>
                </a:solidFill>
                <a:latin typeface="Arial"/>
              </a:rPr>
              <a:t>265</a:t>
            </a: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cc00"/>
                </a:solidFill>
                <a:latin typeface="Arial"/>
              </a:rPr>
              <a:t>Short description:</a:t>
            </a:r>
            <a:r>
              <a:rPr b="1" lang="en-IE" sz="1600" spc="-1" strike="noStrike">
                <a:solidFill>
                  <a:srgbClr val="ffcc00"/>
                </a:solidFill>
                <a:latin typeface="Arial"/>
              </a:rPr>
              <a:t>	</a:t>
            </a:r>
            <a:r>
              <a:rPr b="1" lang="en-IE" sz="1600" spc="-1" strike="noStrike">
                <a:solidFill>
                  <a:srgbClr val="ffffff"/>
                </a:solidFill>
                <a:latin typeface="Arial"/>
              </a:rPr>
              <a:t>A wedge was not used where it should have been</a:t>
            </a: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cc00"/>
                </a:solidFill>
                <a:latin typeface="Arial"/>
              </a:rPr>
              <a:t>Treatment modality:</a:t>
            </a:r>
            <a:r>
              <a:rPr b="1" lang="en-IE" sz="1600" spc="-1" strike="noStrike">
                <a:solidFill>
                  <a:srgbClr val="000099"/>
                </a:solidFill>
                <a:latin typeface="Arial"/>
              </a:rPr>
              <a:t> </a:t>
            </a:r>
            <a:r>
              <a:rPr b="1" lang="en-IE" sz="1600" spc="-1" strike="noStrike">
                <a:solidFill>
                  <a:srgbClr val="ffffff"/>
                </a:solidFill>
                <a:latin typeface="Arial"/>
              </a:rPr>
              <a:t>External</a:t>
            </a: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cc00"/>
                </a:solidFill>
                <a:latin typeface="Arial"/>
              </a:rPr>
              <a:t>Discovered by:</a:t>
            </a:r>
            <a:r>
              <a:rPr b="1" lang="en-IE" sz="1600" spc="-1" strike="noStrike">
                <a:solidFill>
                  <a:srgbClr val="000099"/>
                </a:solidFill>
                <a:latin typeface="Arial"/>
              </a:rPr>
              <a:t> </a:t>
            </a:r>
            <a:r>
              <a:rPr b="1" lang="en-IE" sz="1600" spc="-1" strike="noStrike">
                <a:solidFill>
                  <a:srgbClr val="ffffff"/>
                </a:solidFill>
                <a:latin typeface="Arial"/>
              </a:rPr>
              <a:t>Therapist (trt unit)</a:t>
            </a: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cc00"/>
                </a:solidFill>
                <a:latin typeface="Arial"/>
              </a:rPr>
              <a:t>How Discovered:</a:t>
            </a:r>
            <a:r>
              <a:rPr b="1" lang="en-IE" sz="1600" spc="-1" strike="noStrike">
                <a:solidFill>
                  <a:srgbClr val="000099"/>
                </a:solidFill>
                <a:latin typeface="Arial"/>
              </a:rPr>
              <a:t> </a:t>
            </a:r>
            <a:r>
              <a:rPr b="1" lang="en-IE" sz="1600" spc="-1" strike="noStrike">
                <a:solidFill>
                  <a:srgbClr val="ffffff"/>
                </a:solidFill>
                <a:latin typeface="Arial"/>
              </a:rPr>
              <a:t>Found at time of patient treatment</a:t>
            </a: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cc00"/>
                </a:solidFill>
                <a:latin typeface="Arial"/>
              </a:rPr>
              <a:t>Anyone affected:</a:t>
            </a:r>
            <a:r>
              <a:rPr b="1" lang="en-IE" sz="1600" spc="-1" strike="noStrike">
                <a:solidFill>
                  <a:srgbClr val="000099"/>
                </a:solidFill>
                <a:latin typeface="Arial"/>
              </a:rPr>
              <a:t> </a:t>
            </a:r>
            <a:r>
              <a:rPr b="1" lang="en-IE" sz="1600" spc="-1" strike="noStrike">
                <a:solidFill>
                  <a:srgbClr val="ffffff"/>
                </a:solidFill>
                <a:latin typeface="Arial"/>
              </a:rPr>
              <a:t>One patient</a:t>
            </a: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cc00"/>
                </a:solidFill>
                <a:latin typeface="Arial"/>
              </a:rPr>
              <a:t>Severity:</a:t>
            </a:r>
            <a:r>
              <a:rPr b="1" lang="en-IE" sz="1600" spc="-1" strike="noStrike">
                <a:solidFill>
                  <a:srgbClr val="ffcc00"/>
                </a:solidFill>
                <a:latin typeface="Arial"/>
              </a:rPr>
              <a:t>	</a:t>
            </a:r>
            <a:r>
              <a:rPr b="1" lang="en-IE" sz="1600" spc="-1" strike="noStrike">
                <a:solidFill>
                  <a:srgbClr val="ffffff"/>
                </a:solidFill>
                <a:latin typeface="Arial"/>
              </a:rPr>
              <a:t>Light</a:t>
            </a: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cc00"/>
                </a:solidFill>
                <a:latin typeface="Arial"/>
              </a:rPr>
              <a:t>Description:</a:t>
            </a:r>
            <a:r>
              <a:rPr b="1" lang="en-IE" sz="1600" spc="-1" strike="noStrike">
                <a:solidFill>
                  <a:srgbClr val="000099"/>
                </a:solidFill>
                <a:latin typeface="Arial"/>
              </a:rPr>
              <a:t> </a:t>
            </a:r>
            <a:r>
              <a:rPr b="1" lang="en-IE" sz="1600" spc="-1" strike="noStrike">
                <a:solidFill>
                  <a:srgbClr val="ffffff"/>
                </a:solidFill>
                <a:latin typeface="Arial"/>
              </a:rPr>
              <a:t>Patient received 2 fractions of treatment without a wedge in the lateral portions. The treatment had been planned with wedged laterals.</a:t>
            </a:r>
            <a:endParaRPr b="0" lang="en-US" sz="1600" spc="-1" strike="noStrike">
              <a:solidFill>
                <a:srgbClr val="eaeaea"/>
              </a:solidFill>
              <a:latin typeface="Times New Roman"/>
            </a:endParaRPr>
          </a:p>
        </p:txBody>
      </p:sp>
      <p:sp>
        <p:nvSpPr>
          <p:cNvPr id="396" name=""/>
          <p:cNvSpPr/>
          <p:nvPr/>
        </p:nvSpPr>
        <p:spPr>
          <a:xfrm>
            <a:off x="5486400" y="1143000"/>
            <a:ext cx="335268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cc00"/>
                </a:solidFill>
                <a:latin typeface="Arial"/>
              </a:rPr>
              <a:t>Cause:</a:t>
            </a:r>
            <a:r>
              <a:rPr b="1" lang="en-IE" sz="1600" spc="-1" strike="noStrike">
                <a:solidFill>
                  <a:srgbClr val="66ff66"/>
                </a:solidFill>
                <a:latin typeface="Arial"/>
              </a:rPr>
              <a:t> </a:t>
            </a:r>
            <a:r>
              <a:rPr b="1" lang="en-IE" sz="1600" spc="-1" strike="noStrike">
                <a:solidFill>
                  <a:srgbClr val="ffffff"/>
                </a:solidFill>
                <a:latin typeface="Arial"/>
              </a:rPr>
              <a:t>The accessory had not been entered into the verification system and checking procedures failed to pick up the error.</a:t>
            </a: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cc00"/>
                </a:solidFill>
                <a:latin typeface="Arial"/>
              </a:rPr>
              <a:t>Suggestion:</a:t>
            </a:r>
            <a:r>
              <a:rPr b="1" lang="en-IE" sz="1600" spc="-1" strike="noStrike">
                <a:solidFill>
                  <a:srgbClr val="66ff66"/>
                </a:solidFill>
                <a:latin typeface="Arial"/>
              </a:rPr>
              <a:t> </a:t>
            </a:r>
            <a:r>
              <a:rPr b="1" lang="en-IE" sz="1600" spc="-1" strike="noStrike">
                <a:solidFill>
                  <a:srgbClr val="ffffff"/>
                </a:solidFill>
                <a:latin typeface="Arial"/>
              </a:rPr>
              <a:t>Reiterate the room checking procedure and the control monitor checking procedure.</a:t>
            </a:r>
            <a:endParaRPr b="0" lang="en-US" sz="16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B9329D41-CFC4-45DA-A0D6-2D852FC6135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97"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ROSIS – first 200 reports</a:t>
            </a:r>
            <a:endParaRPr b="0" lang="en-US" sz="3600" spc="-1" strike="noStrike">
              <a:solidFill>
                <a:srgbClr val="eaeaea"/>
              </a:solidFill>
              <a:latin typeface="Times New Roman"/>
            </a:endParaRPr>
          </a:p>
        </p:txBody>
      </p:sp>
      <p:sp>
        <p:nvSpPr>
          <p:cNvPr id="398" name=""/>
          <p:cNvSpPr/>
          <p:nvPr/>
        </p:nvSpPr>
        <p:spPr>
          <a:xfrm>
            <a:off x="457200" y="1219320"/>
            <a:ext cx="8001000" cy="734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ffcc00"/>
                </a:solidFill>
                <a:latin typeface="Arial"/>
              </a:rPr>
              <a:t>Who discovered the reported event?</a:t>
            </a:r>
            <a:endParaRPr b="0" lang="en-US" sz="2200" spc="-1" strike="noStrike">
              <a:solidFill>
                <a:srgbClr val="eaeaea"/>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a:rPr>
              <a:t> </a:t>
            </a:r>
            <a:r>
              <a:rPr b="1" lang="en-IE" sz="2000" spc="-1" strike="noStrike">
                <a:solidFill>
                  <a:srgbClr val="ffffff"/>
                </a:solidFill>
                <a:latin typeface="Arial"/>
              </a:rPr>
              <a:t>	</a:t>
            </a:r>
            <a:r>
              <a:rPr b="1" lang="en-IE" sz="2000" spc="-1" strike="noStrike">
                <a:solidFill>
                  <a:srgbClr val="ffffff"/>
                </a:solidFill>
                <a:latin typeface="Arial"/>
              </a:rPr>
              <a:t>Mainly Radiation Therapists on the treatment units</a:t>
            </a:r>
            <a:endParaRPr b="0" lang="en-US" sz="2000" spc="-1" strike="noStrike">
              <a:solidFill>
                <a:srgbClr val="eaeaea"/>
              </a:solidFill>
              <a:latin typeface="Times New Roman"/>
            </a:endParaRPr>
          </a:p>
        </p:txBody>
      </p:sp>
      <p:pic>
        <p:nvPicPr>
          <p:cNvPr id="399" name="" descr=""/>
          <p:cNvPicPr/>
          <p:nvPr/>
        </p:nvPicPr>
        <p:blipFill>
          <a:blip r:embed="rId1"/>
          <a:stretch/>
        </p:blipFill>
        <p:spPr>
          <a:xfrm>
            <a:off x="685800" y="1905120"/>
            <a:ext cx="7705800" cy="4736880"/>
          </a:xfrm>
          <a:prstGeom prst="rect">
            <a:avLst/>
          </a:prstGeom>
          <a:ln w="0">
            <a:noFill/>
          </a:ln>
        </p:spPr>
      </p:pic>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A2BC10D1-26F4-4EC8-AF5E-EB911F5325A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00"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ROSIS – first 200 reports</a:t>
            </a:r>
            <a:endParaRPr b="0" lang="en-US" sz="3600" spc="-1" strike="noStrike">
              <a:solidFill>
                <a:srgbClr val="eaeaea"/>
              </a:solidFill>
              <a:latin typeface="Times New Roman"/>
            </a:endParaRPr>
          </a:p>
        </p:txBody>
      </p:sp>
      <p:sp>
        <p:nvSpPr>
          <p:cNvPr id="401" name=""/>
          <p:cNvSpPr/>
          <p:nvPr/>
        </p:nvSpPr>
        <p:spPr>
          <a:xfrm>
            <a:off x="609480" y="1066680"/>
            <a:ext cx="8001000" cy="1038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ffcc00"/>
                </a:solidFill>
                <a:latin typeface="Arial"/>
              </a:rPr>
              <a:t>At what “check-station” did the discovery happen?</a:t>
            </a:r>
            <a:endParaRPr b="0" lang="en-US" sz="2200" spc="-1" strike="noStrike">
              <a:solidFill>
                <a:srgbClr val="eaeaea"/>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a:rPr>
              <a:t> </a:t>
            </a:r>
            <a:r>
              <a:rPr b="1" lang="en-IE" sz="2000" spc="-1" strike="noStrike">
                <a:solidFill>
                  <a:srgbClr val="ffffff"/>
                </a:solidFill>
                <a:latin typeface="Arial"/>
              </a:rPr>
              <a:t>	</a:t>
            </a:r>
            <a:r>
              <a:rPr b="1" lang="en-IE" sz="2000" spc="-1" strike="noStrike">
                <a:solidFill>
                  <a:srgbClr val="ffffff"/>
                </a:solidFill>
                <a:latin typeface="Arial"/>
              </a:rPr>
              <a:t>Mainly at chart check. However, most discoveries </a:t>
            </a:r>
            <a:r>
              <a:rPr b="1" lang="en-IE" sz="2000" spc="-1" strike="noStrike">
                <a:solidFill>
                  <a:srgbClr val="ffffff"/>
                </a:solidFill>
                <a:latin typeface="Arial"/>
              </a:rPr>
              <a:t>	</a:t>
            </a:r>
            <a:r>
              <a:rPr b="1" lang="en-IE" sz="2000" spc="-1" strike="noStrike">
                <a:solidFill>
                  <a:srgbClr val="ffffff"/>
                </a:solidFill>
                <a:latin typeface="Arial"/>
              </a:rPr>
              <a:t>through “vigilance” at time of treatment.</a:t>
            </a:r>
            <a:endParaRPr b="0" lang="en-US" sz="2000" spc="-1" strike="noStrike">
              <a:solidFill>
                <a:srgbClr val="eaeaea"/>
              </a:solidFill>
              <a:latin typeface="Times New Roman"/>
            </a:endParaRPr>
          </a:p>
        </p:txBody>
      </p:sp>
      <p:pic>
        <p:nvPicPr>
          <p:cNvPr id="402" name="" descr=""/>
          <p:cNvPicPr/>
          <p:nvPr/>
        </p:nvPicPr>
        <p:blipFill>
          <a:blip r:embed="rId1"/>
          <a:stretch/>
        </p:blipFill>
        <p:spPr>
          <a:xfrm>
            <a:off x="762120" y="2125800"/>
            <a:ext cx="7696080" cy="4724280"/>
          </a:xfrm>
          <a:prstGeom prst="rect">
            <a:avLst/>
          </a:prstGeom>
          <a:ln w="0">
            <a:noFill/>
          </a:ln>
        </p:spPr>
      </p:pic>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D90737F1-42BB-49F8-91F1-2B22C048413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03"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ROSIS – first 200 reports</a:t>
            </a:r>
            <a:endParaRPr b="0" lang="en-US" sz="3600" spc="-1" strike="noStrike">
              <a:solidFill>
                <a:srgbClr val="eaeaea"/>
              </a:solidFill>
              <a:latin typeface="Times New Roman"/>
            </a:endParaRPr>
          </a:p>
        </p:txBody>
      </p:sp>
      <p:pic>
        <p:nvPicPr>
          <p:cNvPr id="404" name="" descr=""/>
          <p:cNvPicPr/>
          <p:nvPr/>
        </p:nvPicPr>
        <p:blipFill>
          <a:blip r:embed="rId1"/>
          <a:stretch/>
        </p:blipFill>
        <p:spPr>
          <a:xfrm>
            <a:off x="1219320" y="2541600"/>
            <a:ext cx="7019640" cy="4316400"/>
          </a:xfrm>
          <a:prstGeom prst="rect">
            <a:avLst/>
          </a:prstGeom>
          <a:ln w="0">
            <a:noFill/>
          </a:ln>
        </p:spPr>
      </p:pic>
      <p:sp>
        <p:nvSpPr>
          <p:cNvPr id="405" name=""/>
          <p:cNvSpPr/>
          <p:nvPr/>
        </p:nvSpPr>
        <p:spPr>
          <a:xfrm>
            <a:off x="609480" y="1219320"/>
            <a:ext cx="8001000" cy="1069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ffcc00"/>
                </a:solidFill>
                <a:latin typeface="Arial"/>
              </a:rPr>
              <a:t>What is the estimated outcome or potential outcome for the patient / person(s) affected? (Response)</a:t>
            </a:r>
            <a:endParaRPr b="0" lang="en-US" sz="2200" spc="-1" strike="noStrike">
              <a:solidFill>
                <a:srgbClr val="eaeaea"/>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a:rPr>
              <a:t>	</a:t>
            </a:r>
            <a:r>
              <a:rPr b="1" lang="en-IE" sz="2000" spc="-1" strike="noStrike">
                <a:solidFill>
                  <a:srgbClr val="ffffff"/>
                </a:solidFill>
                <a:latin typeface="Arial"/>
              </a:rPr>
              <a:t>… </a:t>
            </a:r>
            <a:r>
              <a:rPr b="1" lang="en-IE" sz="2000" spc="-1" strike="noStrike">
                <a:solidFill>
                  <a:srgbClr val="ffffff"/>
                </a:solidFill>
                <a:latin typeface="Arial"/>
              </a:rPr>
              <a:t>out of 128 incidents (and no near-misses)</a:t>
            </a:r>
            <a:endParaRPr b="0" lang="en-US" sz="20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711067DB-A154-49A8-9A8B-7719DE5C9CC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06"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ROSIS</a:t>
            </a:r>
            <a:endParaRPr b="0" lang="en-US" sz="3600" spc="-1" strike="noStrike">
              <a:solidFill>
                <a:srgbClr val="eaeaea"/>
              </a:solidFill>
              <a:latin typeface="Times New Roman"/>
            </a:endParaRPr>
          </a:p>
        </p:txBody>
      </p:sp>
      <p:sp>
        <p:nvSpPr>
          <p:cNvPr id="407" name=""/>
          <p:cNvSpPr/>
          <p:nvPr/>
        </p:nvSpPr>
        <p:spPr>
          <a:xfrm>
            <a:off x="2009880" y="2930400"/>
            <a:ext cx="5562360" cy="3708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08" name=""/>
          <p:cNvSpPr/>
          <p:nvPr/>
        </p:nvSpPr>
        <p:spPr>
          <a:xfrm>
            <a:off x="609480" y="1143000"/>
            <a:ext cx="8001000" cy="1709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ffcc00"/>
                </a:solidFill>
                <a:latin typeface="Arial"/>
              </a:rPr>
              <a:t>A hazard identification system is being worked on, based on the submitted reports and 910 reports on paper (retrospective) previously submitted by clinics </a:t>
            </a:r>
            <a:r>
              <a:rPr b="1" lang="en-IE" sz="2000" spc="-1" strike="noStrike">
                <a:solidFill>
                  <a:srgbClr val="000099"/>
                </a:solidFill>
                <a:latin typeface="Arial"/>
              </a:rPr>
              <a:t>	</a:t>
            </a:r>
            <a:r>
              <a:rPr b="1" lang="en-IE" sz="2000" spc="-1" strike="noStrike">
                <a:solidFill>
                  <a:srgbClr val="ffffff"/>
                </a:solidFill>
                <a:latin typeface="Arial"/>
              </a:rPr>
              <a:t>Categories have subcategories, etc. Frequency analysis </a:t>
            </a:r>
            <a:r>
              <a:rPr b="1" lang="en-IE" sz="2000" spc="-1" strike="noStrike">
                <a:solidFill>
                  <a:srgbClr val="ffffff"/>
                </a:solidFill>
                <a:latin typeface="Arial"/>
              </a:rPr>
              <a:t>	</a:t>
            </a:r>
            <a:r>
              <a:rPr b="1" lang="en-IE" sz="2000" spc="-1" strike="noStrike">
                <a:solidFill>
                  <a:srgbClr val="ffffff"/>
                </a:solidFill>
                <a:latin typeface="Arial"/>
              </a:rPr>
              <a:t>will be attempted</a:t>
            </a:r>
            <a:endParaRPr b="0" lang="en-US" sz="2000" spc="-1" strike="noStrike">
              <a:solidFill>
                <a:srgbClr val="eaeaea"/>
              </a:solidFill>
              <a:latin typeface="Times New Roman"/>
            </a:endParaRPr>
          </a:p>
        </p:txBody>
      </p:sp>
      <p:pic>
        <p:nvPicPr>
          <p:cNvPr id="409" name="" descr=""/>
          <p:cNvPicPr/>
          <p:nvPr/>
        </p:nvPicPr>
        <p:blipFill>
          <a:blip r:embed="rId1"/>
          <a:stretch/>
        </p:blipFill>
        <p:spPr>
          <a:xfrm>
            <a:off x="2438280" y="3124080"/>
            <a:ext cx="4600800" cy="3380040"/>
          </a:xfrm>
          <a:prstGeom prst="rect">
            <a:avLst/>
          </a:prstGeom>
          <a:ln w="0">
            <a:noFill/>
          </a:ln>
        </p:spPr>
      </p:pic>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17D35124-B995-4977-88B8-1F6A06B0671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10" name=""/>
          <p:cNvSpPr/>
          <p:nvPr/>
        </p:nvSpPr>
        <p:spPr>
          <a:xfrm>
            <a:off x="0" y="0"/>
            <a:ext cx="9144000" cy="59562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11"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ummary</a:t>
            </a:r>
            <a:endParaRPr b="0" lang="en-US" sz="3600" spc="-1" strike="noStrike">
              <a:solidFill>
                <a:srgbClr val="eaeaea"/>
              </a:solidFill>
              <a:latin typeface="Times New Roman"/>
            </a:endParaRPr>
          </a:p>
        </p:txBody>
      </p:sp>
      <p:sp>
        <p:nvSpPr>
          <p:cNvPr id="412" name=""/>
          <p:cNvSpPr/>
          <p:nvPr/>
        </p:nvSpPr>
        <p:spPr>
          <a:xfrm>
            <a:off x="533520" y="1219320"/>
            <a:ext cx="82296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Incident reporting systems represent one of the layers in the multilayered prevention of accidental exposures</a:t>
            </a: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ffffff"/>
                </a:solidFill>
                <a:latin typeface="Arial"/>
              </a:rPr>
              <a:t>Other layers, such as procedures, etc, are also needed</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There are mandatory / voluntary and internal / external incident reporting systems</a:t>
            </a: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Different types of systems have different foci, but are all important</a:t>
            </a:r>
            <a:endParaRPr b="0" lang="en-US" sz="24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E072128C-FC29-4DE3-A0B5-6110C39A022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2" name=""/>
          <p:cNvSpPr/>
          <p:nvPr/>
        </p:nvSpPr>
        <p:spPr>
          <a:xfrm>
            <a:off x="0" y="1143000"/>
            <a:ext cx="9144000" cy="5715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3"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ackground</a:t>
            </a:r>
            <a:endParaRPr b="0" lang="en-US" sz="3600" spc="-1" strike="noStrike">
              <a:solidFill>
                <a:srgbClr val="eaeaea"/>
              </a:solidFill>
              <a:latin typeface="Times New Roman"/>
            </a:endParaRPr>
          </a:p>
        </p:txBody>
      </p:sp>
      <p:pic>
        <p:nvPicPr>
          <p:cNvPr id="144" name="" descr=""/>
          <p:cNvPicPr/>
          <p:nvPr/>
        </p:nvPicPr>
        <p:blipFill>
          <a:blip r:embed="rId1"/>
          <a:stretch/>
        </p:blipFill>
        <p:spPr>
          <a:xfrm>
            <a:off x="609480" y="1371600"/>
            <a:ext cx="7925040" cy="5149800"/>
          </a:xfrm>
          <a:prstGeom prst="rect">
            <a:avLst/>
          </a:prstGeom>
          <a:ln w="0">
            <a:noFill/>
          </a:ln>
        </p:spPr>
      </p:pic>
      <p:sp>
        <p:nvSpPr>
          <p:cNvPr id="145" name=""/>
          <p:cNvSpPr/>
          <p:nvPr/>
        </p:nvSpPr>
        <p:spPr>
          <a:xfrm>
            <a:off x="752400" y="1581120"/>
            <a:ext cx="7632720" cy="4943520"/>
          </a:xfrm>
          <a:custGeom>
            <a:avLst/>
            <a:gdLst/>
            <a:ahLst/>
            <a:rect l="l" t="t" r="r" b="b"/>
            <a:pathLst>
              <a:path w="4808" h="3114">
                <a:moveTo>
                  <a:pt x="84" y="2700"/>
                </a:moveTo>
                <a:cubicBezTo>
                  <a:pt x="75" y="2674"/>
                  <a:pt x="59" y="2653"/>
                  <a:pt x="48" y="2628"/>
                </a:cubicBezTo>
                <a:cubicBezTo>
                  <a:pt x="43" y="2616"/>
                  <a:pt x="40" y="2604"/>
                  <a:pt x="36" y="2592"/>
                </a:cubicBezTo>
                <a:cubicBezTo>
                  <a:pt x="34" y="2586"/>
                  <a:pt x="30" y="2574"/>
                  <a:pt x="30" y="2574"/>
                </a:cubicBezTo>
                <a:cubicBezTo>
                  <a:pt x="19" y="2426"/>
                  <a:pt x="15" y="2278"/>
                  <a:pt x="0" y="2130"/>
                </a:cubicBezTo>
                <a:cubicBezTo>
                  <a:pt x="2" y="2084"/>
                  <a:pt x="3" y="2038"/>
                  <a:pt x="6" y="1992"/>
                </a:cubicBezTo>
                <a:cubicBezTo>
                  <a:pt x="8" y="1957"/>
                  <a:pt x="34" y="1860"/>
                  <a:pt x="54" y="1830"/>
                </a:cubicBezTo>
                <a:cubicBezTo>
                  <a:pt x="62" y="1818"/>
                  <a:pt x="73" y="1808"/>
                  <a:pt x="78" y="1794"/>
                </a:cubicBezTo>
                <a:cubicBezTo>
                  <a:pt x="88" y="1765"/>
                  <a:pt x="97" y="1726"/>
                  <a:pt x="126" y="1716"/>
                </a:cubicBezTo>
                <a:cubicBezTo>
                  <a:pt x="135" y="1690"/>
                  <a:pt x="147" y="1670"/>
                  <a:pt x="156" y="1644"/>
                </a:cubicBezTo>
                <a:cubicBezTo>
                  <a:pt x="153" y="1582"/>
                  <a:pt x="152" y="1507"/>
                  <a:pt x="132" y="1446"/>
                </a:cubicBezTo>
                <a:cubicBezTo>
                  <a:pt x="126" y="1402"/>
                  <a:pt x="125" y="1357"/>
                  <a:pt x="114" y="1314"/>
                </a:cubicBezTo>
                <a:cubicBezTo>
                  <a:pt x="118" y="1203"/>
                  <a:pt x="114" y="1157"/>
                  <a:pt x="144" y="1068"/>
                </a:cubicBezTo>
                <a:cubicBezTo>
                  <a:pt x="155" y="1034"/>
                  <a:pt x="161" y="998"/>
                  <a:pt x="192" y="978"/>
                </a:cubicBezTo>
                <a:cubicBezTo>
                  <a:pt x="204" y="941"/>
                  <a:pt x="231" y="895"/>
                  <a:pt x="270" y="882"/>
                </a:cubicBezTo>
                <a:cubicBezTo>
                  <a:pt x="278" y="858"/>
                  <a:pt x="294" y="852"/>
                  <a:pt x="312" y="834"/>
                </a:cubicBezTo>
                <a:cubicBezTo>
                  <a:pt x="324" y="799"/>
                  <a:pt x="356" y="779"/>
                  <a:pt x="390" y="768"/>
                </a:cubicBezTo>
                <a:cubicBezTo>
                  <a:pt x="406" y="752"/>
                  <a:pt x="417" y="729"/>
                  <a:pt x="438" y="720"/>
                </a:cubicBezTo>
                <a:cubicBezTo>
                  <a:pt x="472" y="705"/>
                  <a:pt x="469" y="715"/>
                  <a:pt x="492" y="696"/>
                </a:cubicBezTo>
                <a:cubicBezTo>
                  <a:pt x="525" y="669"/>
                  <a:pt x="577" y="620"/>
                  <a:pt x="618" y="606"/>
                </a:cubicBezTo>
                <a:cubicBezTo>
                  <a:pt x="622" y="600"/>
                  <a:pt x="625" y="593"/>
                  <a:pt x="630" y="588"/>
                </a:cubicBezTo>
                <a:cubicBezTo>
                  <a:pt x="635" y="583"/>
                  <a:pt x="643" y="581"/>
                  <a:pt x="648" y="576"/>
                </a:cubicBezTo>
                <a:cubicBezTo>
                  <a:pt x="697" y="520"/>
                  <a:pt x="650" y="555"/>
                  <a:pt x="690" y="528"/>
                </a:cubicBezTo>
                <a:cubicBezTo>
                  <a:pt x="733" y="464"/>
                  <a:pt x="666" y="561"/>
                  <a:pt x="720" y="492"/>
                </a:cubicBezTo>
                <a:cubicBezTo>
                  <a:pt x="760" y="441"/>
                  <a:pt x="766" y="418"/>
                  <a:pt x="828" y="390"/>
                </a:cubicBezTo>
                <a:cubicBezTo>
                  <a:pt x="903" y="357"/>
                  <a:pt x="825" y="404"/>
                  <a:pt x="900" y="354"/>
                </a:cubicBezTo>
                <a:cubicBezTo>
                  <a:pt x="906" y="350"/>
                  <a:pt x="918" y="342"/>
                  <a:pt x="918" y="342"/>
                </a:cubicBezTo>
                <a:cubicBezTo>
                  <a:pt x="950" y="294"/>
                  <a:pt x="985" y="277"/>
                  <a:pt x="1032" y="246"/>
                </a:cubicBezTo>
                <a:cubicBezTo>
                  <a:pt x="1102" y="200"/>
                  <a:pt x="1168" y="153"/>
                  <a:pt x="1248" y="126"/>
                </a:cubicBezTo>
                <a:cubicBezTo>
                  <a:pt x="1284" y="114"/>
                  <a:pt x="1318" y="90"/>
                  <a:pt x="1356" y="84"/>
                </a:cubicBezTo>
                <a:cubicBezTo>
                  <a:pt x="1380" y="80"/>
                  <a:pt x="1428" y="72"/>
                  <a:pt x="1428" y="72"/>
                </a:cubicBezTo>
                <a:cubicBezTo>
                  <a:pt x="1561" y="82"/>
                  <a:pt x="1667" y="103"/>
                  <a:pt x="1800" y="108"/>
                </a:cubicBezTo>
                <a:cubicBezTo>
                  <a:pt x="1950" y="146"/>
                  <a:pt x="2094" y="171"/>
                  <a:pt x="2250" y="180"/>
                </a:cubicBezTo>
                <a:cubicBezTo>
                  <a:pt x="2378" y="198"/>
                  <a:pt x="2306" y="193"/>
                  <a:pt x="2466" y="186"/>
                </a:cubicBezTo>
                <a:cubicBezTo>
                  <a:pt x="2552" y="157"/>
                  <a:pt x="2642" y="136"/>
                  <a:pt x="2730" y="114"/>
                </a:cubicBezTo>
                <a:cubicBezTo>
                  <a:pt x="2780" y="101"/>
                  <a:pt x="2825" y="72"/>
                  <a:pt x="2874" y="60"/>
                </a:cubicBezTo>
                <a:cubicBezTo>
                  <a:pt x="2971" y="36"/>
                  <a:pt x="3062" y="13"/>
                  <a:pt x="3162" y="0"/>
                </a:cubicBezTo>
                <a:cubicBezTo>
                  <a:pt x="3248" y="2"/>
                  <a:pt x="3334" y="1"/>
                  <a:pt x="3420" y="6"/>
                </a:cubicBezTo>
                <a:cubicBezTo>
                  <a:pt x="3428" y="6"/>
                  <a:pt x="3461" y="21"/>
                  <a:pt x="3474" y="24"/>
                </a:cubicBezTo>
                <a:cubicBezTo>
                  <a:pt x="3522" y="36"/>
                  <a:pt x="3567" y="53"/>
                  <a:pt x="3612" y="72"/>
                </a:cubicBezTo>
                <a:cubicBezTo>
                  <a:pt x="3642" y="85"/>
                  <a:pt x="3677" y="92"/>
                  <a:pt x="3708" y="102"/>
                </a:cubicBezTo>
                <a:cubicBezTo>
                  <a:pt x="3730" y="109"/>
                  <a:pt x="3762" y="132"/>
                  <a:pt x="3780" y="144"/>
                </a:cubicBezTo>
                <a:cubicBezTo>
                  <a:pt x="3844" y="187"/>
                  <a:pt x="3913" y="227"/>
                  <a:pt x="3978" y="270"/>
                </a:cubicBezTo>
                <a:cubicBezTo>
                  <a:pt x="4047" y="316"/>
                  <a:pt x="4125" y="350"/>
                  <a:pt x="4194" y="396"/>
                </a:cubicBezTo>
                <a:cubicBezTo>
                  <a:pt x="4228" y="419"/>
                  <a:pt x="4264" y="461"/>
                  <a:pt x="4302" y="474"/>
                </a:cubicBezTo>
                <a:cubicBezTo>
                  <a:pt x="4324" y="481"/>
                  <a:pt x="4343" y="491"/>
                  <a:pt x="4362" y="504"/>
                </a:cubicBezTo>
                <a:cubicBezTo>
                  <a:pt x="4385" y="538"/>
                  <a:pt x="4429" y="571"/>
                  <a:pt x="4464" y="594"/>
                </a:cubicBezTo>
                <a:cubicBezTo>
                  <a:pt x="4492" y="636"/>
                  <a:pt x="4476" y="622"/>
                  <a:pt x="4506" y="642"/>
                </a:cubicBezTo>
                <a:cubicBezTo>
                  <a:pt x="4549" y="706"/>
                  <a:pt x="4482" y="609"/>
                  <a:pt x="4536" y="678"/>
                </a:cubicBezTo>
                <a:cubicBezTo>
                  <a:pt x="4561" y="711"/>
                  <a:pt x="4578" y="750"/>
                  <a:pt x="4596" y="786"/>
                </a:cubicBezTo>
                <a:cubicBezTo>
                  <a:pt x="4605" y="804"/>
                  <a:pt x="4618" y="821"/>
                  <a:pt x="4626" y="840"/>
                </a:cubicBezTo>
                <a:cubicBezTo>
                  <a:pt x="4631" y="852"/>
                  <a:pt x="4638" y="876"/>
                  <a:pt x="4638" y="876"/>
                </a:cubicBezTo>
                <a:cubicBezTo>
                  <a:pt x="4640" y="934"/>
                  <a:pt x="4639" y="992"/>
                  <a:pt x="4644" y="1050"/>
                </a:cubicBezTo>
                <a:cubicBezTo>
                  <a:pt x="4645" y="1066"/>
                  <a:pt x="4651" y="1082"/>
                  <a:pt x="4656" y="1098"/>
                </a:cubicBezTo>
                <a:cubicBezTo>
                  <a:pt x="4660" y="1110"/>
                  <a:pt x="4668" y="1134"/>
                  <a:pt x="4668" y="1134"/>
                </a:cubicBezTo>
                <a:cubicBezTo>
                  <a:pt x="4673" y="1209"/>
                  <a:pt x="4686" y="1277"/>
                  <a:pt x="4704" y="1350"/>
                </a:cubicBezTo>
                <a:cubicBezTo>
                  <a:pt x="4706" y="1392"/>
                  <a:pt x="4705" y="1434"/>
                  <a:pt x="4710" y="1476"/>
                </a:cubicBezTo>
                <a:cubicBezTo>
                  <a:pt x="4715" y="1524"/>
                  <a:pt x="4720" y="1499"/>
                  <a:pt x="4734" y="1530"/>
                </a:cubicBezTo>
                <a:cubicBezTo>
                  <a:pt x="4755" y="1577"/>
                  <a:pt x="4778" y="1626"/>
                  <a:pt x="4794" y="1674"/>
                </a:cubicBezTo>
                <a:cubicBezTo>
                  <a:pt x="4800" y="1791"/>
                  <a:pt x="4808" y="1887"/>
                  <a:pt x="4794" y="2010"/>
                </a:cubicBezTo>
                <a:cubicBezTo>
                  <a:pt x="4792" y="2024"/>
                  <a:pt x="4778" y="2034"/>
                  <a:pt x="4770" y="2046"/>
                </a:cubicBezTo>
                <a:cubicBezTo>
                  <a:pt x="4763" y="2057"/>
                  <a:pt x="4762" y="2070"/>
                  <a:pt x="4758" y="2082"/>
                </a:cubicBezTo>
                <a:cubicBezTo>
                  <a:pt x="4732" y="2160"/>
                  <a:pt x="4702" y="2235"/>
                  <a:pt x="4686" y="2316"/>
                </a:cubicBezTo>
                <a:cubicBezTo>
                  <a:pt x="4679" y="2416"/>
                  <a:pt x="4664" y="2465"/>
                  <a:pt x="4626" y="2550"/>
                </a:cubicBezTo>
                <a:cubicBezTo>
                  <a:pt x="4618" y="2567"/>
                  <a:pt x="4621" y="2591"/>
                  <a:pt x="4608" y="2604"/>
                </a:cubicBezTo>
                <a:cubicBezTo>
                  <a:pt x="4586" y="2626"/>
                  <a:pt x="4573" y="2656"/>
                  <a:pt x="4548" y="2676"/>
                </a:cubicBezTo>
                <a:cubicBezTo>
                  <a:pt x="4537" y="2685"/>
                  <a:pt x="4522" y="2690"/>
                  <a:pt x="4512" y="2700"/>
                </a:cubicBezTo>
                <a:cubicBezTo>
                  <a:pt x="4481" y="2731"/>
                  <a:pt x="4458" y="2746"/>
                  <a:pt x="4422" y="2766"/>
                </a:cubicBezTo>
                <a:cubicBezTo>
                  <a:pt x="4411" y="2772"/>
                  <a:pt x="4387" y="2795"/>
                  <a:pt x="4368" y="2796"/>
                </a:cubicBezTo>
                <a:cubicBezTo>
                  <a:pt x="4314" y="2800"/>
                  <a:pt x="4260" y="2800"/>
                  <a:pt x="4206" y="2802"/>
                </a:cubicBezTo>
                <a:cubicBezTo>
                  <a:pt x="4171" y="2808"/>
                  <a:pt x="4140" y="2812"/>
                  <a:pt x="4110" y="2832"/>
                </a:cubicBezTo>
                <a:cubicBezTo>
                  <a:pt x="4096" y="2853"/>
                  <a:pt x="4086" y="2866"/>
                  <a:pt x="4062" y="2874"/>
                </a:cubicBezTo>
                <a:cubicBezTo>
                  <a:pt x="4013" y="2947"/>
                  <a:pt x="3911" y="3000"/>
                  <a:pt x="3828" y="3018"/>
                </a:cubicBezTo>
                <a:cubicBezTo>
                  <a:pt x="3801" y="3024"/>
                  <a:pt x="3779" y="3047"/>
                  <a:pt x="3750" y="3048"/>
                </a:cubicBezTo>
                <a:cubicBezTo>
                  <a:pt x="3676" y="3052"/>
                  <a:pt x="3602" y="3053"/>
                  <a:pt x="3528" y="3054"/>
                </a:cubicBezTo>
                <a:cubicBezTo>
                  <a:pt x="3388" y="3057"/>
                  <a:pt x="3248" y="3058"/>
                  <a:pt x="3108" y="3060"/>
                </a:cubicBezTo>
                <a:cubicBezTo>
                  <a:pt x="2820" y="3079"/>
                  <a:pt x="2984" y="3071"/>
                  <a:pt x="2616" y="3078"/>
                </a:cubicBezTo>
                <a:cubicBezTo>
                  <a:pt x="2372" y="3067"/>
                  <a:pt x="2129" y="3079"/>
                  <a:pt x="1884" y="3084"/>
                </a:cubicBezTo>
                <a:cubicBezTo>
                  <a:pt x="1793" y="3114"/>
                  <a:pt x="1692" y="3088"/>
                  <a:pt x="1596" y="3102"/>
                </a:cubicBezTo>
                <a:cubicBezTo>
                  <a:pt x="1402" y="3098"/>
                  <a:pt x="1314" y="3089"/>
                  <a:pt x="1152" y="3078"/>
                </a:cubicBezTo>
                <a:cubicBezTo>
                  <a:pt x="1072" y="3051"/>
                  <a:pt x="961" y="3075"/>
                  <a:pt x="882" y="3078"/>
                </a:cubicBezTo>
                <a:cubicBezTo>
                  <a:pt x="767" y="3097"/>
                  <a:pt x="834" y="3089"/>
                  <a:pt x="678" y="3096"/>
                </a:cubicBezTo>
                <a:cubicBezTo>
                  <a:pt x="630" y="3090"/>
                  <a:pt x="567" y="3088"/>
                  <a:pt x="522" y="3066"/>
                </a:cubicBezTo>
                <a:cubicBezTo>
                  <a:pt x="485" y="3048"/>
                  <a:pt x="453" y="3019"/>
                  <a:pt x="414" y="3006"/>
                </a:cubicBezTo>
                <a:cubicBezTo>
                  <a:pt x="408" y="3000"/>
                  <a:pt x="403" y="2993"/>
                  <a:pt x="396" y="2988"/>
                </a:cubicBezTo>
                <a:cubicBezTo>
                  <a:pt x="385" y="2979"/>
                  <a:pt x="360" y="2964"/>
                  <a:pt x="360" y="2964"/>
                </a:cubicBezTo>
                <a:cubicBezTo>
                  <a:pt x="346" y="2942"/>
                  <a:pt x="333" y="2942"/>
                  <a:pt x="312" y="2928"/>
                </a:cubicBezTo>
                <a:cubicBezTo>
                  <a:pt x="296" y="2904"/>
                  <a:pt x="276" y="2878"/>
                  <a:pt x="252" y="2862"/>
                </a:cubicBezTo>
                <a:cubicBezTo>
                  <a:pt x="239" y="2842"/>
                  <a:pt x="203" y="2789"/>
                  <a:pt x="186" y="2778"/>
                </a:cubicBezTo>
                <a:cubicBezTo>
                  <a:pt x="170" y="2768"/>
                  <a:pt x="150" y="2766"/>
                  <a:pt x="132" y="2760"/>
                </a:cubicBezTo>
                <a:cubicBezTo>
                  <a:pt x="126" y="2758"/>
                  <a:pt x="114" y="2754"/>
                  <a:pt x="114" y="2754"/>
                </a:cubicBezTo>
                <a:cubicBezTo>
                  <a:pt x="108" y="2746"/>
                  <a:pt x="100" y="2739"/>
                  <a:pt x="96" y="2730"/>
                </a:cubicBezTo>
                <a:cubicBezTo>
                  <a:pt x="83" y="2705"/>
                  <a:pt x="84" y="2679"/>
                  <a:pt x="84" y="2700"/>
                </a:cubicBezTo>
                <a:close/>
              </a:path>
            </a:pathLst>
          </a:custGeom>
          <a:noFill/>
          <a:ln w="572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6" name=""/>
          <p:cNvSpPr/>
          <p:nvPr/>
        </p:nvSpPr>
        <p:spPr>
          <a:xfrm>
            <a:off x="5081760" y="2390760"/>
            <a:ext cx="2004840" cy="3343320"/>
          </a:xfrm>
          <a:custGeom>
            <a:avLst/>
            <a:gdLst/>
            <a:ahLst/>
            <a:rect l="l" t="t" r="r" b="b"/>
            <a:pathLst>
              <a:path w="1263" h="2106">
                <a:moveTo>
                  <a:pt x="123" y="1818"/>
                </a:moveTo>
                <a:cubicBezTo>
                  <a:pt x="163" y="1810"/>
                  <a:pt x="190" y="1794"/>
                  <a:pt x="225" y="1776"/>
                </a:cubicBezTo>
                <a:cubicBezTo>
                  <a:pt x="243" y="1767"/>
                  <a:pt x="279" y="1746"/>
                  <a:pt x="279" y="1746"/>
                </a:cubicBezTo>
                <a:cubicBezTo>
                  <a:pt x="292" y="1706"/>
                  <a:pt x="309" y="1674"/>
                  <a:pt x="333" y="1638"/>
                </a:cubicBezTo>
                <a:cubicBezTo>
                  <a:pt x="345" y="1619"/>
                  <a:pt x="331" y="1618"/>
                  <a:pt x="351" y="1602"/>
                </a:cubicBezTo>
                <a:cubicBezTo>
                  <a:pt x="356" y="1598"/>
                  <a:pt x="363" y="1599"/>
                  <a:pt x="369" y="1596"/>
                </a:cubicBezTo>
                <a:cubicBezTo>
                  <a:pt x="386" y="1588"/>
                  <a:pt x="392" y="1579"/>
                  <a:pt x="405" y="1566"/>
                </a:cubicBezTo>
                <a:cubicBezTo>
                  <a:pt x="424" y="1509"/>
                  <a:pt x="406" y="1518"/>
                  <a:pt x="459" y="1500"/>
                </a:cubicBezTo>
                <a:cubicBezTo>
                  <a:pt x="465" y="1498"/>
                  <a:pt x="472" y="1498"/>
                  <a:pt x="477" y="1494"/>
                </a:cubicBezTo>
                <a:cubicBezTo>
                  <a:pt x="486" y="1488"/>
                  <a:pt x="517" y="1467"/>
                  <a:pt x="531" y="1458"/>
                </a:cubicBezTo>
                <a:cubicBezTo>
                  <a:pt x="537" y="1454"/>
                  <a:pt x="549" y="1446"/>
                  <a:pt x="549" y="1446"/>
                </a:cubicBezTo>
                <a:cubicBezTo>
                  <a:pt x="553" y="1440"/>
                  <a:pt x="556" y="1433"/>
                  <a:pt x="561" y="1428"/>
                </a:cubicBezTo>
                <a:cubicBezTo>
                  <a:pt x="566" y="1423"/>
                  <a:pt x="578" y="1423"/>
                  <a:pt x="579" y="1416"/>
                </a:cubicBezTo>
                <a:cubicBezTo>
                  <a:pt x="587" y="1350"/>
                  <a:pt x="565" y="1301"/>
                  <a:pt x="513" y="1266"/>
                </a:cubicBezTo>
                <a:cubicBezTo>
                  <a:pt x="502" y="1233"/>
                  <a:pt x="493" y="1224"/>
                  <a:pt x="507" y="1188"/>
                </a:cubicBezTo>
                <a:cubicBezTo>
                  <a:pt x="512" y="1175"/>
                  <a:pt x="523" y="1164"/>
                  <a:pt x="531" y="1152"/>
                </a:cubicBezTo>
                <a:cubicBezTo>
                  <a:pt x="538" y="1141"/>
                  <a:pt x="567" y="1140"/>
                  <a:pt x="567" y="1140"/>
                </a:cubicBezTo>
                <a:cubicBezTo>
                  <a:pt x="594" y="1100"/>
                  <a:pt x="588" y="1098"/>
                  <a:pt x="621" y="1080"/>
                </a:cubicBezTo>
                <a:cubicBezTo>
                  <a:pt x="634" y="1073"/>
                  <a:pt x="657" y="1056"/>
                  <a:pt x="657" y="1056"/>
                </a:cubicBezTo>
                <a:cubicBezTo>
                  <a:pt x="661" y="1045"/>
                  <a:pt x="673" y="1026"/>
                  <a:pt x="645" y="1026"/>
                </a:cubicBezTo>
                <a:cubicBezTo>
                  <a:pt x="627" y="1026"/>
                  <a:pt x="542" y="1051"/>
                  <a:pt x="525" y="1062"/>
                </a:cubicBezTo>
                <a:cubicBezTo>
                  <a:pt x="513" y="1070"/>
                  <a:pt x="489" y="1086"/>
                  <a:pt x="489" y="1086"/>
                </a:cubicBezTo>
                <a:cubicBezTo>
                  <a:pt x="461" y="1127"/>
                  <a:pt x="479" y="1127"/>
                  <a:pt x="447" y="1116"/>
                </a:cubicBezTo>
                <a:cubicBezTo>
                  <a:pt x="431" y="1091"/>
                  <a:pt x="426" y="1066"/>
                  <a:pt x="417" y="1038"/>
                </a:cubicBezTo>
                <a:cubicBezTo>
                  <a:pt x="419" y="1012"/>
                  <a:pt x="419" y="986"/>
                  <a:pt x="423" y="960"/>
                </a:cubicBezTo>
                <a:cubicBezTo>
                  <a:pt x="429" y="922"/>
                  <a:pt x="451" y="884"/>
                  <a:pt x="459" y="846"/>
                </a:cubicBezTo>
                <a:cubicBezTo>
                  <a:pt x="471" y="791"/>
                  <a:pt x="473" y="733"/>
                  <a:pt x="477" y="678"/>
                </a:cubicBezTo>
                <a:cubicBezTo>
                  <a:pt x="475" y="616"/>
                  <a:pt x="475" y="554"/>
                  <a:pt x="471" y="492"/>
                </a:cubicBezTo>
                <a:cubicBezTo>
                  <a:pt x="470" y="470"/>
                  <a:pt x="447" y="457"/>
                  <a:pt x="441" y="438"/>
                </a:cubicBezTo>
                <a:cubicBezTo>
                  <a:pt x="419" y="372"/>
                  <a:pt x="355" y="285"/>
                  <a:pt x="297" y="246"/>
                </a:cubicBezTo>
                <a:cubicBezTo>
                  <a:pt x="235" y="205"/>
                  <a:pt x="169" y="173"/>
                  <a:pt x="99" y="150"/>
                </a:cubicBezTo>
                <a:cubicBezTo>
                  <a:pt x="87" y="146"/>
                  <a:pt x="75" y="141"/>
                  <a:pt x="63" y="138"/>
                </a:cubicBezTo>
                <a:cubicBezTo>
                  <a:pt x="47" y="134"/>
                  <a:pt x="15" y="126"/>
                  <a:pt x="15" y="126"/>
                </a:cubicBezTo>
                <a:cubicBezTo>
                  <a:pt x="0" y="82"/>
                  <a:pt x="34" y="84"/>
                  <a:pt x="69" y="72"/>
                </a:cubicBezTo>
                <a:cubicBezTo>
                  <a:pt x="148" y="46"/>
                  <a:pt x="201" y="25"/>
                  <a:pt x="285" y="18"/>
                </a:cubicBezTo>
                <a:cubicBezTo>
                  <a:pt x="309" y="12"/>
                  <a:pt x="332" y="5"/>
                  <a:pt x="357" y="0"/>
                </a:cubicBezTo>
                <a:cubicBezTo>
                  <a:pt x="410" y="4"/>
                  <a:pt x="454" y="13"/>
                  <a:pt x="507" y="18"/>
                </a:cubicBezTo>
                <a:cubicBezTo>
                  <a:pt x="559" y="35"/>
                  <a:pt x="611" y="49"/>
                  <a:pt x="663" y="66"/>
                </a:cubicBezTo>
                <a:cubicBezTo>
                  <a:pt x="677" y="71"/>
                  <a:pt x="685" y="87"/>
                  <a:pt x="699" y="90"/>
                </a:cubicBezTo>
                <a:cubicBezTo>
                  <a:pt x="723" y="96"/>
                  <a:pt x="739" y="100"/>
                  <a:pt x="759" y="114"/>
                </a:cubicBezTo>
                <a:cubicBezTo>
                  <a:pt x="793" y="166"/>
                  <a:pt x="748" y="105"/>
                  <a:pt x="789" y="138"/>
                </a:cubicBezTo>
                <a:cubicBezTo>
                  <a:pt x="795" y="143"/>
                  <a:pt x="796" y="151"/>
                  <a:pt x="801" y="156"/>
                </a:cubicBezTo>
                <a:cubicBezTo>
                  <a:pt x="806" y="161"/>
                  <a:pt x="813" y="164"/>
                  <a:pt x="819" y="168"/>
                </a:cubicBezTo>
                <a:cubicBezTo>
                  <a:pt x="838" y="197"/>
                  <a:pt x="874" y="203"/>
                  <a:pt x="903" y="222"/>
                </a:cubicBezTo>
                <a:cubicBezTo>
                  <a:pt x="914" y="256"/>
                  <a:pt x="936" y="261"/>
                  <a:pt x="957" y="288"/>
                </a:cubicBezTo>
                <a:cubicBezTo>
                  <a:pt x="988" y="328"/>
                  <a:pt x="1010" y="380"/>
                  <a:pt x="1053" y="408"/>
                </a:cubicBezTo>
                <a:cubicBezTo>
                  <a:pt x="1066" y="447"/>
                  <a:pt x="1096" y="482"/>
                  <a:pt x="1119" y="516"/>
                </a:cubicBezTo>
                <a:cubicBezTo>
                  <a:pt x="1141" y="549"/>
                  <a:pt x="1154" y="589"/>
                  <a:pt x="1173" y="624"/>
                </a:cubicBezTo>
                <a:cubicBezTo>
                  <a:pt x="1188" y="651"/>
                  <a:pt x="1206" y="668"/>
                  <a:pt x="1215" y="696"/>
                </a:cubicBezTo>
                <a:cubicBezTo>
                  <a:pt x="1221" y="757"/>
                  <a:pt x="1232" y="818"/>
                  <a:pt x="1251" y="876"/>
                </a:cubicBezTo>
                <a:cubicBezTo>
                  <a:pt x="1259" y="899"/>
                  <a:pt x="1263" y="948"/>
                  <a:pt x="1263" y="948"/>
                </a:cubicBezTo>
                <a:cubicBezTo>
                  <a:pt x="1254" y="1040"/>
                  <a:pt x="1261" y="1143"/>
                  <a:pt x="1239" y="1230"/>
                </a:cubicBezTo>
                <a:cubicBezTo>
                  <a:pt x="1230" y="1340"/>
                  <a:pt x="1187" y="1442"/>
                  <a:pt x="1143" y="1542"/>
                </a:cubicBezTo>
                <a:cubicBezTo>
                  <a:pt x="1124" y="1584"/>
                  <a:pt x="1120" y="1612"/>
                  <a:pt x="1095" y="1650"/>
                </a:cubicBezTo>
                <a:cubicBezTo>
                  <a:pt x="1072" y="1685"/>
                  <a:pt x="1058" y="1728"/>
                  <a:pt x="1023" y="1752"/>
                </a:cubicBezTo>
                <a:cubicBezTo>
                  <a:pt x="1016" y="1763"/>
                  <a:pt x="975" y="1834"/>
                  <a:pt x="963" y="1842"/>
                </a:cubicBezTo>
                <a:cubicBezTo>
                  <a:pt x="933" y="1862"/>
                  <a:pt x="894" y="1883"/>
                  <a:pt x="873" y="1914"/>
                </a:cubicBezTo>
                <a:cubicBezTo>
                  <a:pt x="865" y="1926"/>
                  <a:pt x="857" y="1938"/>
                  <a:pt x="849" y="1950"/>
                </a:cubicBezTo>
                <a:cubicBezTo>
                  <a:pt x="845" y="1956"/>
                  <a:pt x="844" y="1966"/>
                  <a:pt x="837" y="1968"/>
                </a:cubicBezTo>
                <a:cubicBezTo>
                  <a:pt x="806" y="1978"/>
                  <a:pt x="776" y="1996"/>
                  <a:pt x="747" y="2010"/>
                </a:cubicBezTo>
                <a:cubicBezTo>
                  <a:pt x="705" y="2031"/>
                  <a:pt x="661" y="2056"/>
                  <a:pt x="621" y="2082"/>
                </a:cubicBezTo>
                <a:cubicBezTo>
                  <a:pt x="605" y="2093"/>
                  <a:pt x="567" y="2106"/>
                  <a:pt x="567" y="2106"/>
                </a:cubicBezTo>
                <a:cubicBezTo>
                  <a:pt x="515" y="2104"/>
                  <a:pt x="463" y="2105"/>
                  <a:pt x="411" y="2100"/>
                </a:cubicBezTo>
                <a:cubicBezTo>
                  <a:pt x="364" y="2096"/>
                  <a:pt x="341" y="2065"/>
                  <a:pt x="303" y="2052"/>
                </a:cubicBezTo>
                <a:cubicBezTo>
                  <a:pt x="267" y="2040"/>
                  <a:pt x="256" y="2032"/>
                  <a:pt x="225" y="2010"/>
                </a:cubicBezTo>
                <a:cubicBezTo>
                  <a:pt x="213" y="2002"/>
                  <a:pt x="201" y="1994"/>
                  <a:pt x="189" y="1986"/>
                </a:cubicBezTo>
                <a:cubicBezTo>
                  <a:pt x="183" y="1982"/>
                  <a:pt x="171" y="1974"/>
                  <a:pt x="171" y="1974"/>
                </a:cubicBezTo>
                <a:cubicBezTo>
                  <a:pt x="139" y="1926"/>
                  <a:pt x="181" y="1984"/>
                  <a:pt x="141" y="1944"/>
                </a:cubicBezTo>
                <a:cubicBezTo>
                  <a:pt x="106" y="1909"/>
                  <a:pt x="119" y="1861"/>
                  <a:pt x="123" y="1818"/>
                </a:cubicBezTo>
                <a:close/>
              </a:path>
            </a:pathLst>
          </a:custGeom>
          <a:solidFill>
            <a:srgbClr val="00ff00">
              <a:alpha val="50000"/>
            </a:srgbClr>
          </a:solidFill>
          <a:ln w="57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7" name=""/>
          <p:cNvSpPr/>
          <p:nvPr/>
        </p:nvSpPr>
        <p:spPr>
          <a:xfrm>
            <a:off x="2295360" y="2495520"/>
            <a:ext cx="2381400" cy="3267000"/>
          </a:xfrm>
          <a:custGeom>
            <a:avLst/>
            <a:gdLst/>
            <a:ahLst/>
            <a:rect l="l" t="t" r="r" b="b"/>
            <a:pathLst>
              <a:path w="1500" h="2058">
                <a:moveTo>
                  <a:pt x="1392" y="1518"/>
                </a:moveTo>
                <a:cubicBezTo>
                  <a:pt x="1369" y="1541"/>
                  <a:pt x="1367" y="1567"/>
                  <a:pt x="1344" y="1590"/>
                </a:cubicBezTo>
                <a:cubicBezTo>
                  <a:pt x="1333" y="1645"/>
                  <a:pt x="1306" y="1695"/>
                  <a:pt x="1284" y="1746"/>
                </a:cubicBezTo>
                <a:cubicBezTo>
                  <a:pt x="1269" y="1780"/>
                  <a:pt x="1262" y="1829"/>
                  <a:pt x="1224" y="1842"/>
                </a:cubicBezTo>
                <a:cubicBezTo>
                  <a:pt x="1154" y="1912"/>
                  <a:pt x="1074" y="1970"/>
                  <a:pt x="984" y="2010"/>
                </a:cubicBezTo>
                <a:cubicBezTo>
                  <a:pt x="956" y="2023"/>
                  <a:pt x="923" y="2036"/>
                  <a:pt x="894" y="2046"/>
                </a:cubicBezTo>
                <a:cubicBezTo>
                  <a:pt x="882" y="2050"/>
                  <a:pt x="858" y="2058"/>
                  <a:pt x="858" y="2058"/>
                </a:cubicBezTo>
                <a:cubicBezTo>
                  <a:pt x="804" y="2056"/>
                  <a:pt x="750" y="2057"/>
                  <a:pt x="696" y="2052"/>
                </a:cubicBezTo>
                <a:cubicBezTo>
                  <a:pt x="689" y="2051"/>
                  <a:pt x="685" y="2043"/>
                  <a:pt x="678" y="2040"/>
                </a:cubicBezTo>
                <a:cubicBezTo>
                  <a:pt x="652" y="2029"/>
                  <a:pt x="622" y="2028"/>
                  <a:pt x="594" y="2022"/>
                </a:cubicBezTo>
                <a:cubicBezTo>
                  <a:pt x="577" y="2019"/>
                  <a:pt x="555" y="2006"/>
                  <a:pt x="540" y="1998"/>
                </a:cubicBezTo>
                <a:cubicBezTo>
                  <a:pt x="527" y="1991"/>
                  <a:pt x="504" y="1974"/>
                  <a:pt x="504" y="1974"/>
                </a:cubicBezTo>
                <a:cubicBezTo>
                  <a:pt x="496" y="1962"/>
                  <a:pt x="488" y="1950"/>
                  <a:pt x="480" y="1938"/>
                </a:cubicBezTo>
                <a:cubicBezTo>
                  <a:pt x="476" y="1933"/>
                  <a:pt x="468" y="1935"/>
                  <a:pt x="462" y="1932"/>
                </a:cubicBezTo>
                <a:cubicBezTo>
                  <a:pt x="449" y="1925"/>
                  <a:pt x="436" y="1918"/>
                  <a:pt x="426" y="1908"/>
                </a:cubicBezTo>
                <a:cubicBezTo>
                  <a:pt x="409" y="1891"/>
                  <a:pt x="398" y="1874"/>
                  <a:pt x="378" y="1860"/>
                </a:cubicBezTo>
                <a:cubicBezTo>
                  <a:pt x="363" y="1838"/>
                  <a:pt x="340" y="1815"/>
                  <a:pt x="318" y="1800"/>
                </a:cubicBezTo>
                <a:cubicBezTo>
                  <a:pt x="309" y="1787"/>
                  <a:pt x="297" y="1777"/>
                  <a:pt x="288" y="1764"/>
                </a:cubicBezTo>
                <a:cubicBezTo>
                  <a:pt x="284" y="1759"/>
                  <a:pt x="286" y="1751"/>
                  <a:pt x="282" y="1746"/>
                </a:cubicBezTo>
                <a:cubicBezTo>
                  <a:pt x="270" y="1728"/>
                  <a:pt x="251" y="1710"/>
                  <a:pt x="234" y="1698"/>
                </a:cubicBezTo>
                <a:cubicBezTo>
                  <a:pt x="230" y="1692"/>
                  <a:pt x="227" y="1685"/>
                  <a:pt x="222" y="1680"/>
                </a:cubicBezTo>
                <a:cubicBezTo>
                  <a:pt x="217" y="1675"/>
                  <a:pt x="209" y="1674"/>
                  <a:pt x="204" y="1668"/>
                </a:cubicBezTo>
                <a:cubicBezTo>
                  <a:pt x="200" y="1663"/>
                  <a:pt x="202" y="1655"/>
                  <a:pt x="198" y="1650"/>
                </a:cubicBezTo>
                <a:cubicBezTo>
                  <a:pt x="193" y="1643"/>
                  <a:pt x="186" y="1638"/>
                  <a:pt x="180" y="1632"/>
                </a:cubicBezTo>
                <a:cubicBezTo>
                  <a:pt x="172" y="1608"/>
                  <a:pt x="159" y="1598"/>
                  <a:pt x="138" y="1584"/>
                </a:cubicBezTo>
                <a:cubicBezTo>
                  <a:pt x="105" y="1535"/>
                  <a:pt x="105" y="1471"/>
                  <a:pt x="72" y="1422"/>
                </a:cubicBezTo>
                <a:cubicBezTo>
                  <a:pt x="52" y="1343"/>
                  <a:pt x="20" y="1267"/>
                  <a:pt x="0" y="1188"/>
                </a:cubicBezTo>
                <a:cubicBezTo>
                  <a:pt x="2" y="1064"/>
                  <a:pt x="2" y="940"/>
                  <a:pt x="6" y="816"/>
                </a:cubicBezTo>
                <a:cubicBezTo>
                  <a:pt x="9" y="708"/>
                  <a:pt x="91" y="533"/>
                  <a:pt x="144" y="438"/>
                </a:cubicBezTo>
                <a:cubicBezTo>
                  <a:pt x="167" y="397"/>
                  <a:pt x="195" y="345"/>
                  <a:pt x="228" y="312"/>
                </a:cubicBezTo>
                <a:cubicBezTo>
                  <a:pt x="256" y="284"/>
                  <a:pt x="289" y="260"/>
                  <a:pt x="318" y="234"/>
                </a:cubicBezTo>
                <a:cubicBezTo>
                  <a:pt x="343" y="212"/>
                  <a:pt x="364" y="188"/>
                  <a:pt x="390" y="168"/>
                </a:cubicBezTo>
                <a:cubicBezTo>
                  <a:pt x="401" y="159"/>
                  <a:pt x="426" y="144"/>
                  <a:pt x="426" y="144"/>
                </a:cubicBezTo>
                <a:cubicBezTo>
                  <a:pt x="443" y="119"/>
                  <a:pt x="466" y="116"/>
                  <a:pt x="492" y="102"/>
                </a:cubicBezTo>
                <a:cubicBezTo>
                  <a:pt x="505" y="95"/>
                  <a:pt x="516" y="86"/>
                  <a:pt x="528" y="78"/>
                </a:cubicBezTo>
                <a:cubicBezTo>
                  <a:pt x="564" y="54"/>
                  <a:pt x="649" y="44"/>
                  <a:pt x="690" y="30"/>
                </a:cubicBezTo>
                <a:cubicBezTo>
                  <a:pt x="712" y="23"/>
                  <a:pt x="728" y="7"/>
                  <a:pt x="750" y="0"/>
                </a:cubicBezTo>
                <a:cubicBezTo>
                  <a:pt x="814" y="2"/>
                  <a:pt x="878" y="2"/>
                  <a:pt x="942" y="6"/>
                </a:cubicBezTo>
                <a:cubicBezTo>
                  <a:pt x="1008" y="10"/>
                  <a:pt x="1073" y="47"/>
                  <a:pt x="1140" y="54"/>
                </a:cubicBezTo>
                <a:cubicBezTo>
                  <a:pt x="1196" y="73"/>
                  <a:pt x="1264" y="50"/>
                  <a:pt x="1320" y="36"/>
                </a:cubicBezTo>
                <a:cubicBezTo>
                  <a:pt x="1370" y="40"/>
                  <a:pt x="1442" y="6"/>
                  <a:pt x="1470" y="48"/>
                </a:cubicBezTo>
                <a:cubicBezTo>
                  <a:pt x="1489" y="77"/>
                  <a:pt x="1480" y="59"/>
                  <a:pt x="1494" y="102"/>
                </a:cubicBezTo>
                <a:cubicBezTo>
                  <a:pt x="1496" y="108"/>
                  <a:pt x="1500" y="120"/>
                  <a:pt x="1500" y="120"/>
                </a:cubicBezTo>
                <a:cubicBezTo>
                  <a:pt x="1494" y="137"/>
                  <a:pt x="1494" y="157"/>
                  <a:pt x="1488" y="174"/>
                </a:cubicBezTo>
                <a:lnTo>
                  <a:pt x="1464" y="228"/>
                </a:lnTo>
                <a:cubicBezTo>
                  <a:pt x="1464" y="228"/>
                  <a:pt x="1464" y="228"/>
                  <a:pt x="1464" y="228"/>
                </a:cubicBezTo>
                <a:cubicBezTo>
                  <a:pt x="1462" y="236"/>
                  <a:pt x="1462" y="245"/>
                  <a:pt x="1458" y="252"/>
                </a:cubicBezTo>
                <a:cubicBezTo>
                  <a:pt x="1444" y="276"/>
                  <a:pt x="1413" y="296"/>
                  <a:pt x="1404" y="324"/>
                </a:cubicBezTo>
                <a:cubicBezTo>
                  <a:pt x="1395" y="351"/>
                  <a:pt x="1382" y="376"/>
                  <a:pt x="1362" y="396"/>
                </a:cubicBezTo>
                <a:cubicBezTo>
                  <a:pt x="1352" y="425"/>
                  <a:pt x="1339" y="445"/>
                  <a:pt x="1314" y="462"/>
                </a:cubicBezTo>
                <a:cubicBezTo>
                  <a:pt x="1306" y="485"/>
                  <a:pt x="1296" y="510"/>
                  <a:pt x="1290" y="534"/>
                </a:cubicBezTo>
                <a:cubicBezTo>
                  <a:pt x="1290" y="534"/>
                  <a:pt x="1281" y="573"/>
                  <a:pt x="1278" y="576"/>
                </a:cubicBezTo>
                <a:cubicBezTo>
                  <a:pt x="1274" y="580"/>
                  <a:pt x="1266" y="580"/>
                  <a:pt x="1260" y="582"/>
                </a:cubicBezTo>
                <a:cubicBezTo>
                  <a:pt x="1258" y="588"/>
                  <a:pt x="1258" y="596"/>
                  <a:pt x="1254" y="600"/>
                </a:cubicBezTo>
                <a:cubicBezTo>
                  <a:pt x="1244" y="610"/>
                  <a:pt x="1218" y="624"/>
                  <a:pt x="1218" y="624"/>
                </a:cubicBezTo>
                <a:cubicBezTo>
                  <a:pt x="1160" y="619"/>
                  <a:pt x="1148" y="622"/>
                  <a:pt x="1104" y="600"/>
                </a:cubicBezTo>
                <a:cubicBezTo>
                  <a:pt x="1054" y="617"/>
                  <a:pt x="1134" y="591"/>
                  <a:pt x="1044" y="612"/>
                </a:cubicBezTo>
                <a:cubicBezTo>
                  <a:pt x="1014" y="619"/>
                  <a:pt x="997" y="629"/>
                  <a:pt x="972" y="642"/>
                </a:cubicBezTo>
                <a:cubicBezTo>
                  <a:pt x="949" y="653"/>
                  <a:pt x="918" y="658"/>
                  <a:pt x="894" y="666"/>
                </a:cubicBezTo>
                <a:cubicBezTo>
                  <a:pt x="873" y="673"/>
                  <a:pt x="858" y="690"/>
                  <a:pt x="840" y="702"/>
                </a:cubicBezTo>
                <a:cubicBezTo>
                  <a:pt x="834" y="706"/>
                  <a:pt x="822" y="714"/>
                  <a:pt x="822" y="714"/>
                </a:cubicBezTo>
                <a:cubicBezTo>
                  <a:pt x="794" y="755"/>
                  <a:pt x="772" y="798"/>
                  <a:pt x="744" y="840"/>
                </a:cubicBezTo>
                <a:cubicBezTo>
                  <a:pt x="737" y="851"/>
                  <a:pt x="736" y="864"/>
                  <a:pt x="732" y="876"/>
                </a:cubicBezTo>
                <a:cubicBezTo>
                  <a:pt x="730" y="882"/>
                  <a:pt x="726" y="894"/>
                  <a:pt x="726" y="894"/>
                </a:cubicBezTo>
                <a:cubicBezTo>
                  <a:pt x="720" y="949"/>
                  <a:pt x="714" y="964"/>
                  <a:pt x="720" y="1020"/>
                </a:cubicBezTo>
                <a:cubicBezTo>
                  <a:pt x="722" y="1086"/>
                  <a:pt x="722" y="1152"/>
                  <a:pt x="726" y="1218"/>
                </a:cubicBezTo>
                <a:cubicBezTo>
                  <a:pt x="727" y="1243"/>
                  <a:pt x="757" y="1284"/>
                  <a:pt x="768" y="1308"/>
                </a:cubicBezTo>
                <a:cubicBezTo>
                  <a:pt x="768" y="1308"/>
                  <a:pt x="783" y="1353"/>
                  <a:pt x="786" y="1362"/>
                </a:cubicBezTo>
                <a:cubicBezTo>
                  <a:pt x="788" y="1368"/>
                  <a:pt x="786" y="1378"/>
                  <a:pt x="792" y="1380"/>
                </a:cubicBezTo>
                <a:cubicBezTo>
                  <a:pt x="817" y="1388"/>
                  <a:pt x="826" y="1400"/>
                  <a:pt x="846" y="1416"/>
                </a:cubicBezTo>
                <a:cubicBezTo>
                  <a:pt x="886" y="1447"/>
                  <a:pt x="924" y="1478"/>
                  <a:pt x="972" y="1494"/>
                </a:cubicBezTo>
                <a:cubicBezTo>
                  <a:pt x="1006" y="1505"/>
                  <a:pt x="1040" y="1513"/>
                  <a:pt x="1074" y="1524"/>
                </a:cubicBezTo>
                <a:cubicBezTo>
                  <a:pt x="1086" y="1528"/>
                  <a:pt x="1110" y="1536"/>
                  <a:pt x="1110" y="1536"/>
                </a:cubicBezTo>
                <a:cubicBezTo>
                  <a:pt x="1216" y="1532"/>
                  <a:pt x="1290" y="1524"/>
                  <a:pt x="1392" y="1518"/>
                </a:cubicBezTo>
                <a:close/>
              </a:path>
            </a:pathLst>
          </a:custGeom>
          <a:solidFill>
            <a:srgbClr val="00ff00">
              <a:alpha val="50000"/>
            </a:srgbClr>
          </a:solidFill>
          <a:ln w="57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8" name=""/>
          <p:cNvSpPr/>
          <p:nvPr/>
        </p:nvSpPr>
        <p:spPr>
          <a:xfrm rot="6600">
            <a:off x="3120840" y="1365120"/>
            <a:ext cx="2365200" cy="5031000"/>
          </a:xfrm>
          <a:custGeom>
            <a:avLst/>
            <a:gdLst>
              <a:gd name="textAreaLeft" fmla="*/ 333000 w 2365200"/>
              <a:gd name="textAreaRight" fmla="*/ 2032200 w 2365200"/>
              <a:gd name="textAreaTop" fmla="*/ 708840 h 5031000"/>
              <a:gd name="textAreaBottom" fmla="*/ 4322160 h 5031000"/>
            </a:gdLst>
            <a:ahLst/>
            <a:rect l="textAreaLeft" t="textAreaTop" r="textAreaRight" b="textAreaBottom"/>
            <a:pathLst>
              <a:path w="21600" h="21600">
                <a:moveTo>
                  <a:pt x="0" y="0"/>
                </a:moveTo>
                <a:lnTo>
                  <a:pt x="21600" y="0"/>
                </a:lnTo>
                <a:lnTo>
                  <a:pt x="19272" y="21600"/>
                </a:lnTo>
                <a:lnTo>
                  <a:pt x="2328" y="21600"/>
                </a:lnTo>
                <a:close/>
              </a:path>
            </a:pathLst>
          </a:custGeom>
          <a:solidFill>
            <a:srgbClr val="99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9" name=""/>
          <p:cNvSpPr/>
          <p:nvPr/>
        </p:nvSpPr>
        <p:spPr>
          <a:xfrm rot="10806600">
            <a:off x="3121200" y="1364400"/>
            <a:ext cx="2365200" cy="5031000"/>
          </a:xfrm>
          <a:custGeom>
            <a:avLst/>
            <a:gdLst>
              <a:gd name="textAreaLeft" fmla="*/ 333000 w 2365200"/>
              <a:gd name="textAreaRight" fmla="*/ 2032200 w 2365200"/>
              <a:gd name="textAreaTop" fmla="*/ 708840 h 5031000"/>
              <a:gd name="textAreaBottom" fmla="*/ 4322160 h 5031000"/>
            </a:gdLst>
            <a:ahLst/>
            <a:rect l="textAreaLeft" t="textAreaTop" r="textAreaRight" b="textAreaBottom"/>
            <a:pathLst>
              <a:path w="21600" h="21600">
                <a:moveTo>
                  <a:pt x="0" y="0"/>
                </a:moveTo>
                <a:lnTo>
                  <a:pt x="21600" y="0"/>
                </a:lnTo>
                <a:lnTo>
                  <a:pt x="19272" y="21600"/>
                </a:lnTo>
                <a:lnTo>
                  <a:pt x="2328" y="21600"/>
                </a:lnTo>
                <a:close/>
              </a:path>
            </a:pathLst>
          </a:custGeom>
          <a:solidFill>
            <a:srgbClr val="99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0" name=""/>
          <p:cNvSpPr/>
          <p:nvPr/>
        </p:nvSpPr>
        <p:spPr>
          <a:xfrm>
            <a:off x="4606920" y="5362560"/>
            <a:ext cx="279360" cy="285840"/>
          </a:xfrm>
          <a:custGeom>
            <a:avLst/>
            <a:gdLst/>
            <a:ahLst/>
            <a:rect l="l" t="t" r="r" b="b"/>
            <a:pathLst>
              <a:path w="176" h="180">
                <a:moveTo>
                  <a:pt x="92" y="0"/>
                </a:moveTo>
                <a:cubicBezTo>
                  <a:pt x="49" y="9"/>
                  <a:pt x="43" y="25"/>
                  <a:pt x="14" y="54"/>
                </a:cubicBezTo>
                <a:cubicBezTo>
                  <a:pt x="0" y="97"/>
                  <a:pt x="26" y="145"/>
                  <a:pt x="50" y="180"/>
                </a:cubicBezTo>
                <a:cubicBezTo>
                  <a:pt x="78" y="178"/>
                  <a:pt x="107" y="180"/>
                  <a:pt x="134" y="174"/>
                </a:cubicBezTo>
                <a:cubicBezTo>
                  <a:pt x="153" y="170"/>
                  <a:pt x="171" y="118"/>
                  <a:pt x="176" y="102"/>
                </a:cubicBezTo>
                <a:cubicBezTo>
                  <a:pt x="175" y="98"/>
                  <a:pt x="171" y="58"/>
                  <a:pt x="164" y="48"/>
                </a:cubicBezTo>
                <a:cubicBezTo>
                  <a:pt x="147" y="22"/>
                  <a:pt x="116" y="16"/>
                  <a:pt x="92" y="0"/>
                </a:cubicBezTo>
                <a:close/>
              </a:path>
            </a:pathLst>
          </a:custGeom>
          <a:solidFill>
            <a:srgbClr val="00ff00">
              <a:alpha val="50000"/>
            </a:srgbClr>
          </a:solidFill>
          <a:ln w="57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1" name=""/>
          <p:cNvSpPr/>
          <p:nvPr/>
        </p:nvSpPr>
        <p:spPr>
          <a:xfrm>
            <a:off x="4191120" y="1523880"/>
            <a:ext cx="228600" cy="762120"/>
          </a:xfrm>
          <a:prstGeom prst="downArrow">
            <a:avLst>
              <a:gd name="adj1" fmla="val 50000"/>
              <a:gd name="adj2" fmla="val 83346"/>
            </a:avLst>
          </a:prstGeom>
          <a:solidFill>
            <a:srgbClr val="99cc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2" name=""/>
          <p:cNvSpPr/>
          <p:nvPr/>
        </p:nvSpPr>
        <p:spPr>
          <a:xfrm rot="5088600">
            <a:off x="3537360" y="348480"/>
            <a:ext cx="1916280" cy="7620120"/>
          </a:xfrm>
          <a:custGeom>
            <a:avLst/>
            <a:gdLst>
              <a:gd name="textAreaLeft" fmla="*/ 317880 w 1916280"/>
              <a:gd name="textAreaRight" fmla="*/ 1598400 w 1916280"/>
              <a:gd name="textAreaTop" fmla="*/ 1264320 h 7620120"/>
              <a:gd name="textAreaBottom" fmla="*/ 6355800 h 7620120"/>
            </a:gdLst>
            <a:ahLst/>
            <a:rect l="textAreaLeft" t="textAreaTop" r="textAreaRight" b="textAreaBottom"/>
            <a:pathLst>
              <a:path w="21600" h="21600">
                <a:moveTo>
                  <a:pt x="0" y="0"/>
                </a:moveTo>
                <a:lnTo>
                  <a:pt x="21600" y="0"/>
                </a:lnTo>
                <a:lnTo>
                  <a:pt x="18299" y="21600"/>
                </a:lnTo>
                <a:lnTo>
                  <a:pt x="3301" y="21600"/>
                </a:lnTo>
                <a:close/>
              </a:path>
            </a:pathLst>
          </a:custGeom>
          <a:solidFill>
            <a:srgbClr val="99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3" name=""/>
          <p:cNvSpPr/>
          <p:nvPr/>
        </p:nvSpPr>
        <p:spPr>
          <a:xfrm rot="8441400">
            <a:off x="2792520" y="822240"/>
            <a:ext cx="2192400" cy="5967360"/>
          </a:xfrm>
          <a:custGeom>
            <a:avLst/>
            <a:gdLst>
              <a:gd name="textAreaLeft" fmla="*/ 363600 w 2192400"/>
              <a:gd name="textAreaRight" fmla="*/ 1828800 w 2192400"/>
              <a:gd name="textAreaTop" fmla="*/ 990000 h 5967360"/>
              <a:gd name="textAreaBottom" fmla="*/ 4977360 h 5967360"/>
            </a:gdLst>
            <a:ahLst/>
            <a:rect l="textAreaLeft" t="textAreaTop" r="textAreaRight" b="textAreaBottom"/>
            <a:pathLst>
              <a:path w="21600" h="21600">
                <a:moveTo>
                  <a:pt x="0" y="0"/>
                </a:moveTo>
                <a:lnTo>
                  <a:pt x="21600" y="0"/>
                </a:lnTo>
                <a:lnTo>
                  <a:pt x="18299" y="21600"/>
                </a:lnTo>
                <a:lnTo>
                  <a:pt x="3301" y="21600"/>
                </a:lnTo>
                <a:close/>
              </a:path>
            </a:pathLst>
          </a:custGeom>
          <a:solidFill>
            <a:srgbClr val="99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4" name=""/>
          <p:cNvSpPr/>
          <p:nvPr/>
        </p:nvSpPr>
        <p:spPr>
          <a:xfrm>
            <a:off x="4191120" y="5486400"/>
            <a:ext cx="228600" cy="762120"/>
          </a:xfrm>
          <a:prstGeom prst="upArrow">
            <a:avLst>
              <a:gd name="adj1" fmla="val 50000"/>
              <a:gd name="adj2" fmla="val 83346"/>
            </a:avLst>
          </a:prstGeom>
          <a:solidFill>
            <a:srgbClr val="99cc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5" name=""/>
          <p:cNvSpPr/>
          <p:nvPr/>
        </p:nvSpPr>
        <p:spPr>
          <a:xfrm>
            <a:off x="3495600" y="3514680"/>
            <a:ext cx="1648080" cy="1333440"/>
          </a:xfrm>
          <a:custGeom>
            <a:avLst/>
            <a:gdLst/>
            <a:ahLst/>
            <a:rect l="l" t="t" r="r" b="b"/>
            <a:pathLst>
              <a:path w="1038" h="840">
                <a:moveTo>
                  <a:pt x="66" y="672"/>
                </a:moveTo>
                <a:cubicBezTo>
                  <a:pt x="52" y="629"/>
                  <a:pt x="65" y="643"/>
                  <a:pt x="36" y="624"/>
                </a:cubicBezTo>
                <a:cubicBezTo>
                  <a:pt x="29" y="602"/>
                  <a:pt x="19" y="586"/>
                  <a:pt x="12" y="564"/>
                </a:cubicBezTo>
                <a:cubicBezTo>
                  <a:pt x="8" y="552"/>
                  <a:pt x="0" y="528"/>
                  <a:pt x="0" y="528"/>
                </a:cubicBezTo>
                <a:cubicBezTo>
                  <a:pt x="2" y="456"/>
                  <a:pt x="1" y="233"/>
                  <a:pt x="72" y="162"/>
                </a:cubicBezTo>
                <a:cubicBezTo>
                  <a:pt x="84" y="125"/>
                  <a:pt x="112" y="99"/>
                  <a:pt x="144" y="78"/>
                </a:cubicBezTo>
                <a:cubicBezTo>
                  <a:pt x="170" y="39"/>
                  <a:pt x="205" y="32"/>
                  <a:pt x="246" y="18"/>
                </a:cubicBezTo>
                <a:cubicBezTo>
                  <a:pt x="258" y="14"/>
                  <a:pt x="270" y="10"/>
                  <a:pt x="282" y="6"/>
                </a:cubicBezTo>
                <a:cubicBezTo>
                  <a:pt x="288" y="4"/>
                  <a:pt x="300" y="0"/>
                  <a:pt x="300" y="0"/>
                </a:cubicBezTo>
                <a:cubicBezTo>
                  <a:pt x="468" y="5"/>
                  <a:pt x="558" y="10"/>
                  <a:pt x="708" y="60"/>
                </a:cubicBezTo>
                <a:cubicBezTo>
                  <a:pt x="733" y="68"/>
                  <a:pt x="756" y="85"/>
                  <a:pt x="780" y="96"/>
                </a:cubicBezTo>
                <a:cubicBezTo>
                  <a:pt x="802" y="106"/>
                  <a:pt x="829" y="112"/>
                  <a:pt x="852" y="120"/>
                </a:cubicBezTo>
                <a:cubicBezTo>
                  <a:pt x="884" y="131"/>
                  <a:pt x="865" y="122"/>
                  <a:pt x="906" y="150"/>
                </a:cubicBezTo>
                <a:cubicBezTo>
                  <a:pt x="912" y="154"/>
                  <a:pt x="924" y="162"/>
                  <a:pt x="924" y="162"/>
                </a:cubicBezTo>
                <a:cubicBezTo>
                  <a:pt x="952" y="204"/>
                  <a:pt x="936" y="190"/>
                  <a:pt x="966" y="210"/>
                </a:cubicBezTo>
                <a:cubicBezTo>
                  <a:pt x="986" y="269"/>
                  <a:pt x="1023" y="316"/>
                  <a:pt x="1038" y="378"/>
                </a:cubicBezTo>
                <a:cubicBezTo>
                  <a:pt x="1034" y="436"/>
                  <a:pt x="1025" y="473"/>
                  <a:pt x="1032" y="528"/>
                </a:cubicBezTo>
                <a:cubicBezTo>
                  <a:pt x="1026" y="564"/>
                  <a:pt x="1013" y="584"/>
                  <a:pt x="1002" y="618"/>
                </a:cubicBezTo>
                <a:cubicBezTo>
                  <a:pt x="997" y="634"/>
                  <a:pt x="993" y="660"/>
                  <a:pt x="978" y="672"/>
                </a:cubicBezTo>
                <a:cubicBezTo>
                  <a:pt x="929" y="711"/>
                  <a:pt x="993" y="639"/>
                  <a:pt x="942" y="690"/>
                </a:cubicBezTo>
                <a:cubicBezTo>
                  <a:pt x="925" y="707"/>
                  <a:pt x="912" y="728"/>
                  <a:pt x="894" y="744"/>
                </a:cubicBezTo>
                <a:cubicBezTo>
                  <a:pt x="889" y="748"/>
                  <a:pt x="882" y="747"/>
                  <a:pt x="876" y="750"/>
                </a:cubicBezTo>
                <a:cubicBezTo>
                  <a:pt x="863" y="757"/>
                  <a:pt x="852" y="766"/>
                  <a:pt x="840" y="774"/>
                </a:cubicBezTo>
                <a:cubicBezTo>
                  <a:pt x="755" y="831"/>
                  <a:pt x="712" y="832"/>
                  <a:pt x="606" y="840"/>
                </a:cubicBezTo>
                <a:cubicBezTo>
                  <a:pt x="527" y="836"/>
                  <a:pt x="467" y="828"/>
                  <a:pt x="390" y="834"/>
                </a:cubicBezTo>
                <a:cubicBezTo>
                  <a:pt x="319" y="826"/>
                  <a:pt x="243" y="815"/>
                  <a:pt x="180" y="780"/>
                </a:cubicBezTo>
                <a:cubicBezTo>
                  <a:pt x="161" y="769"/>
                  <a:pt x="144" y="756"/>
                  <a:pt x="126" y="744"/>
                </a:cubicBezTo>
                <a:cubicBezTo>
                  <a:pt x="114" y="736"/>
                  <a:pt x="90" y="720"/>
                  <a:pt x="90" y="720"/>
                </a:cubicBezTo>
                <a:cubicBezTo>
                  <a:pt x="72" y="693"/>
                  <a:pt x="81" y="709"/>
                  <a:pt x="66" y="672"/>
                </a:cubicBezTo>
                <a:close/>
              </a:path>
            </a:pathLst>
          </a:custGeom>
          <a:solidFill>
            <a:srgbClr val="ff0000">
              <a:alpha val="50000"/>
            </a:srgbClr>
          </a:solid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6" name=""/>
          <p:cNvSpPr/>
          <p:nvPr/>
        </p:nvSpPr>
        <p:spPr>
          <a:xfrm rot="5058000">
            <a:off x="1180440" y="4076280"/>
            <a:ext cx="228600" cy="762120"/>
          </a:xfrm>
          <a:prstGeom prst="upArrow">
            <a:avLst>
              <a:gd name="adj1" fmla="val 50000"/>
              <a:gd name="adj2" fmla="val 83346"/>
            </a:avLst>
          </a:prstGeom>
          <a:solidFill>
            <a:srgbClr val="99cc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7" name=""/>
          <p:cNvSpPr/>
          <p:nvPr/>
        </p:nvSpPr>
        <p:spPr>
          <a:xfrm rot="19416600">
            <a:off x="2362320" y="1523520"/>
            <a:ext cx="228600" cy="762120"/>
          </a:xfrm>
          <a:prstGeom prst="downArrow">
            <a:avLst>
              <a:gd name="adj1" fmla="val 50000"/>
              <a:gd name="adj2" fmla="val 83346"/>
            </a:avLst>
          </a:prstGeom>
          <a:solidFill>
            <a:srgbClr val="99cc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8" name=""/>
          <p:cNvSpPr/>
          <p:nvPr/>
        </p:nvSpPr>
        <p:spPr>
          <a:xfrm>
            <a:off x="0" y="1143000"/>
            <a:ext cx="7765920" cy="68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argeting PTV while avoiding OR</a:t>
            </a:r>
            <a:endParaRPr b="0" lang="en-US" sz="28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BF205241-EE54-4108-92DB-121EA94BD54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13" name=""/>
          <p:cNvSpPr/>
          <p:nvPr/>
        </p:nvSpPr>
        <p:spPr>
          <a:xfrm>
            <a:off x="0" y="0"/>
            <a:ext cx="9144000" cy="59562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14" name=""/>
          <p:cNvSpPr/>
          <p:nvPr/>
        </p:nvSpPr>
        <p:spPr>
          <a:xfrm>
            <a:off x="298440" y="1676520"/>
            <a:ext cx="8845560" cy="46479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15"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ummary</a:t>
            </a:r>
            <a:endParaRPr b="0" lang="en-US" sz="3600" spc="-1" strike="noStrike">
              <a:solidFill>
                <a:srgbClr val="eaeaea"/>
              </a:solidFill>
              <a:latin typeface="Times New Roman"/>
            </a:endParaRPr>
          </a:p>
        </p:txBody>
      </p:sp>
      <p:sp>
        <p:nvSpPr>
          <p:cNvPr id="416" name=""/>
          <p:cNvSpPr/>
          <p:nvPr/>
        </p:nvSpPr>
        <p:spPr>
          <a:xfrm>
            <a:off x="533520" y="1219320"/>
            <a:ext cx="82296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Departments should work to </a:t>
            </a:r>
            <a:r>
              <a:rPr b="0" lang="en-IE" sz="2400" spc="-1" strike="noStrike">
                <a:solidFill>
                  <a:srgbClr val="ffcc00"/>
                </a:solidFill>
                <a:latin typeface="Arial"/>
              </a:rPr>
              <a:t>develop a safety culture</a:t>
            </a:r>
            <a:r>
              <a:rPr b="0" lang="en-IE" sz="2400" spc="-1" strike="noStrike">
                <a:solidFill>
                  <a:srgbClr val="ffffff"/>
                </a:solidFill>
                <a:latin typeface="Arial"/>
              </a:rPr>
              <a:t> that encourages the reporting and addressing of errors, incidents, and potentially dangerous circumstances</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Incidents should be investigated promptly</a:t>
            </a:r>
            <a:r>
              <a:rPr b="0" lang="en-IE" sz="2400" spc="-1" strike="noStrike">
                <a:solidFill>
                  <a:srgbClr val="eaeaea"/>
                </a:solidFill>
                <a:latin typeface="Arial"/>
              </a:rPr>
              <a:t> and action taken to:</a:t>
            </a:r>
            <a:endParaRPr b="0" lang="en-US" sz="2400" spc="-1" strike="noStrike">
              <a:solidFill>
                <a:srgbClr val="eaeaea"/>
              </a:solidFill>
              <a:latin typeface="Times New Roman"/>
            </a:endParaRPr>
          </a:p>
          <a:p>
            <a:pPr lvl="1" marL="4572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	</a:t>
            </a:r>
            <a:r>
              <a:rPr b="0" lang="en-IE" sz="2400" spc="-1" strike="noStrike">
                <a:solidFill>
                  <a:srgbClr val="eaeaea"/>
                </a:solidFill>
                <a:latin typeface="Arial"/>
              </a:rPr>
              <a:t>Mitigate the effects of the incident</a:t>
            </a:r>
            <a:endParaRPr b="0" lang="en-US" sz="2400" spc="-1" strike="noStrike">
              <a:solidFill>
                <a:srgbClr val="eaeaea"/>
              </a:solidFill>
              <a:latin typeface="Times New Roman"/>
            </a:endParaRPr>
          </a:p>
          <a:p>
            <a:pPr lvl="1" marL="4572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	</a:t>
            </a:r>
            <a:r>
              <a:rPr b="0" lang="en-IE" sz="2400" spc="-1" strike="noStrike">
                <a:solidFill>
                  <a:srgbClr val="eaeaea"/>
                </a:solidFill>
                <a:latin typeface="Arial"/>
              </a:rPr>
              <a:t>Educate the staff on the causes and effects of the </a:t>
            </a:r>
            <a:r>
              <a:rPr b="0" lang="en-IE" sz="2400" spc="-1" strike="noStrike">
                <a:solidFill>
                  <a:srgbClr val="eaeaea"/>
                </a:solidFill>
                <a:latin typeface="Arial"/>
              </a:rPr>
              <a:t>	</a:t>
            </a:r>
            <a:r>
              <a:rPr b="0" lang="en-IE" sz="2400" spc="-1" strike="noStrike">
                <a:solidFill>
                  <a:srgbClr val="eaeaea"/>
                </a:solidFill>
                <a:latin typeface="Arial"/>
              </a:rPr>
              <a:t>incident</a:t>
            </a:r>
            <a:endParaRPr b="0" lang="en-US" sz="2400" spc="-1" strike="noStrike">
              <a:solidFill>
                <a:srgbClr val="eaeaea"/>
              </a:solidFill>
              <a:latin typeface="Times New Roman"/>
            </a:endParaRPr>
          </a:p>
          <a:p>
            <a:pPr lvl="1" marL="4572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	</a:t>
            </a:r>
            <a:r>
              <a:rPr b="0" lang="en-IE" sz="2400" spc="-1" strike="noStrike">
                <a:solidFill>
                  <a:srgbClr val="eaeaea"/>
                </a:solidFill>
                <a:latin typeface="Arial"/>
              </a:rPr>
              <a:t>Establish procedures to prevent the occurrence of a  </a:t>
            </a:r>
            <a:r>
              <a:rPr b="0" lang="en-IE" sz="2400" spc="-1" strike="noStrike">
                <a:solidFill>
                  <a:srgbClr val="eaeaea"/>
                </a:solidFill>
                <a:latin typeface="Arial"/>
              </a:rPr>
              <a:t>	</a:t>
            </a:r>
            <a:r>
              <a:rPr b="0" lang="en-IE" sz="2400" spc="-1" strike="noStrike">
                <a:solidFill>
                  <a:srgbClr val="eaeaea"/>
                </a:solidFill>
                <a:latin typeface="Arial"/>
              </a:rPr>
              <a:t>similar incident</a:t>
            </a:r>
            <a:endParaRPr b="0" lang="en-US" sz="24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58EF4CED-05D3-491D-A011-5CB88D8D7CF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17"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References</a:t>
            </a:r>
            <a:endParaRPr b="0" lang="en-US" sz="3600" spc="-1" strike="noStrike">
              <a:solidFill>
                <a:srgbClr val="eaeaea"/>
              </a:solidFill>
              <a:latin typeface="Times New Roman"/>
            </a:endParaRPr>
          </a:p>
        </p:txBody>
      </p:sp>
      <p:sp>
        <p:nvSpPr>
          <p:cNvPr id="418" name=""/>
          <p:cNvSpPr/>
          <p:nvPr/>
        </p:nvSpPr>
        <p:spPr>
          <a:xfrm>
            <a:off x="533520" y="1219320"/>
            <a:ext cx="82296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 </a:t>
            </a:r>
            <a:r>
              <a:rPr b="0" lang="en-IE" sz="2400" spc="-1" strike="noStrike">
                <a:solidFill>
                  <a:srgbClr val="ffffff"/>
                </a:solidFill>
                <a:latin typeface="Arial"/>
              </a:rPr>
              <a:t>	</a:t>
            </a:r>
            <a:r>
              <a:rPr b="0" lang="en-IE" sz="2400" spc="-1" strike="noStrike">
                <a:solidFill>
                  <a:srgbClr val="ffffff"/>
                </a:solidFill>
                <a:latin typeface="Arial"/>
              </a:rPr>
              <a:t>Department of Health (UK) – An organization with a </a:t>
            </a:r>
            <a:r>
              <a:rPr b="0" lang="en-IE" sz="2400" spc="-1" strike="noStrike">
                <a:solidFill>
                  <a:srgbClr val="ffffff"/>
                </a:solidFill>
                <a:latin typeface="Arial"/>
              </a:rPr>
              <a:t>	</a:t>
            </a:r>
            <a:r>
              <a:rPr b="0" lang="en-IE" sz="2400" spc="-1" strike="noStrike">
                <a:solidFill>
                  <a:srgbClr val="ffffff"/>
                </a:solidFill>
                <a:latin typeface="Arial"/>
              </a:rPr>
              <a:t>memory (2000)</a:t>
            </a:r>
            <a:endParaRPr b="0" lang="en-US" sz="2400" spc="-1" strike="noStrike">
              <a:solidFill>
                <a:srgbClr val="eaeaea"/>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 </a:t>
            </a:r>
            <a:r>
              <a:rPr b="0" lang="en-IE" sz="2400" spc="-1" strike="noStrike">
                <a:solidFill>
                  <a:srgbClr val="ffffff"/>
                </a:solidFill>
                <a:latin typeface="Arial"/>
              </a:rPr>
              <a:t>	</a:t>
            </a:r>
            <a:r>
              <a:rPr b="0" lang="en-IE" sz="2400" spc="-1" strike="noStrike">
                <a:solidFill>
                  <a:srgbClr val="ffffff"/>
                </a:solidFill>
                <a:latin typeface="Arial"/>
              </a:rPr>
              <a:t>Croft J R, Crouail P, Wheatley J S. Review of the </a:t>
            </a:r>
            <a:r>
              <a:rPr b="0" lang="en-IE" sz="2400" spc="-1" strike="noStrike">
                <a:solidFill>
                  <a:srgbClr val="ffffff"/>
                </a:solidFill>
                <a:latin typeface="Arial"/>
              </a:rPr>
              <a:t>	</a:t>
            </a:r>
            <a:r>
              <a:rPr b="0" lang="en-IE" sz="2400" spc="-1" strike="noStrike">
                <a:solidFill>
                  <a:srgbClr val="ffffff"/>
                </a:solidFill>
                <a:latin typeface="Arial"/>
              </a:rPr>
              <a:t>development of incidents databases and feedback </a:t>
            </a:r>
            <a:r>
              <a:rPr b="0" lang="en-IE" sz="2400" spc="-1" strike="noStrike">
                <a:solidFill>
                  <a:srgbClr val="ffffff"/>
                </a:solidFill>
                <a:latin typeface="Arial"/>
              </a:rPr>
              <a:t>	</a:t>
            </a:r>
            <a:r>
              <a:rPr b="0" lang="en-IE" sz="2400" spc="-1" strike="noStrike">
                <a:solidFill>
                  <a:srgbClr val="ffffff"/>
                </a:solidFill>
                <a:latin typeface="Arial"/>
              </a:rPr>
              <a:t>mechanism: IRID, RELIR, EURAIDE and RADEV</a:t>
            </a:r>
            <a:endParaRPr b="0" lang="en-US" sz="2400" spc="-1" strike="noStrike">
              <a:solidFill>
                <a:srgbClr val="eaeaea"/>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 </a:t>
            </a:r>
            <a:r>
              <a:rPr b="0" lang="en-IE" sz="2400" spc="-1" strike="noStrike">
                <a:solidFill>
                  <a:srgbClr val="ffffff"/>
                </a:solidFill>
                <a:latin typeface="Arial"/>
              </a:rPr>
              <a:t>	</a:t>
            </a:r>
            <a:r>
              <a:rPr b="0" lang="en-IE" sz="2400" spc="-1" strike="noStrike">
                <a:solidFill>
                  <a:srgbClr val="ffffff"/>
                </a:solidFill>
                <a:latin typeface="Arial"/>
              </a:rPr>
              <a:t>Holmberg O, Coffey M, Knöös T, Cunningham J and </a:t>
            </a:r>
            <a:r>
              <a:rPr b="0" lang="en-IE" sz="2400" spc="-1" strike="noStrike">
                <a:solidFill>
                  <a:srgbClr val="ffffff"/>
                </a:solidFill>
                <a:latin typeface="Arial"/>
              </a:rPr>
              <a:t>	</a:t>
            </a:r>
            <a:r>
              <a:rPr b="0" lang="en-IE" sz="2400" spc="-1" strike="noStrike">
                <a:solidFill>
                  <a:srgbClr val="ffffff"/>
                </a:solidFill>
                <a:latin typeface="Arial"/>
              </a:rPr>
              <a:t>the ROSIS Steering Committee. ROSIS - at the </a:t>
            </a:r>
            <a:r>
              <a:rPr b="0" lang="en-IE" sz="2400" spc="-1" strike="noStrike">
                <a:solidFill>
                  <a:srgbClr val="ffffff"/>
                </a:solidFill>
                <a:latin typeface="Arial"/>
              </a:rPr>
              <a:t>	</a:t>
            </a:r>
            <a:r>
              <a:rPr b="0" lang="en-IE" sz="2400" spc="-1" strike="noStrike">
                <a:solidFill>
                  <a:srgbClr val="ffffff"/>
                </a:solidFill>
                <a:latin typeface="Arial"/>
              </a:rPr>
              <a:t>conclusion of ESQUIRE. ESTRO News 57: 15-16 </a:t>
            </a:r>
            <a:r>
              <a:rPr b="0" lang="en-IE" sz="2400" spc="-1" strike="noStrike">
                <a:solidFill>
                  <a:srgbClr val="ffffff"/>
                </a:solidFill>
                <a:latin typeface="Arial"/>
              </a:rPr>
              <a:t>	</a:t>
            </a:r>
            <a:r>
              <a:rPr b="0" lang="en-IE" sz="2400" spc="-1" strike="noStrike">
                <a:solidFill>
                  <a:srgbClr val="ffffff"/>
                </a:solidFill>
                <a:latin typeface="Arial"/>
              </a:rPr>
              <a:t>(2004)</a:t>
            </a:r>
            <a:endParaRPr b="0" lang="en-US" sz="2400" spc="-1" strike="noStrike">
              <a:solidFill>
                <a:srgbClr val="eaeaea"/>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 </a:t>
            </a:r>
            <a:r>
              <a:rPr b="0" lang="en-IE" sz="2400" spc="-1" strike="noStrike">
                <a:solidFill>
                  <a:srgbClr val="ffffff"/>
                </a:solidFill>
                <a:latin typeface="Arial"/>
              </a:rPr>
              <a:t>	</a:t>
            </a:r>
            <a:r>
              <a:rPr b="0" lang="en-IE" sz="2400" spc="-1" strike="noStrike">
                <a:solidFill>
                  <a:srgbClr val="ffffff"/>
                </a:solidFill>
                <a:latin typeface="Arial"/>
              </a:rPr>
              <a:t>Holmberg O. Ensuring the intended volume is given </a:t>
            </a:r>
            <a:r>
              <a:rPr b="0" lang="en-IE" sz="2400" spc="-1" strike="noStrike">
                <a:solidFill>
                  <a:srgbClr val="ffffff"/>
                </a:solidFill>
                <a:latin typeface="Arial"/>
              </a:rPr>
              <a:t>	</a:t>
            </a:r>
            <a:r>
              <a:rPr b="0" lang="en-IE" sz="2400" spc="-1" strike="noStrike">
                <a:solidFill>
                  <a:srgbClr val="ffffff"/>
                </a:solidFill>
                <a:latin typeface="Arial"/>
              </a:rPr>
              <a:t>the intended absorbed dose in radiotherapy - </a:t>
            </a:r>
            <a:r>
              <a:rPr b="0" lang="en-IE" sz="2400" spc="-1" strike="noStrike">
                <a:solidFill>
                  <a:srgbClr val="ffffff"/>
                </a:solidFill>
                <a:latin typeface="Arial"/>
              </a:rPr>
              <a:t>	</a:t>
            </a:r>
            <a:r>
              <a:rPr b="0" lang="en-IE" sz="2400" spc="-1" strike="noStrike">
                <a:solidFill>
                  <a:srgbClr val="ffffff"/>
                </a:solidFill>
                <a:latin typeface="Arial"/>
              </a:rPr>
              <a:t>Managing geometric variations and treatment </a:t>
            </a:r>
            <a:r>
              <a:rPr b="0" lang="en-IE" sz="2400" spc="-1" strike="noStrike">
                <a:solidFill>
                  <a:srgbClr val="ffffff"/>
                </a:solidFill>
                <a:latin typeface="Arial"/>
              </a:rPr>
              <a:t>	</a:t>
            </a:r>
            <a:r>
              <a:rPr b="0" lang="en-IE" sz="2400" spc="-1" strike="noStrike">
                <a:solidFill>
                  <a:srgbClr val="ffffff"/>
                </a:solidFill>
                <a:latin typeface="Arial"/>
              </a:rPr>
              <a:t>hazards (ISBN 91-628-6002-X) (2004)</a:t>
            </a:r>
            <a:endParaRPr b="0" lang="en-US" sz="24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64D5A169-6C76-46DB-BD8E-9CEFF7D22A2B}" type="slidenum">
              <a:t>71</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9" name=""/>
          <p:cNvSpPr/>
          <p:nvPr/>
        </p:nvSpPr>
        <p:spPr>
          <a:xfrm>
            <a:off x="0" y="1143000"/>
            <a:ext cx="9144000" cy="5715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0"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ackground</a:t>
            </a:r>
            <a:endParaRPr b="0" lang="en-US" sz="3600" spc="-1" strike="noStrike">
              <a:solidFill>
                <a:srgbClr val="eaeaea"/>
              </a:solidFill>
              <a:latin typeface="Times New Roman"/>
            </a:endParaRPr>
          </a:p>
        </p:txBody>
      </p:sp>
      <p:pic>
        <p:nvPicPr>
          <p:cNvPr id="161" name="" descr=""/>
          <p:cNvPicPr/>
          <p:nvPr/>
        </p:nvPicPr>
        <p:blipFill>
          <a:blip r:embed="rId1"/>
          <a:stretch/>
        </p:blipFill>
        <p:spPr>
          <a:xfrm>
            <a:off x="609480" y="1371600"/>
            <a:ext cx="7925040" cy="5149800"/>
          </a:xfrm>
          <a:prstGeom prst="rect">
            <a:avLst/>
          </a:prstGeom>
          <a:ln w="0">
            <a:noFill/>
          </a:ln>
        </p:spPr>
      </p:pic>
      <p:sp>
        <p:nvSpPr>
          <p:cNvPr id="162" name=""/>
          <p:cNvSpPr/>
          <p:nvPr/>
        </p:nvSpPr>
        <p:spPr>
          <a:xfrm>
            <a:off x="752400" y="1581120"/>
            <a:ext cx="7632720" cy="4943520"/>
          </a:xfrm>
          <a:custGeom>
            <a:avLst/>
            <a:gdLst/>
            <a:ahLst/>
            <a:rect l="l" t="t" r="r" b="b"/>
            <a:pathLst>
              <a:path w="4808" h="3114">
                <a:moveTo>
                  <a:pt x="84" y="2700"/>
                </a:moveTo>
                <a:cubicBezTo>
                  <a:pt x="75" y="2674"/>
                  <a:pt x="59" y="2653"/>
                  <a:pt x="48" y="2628"/>
                </a:cubicBezTo>
                <a:cubicBezTo>
                  <a:pt x="43" y="2616"/>
                  <a:pt x="40" y="2604"/>
                  <a:pt x="36" y="2592"/>
                </a:cubicBezTo>
                <a:cubicBezTo>
                  <a:pt x="34" y="2586"/>
                  <a:pt x="30" y="2574"/>
                  <a:pt x="30" y="2574"/>
                </a:cubicBezTo>
                <a:cubicBezTo>
                  <a:pt x="19" y="2426"/>
                  <a:pt x="15" y="2278"/>
                  <a:pt x="0" y="2130"/>
                </a:cubicBezTo>
                <a:cubicBezTo>
                  <a:pt x="2" y="2084"/>
                  <a:pt x="3" y="2038"/>
                  <a:pt x="6" y="1992"/>
                </a:cubicBezTo>
                <a:cubicBezTo>
                  <a:pt x="8" y="1957"/>
                  <a:pt x="34" y="1860"/>
                  <a:pt x="54" y="1830"/>
                </a:cubicBezTo>
                <a:cubicBezTo>
                  <a:pt x="62" y="1818"/>
                  <a:pt x="73" y="1808"/>
                  <a:pt x="78" y="1794"/>
                </a:cubicBezTo>
                <a:cubicBezTo>
                  <a:pt x="88" y="1765"/>
                  <a:pt x="97" y="1726"/>
                  <a:pt x="126" y="1716"/>
                </a:cubicBezTo>
                <a:cubicBezTo>
                  <a:pt x="135" y="1690"/>
                  <a:pt x="147" y="1670"/>
                  <a:pt x="156" y="1644"/>
                </a:cubicBezTo>
                <a:cubicBezTo>
                  <a:pt x="153" y="1582"/>
                  <a:pt x="152" y="1507"/>
                  <a:pt x="132" y="1446"/>
                </a:cubicBezTo>
                <a:cubicBezTo>
                  <a:pt x="126" y="1402"/>
                  <a:pt x="125" y="1357"/>
                  <a:pt x="114" y="1314"/>
                </a:cubicBezTo>
                <a:cubicBezTo>
                  <a:pt x="118" y="1203"/>
                  <a:pt x="114" y="1157"/>
                  <a:pt x="144" y="1068"/>
                </a:cubicBezTo>
                <a:cubicBezTo>
                  <a:pt x="155" y="1034"/>
                  <a:pt x="161" y="998"/>
                  <a:pt x="192" y="978"/>
                </a:cubicBezTo>
                <a:cubicBezTo>
                  <a:pt x="204" y="941"/>
                  <a:pt x="231" y="895"/>
                  <a:pt x="270" y="882"/>
                </a:cubicBezTo>
                <a:cubicBezTo>
                  <a:pt x="278" y="858"/>
                  <a:pt x="294" y="852"/>
                  <a:pt x="312" y="834"/>
                </a:cubicBezTo>
                <a:cubicBezTo>
                  <a:pt x="324" y="799"/>
                  <a:pt x="356" y="779"/>
                  <a:pt x="390" y="768"/>
                </a:cubicBezTo>
                <a:cubicBezTo>
                  <a:pt x="406" y="752"/>
                  <a:pt x="417" y="729"/>
                  <a:pt x="438" y="720"/>
                </a:cubicBezTo>
                <a:cubicBezTo>
                  <a:pt x="472" y="705"/>
                  <a:pt x="469" y="715"/>
                  <a:pt x="492" y="696"/>
                </a:cubicBezTo>
                <a:cubicBezTo>
                  <a:pt x="525" y="669"/>
                  <a:pt x="577" y="620"/>
                  <a:pt x="618" y="606"/>
                </a:cubicBezTo>
                <a:cubicBezTo>
                  <a:pt x="622" y="600"/>
                  <a:pt x="625" y="593"/>
                  <a:pt x="630" y="588"/>
                </a:cubicBezTo>
                <a:cubicBezTo>
                  <a:pt x="635" y="583"/>
                  <a:pt x="643" y="581"/>
                  <a:pt x="648" y="576"/>
                </a:cubicBezTo>
                <a:cubicBezTo>
                  <a:pt x="697" y="520"/>
                  <a:pt x="650" y="555"/>
                  <a:pt x="690" y="528"/>
                </a:cubicBezTo>
                <a:cubicBezTo>
                  <a:pt x="733" y="464"/>
                  <a:pt x="666" y="561"/>
                  <a:pt x="720" y="492"/>
                </a:cubicBezTo>
                <a:cubicBezTo>
                  <a:pt x="760" y="441"/>
                  <a:pt x="766" y="418"/>
                  <a:pt x="828" y="390"/>
                </a:cubicBezTo>
                <a:cubicBezTo>
                  <a:pt x="903" y="357"/>
                  <a:pt x="825" y="404"/>
                  <a:pt x="900" y="354"/>
                </a:cubicBezTo>
                <a:cubicBezTo>
                  <a:pt x="906" y="350"/>
                  <a:pt x="918" y="342"/>
                  <a:pt x="918" y="342"/>
                </a:cubicBezTo>
                <a:cubicBezTo>
                  <a:pt x="950" y="294"/>
                  <a:pt x="985" y="277"/>
                  <a:pt x="1032" y="246"/>
                </a:cubicBezTo>
                <a:cubicBezTo>
                  <a:pt x="1102" y="200"/>
                  <a:pt x="1168" y="153"/>
                  <a:pt x="1248" y="126"/>
                </a:cubicBezTo>
                <a:cubicBezTo>
                  <a:pt x="1284" y="114"/>
                  <a:pt x="1318" y="90"/>
                  <a:pt x="1356" y="84"/>
                </a:cubicBezTo>
                <a:cubicBezTo>
                  <a:pt x="1380" y="80"/>
                  <a:pt x="1428" y="72"/>
                  <a:pt x="1428" y="72"/>
                </a:cubicBezTo>
                <a:cubicBezTo>
                  <a:pt x="1561" y="82"/>
                  <a:pt x="1667" y="103"/>
                  <a:pt x="1800" y="108"/>
                </a:cubicBezTo>
                <a:cubicBezTo>
                  <a:pt x="1950" y="146"/>
                  <a:pt x="2094" y="171"/>
                  <a:pt x="2250" y="180"/>
                </a:cubicBezTo>
                <a:cubicBezTo>
                  <a:pt x="2378" y="198"/>
                  <a:pt x="2306" y="193"/>
                  <a:pt x="2466" y="186"/>
                </a:cubicBezTo>
                <a:cubicBezTo>
                  <a:pt x="2552" y="157"/>
                  <a:pt x="2642" y="136"/>
                  <a:pt x="2730" y="114"/>
                </a:cubicBezTo>
                <a:cubicBezTo>
                  <a:pt x="2780" y="101"/>
                  <a:pt x="2825" y="72"/>
                  <a:pt x="2874" y="60"/>
                </a:cubicBezTo>
                <a:cubicBezTo>
                  <a:pt x="2971" y="36"/>
                  <a:pt x="3062" y="13"/>
                  <a:pt x="3162" y="0"/>
                </a:cubicBezTo>
                <a:cubicBezTo>
                  <a:pt x="3248" y="2"/>
                  <a:pt x="3334" y="1"/>
                  <a:pt x="3420" y="6"/>
                </a:cubicBezTo>
                <a:cubicBezTo>
                  <a:pt x="3428" y="6"/>
                  <a:pt x="3461" y="21"/>
                  <a:pt x="3474" y="24"/>
                </a:cubicBezTo>
                <a:cubicBezTo>
                  <a:pt x="3522" y="36"/>
                  <a:pt x="3567" y="53"/>
                  <a:pt x="3612" y="72"/>
                </a:cubicBezTo>
                <a:cubicBezTo>
                  <a:pt x="3642" y="85"/>
                  <a:pt x="3677" y="92"/>
                  <a:pt x="3708" y="102"/>
                </a:cubicBezTo>
                <a:cubicBezTo>
                  <a:pt x="3730" y="109"/>
                  <a:pt x="3762" y="132"/>
                  <a:pt x="3780" y="144"/>
                </a:cubicBezTo>
                <a:cubicBezTo>
                  <a:pt x="3844" y="187"/>
                  <a:pt x="3913" y="227"/>
                  <a:pt x="3978" y="270"/>
                </a:cubicBezTo>
                <a:cubicBezTo>
                  <a:pt x="4047" y="316"/>
                  <a:pt x="4125" y="350"/>
                  <a:pt x="4194" y="396"/>
                </a:cubicBezTo>
                <a:cubicBezTo>
                  <a:pt x="4228" y="419"/>
                  <a:pt x="4264" y="461"/>
                  <a:pt x="4302" y="474"/>
                </a:cubicBezTo>
                <a:cubicBezTo>
                  <a:pt x="4324" y="481"/>
                  <a:pt x="4343" y="491"/>
                  <a:pt x="4362" y="504"/>
                </a:cubicBezTo>
                <a:cubicBezTo>
                  <a:pt x="4385" y="538"/>
                  <a:pt x="4429" y="571"/>
                  <a:pt x="4464" y="594"/>
                </a:cubicBezTo>
                <a:cubicBezTo>
                  <a:pt x="4492" y="636"/>
                  <a:pt x="4476" y="622"/>
                  <a:pt x="4506" y="642"/>
                </a:cubicBezTo>
                <a:cubicBezTo>
                  <a:pt x="4549" y="706"/>
                  <a:pt x="4482" y="609"/>
                  <a:pt x="4536" y="678"/>
                </a:cubicBezTo>
                <a:cubicBezTo>
                  <a:pt x="4561" y="711"/>
                  <a:pt x="4578" y="750"/>
                  <a:pt x="4596" y="786"/>
                </a:cubicBezTo>
                <a:cubicBezTo>
                  <a:pt x="4605" y="804"/>
                  <a:pt x="4618" y="821"/>
                  <a:pt x="4626" y="840"/>
                </a:cubicBezTo>
                <a:cubicBezTo>
                  <a:pt x="4631" y="852"/>
                  <a:pt x="4638" y="876"/>
                  <a:pt x="4638" y="876"/>
                </a:cubicBezTo>
                <a:cubicBezTo>
                  <a:pt x="4640" y="934"/>
                  <a:pt x="4639" y="992"/>
                  <a:pt x="4644" y="1050"/>
                </a:cubicBezTo>
                <a:cubicBezTo>
                  <a:pt x="4645" y="1066"/>
                  <a:pt x="4651" y="1082"/>
                  <a:pt x="4656" y="1098"/>
                </a:cubicBezTo>
                <a:cubicBezTo>
                  <a:pt x="4660" y="1110"/>
                  <a:pt x="4668" y="1134"/>
                  <a:pt x="4668" y="1134"/>
                </a:cubicBezTo>
                <a:cubicBezTo>
                  <a:pt x="4673" y="1209"/>
                  <a:pt x="4686" y="1277"/>
                  <a:pt x="4704" y="1350"/>
                </a:cubicBezTo>
                <a:cubicBezTo>
                  <a:pt x="4706" y="1392"/>
                  <a:pt x="4705" y="1434"/>
                  <a:pt x="4710" y="1476"/>
                </a:cubicBezTo>
                <a:cubicBezTo>
                  <a:pt x="4715" y="1524"/>
                  <a:pt x="4720" y="1499"/>
                  <a:pt x="4734" y="1530"/>
                </a:cubicBezTo>
                <a:cubicBezTo>
                  <a:pt x="4755" y="1577"/>
                  <a:pt x="4778" y="1626"/>
                  <a:pt x="4794" y="1674"/>
                </a:cubicBezTo>
                <a:cubicBezTo>
                  <a:pt x="4800" y="1791"/>
                  <a:pt x="4808" y="1887"/>
                  <a:pt x="4794" y="2010"/>
                </a:cubicBezTo>
                <a:cubicBezTo>
                  <a:pt x="4792" y="2024"/>
                  <a:pt x="4778" y="2034"/>
                  <a:pt x="4770" y="2046"/>
                </a:cubicBezTo>
                <a:cubicBezTo>
                  <a:pt x="4763" y="2057"/>
                  <a:pt x="4762" y="2070"/>
                  <a:pt x="4758" y="2082"/>
                </a:cubicBezTo>
                <a:cubicBezTo>
                  <a:pt x="4732" y="2160"/>
                  <a:pt x="4702" y="2235"/>
                  <a:pt x="4686" y="2316"/>
                </a:cubicBezTo>
                <a:cubicBezTo>
                  <a:pt x="4679" y="2416"/>
                  <a:pt x="4664" y="2465"/>
                  <a:pt x="4626" y="2550"/>
                </a:cubicBezTo>
                <a:cubicBezTo>
                  <a:pt x="4618" y="2567"/>
                  <a:pt x="4621" y="2591"/>
                  <a:pt x="4608" y="2604"/>
                </a:cubicBezTo>
                <a:cubicBezTo>
                  <a:pt x="4586" y="2626"/>
                  <a:pt x="4573" y="2656"/>
                  <a:pt x="4548" y="2676"/>
                </a:cubicBezTo>
                <a:cubicBezTo>
                  <a:pt x="4537" y="2685"/>
                  <a:pt x="4522" y="2690"/>
                  <a:pt x="4512" y="2700"/>
                </a:cubicBezTo>
                <a:cubicBezTo>
                  <a:pt x="4481" y="2731"/>
                  <a:pt x="4458" y="2746"/>
                  <a:pt x="4422" y="2766"/>
                </a:cubicBezTo>
                <a:cubicBezTo>
                  <a:pt x="4411" y="2772"/>
                  <a:pt x="4387" y="2795"/>
                  <a:pt x="4368" y="2796"/>
                </a:cubicBezTo>
                <a:cubicBezTo>
                  <a:pt x="4314" y="2800"/>
                  <a:pt x="4260" y="2800"/>
                  <a:pt x="4206" y="2802"/>
                </a:cubicBezTo>
                <a:cubicBezTo>
                  <a:pt x="4171" y="2808"/>
                  <a:pt x="4140" y="2812"/>
                  <a:pt x="4110" y="2832"/>
                </a:cubicBezTo>
                <a:cubicBezTo>
                  <a:pt x="4096" y="2853"/>
                  <a:pt x="4086" y="2866"/>
                  <a:pt x="4062" y="2874"/>
                </a:cubicBezTo>
                <a:cubicBezTo>
                  <a:pt x="4013" y="2947"/>
                  <a:pt x="3911" y="3000"/>
                  <a:pt x="3828" y="3018"/>
                </a:cubicBezTo>
                <a:cubicBezTo>
                  <a:pt x="3801" y="3024"/>
                  <a:pt x="3779" y="3047"/>
                  <a:pt x="3750" y="3048"/>
                </a:cubicBezTo>
                <a:cubicBezTo>
                  <a:pt x="3676" y="3052"/>
                  <a:pt x="3602" y="3053"/>
                  <a:pt x="3528" y="3054"/>
                </a:cubicBezTo>
                <a:cubicBezTo>
                  <a:pt x="3388" y="3057"/>
                  <a:pt x="3248" y="3058"/>
                  <a:pt x="3108" y="3060"/>
                </a:cubicBezTo>
                <a:cubicBezTo>
                  <a:pt x="2820" y="3079"/>
                  <a:pt x="2984" y="3071"/>
                  <a:pt x="2616" y="3078"/>
                </a:cubicBezTo>
                <a:cubicBezTo>
                  <a:pt x="2372" y="3067"/>
                  <a:pt x="2129" y="3079"/>
                  <a:pt x="1884" y="3084"/>
                </a:cubicBezTo>
                <a:cubicBezTo>
                  <a:pt x="1793" y="3114"/>
                  <a:pt x="1692" y="3088"/>
                  <a:pt x="1596" y="3102"/>
                </a:cubicBezTo>
                <a:cubicBezTo>
                  <a:pt x="1402" y="3098"/>
                  <a:pt x="1314" y="3089"/>
                  <a:pt x="1152" y="3078"/>
                </a:cubicBezTo>
                <a:cubicBezTo>
                  <a:pt x="1072" y="3051"/>
                  <a:pt x="961" y="3075"/>
                  <a:pt x="882" y="3078"/>
                </a:cubicBezTo>
                <a:cubicBezTo>
                  <a:pt x="767" y="3097"/>
                  <a:pt x="834" y="3089"/>
                  <a:pt x="678" y="3096"/>
                </a:cubicBezTo>
                <a:cubicBezTo>
                  <a:pt x="630" y="3090"/>
                  <a:pt x="567" y="3088"/>
                  <a:pt x="522" y="3066"/>
                </a:cubicBezTo>
                <a:cubicBezTo>
                  <a:pt x="485" y="3048"/>
                  <a:pt x="453" y="3019"/>
                  <a:pt x="414" y="3006"/>
                </a:cubicBezTo>
                <a:cubicBezTo>
                  <a:pt x="408" y="3000"/>
                  <a:pt x="403" y="2993"/>
                  <a:pt x="396" y="2988"/>
                </a:cubicBezTo>
                <a:cubicBezTo>
                  <a:pt x="385" y="2979"/>
                  <a:pt x="360" y="2964"/>
                  <a:pt x="360" y="2964"/>
                </a:cubicBezTo>
                <a:cubicBezTo>
                  <a:pt x="346" y="2942"/>
                  <a:pt x="333" y="2942"/>
                  <a:pt x="312" y="2928"/>
                </a:cubicBezTo>
                <a:cubicBezTo>
                  <a:pt x="296" y="2904"/>
                  <a:pt x="276" y="2878"/>
                  <a:pt x="252" y="2862"/>
                </a:cubicBezTo>
                <a:cubicBezTo>
                  <a:pt x="239" y="2842"/>
                  <a:pt x="203" y="2789"/>
                  <a:pt x="186" y="2778"/>
                </a:cubicBezTo>
                <a:cubicBezTo>
                  <a:pt x="170" y="2768"/>
                  <a:pt x="150" y="2766"/>
                  <a:pt x="132" y="2760"/>
                </a:cubicBezTo>
                <a:cubicBezTo>
                  <a:pt x="126" y="2758"/>
                  <a:pt x="114" y="2754"/>
                  <a:pt x="114" y="2754"/>
                </a:cubicBezTo>
                <a:cubicBezTo>
                  <a:pt x="108" y="2746"/>
                  <a:pt x="100" y="2739"/>
                  <a:pt x="96" y="2730"/>
                </a:cubicBezTo>
                <a:cubicBezTo>
                  <a:pt x="83" y="2705"/>
                  <a:pt x="84" y="2679"/>
                  <a:pt x="84" y="2700"/>
                </a:cubicBezTo>
                <a:close/>
              </a:path>
            </a:pathLst>
          </a:custGeom>
          <a:noFill/>
          <a:ln w="572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3" name=""/>
          <p:cNvSpPr/>
          <p:nvPr/>
        </p:nvSpPr>
        <p:spPr>
          <a:xfrm>
            <a:off x="5081760" y="2390760"/>
            <a:ext cx="2004840" cy="3343320"/>
          </a:xfrm>
          <a:custGeom>
            <a:avLst/>
            <a:gdLst/>
            <a:ahLst/>
            <a:rect l="l" t="t" r="r" b="b"/>
            <a:pathLst>
              <a:path w="1263" h="2106">
                <a:moveTo>
                  <a:pt x="123" y="1818"/>
                </a:moveTo>
                <a:cubicBezTo>
                  <a:pt x="163" y="1810"/>
                  <a:pt x="190" y="1794"/>
                  <a:pt x="225" y="1776"/>
                </a:cubicBezTo>
                <a:cubicBezTo>
                  <a:pt x="243" y="1767"/>
                  <a:pt x="279" y="1746"/>
                  <a:pt x="279" y="1746"/>
                </a:cubicBezTo>
                <a:cubicBezTo>
                  <a:pt x="292" y="1706"/>
                  <a:pt x="309" y="1674"/>
                  <a:pt x="333" y="1638"/>
                </a:cubicBezTo>
                <a:cubicBezTo>
                  <a:pt x="345" y="1619"/>
                  <a:pt x="331" y="1618"/>
                  <a:pt x="351" y="1602"/>
                </a:cubicBezTo>
                <a:cubicBezTo>
                  <a:pt x="356" y="1598"/>
                  <a:pt x="363" y="1599"/>
                  <a:pt x="369" y="1596"/>
                </a:cubicBezTo>
                <a:cubicBezTo>
                  <a:pt x="386" y="1588"/>
                  <a:pt x="392" y="1579"/>
                  <a:pt x="405" y="1566"/>
                </a:cubicBezTo>
                <a:cubicBezTo>
                  <a:pt x="424" y="1509"/>
                  <a:pt x="406" y="1518"/>
                  <a:pt x="459" y="1500"/>
                </a:cubicBezTo>
                <a:cubicBezTo>
                  <a:pt x="465" y="1498"/>
                  <a:pt x="472" y="1498"/>
                  <a:pt x="477" y="1494"/>
                </a:cubicBezTo>
                <a:cubicBezTo>
                  <a:pt x="486" y="1488"/>
                  <a:pt x="517" y="1467"/>
                  <a:pt x="531" y="1458"/>
                </a:cubicBezTo>
                <a:cubicBezTo>
                  <a:pt x="537" y="1454"/>
                  <a:pt x="549" y="1446"/>
                  <a:pt x="549" y="1446"/>
                </a:cubicBezTo>
                <a:cubicBezTo>
                  <a:pt x="553" y="1440"/>
                  <a:pt x="556" y="1433"/>
                  <a:pt x="561" y="1428"/>
                </a:cubicBezTo>
                <a:cubicBezTo>
                  <a:pt x="566" y="1423"/>
                  <a:pt x="578" y="1423"/>
                  <a:pt x="579" y="1416"/>
                </a:cubicBezTo>
                <a:cubicBezTo>
                  <a:pt x="587" y="1350"/>
                  <a:pt x="565" y="1301"/>
                  <a:pt x="513" y="1266"/>
                </a:cubicBezTo>
                <a:cubicBezTo>
                  <a:pt x="502" y="1233"/>
                  <a:pt x="493" y="1224"/>
                  <a:pt x="507" y="1188"/>
                </a:cubicBezTo>
                <a:cubicBezTo>
                  <a:pt x="512" y="1175"/>
                  <a:pt x="523" y="1164"/>
                  <a:pt x="531" y="1152"/>
                </a:cubicBezTo>
                <a:cubicBezTo>
                  <a:pt x="538" y="1141"/>
                  <a:pt x="567" y="1140"/>
                  <a:pt x="567" y="1140"/>
                </a:cubicBezTo>
                <a:cubicBezTo>
                  <a:pt x="594" y="1100"/>
                  <a:pt x="588" y="1098"/>
                  <a:pt x="621" y="1080"/>
                </a:cubicBezTo>
                <a:cubicBezTo>
                  <a:pt x="634" y="1073"/>
                  <a:pt x="657" y="1056"/>
                  <a:pt x="657" y="1056"/>
                </a:cubicBezTo>
                <a:cubicBezTo>
                  <a:pt x="661" y="1045"/>
                  <a:pt x="673" y="1026"/>
                  <a:pt x="645" y="1026"/>
                </a:cubicBezTo>
                <a:cubicBezTo>
                  <a:pt x="627" y="1026"/>
                  <a:pt x="542" y="1051"/>
                  <a:pt x="525" y="1062"/>
                </a:cubicBezTo>
                <a:cubicBezTo>
                  <a:pt x="513" y="1070"/>
                  <a:pt x="489" y="1086"/>
                  <a:pt x="489" y="1086"/>
                </a:cubicBezTo>
                <a:cubicBezTo>
                  <a:pt x="461" y="1127"/>
                  <a:pt x="479" y="1127"/>
                  <a:pt x="447" y="1116"/>
                </a:cubicBezTo>
                <a:cubicBezTo>
                  <a:pt x="431" y="1091"/>
                  <a:pt x="426" y="1066"/>
                  <a:pt x="417" y="1038"/>
                </a:cubicBezTo>
                <a:cubicBezTo>
                  <a:pt x="419" y="1012"/>
                  <a:pt x="419" y="986"/>
                  <a:pt x="423" y="960"/>
                </a:cubicBezTo>
                <a:cubicBezTo>
                  <a:pt x="429" y="922"/>
                  <a:pt x="451" y="884"/>
                  <a:pt x="459" y="846"/>
                </a:cubicBezTo>
                <a:cubicBezTo>
                  <a:pt x="471" y="791"/>
                  <a:pt x="473" y="733"/>
                  <a:pt x="477" y="678"/>
                </a:cubicBezTo>
                <a:cubicBezTo>
                  <a:pt x="475" y="616"/>
                  <a:pt x="475" y="554"/>
                  <a:pt x="471" y="492"/>
                </a:cubicBezTo>
                <a:cubicBezTo>
                  <a:pt x="470" y="470"/>
                  <a:pt x="447" y="457"/>
                  <a:pt x="441" y="438"/>
                </a:cubicBezTo>
                <a:cubicBezTo>
                  <a:pt x="419" y="372"/>
                  <a:pt x="355" y="285"/>
                  <a:pt x="297" y="246"/>
                </a:cubicBezTo>
                <a:cubicBezTo>
                  <a:pt x="235" y="205"/>
                  <a:pt x="169" y="173"/>
                  <a:pt x="99" y="150"/>
                </a:cubicBezTo>
                <a:cubicBezTo>
                  <a:pt x="87" y="146"/>
                  <a:pt x="75" y="141"/>
                  <a:pt x="63" y="138"/>
                </a:cubicBezTo>
                <a:cubicBezTo>
                  <a:pt x="47" y="134"/>
                  <a:pt x="15" y="126"/>
                  <a:pt x="15" y="126"/>
                </a:cubicBezTo>
                <a:cubicBezTo>
                  <a:pt x="0" y="82"/>
                  <a:pt x="34" y="84"/>
                  <a:pt x="69" y="72"/>
                </a:cubicBezTo>
                <a:cubicBezTo>
                  <a:pt x="148" y="46"/>
                  <a:pt x="201" y="25"/>
                  <a:pt x="285" y="18"/>
                </a:cubicBezTo>
                <a:cubicBezTo>
                  <a:pt x="309" y="12"/>
                  <a:pt x="332" y="5"/>
                  <a:pt x="357" y="0"/>
                </a:cubicBezTo>
                <a:cubicBezTo>
                  <a:pt x="410" y="4"/>
                  <a:pt x="454" y="13"/>
                  <a:pt x="507" y="18"/>
                </a:cubicBezTo>
                <a:cubicBezTo>
                  <a:pt x="559" y="35"/>
                  <a:pt x="611" y="49"/>
                  <a:pt x="663" y="66"/>
                </a:cubicBezTo>
                <a:cubicBezTo>
                  <a:pt x="677" y="71"/>
                  <a:pt x="685" y="87"/>
                  <a:pt x="699" y="90"/>
                </a:cubicBezTo>
                <a:cubicBezTo>
                  <a:pt x="723" y="96"/>
                  <a:pt x="739" y="100"/>
                  <a:pt x="759" y="114"/>
                </a:cubicBezTo>
                <a:cubicBezTo>
                  <a:pt x="793" y="166"/>
                  <a:pt x="748" y="105"/>
                  <a:pt x="789" y="138"/>
                </a:cubicBezTo>
                <a:cubicBezTo>
                  <a:pt x="795" y="143"/>
                  <a:pt x="796" y="151"/>
                  <a:pt x="801" y="156"/>
                </a:cubicBezTo>
                <a:cubicBezTo>
                  <a:pt x="806" y="161"/>
                  <a:pt x="813" y="164"/>
                  <a:pt x="819" y="168"/>
                </a:cubicBezTo>
                <a:cubicBezTo>
                  <a:pt x="838" y="197"/>
                  <a:pt x="874" y="203"/>
                  <a:pt x="903" y="222"/>
                </a:cubicBezTo>
                <a:cubicBezTo>
                  <a:pt x="914" y="256"/>
                  <a:pt x="936" y="261"/>
                  <a:pt x="957" y="288"/>
                </a:cubicBezTo>
                <a:cubicBezTo>
                  <a:pt x="988" y="328"/>
                  <a:pt x="1010" y="380"/>
                  <a:pt x="1053" y="408"/>
                </a:cubicBezTo>
                <a:cubicBezTo>
                  <a:pt x="1066" y="447"/>
                  <a:pt x="1096" y="482"/>
                  <a:pt x="1119" y="516"/>
                </a:cubicBezTo>
                <a:cubicBezTo>
                  <a:pt x="1141" y="549"/>
                  <a:pt x="1154" y="589"/>
                  <a:pt x="1173" y="624"/>
                </a:cubicBezTo>
                <a:cubicBezTo>
                  <a:pt x="1188" y="651"/>
                  <a:pt x="1206" y="668"/>
                  <a:pt x="1215" y="696"/>
                </a:cubicBezTo>
                <a:cubicBezTo>
                  <a:pt x="1221" y="757"/>
                  <a:pt x="1232" y="818"/>
                  <a:pt x="1251" y="876"/>
                </a:cubicBezTo>
                <a:cubicBezTo>
                  <a:pt x="1259" y="899"/>
                  <a:pt x="1263" y="948"/>
                  <a:pt x="1263" y="948"/>
                </a:cubicBezTo>
                <a:cubicBezTo>
                  <a:pt x="1254" y="1040"/>
                  <a:pt x="1261" y="1143"/>
                  <a:pt x="1239" y="1230"/>
                </a:cubicBezTo>
                <a:cubicBezTo>
                  <a:pt x="1230" y="1340"/>
                  <a:pt x="1187" y="1442"/>
                  <a:pt x="1143" y="1542"/>
                </a:cubicBezTo>
                <a:cubicBezTo>
                  <a:pt x="1124" y="1584"/>
                  <a:pt x="1120" y="1612"/>
                  <a:pt x="1095" y="1650"/>
                </a:cubicBezTo>
                <a:cubicBezTo>
                  <a:pt x="1072" y="1685"/>
                  <a:pt x="1058" y="1728"/>
                  <a:pt x="1023" y="1752"/>
                </a:cubicBezTo>
                <a:cubicBezTo>
                  <a:pt x="1016" y="1763"/>
                  <a:pt x="975" y="1834"/>
                  <a:pt x="963" y="1842"/>
                </a:cubicBezTo>
                <a:cubicBezTo>
                  <a:pt x="933" y="1862"/>
                  <a:pt x="894" y="1883"/>
                  <a:pt x="873" y="1914"/>
                </a:cubicBezTo>
                <a:cubicBezTo>
                  <a:pt x="865" y="1926"/>
                  <a:pt x="857" y="1938"/>
                  <a:pt x="849" y="1950"/>
                </a:cubicBezTo>
                <a:cubicBezTo>
                  <a:pt x="845" y="1956"/>
                  <a:pt x="844" y="1966"/>
                  <a:pt x="837" y="1968"/>
                </a:cubicBezTo>
                <a:cubicBezTo>
                  <a:pt x="806" y="1978"/>
                  <a:pt x="776" y="1996"/>
                  <a:pt x="747" y="2010"/>
                </a:cubicBezTo>
                <a:cubicBezTo>
                  <a:pt x="705" y="2031"/>
                  <a:pt x="661" y="2056"/>
                  <a:pt x="621" y="2082"/>
                </a:cubicBezTo>
                <a:cubicBezTo>
                  <a:pt x="605" y="2093"/>
                  <a:pt x="567" y="2106"/>
                  <a:pt x="567" y="2106"/>
                </a:cubicBezTo>
                <a:cubicBezTo>
                  <a:pt x="515" y="2104"/>
                  <a:pt x="463" y="2105"/>
                  <a:pt x="411" y="2100"/>
                </a:cubicBezTo>
                <a:cubicBezTo>
                  <a:pt x="364" y="2096"/>
                  <a:pt x="341" y="2065"/>
                  <a:pt x="303" y="2052"/>
                </a:cubicBezTo>
                <a:cubicBezTo>
                  <a:pt x="267" y="2040"/>
                  <a:pt x="256" y="2032"/>
                  <a:pt x="225" y="2010"/>
                </a:cubicBezTo>
                <a:cubicBezTo>
                  <a:pt x="213" y="2002"/>
                  <a:pt x="201" y="1994"/>
                  <a:pt x="189" y="1986"/>
                </a:cubicBezTo>
                <a:cubicBezTo>
                  <a:pt x="183" y="1982"/>
                  <a:pt x="171" y="1974"/>
                  <a:pt x="171" y="1974"/>
                </a:cubicBezTo>
                <a:cubicBezTo>
                  <a:pt x="139" y="1926"/>
                  <a:pt x="181" y="1984"/>
                  <a:pt x="141" y="1944"/>
                </a:cubicBezTo>
                <a:cubicBezTo>
                  <a:pt x="106" y="1909"/>
                  <a:pt x="119" y="1861"/>
                  <a:pt x="123" y="1818"/>
                </a:cubicBezTo>
                <a:close/>
              </a:path>
            </a:pathLst>
          </a:custGeom>
          <a:solidFill>
            <a:srgbClr val="00ff00">
              <a:alpha val="50000"/>
            </a:srgbClr>
          </a:solidFill>
          <a:ln w="57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4" name=""/>
          <p:cNvSpPr/>
          <p:nvPr/>
        </p:nvSpPr>
        <p:spPr>
          <a:xfrm>
            <a:off x="2295360" y="2495520"/>
            <a:ext cx="2381400" cy="3267000"/>
          </a:xfrm>
          <a:custGeom>
            <a:avLst/>
            <a:gdLst/>
            <a:ahLst/>
            <a:rect l="l" t="t" r="r" b="b"/>
            <a:pathLst>
              <a:path w="1500" h="2058">
                <a:moveTo>
                  <a:pt x="1392" y="1518"/>
                </a:moveTo>
                <a:cubicBezTo>
                  <a:pt x="1369" y="1541"/>
                  <a:pt x="1367" y="1567"/>
                  <a:pt x="1344" y="1590"/>
                </a:cubicBezTo>
                <a:cubicBezTo>
                  <a:pt x="1333" y="1645"/>
                  <a:pt x="1306" y="1695"/>
                  <a:pt x="1284" y="1746"/>
                </a:cubicBezTo>
                <a:cubicBezTo>
                  <a:pt x="1269" y="1780"/>
                  <a:pt x="1262" y="1829"/>
                  <a:pt x="1224" y="1842"/>
                </a:cubicBezTo>
                <a:cubicBezTo>
                  <a:pt x="1154" y="1912"/>
                  <a:pt x="1074" y="1970"/>
                  <a:pt x="984" y="2010"/>
                </a:cubicBezTo>
                <a:cubicBezTo>
                  <a:pt x="956" y="2023"/>
                  <a:pt x="923" y="2036"/>
                  <a:pt x="894" y="2046"/>
                </a:cubicBezTo>
                <a:cubicBezTo>
                  <a:pt x="882" y="2050"/>
                  <a:pt x="858" y="2058"/>
                  <a:pt x="858" y="2058"/>
                </a:cubicBezTo>
                <a:cubicBezTo>
                  <a:pt x="804" y="2056"/>
                  <a:pt x="750" y="2057"/>
                  <a:pt x="696" y="2052"/>
                </a:cubicBezTo>
                <a:cubicBezTo>
                  <a:pt x="689" y="2051"/>
                  <a:pt x="685" y="2043"/>
                  <a:pt x="678" y="2040"/>
                </a:cubicBezTo>
                <a:cubicBezTo>
                  <a:pt x="652" y="2029"/>
                  <a:pt x="622" y="2028"/>
                  <a:pt x="594" y="2022"/>
                </a:cubicBezTo>
                <a:cubicBezTo>
                  <a:pt x="577" y="2019"/>
                  <a:pt x="555" y="2006"/>
                  <a:pt x="540" y="1998"/>
                </a:cubicBezTo>
                <a:cubicBezTo>
                  <a:pt x="527" y="1991"/>
                  <a:pt x="504" y="1974"/>
                  <a:pt x="504" y="1974"/>
                </a:cubicBezTo>
                <a:cubicBezTo>
                  <a:pt x="496" y="1962"/>
                  <a:pt x="488" y="1950"/>
                  <a:pt x="480" y="1938"/>
                </a:cubicBezTo>
                <a:cubicBezTo>
                  <a:pt x="476" y="1933"/>
                  <a:pt x="468" y="1935"/>
                  <a:pt x="462" y="1932"/>
                </a:cubicBezTo>
                <a:cubicBezTo>
                  <a:pt x="449" y="1925"/>
                  <a:pt x="436" y="1918"/>
                  <a:pt x="426" y="1908"/>
                </a:cubicBezTo>
                <a:cubicBezTo>
                  <a:pt x="409" y="1891"/>
                  <a:pt x="398" y="1874"/>
                  <a:pt x="378" y="1860"/>
                </a:cubicBezTo>
                <a:cubicBezTo>
                  <a:pt x="363" y="1838"/>
                  <a:pt x="340" y="1815"/>
                  <a:pt x="318" y="1800"/>
                </a:cubicBezTo>
                <a:cubicBezTo>
                  <a:pt x="309" y="1787"/>
                  <a:pt x="297" y="1777"/>
                  <a:pt x="288" y="1764"/>
                </a:cubicBezTo>
                <a:cubicBezTo>
                  <a:pt x="284" y="1759"/>
                  <a:pt x="286" y="1751"/>
                  <a:pt x="282" y="1746"/>
                </a:cubicBezTo>
                <a:cubicBezTo>
                  <a:pt x="270" y="1728"/>
                  <a:pt x="251" y="1710"/>
                  <a:pt x="234" y="1698"/>
                </a:cubicBezTo>
                <a:cubicBezTo>
                  <a:pt x="230" y="1692"/>
                  <a:pt x="227" y="1685"/>
                  <a:pt x="222" y="1680"/>
                </a:cubicBezTo>
                <a:cubicBezTo>
                  <a:pt x="217" y="1675"/>
                  <a:pt x="209" y="1674"/>
                  <a:pt x="204" y="1668"/>
                </a:cubicBezTo>
                <a:cubicBezTo>
                  <a:pt x="200" y="1663"/>
                  <a:pt x="202" y="1655"/>
                  <a:pt x="198" y="1650"/>
                </a:cubicBezTo>
                <a:cubicBezTo>
                  <a:pt x="193" y="1643"/>
                  <a:pt x="186" y="1638"/>
                  <a:pt x="180" y="1632"/>
                </a:cubicBezTo>
                <a:cubicBezTo>
                  <a:pt x="172" y="1608"/>
                  <a:pt x="159" y="1598"/>
                  <a:pt x="138" y="1584"/>
                </a:cubicBezTo>
                <a:cubicBezTo>
                  <a:pt x="105" y="1535"/>
                  <a:pt x="105" y="1471"/>
                  <a:pt x="72" y="1422"/>
                </a:cubicBezTo>
                <a:cubicBezTo>
                  <a:pt x="52" y="1343"/>
                  <a:pt x="20" y="1267"/>
                  <a:pt x="0" y="1188"/>
                </a:cubicBezTo>
                <a:cubicBezTo>
                  <a:pt x="2" y="1064"/>
                  <a:pt x="2" y="940"/>
                  <a:pt x="6" y="816"/>
                </a:cubicBezTo>
                <a:cubicBezTo>
                  <a:pt x="9" y="708"/>
                  <a:pt x="91" y="533"/>
                  <a:pt x="144" y="438"/>
                </a:cubicBezTo>
                <a:cubicBezTo>
                  <a:pt x="167" y="397"/>
                  <a:pt x="195" y="345"/>
                  <a:pt x="228" y="312"/>
                </a:cubicBezTo>
                <a:cubicBezTo>
                  <a:pt x="256" y="284"/>
                  <a:pt x="289" y="260"/>
                  <a:pt x="318" y="234"/>
                </a:cubicBezTo>
                <a:cubicBezTo>
                  <a:pt x="343" y="212"/>
                  <a:pt x="364" y="188"/>
                  <a:pt x="390" y="168"/>
                </a:cubicBezTo>
                <a:cubicBezTo>
                  <a:pt x="401" y="159"/>
                  <a:pt x="426" y="144"/>
                  <a:pt x="426" y="144"/>
                </a:cubicBezTo>
                <a:cubicBezTo>
                  <a:pt x="443" y="119"/>
                  <a:pt x="466" y="116"/>
                  <a:pt x="492" y="102"/>
                </a:cubicBezTo>
                <a:cubicBezTo>
                  <a:pt x="505" y="95"/>
                  <a:pt x="516" y="86"/>
                  <a:pt x="528" y="78"/>
                </a:cubicBezTo>
                <a:cubicBezTo>
                  <a:pt x="564" y="54"/>
                  <a:pt x="649" y="44"/>
                  <a:pt x="690" y="30"/>
                </a:cubicBezTo>
                <a:cubicBezTo>
                  <a:pt x="712" y="23"/>
                  <a:pt x="728" y="7"/>
                  <a:pt x="750" y="0"/>
                </a:cubicBezTo>
                <a:cubicBezTo>
                  <a:pt x="814" y="2"/>
                  <a:pt x="878" y="2"/>
                  <a:pt x="942" y="6"/>
                </a:cubicBezTo>
                <a:cubicBezTo>
                  <a:pt x="1008" y="10"/>
                  <a:pt x="1073" y="47"/>
                  <a:pt x="1140" y="54"/>
                </a:cubicBezTo>
                <a:cubicBezTo>
                  <a:pt x="1196" y="73"/>
                  <a:pt x="1264" y="50"/>
                  <a:pt x="1320" y="36"/>
                </a:cubicBezTo>
                <a:cubicBezTo>
                  <a:pt x="1370" y="40"/>
                  <a:pt x="1442" y="6"/>
                  <a:pt x="1470" y="48"/>
                </a:cubicBezTo>
                <a:cubicBezTo>
                  <a:pt x="1489" y="77"/>
                  <a:pt x="1480" y="59"/>
                  <a:pt x="1494" y="102"/>
                </a:cubicBezTo>
                <a:cubicBezTo>
                  <a:pt x="1496" y="108"/>
                  <a:pt x="1500" y="120"/>
                  <a:pt x="1500" y="120"/>
                </a:cubicBezTo>
                <a:cubicBezTo>
                  <a:pt x="1494" y="137"/>
                  <a:pt x="1494" y="157"/>
                  <a:pt x="1488" y="174"/>
                </a:cubicBezTo>
                <a:lnTo>
                  <a:pt x="1464" y="228"/>
                </a:lnTo>
                <a:cubicBezTo>
                  <a:pt x="1464" y="228"/>
                  <a:pt x="1464" y="228"/>
                  <a:pt x="1464" y="228"/>
                </a:cubicBezTo>
                <a:cubicBezTo>
                  <a:pt x="1462" y="236"/>
                  <a:pt x="1462" y="245"/>
                  <a:pt x="1458" y="252"/>
                </a:cubicBezTo>
                <a:cubicBezTo>
                  <a:pt x="1444" y="276"/>
                  <a:pt x="1413" y="296"/>
                  <a:pt x="1404" y="324"/>
                </a:cubicBezTo>
                <a:cubicBezTo>
                  <a:pt x="1395" y="351"/>
                  <a:pt x="1382" y="376"/>
                  <a:pt x="1362" y="396"/>
                </a:cubicBezTo>
                <a:cubicBezTo>
                  <a:pt x="1352" y="425"/>
                  <a:pt x="1339" y="445"/>
                  <a:pt x="1314" y="462"/>
                </a:cubicBezTo>
                <a:cubicBezTo>
                  <a:pt x="1306" y="485"/>
                  <a:pt x="1296" y="510"/>
                  <a:pt x="1290" y="534"/>
                </a:cubicBezTo>
                <a:cubicBezTo>
                  <a:pt x="1290" y="534"/>
                  <a:pt x="1281" y="573"/>
                  <a:pt x="1278" y="576"/>
                </a:cubicBezTo>
                <a:cubicBezTo>
                  <a:pt x="1274" y="580"/>
                  <a:pt x="1266" y="580"/>
                  <a:pt x="1260" y="582"/>
                </a:cubicBezTo>
                <a:cubicBezTo>
                  <a:pt x="1258" y="588"/>
                  <a:pt x="1258" y="596"/>
                  <a:pt x="1254" y="600"/>
                </a:cubicBezTo>
                <a:cubicBezTo>
                  <a:pt x="1244" y="610"/>
                  <a:pt x="1218" y="624"/>
                  <a:pt x="1218" y="624"/>
                </a:cubicBezTo>
                <a:cubicBezTo>
                  <a:pt x="1160" y="619"/>
                  <a:pt x="1148" y="622"/>
                  <a:pt x="1104" y="600"/>
                </a:cubicBezTo>
                <a:cubicBezTo>
                  <a:pt x="1054" y="617"/>
                  <a:pt x="1134" y="591"/>
                  <a:pt x="1044" y="612"/>
                </a:cubicBezTo>
                <a:cubicBezTo>
                  <a:pt x="1014" y="619"/>
                  <a:pt x="997" y="629"/>
                  <a:pt x="972" y="642"/>
                </a:cubicBezTo>
                <a:cubicBezTo>
                  <a:pt x="949" y="653"/>
                  <a:pt x="918" y="658"/>
                  <a:pt x="894" y="666"/>
                </a:cubicBezTo>
                <a:cubicBezTo>
                  <a:pt x="873" y="673"/>
                  <a:pt x="858" y="690"/>
                  <a:pt x="840" y="702"/>
                </a:cubicBezTo>
                <a:cubicBezTo>
                  <a:pt x="834" y="706"/>
                  <a:pt x="822" y="714"/>
                  <a:pt x="822" y="714"/>
                </a:cubicBezTo>
                <a:cubicBezTo>
                  <a:pt x="794" y="755"/>
                  <a:pt x="772" y="798"/>
                  <a:pt x="744" y="840"/>
                </a:cubicBezTo>
                <a:cubicBezTo>
                  <a:pt x="737" y="851"/>
                  <a:pt x="736" y="864"/>
                  <a:pt x="732" y="876"/>
                </a:cubicBezTo>
                <a:cubicBezTo>
                  <a:pt x="730" y="882"/>
                  <a:pt x="726" y="894"/>
                  <a:pt x="726" y="894"/>
                </a:cubicBezTo>
                <a:cubicBezTo>
                  <a:pt x="720" y="949"/>
                  <a:pt x="714" y="964"/>
                  <a:pt x="720" y="1020"/>
                </a:cubicBezTo>
                <a:cubicBezTo>
                  <a:pt x="722" y="1086"/>
                  <a:pt x="722" y="1152"/>
                  <a:pt x="726" y="1218"/>
                </a:cubicBezTo>
                <a:cubicBezTo>
                  <a:pt x="727" y="1243"/>
                  <a:pt x="757" y="1284"/>
                  <a:pt x="768" y="1308"/>
                </a:cubicBezTo>
                <a:cubicBezTo>
                  <a:pt x="768" y="1308"/>
                  <a:pt x="783" y="1353"/>
                  <a:pt x="786" y="1362"/>
                </a:cubicBezTo>
                <a:cubicBezTo>
                  <a:pt x="788" y="1368"/>
                  <a:pt x="786" y="1378"/>
                  <a:pt x="792" y="1380"/>
                </a:cubicBezTo>
                <a:cubicBezTo>
                  <a:pt x="817" y="1388"/>
                  <a:pt x="826" y="1400"/>
                  <a:pt x="846" y="1416"/>
                </a:cubicBezTo>
                <a:cubicBezTo>
                  <a:pt x="886" y="1447"/>
                  <a:pt x="924" y="1478"/>
                  <a:pt x="972" y="1494"/>
                </a:cubicBezTo>
                <a:cubicBezTo>
                  <a:pt x="1006" y="1505"/>
                  <a:pt x="1040" y="1513"/>
                  <a:pt x="1074" y="1524"/>
                </a:cubicBezTo>
                <a:cubicBezTo>
                  <a:pt x="1086" y="1528"/>
                  <a:pt x="1110" y="1536"/>
                  <a:pt x="1110" y="1536"/>
                </a:cubicBezTo>
                <a:cubicBezTo>
                  <a:pt x="1216" y="1532"/>
                  <a:pt x="1290" y="1524"/>
                  <a:pt x="1392" y="1518"/>
                </a:cubicBezTo>
                <a:close/>
              </a:path>
            </a:pathLst>
          </a:custGeom>
          <a:solidFill>
            <a:srgbClr val="00ff00">
              <a:alpha val="50000"/>
            </a:srgbClr>
          </a:solidFill>
          <a:ln w="57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5" name=""/>
          <p:cNvSpPr/>
          <p:nvPr/>
        </p:nvSpPr>
        <p:spPr>
          <a:xfrm rot="6600">
            <a:off x="3120840" y="1365120"/>
            <a:ext cx="2365200" cy="5031000"/>
          </a:xfrm>
          <a:custGeom>
            <a:avLst/>
            <a:gdLst>
              <a:gd name="textAreaLeft" fmla="*/ 333000 w 2365200"/>
              <a:gd name="textAreaRight" fmla="*/ 2032200 w 2365200"/>
              <a:gd name="textAreaTop" fmla="*/ 708840 h 5031000"/>
              <a:gd name="textAreaBottom" fmla="*/ 4322160 h 5031000"/>
            </a:gdLst>
            <a:ahLst/>
            <a:rect l="textAreaLeft" t="textAreaTop" r="textAreaRight" b="textAreaBottom"/>
            <a:pathLst>
              <a:path w="21600" h="21600">
                <a:moveTo>
                  <a:pt x="0" y="0"/>
                </a:moveTo>
                <a:lnTo>
                  <a:pt x="21600" y="0"/>
                </a:lnTo>
                <a:lnTo>
                  <a:pt x="19272" y="21600"/>
                </a:lnTo>
                <a:lnTo>
                  <a:pt x="2328" y="21600"/>
                </a:lnTo>
                <a:close/>
              </a:path>
            </a:pathLst>
          </a:custGeom>
          <a:solidFill>
            <a:srgbClr val="99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6" name=""/>
          <p:cNvSpPr/>
          <p:nvPr/>
        </p:nvSpPr>
        <p:spPr>
          <a:xfrm rot="10806600">
            <a:off x="3121200" y="1364400"/>
            <a:ext cx="2365200" cy="5031000"/>
          </a:xfrm>
          <a:custGeom>
            <a:avLst/>
            <a:gdLst>
              <a:gd name="textAreaLeft" fmla="*/ 333000 w 2365200"/>
              <a:gd name="textAreaRight" fmla="*/ 2032200 w 2365200"/>
              <a:gd name="textAreaTop" fmla="*/ 708840 h 5031000"/>
              <a:gd name="textAreaBottom" fmla="*/ 4322160 h 5031000"/>
            </a:gdLst>
            <a:ahLst/>
            <a:rect l="textAreaLeft" t="textAreaTop" r="textAreaRight" b="textAreaBottom"/>
            <a:pathLst>
              <a:path w="21600" h="21600">
                <a:moveTo>
                  <a:pt x="0" y="0"/>
                </a:moveTo>
                <a:lnTo>
                  <a:pt x="21600" y="0"/>
                </a:lnTo>
                <a:lnTo>
                  <a:pt x="19272" y="21600"/>
                </a:lnTo>
                <a:lnTo>
                  <a:pt x="2328" y="21600"/>
                </a:lnTo>
                <a:close/>
              </a:path>
            </a:pathLst>
          </a:custGeom>
          <a:solidFill>
            <a:srgbClr val="99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7" name=""/>
          <p:cNvSpPr/>
          <p:nvPr/>
        </p:nvSpPr>
        <p:spPr>
          <a:xfrm>
            <a:off x="4606920" y="5362560"/>
            <a:ext cx="279360" cy="285840"/>
          </a:xfrm>
          <a:custGeom>
            <a:avLst/>
            <a:gdLst/>
            <a:ahLst/>
            <a:rect l="l" t="t" r="r" b="b"/>
            <a:pathLst>
              <a:path w="176" h="180">
                <a:moveTo>
                  <a:pt x="92" y="0"/>
                </a:moveTo>
                <a:cubicBezTo>
                  <a:pt x="49" y="9"/>
                  <a:pt x="43" y="25"/>
                  <a:pt x="14" y="54"/>
                </a:cubicBezTo>
                <a:cubicBezTo>
                  <a:pt x="0" y="97"/>
                  <a:pt x="26" y="145"/>
                  <a:pt x="50" y="180"/>
                </a:cubicBezTo>
                <a:cubicBezTo>
                  <a:pt x="78" y="178"/>
                  <a:pt x="107" y="180"/>
                  <a:pt x="134" y="174"/>
                </a:cubicBezTo>
                <a:cubicBezTo>
                  <a:pt x="153" y="170"/>
                  <a:pt x="171" y="118"/>
                  <a:pt x="176" y="102"/>
                </a:cubicBezTo>
                <a:cubicBezTo>
                  <a:pt x="175" y="98"/>
                  <a:pt x="171" y="58"/>
                  <a:pt x="164" y="48"/>
                </a:cubicBezTo>
                <a:cubicBezTo>
                  <a:pt x="147" y="22"/>
                  <a:pt x="116" y="16"/>
                  <a:pt x="92" y="0"/>
                </a:cubicBezTo>
                <a:close/>
              </a:path>
            </a:pathLst>
          </a:custGeom>
          <a:solidFill>
            <a:srgbClr val="00ff00">
              <a:alpha val="50000"/>
            </a:srgbClr>
          </a:solidFill>
          <a:ln w="57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8" name=""/>
          <p:cNvSpPr/>
          <p:nvPr/>
        </p:nvSpPr>
        <p:spPr>
          <a:xfrm>
            <a:off x="4191120" y="1523880"/>
            <a:ext cx="228600" cy="762120"/>
          </a:xfrm>
          <a:prstGeom prst="downArrow">
            <a:avLst>
              <a:gd name="adj1" fmla="val 50000"/>
              <a:gd name="adj2" fmla="val 83346"/>
            </a:avLst>
          </a:prstGeom>
          <a:solidFill>
            <a:srgbClr val="99cc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9" name=""/>
          <p:cNvSpPr/>
          <p:nvPr/>
        </p:nvSpPr>
        <p:spPr>
          <a:xfrm rot="5088600">
            <a:off x="3537360" y="348480"/>
            <a:ext cx="1916280" cy="7620120"/>
          </a:xfrm>
          <a:custGeom>
            <a:avLst/>
            <a:gdLst>
              <a:gd name="textAreaLeft" fmla="*/ 317880 w 1916280"/>
              <a:gd name="textAreaRight" fmla="*/ 1598400 w 1916280"/>
              <a:gd name="textAreaTop" fmla="*/ 1264320 h 7620120"/>
              <a:gd name="textAreaBottom" fmla="*/ 6355800 h 7620120"/>
            </a:gdLst>
            <a:ahLst/>
            <a:rect l="textAreaLeft" t="textAreaTop" r="textAreaRight" b="textAreaBottom"/>
            <a:pathLst>
              <a:path w="21600" h="21600">
                <a:moveTo>
                  <a:pt x="0" y="0"/>
                </a:moveTo>
                <a:lnTo>
                  <a:pt x="21600" y="0"/>
                </a:lnTo>
                <a:lnTo>
                  <a:pt x="18299" y="21600"/>
                </a:lnTo>
                <a:lnTo>
                  <a:pt x="3301" y="21600"/>
                </a:lnTo>
                <a:close/>
              </a:path>
            </a:pathLst>
          </a:custGeom>
          <a:solidFill>
            <a:srgbClr val="99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0" name=""/>
          <p:cNvSpPr/>
          <p:nvPr/>
        </p:nvSpPr>
        <p:spPr>
          <a:xfrm rot="8441400">
            <a:off x="2792520" y="822240"/>
            <a:ext cx="2192400" cy="5967360"/>
          </a:xfrm>
          <a:custGeom>
            <a:avLst/>
            <a:gdLst>
              <a:gd name="textAreaLeft" fmla="*/ 363600 w 2192400"/>
              <a:gd name="textAreaRight" fmla="*/ 1828800 w 2192400"/>
              <a:gd name="textAreaTop" fmla="*/ 990000 h 5967360"/>
              <a:gd name="textAreaBottom" fmla="*/ 4977360 h 5967360"/>
            </a:gdLst>
            <a:ahLst/>
            <a:rect l="textAreaLeft" t="textAreaTop" r="textAreaRight" b="textAreaBottom"/>
            <a:pathLst>
              <a:path w="21600" h="21600">
                <a:moveTo>
                  <a:pt x="0" y="0"/>
                </a:moveTo>
                <a:lnTo>
                  <a:pt x="21600" y="0"/>
                </a:lnTo>
                <a:lnTo>
                  <a:pt x="18299" y="21600"/>
                </a:lnTo>
                <a:lnTo>
                  <a:pt x="3301" y="21600"/>
                </a:lnTo>
                <a:close/>
              </a:path>
            </a:pathLst>
          </a:custGeom>
          <a:solidFill>
            <a:srgbClr val="99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1" name=""/>
          <p:cNvSpPr/>
          <p:nvPr/>
        </p:nvSpPr>
        <p:spPr>
          <a:xfrm>
            <a:off x="4191120" y="5486400"/>
            <a:ext cx="228600" cy="762120"/>
          </a:xfrm>
          <a:prstGeom prst="upArrow">
            <a:avLst>
              <a:gd name="adj1" fmla="val 50000"/>
              <a:gd name="adj2" fmla="val 83346"/>
            </a:avLst>
          </a:prstGeom>
          <a:solidFill>
            <a:srgbClr val="99cc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2" name=""/>
          <p:cNvSpPr/>
          <p:nvPr/>
        </p:nvSpPr>
        <p:spPr>
          <a:xfrm>
            <a:off x="3495600" y="3514680"/>
            <a:ext cx="1648080" cy="1333440"/>
          </a:xfrm>
          <a:custGeom>
            <a:avLst/>
            <a:gdLst/>
            <a:ahLst/>
            <a:rect l="l" t="t" r="r" b="b"/>
            <a:pathLst>
              <a:path w="1038" h="840">
                <a:moveTo>
                  <a:pt x="66" y="672"/>
                </a:moveTo>
                <a:cubicBezTo>
                  <a:pt x="52" y="629"/>
                  <a:pt x="65" y="643"/>
                  <a:pt x="36" y="624"/>
                </a:cubicBezTo>
                <a:cubicBezTo>
                  <a:pt x="29" y="602"/>
                  <a:pt x="19" y="586"/>
                  <a:pt x="12" y="564"/>
                </a:cubicBezTo>
                <a:cubicBezTo>
                  <a:pt x="8" y="552"/>
                  <a:pt x="0" y="528"/>
                  <a:pt x="0" y="528"/>
                </a:cubicBezTo>
                <a:cubicBezTo>
                  <a:pt x="2" y="456"/>
                  <a:pt x="1" y="233"/>
                  <a:pt x="72" y="162"/>
                </a:cubicBezTo>
                <a:cubicBezTo>
                  <a:pt x="84" y="125"/>
                  <a:pt x="112" y="99"/>
                  <a:pt x="144" y="78"/>
                </a:cubicBezTo>
                <a:cubicBezTo>
                  <a:pt x="170" y="39"/>
                  <a:pt x="205" y="32"/>
                  <a:pt x="246" y="18"/>
                </a:cubicBezTo>
                <a:cubicBezTo>
                  <a:pt x="258" y="14"/>
                  <a:pt x="270" y="10"/>
                  <a:pt x="282" y="6"/>
                </a:cubicBezTo>
                <a:cubicBezTo>
                  <a:pt x="288" y="4"/>
                  <a:pt x="300" y="0"/>
                  <a:pt x="300" y="0"/>
                </a:cubicBezTo>
                <a:cubicBezTo>
                  <a:pt x="468" y="5"/>
                  <a:pt x="558" y="10"/>
                  <a:pt x="708" y="60"/>
                </a:cubicBezTo>
                <a:cubicBezTo>
                  <a:pt x="733" y="68"/>
                  <a:pt x="756" y="85"/>
                  <a:pt x="780" y="96"/>
                </a:cubicBezTo>
                <a:cubicBezTo>
                  <a:pt x="802" y="106"/>
                  <a:pt x="829" y="112"/>
                  <a:pt x="852" y="120"/>
                </a:cubicBezTo>
                <a:cubicBezTo>
                  <a:pt x="884" y="131"/>
                  <a:pt x="865" y="122"/>
                  <a:pt x="906" y="150"/>
                </a:cubicBezTo>
                <a:cubicBezTo>
                  <a:pt x="912" y="154"/>
                  <a:pt x="924" y="162"/>
                  <a:pt x="924" y="162"/>
                </a:cubicBezTo>
                <a:cubicBezTo>
                  <a:pt x="952" y="204"/>
                  <a:pt x="936" y="190"/>
                  <a:pt x="966" y="210"/>
                </a:cubicBezTo>
                <a:cubicBezTo>
                  <a:pt x="986" y="269"/>
                  <a:pt x="1023" y="316"/>
                  <a:pt x="1038" y="378"/>
                </a:cubicBezTo>
                <a:cubicBezTo>
                  <a:pt x="1034" y="436"/>
                  <a:pt x="1025" y="473"/>
                  <a:pt x="1032" y="528"/>
                </a:cubicBezTo>
                <a:cubicBezTo>
                  <a:pt x="1026" y="564"/>
                  <a:pt x="1013" y="584"/>
                  <a:pt x="1002" y="618"/>
                </a:cubicBezTo>
                <a:cubicBezTo>
                  <a:pt x="997" y="634"/>
                  <a:pt x="993" y="660"/>
                  <a:pt x="978" y="672"/>
                </a:cubicBezTo>
                <a:cubicBezTo>
                  <a:pt x="929" y="711"/>
                  <a:pt x="993" y="639"/>
                  <a:pt x="942" y="690"/>
                </a:cubicBezTo>
                <a:cubicBezTo>
                  <a:pt x="925" y="707"/>
                  <a:pt x="912" y="728"/>
                  <a:pt x="894" y="744"/>
                </a:cubicBezTo>
                <a:cubicBezTo>
                  <a:pt x="889" y="748"/>
                  <a:pt x="882" y="747"/>
                  <a:pt x="876" y="750"/>
                </a:cubicBezTo>
                <a:cubicBezTo>
                  <a:pt x="863" y="757"/>
                  <a:pt x="852" y="766"/>
                  <a:pt x="840" y="774"/>
                </a:cubicBezTo>
                <a:cubicBezTo>
                  <a:pt x="755" y="831"/>
                  <a:pt x="712" y="832"/>
                  <a:pt x="606" y="840"/>
                </a:cubicBezTo>
                <a:cubicBezTo>
                  <a:pt x="527" y="836"/>
                  <a:pt x="467" y="828"/>
                  <a:pt x="390" y="834"/>
                </a:cubicBezTo>
                <a:cubicBezTo>
                  <a:pt x="319" y="826"/>
                  <a:pt x="243" y="815"/>
                  <a:pt x="180" y="780"/>
                </a:cubicBezTo>
                <a:cubicBezTo>
                  <a:pt x="161" y="769"/>
                  <a:pt x="144" y="756"/>
                  <a:pt x="126" y="744"/>
                </a:cubicBezTo>
                <a:cubicBezTo>
                  <a:pt x="114" y="736"/>
                  <a:pt x="90" y="720"/>
                  <a:pt x="90" y="720"/>
                </a:cubicBezTo>
                <a:cubicBezTo>
                  <a:pt x="72" y="693"/>
                  <a:pt x="81" y="709"/>
                  <a:pt x="66" y="672"/>
                </a:cubicBezTo>
                <a:close/>
              </a:path>
            </a:pathLst>
          </a:custGeom>
          <a:solidFill>
            <a:srgbClr val="ff0000">
              <a:alpha val="50000"/>
            </a:srgbClr>
          </a:solid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3" name=""/>
          <p:cNvSpPr/>
          <p:nvPr/>
        </p:nvSpPr>
        <p:spPr>
          <a:xfrm rot="5058000">
            <a:off x="1180440" y="4076280"/>
            <a:ext cx="228600" cy="762120"/>
          </a:xfrm>
          <a:prstGeom prst="upArrow">
            <a:avLst>
              <a:gd name="adj1" fmla="val 50000"/>
              <a:gd name="adj2" fmla="val 83346"/>
            </a:avLst>
          </a:prstGeom>
          <a:solidFill>
            <a:srgbClr val="99cc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4" name=""/>
          <p:cNvSpPr/>
          <p:nvPr/>
        </p:nvSpPr>
        <p:spPr>
          <a:xfrm rot="19416600">
            <a:off x="2362320" y="1523520"/>
            <a:ext cx="228600" cy="762120"/>
          </a:xfrm>
          <a:prstGeom prst="downArrow">
            <a:avLst>
              <a:gd name="adj1" fmla="val 50000"/>
              <a:gd name="adj2" fmla="val 83346"/>
            </a:avLst>
          </a:prstGeom>
          <a:solidFill>
            <a:srgbClr val="99cc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5" name=""/>
          <p:cNvSpPr/>
          <p:nvPr/>
        </p:nvSpPr>
        <p:spPr>
          <a:xfrm>
            <a:off x="3263760" y="3306600"/>
            <a:ext cx="2030400" cy="1743120"/>
          </a:xfrm>
          <a:custGeom>
            <a:avLst/>
            <a:gdLst/>
            <a:ahLst/>
            <a:rect l="l" t="t" r="r" b="b"/>
            <a:pathLst>
              <a:path w="1279" h="1098">
                <a:moveTo>
                  <a:pt x="67" y="697"/>
                </a:moveTo>
                <a:cubicBezTo>
                  <a:pt x="79" y="732"/>
                  <a:pt x="90" y="770"/>
                  <a:pt x="121" y="790"/>
                </a:cubicBezTo>
                <a:cubicBezTo>
                  <a:pt x="138" y="816"/>
                  <a:pt x="157" y="837"/>
                  <a:pt x="174" y="864"/>
                </a:cubicBezTo>
                <a:cubicBezTo>
                  <a:pt x="201" y="906"/>
                  <a:pt x="157" y="862"/>
                  <a:pt x="194" y="904"/>
                </a:cubicBezTo>
                <a:cubicBezTo>
                  <a:pt x="272" y="994"/>
                  <a:pt x="196" y="904"/>
                  <a:pt x="248" y="951"/>
                </a:cubicBezTo>
                <a:cubicBezTo>
                  <a:pt x="260" y="961"/>
                  <a:pt x="266" y="981"/>
                  <a:pt x="281" y="985"/>
                </a:cubicBezTo>
                <a:cubicBezTo>
                  <a:pt x="317" y="995"/>
                  <a:pt x="346" y="1017"/>
                  <a:pt x="382" y="1025"/>
                </a:cubicBezTo>
                <a:cubicBezTo>
                  <a:pt x="478" y="1046"/>
                  <a:pt x="573" y="1081"/>
                  <a:pt x="670" y="1098"/>
                </a:cubicBezTo>
                <a:cubicBezTo>
                  <a:pt x="711" y="1093"/>
                  <a:pt x="745" y="1077"/>
                  <a:pt x="784" y="1072"/>
                </a:cubicBezTo>
                <a:cubicBezTo>
                  <a:pt x="831" y="1065"/>
                  <a:pt x="878" y="1066"/>
                  <a:pt x="924" y="1052"/>
                </a:cubicBezTo>
                <a:cubicBezTo>
                  <a:pt x="964" y="1040"/>
                  <a:pt x="999" y="1017"/>
                  <a:pt x="1038" y="1005"/>
                </a:cubicBezTo>
                <a:cubicBezTo>
                  <a:pt x="1081" y="962"/>
                  <a:pt x="1120" y="911"/>
                  <a:pt x="1159" y="864"/>
                </a:cubicBezTo>
                <a:cubicBezTo>
                  <a:pt x="1174" y="846"/>
                  <a:pt x="1176" y="827"/>
                  <a:pt x="1192" y="810"/>
                </a:cubicBezTo>
                <a:cubicBezTo>
                  <a:pt x="1215" y="745"/>
                  <a:pt x="1241" y="683"/>
                  <a:pt x="1259" y="616"/>
                </a:cubicBezTo>
                <a:cubicBezTo>
                  <a:pt x="1268" y="583"/>
                  <a:pt x="1279" y="516"/>
                  <a:pt x="1279" y="516"/>
                </a:cubicBezTo>
                <a:cubicBezTo>
                  <a:pt x="1273" y="478"/>
                  <a:pt x="1271" y="423"/>
                  <a:pt x="1253" y="388"/>
                </a:cubicBezTo>
                <a:cubicBezTo>
                  <a:pt x="1250" y="382"/>
                  <a:pt x="1243" y="380"/>
                  <a:pt x="1239" y="375"/>
                </a:cubicBezTo>
                <a:cubicBezTo>
                  <a:pt x="1221" y="353"/>
                  <a:pt x="1204" y="330"/>
                  <a:pt x="1186" y="308"/>
                </a:cubicBezTo>
                <a:cubicBezTo>
                  <a:pt x="1174" y="294"/>
                  <a:pt x="1156" y="283"/>
                  <a:pt x="1145" y="268"/>
                </a:cubicBezTo>
                <a:cubicBezTo>
                  <a:pt x="1109" y="221"/>
                  <a:pt x="1079" y="159"/>
                  <a:pt x="1018" y="141"/>
                </a:cubicBezTo>
                <a:cubicBezTo>
                  <a:pt x="998" y="127"/>
                  <a:pt x="981" y="122"/>
                  <a:pt x="958" y="114"/>
                </a:cubicBezTo>
                <a:cubicBezTo>
                  <a:pt x="940" y="95"/>
                  <a:pt x="925" y="99"/>
                  <a:pt x="904" y="87"/>
                </a:cubicBezTo>
                <a:cubicBezTo>
                  <a:pt x="841" y="52"/>
                  <a:pt x="888" y="65"/>
                  <a:pt x="837" y="54"/>
                </a:cubicBezTo>
                <a:cubicBezTo>
                  <a:pt x="791" y="22"/>
                  <a:pt x="707" y="15"/>
                  <a:pt x="650" y="0"/>
                </a:cubicBezTo>
                <a:cubicBezTo>
                  <a:pt x="539" y="10"/>
                  <a:pt x="466" y="43"/>
                  <a:pt x="362" y="67"/>
                </a:cubicBezTo>
                <a:cubicBezTo>
                  <a:pt x="293" y="83"/>
                  <a:pt x="161" y="109"/>
                  <a:pt x="107" y="154"/>
                </a:cubicBezTo>
                <a:cubicBezTo>
                  <a:pt x="68" y="186"/>
                  <a:pt x="72" y="236"/>
                  <a:pt x="40" y="268"/>
                </a:cubicBezTo>
                <a:cubicBezTo>
                  <a:pt x="32" y="295"/>
                  <a:pt x="23" y="321"/>
                  <a:pt x="14" y="348"/>
                </a:cubicBezTo>
                <a:cubicBezTo>
                  <a:pt x="10" y="361"/>
                  <a:pt x="0" y="388"/>
                  <a:pt x="0" y="388"/>
                </a:cubicBezTo>
                <a:cubicBezTo>
                  <a:pt x="5" y="489"/>
                  <a:pt x="7" y="517"/>
                  <a:pt x="27" y="596"/>
                </a:cubicBezTo>
                <a:cubicBezTo>
                  <a:pt x="34" y="622"/>
                  <a:pt x="36" y="675"/>
                  <a:pt x="54" y="697"/>
                </a:cubicBezTo>
                <a:cubicBezTo>
                  <a:pt x="59" y="703"/>
                  <a:pt x="66" y="710"/>
                  <a:pt x="74" y="710"/>
                </a:cubicBezTo>
                <a:cubicBezTo>
                  <a:pt x="79" y="710"/>
                  <a:pt x="69" y="701"/>
                  <a:pt x="67" y="697"/>
                </a:cubicBezTo>
                <a:close/>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6" name=""/>
          <p:cNvSpPr/>
          <p:nvPr/>
        </p:nvSpPr>
        <p:spPr>
          <a:xfrm>
            <a:off x="0" y="1143000"/>
            <a:ext cx="7765920" cy="68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argeting PTV while avoiding OR</a:t>
            </a:r>
            <a:endParaRPr b="0" lang="en-US" sz="28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946FDF91-3A1D-4972-970A-1568332917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7" name=""/>
          <p:cNvSpPr/>
          <p:nvPr/>
        </p:nvSpPr>
        <p:spPr>
          <a:xfrm>
            <a:off x="0" y="1143000"/>
            <a:ext cx="9144000" cy="5715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8" name=""/>
          <p:cNvSpPr/>
          <p:nvPr/>
        </p:nvSpPr>
        <p:spPr>
          <a:xfrm>
            <a:off x="752400" y="1581120"/>
            <a:ext cx="7632720" cy="4943520"/>
          </a:xfrm>
          <a:custGeom>
            <a:avLst/>
            <a:gdLst/>
            <a:ahLst/>
            <a:rect l="l" t="t" r="r" b="b"/>
            <a:pathLst>
              <a:path w="4808" h="3114">
                <a:moveTo>
                  <a:pt x="84" y="2700"/>
                </a:moveTo>
                <a:cubicBezTo>
                  <a:pt x="75" y="2674"/>
                  <a:pt x="59" y="2653"/>
                  <a:pt x="48" y="2628"/>
                </a:cubicBezTo>
                <a:cubicBezTo>
                  <a:pt x="43" y="2616"/>
                  <a:pt x="40" y="2604"/>
                  <a:pt x="36" y="2592"/>
                </a:cubicBezTo>
                <a:cubicBezTo>
                  <a:pt x="34" y="2586"/>
                  <a:pt x="30" y="2574"/>
                  <a:pt x="30" y="2574"/>
                </a:cubicBezTo>
                <a:cubicBezTo>
                  <a:pt x="19" y="2426"/>
                  <a:pt x="15" y="2278"/>
                  <a:pt x="0" y="2130"/>
                </a:cubicBezTo>
                <a:cubicBezTo>
                  <a:pt x="2" y="2084"/>
                  <a:pt x="3" y="2038"/>
                  <a:pt x="6" y="1992"/>
                </a:cubicBezTo>
                <a:cubicBezTo>
                  <a:pt x="8" y="1957"/>
                  <a:pt x="34" y="1860"/>
                  <a:pt x="54" y="1830"/>
                </a:cubicBezTo>
                <a:cubicBezTo>
                  <a:pt x="62" y="1818"/>
                  <a:pt x="73" y="1808"/>
                  <a:pt x="78" y="1794"/>
                </a:cubicBezTo>
                <a:cubicBezTo>
                  <a:pt x="88" y="1765"/>
                  <a:pt x="97" y="1726"/>
                  <a:pt x="126" y="1716"/>
                </a:cubicBezTo>
                <a:cubicBezTo>
                  <a:pt x="135" y="1690"/>
                  <a:pt x="147" y="1670"/>
                  <a:pt x="156" y="1644"/>
                </a:cubicBezTo>
                <a:cubicBezTo>
                  <a:pt x="153" y="1582"/>
                  <a:pt x="152" y="1507"/>
                  <a:pt x="132" y="1446"/>
                </a:cubicBezTo>
                <a:cubicBezTo>
                  <a:pt x="126" y="1402"/>
                  <a:pt x="125" y="1357"/>
                  <a:pt x="114" y="1314"/>
                </a:cubicBezTo>
                <a:cubicBezTo>
                  <a:pt x="118" y="1203"/>
                  <a:pt x="114" y="1157"/>
                  <a:pt x="144" y="1068"/>
                </a:cubicBezTo>
                <a:cubicBezTo>
                  <a:pt x="155" y="1034"/>
                  <a:pt x="161" y="998"/>
                  <a:pt x="192" y="978"/>
                </a:cubicBezTo>
                <a:cubicBezTo>
                  <a:pt x="204" y="941"/>
                  <a:pt x="231" y="895"/>
                  <a:pt x="270" y="882"/>
                </a:cubicBezTo>
                <a:cubicBezTo>
                  <a:pt x="278" y="858"/>
                  <a:pt x="294" y="852"/>
                  <a:pt x="312" y="834"/>
                </a:cubicBezTo>
                <a:cubicBezTo>
                  <a:pt x="324" y="799"/>
                  <a:pt x="356" y="779"/>
                  <a:pt x="390" y="768"/>
                </a:cubicBezTo>
                <a:cubicBezTo>
                  <a:pt x="406" y="752"/>
                  <a:pt x="417" y="729"/>
                  <a:pt x="438" y="720"/>
                </a:cubicBezTo>
                <a:cubicBezTo>
                  <a:pt x="472" y="705"/>
                  <a:pt x="469" y="715"/>
                  <a:pt x="492" y="696"/>
                </a:cubicBezTo>
                <a:cubicBezTo>
                  <a:pt x="525" y="669"/>
                  <a:pt x="577" y="620"/>
                  <a:pt x="618" y="606"/>
                </a:cubicBezTo>
                <a:cubicBezTo>
                  <a:pt x="622" y="600"/>
                  <a:pt x="625" y="593"/>
                  <a:pt x="630" y="588"/>
                </a:cubicBezTo>
                <a:cubicBezTo>
                  <a:pt x="635" y="583"/>
                  <a:pt x="643" y="581"/>
                  <a:pt x="648" y="576"/>
                </a:cubicBezTo>
                <a:cubicBezTo>
                  <a:pt x="697" y="520"/>
                  <a:pt x="650" y="555"/>
                  <a:pt x="690" y="528"/>
                </a:cubicBezTo>
                <a:cubicBezTo>
                  <a:pt x="733" y="464"/>
                  <a:pt x="666" y="561"/>
                  <a:pt x="720" y="492"/>
                </a:cubicBezTo>
                <a:cubicBezTo>
                  <a:pt x="760" y="441"/>
                  <a:pt x="766" y="418"/>
                  <a:pt x="828" y="390"/>
                </a:cubicBezTo>
                <a:cubicBezTo>
                  <a:pt x="903" y="357"/>
                  <a:pt x="825" y="404"/>
                  <a:pt x="900" y="354"/>
                </a:cubicBezTo>
                <a:cubicBezTo>
                  <a:pt x="906" y="350"/>
                  <a:pt x="918" y="342"/>
                  <a:pt x="918" y="342"/>
                </a:cubicBezTo>
                <a:cubicBezTo>
                  <a:pt x="950" y="294"/>
                  <a:pt x="985" y="277"/>
                  <a:pt x="1032" y="246"/>
                </a:cubicBezTo>
                <a:cubicBezTo>
                  <a:pt x="1102" y="200"/>
                  <a:pt x="1168" y="153"/>
                  <a:pt x="1248" y="126"/>
                </a:cubicBezTo>
                <a:cubicBezTo>
                  <a:pt x="1284" y="114"/>
                  <a:pt x="1318" y="90"/>
                  <a:pt x="1356" y="84"/>
                </a:cubicBezTo>
                <a:cubicBezTo>
                  <a:pt x="1380" y="80"/>
                  <a:pt x="1428" y="72"/>
                  <a:pt x="1428" y="72"/>
                </a:cubicBezTo>
                <a:cubicBezTo>
                  <a:pt x="1561" y="82"/>
                  <a:pt x="1667" y="103"/>
                  <a:pt x="1800" y="108"/>
                </a:cubicBezTo>
                <a:cubicBezTo>
                  <a:pt x="1950" y="146"/>
                  <a:pt x="2094" y="171"/>
                  <a:pt x="2250" y="180"/>
                </a:cubicBezTo>
                <a:cubicBezTo>
                  <a:pt x="2378" y="198"/>
                  <a:pt x="2306" y="193"/>
                  <a:pt x="2466" y="186"/>
                </a:cubicBezTo>
                <a:cubicBezTo>
                  <a:pt x="2552" y="157"/>
                  <a:pt x="2642" y="136"/>
                  <a:pt x="2730" y="114"/>
                </a:cubicBezTo>
                <a:cubicBezTo>
                  <a:pt x="2780" y="101"/>
                  <a:pt x="2825" y="72"/>
                  <a:pt x="2874" y="60"/>
                </a:cubicBezTo>
                <a:cubicBezTo>
                  <a:pt x="2971" y="36"/>
                  <a:pt x="3062" y="13"/>
                  <a:pt x="3162" y="0"/>
                </a:cubicBezTo>
                <a:cubicBezTo>
                  <a:pt x="3248" y="2"/>
                  <a:pt x="3334" y="1"/>
                  <a:pt x="3420" y="6"/>
                </a:cubicBezTo>
                <a:cubicBezTo>
                  <a:pt x="3428" y="6"/>
                  <a:pt x="3461" y="21"/>
                  <a:pt x="3474" y="24"/>
                </a:cubicBezTo>
                <a:cubicBezTo>
                  <a:pt x="3522" y="36"/>
                  <a:pt x="3567" y="53"/>
                  <a:pt x="3612" y="72"/>
                </a:cubicBezTo>
                <a:cubicBezTo>
                  <a:pt x="3642" y="85"/>
                  <a:pt x="3677" y="92"/>
                  <a:pt x="3708" y="102"/>
                </a:cubicBezTo>
                <a:cubicBezTo>
                  <a:pt x="3730" y="109"/>
                  <a:pt x="3762" y="132"/>
                  <a:pt x="3780" y="144"/>
                </a:cubicBezTo>
                <a:cubicBezTo>
                  <a:pt x="3844" y="187"/>
                  <a:pt x="3913" y="227"/>
                  <a:pt x="3978" y="270"/>
                </a:cubicBezTo>
                <a:cubicBezTo>
                  <a:pt x="4047" y="316"/>
                  <a:pt x="4125" y="350"/>
                  <a:pt x="4194" y="396"/>
                </a:cubicBezTo>
                <a:cubicBezTo>
                  <a:pt x="4228" y="419"/>
                  <a:pt x="4264" y="461"/>
                  <a:pt x="4302" y="474"/>
                </a:cubicBezTo>
                <a:cubicBezTo>
                  <a:pt x="4324" y="481"/>
                  <a:pt x="4343" y="491"/>
                  <a:pt x="4362" y="504"/>
                </a:cubicBezTo>
                <a:cubicBezTo>
                  <a:pt x="4385" y="538"/>
                  <a:pt x="4429" y="571"/>
                  <a:pt x="4464" y="594"/>
                </a:cubicBezTo>
                <a:cubicBezTo>
                  <a:pt x="4492" y="636"/>
                  <a:pt x="4476" y="622"/>
                  <a:pt x="4506" y="642"/>
                </a:cubicBezTo>
                <a:cubicBezTo>
                  <a:pt x="4549" y="706"/>
                  <a:pt x="4482" y="609"/>
                  <a:pt x="4536" y="678"/>
                </a:cubicBezTo>
                <a:cubicBezTo>
                  <a:pt x="4561" y="711"/>
                  <a:pt x="4578" y="750"/>
                  <a:pt x="4596" y="786"/>
                </a:cubicBezTo>
                <a:cubicBezTo>
                  <a:pt x="4605" y="804"/>
                  <a:pt x="4618" y="821"/>
                  <a:pt x="4626" y="840"/>
                </a:cubicBezTo>
                <a:cubicBezTo>
                  <a:pt x="4631" y="852"/>
                  <a:pt x="4638" y="876"/>
                  <a:pt x="4638" y="876"/>
                </a:cubicBezTo>
                <a:cubicBezTo>
                  <a:pt x="4640" y="934"/>
                  <a:pt x="4639" y="992"/>
                  <a:pt x="4644" y="1050"/>
                </a:cubicBezTo>
                <a:cubicBezTo>
                  <a:pt x="4645" y="1066"/>
                  <a:pt x="4651" y="1082"/>
                  <a:pt x="4656" y="1098"/>
                </a:cubicBezTo>
                <a:cubicBezTo>
                  <a:pt x="4660" y="1110"/>
                  <a:pt x="4668" y="1134"/>
                  <a:pt x="4668" y="1134"/>
                </a:cubicBezTo>
                <a:cubicBezTo>
                  <a:pt x="4673" y="1209"/>
                  <a:pt x="4686" y="1277"/>
                  <a:pt x="4704" y="1350"/>
                </a:cubicBezTo>
                <a:cubicBezTo>
                  <a:pt x="4706" y="1392"/>
                  <a:pt x="4705" y="1434"/>
                  <a:pt x="4710" y="1476"/>
                </a:cubicBezTo>
                <a:cubicBezTo>
                  <a:pt x="4715" y="1524"/>
                  <a:pt x="4720" y="1499"/>
                  <a:pt x="4734" y="1530"/>
                </a:cubicBezTo>
                <a:cubicBezTo>
                  <a:pt x="4755" y="1577"/>
                  <a:pt x="4778" y="1626"/>
                  <a:pt x="4794" y="1674"/>
                </a:cubicBezTo>
                <a:cubicBezTo>
                  <a:pt x="4800" y="1791"/>
                  <a:pt x="4808" y="1887"/>
                  <a:pt x="4794" y="2010"/>
                </a:cubicBezTo>
                <a:cubicBezTo>
                  <a:pt x="4792" y="2024"/>
                  <a:pt x="4778" y="2034"/>
                  <a:pt x="4770" y="2046"/>
                </a:cubicBezTo>
                <a:cubicBezTo>
                  <a:pt x="4763" y="2057"/>
                  <a:pt x="4762" y="2070"/>
                  <a:pt x="4758" y="2082"/>
                </a:cubicBezTo>
                <a:cubicBezTo>
                  <a:pt x="4732" y="2160"/>
                  <a:pt x="4702" y="2235"/>
                  <a:pt x="4686" y="2316"/>
                </a:cubicBezTo>
                <a:cubicBezTo>
                  <a:pt x="4679" y="2416"/>
                  <a:pt x="4664" y="2465"/>
                  <a:pt x="4626" y="2550"/>
                </a:cubicBezTo>
                <a:cubicBezTo>
                  <a:pt x="4618" y="2567"/>
                  <a:pt x="4621" y="2591"/>
                  <a:pt x="4608" y="2604"/>
                </a:cubicBezTo>
                <a:cubicBezTo>
                  <a:pt x="4586" y="2626"/>
                  <a:pt x="4573" y="2656"/>
                  <a:pt x="4548" y="2676"/>
                </a:cubicBezTo>
                <a:cubicBezTo>
                  <a:pt x="4537" y="2685"/>
                  <a:pt x="4522" y="2690"/>
                  <a:pt x="4512" y="2700"/>
                </a:cubicBezTo>
                <a:cubicBezTo>
                  <a:pt x="4481" y="2731"/>
                  <a:pt x="4458" y="2746"/>
                  <a:pt x="4422" y="2766"/>
                </a:cubicBezTo>
                <a:cubicBezTo>
                  <a:pt x="4411" y="2772"/>
                  <a:pt x="4387" y="2795"/>
                  <a:pt x="4368" y="2796"/>
                </a:cubicBezTo>
                <a:cubicBezTo>
                  <a:pt x="4314" y="2800"/>
                  <a:pt x="4260" y="2800"/>
                  <a:pt x="4206" y="2802"/>
                </a:cubicBezTo>
                <a:cubicBezTo>
                  <a:pt x="4171" y="2808"/>
                  <a:pt x="4140" y="2812"/>
                  <a:pt x="4110" y="2832"/>
                </a:cubicBezTo>
                <a:cubicBezTo>
                  <a:pt x="4096" y="2853"/>
                  <a:pt x="4086" y="2866"/>
                  <a:pt x="4062" y="2874"/>
                </a:cubicBezTo>
                <a:cubicBezTo>
                  <a:pt x="4013" y="2947"/>
                  <a:pt x="3911" y="3000"/>
                  <a:pt x="3828" y="3018"/>
                </a:cubicBezTo>
                <a:cubicBezTo>
                  <a:pt x="3801" y="3024"/>
                  <a:pt x="3779" y="3047"/>
                  <a:pt x="3750" y="3048"/>
                </a:cubicBezTo>
                <a:cubicBezTo>
                  <a:pt x="3676" y="3052"/>
                  <a:pt x="3602" y="3053"/>
                  <a:pt x="3528" y="3054"/>
                </a:cubicBezTo>
                <a:cubicBezTo>
                  <a:pt x="3388" y="3057"/>
                  <a:pt x="3248" y="3058"/>
                  <a:pt x="3108" y="3060"/>
                </a:cubicBezTo>
                <a:cubicBezTo>
                  <a:pt x="2820" y="3079"/>
                  <a:pt x="2984" y="3071"/>
                  <a:pt x="2616" y="3078"/>
                </a:cubicBezTo>
                <a:cubicBezTo>
                  <a:pt x="2372" y="3067"/>
                  <a:pt x="2129" y="3079"/>
                  <a:pt x="1884" y="3084"/>
                </a:cubicBezTo>
                <a:cubicBezTo>
                  <a:pt x="1793" y="3114"/>
                  <a:pt x="1692" y="3088"/>
                  <a:pt x="1596" y="3102"/>
                </a:cubicBezTo>
                <a:cubicBezTo>
                  <a:pt x="1402" y="3098"/>
                  <a:pt x="1314" y="3089"/>
                  <a:pt x="1152" y="3078"/>
                </a:cubicBezTo>
                <a:cubicBezTo>
                  <a:pt x="1072" y="3051"/>
                  <a:pt x="961" y="3075"/>
                  <a:pt x="882" y="3078"/>
                </a:cubicBezTo>
                <a:cubicBezTo>
                  <a:pt x="767" y="3097"/>
                  <a:pt x="834" y="3089"/>
                  <a:pt x="678" y="3096"/>
                </a:cubicBezTo>
                <a:cubicBezTo>
                  <a:pt x="630" y="3090"/>
                  <a:pt x="567" y="3088"/>
                  <a:pt x="522" y="3066"/>
                </a:cubicBezTo>
                <a:cubicBezTo>
                  <a:pt x="485" y="3048"/>
                  <a:pt x="453" y="3019"/>
                  <a:pt x="414" y="3006"/>
                </a:cubicBezTo>
                <a:cubicBezTo>
                  <a:pt x="408" y="3000"/>
                  <a:pt x="403" y="2993"/>
                  <a:pt x="396" y="2988"/>
                </a:cubicBezTo>
                <a:cubicBezTo>
                  <a:pt x="385" y="2979"/>
                  <a:pt x="360" y="2964"/>
                  <a:pt x="360" y="2964"/>
                </a:cubicBezTo>
                <a:cubicBezTo>
                  <a:pt x="346" y="2942"/>
                  <a:pt x="333" y="2942"/>
                  <a:pt x="312" y="2928"/>
                </a:cubicBezTo>
                <a:cubicBezTo>
                  <a:pt x="296" y="2904"/>
                  <a:pt x="276" y="2878"/>
                  <a:pt x="252" y="2862"/>
                </a:cubicBezTo>
                <a:cubicBezTo>
                  <a:pt x="239" y="2842"/>
                  <a:pt x="203" y="2789"/>
                  <a:pt x="186" y="2778"/>
                </a:cubicBezTo>
                <a:cubicBezTo>
                  <a:pt x="170" y="2768"/>
                  <a:pt x="150" y="2766"/>
                  <a:pt x="132" y="2760"/>
                </a:cubicBezTo>
                <a:cubicBezTo>
                  <a:pt x="126" y="2758"/>
                  <a:pt x="114" y="2754"/>
                  <a:pt x="114" y="2754"/>
                </a:cubicBezTo>
                <a:cubicBezTo>
                  <a:pt x="108" y="2746"/>
                  <a:pt x="100" y="2739"/>
                  <a:pt x="96" y="2730"/>
                </a:cubicBezTo>
                <a:cubicBezTo>
                  <a:pt x="83" y="2705"/>
                  <a:pt x="84" y="2679"/>
                  <a:pt x="84" y="2700"/>
                </a:cubicBezTo>
                <a:close/>
              </a:path>
            </a:pathLst>
          </a:custGeom>
          <a:noFill/>
          <a:ln w="572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9" name=""/>
          <p:cNvSpPr/>
          <p:nvPr/>
        </p:nvSpPr>
        <p:spPr>
          <a:xfrm>
            <a:off x="3495600" y="3514680"/>
            <a:ext cx="1648080" cy="1333440"/>
          </a:xfrm>
          <a:custGeom>
            <a:avLst/>
            <a:gdLst/>
            <a:ahLst/>
            <a:rect l="l" t="t" r="r" b="b"/>
            <a:pathLst>
              <a:path w="1038" h="840">
                <a:moveTo>
                  <a:pt x="66" y="672"/>
                </a:moveTo>
                <a:cubicBezTo>
                  <a:pt x="52" y="629"/>
                  <a:pt x="65" y="643"/>
                  <a:pt x="36" y="624"/>
                </a:cubicBezTo>
                <a:cubicBezTo>
                  <a:pt x="29" y="602"/>
                  <a:pt x="19" y="586"/>
                  <a:pt x="12" y="564"/>
                </a:cubicBezTo>
                <a:cubicBezTo>
                  <a:pt x="8" y="552"/>
                  <a:pt x="0" y="528"/>
                  <a:pt x="0" y="528"/>
                </a:cubicBezTo>
                <a:cubicBezTo>
                  <a:pt x="2" y="456"/>
                  <a:pt x="1" y="233"/>
                  <a:pt x="72" y="162"/>
                </a:cubicBezTo>
                <a:cubicBezTo>
                  <a:pt x="84" y="125"/>
                  <a:pt x="112" y="99"/>
                  <a:pt x="144" y="78"/>
                </a:cubicBezTo>
                <a:cubicBezTo>
                  <a:pt x="170" y="39"/>
                  <a:pt x="205" y="32"/>
                  <a:pt x="246" y="18"/>
                </a:cubicBezTo>
                <a:cubicBezTo>
                  <a:pt x="258" y="14"/>
                  <a:pt x="270" y="10"/>
                  <a:pt x="282" y="6"/>
                </a:cubicBezTo>
                <a:cubicBezTo>
                  <a:pt x="288" y="4"/>
                  <a:pt x="300" y="0"/>
                  <a:pt x="300" y="0"/>
                </a:cubicBezTo>
                <a:cubicBezTo>
                  <a:pt x="468" y="5"/>
                  <a:pt x="558" y="10"/>
                  <a:pt x="708" y="60"/>
                </a:cubicBezTo>
                <a:cubicBezTo>
                  <a:pt x="733" y="68"/>
                  <a:pt x="756" y="85"/>
                  <a:pt x="780" y="96"/>
                </a:cubicBezTo>
                <a:cubicBezTo>
                  <a:pt x="802" y="106"/>
                  <a:pt x="829" y="112"/>
                  <a:pt x="852" y="120"/>
                </a:cubicBezTo>
                <a:cubicBezTo>
                  <a:pt x="884" y="131"/>
                  <a:pt x="865" y="122"/>
                  <a:pt x="906" y="150"/>
                </a:cubicBezTo>
                <a:cubicBezTo>
                  <a:pt x="912" y="154"/>
                  <a:pt x="924" y="162"/>
                  <a:pt x="924" y="162"/>
                </a:cubicBezTo>
                <a:cubicBezTo>
                  <a:pt x="952" y="204"/>
                  <a:pt x="936" y="190"/>
                  <a:pt x="966" y="210"/>
                </a:cubicBezTo>
                <a:cubicBezTo>
                  <a:pt x="986" y="269"/>
                  <a:pt x="1023" y="316"/>
                  <a:pt x="1038" y="378"/>
                </a:cubicBezTo>
                <a:cubicBezTo>
                  <a:pt x="1034" y="436"/>
                  <a:pt x="1025" y="473"/>
                  <a:pt x="1032" y="528"/>
                </a:cubicBezTo>
                <a:cubicBezTo>
                  <a:pt x="1026" y="564"/>
                  <a:pt x="1013" y="584"/>
                  <a:pt x="1002" y="618"/>
                </a:cubicBezTo>
                <a:cubicBezTo>
                  <a:pt x="997" y="634"/>
                  <a:pt x="993" y="660"/>
                  <a:pt x="978" y="672"/>
                </a:cubicBezTo>
                <a:cubicBezTo>
                  <a:pt x="929" y="711"/>
                  <a:pt x="993" y="639"/>
                  <a:pt x="942" y="690"/>
                </a:cubicBezTo>
                <a:cubicBezTo>
                  <a:pt x="925" y="707"/>
                  <a:pt x="912" y="728"/>
                  <a:pt x="894" y="744"/>
                </a:cubicBezTo>
                <a:cubicBezTo>
                  <a:pt x="889" y="748"/>
                  <a:pt x="882" y="747"/>
                  <a:pt x="876" y="750"/>
                </a:cubicBezTo>
                <a:cubicBezTo>
                  <a:pt x="863" y="757"/>
                  <a:pt x="852" y="766"/>
                  <a:pt x="840" y="774"/>
                </a:cubicBezTo>
                <a:cubicBezTo>
                  <a:pt x="755" y="831"/>
                  <a:pt x="712" y="832"/>
                  <a:pt x="606" y="840"/>
                </a:cubicBezTo>
                <a:cubicBezTo>
                  <a:pt x="527" y="836"/>
                  <a:pt x="467" y="828"/>
                  <a:pt x="390" y="834"/>
                </a:cubicBezTo>
                <a:cubicBezTo>
                  <a:pt x="319" y="826"/>
                  <a:pt x="243" y="815"/>
                  <a:pt x="180" y="780"/>
                </a:cubicBezTo>
                <a:cubicBezTo>
                  <a:pt x="161" y="769"/>
                  <a:pt x="144" y="756"/>
                  <a:pt x="126" y="744"/>
                </a:cubicBezTo>
                <a:cubicBezTo>
                  <a:pt x="114" y="736"/>
                  <a:pt x="90" y="720"/>
                  <a:pt x="90" y="720"/>
                </a:cubicBezTo>
                <a:cubicBezTo>
                  <a:pt x="72" y="693"/>
                  <a:pt x="81" y="709"/>
                  <a:pt x="66" y="672"/>
                </a:cubicBezTo>
                <a:close/>
              </a:path>
            </a:pathLst>
          </a:custGeom>
          <a:solidFill>
            <a:srgbClr val="ff0000">
              <a:alpha val="50000"/>
            </a:srgbClr>
          </a:solid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0" name=""/>
          <p:cNvSpPr/>
          <p:nvPr/>
        </p:nvSpPr>
        <p:spPr>
          <a:xfrm>
            <a:off x="5081760" y="2390760"/>
            <a:ext cx="2004840" cy="3343320"/>
          </a:xfrm>
          <a:custGeom>
            <a:avLst/>
            <a:gdLst/>
            <a:ahLst/>
            <a:rect l="l" t="t" r="r" b="b"/>
            <a:pathLst>
              <a:path w="1263" h="2106">
                <a:moveTo>
                  <a:pt x="123" y="1818"/>
                </a:moveTo>
                <a:cubicBezTo>
                  <a:pt x="163" y="1810"/>
                  <a:pt x="190" y="1794"/>
                  <a:pt x="225" y="1776"/>
                </a:cubicBezTo>
                <a:cubicBezTo>
                  <a:pt x="243" y="1767"/>
                  <a:pt x="279" y="1746"/>
                  <a:pt x="279" y="1746"/>
                </a:cubicBezTo>
                <a:cubicBezTo>
                  <a:pt x="292" y="1706"/>
                  <a:pt x="309" y="1674"/>
                  <a:pt x="333" y="1638"/>
                </a:cubicBezTo>
                <a:cubicBezTo>
                  <a:pt x="345" y="1619"/>
                  <a:pt x="331" y="1618"/>
                  <a:pt x="351" y="1602"/>
                </a:cubicBezTo>
                <a:cubicBezTo>
                  <a:pt x="356" y="1598"/>
                  <a:pt x="363" y="1599"/>
                  <a:pt x="369" y="1596"/>
                </a:cubicBezTo>
                <a:cubicBezTo>
                  <a:pt x="386" y="1588"/>
                  <a:pt x="392" y="1579"/>
                  <a:pt x="405" y="1566"/>
                </a:cubicBezTo>
                <a:cubicBezTo>
                  <a:pt x="424" y="1509"/>
                  <a:pt x="406" y="1518"/>
                  <a:pt x="459" y="1500"/>
                </a:cubicBezTo>
                <a:cubicBezTo>
                  <a:pt x="465" y="1498"/>
                  <a:pt x="472" y="1498"/>
                  <a:pt x="477" y="1494"/>
                </a:cubicBezTo>
                <a:cubicBezTo>
                  <a:pt x="486" y="1488"/>
                  <a:pt x="517" y="1467"/>
                  <a:pt x="531" y="1458"/>
                </a:cubicBezTo>
                <a:cubicBezTo>
                  <a:pt x="537" y="1454"/>
                  <a:pt x="549" y="1446"/>
                  <a:pt x="549" y="1446"/>
                </a:cubicBezTo>
                <a:cubicBezTo>
                  <a:pt x="553" y="1440"/>
                  <a:pt x="556" y="1433"/>
                  <a:pt x="561" y="1428"/>
                </a:cubicBezTo>
                <a:cubicBezTo>
                  <a:pt x="566" y="1423"/>
                  <a:pt x="578" y="1423"/>
                  <a:pt x="579" y="1416"/>
                </a:cubicBezTo>
                <a:cubicBezTo>
                  <a:pt x="587" y="1350"/>
                  <a:pt x="565" y="1301"/>
                  <a:pt x="513" y="1266"/>
                </a:cubicBezTo>
                <a:cubicBezTo>
                  <a:pt x="502" y="1233"/>
                  <a:pt x="493" y="1224"/>
                  <a:pt x="507" y="1188"/>
                </a:cubicBezTo>
                <a:cubicBezTo>
                  <a:pt x="512" y="1175"/>
                  <a:pt x="523" y="1164"/>
                  <a:pt x="531" y="1152"/>
                </a:cubicBezTo>
                <a:cubicBezTo>
                  <a:pt x="538" y="1141"/>
                  <a:pt x="567" y="1140"/>
                  <a:pt x="567" y="1140"/>
                </a:cubicBezTo>
                <a:cubicBezTo>
                  <a:pt x="594" y="1100"/>
                  <a:pt x="588" y="1098"/>
                  <a:pt x="621" y="1080"/>
                </a:cubicBezTo>
                <a:cubicBezTo>
                  <a:pt x="634" y="1073"/>
                  <a:pt x="657" y="1056"/>
                  <a:pt x="657" y="1056"/>
                </a:cubicBezTo>
                <a:cubicBezTo>
                  <a:pt x="661" y="1045"/>
                  <a:pt x="673" y="1026"/>
                  <a:pt x="645" y="1026"/>
                </a:cubicBezTo>
                <a:cubicBezTo>
                  <a:pt x="627" y="1026"/>
                  <a:pt x="542" y="1051"/>
                  <a:pt x="525" y="1062"/>
                </a:cubicBezTo>
                <a:cubicBezTo>
                  <a:pt x="513" y="1070"/>
                  <a:pt x="489" y="1086"/>
                  <a:pt x="489" y="1086"/>
                </a:cubicBezTo>
                <a:cubicBezTo>
                  <a:pt x="461" y="1127"/>
                  <a:pt x="479" y="1127"/>
                  <a:pt x="447" y="1116"/>
                </a:cubicBezTo>
                <a:cubicBezTo>
                  <a:pt x="431" y="1091"/>
                  <a:pt x="426" y="1066"/>
                  <a:pt x="417" y="1038"/>
                </a:cubicBezTo>
                <a:cubicBezTo>
                  <a:pt x="419" y="1012"/>
                  <a:pt x="419" y="986"/>
                  <a:pt x="423" y="960"/>
                </a:cubicBezTo>
                <a:cubicBezTo>
                  <a:pt x="429" y="922"/>
                  <a:pt x="451" y="884"/>
                  <a:pt x="459" y="846"/>
                </a:cubicBezTo>
                <a:cubicBezTo>
                  <a:pt x="471" y="791"/>
                  <a:pt x="473" y="733"/>
                  <a:pt x="477" y="678"/>
                </a:cubicBezTo>
                <a:cubicBezTo>
                  <a:pt x="475" y="616"/>
                  <a:pt x="475" y="554"/>
                  <a:pt x="471" y="492"/>
                </a:cubicBezTo>
                <a:cubicBezTo>
                  <a:pt x="470" y="470"/>
                  <a:pt x="447" y="457"/>
                  <a:pt x="441" y="438"/>
                </a:cubicBezTo>
                <a:cubicBezTo>
                  <a:pt x="419" y="372"/>
                  <a:pt x="355" y="285"/>
                  <a:pt x="297" y="246"/>
                </a:cubicBezTo>
                <a:cubicBezTo>
                  <a:pt x="235" y="205"/>
                  <a:pt x="169" y="173"/>
                  <a:pt x="99" y="150"/>
                </a:cubicBezTo>
                <a:cubicBezTo>
                  <a:pt x="87" y="146"/>
                  <a:pt x="75" y="141"/>
                  <a:pt x="63" y="138"/>
                </a:cubicBezTo>
                <a:cubicBezTo>
                  <a:pt x="47" y="134"/>
                  <a:pt x="15" y="126"/>
                  <a:pt x="15" y="126"/>
                </a:cubicBezTo>
                <a:cubicBezTo>
                  <a:pt x="0" y="82"/>
                  <a:pt x="34" y="84"/>
                  <a:pt x="69" y="72"/>
                </a:cubicBezTo>
                <a:cubicBezTo>
                  <a:pt x="148" y="46"/>
                  <a:pt x="201" y="25"/>
                  <a:pt x="285" y="18"/>
                </a:cubicBezTo>
                <a:cubicBezTo>
                  <a:pt x="309" y="12"/>
                  <a:pt x="332" y="5"/>
                  <a:pt x="357" y="0"/>
                </a:cubicBezTo>
                <a:cubicBezTo>
                  <a:pt x="410" y="4"/>
                  <a:pt x="454" y="13"/>
                  <a:pt x="507" y="18"/>
                </a:cubicBezTo>
                <a:cubicBezTo>
                  <a:pt x="559" y="35"/>
                  <a:pt x="611" y="49"/>
                  <a:pt x="663" y="66"/>
                </a:cubicBezTo>
                <a:cubicBezTo>
                  <a:pt x="677" y="71"/>
                  <a:pt x="685" y="87"/>
                  <a:pt x="699" y="90"/>
                </a:cubicBezTo>
                <a:cubicBezTo>
                  <a:pt x="723" y="96"/>
                  <a:pt x="739" y="100"/>
                  <a:pt x="759" y="114"/>
                </a:cubicBezTo>
                <a:cubicBezTo>
                  <a:pt x="793" y="166"/>
                  <a:pt x="748" y="105"/>
                  <a:pt x="789" y="138"/>
                </a:cubicBezTo>
                <a:cubicBezTo>
                  <a:pt x="795" y="143"/>
                  <a:pt x="796" y="151"/>
                  <a:pt x="801" y="156"/>
                </a:cubicBezTo>
                <a:cubicBezTo>
                  <a:pt x="806" y="161"/>
                  <a:pt x="813" y="164"/>
                  <a:pt x="819" y="168"/>
                </a:cubicBezTo>
                <a:cubicBezTo>
                  <a:pt x="838" y="197"/>
                  <a:pt x="874" y="203"/>
                  <a:pt x="903" y="222"/>
                </a:cubicBezTo>
                <a:cubicBezTo>
                  <a:pt x="914" y="256"/>
                  <a:pt x="936" y="261"/>
                  <a:pt x="957" y="288"/>
                </a:cubicBezTo>
                <a:cubicBezTo>
                  <a:pt x="988" y="328"/>
                  <a:pt x="1010" y="380"/>
                  <a:pt x="1053" y="408"/>
                </a:cubicBezTo>
                <a:cubicBezTo>
                  <a:pt x="1066" y="447"/>
                  <a:pt x="1096" y="482"/>
                  <a:pt x="1119" y="516"/>
                </a:cubicBezTo>
                <a:cubicBezTo>
                  <a:pt x="1141" y="549"/>
                  <a:pt x="1154" y="589"/>
                  <a:pt x="1173" y="624"/>
                </a:cubicBezTo>
                <a:cubicBezTo>
                  <a:pt x="1188" y="651"/>
                  <a:pt x="1206" y="668"/>
                  <a:pt x="1215" y="696"/>
                </a:cubicBezTo>
                <a:cubicBezTo>
                  <a:pt x="1221" y="757"/>
                  <a:pt x="1232" y="818"/>
                  <a:pt x="1251" y="876"/>
                </a:cubicBezTo>
                <a:cubicBezTo>
                  <a:pt x="1259" y="899"/>
                  <a:pt x="1263" y="948"/>
                  <a:pt x="1263" y="948"/>
                </a:cubicBezTo>
                <a:cubicBezTo>
                  <a:pt x="1254" y="1040"/>
                  <a:pt x="1261" y="1143"/>
                  <a:pt x="1239" y="1230"/>
                </a:cubicBezTo>
                <a:cubicBezTo>
                  <a:pt x="1230" y="1340"/>
                  <a:pt x="1187" y="1442"/>
                  <a:pt x="1143" y="1542"/>
                </a:cubicBezTo>
                <a:cubicBezTo>
                  <a:pt x="1124" y="1584"/>
                  <a:pt x="1120" y="1612"/>
                  <a:pt x="1095" y="1650"/>
                </a:cubicBezTo>
                <a:cubicBezTo>
                  <a:pt x="1072" y="1685"/>
                  <a:pt x="1058" y="1728"/>
                  <a:pt x="1023" y="1752"/>
                </a:cubicBezTo>
                <a:cubicBezTo>
                  <a:pt x="1016" y="1763"/>
                  <a:pt x="975" y="1834"/>
                  <a:pt x="963" y="1842"/>
                </a:cubicBezTo>
                <a:cubicBezTo>
                  <a:pt x="933" y="1862"/>
                  <a:pt x="894" y="1883"/>
                  <a:pt x="873" y="1914"/>
                </a:cubicBezTo>
                <a:cubicBezTo>
                  <a:pt x="865" y="1926"/>
                  <a:pt x="857" y="1938"/>
                  <a:pt x="849" y="1950"/>
                </a:cubicBezTo>
                <a:cubicBezTo>
                  <a:pt x="845" y="1956"/>
                  <a:pt x="844" y="1966"/>
                  <a:pt x="837" y="1968"/>
                </a:cubicBezTo>
                <a:cubicBezTo>
                  <a:pt x="806" y="1978"/>
                  <a:pt x="776" y="1996"/>
                  <a:pt x="747" y="2010"/>
                </a:cubicBezTo>
                <a:cubicBezTo>
                  <a:pt x="705" y="2031"/>
                  <a:pt x="661" y="2056"/>
                  <a:pt x="621" y="2082"/>
                </a:cubicBezTo>
                <a:cubicBezTo>
                  <a:pt x="605" y="2093"/>
                  <a:pt x="567" y="2106"/>
                  <a:pt x="567" y="2106"/>
                </a:cubicBezTo>
                <a:cubicBezTo>
                  <a:pt x="515" y="2104"/>
                  <a:pt x="463" y="2105"/>
                  <a:pt x="411" y="2100"/>
                </a:cubicBezTo>
                <a:cubicBezTo>
                  <a:pt x="364" y="2096"/>
                  <a:pt x="341" y="2065"/>
                  <a:pt x="303" y="2052"/>
                </a:cubicBezTo>
                <a:cubicBezTo>
                  <a:pt x="267" y="2040"/>
                  <a:pt x="256" y="2032"/>
                  <a:pt x="225" y="2010"/>
                </a:cubicBezTo>
                <a:cubicBezTo>
                  <a:pt x="213" y="2002"/>
                  <a:pt x="201" y="1994"/>
                  <a:pt x="189" y="1986"/>
                </a:cubicBezTo>
                <a:cubicBezTo>
                  <a:pt x="183" y="1982"/>
                  <a:pt x="171" y="1974"/>
                  <a:pt x="171" y="1974"/>
                </a:cubicBezTo>
                <a:cubicBezTo>
                  <a:pt x="139" y="1926"/>
                  <a:pt x="181" y="1984"/>
                  <a:pt x="141" y="1944"/>
                </a:cubicBezTo>
                <a:cubicBezTo>
                  <a:pt x="106" y="1909"/>
                  <a:pt x="119" y="1861"/>
                  <a:pt x="123" y="1818"/>
                </a:cubicBezTo>
                <a:close/>
              </a:path>
            </a:pathLst>
          </a:custGeom>
          <a:solidFill>
            <a:srgbClr val="00ff00">
              <a:alpha val="50000"/>
            </a:srgbClr>
          </a:solidFill>
          <a:ln w="57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1" name=""/>
          <p:cNvSpPr/>
          <p:nvPr/>
        </p:nvSpPr>
        <p:spPr>
          <a:xfrm>
            <a:off x="2295360" y="2495520"/>
            <a:ext cx="2381400" cy="3267000"/>
          </a:xfrm>
          <a:custGeom>
            <a:avLst/>
            <a:gdLst/>
            <a:ahLst/>
            <a:rect l="l" t="t" r="r" b="b"/>
            <a:pathLst>
              <a:path w="1500" h="2058">
                <a:moveTo>
                  <a:pt x="1392" y="1518"/>
                </a:moveTo>
                <a:cubicBezTo>
                  <a:pt x="1369" y="1541"/>
                  <a:pt x="1367" y="1567"/>
                  <a:pt x="1344" y="1590"/>
                </a:cubicBezTo>
                <a:cubicBezTo>
                  <a:pt x="1333" y="1645"/>
                  <a:pt x="1306" y="1695"/>
                  <a:pt x="1284" y="1746"/>
                </a:cubicBezTo>
                <a:cubicBezTo>
                  <a:pt x="1269" y="1780"/>
                  <a:pt x="1262" y="1829"/>
                  <a:pt x="1224" y="1842"/>
                </a:cubicBezTo>
                <a:cubicBezTo>
                  <a:pt x="1154" y="1912"/>
                  <a:pt x="1074" y="1970"/>
                  <a:pt x="984" y="2010"/>
                </a:cubicBezTo>
                <a:cubicBezTo>
                  <a:pt x="956" y="2023"/>
                  <a:pt x="923" y="2036"/>
                  <a:pt x="894" y="2046"/>
                </a:cubicBezTo>
                <a:cubicBezTo>
                  <a:pt x="882" y="2050"/>
                  <a:pt x="858" y="2058"/>
                  <a:pt x="858" y="2058"/>
                </a:cubicBezTo>
                <a:cubicBezTo>
                  <a:pt x="804" y="2056"/>
                  <a:pt x="750" y="2057"/>
                  <a:pt x="696" y="2052"/>
                </a:cubicBezTo>
                <a:cubicBezTo>
                  <a:pt x="689" y="2051"/>
                  <a:pt x="685" y="2043"/>
                  <a:pt x="678" y="2040"/>
                </a:cubicBezTo>
                <a:cubicBezTo>
                  <a:pt x="652" y="2029"/>
                  <a:pt x="622" y="2028"/>
                  <a:pt x="594" y="2022"/>
                </a:cubicBezTo>
                <a:cubicBezTo>
                  <a:pt x="577" y="2019"/>
                  <a:pt x="555" y="2006"/>
                  <a:pt x="540" y="1998"/>
                </a:cubicBezTo>
                <a:cubicBezTo>
                  <a:pt x="527" y="1991"/>
                  <a:pt x="504" y="1974"/>
                  <a:pt x="504" y="1974"/>
                </a:cubicBezTo>
                <a:cubicBezTo>
                  <a:pt x="496" y="1962"/>
                  <a:pt x="488" y="1950"/>
                  <a:pt x="480" y="1938"/>
                </a:cubicBezTo>
                <a:cubicBezTo>
                  <a:pt x="476" y="1933"/>
                  <a:pt x="468" y="1935"/>
                  <a:pt x="462" y="1932"/>
                </a:cubicBezTo>
                <a:cubicBezTo>
                  <a:pt x="449" y="1925"/>
                  <a:pt x="436" y="1918"/>
                  <a:pt x="426" y="1908"/>
                </a:cubicBezTo>
                <a:cubicBezTo>
                  <a:pt x="409" y="1891"/>
                  <a:pt x="398" y="1874"/>
                  <a:pt x="378" y="1860"/>
                </a:cubicBezTo>
                <a:cubicBezTo>
                  <a:pt x="363" y="1838"/>
                  <a:pt x="340" y="1815"/>
                  <a:pt x="318" y="1800"/>
                </a:cubicBezTo>
                <a:cubicBezTo>
                  <a:pt x="309" y="1787"/>
                  <a:pt x="297" y="1777"/>
                  <a:pt x="288" y="1764"/>
                </a:cubicBezTo>
                <a:cubicBezTo>
                  <a:pt x="284" y="1759"/>
                  <a:pt x="286" y="1751"/>
                  <a:pt x="282" y="1746"/>
                </a:cubicBezTo>
                <a:cubicBezTo>
                  <a:pt x="270" y="1728"/>
                  <a:pt x="251" y="1710"/>
                  <a:pt x="234" y="1698"/>
                </a:cubicBezTo>
                <a:cubicBezTo>
                  <a:pt x="230" y="1692"/>
                  <a:pt x="227" y="1685"/>
                  <a:pt x="222" y="1680"/>
                </a:cubicBezTo>
                <a:cubicBezTo>
                  <a:pt x="217" y="1675"/>
                  <a:pt x="209" y="1674"/>
                  <a:pt x="204" y="1668"/>
                </a:cubicBezTo>
                <a:cubicBezTo>
                  <a:pt x="200" y="1663"/>
                  <a:pt x="202" y="1655"/>
                  <a:pt x="198" y="1650"/>
                </a:cubicBezTo>
                <a:cubicBezTo>
                  <a:pt x="193" y="1643"/>
                  <a:pt x="186" y="1638"/>
                  <a:pt x="180" y="1632"/>
                </a:cubicBezTo>
                <a:cubicBezTo>
                  <a:pt x="172" y="1608"/>
                  <a:pt x="159" y="1598"/>
                  <a:pt x="138" y="1584"/>
                </a:cubicBezTo>
                <a:cubicBezTo>
                  <a:pt x="105" y="1535"/>
                  <a:pt x="105" y="1471"/>
                  <a:pt x="72" y="1422"/>
                </a:cubicBezTo>
                <a:cubicBezTo>
                  <a:pt x="52" y="1343"/>
                  <a:pt x="20" y="1267"/>
                  <a:pt x="0" y="1188"/>
                </a:cubicBezTo>
                <a:cubicBezTo>
                  <a:pt x="2" y="1064"/>
                  <a:pt x="2" y="940"/>
                  <a:pt x="6" y="816"/>
                </a:cubicBezTo>
                <a:cubicBezTo>
                  <a:pt x="9" y="708"/>
                  <a:pt x="91" y="533"/>
                  <a:pt x="144" y="438"/>
                </a:cubicBezTo>
                <a:cubicBezTo>
                  <a:pt x="167" y="397"/>
                  <a:pt x="195" y="345"/>
                  <a:pt x="228" y="312"/>
                </a:cubicBezTo>
                <a:cubicBezTo>
                  <a:pt x="256" y="284"/>
                  <a:pt x="289" y="260"/>
                  <a:pt x="318" y="234"/>
                </a:cubicBezTo>
                <a:cubicBezTo>
                  <a:pt x="343" y="212"/>
                  <a:pt x="364" y="188"/>
                  <a:pt x="390" y="168"/>
                </a:cubicBezTo>
                <a:cubicBezTo>
                  <a:pt x="401" y="159"/>
                  <a:pt x="426" y="144"/>
                  <a:pt x="426" y="144"/>
                </a:cubicBezTo>
                <a:cubicBezTo>
                  <a:pt x="443" y="119"/>
                  <a:pt x="466" y="116"/>
                  <a:pt x="492" y="102"/>
                </a:cubicBezTo>
                <a:cubicBezTo>
                  <a:pt x="505" y="95"/>
                  <a:pt x="516" y="86"/>
                  <a:pt x="528" y="78"/>
                </a:cubicBezTo>
                <a:cubicBezTo>
                  <a:pt x="564" y="54"/>
                  <a:pt x="649" y="44"/>
                  <a:pt x="690" y="30"/>
                </a:cubicBezTo>
                <a:cubicBezTo>
                  <a:pt x="712" y="23"/>
                  <a:pt x="728" y="7"/>
                  <a:pt x="750" y="0"/>
                </a:cubicBezTo>
                <a:cubicBezTo>
                  <a:pt x="814" y="2"/>
                  <a:pt x="878" y="2"/>
                  <a:pt x="942" y="6"/>
                </a:cubicBezTo>
                <a:cubicBezTo>
                  <a:pt x="1008" y="10"/>
                  <a:pt x="1073" y="47"/>
                  <a:pt x="1140" y="54"/>
                </a:cubicBezTo>
                <a:cubicBezTo>
                  <a:pt x="1196" y="73"/>
                  <a:pt x="1264" y="50"/>
                  <a:pt x="1320" y="36"/>
                </a:cubicBezTo>
                <a:cubicBezTo>
                  <a:pt x="1370" y="40"/>
                  <a:pt x="1442" y="6"/>
                  <a:pt x="1470" y="48"/>
                </a:cubicBezTo>
                <a:cubicBezTo>
                  <a:pt x="1489" y="77"/>
                  <a:pt x="1480" y="59"/>
                  <a:pt x="1494" y="102"/>
                </a:cubicBezTo>
                <a:cubicBezTo>
                  <a:pt x="1496" y="108"/>
                  <a:pt x="1500" y="120"/>
                  <a:pt x="1500" y="120"/>
                </a:cubicBezTo>
                <a:cubicBezTo>
                  <a:pt x="1494" y="137"/>
                  <a:pt x="1494" y="157"/>
                  <a:pt x="1488" y="174"/>
                </a:cubicBezTo>
                <a:lnTo>
                  <a:pt x="1464" y="228"/>
                </a:lnTo>
                <a:cubicBezTo>
                  <a:pt x="1464" y="228"/>
                  <a:pt x="1464" y="228"/>
                  <a:pt x="1464" y="228"/>
                </a:cubicBezTo>
                <a:cubicBezTo>
                  <a:pt x="1462" y="236"/>
                  <a:pt x="1462" y="245"/>
                  <a:pt x="1458" y="252"/>
                </a:cubicBezTo>
                <a:cubicBezTo>
                  <a:pt x="1444" y="276"/>
                  <a:pt x="1413" y="296"/>
                  <a:pt x="1404" y="324"/>
                </a:cubicBezTo>
                <a:cubicBezTo>
                  <a:pt x="1395" y="351"/>
                  <a:pt x="1382" y="376"/>
                  <a:pt x="1362" y="396"/>
                </a:cubicBezTo>
                <a:cubicBezTo>
                  <a:pt x="1352" y="425"/>
                  <a:pt x="1339" y="445"/>
                  <a:pt x="1314" y="462"/>
                </a:cubicBezTo>
                <a:cubicBezTo>
                  <a:pt x="1306" y="485"/>
                  <a:pt x="1296" y="510"/>
                  <a:pt x="1290" y="534"/>
                </a:cubicBezTo>
                <a:cubicBezTo>
                  <a:pt x="1290" y="534"/>
                  <a:pt x="1281" y="573"/>
                  <a:pt x="1278" y="576"/>
                </a:cubicBezTo>
                <a:cubicBezTo>
                  <a:pt x="1274" y="580"/>
                  <a:pt x="1266" y="580"/>
                  <a:pt x="1260" y="582"/>
                </a:cubicBezTo>
                <a:cubicBezTo>
                  <a:pt x="1258" y="588"/>
                  <a:pt x="1258" y="596"/>
                  <a:pt x="1254" y="600"/>
                </a:cubicBezTo>
                <a:cubicBezTo>
                  <a:pt x="1244" y="610"/>
                  <a:pt x="1218" y="624"/>
                  <a:pt x="1218" y="624"/>
                </a:cubicBezTo>
                <a:cubicBezTo>
                  <a:pt x="1160" y="619"/>
                  <a:pt x="1148" y="622"/>
                  <a:pt x="1104" y="600"/>
                </a:cubicBezTo>
                <a:cubicBezTo>
                  <a:pt x="1054" y="617"/>
                  <a:pt x="1134" y="591"/>
                  <a:pt x="1044" y="612"/>
                </a:cubicBezTo>
                <a:cubicBezTo>
                  <a:pt x="1014" y="619"/>
                  <a:pt x="997" y="629"/>
                  <a:pt x="972" y="642"/>
                </a:cubicBezTo>
                <a:cubicBezTo>
                  <a:pt x="949" y="653"/>
                  <a:pt x="918" y="658"/>
                  <a:pt x="894" y="666"/>
                </a:cubicBezTo>
                <a:cubicBezTo>
                  <a:pt x="873" y="673"/>
                  <a:pt x="858" y="690"/>
                  <a:pt x="840" y="702"/>
                </a:cubicBezTo>
                <a:cubicBezTo>
                  <a:pt x="834" y="706"/>
                  <a:pt x="822" y="714"/>
                  <a:pt x="822" y="714"/>
                </a:cubicBezTo>
                <a:cubicBezTo>
                  <a:pt x="794" y="755"/>
                  <a:pt x="772" y="798"/>
                  <a:pt x="744" y="840"/>
                </a:cubicBezTo>
                <a:cubicBezTo>
                  <a:pt x="737" y="851"/>
                  <a:pt x="736" y="864"/>
                  <a:pt x="732" y="876"/>
                </a:cubicBezTo>
                <a:cubicBezTo>
                  <a:pt x="730" y="882"/>
                  <a:pt x="726" y="894"/>
                  <a:pt x="726" y="894"/>
                </a:cubicBezTo>
                <a:cubicBezTo>
                  <a:pt x="720" y="949"/>
                  <a:pt x="714" y="964"/>
                  <a:pt x="720" y="1020"/>
                </a:cubicBezTo>
                <a:cubicBezTo>
                  <a:pt x="722" y="1086"/>
                  <a:pt x="722" y="1152"/>
                  <a:pt x="726" y="1218"/>
                </a:cubicBezTo>
                <a:cubicBezTo>
                  <a:pt x="727" y="1243"/>
                  <a:pt x="757" y="1284"/>
                  <a:pt x="768" y="1308"/>
                </a:cubicBezTo>
                <a:cubicBezTo>
                  <a:pt x="768" y="1308"/>
                  <a:pt x="783" y="1353"/>
                  <a:pt x="786" y="1362"/>
                </a:cubicBezTo>
                <a:cubicBezTo>
                  <a:pt x="788" y="1368"/>
                  <a:pt x="786" y="1378"/>
                  <a:pt x="792" y="1380"/>
                </a:cubicBezTo>
                <a:cubicBezTo>
                  <a:pt x="817" y="1388"/>
                  <a:pt x="826" y="1400"/>
                  <a:pt x="846" y="1416"/>
                </a:cubicBezTo>
                <a:cubicBezTo>
                  <a:pt x="886" y="1447"/>
                  <a:pt x="924" y="1478"/>
                  <a:pt x="972" y="1494"/>
                </a:cubicBezTo>
                <a:cubicBezTo>
                  <a:pt x="1006" y="1505"/>
                  <a:pt x="1040" y="1513"/>
                  <a:pt x="1074" y="1524"/>
                </a:cubicBezTo>
                <a:cubicBezTo>
                  <a:pt x="1086" y="1528"/>
                  <a:pt x="1110" y="1536"/>
                  <a:pt x="1110" y="1536"/>
                </a:cubicBezTo>
                <a:cubicBezTo>
                  <a:pt x="1216" y="1532"/>
                  <a:pt x="1290" y="1524"/>
                  <a:pt x="1392" y="1518"/>
                </a:cubicBezTo>
                <a:close/>
              </a:path>
            </a:pathLst>
          </a:custGeom>
          <a:solidFill>
            <a:srgbClr val="00ff00">
              <a:alpha val="50000"/>
            </a:srgbClr>
          </a:solidFill>
          <a:ln w="57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2" name=""/>
          <p:cNvSpPr/>
          <p:nvPr/>
        </p:nvSpPr>
        <p:spPr>
          <a:xfrm>
            <a:off x="3263760" y="3306600"/>
            <a:ext cx="2030400" cy="1743120"/>
          </a:xfrm>
          <a:custGeom>
            <a:avLst/>
            <a:gdLst/>
            <a:ahLst/>
            <a:rect l="l" t="t" r="r" b="b"/>
            <a:pathLst>
              <a:path w="1279" h="1098">
                <a:moveTo>
                  <a:pt x="67" y="697"/>
                </a:moveTo>
                <a:cubicBezTo>
                  <a:pt x="79" y="732"/>
                  <a:pt x="90" y="770"/>
                  <a:pt x="121" y="790"/>
                </a:cubicBezTo>
                <a:cubicBezTo>
                  <a:pt x="138" y="816"/>
                  <a:pt x="157" y="837"/>
                  <a:pt x="174" y="864"/>
                </a:cubicBezTo>
                <a:cubicBezTo>
                  <a:pt x="201" y="906"/>
                  <a:pt x="157" y="862"/>
                  <a:pt x="194" y="904"/>
                </a:cubicBezTo>
                <a:cubicBezTo>
                  <a:pt x="272" y="994"/>
                  <a:pt x="196" y="904"/>
                  <a:pt x="248" y="951"/>
                </a:cubicBezTo>
                <a:cubicBezTo>
                  <a:pt x="260" y="961"/>
                  <a:pt x="266" y="981"/>
                  <a:pt x="281" y="985"/>
                </a:cubicBezTo>
                <a:cubicBezTo>
                  <a:pt x="317" y="995"/>
                  <a:pt x="346" y="1017"/>
                  <a:pt x="382" y="1025"/>
                </a:cubicBezTo>
                <a:cubicBezTo>
                  <a:pt x="478" y="1046"/>
                  <a:pt x="573" y="1081"/>
                  <a:pt x="670" y="1098"/>
                </a:cubicBezTo>
                <a:cubicBezTo>
                  <a:pt x="711" y="1093"/>
                  <a:pt x="745" y="1077"/>
                  <a:pt x="784" y="1072"/>
                </a:cubicBezTo>
                <a:cubicBezTo>
                  <a:pt x="831" y="1065"/>
                  <a:pt x="878" y="1066"/>
                  <a:pt x="924" y="1052"/>
                </a:cubicBezTo>
                <a:cubicBezTo>
                  <a:pt x="964" y="1040"/>
                  <a:pt x="999" y="1017"/>
                  <a:pt x="1038" y="1005"/>
                </a:cubicBezTo>
                <a:cubicBezTo>
                  <a:pt x="1081" y="962"/>
                  <a:pt x="1120" y="911"/>
                  <a:pt x="1159" y="864"/>
                </a:cubicBezTo>
                <a:cubicBezTo>
                  <a:pt x="1174" y="846"/>
                  <a:pt x="1176" y="827"/>
                  <a:pt x="1192" y="810"/>
                </a:cubicBezTo>
                <a:cubicBezTo>
                  <a:pt x="1215" y="745"/>
                  <a:pt x="1241" y="683"/>
                  <a:pt x="1259" y="616"/>
                </a:cubicBezTo>
                <a:cubicBezTo>
                  <a:pt x="1268" y="583"/>
                  <a:pt x="1279" y="516"/>
                  <a:pt x="1279" y="516"/>
                </a:cubicBezTo>
                <a:cubicBezTo>
                  <a:pt x="1273" y="478"/>
                  <a:pt x="1271" y="423"/>
                  <a:pt x="1253" y="388"/>
                </a:cubicBezTo>
                <a:cubicBezTo>
                  <a:pt x="1250" y="382"/>
                  <a:pt x="1243" y="380"/>
                  <a:pt x="1239" y="375"/>
                </a:cubicBezTo>
                <a:cubicBezTo>
                  <a:pt x="1221" y="353"/>
                  <a:pt x="1204" y="330"/>
                  <a:pt x="1186" y="308"/>
                </a:cubicBezTo>
                <a:cubicBezTo>
                  <a:pt x="1174" y="294"/>
                  <a:pt x="1156" y="283"/>
                  <a:pt x="1145" y="268"/>
                </a:cubicBezTo>
                <a:cubicBezTo>
                  <a:pt x="1109" y="221"/>
                  <a:pt x="1079" y="159"/>
                  <a:pt x="1018" y="141"/>
                </a:cubicBezTo>
                <a:cubicBezTo>
                  <a:pt x="998" y="127"/>
                  <a:pt x="981" y="122"/>
                  <a:pt x="958" y="114"/>
                </a:cubicBezTo>
                <a:cubicBezTo>
                  <a:pt x="940" y="95"/>
                  <a:pt x="925" y="99"/>
                  <a:pt x="904" y="87"/>
                </a:cubicBezTo>
                <a:cubicBezTo>
                  <a:pt x="841" y="52"/>
                  <a:pt x="888" y="65"/>
                  <a:pt x="837" y="54"/>
                </a:cubicBezTo>
                <a:cubicBezTo>
                  <a:pt x="791" y="22"/>
                  <a:pt x="707" y="15"/>
                  <a:pt x="650" y="0"/>
                </a:cubicBezTo>
                <a:cubicBezTo>
                  <a:pt x="539" y="10"/>
                  <a:pt x="466" y="43"/>
                  <a:pt x="362" y="67"/>
                </a:cubicBezTo>
                <a:cubicBezTo>
                  <a:pt x="293" y="83"/>
                  <a:pt x="161" y="109"/>
                  <a:pt x="107" y="154"/>
                </a:cubicBezTo>
                <a:cubicBezTo>
                  <a:pt x="68" y="186"/>
                  <a:pt x="72" y="236"/>
                  <a:pt x="40" y="268"/>
                </a:cubicBezTo>
                <a:cubicBezTo>
                  <a:pt x="32" y="295"/>
                  <a:pt x="23" y="321"/>
                  <a:pt x="14" y="348"/>
                </a:cubicBezTo>
                <a:cubicBezTo>
                  <a:pt x="10" y="361"/>
                  <a:pt x="0" y="388"/>
                  <a:pt x="0" y="388"/>
                </a:cubicBezTo>
                <a:cubicBezTo>
                  <a:pt x="5" y="489"/>
                  <a:pt x="7" y="517"/>
                  <a:pt x="27" y="596"/>
                </a:cubicBezTo>
                <a:cubicBezTo>
                  <a:pt x="34" y="622"/>
                  <a:pt x="36" y="675"/>
                  <a:pt x="54" y="697"/>
                </a:cubicBezTo>
                <a:cubicBezTo>
                  <a:pt x="59" y="703"/>
                  <a:pt x="66" y="710"/>
                  <a:pt x="74" y="710"/>
                </a:cubicBezTo>
                <a:cubicBezTo>
                  <a:pt x="79" y="710"/>
                  <a:pt x="69" y="701"/>
                  <a:pt x="67" y="697"/>
                </a:cubicBezTo>
                <a:close/>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3" name=""/>
          <p:cNvSpPr/>
          <p:nvPr/>
        </p:nvSpPr>
        <p:spPr>
          <a:xfrm>
            <a:off x="0" y="1143000"/>
            <a:ext cx="7765920" cy="68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tended treatment (2D-view)</a:t>
            </a:r>
            <a:endParaRPr b="0" lang="en-US" sz="2800" spc="-1" strike="noStrike">
              <a:solidFill>
                <a:srgbClr val="eaeaea"/>
              </a:solidFill>
              <a:latin typeface="Times New Roman"/>
            </a:endParaRPr>
          </a:p>
        </p:txBody>
      </p:sp>
      <p:sp>
        <p:nvSpPr>
          <p:cNvPr id="184"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ackground</a:t>
            </a:r>
            <a:endParaRPr b="0" lang="en-US" sz="3600" spc="-1" strike="noStrike">
              <a:solidFill>
                <a:srgbClr val="eaeaea"/>
              </a:solidFill>
              <a:latin typeface="Times New Roman"/>
            </a:endParaRPr>
          </a:p>
        </p:txBody>
      </p:sp>
      <p:sp>
        <p:nvSpPr>
          <p:cNvPr id="2" name="PlaceHolder 1"/>
          <p:cNvSpPr>
            <a:spLocks noGrp="1"/>
          </p:cNvSpPr>
          <p:nvPr>
            <p:ph type="ftr" idx="1"/>
          </p:nvPr>
        </p:nvSpPr>
        <p:spPr/>
        <p:txBody>
          <a:bodyPr/>
          <a:p>
            <a:r>
              <a:t>Prevention of accidental exposure in radiotherapy</a:t>
            </a:r>
          </a:p>
        </p:txBody>
      </p:sp>
      <p:sp>
        <p:nvSpPr>
          <p:cNvPr id="3" name="PlaceHolder 2"/>
          <p:cNvSpPr>
            <a:spLocks noGrp="1"/>
          </p:cNvSpPr>
          <p:nvPr>
            <p:ph type="sldNum" idx="2"/>
          </p:nvPr>
        </p:nvSpPr>
        <p:spPr/>
        <p:txBody>
          <a:bodyPr/>
          <a:p>
            <a:fld id="{D37BC01A-B6B0-4D40-AD3F-B2D6222135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1T17:06:11Z</dcterms:created>
  <dc:creator/>
  <dc:description/>
  <dc:language>en-US</dc:language>
  <cp:lastModifiedBy>BRITTINGER, Maria Theresa</cp:lastModifiedBy>
  <cp:lastPrinted>2002-07-11T07:56:55Z</cp:lastPrinted>
  <dcterms:modified xsi:type="dcterms:W3CDTF">2008-01-24T17:20:01Z</dcterms:modified>
  <cp:revision>244</cp:revision>
  <dc:subject/>
  <dc:title> PREVENTION OF ACCIDENTAL EXPOSURE IN RADIOTHERAPY</dc:title>
</cp:coreProperties>
</file>