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1F39-17B6-4C80-8EA5-39F7577A76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ummarize the main subjects we did cover in this session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the main subjects covered and stress again the important features of the sess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83C-F9F3-4456-B04D-98CBC586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FBD-2FF1-4654-862D-B593A46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8AF-362F-4E91-BF0B-46D5D59C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08D-B9AA-436C-99AA-DBAAA73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2E9-5FA6-4FDF-8DF1-23C9273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98C-2A2B-4BE7-BE38-1C03F8A9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910-1938-44A4-B7D2-F4C59EF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7B1-D977-42BA-8779-787EAB6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336-B091-4AA5-8B34-1005708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FF6-2B50-482F-AA4A-23B54BC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9E8-060E-4921-9B2F-3E7F20C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506-2BC2-4BA2-9068-E0221B8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_x0016_slid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B5FF-DE8B-4FB0-86E2-127ECAF317D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_x0016_title_logo_bglight.jpg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ADIATION PROTECTION I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IAGNOSTIC AND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INTERVENTIONAL RADIOLOGY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 7: X Ray beam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957-F570-403F-A27E-4EC7C22ADD9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609480" y="-76320"/>
            <a:ext cx="773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remsstrahlung spec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599720" y="11430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dN/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044720" y="1676520"/>
            <a:ext cx="0" cy="32004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066680" y="4876920"/>
            <a:ext cx="23209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4957920" y="1600200"/>
            <a:ext cx="0" cy="32004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4957920" y="4800600"/>
            <a:ext cx="35877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7"/>
          <p:cNvSpPr/>
          <p:nvPr/>
        </p:nvSpPr>
        <p:spPr>
          <a:xfrm flipH="1" flipV="1">
            <a:off x="1141920" y="2057400"/>
            <a:ext cx="1336680" cy="2819520"/>
          </a:xfrm>
          <a:custGeom>
            <a:avLst/>
            <a:gdLst/>
            <a:ahLst/>
            <a:rect l="l" t="t" r="r" b="b"/>
            <a:pathLst>
              <a:path fill="none" w="21600" h="21598">
                <a:moveTo>
                  <a:pt x="298" y="0"/>
                </a:moveTo>
                <a:cubicBezTo>
                  <a:pt x="12110" y="163"/>
                  <a:pt x="21600" y="9785"/>
                  <a:pt x="21600" y="21598"/>
                </a:cubicBezTo>
              </a:path>
              <a:path stroke="0" w="21600" h="21598">
                <a:moveTo>
                  <a:pt x="298" y="0"/>
                </a:moveTo>
                <a:cubicBezTo>
                  <a:pt x="12110" y="163"/>
                  <a:pt x="21600" y="9785"/>
                  <a:pt x="21600" y="21598"/>
                </a:cubicBezTo>
                <a:lnTo>
                  <a:pt x="0" y="21598"/>
                </a:lnTo>
                <a:lnTo>
                  <a:pt x="298" y="0"/>
                </a:lnTo>
                <a:close/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4975200" y="2057400"/>
            <a:ext cx="3165480" cy="272736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534240" y="12193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N/dE  (spectral d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2884680" y="481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601560" y="520704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rom a “thin”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3296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7779600" y="47242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fr-FR" sz="24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2223360" y="4813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fr-FR" sz="24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64120" y="5638680"/>
            <a:ext cx="355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energy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4746600" y="51055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rom a “thick”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4735080" y="541008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 = energy of emit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28E-EA53-4809-8D1B-285FD6BD5F4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 energy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continuous p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609480" y="1371600"/>
            <a:ext cx="7588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aximum energy of Bremsstrahlung phot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inetic energy of incident electr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X Ray spectrum of radiology instal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x (energy) = X Ray tube peak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3276720"/>
            <a:ext cx="3519360" cy="2614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799160" y="3281400"/>
            <a:ext cx="3517920" cy="2614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1425600" y="3444840"/>
            <a:ext cx="0" cy="208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1425600" y="5526000"/>
            <a:ext cx="237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1468440" y="3630600"/>
            <a:ext cx="2014560" cy="1884240"/>
          </a:xfrm>
          <a:prstGeom prst="line">
            <a:avLst/>
          </a:prstGeom>
          <a:ln w="28440">
            <a:solidFill>
              <a:srgbClr val="cf0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425600" y="4022640"/>
            <a:ext cx="1587600" cy="1481400"/>
          </a:xfrm>
          <a:prstGeom prst="line">
            <a:avLst/>
          </a:prstGeom>
          <a:ln w="28440">
            <a:solidFill>
              <a:srgbClr val="cf0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447920" y="4446720"/>
            <a:ext cx="1127160" cy="1057320"/>
          </a:xfrm>
          <a:prstGeom prst="line">
            <a:avLst/>
          </a:prstGeom>
          <a:ln w="28440">
            <a:solidFill>
              <a:srgbClr val="cf0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1438200" y="4925880"/>
            <a:ext cx="635040" cy="611280"/>
          </a:xfrm>
          <a:prstGeom prst="line">
            <a:avLst/>
          </a:prstGeom>
          <a:ln w="28440">
            <a:solidFill>
              <a:srgbClr val="cf0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30600" y="3444840"/>
            <a:ext cx="2517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remsstr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990720" y="3352680"/>
            <a:ext cx="620640" cy="44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99"/>
                </a:solidFill>
                <a:latin typeface="Symbol"/>
                <a:ea typeface="Symbol"/>
              </a:rPr>
              <a:t></a:t>
            </a:r>
            <a:r>
              <a:rPr b="1" lang="fr-FR" sz="2000" spc="-1" strike="noStrike" baseline="-25000">
                <a:solidFill>
                  <a:srgbClr val="003399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3845520" y="5435640"/>
            <a:ext cx="5860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1828800" y="5562720"/>
            <a:ext cx="2057400" cy="353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99"/>
                </a:solidFill>
                <a:latin typeface="Arial"/>
              </a:rPr>
              <a:t>50   100   150   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5018040" y="3459240"/>
            <a:ext cx="0" cy="207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018040" y="5538960"/>
            <a:ext cx="237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5059440" y="3643200"/>
            <a:ext cx="2014560" cy="1884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5598000" y="3444840"/>
            <a:ext cx="26024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remsstrahl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fter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7415640" y="5459400"/>
            <a:ext cx="5860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2"/>
          <p:cNvSpPr/>
          <p:nvPr/>
        </p:nvSpPr>
        <p:spPr>
          <a:xfrm>
            <a:off x="5226120" y="4600440"/>
            <a:ext cx="1828800" cy="925560"/>
          </a:xfrm>
          <a:custGeom>
            <a:avLst/>
            <a:gdLst/>
            <a:ahLst/>
            <a:rect l="l" t="t" r="r" b="b"/>
            <a:pathLst>
              <a:path w="1400" h="679">
                <a:moveTo>
                  <a:pt x="0" y="679"/>
                </a:moveTo>
                <a:cubicBezTo>
                  <a:pt x="49" y="450"/>
                  <a:pt x="99" y="222"/>
                  <a:pt x="152" y="111"/>
                </a:cubicBezTo>
                <a:cubicBezTo>
                  <a:pt x="205" y="0"/>
                  <a:pt x="229" y="4"/>
                  <a:pt x="320" y="15"/>
                </a:cubicBezTo>
                <a:cubicBezTo>
                  <a:pt x="411" y="26"/>
                  <a:pt x="516" y="64"/>
                  <a:pt x="696" y="175"/>
                </a:cubicBezTo>
                <a:cubicBezTo>
                  <a:pt x="876" y="286"/>
                  <a:pt x="1138" y="482"/>
                  <a:pt x="1400" y="679"/>
                </a:cubicBezTo>
              </a:path>
            </a:pathLst>
          </a:custGeom>
          <a:solidFill>
            <a:srgbClr val="99ccff"/>
          </a:solidFill>
          <a:ln w="28440">
            <a:solidFill>
              <a:srgbClr val="cf03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3"/>
          <p:cNvSpPr/>
          <p:nvPr/>
        </p:nvSpPr>
        <p:spPr>
          <a:xfrm>
            <a:off x="5560920" y="4894200"/>
            <a:ext cx="1494000" cy="631800"/>
          </a:xfrm>
          <a:custGeom>
            <a:avLst/>
            <a:gdLst/>
            <a:ahLst/>
            <a:rect l="l" t="t" r="r" b="b"/>
            <a:pathLst>
              <a:path w="1144" h="464">
                <a:moveTo>
                  <a:pt x="0" y="456"/>
                </a:moveTo>
                <a:cubicBezTo>
                  <a:pt x="19" y="300"/>
                  <a:pt x="39" y="145"/>
                  <a:pt x="112" y="80"/>
                </a:cubicBezTo>
                <a:cubicBezTo>
                  <a:pt x="185" y="15"/>
                  <a:pt x="268" y="0"/>
                  <a:pt x="440" y="64"/>
                </a:cubicBezTo>
                <a:cubicBezTo>
                  <a:pt x="612" y="128"/>
                  <a:pt x="878" y="296"/>
                  <a:pt x="1144" y="464"/>
                </a:cubicBezTo>
              </a:path>
            </a:pathLst>
          </a:custGeom>
          <a:solidFill>
            <a:srgbClr val="99ccff"/>
          </a:solidFill>
          <a:ln w="12600">
            <a:solidFill>
              <a:srgbClr val="cf03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7: X Ray be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2: Characteristic X R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ACA-141E-447B-A8CC-959F2393C84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609480" y="-763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racteristic X Rays: Electron-Electron interaction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689040" y="14479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rts with ejection of e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inly from k shell (also possible for L, M,…) by ion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from L or M shell fall into the vacancy created in the k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ergy difference is emitted as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sequence of successive electron transitions between energy lev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ergy of emitted photons is characteristic of the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4CD-2420-4C62-9592-CD64426565B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2"/>
          <p:cNvGrpSpPr/>
          <p:nvPr/>
        </p:nvGrpSpPr>
        <p:grpSpPr>
          <a:xfrm>
            <a:off x="609480" y="1981080"/>
            <a:ext cx="3886200" cy="3542400"/>
            <a:chOff x="609480" y="1981080"/>
            <a:chExt cx="3886200" cy="3542400"/>
          </a:xfrm>
        </p:grpSpPr>
        <p:sp>
          <p:nvSpPr>
            <p:cNvPr id="279" name="Rectangle 3"/>
            <p:cNvSpPr/>
            <p:nvPr/>
          </p:nvSpPr>
          <p:spPr>
            <a:xfrm>
              <a:off x="609480" y="1981080"/>
              <a:ext cx="3886200" cy="32623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4"/>
            <p:cNvSpPr/>
            <p:nvPr/>
          </p:nvSpPr>
          <p:spPr>
            <a:xfrm>
              <a:off x="1559160" y="2311560"/>
              <a:ext cx="0" cy="257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4111200" y="2388600"/>
              <a:ext cx="0" cy="249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>
              <a:off x="1559160" y="3303360"/>
              <a:ext cx="255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687400" y="42015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8"/>
            <p:cNvSpPr/>
            <p:nvPr/>
          </p:nvSpPr>
          <p:spPr>
            <a:xfrm>
              <a:off x="2686680" y="4719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2687400" y="38944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>
              <a:off x="2686680" y="3639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2688120" y="34632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2686680" y="329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Group 13"/>
            <p:cNvGrpSpPr/>
            <p:nvPr/>
          </p:nvGrpSpPr>
          <p:grpSpPr>
            <a:xfrm>
              <a:off x="1570320" y="3523680"/>
              <a:ext cx="2541960" cy="0"/>
              <a:chOff x="1570320" y="3523680"/>
              <a:chExt cx="2541960" cy="0"/>
            </a:xfrm>
          </p:grpSpPr>
          <p:sp>
            <p:nvSpPr>
              <p:cNvPr id="290" name="Line 14"/>
              <p:cNvSpPr/>
              <p:nvPr/>
            </p:nvSpPr>
            <p:spPr>
              <a:xfrm>
                <a:off x="1570320" y="3523680"/>
                <a:ext cx="10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5"/>
              <p:cNvSpPr/>
              <p:nvPr/>
            </p:nvSpPr>
            <p:spPr>
              <a:xfrm>
                <a:off x="3063600" y="3523680"/>
                <a:ext cx="10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1570320" y="3666600"/>
              <a:ext cx="2537640" cy="0"/>
              <a:chOff x="1570320" y="3666600"/>
              <a:chExt cx="2537640" cy="0"/>
            </a:xfrm>
          </p:grpSpPr>
          <p:sp>
            <p:nvSpPr>
              <p:cNvPr id="293" name="Line 17"/>
              <p:cNvSpPr/>
              <p:nvPr/>
            </p:nvSpPr>
            <p:spPr>
              <a:xfrm>
                <a:off x="1570320" y="3666600"/>
                <a:ext cx="104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8"/>
              <p:cNvSpPr/>
              <p:nvPr/>
            </p:nvSpPr>
            <p:spPr>
              <a:xfrm>
                <a:off x="3061080" y="3666600"/>
                <a:ext cx="104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9"/>
            <p:cNvGrpSpPr/>
            <p:nvPr/>
          </p:nvGrpSpPr>
          <p:grpSpPr>
            <a:xfrm>
              <a:off x="1559160" y="3821400"/>
              <a:ext cx="2562120" cy="0"/>
              <a:chOff x="1559160" y="3821400"/>
              <a:chExt cx="2562120" cy="0"/>
            </a:xfrm>
          </p:grpSpPr>
          <p:sp>
            <p:nvSpPr>
              <p:cNvPr id="296" name="Line 20"/>
              <p:cNvSpPr/>
              <p:nvPr/>
            </p:nvSpPr>
            <p:spPr>
              <a:xfrm>
                <a:off x="1559160" y="3821400"/>
                <a:ext cx="10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21"/>
              <p:cNvSpPr/>
              <p:nvPr/>
            </p:nvSpPr>
            <p:spPr>
              <a:xfrm>
                <a:off x="3064320" y="3821400"/>
                <a:ext cx="105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2"/>
            <p:cNvGrpSpPr/>
            <p:nvPr/>
          </p:nvGrpSpPr>
          <p:grpSpPr>
            <a:xfrm>
              <a:off x="1560960" y="4103280"/>
              <a:ext cx="2554200" cy="0"/>
              <a:chOff x="1560960" y="4103280"/>
              <a:chExt cx="2554200" cy="0"/>
            </a:xfrm>
          </p:grpSpPr>
          <p:sp>
            <p:nvSpPr>
              <p:cNvPr id="299" name="Line 23"/>
              <p:cNvSpPr/>
              <p:nvPr/>
            </p:nvSpPr>
            <p:spPr>
              <a:xfrm>
                <a:off x="1560960" y="4103280"/>
                <a:ext cx="105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3061440" y="4103280"/>
                <a:ext cx="105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5"/>
            <p:cNvGrpSpPr/>
            <p:nvPr/>
          </p:nvGrpSpPr>
          <p:grpSpPr>
            <a:xfrm>
              <a:off x="1570320" y="4317480"/>
              <a:ext cx="2545560" cy="0"/>
              <a:chOff x="1570320" y="4317480"/>
              <a:chExt cx="2545560" cy="0"/>
            </a:xfrm>
          </p:grpSpPr>
          <p:sp>
            <p:nvSpPr>
              <p:cNvPr id="302" name="Line 26"/>
              <p:cNvSpPr/>
              <p:nvPr/>
            </p:nvSpPr>
            <p:spPr>
              <a:xfrm>
                <a:off x="1570320" y="4317480"/>
                <a:ext cx="10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27"/>
              <p:cNvSpPr/>
              <p:nvPr/>
            </p:nvSpPr>
            <p:spPr>
              <a:xfrm>
                <a:off x="3065760" y="4317480"/>
                <a:ext cx="105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28"/>
            <p:cNvGrpSpPr/>
            <p:nvPr/>
          </p:nvGrpSpPr>
          <p:grpSpPr>
            <a:xfrm>
              <a:off x="1562040" y="4879800"/>
              <a:ext cx="2562120" cy="0"/>
              <a:chOff x="1562040" y="4879800"/>
              <a:chExt cx="2562120" cy="0"/>
            </a:xfrm>
          </p:grpSpPr>
          <p:sp>
            <p:nvSpPr>
              <p:cNvPr id="305" name="Line 29"/>
              <p:cNvSpPr/>
              <p:nvPr/>
            </p:nvSpPr>
            <p:spPr>
              <a:xfrm>
                <a:off x="1562040" y="4879800"/>
                <a:ext cx="10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0"/>
              <p:cNvSpPr/>
              <p:nvPr/>
            </p:nvSpPr>
            <p:spPr>
              <a:xfrm>
                <a:off x="3067200" y="4879800"/>
                <a:ext cx="105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31"/>
            <p:cNvSpPr/>
            <p:nvPr/>
          </p:nvSpPr>
          <p:spPr>
            <a:xfrm>
              <a:off x="1760760" y="3306240"/>
              <a:ext cx="0" cy="1526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1893240" y="3302280"/>
              <a:ext cx="0" cy="2973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3"/>
            <p:cNvSpPr/>
            <p:nvPr/>
          </p:nvSpPr>
          <p:spPr>
            <a:xfrm>
              <a:off x="2025000" y="3297960"/>
              <a:ext cx="0" cy="504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2157480" y="3314520"/>
              <a:ext cx="0" cy="711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2285280" y="3314520"/>
              <a:ext cx="0" cy="1004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>
              <a:off x="2413800" y="3310200"/>
              <a:ext cx="0" cy="15692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674640" y="2113200"/>
              <a:ext cx="95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</a:rPr>
                <a:t>(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4089240" y="3288240"/>
              <a:ext cx="29340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9"/>
            <p:cNvSpPr/>
            <p:nvPr/>
          </p:nvSpPr>
          <p:spPr>
            <a:xfrm>
              <a:off x="787680" y="3212640"/>
              <a:ext cx="867960" cy="19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5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2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1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- 695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>
              <a:off x="1207080" y="3380760"/>
              <a:ext cx="42696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1207080" y="3534840"/>
              <a:ext cx="60840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2"/>
            <p:cNvSpPr/>
            <p:nvPr/>
          </p:nvSpPr>
          <p:spPr>
            <a:xfrm>
              <a:off x="1335240" y="3733200"/>
              <a:ext cx="60804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3"/>
            <p:cNvSpPr/>
            <p:nvPr/>
          </p:nvSpPr>
          <p:spPr>
            <a:xfrm>
              <a:off x="1431360" y="3953520"/>
              <a:ext cx="60840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4"/>
            <p:cNvSpPr/>
            <p:nvPr/>
          </p:nvSpPr>
          <p:spPr>
            <a:xfrm>
              <a:off x="1505880" y="4185000"/>
              <a:ext cx="72576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>
              <a:off x="1484640" y="4581720"/>
              <a:ext cx="8755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46"/>
          <p:cNvGrpSpPr/>
          <p:nvPr/>
        </p:nvGrpSpPr>
        <p:grpSpPr>
          <a:xfrm>
            <a:off x="4496400" y="1981080"/>
            <a:ext cx="4132440" cy="3345840"/>
            <a:chOff x="4496400" y="1981080"/>
            <a:chExt cx="4132440" cy="3345840"/>
          </a:xfrm>
        </p:grpSpPr>
        <p:sp>
          <p:nvSpPr>
            <p:cNvPr id="323" name="Rectangle 47"/>
            <p:cNvSpPr/>
            <p:nvPr/>
          </p:nvSpPr>
          <p:spPr>
            <a:xfrm>
              <a:off x="4570560" y="1981080"/>
              <a:ext cx="3983040" cy="327528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48"/>
            <p:cNvSpPr/>
            <p:nvPr/>
          </p:nvSpPr>
          <p:spPr>
            <a:xfrm>
              <a:off x="5008680" y="2523960"/>
              <a:ext cx="3336840" cy="233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9"/>
            <p:cNvSpPr/>
            <p:nvPr/>
          </p:nvSpPr>
          <p:spPr>
            <a:xfrm>
              <a:off x="4905720" y="4822920"/>
              <a:ext cx="362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0    10   20    30  40    50   60    70  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50"/>
            <p:cNvSpPr/>
            <p:nvPr/>
          </p:nvSpPr>
          <p:spPr>
            <a:xfrm>
              <a:off x="4496400" y="2610000"/>
              <a:ext cx="51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1"/>
            <p:cNvSpPr/>
            <p:nvPr/>
          </p:nvSpPr>
          <p:spPr>
            <a:xfrm>
              <a:off x="5008680" y="4416480"/>
              <a:ext cx="332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2"/>
            <p:cNvSpPr/>
            <p:nvPr/>
          </p:nvSpPr>
          <p:spPr>
            <a:xfrm>
              <a:off x="5008680" y="4029120"/>
              <a:ext cx="332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3"/>
            <p:cNvSpPr/>
            <p:nvPr/>
          </p:nvSpPr>
          <p:spPr>
            <a:xfrm>
              <a:off x="5008680" y="3641760"/>
              <a:ext cx="332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54"/>
            <p:cNvSpPr/>
            <p:nvPr/>
          </p:nvSpPr>
          <p:spPr>
            <a:xfrm>
              <a:off x="5008680" y="3254400"/>
              <a:ext cx="332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55"/>
            <p:cNvSpPr/>
            <p:nvPr/>
          </p:nvSpPr>
          <p:spPr>
            <a:xfrm>
              <a:off x="5008680" y="2867040"/>
              <a:ext cx="332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56"/>
            <p:cNvSpPr/>
            <p:nvPr/>
          </p:nvSpPr>
          <p:spPr>
            <a:xfrm flipV="1">
              <a:off x="5369040" y="2523960"/>
              <a:ext cx="0" cy="232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57"/>
            <p:cNvSpPr/>
            <p:nvPr/>
          </p:nvSpPr>
          <p:spPr>
            <a:xfrm flipV="1">
              <a:off x="5796000" y="2512800"/>
              <a:ext cx="0" cy="23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58"/>
            <p:cNvSpPr/>
            <p:nvPr/>
          </p:nvSpPr>
          <p:spPr>
            <a:xfrm flipV="1">
              <a:off x="6234120" y="2512800"/>
              <a:ext cx="0" cy="23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59"/>
            <p:cNvSpPr/>
            <p:nvPr/>
          </p:nvSpPr>
          <p:spPr>
            <a:xfrm flipV="1">
              <a:off x="6627960" y="2512800"/>
              <a:ext cx="0" cy="23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0"/>
            <p:cNvSpPr/>
            <p:nvPr/>
          </p:nvSpPr>
          <p:spPr>
            <a:xfrm flipV="1">
              <a:off x="7054920" y="2502000"/>
              <a:ext cx="0" cy="232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1"/>
            <p:cNvSpPr/>
            <p:nvPr/>
          </p:nvSpPr>
          <p:spPr>
            <a:xfrm flipV="1">
              <a:off x="7502760" y="2523960"/>
              <a:ext cx="0" cy="232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 flipV="1">
              <a:off x="7929720" y="2523960"/>
              <a:ext cx="0" cy="232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3"/>
            <p:cNvSpPr/>
            <p:nvPr/>
          </p:nvSpPr>
          <p:spPr>
            <a:xfrm>
              <a:off x="521676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4"/>
            <p:cNvSpPr/>
            <p:nvPr/>
          </p:nvSpPr>
          <p:spPr>
            <a:xfrm>
              <a:off x="533736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65"/>
            <p:cNvSpPr/>
            <p:nvPr/>
          </p:nvSpPr>
          <p:spPr>
            <a:xfrm>
              <a:off x="547848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66"/>
            <p:cNvSpPr/>
            <p:nvPr/>
          </p:nvSpPr>
          <p:spPr>
            <a:xfrm>
              <a:off x="7426440" y="3784680"/>
              <a:ext cx="0" cy="106344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67"/>
            <p:cNvSpPr/>
            <p:nvPr/>
          </p:nvSpPr>
          <p:spPr>
            <a:xfrm>
              <a:off x="7502760" y="2844720"/>
              <a:ext cx="0" cy="200340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68"/>
            <p:cNvSpPr/>
            <p:nvPr/>
          </p:nvSpPr>
          <p:spPr>
            <a:xfrm>
              <a:off x="7755120" y="4062240"/>
              <a:ext cx="0" cy="78588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69"/>
            <p:cNvSpPr/>
            <p:nvPr/>
          </p:nvSpPr>
          <p:spPr>
            <a:xfrm>
              <a:off x="7886880" y="4481640"/>
              <a:ext cx="0" cy="36648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70"/>
            <p:cNvSpPr/>
            <p:nvPr/>
          </p:nvSpPr>
          <p:spPr>
            <a:xfrm>
              <a:off x="4950000" y="419112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71"/>
            <p:cNvSpPr/>
            <p:nvPr/>
          </p:nvSpPr>
          <p:spPr>
            <a:xfrm>
              <a:off x="5189760" y="4178160"/>
              <a:ext cx="3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72"/>
            <p:cNvSpPr/>
            <p:nvPr/>
          </p:nvSpPr>
          <p:spPr>
            <a:xfrm>
              <a:off x="5484960" y="434196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73"/>
            <p:cNvSpPr/>
            <p:nvPr/>
          </p:nvSpPr>
          <p:spPr>
            <a:xfrm>
              <a:off x="7128000" y="2576520"/>
              <a:ext cx="836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K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74"/>
            <p:cNvSpPr/>
            <p:nvPr/>
          </p:nvSpPr>
          <p:spPr>
            <a:xfrm>
              <a:off x="7018560" y="3584520"/>
              <a:ext cx="836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K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75"/>
            <p:cNvSpPr/>
            <p:nvPr/>
          </p:nvSpPr>
          <p:spPr>
            <a:xfrm>
              <a:off x="7851960" y="4316400"/>
              <a:ext cx="54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K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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76"/>
            <p:cNvSpPr/>
            <p:nvPr/>
          </p:nvSpPr>
          <p:spPr>
            <a:xfrm>
              <a:off x="7543800" y="3749760"/>
              <a:ext cx="55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K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</a:t>
              </a:r>
              <a:r>
                <a:rPr b="1" lang="en-GB" sz="16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7"/>
            <p:cNvSpPr/>
            <p:nvPr/>
          </p:nvSpPr>
          <p:spPr>
            <a:xfrm>
              <a:off x="7952760" y="49896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</a:rPr>
                <a:t>(k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Rectangle 78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racteristic X Ray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0C5-E7D4-4057-916A-039D13955A4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tom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89040" y="1295280"/>
            <a:ext cx="792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, Z and associated qua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= 13.6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rbon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1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6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= 283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lybdenum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96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4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= 19.0 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ungste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18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7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= 69.5 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ranium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23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= 9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= 115.6 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5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AC7-A927-4538-B0F8-2A5A7B57B23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emitted by the X Ray tub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320" y="1523880"/>
            <a:ext cx="841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imar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: before interacting phot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catter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: after at least one interaction; need for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tiscatter gri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eakag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radiation: not absorbed by the X Ray tube housing shield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ransmitt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: emerging after passage through mat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7: X Ray be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3: X Ray Beam filtr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677-0DF5-4D23-BB7F-109413D0C4A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736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at is beam filt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5527800" y="2109960"/>
            <a:ext cx="2603520" cy="358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666400" y="5691240"/>
            <a:ext cx="27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10    15    20    25 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 flipV="1">
            <a:off x="588024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V="1">
            <a:off x="637236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 flipV="1">
            <a:off x="693432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 flipV="1">
            <a:off x="742788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 flipV="1">
            <a:off x="792000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 flipH="1">
            <a:off x="5527800" y="2262240"/>
            <a:ext cx="6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5071680" y="2109960"/>
            <a:ext cx="464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 flipH="1">
            <a:off x="5527800" y="3481560"/>
            <a:ext cx="6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 flipH="1">
            <a:off x="8059320" y="226224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 flipH="1">
            <a:off x="5527800" y="4700520"/>
            <a:ext cx="6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8059320" y="348156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 flipH="1">
            <a:off x="8059320" y="470052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880240" y="21096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637236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 flipV="1">
            <a:off x="6372360" y="21096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 flipV="1">
            <a:off x="693432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 flipV="1">
            <a:off x="6934320" y="21096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 flipV="1">
            <a:off x="742788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 flipV="1">
            <a:off x="7427880" y="21096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V="1">
            <a:off x="7920000" y="5614920"/>
            <a:ext cx="0" cy="7632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9"/>
          <p:cNvSpPr/>
          <p:nvPr/>
        </p:nvSpPr>
        <p:spPr>
          <a:xfrm flipV="1">
            <a:off x="7920000" y="21096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30"/>
          <p:cNvSpPr/>
          <p:nvPr/>
        </p:nvSpPr>
        <p:spPr>
          <a:xfrm>
            <a:off x="5880240" y="5157720"/>
            <a:ext cx="77292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288"/>
                </a:moveTo>
                <a:cubicBezTo>
                  <a:pt x="28" y="192"/>
                  <a:pt x="56" y="96"/>
                  <a:pt x="144" y="48"/>
                </a:cubicBezTo>
                <a:cubicBezTo>
                  <a:pt x="232" y="0"/>
                  <a:pt x="380" y="0"/>
                  <a:pt x="528" y="0"/>
                </a:cubicBezTo>
              </a:path>
            </a:pathLst>
          </a:custGeom>
          <a:noFill/>
          <a:ln w="28440">
            <a:solidFill>
              <a:srgbClr val="047c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1"/>
          <p:cNvSpPr/>
          <p:nvPr/>
        </p:nvSpPr>
        <p:spPr>
          <a:xfrm flipV="1">
            <a:off x="6653160" y="2490840"/>
            <a:ext cx="0" cy="266688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2"/>
          <p:cNvSpPr/>
          <p:nvPr/>
        </p:nvSpPr>
        <p:spPr>
          <a:xfrm flipV="1">
            <a:off x="6723000" y="2490840"/>
            <a:ext cx="0" cy="266688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3"/>
          <p:cNvSpPr/>
          <p:nvPr/>
        </p:nvSpPr>
        <p:spPr>
          <a:xfrm>
            <a:off x="6653160" y="2490840"/>
            <a:ext cx="6984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34"/>
          <p:cNvSpPr/>
          <p:nvPr/>
        </p:nvSpPr>
        <p:spPr>
          <a:xfrm>
            <a:off x="6723000" y="5157720"/>
            <a:ext cx="14148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35"/>
          <p:cNvSpPr/>
          <p:nvPr/>
        </p:nvSpPr>
        <p:spPr>
          <a:xfrm flipV="1">
            <a:off x="6864480" y="4700520"/>
            <a:ext cx="0" cy="45720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6864480" y="4700520"/>
            <a:ext cx="69840" cy="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7"/>
          <p:cNvSpPr/>
          <p:nvPr/>
        </p:nvSpPr>
        <p:spPr>
          <a:xfrm>
            <a:off x="6934320" y="4700520"/>
            <a:ext cx="0" cy="914400"/>
          </a:xfrm>
          <a:prstGeom prst="line">
            <a:avLst/>
          </a:prstGeom>
          <a:ln w="28440">
            <a:solidFill>
              <a:srgbClr val="047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38"/>
          <p:cNvSpPr/>
          <p:nvPr/>
        </p:nvSpPr>
        <p:spPr>
          <a:xfrm>
            <a:off x="6934320" y="5462640"/>
            <a:ext cx="11253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" y="132"/>
                  <a:pt x="16" y="120"/>
                  <a:pt x="48" y="96"/>
                </a:cubicBezTo>
                <a:cubicBezTo>
                  <a:pt x="80" y="72"/>
                  <a:pt x="72" y="0"/>
                  <a:pt x="192" y="0"/>
                </a:cubicBezTo>
                <a:cubicBezTo>
                  <a:pt x="312" y="0"/>
                  <a:pt x="672" y="80"/>
                  <a:pt x="768" y="96"/>
                </a:cubicBezTo>
              </a:path>
            </a:pathLst>
          </a:custGeom>
          <a:noFill/>
          <a:ln w="28440">
            <a:solidFill>
              <a:srgbClr val="047c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9"/>
          <p:cNvSpPr/>
          <p:nvPr/>
        </p:nvSpPr>
        <p:spPr>
          <a:xfrm>
            <a:off x="6501240" y="605628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Energy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0"/>
          <p:cNvSpPr/>
          <p:nvPr/>
        </p:nvSpPr>
        <p:spPr>
          <a:xfrm rot="16200000">
            <a:off x="3079080" y="38124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Number of photons (arbitrary normalis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4593960" y="1527120"/>
            <a:ext cx="431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47c0d"/>
                </a:solidFill>
                <a:latin typeface="Arial"/>
              </a:rPr>
              <a:t>X Ray spectrum at 30 kV for an X Ray tu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47c0d"/>
                </a:solidFill>
                <a:latin typeface="Arial"/>
              </a:rPr>
              <a:t>with a Mo target and a 0.03 mm Mo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2"/>
          <p:cNvSpPr/>
          <p:nvPr/>
        </p:nvSpPr>
        <p:spPr>
          <a:xfrm>
            <a:off x="304920" y="1473120"/>
            <a:ext cx="4419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bsorber placed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ource an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Will preferably abs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he lower energy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Or absorb parts of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(K-edge fil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D2F-3371-45D2-922C-31B89F3EBEE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ube filt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herent filtration (always pres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47c0d"/>
                </a:solidFill>
                <a:latin typeface="Arial"/>
              </a:rPr>
              <a:t>reduced entrance (skin) dose to the patien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(cut off the low energy X Rays which do not contribute to the i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itional filtration (removable fil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rther reduction of patient skin and superficial tissue dose without loss of image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tal filtration (inherent + add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tal filtration must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&gt; 2.5 mm 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for a &gt; 110 kV gene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asurement of filtration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Half-Valu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9DF1-DE51-44FE-B430-3D6FDFCD329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review is made of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production of X Rays for diagnostic radiology : Bremsstrahlung and characteristic X R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am filtration,scattering of X Rays, Quality and quantity of X Rays, X Ray spectrum and factors affecting X Ray spectr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6CAA-CF55-4347-B4BF-3E3DBA8BF58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ube filt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1219320" y="5029200"/>
            <a:ext cx="144756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846720" y="1295280"/>
            <a:ext cx="7427160" cy="4949640"/>
            <a:chOff x="846720" y="1295280"/>
            <a:chExt cx="7427160" cy="4949640"/>
          </a:xfrm>
        </p:grpSpPr>
        <p:graphicFrame>
          <p:nvGraphicFramePr>
            <p:cNvPr id="414" name="Object 3"/>
            <p:cNvGraphicFramePr/>
            <p:nvPr/>
          </p:nvGraphicFramePr>
          <p:xfrm>
            <a:off x="2286000" y="1295280"/>
            <a:ext cx="4950000" cy="49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1295280"/>
                      <a:ext cx="4950000" cy="4949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16" name="Rectangle 5"/>
            <p:cNvSpPr/>
            <p:nvPr/>
          </p:nvSpPr>
          <p:spPr>
            <a:xfrm>
              <a:off x="846720" y="4267080"/>
              <a:ext cx="857520" cy="4597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d"/>
                  </a:solidFill>
                  <a:latin typeface="Arial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6486840" y="4190760"/>
              <a:ext cx="1787040" cy="4597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d"/>
                  </a:solidFill>
                  <a:latin typeface="Arial"/>
                </a:rPr>
                <a:t>Exit wind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A57B-24FD-45A7-8CFE-824868D49AE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_x0007_Huba3.4                                                        000C3FE7_x000c_Applications                   B6BAE276:"/>
          <p:cNvPicPr/>
          <p:nvPr/>
        </p:nvPicPr>
        <p:blipFill>
          <a:blip r:embed="rId1"/>
          <a:stretch/>
        </p:blipFill>
        <p:spPr>
          <a:xfrm>
            <a:off x="76320" y="1447920"/>
            <a:ext cx="6019560" cy="4835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"/>
          <p:cNvSpPr/>
          <p:nvPr/>
        </p:nvSpPr>
        <p:spPr>
          <a:xfrm>
            <a:off x="1219320" y="0"/>
            <a:ext cx="76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l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505680" y="1295280"/>
            <a:ext cx="49248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Change in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Change in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spectrum shifts to highe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5100120" y="4191120"/>
            <a:ext cx="38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- Spectrum out of a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- After window tube 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INHERENT filt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3- After ADDITIONAL 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7: X Ray be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4: Scattered radi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4ECF-4845-4D35-9936-BBCC909A768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adiation emitted by the X Ray tu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8580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imar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 : before interacting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catter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 : after at least on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eakag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radiation : not absorbed by the X Ray tube housing shi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ransmitt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radiation : emerging after passage through matter </a:t>
            </a:r>
            <a:r>
              <a:rPr b="0" lang="en-US" sz="2800" spc="-1" strike="noStrike">
                <a:solidFill>
                  <a:srgbClr val="17691b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tiscatter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B8C-6EF9-4690-9E1C-646D1708519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cattered radi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609480" y="1295280"/>
            <a:ext cx="7588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ffect on image q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ss of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ffect on patient d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reasing of superficial and depth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ssible reduction through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of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mitation of the field to the useful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mitation of the irradiated volume (e.g.:breast compression in mamm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EE3F-3986-473F-9D6E-66856A584A0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nti scatter grid (I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09480" y="1295280"/>
            <a:ext cx="79250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diation emerging from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mary bea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: contributes to th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cattered radiatio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: reduces image contrast and contributes to the major part of the patient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grid (between patient and film) eliminates most of scattered ra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tionary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ving grid (better perform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cused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tter-Buck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278-380B-4580-B810-9F5D547A8E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16"/>
          <p:cNvGrpSpPr/>
          <p:nvPr/>
        </p:nvGrpSpPr>
        <p:grpSpPr>
          <a:xfrm>
            <a:off x="772200" y="1752480"/>
            <a:ext cx="7838280" cy="4591080"/>
            <a:chOff x="772200" y="1752480"/>
            <a:chExt cx="7838280" cy="4591080"/>
          </a:xfrm>
        </p:grpSpPr>
        <p:sp>
          <p:nvSpPr>
            <p:cNvPr id="442" name="Rectangle 2"/>
            <p:cNvSpPr/>
            <p:nvPr/>
          </p:nvSpPr>
          <p:spPr>
            <a:xfrm>
              <a:off x="2813040" y="1752480"/>
              <a:ext cx="562752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3"/>
            <p:cNvSpPr/>
            <p:nvPr/>
          </p:nvSpPr>
          <p:spPr>
            <a:xfrm>
              <a:off x="2813040" y="1752480"/>
              <a:ext cx="562752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4"/>
            <p:cNvSpPr/>
            <p:nvPr/>
          </p:nvSpPr>
          <p:spPr>
            <a:xfrm flipH="1">
              <a:off x="5486040" y="3809880"/>
              <a:ext cx="42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 flipH="1">
              <a:off x="4924440" y="3809880"/>
              <a:ext cx="984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6"/>
            <p:cNvSpPr/>
            <p:nvPr/>
          </p:nvSpPr>
          <p:spPr>
            <a:xfrm>
              <a:off x="5908680" y="380988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7"/>
            <p:cNvSpPr/>
            <p:nvPr/>
          </p:nvSpPr>
          <p:spPr>
            <a:xfrm>
              <a:off x="2462040" y="3657600"/>
              <a:ext cx="843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Picture 8" descr="_x0017_imagecarlo1jpeg - copie                                        00003A8F_x000c_ColorPrinter                   B26CD57E:"/>
            <p:cNvPicPr/>
            <p:nvPr/>
          </p:nvPicPr>
          <p:blipFill>
            <a:blip r:embed="rId1"/>
            <a:stretch/>
          </p:blipFill>
          <p:spPr>
            <a:xfrm>
              <a:off x="1828800" y="1752480"/>
              <a:ext cx="5345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9"/>
            <p:cNvSpPr/>
            <p:nvPr/>
          </p:nvSpPr>
          <p:spPr>
            <a:xfrm>
              <a:off x="4572000" y="18288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Source of -r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5839200" y="44974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L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772200" y="4395960"/>
              <a:ext cx="22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Scattered X R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3165480" y="556272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Useful X R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3"/>
            <p:cNvSpPr/>
            <p:nvPr/>
          </p:nvSpPr>
          <p:spPr>
            <a:xfrm>
              <a:off x="5977080" y="5264280"/>
              <a:ext cx="23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Film and casset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2181240" y="335592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3399"/>
                  </a:solidFill>
                  <a:latin typeface="Arial"/>
                </a:rPr>
                <a:t>Pati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Rectangle 15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nti scatter grid (II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7: X Ray be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5: Factors affecting X Ray spectru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A182-B4A3-440F-8C1F-44AB6E95F07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CTORS AFFECTING X Ray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685800" y="1676520"/>
            <a:ext cx="776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UB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UBE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IGH OR LOW  Z TARGET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OF 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8CF-25B3-489D-9AC9-64AE7A1838E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tube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533520" y="1676520"/>
          <a:ext cx="784836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848360" cy="4647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8" name="Line 4"/>
          <p:cNvSpPr/>
          <p:nvPr/>
        </p:nvSpPr>
        <p:spPr>
          <a:xfrm flipV="1">
            <a:off x="2819520" y="21333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5"/>
          <p:cNvSpPr/>
          <p:nvPr/>
        </p:nvSpPr>
        <p:spPr>
          <a:xfrm>
            <a:off x="2895480" y="3886200"/>
            <a:ext cx="4419720" cy="1486080"/>
          </a:xfrm>
          <a:custGeom>
            <a:avLst/>
            <a:gdLst/>
            <a:ahLst/>
            <a:rect l="l" t="t" r="r" b="b"/>
            <a:pathLst>
              <a:path w="2784" h="1176">
                <a:moveTo>
                  <a:pt x="0" y="1176"/>
                </a:moveTo>
                <a:cubicBezTo>
                  <a:pt x="256" y="816"/>
                  <a:pt x="512" y="456"/>
                  <a:pt x="720" y="264"/>
                </a:cubicBezTo>
                <a:cubicBezTo>
                  <a:pt x="928" y="72"/>
                  <a:pt x="1072" y="0"/>
                  <a:pt x="1248" y="24"/>
                </a:cubicBezTo>
                <a:cubicBezTo>
                  <a:pt x="1424" y="48"/>
                  <a:pt x="1624" y="288"/>
                  <a:pt x="1776" y="408"/>
                </a:cubicBezTo>
                <a:cubicBezTo>
                  <a:pt x="1928" y="528"/>
                  <a:pt x="2040" y="640"/>
                  <a:pt x="2160" y="744"/>
                </a:cubicBezTo>
                <a:cubicBezTo>
                  <a:pt x="2280" y="848"/>
                  <a:pt x="2392" y="960"/>
                  <a:pt x="2496" y="1032"/>
                </a:cubicBezTo>
                <a:cubicBezTo>
                  <a:pt x="2600" y="1104"/>
                  <a:pt x="2736" y="1152"/>
                  <a:pt x="2784" y="11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819520" y="541008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487692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41148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9"/>
          <p:cNvSpPr/>
          <p:nvPr/>
        </p:nvSpPr>
        <p:spPr>
          <a:xfrm>
            <a:off x="525780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541008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3126960" y="556272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X Ray Energy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457200" y="2666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umber of X Rays per uni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3"/>
          <p:cNvSpPr/>
          <p:nvPr/>
        </p:nvSpPr>
        <p:spPr>
          <a:xfrm>
            <a:off x="2819520" y="2425680"/>
            <a:ext cx="4495680" cy="2984400"/>
          </a:xfrm>
          <a:custGeom>
            <a:avLst/>
            <a:gdLst/>
            <a:ahLst/>
            <a:rect l="l" t="t" r="r" b="b"/>
            <a:pathLst>
              <a:path w="2832" h="1880">
                <a:moveTo>
                  <a:pt x="0" y="1880"/>
                </a:moveTo>
                <a:cubicBezTo>
                  <a:pt x="200" y="1384"/>
                  <a:pt x="400" y="888"/>
                  <a:pt x="576" y="584"/>
                </a:cubicBezTo>
                <a:cubicBezTo>
                  <a:pt x="752" y="280"/>
                  <a:pt x="880" y="112"/>
                  <a:pt x="1056" y="56"/>
                </a:cubicBezTo>
                <a:cubicBezTo>
                  <a:pt x="1232" y="0"/>
                  <a:pt x="1440" y="72"/>
                  <a:pt x="1632" y="248"/>
                </a:cubicBezTo>
                <a:cubicBezTo>
                  <a:pt x="1824" y="424"/>
                  <a:pt x="2040" y="872"/>
                  <a:pt x="2208" y="1112"/>
                </a:cubicBezTo>
                <a:cubicBezTo>
                  <a:pt x="2376" y="1352"/>
                  <a:pt x="2536" y="1560"/>
                  <a:pt x="2640" y="1688"/>
                </a:cubicBezTo>
                <a:cubicBezTo>
                  <a:pt x="2744" y="1816"/>
                  <a:pt x="2788" y="1848"/>
                  <a:pt x="2832" y="18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022-D7A3-4917-AF3C-D8908366A47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remsstrahlung produc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haracteristic X Ray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eam filt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cattered radi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ctors affecting X Ray spectrum, Quantity and Qual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2320-3EFB-4234-8688-A04CBE64257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tube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14" descr="_x0008_Huba2.5a                                                       000C3FE7_x000c_Applications                   B6BAE276:"/>
          <p:cNvPicPr/>
          <p:nvPr/>
        </p:nvPicPr>
        <p:blipFill>
          <a:blip r:embed="rId1"/>
          <a:stretch/>
        </p:blipFill>
        <p:spPr>
          <a:xfrm>
            <a:off x="716040" y="1492200"/>
            <a:ext cx="4151160" cy="441324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5"/>
          <p:cNvSpPr/>
          <p:nvPr/>
        </p:nvSpPr>
        <p:spPr>
          <a:xfrm>
            <a:off x="4882320" y="2013120"/>
            <a:ext cx="331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Change of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NO change of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4853160" y="348444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Effective kV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532-1CC1-4B7B-B49F-7FC97A2D5C9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tube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17" descr="_x0008_Huba2.5b                                                       000C3FE7_x000c_Applications                   B6BAE276:"/>
          <p:cNvPicPr/>
          <p:nvPr/>
        </p:nvPicPr>
        <p:blipFill>
          <a:blip r:embed="rId1"/>
          <a:stretch/>
        </p:blipFill>
        <p:spPr>
          <a:xfrm>
            <a:off x="533520" y="1676520"/>
            <a:ext cx="4346280" cy="44956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20"/>
          <p:cNvSpPr/>
          <p:nvPr/>
        </p:nvSpPr>
        <p:spPr>
          <a:xfrm>
            <a:off x="4519440" y="2435400"/>
            <a:ext cx="424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Change in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Change in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- spectrum shifts to highe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99"/>
                </a:solidFill>
                <a:latin typeface="Arial"/>
              </a:rPr>
              <a:t>- characteristic lines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EA3-5BA6-4D37-95D3-5FF0AA43F2D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fil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5" descr="_x0007_Huba3.4                                                        000C3FE7_x000c_Applications                   B6BAE276:"/>
          <p:cNvPicPr/>
          <p:nvPr/>
        </p:nvPicPr>
        <p:blipFill>
          <a:blip r:embed="rId1"/>
          <a:stretch/>
        </p:blipFill>
        <p:spPr>
          <a:xfrm>
            <a:off x="0" y="1523880"/>
            <a:ext cx="6019920" cy="48355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6"/>
          <p:cNvSpPr/>
          <p:nvPr/>
        </p:nvSpPr>
        <p:spPr>
          <a:xfrm>
            <a:off x="4187160" y="1905120"/>
            <a:ext cx="41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Change in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Change in QU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spectrum shifts to higher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5030280" y="4267080"/>
            <a:ext cx="3432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pectrum out of 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- After window tube 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(INHERENT filt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3- After ADDITIONAL fil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89A-7AC4-408F-9390-2378ABEC569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Target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912000" y="297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Object 9"/>
          <p:cNvGraphicFramePr/>
          <p:nvPr/>
        </p:nvGraphicFramePr>
        <p:xfrm>
          <a:off x="685800" y="175248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720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1" name="Line 10"/>
          <p:cNvSpPr/>
          <p:nvPr/>
        </p:nvSpPr>
        <p:spPr>
          <a:xfrm flipV="1">
            <a:off x="2971800" y="21333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11"/>
          <p:cNvSpPr/>
          <p:nvPr/>
        </p:nvSpPr>
        <p:spPr>
          <a:xfrm>
            <a:off x="3048120" y="4038480"/>
            <a:ext cx="3962160" cy="1333800"/>
          </a:xfrm>
          <a:custGeom>
            <a:avLst/>
            <a:gdLst/>
            <a:ahLst/>
            <a:rect l="l" t="t" r="r" b="b"/>
            <a:pathLst>
              <a:path w="2784" h="1176">
                <a:moveTo>
                  <a:pt x="0" y="1176"/>
                </a:moveTo>
                <a:cubicBezTo>
                  <a:pt x="256" y="816"/>
                  <a:pt x="512" y="456"/>
                  <a:pt x="720" y="264"/>
                </a:cubicBezTo>
                <a:cubicBezTo>
                  <a:pt x="928" y="72"/>
                  <a:pt x="1072" y="0"/>
                  <a:pt x="1248" y="24"/>
                </a:cubicBezTo>
                <a:cubicBezTo>
                  <a:pt x="1424" y="48"/>
                  <a:pt x="1624" y="288"/>
                  <a:pt x="1776" y="408"/>
                </a:cubicBezTo>
                <a:cubicBezTo>
                  <a:pt x="1928" y="528"/>
                  <a:pt x="2040" y="640"/>
                  <a:pt x="2160" y="744"/>
                </a:cubicBezTo>
                <a:cubicBezTo>
                  <a:pt x="2280" y="848"/>
                  <a:pt x="2392" y="960"/>
                  <a:pt x="2496" y="1032"/>
                </a:cubicBezTo>
                <a:cubicBezTo>
                  <a:pt x="2600" y="1104"/>
                  <a:pt x="2736" y="1152"/>
                  <a:pt x="2784" y="11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2971800" y="541008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3"/>
          <p:cNvSpPr/>
          <p:nvPr/>
        </p:nvSpPr>
        <p:spPr>
          <a:xfrm>
            <a:off x="2971800" y="3200400"/>
            <a:ext cx="4813200" cy="2209680"/>
          </a:xfrm>
          <a:custGeom>
            <a:avLst/>
            <a:gdLst/>
            <a:ahLst/>
            <a:rect l="l" t="t" r="r" b="b"/>
            <a:pathLst>
              <a:path w="3032" h="1392">
                <a:moveTo>
                  <a:pt x="0" y="1392"/>
                </a:moveTo>
                <a:cubicBezTo>
                  <a:pt x="196" y="1048"/>
                  <a:pt x="392" y="704"/>
                  <a:pt x="576" y="480"/>
                </a:cubicBezTo>
                <a:cubicBezTo>
                  <a:pt x="760" y="256"/>
                  <a:pt x="920" y="96"/>
                  <a:pt x="1104" y="48"/>
                </a:cubicBezTo>
                <a:cubicBezTo>
                  <a:pt x="1288" y="0"/>
                  <a:pt x="1464" y="56"/>
                  <a:pt x="1680" y="192"/>
                </a:cubicBezTo>
                <a:cubicBezTo>
                  <a:pt x="1896" y="328"/>
                  <a:pt x="2192" y="680"/>
                  <a:pt x="2400" y="864"/>
                </a:cubicBezTo>
                <a:cubicBezTo>
                  <a:pt x="2608" y="1048"/>
                  <a:pt x="2824" y="1216"/>
                  <a:pt x="2928" y="1296"/>
                </a:cubicBezTo>
                <a:cubicBezTo>
                  <a:pt x="3032" y="1376"/>
                  <a:pt x="3008" y="1328"/>
                  <a:pt x="3024" y="1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495288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igher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4267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ower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6"/>
          <p:cNvSpPr/>
          <p:nvPr/>
        </p:nvSpPr>
        <p:spPr>
          <a:xfrm flipH="1">
            <a:off x="5181480" y="2666880"/>
            <a:ext cx="76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7"/>
          <p:cNvSpPr/>
          <p:nvPr/>
        </p:nvSpPr>
        <p:spPr>
          <a:xfrm flipV="1">
            <a:off x="4952880" y="40381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3583800" y="55609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X Ray Energy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609480" y="2743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umber of X Rays per uni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E489-9D81-4B53-8DE0-49166996E7A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Ray spectrum: Target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5"/>
          <p:cNvGrpSpPr/>
          <p:nvPr/>
        </p:nvGrpSpPr>
        <p:grpSpPr>
          <a:xfrm>
            <a:off x="723960" y="1371600"/>
            <a:ext cx="7962840" cy="4572000"/>
            <a:chOff x="723960" y="1371600"/>
            <a:chExt cx="7962840" cy="4572000"/>
          </a:xfrm>
        </p:grpSpPr>
        <p:graphicFrame>
          <p:nvGraphicFramePr>
            <p:cNvPr id="515" name="Object 15"/>
            <p:cNvGraphicFramePr/>
            <p:nvPr/>
          </p:nvGraphicFramePr>
          <p:xfrm>
            <a:off x="723960" y="1371600"/>
            <a:ext cx="784836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960" y="1371600"/>
                      <a:ext cx="7848360" cy="457200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Line 16"/>
            <p:cNvSpPr/>
            <p:nvPr/>
          </p:nvSpPr>
          <p:spPr>
            <a:xfrm flipV="1">
              <a:off x="3009960" y="1828440"/>
              <a:ext cx="0" cy="32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7"/>
            <p:cNvSpPr/>
            <p:nvPr/>
          </p:nvSpPr>
          <p:spPr>
            <a:xfrm>
              <a:off x="3085920" y="3200400"/>
              <a:ext cx="4419720" cy="1866960"/>
            </a:xfrm>
            <a:custGeom>
              <a:avLst/>
              <a:gdLst/>
              <a:ahLst/>
              <a:rect l="l" t="t" r="r" b="b"/>
              <a:pathLst>
                <a:path w="2784" h="1176">
                  <a:moveTo>
                    <a:pt x="0" y="1176"/>
                  </a:moveTo>
                  <a:cubicBezTo>
                    <a:pt x="256" y="816"/>
                    <a:pt x="512" y="456"/>
                    <a:pt x="720" y="264"/>
                  </a:cubicBezTo>
                  <a:cubicBezTo>
                    <a:pt x="928" y="72"/>
                    <a:pt x="1072" y="0"/>
                    <a:pt x="1248" y="24"/>
                  </a:cubicBezTo>
                  <a:cubicBezTo>
                    <a:pt x="1424" y="48"/>
                    <a:pt x="1624" y="288"/>
                    <a:pt x="1776" y="408"/>
                  </a:cubicBezTo>
                  <a:cubicBezTo>
                    <a:pt x="1928" y="528"/>
                    <a:pt x="2040" y="640"/>
                    <a:pt x="2160" y="744"/>
                  </a:cubicBezTo>
                  <a:cubicBezTo>
                    <a:pt x="2280" y="848"/>
                    <a:pt x="2392" y="960"/>
                    <a:pt x="2496" y="1032"/>
                  </a:cubicBezTo>
                  <a:cubicBezTo>
                    <a:pt x="2600" y="1104"/>
                    <a:pt x="2736" y="1152"/>
                    <a:pt x="2784" y="11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>
              <a:off x="3009960" y="5105160"/>
              <a:ext cx="563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9"/>
            <p:cNvSpPr/>
            <p:nvPr/>
          </p:nvSpPr>
          <p:spPr>
            <a:xfrm>
              <a:off x="3009960" y="2361960"/>
              <a:ext cx="5676840" cy="2781360"/>
            </a:xfrm>
            <a:custGeom>
              <a:avLst/>
              <a:gdLst/>
              <a:ahLst/>
              <a:rect l="l" t="t" r="r" b="b"/>
              <a:pathLst>
                <a:path w="3576" h="1752">
                  <a:moveTo>
                    <a:pt x="0" y="1744"/>
                  </a:moveTo>
                  <a:cubicBezTo>
                    <a:pt x="280" y="1304"/>
                    <a:pt x="560" y="864"/>
                    <a:pt x="768" y="592"/>
                  </a:cubicBezTo>
                  <a:cubicBezTo>
                    <a:pt x="976" y="320"/>
                    <a:pt x="1088" y="192"/>
                    <a:pt x="1248" y="112"/>
                  </a:cubicBezTo>
                  <a:cubicBezTo>
                    <a:pt x="1408" y="32"/>
                    <a:pt x="1552" y="0"/>
                    <a:pt x="1728" y="112"/>
                  </a:cubicBezTo>
                  <a:cubicBezTo>
                    <a:pt x="1904" y="224"/>
                    <a:pt x="2096" y="536"/>
                    <a:pt x="2304" y="784"/>
                  </a:cubicBezTo>
                  <a:cubicBezTo>
                    <a:pt x="2512" y="1032"/>
                    <a:pt x="2776" y="1448"/>
                    <a:pt x="2976" y="1600"/>
                  </a:cubicBezTo>
                  <a:cubicBezTo>
                    <a:pt x="3176" y="1752"/>
                    <a:pt x="3432" y="1680"/>
                    <a:pt x="3504" y="1696"/>
                  </a:cubicBezTo>
                  <a:cubicBezTo>
                    <a:pt x="3576" y="1712"/>
                    <a:pt x="3492" y="1704"/>
                    <a:pt x="3408" y="1696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0"/>
            <p:cNvSpPr/>
            <p:nvPr/>
          </p:nvSpPr>
          <p:spPr>
            <a:xfrm>
              <a:off x="5295960" y="17524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Thre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21"/>
            <p:cNvSpPr/>
            <p:nvPr/>
          </p:nvSpPr>
          <p:spPr>
            <a:xfrm>
              <a:off x="4076640" y="3886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Singl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22"/>
            <p:cNvSpPr/>
            <p:nvPr/>
          </p:nvSpPr>
          <p:spPr>
            <a:xfrm>
              <a:off x="3314520" y="51814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X Ray Energy (k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23"/>
            <p:cNvSpPr/>
            <p:nvPr/>
          </p:nvSpPr>
          <p:spPr>
            <a:xfrm>
              <a:off x="723960" y="281916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Number of X Rays per unit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5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C9F-901D-4B3B-8810-F3B3ADCED9B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actors affect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X Ray Quant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UBE CURRENT (mA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OSURE TIME (s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UBE POTENTIAL (kVp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STANCE (FSD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LT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08400" y="1523880"/>
            <a:ext cx="395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X Ray Qualit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UBE POTENTIAL (kVp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LT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91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AVE FOR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70B1-4885-4364-92FF-5836EECE1AD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e learned about the continuous Bremsstrahlung spectrum and the characteristic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ral factors (kV,filtration,current, waveform,target material) influence quality and/or quantity of the X Ray be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C98E-07AC-4D36-839D-EDB8A1D4BD0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ere to Get More Inform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ssential Physics of Medical Imaging. JT Bushberg, JA Seibert, EM Leidholdt, JM Boone.  Lippincott Williams &amp; Wilkins, Philadelphia, 201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6A6-C478-46A4-972C-6C95F1770D5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become familiar with the technological principles of the X Ray produ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rt 7: X Ray be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: Bremsstrahlung produ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3049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99"/>
                </a:solidFill>
                <a:latin typeface="Arial"/>
              </a:rPr>
              <a:t>IAEA Training Material on Radiation Protection in Diagnostic and Interventional Rad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676-CE94-4689-B9A6-EA458422A43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lectron-nucleus interaction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0880" y="1295280"/>
            <a:ext cx="83934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691b"/>
              </a:buClr>
              <a:buSzPct val="150000"/>
              <a:buFont typeface="Times"/>
              <a:buChar char="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remsstrahlung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66840">
              <a:lnSpc>
                <a:spcPct val="100000"/>
              </a:lnSpc>
              <a:spcBef>
                <a:spcPts val="799"/>
              </a:spcBef>
              <a:buClr>
                <a:srgbClr val="17691b"/>
              </a:buClr>
              <a:buSzPct val="150000"/>
              <a:buFont typeface="Arial"/>
              <a:buChar char="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ative energy loss (E) by electrons slowing down on passage through a mate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66840">
              <a:lnSpc>
                <a:spcPct val="100000"/>
              </a:lnSpc>
              <a:spcBef>
                <a:spcPts val="799"/>
              </a:spcBef>
              <a:buClr>
                <a:srgbClr val="17691b"/>
              </a:buClr>
              <a:buSzPct val="150000"/>
              <a:buFont typeface="Symbol" charset="2"/>
              <a:buChar char="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the deceleration of the incident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ectron by the nuclear Coulomb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66840">
              <a:lnSpc>
                <a:spcPct val="100000"/>
              </a:lnSpc>
              <a:spcBef>
                <a:spcPts val="799"/>
              </a:spcBef>
              <a:buClr>
                <a:srgbClr val="17691b"/>
              </a:buClr>
              <a:buSzPct val="150000"/>
              <a:buFont typeface="Symbol" charset="2"/>
              <a:buChar char="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ation energy (E) (photon) is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1614-D014-4E42-9C04-2C4C3E0EE46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35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th materials of high atomic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nergy loss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nergy loss by Bremsstrahl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gt; 99% of kinetic E loss as heat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t increases with increasing electro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X Rays are dominantly produced by Bremsstrahlu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3520" y="-76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lectron-nucleus interaction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78B-7874-4E02-8A16-C87B6BE73A7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33520" y="-76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lectrons strike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628560" y="1447920"/>
            <a:ext cx="8044920" cy="4985640"/>
            <a:chOff x="628560" y="1447920"/>
            <a:chExt cx="8044920" cy="4985640"/>
          </a:xfrm>
        </p:grpSpPr>
        <p:grpSp>
          <p:nvGrpSpPr>
            <p:cNvPr id="122" name="Group 4"/>
            <p:cNvGrpSpPr/>
            <p:nvPr/>
          </p:nvGrpSpPr>
          <p:grpSpPr>
            <a:xfrm>
              <a:off x="1419120" y="1949400"/>
              <a:ext cx="1406520" cy="1542960"/>
              <a:chOff x="1419120" y="1949400"/>
              <a:chExt cx="1406520" cy="1542960"/>
            </a:xfrm>
          </p:grpSpPr>
          <p:sp>
            <p:nvSpPr>
              <p:cNvPr id="123" name="Oval 5"/>
              <p:cNvSpPr/>
              <p:nvPr/>
            </p:nvSpPr>
            <p:spPr>
              <a:xfrm>
                <a:off x="1700280" y="2273040"/>
                <a:ext cx="843480" cy="91440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"/>
              <p:cNvSpPr/>
              <p:nvPr/>
            </p:nvSpPr>
            <p:spPr>
              <a:xfrm>
                <a:off x="1419120" y="1968480"/>
                <a:ext cx="1406520" cy="152388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>
                <a:off x="2508840" y="2628720"/>
                <a:ext cx="68760" cy="7452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8"/>
              <p:cNvSpPr/>
              <p:nvPr/>
            </p:nvSpPr>
            <p:spPr>
              <a:xfrm>
                <a:off x="1729440" y="2933640"/>
                <a:ext cx="70200" cy="7596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9"/>
              <p:cNvSpPr/>
              <p:nvPr/>
            </p:nvSpPr>
            <p:spPr>
              <a:xfrm>
                <a:off x="2579400" y="3238200"/>
                <a:ext cx="70200" cy="7632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10"/>
              <p:cNvSpPr/>
              <p:nvPr/>
            </p:nvSpPr>
            <p:spPr>
              <a:xfrm>
                <a:off x="1981800" y="1949400"/>
                <a:ext cx="69840" cy="7596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11"/>
              <p:cNvSpPr/>
              <p:nvPr/>
            </p:nvSpPr>
            <p:spPr>
              <a:xfrm>
                <a:off x="1858320" y="3390840"/>
                <a:ext cx="70200" cy="7596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>
                <a:off x="2632320" y="2222280"/>
                <a:ext cx="69840" cy="76320"/>
              </a:xfrm>
              <a:prstGeom prst="ellipse">
                <a:avLst/>
              </a:prstGeom>
              <a:solidFill>
                <a:srgbClr val="00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3"/>
              <p:cNvSpPr/>
              <p:nvPr/>
            </p:nvSpPr>
            <p:spPr>
              <a:xfrm>
                <a:off x="1987200" y="2558880"/>
                <a:ext cx="275040" cy="349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14"/>
              <p:cNvSpPr/>
              <p:nvPr/>
            </p:nvSpPr>
            <p:spPr>
              <a:xfrm>
                <a:off x="1978560" y="25495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99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Oval 15"/>
            <p:cNvSpPr/>
            <p:nvPr/>
          </p:nvSpPr>
          <p:spPr>
            <a:xfrm>
              <a:off x="4525920" y="2273400"/>
              <a:ext cx="844560" cy="914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4245120" y="1968480"/>
              <a:ext cx="1406520" cy="152388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5334120" y="2629080"/>
              <a:ext cx="69840" cy="7452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4497480" y="2571840"/>
              <a:ext cx="71280" cy="7596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4287960" y="2347920"/>
              <a:ext cx="71280" cy="7632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4807080" y="1949400"/>
              <a:ext cx="69840" cy="7632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4684680" y="3390840"/>
              <a:ext cx="69840" cy="7632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5457960" y="2222640"/>
              <a:ext cx="69840" cy="75960"/>
            </a:xfrm>
            <a:prstGeom prst="ellipse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813200" y="2558880"/>
              <a:ext cx="274680" cy="34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4803840" y="25495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1149480" y="1460520"/>
              <a:ext cx="1430280" cy="1560600"/>
            </a:xfrm>
            <a:custGeom>
              <a:avLst/>
              <a:gdLst/>
              <a:ahLst/>
              <a:rect l="l" t="t" r="r" b="b"/>
              <a:pathLst>
                <a:path w="976" h="983">
                  <a:moveTo>
                    <a:pt x="0" y="0"/>
                  </a:moveTo>
                  <a:cubicBezTo>
                    <a:pt x="150" y="332"/>
                    <a:pt x="301" y="665"/>
                    <a:pt x="464" y="824"/>
                  </a:cubicBezTo>
                  <a:cubicBezTo>
                    <a:pt x="627" y="983"/>
                    <a:pt x="891" y="931"/>
                    <a:pt x="976" y="952"/>
                  </a:cubicBezTo>
                </a:path>
              </a:pathLst>
            </a:cu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 flipV="1" rot="10800000">
              <a:off x="4584240" y="1447920"/>
              <a:ext cx="1430280" cy="1560240"/>
            </a:xfrm>
            <a:custGeom>
              <a:avLst/>
              <a:gdLst/>
              <a:ahLst/>
              <a:rect l="l" t="t" r="r" b="b"/>
              <a:pathLst>
                <a:path w="976" h="983">
                  <a:moveTo>
                    <a:pt x="0" y="0"/>
                  </a:moveTo>
                  <a:cubicBezTo>
                    <a:pt x="150" y="332"/>
                    <a:pt x="301" y="665"/>
                    <a:pt x="464" y="824"/>
                  </a:cubicBezTo>
                  <a:cubicBezTo>
                    <a:pt x="627" y="983"/>
                    <a:pt x="891" y="931"/>
                    <a:pt x="976" y="952"/>
                  </a:cubicBezTo>
                </a:path>
              </a:pathLst>
            </a:cu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V="1">
              <a:off x="2556000" y="2946240"/>
              <a:ext cx="2039760" cy="12960"/>
            </a:xfrm>
            <a:prstGeom prst="line">
              <a:avLst/>
            </a:prstGeom>
            <a:ln w="28440">
              <a:solidFill>
                <a:srgbClr val="cf03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1243080" y="1676520"/>
              <a:ext cx="117360" cy="253800"/>
            </a:xfrm>
            <a:prstGeom prst="line">
              <a:avLst/>
            </a:prstGeom>
            <a:ln w="12600">
              <a:solidFill>
                <a:srgbClr val="cf0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V="1">
              <a:off x="5745240" y="1722240"/>
              <a:ext cx="155520" cy="347400"/>
            </a:xfrm>
            <a:prstGeom prst="line">
              <a:avLst/>
            </a:prstGeom>
            <a:ln w="12600">
              <a:solidFill>
                <a:srgbClr val="cf0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30"/>
            <p:cNvGrpSpPr/>
            <p:nvPr/>
          </p:nvGrpSpPr>
          <p:grpSpPr>
            <a:xfrm>
              <a:off x="5076000" y="2907720"/>
              <a:ext cx="864000" cy="927360"/>
              <a:chOff x="5076000" y="2907720"/>
              <a:chExt cx="864000" cy="927360"/>
            </a:xfrm>
          </p:grpSpPr>
          <p:cxnSp>
            <p:nvCxnSpPr>
              <p:cNvPr id="149" name="AutoShape 31"/>
              <p:cNvCxnSpPr/>
              <p:nvPr/>
            </p:nvCxnSpPr>
            <p:spPr>
              <a:xfrm flipV="1" rot="16200000">
                <a:off x="5067360" y="291636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AutoShape 32"/>
              <p:cNvCxnSpPr/>
              <p:nvPr/>
            </p:nvCxnSpPr>
            <p:spPr>
              <a:xfrm flipV="1" rot="16200000">
                <a:off x="5225760" y="30931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AutoShape 33"/>
              <p:cNvCxnSpPr/>
              <p:nvPr/>
            </p:nvCxnSpPr>
            <p:spPr>
              <a:xfrm flipV="1" rot="16200000">
                <a:off x="5702040" y="36133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AutoShape 34"/>
              <p:cNvCxnSpPr/>
              <p:nvPr/>
            </p:nvCxnSpPr>
            <p:spPr>
              <a:xfrm flipV="1" rot="16200000">
                <a:off x="5546160" y="34387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AutoShape 35"/>
              <p:cNvCxnSpPr/>
              <p:nvPr/>
            </p:nvCxnSpPr>
            <p:spPr>
              <a:xfrm flipV="1" rot="16200000">
                <a:off x="5388120" y="326700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154" name="Line 36"/>
              <p:cNvSpPr/>
              <p:nvPr/>
            </p:nvSpPr>
            <p:spPr>
              <a:xfrm>
                <a:off x="5871960" y="3778560"/>
                <a:ext cx="6804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37"/>
            <p:cNvGrpSpPr/>
            <p:nvPr/>
          </p:nvGrpSpPr>
          <p:grpSpPr>
            <a:xfrm>
              <a:off x="860760" y="2901240"/>
              <a:ext cx="1154160" cy="1067040"/>
              <a:chOff x="860760" y="2901240"/>
              <a:chExt cx="1154160" cy="1067040"/>
            </a:xfrm>
          </p:grpSpPr>
          <p:cxnSp>
            <p:nvCxnSpPr>
              <p:cNvPr id="156" name="AutoShape 38"/>
              <p:cNvCxnSpPr/>
              <p:nvPr/>
            </p:nvCxnSpPr>
            <p:spPr>
              <a:xfrm flipH="1" flipV="1" rot="5400000">
                <a:off x="1806120" y="289656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AutoShape 39"/>
              <p:cNvCxnSpPr/>
              <p:nvPr/>
            </p:nvCxnSpPr>
            <p:spPr>
              <a:xfrm flipH="1" flipV="1" rot="5400000">
                <a:off x="1594440" y="309996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AutoShape 40"/>
              <p:cNvCxnSpPr/>
              <p:nvPr/>
            </p:nvCxnSpPr>
            <p:spPr>
              <a:xfrm flipH="1" flipV="1" rot="5400000">
                <a:off x="957960" y="369864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AutoShape 41"/>
              <p:cNvCxnSpPr/>
              <p:nvPr/>
            </p:nvCxnSpPr>
            <p:spPr>
              <a:xfrm flipH="1" flipV="1" rot="5400000">
                <a:off x="1166760" y="3497400"/>
                <a:ext cx="204120" cy="2134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AutoShape 42"/>
              <p:cNvCxnSpPr/>
              <p:nvPr/>
            </p:nvCxnSpPr>
            <p:spPr>
              <a:xfrm flipH="1" flipV="1" rot="5400000">
                <a:off x="1377360" y="330012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161" name="Line 43"/>
              <p:cNvSpPr/>
              <p:nvPr/>
            </p:nvSpPr>
            <p:spPr>
              <a:xfrm flipH="1">
                <a:off x="860760" y="3903120"/>
                <a:ext cx="9108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Line 44"/>
            <p:cNvSpPr/>
            <p:nvPr/>
          </p:nvSpPr>
          <p:spPr>
            <a:xfrm>
              <a:off x="1079640" y="4330800"/>
              <a:ext cx="0" cy="19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5"/>
            <p:cNvSpPr/>
            <p:nvPr/>
          </p:nvSpPr>
          <p:spPr>
            <a:xfrm flipH="1">
              <a:off x="1066680" y="5499000"/>
              <a:ext cx="186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3763800" y="4280040"/>
              <a:ext cx="0" cy="19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 flipH="1">
              <a:off x="3752640" y="544824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619280" y="4991040"/>
              <a:ext cx="68400" cy="50796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1969920" y="5207040"/>
              <a:ext cx="68400" cy="26676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357280" y="5346720"/>
              <a:ext cx="68400" cy="15228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1"/>
            <p:cNvSpPr/>
            <p:nvPr/>
          </p:nvSpPr>
          <p:spPr>
            <a:xfrm>
              <a:off x="1301760" y="3594240"/>
              <a:ext cx="304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2"/>
            <p:cNvSpPr/>
            <p:nvPr/>
          </p:nvSpPr>
          <p:spPr>
            <a:xfrm flipH="1">
              <a:off x="1806120" y="3441600"/>
              <a:ext cx="3645000" cy="11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53"/>
            <p:cNvSpPr/>
            <p:nvPr/>
          </p:nvSpPr>
          <p:spPr>
            <a:xfrm>
              <a:off x="1464480" y="37576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n(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4"/>
            <p:cNvSpPr/>
            <p:nvPr/>
          </p:nvSpPr>
          <p:spPr>
            <a:xfrm>
              <a:off x="3186000" y="3551400"/>
              <a:ext cx="65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</a:t>
              </a:r>
              <a:r>
                <a:rPr b="1" lang="fr-FR" sz="2400" spc="-1" strike="noStrike" baseline="-25000">
                  <a:solidFill>
                    <a:srgbClr val="ff99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55"/>
            <p:cNvSpPr/>
            <p:nvPr/>
          </p:nvSpPr>
          <p:spPr>
            <a:xfrm>
              <a:off x="1634400" y="54594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1079640" y="562608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57"/>
            <p:cNvSpPr/>
            <p:nvPr/>
          </p:nvSpPr>
          <p:spPr>
            <a:xfrm>
              <a:off x="2032920" y="578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1090440" y="5969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59"/>
            <p:cNvSpPr/>
            <p:nvPr/>
          </p:nvSpPr>
          <p:spPr>
            <a:xfrm>
              <a:off x="2466360" y="6027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0"/>
            <p:cNvSpPr/>
            <p:nvPr/>
          </p:nvSpPr>
          <p:spPr>
            <a:xfrm>
              <a:off x="1079640" y="6270480"/>
              <a:ext cx="13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4280040" y="4533840"/>
              <a:ext cx="68040" cy="90180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4630680" y="4876920"/>
              <a:ext cx="69840" cy="55872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5018040" y="5130720"/>
              <a:ext cx="68400" cy="30492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635760" y="46576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628560" y="5153040"/>
              <a:ext cx="43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635760" y="4905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67"/>
            <p:cNvSpPr/>
            <p:nvPr/>
          </p:nvSpPr>
          <p:spPr>
            <a:xfrm>
              <a:off x="4342680" y="54594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68"/>
            <p:cNvSpPr/>
            <p:nvPr/>
          </p:nvSpPr>
          <p:spPr>
            <a:xfrm>
              <a:off x="3787920" y="562608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4741200" y="578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3798720" y="5969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1"/>
            <p:cNvSpPr/>
            <p:nvPr/>
          </p:nvSpPr>
          <p:spPr>
            <a:xfrm>
              <a:off x="5174640" y="6027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72"/>
            <p:cNvSpPr/>
            <p:nvPr/>
          </p:nvSpPr>
          <p:spPr>
            <a:xfrm>
              <a:off x="3787920" y="6270480"/>
              <a:ext cx="13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4227480" y="4187880"/>
              <a:ext cx="6192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4554360" y="4530600"/>
              <a:ext cx="779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5011560" y="4822920"/>
              <a:ext cx="70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6019920" y="3754440"/>
              <a:ext cx="67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</a:t>
              </a:r>
              <a:r>
                <a:rPr b="1" lang="fr-FR" sz="2400" spc="-1" strike="noStrike" baseline="-25000">
                  <a:solidFill>
                    <a:srgbClr val="ff99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>
              <a:off x="6576840" y="4241880"/>
              <a:ext cx="0" cy="19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78"/>
            <p:cNvSpPr/>
            <p:nvPr/>
          </p:nvSpPr>
          <p:spPr>
            <a:xfrm flipH="1">
              <a:off x="6565680" y="54100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6648480" y="4419720"/>
              <a:ext cx="68400" cy="99036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0"/>
            <p:cNvSpPr/>
            <p:nvPr/>
          </p:nvSpPr>
          <p:spPr>
            <a:xfrm>
              <a:off x="6576840" y="4356000"/>
              <a:ext cx="1758960" cy="10162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6718320" y="4457880"/>
              <a:ext cx="68400" cy="95220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6788160" y="4521240"/>
              <a:ext cx="69840" cy="88740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6858000" y="4552920"/>
              <a:ext cx="81000" cy="8510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6940440" y="4610160"/>
              <a:ext cx="69840" cy="7999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7010280" y="4635360"/>
              <a:ext cx="69840" cy="7747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7067520" y="4673520"/>
              <a:ext cx="92160" cy="73656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7151760" y="4737240"/>
              <a:ext cx="81000" cy="6728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7234200" y="4775040"/>
              <a:ext cx="68400" cy="6350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7304040" y="4800600"/>
              <a:ext cx="68400" cy="60948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7373880" y="4851360"/>
              <a:ext cx="69840" cy="55260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7445520" y="4910040"/>
              <a:ext cx="83880" cy="4939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7526160" y="4915080"/>
              <a:ext cx="70200" cy="49500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7597800" y="4978440"/>
              <a:ext cx="68400" cy="4316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7667640" y="5016600"/>
              <a:ext cx="68400" cy="39348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7737480" y="5067360"/>
              <a:ext cx="69840" cy="3427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7808760" y="5079960"/>
              <a:ext cx="68400" cy="3301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7878600" y="5143680"/>
              <a:ext cx="68400" cy="2552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8021520" y="5232240"/>
              <a:ext cx="77760" cy="1778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8101080" y="5257800"/>
              <a:ext cx="69840" cy="15228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8172360" y="5295960"/>
              <a:ext cx="68400" cy="1141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8242200" y="5335560"/>
              <a:ext cx="68400" cy="7452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7935120" y="542304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fr-FR" sz="2400" spc="-1" strike="noStrike" baseline="-25000">
                  <a:solidFill>
                    <a:srgbClr val="ff9900"/>
                  </a:solidFill>
                  <a:latin typeface="Arial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098400" y="2971800"/>
              <a:ext cx="251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Bremsstrahl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spect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7947000" y="5175360"/>
              <a:ext cx="77760" cy="230040"/>
            </a:xfrm>
            <a:prstGeom prst="rect">
              <a:avLst/>
            </a:prstGeom>
            <a:solidFill>
              <a:srgbClr val="f9f0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: X Ray b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552-EE4B-4758-8539-FC170AC8516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33520" y="0"/>
            <a:ext cx="773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remsstrahlung continuous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1600200"/>
            <a:ext cx="761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7440" indent="-39996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ergy (E) of Bremsstrahlung photons may take any value between “zero” and the maximum kinetic energy of incident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399960">
              <a:lnSpc>
                <a:spcPts val="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39996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umber of photons as a function of E is proportional to 1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399960">
              <a:lnSpc>
                <a:spcPts val="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39996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ck target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continuous linear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Joel Gray</cp:lastModifiedBy>
  <cp:lastPrinted>2002-03-28T08:56:53Z</cp:lastPrinted>
  <dcterms:modified xsi:type="dcterms:W3CDTF">2011-10-02T14:28:16Z</dcterms:modified>
  <cp:revision>99</cp:revision>
  <dc:subject>X Ray beams</dc:subject>
  <dc:title>RADIATION PROTECTION IN DIAGNOSTIC RADIOLOGY</dc:title>
</cp:coreProperties>
</file>