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236-CD94-4E83-8EEA-EA5EA6E0B5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re are absolute methods which provide the information on dose but they need the knoledge of characteristic parameters. Some others are relative and should be calibrated against the refernc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n the audience is familiar with instrumentation and instrument calibration, slides 9-16 can be ski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is not so common to have a well defined reference X-ray spectrum available for the useful energy range to be used in diagnsotic rad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P meter can be put anywhere between the tube and the patient since its reading is independent on the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the measured DAP quantity is constant since the Air Kerma decreases according to the inverse square law and the area increases as the square of the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 entrance surface dose measured under these conditions includes the backscat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FB4-F6C8-4E8A-97C3-D1281C74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E6D-48F3-478A-8E4D-C1BEE26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B9F-8CC9-43E0-B1CE-5E818C72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FEB-874D-45BE-ABFB-76C4FF23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C26-B0D2-45C6-B8F8-6DF3594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C69-7EA0-4395-9E4E-336C040E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D65-19E3-4B06-8CC8-41F6E62A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963-8215-4040-B587-9E850EA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3F5-0B89-430E-9903-72C2E29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E88-052B-4F28-81F2-653A4DF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A52-B9BE-40C7-961B-4D8574ED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985-7704-42F8-922D-13187F99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slide_logo_bglight.jpg                                         00056D31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E941-676E-4518-AF4B-DB545B026F9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itle_logo_bglight.jpg                                         00056D31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ADIATION PROTECTION I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IAGNOSTIC AND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ERVENTIONAL RADIOLOGY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L10: Patient dose assess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4920" y="3049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s affecting dose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mage magnification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eometric and electronic magnification increase do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f small sized patient (less scatter) probably not need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o need for grids on pediatric patie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rids not necessary for high contrast studies, e.g., barium contrast stud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eam-on time!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7EE9-FEAA-4286-98AB-1CF5BE37D92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BE04-D457-4CB9-BF29-9E5E86039BE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actors affecting dose in 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eam energy and filtr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80-100 kV reduces dose for pediatric pati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120-140 kV with additional filtration reduces adult doses (HVL can be increased to reduce dos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llimation or section th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st-patient collimator will reduce slice thickness imaged but not the irradiated th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Number and spacing of adjacent sec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mage quality and noi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ike all modalities: dose increase=&gt;noise decreas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FA7B-A140-4939-8AA2-FE48078D777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actors affecting dose in spiral 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actors for conventional CT also vali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Scan pitc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Ratio of couch travel in 1 rotation dived by slice thicknes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f pitch = 1, doses are comparable to conventional 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ose proportional to 1/pitc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art 10: Patient dose assess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opic 2: Patient dosimetry method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04920" y="3049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 Dose Measure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838080" y="1562040"/>
            <a:ext cx="7543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onization chamber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moluminescent dosimeters (T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tically stimulated luminescent (OSL) dos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lid state dos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lm (silver halide or radiochro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2975-9DEE-4AA4-8682-001100F8F86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atient dosimet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Radiography: entrance surface dose ES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y TLD or OS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Output facto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luoroscopy: Dose Area Product (DAP) or using fil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CT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mputed Tomography Dose Index (CTDI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Using pencil ion chamber, OSL, or TL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704B-9DE7-4334-AF99-F075F9E9B51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rom ESD to organ and effective dos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680" y="1294920"/>
            <a:ext cx="8593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Except for invasive methods, no organ doses can be measu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The only way in radiography: measure the Entrance Surface Dose (ES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Use mathematical models based on Monte Carlo simulations: the history of thousands of photons is calcul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Dose to the organ tabulated as a fraction of the entrance dose for different proje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"/>
              </a:rPr>
              <a:t>Since filtration, field size and projection play a role: long lists of tables (See NRPB R262 and NRPB SR262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B1C-C163-4DA2-B485-8894BCA20D9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rom DAP to organ and effective dos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680" y="13716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fluoroscopy: moving field, measurement of Dose-Area Product (DAP)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 similar way organ doses calculated by Monte Carlo modell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nversion coefficients were estimated as organ doses per unit dose-area produ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gain numerous factors are to be taken into account as projection, filtration, 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Once organ doses are obtained, effective dose is calculated following ICRP 10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art 10: Patient dose assess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opic 3: Instrument calibr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920" y="3049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598F-9D1C-49AE-8DF4-6F85B9F1F22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alibration of an instr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Establish Calibration Reference Conditions (CRC) [type and energy of radiation, SDD, rate, ...]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Compare response of your instrument with that of another instrument (absolute or calibrated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etermine the calibration fact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1101600" y="5605560"/>
            <a:ext cx="5243760" cy="14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477120" y="5410080"/>
            <a:ext cx="235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[appropriate uni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389240" y="56894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Response of the instrument to be calib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892600" y="5257800"/>
            <a:ext cx="314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f the reference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465920" y="525780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Response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09120" y="54500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99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843120" y="542448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206-3D34-467C-A307-5D3E1EDBB74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A review is made of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different parameters influencing the patient d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problems related to instrument calibr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existing dosimetric methods applicable to diagnostic radiolog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58E7-5022-4A4B-BF33-0A03C30C598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ange of us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28560" y="1447920"/>
            <a:ext cx="8053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Hypothesis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: the instrument reading is a known monotonic function of the measured quantity (usually linear within a specified </a:t>
            </a:r>
            <a:r>
              <a:rPr b="0" lang="it-IT" sz="2400" spc="-1" strike="noStrike" u="sng">
                <a:solidFill>
                  <a:srgbClr val="003399"/>
                </a:solidFill>
                <a:uFillTx/>
                <a:latin typeface="Arial"/>
              </a:rPr>
              <a:t>range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2187720" y="2798280"/>
            <a:ext cx="0" cy="298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192400" y="5776920"/>
            <a:ext cx="603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2192400" y="4092120"/>
            <a:ext cx="3294000" cy="16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192400" y="4405320"/>
            <a:ext cx="266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4859280" y="441180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rc 9"/>
          <p:cNvSpPr/>
          <p:nvPr/>
        </p:nvSpPr>
        <p:spPr>
          <a:xfrm rot="10800000">
            <a:off x="2187360" y="3338280"/>
            <a:ext cx="4424040" cy="2431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rc 10"/>
          <p:cNvSpPr/>
          <p:nvPr/>
        </p:nvSpPr>
        <p:spPr>
          <a:xfrm>
            <a:off x="2187720" y="4978440"/>
            <a:ext cx="1680840" cy="798480"/>
          </a:xfrm>
          <a:custGeom>
            <a:avLst/>
            <a:gdLst/>
            <a:ahLst/>
            <a:rect l="l" t="t" r="r" b="b"/>
            <a:pathLst>
              <a:path fill="none" w="21600" h="9026">
                <a:moveTo>
                  <a:pt x="19648" y="-1"/>
                </a:moveTo>
                <a:cubicBezTo>
                  <a:pt x="20934" y="2816"/>
                  <a:pt x="21600" y="5875"/>
                  <a:pt x="21600" y="8972"/>
                </a:cubicBezTo>
                <a:cubicBezTo>
                  <a:pt x="21600" y="8989"/>
                  <a:pt x="21599" y="9007"/>
                  <a:pt x="21599" y="9025"/>
                </a:cubicBezTo>
              </a:path>
              <a:path stroke="0" w="21600" h="9026">
                <a:moveTo>
                  <a:pt x="19648" y="-1"/>
                </a:moveTo>
                <a:cubicBezTo>
                  <a:pt x="20934" y="2816"/>
                  <a:pt x="21600" y="5875"/>
                  <a:pt x="21600" y="8972"/>
                </a:cubicBezTo>
                <a:cubicBezTo>
                  <a:pt x="21600" y="8989"/>
                  <a:pt x="21599" y="9007"/>
                  <a:pt x="21599" y="9025"/>
                </a:cubicBezTo>
                <a:lnTo>
                  <a:pt x="0" y="8972"/>
                </a:lnTo>
                <a:lnTo>
                  <a:pt x="19648" y="-1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3855960" y="507060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5868000" y="3759120"/>
            <a:ext cx="236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Arial"/>
              </a:rPr>
              <a:t>1/F = tg</a:t>
            </a:r>
            <a:r>
              <a:rPr b="0" lang="it-IT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69600" y="2790720"/>
            <a:ext cx="136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782040" y="5762520"/>
            <a:ext cx="1246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easured</a:t>
            </a:r>
            <a:br>
              <a:rPr sz="1800"/>
            </a:b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669960" y="4086360"/>
            <a:ext cx="153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Response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calib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3591720" y="5915160"/>
            <a:ext cx="204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Calibration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4834080" y="5753160"/>
            <a:ext cx="349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209-FFF1-484E-AB0C-9A75275E3E7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Use of a calibrated instr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Under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me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conditions as the CR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Within the range of u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990720" y="4079880"/>
            <a:ext cx="792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cc"/>
                </a:solidFill>
                <a:latin typeface="Arial"/>
              </a:rPr>
              <a:t>Q </a:t>
            </a:r>
            <a:r>
              <a:rPr b="0" lang="it-IT" sz="2000" spc="-1" strike="noStrike">
                <a:solidFill>
                  <a:srgbClr val="3366cc"/>
                </a:solidFill>
                <a:latin typeface="Arial"/>
              </a:rPr>
              <a:t>(dosimetric quantity)</a:t>
            </a:r>
            <a:r>
              <a:rPr b="0" lang="it-IT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3366cc"/>
                </a:solidFill>
                <a:latin typeface="Arial"/>
              </a:rPr>
              <a:t>= </a:t>
            </a:r>
            <a:r>
              <a:rPr b="1" lang="it-IT" sz="3200" spc="-1" strike="noStrike">
                <a:solidFill>
                  <a:srgbClr val="3366cc"/>
                </a:solidFill>
                <a:latin typeface="Arial"/>
              </a:rPr>
              <a:t>F </a:t>
            </a:r>
            <a:r>
              <a:rPr b="0" lang="it-IT" sz="3200" spc="-1" strike="noStrike">
                <a:solidFill>
                  <a:srgbClr val="3366cc"/>
                </a:solidFill>
                <a:latin typeface="Arial"/>
              </a:rPr>
              <a:t>x </a:t>
            </a:r>
            <a:r>
              <a:rPr b="1" lang="it-IT" sz="3200" spc="-1" strike="noStrike">
                <a:solidFill>
                  <a:srgbClr val="3366cc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3366cc"/>
                </a:solidFill>
                <a:latin typeface="Arial"/>
              </a:rPr>
              <a:t>(reading of the instr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1F07-A79A-48DC-A3B1-644F8316671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rrection factors for use other than under the CRC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489040" y="4991040"/>
            <a:ext cx="505152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489040" y="4684680"/>
            <a:ext cx="505152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2489040" y="4368960"/>
            <a:ext cx="5051520" cy="14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2514600" y="4038480"/>
            <a:ext cx="505152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514600" y="3747960"/>
            <a:ext cx="505152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2514600" y="3441600"/>
            <a:ext cx="505152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2540160" y="3124080"/>
            <a:ext cx="50511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2489040" y="3127320"/>
            <a:ext cx="1800" cy="2178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2413080" y="53053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2413080" y="4991040"/>
            <a:ext cx="759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2413080" y="4684680"/>
            <a:ext cx="759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2413080" y="4368960"/>
            <a:ext cx="75960" cy="14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2413080" y="4062240"/>
            <a:ext cx="759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2413080" y="3747960"/>
            <a:ext cx="759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2413080" y="3441600"/>
            <a:ext cx="759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2413080" y="3127320"/>
            <a:ext cx="7596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2489040" y="5305320"/>
            <a:ext cx="5051520" cy="18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 flipV="1">
            <a:off x="2489040" y="523368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4170240" y="523368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7"/>
          <p:cNvSpPr/>
          <p:nvPr/>
        </p:nvSpPr>
        <p:spPr>
          <a:xfrm flipV="1">
            <a:off x="5859360" y="523368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8"/>
          <p:cNvSpPr/>
          <p:nvPr/>
        </p:nvSpPr>
        <p:spPr>
          <a:xfrm flipV="1">
            <a:off x="7540560" y="523368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9"/>
          <p:cNvSpPr/>
          <p:nvPr/>
        </p:nvSpPr>
        <p:spPr>
          <a:xfrm>
            <a:off x="2489040" y="3289320"/>
            <a:ext cx="1681200" cy="5572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4170240" y="3846600"/>
            <a:ext cx="1689120" cy="37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59360" y="4226040"/>
            <a:ext cx="1681200" cy="269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32"/>
          <p:cNvSpPr/>
          <p:nvPr/>
        </p:nvSpPr>
        <p:spPr>
          <a:xfrm>
            <a:off x="2460600" y="32623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8" y="0"/>
                </a:moveTo>
                <a:lnTo>
                  <a:pt x="35" y="17"/>
                </a:lnTo>
                <a:lnTo>
                  <a:pt x="18" y="34"/>
                </a:lnTo>
                <a:lnTo>
                  <a:pt x="0" y="17"/>
                </a:lnTo>
                <a:lnTo>
                  <a:pt x="18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33"/>
          <p:cNvSpPr/>
          <p:nvPr/>
        </p:nvSpPr>
        <p:spPr>
          <a:xfrm>
            <a:off x="4141800" y="381960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8" y="0"/>
                </a:moveTo>
                <a:lnTo>
                  <a:pt x="35" y="17"/>
                </a:lnTo>
                <a:lnTo>
                  <a:pt x="18" y="34"/>
                </a:lnTo>
                <a:lnTo>
                  <a:pt x="0" y="17"/>
                </a:lnTo>
                <a:lnTo>
                  <a:pt x="18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34"/>
          <p:cNvSpPr/>
          <p:nvPr/>
        </p:nvSpPr>
        <p:spPr>
          <a:xfrm>
            <a:off x="5832360" y="4199040"/>
            <a:ext cx="5580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7" y="0"/>
                </a:moveTo>
                <a:lnTo>
                  <a:pt x="35" y="17"/>
                </a:lnTo>
                <a:lnTo>
                  <a:pt x="17" y="34"/>
                </a:lnTo>
                <a:lnTo>
                  <a:pt x="0" y="17"/>
                </a:lnTo>
                <a:lnTo>
                  <a:pt x="17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35"/>
          <p:cNvSpPr/>
          <p:nvPr/>
        </p:nvSpPr>
        <p:spPr>
          <a:xfrm>
            <a:off x="7513560" y="4468680"/>
            <a:ext cx="5580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17" y="0"/>
                </a:moveTo>
                <a:lnTo>
                  <a:pt x="35" y="17"/>
                </a:lnTo>
                <a:lnTo>
                  <a:pt x="17" y="34"/>
                </a:lnTo>
                <a:lnTo>
                  <a:pt x="0" y="17"/>
                </a:lnTo>
                <a:lnTo>
                  <a:pt x="17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1865520" y="51800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0.9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1865520" y="48639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0.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1865520" y="45576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0.9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1865520" y="42433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0.9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2176560" y="3936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1"/>
          <p:cNvSpPr/>
          <p:nvPr/>
        </p:nvSpPr>
        <p:spPr>
          <a:xfrm>
            <a:off x="1865520" y="36226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1.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1865520" y="33163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1.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1865520" y="30002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1.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432160" y="5511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4113360" y="5511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5803920" y="5511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7485120" y="5511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7294680" y="5783400"/>
            <a:ext cx="1238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HVL(mm A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853200" y="2693880"/>
            <a:ext cx="96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Corr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853200" y="293832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Fa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84640" y="2055960"/>
            <a:ext cx="379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A. Energy correcti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7D29-B087-4E74-9901-69890024DB6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rrection factors for use other than under the CRC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429000" y="2062080"/>
          <a:ext cx="461160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62080"/>
                    <a:ext cx="46116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302760" y="2017800"/>
            <a:ext cx="465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B. Directional correcti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C9C9-EC61-4496-9FD1-9456A24EC30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rrection factors for use other than under the CRC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41240" y="1600200"/>
            <a:ext cx="5052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C. Air density correction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(for ionization chamb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2223720" y="5021280"/>
            <a:ext cx="25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3366cc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2739960" y="50212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3366cc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425320" y="53071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2862000" y="53071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2593440" y="502128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043440" y="5075280"/>
            <a:ext cx="253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calibratio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3772080" y="3687840"/>
            <a:ext cx="2487600" cy="1440"/>
          </a:xfrm>
          <a:prstGeom prst="line">
            <a:avLst/>
          </a:prstGeom>
          <a:ln w="23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043320" y="37670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5230800" y="3767040"/>
            <a:ext cx="933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Arial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4152600" y="37670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imes New Roman"/>
              </a:rPr>
              <a:t>(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6049440" y="29764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5237280" y="2976480"/>
            <a:ext cx="933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Arial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354200" y="29764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Times New Roman"/>
              </a:rPr>
              <a:t>(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4514400" y="41115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4130280" y="3321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4814280" y="370044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4820760" y="290988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3261240" y="32637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99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4333680" y="3757680"/>
            <a:ext cx="15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3399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3831840" y="3757680"/>
            <a:ext cx="31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4535280" y="2967120"/>
            <a:ext cx="15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3399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3"/>
          <p:cNvSpPr/>
          <p:nvPr/>
        </p:nvSpPr>
        <p:spPr>
          <a:xfrm>
            <a:off x="3825720" y="2967120"/>
            <a:ext cx="31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04880" y="3321000"/>
            <a:ext cx="374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3399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2904120" y="367524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3399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4E1-0399-415D-AA35-FBF8275AC62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curacy and precision of a calibrated instrument (1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09480" y="5140440"/>
            <a:ext cx="7712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Curve A: Instrument both accurate and pre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Curve B: Instrument accurate but not pre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Curve C: Instrument precise but not accu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2109960" y="4724280"/>
            <a:ext cx="4994280" cy="0"/>
          </a:xfrm>
          <a:prstGeom prst="line">
            <a:avLst/>
          </a:prstGeom>
          <a:ln w="126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"/>
          <p:cNvSpPr/>
          <p:nvPr/>
        </p:nvSpPr>
        <p:spPr>
          <a:xfrm flipV="1">
            <a:off x="2109960" y="1523880"/>
            <a:ext cx="0" cy="3200400"/>
          </a:xfrm>
          <a:prstGeom prst="line">
            <a:avLst/>
          </a:prstGeom>
          <a:ln w="126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6"/>
          <p:cNvSpPr/>
          <p:nvPr/>
        </p:nvSpPr>
        <p:spPr>
          <a:xfrm>
            <a:off x="5627520" y="1600200"/>
            <a:ext cx="843120" cy="2971800"/>
          </a:xfrm>
          <a:custGeom>
            <a:avLst/>
            <a:gdLst/>
            <a:ahLst/>
            <a:rect l="l" t="t" r="r" b="b"/>
            <a:pathLst>
              <a:path w="576" h="1872">
                <a:moveTo>
                  <a:pt x="0" y="1872"/>
                </a:moveTo>
                <a:cubicBezTo>
                  <a:pt x="96" y="936"/>
                  <a:pt x="192" y="0"/>
                  <a:pt x="288" y="0"/>
                </a:cubicBezTo>
                <a:cubicBezTo>
                  <a:pt x="384" y="0"/>
                  <a:pt x="480" y="936"/>
                  <a:pt x="576" y="1872"/>
                </a:cubicBezTo>
              </a:path>
            </a:pathLst>
          </a:custGeom>
          <a:noFill/>
          <a:ln w="1260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3235320" y="1600200"/>
            <a:ext cx="844560" cy="2971800"/>
          </a:xfrm>
          <a:custGeom>
            <a:avLst/>
            <a:gdLst/>
            <a:ahLst/>
            <a:rect l="l" t="t" r="r" b="b"/>
            <a:pathLst>
              <a:path w="576" h="1872">
                <a:moveTo>
                  <a:pt x="0" y="1872"/>
                </a:moveTo>
                <a:cubicBezTo>
                  <a:pt x="96" y="936"/>
                  <a:pt x="192" y="0"/>
                  <a:pt x="288" y="0"/>
                </a:cubicBezTo>
                <a:cubicBezTo>
                  <a:pt x="384" y="0"/>
                  <a:pt x="480" y="936"/>
                  <a:pt x="576" y="1872"/>
                </a:cubicBezTo>
              </a:path>
            </a:pathLst>
          </a:custGeom>
          <a:noFill/>
          <a:ln w="1260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2320920" y="3733920"/>
            <a:ext cx="2813040" cy="838080"/>
          </a:xfrm>
          <a:custGeom>
            <a:avLst/>
            <a:gdLst/>
            <a:ahLst/>
            <a:rect l="l" t="t" r="r" b="b"/>
            <a:pathLst>
              <a:path w="1920" h="528">
                <a:moveTo>
                  <a:pt x="0" y="528"/>
                </a:moveTo>
                <a:cubicBezTo>
                  <a:pt x="296" y="264"/>
                  <a:pt x="592" y="0"/>
                  <a:pt x="912" y="0"/>
                </a:cubicBezTo>
                <a:cubicBezTo>
                  <a:pt x="1232" y="0"/>
                  <a:pt x="1576" y="264"/>
                  <a:pt x="1920" y="528"/>
                </a:cubicBezTo>
              </a:path>
            </a:pathLst>
          </a:custGeom>
          <a:noFill/>
          <a:ln w="1260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3587760" y="4724280"/>
            <a:ext cx="69840" cy="381240"/>
          </a:xfrm>
          <a:prstGeom prst="upArrow">
            <a:avLst>
              <a:gd name="adj1" fmla="val 50000"/>
              <a:gd name="adj2" fmla="val 136469"/>
            </a:avLst>
          </a:prstGeom>
          <a:solidFill>
            <a:srgbClr val="a31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581280" y="47610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Arial"/>
              </a:rPr>
              <a:t>Tru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785040" y="1335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4488480" y="3621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6333120" y="144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"/>
          <p:cNvSpPr/>
          <p:nvPr/>
        </p:nvSpPr>
        <p:spPr>
          <a:xfrm rot="16231800">
            <a:off x="859320" y="206064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3E7-D1D1-4882-A0BE-9AA25054C59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685800" y="-76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Accuracy and precision of a calibrated instrumen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23"/>
          <p:cNvGrpSpPr/>
          <p:nvPr/>
        </p:nvGrpSpPr>
        <p:grpSpPr>
          <a:xfrm>
            <a:off x="535320" y="1295280"/>
            <a:ext cx="7849800" cy="5149080"/>
            <a:chOff x="535320" y="1295280"/>
            <a:chExt cx="7849800" cy="5149080"/>
          </a:xfrm>
        </p:grpSpPr>
        <p:sp>
          <p:nvSpPr>
            <p:cNvPr id="305" name="Rectangle 3"/>
            <p:cNvSpPr/>
            <p:nvPr/>
          </p:nvSpPr>
          <p:spPr>
            <a:xfrm>
              <a:off x="535320" y="1643040"/>
              <a:ext cx="173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Trace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4"/>
            <p:cNvSpPr/>
            <p:nvPr/>
          </p:nvSpPr>
          <p:spPr>
            <a:xfrm>
              <a:off x="644760" y="2436840"/>
              <a:ext cx="1434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Accu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5"/>
            <p:cNvSpPr/>
            <p:nvPr/>
          </p:nvSpPr>
          <p:spPr>
            <a:xfrm>
              <a:off x="2436120" y="1584360"/>
              <a:ext cx="1987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99"/>
                  </a:solidFill>
                  <a:latin typeface="Arial Narrow"/>
                </a:rPr>
                <a:t>Primary stand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99"/>
                  </a:solidFill>
                  <a:latin typeface="Arial Narrow"/>
                </a:rPr>
                <a:t>(absolute measurem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508280" y="1584360"/>
              <a:ext cx="1675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99"/>
                  </a:solidFill>
                  <a:latin typeface="Arial Narrow"/>
                </a:rPr>
                <a:t>Secondary stand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6844320" y="1584360"/>
              <a:ext cx="1365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99"/>
                  </a:solidFill>
                  <a:latin typeface="Arial Narrow"/>
                </a:rPr>
                <a:t>Field instr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943240" y="1301760"/>
              <a:ext cx="1050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Arial Narrow"/>
                </a:rPr>
                <a:t>Calib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449240" y="2219400"/>
              <a:ext cx="158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decre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609480" y="3130560"/>
              <a:ext cx="7775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Relative uncertainty associated to the dosimetric quantity Q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541440" y="4425840"/>
              <a:ext cx="7173720" cy="20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Wher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1" lang="it-IT" sz="2400" spc="-1" strike="noStrike" baseline="-25000">
                  <a:solidFill>
                    <a:srgbClr val="ff9900"/>
                  </a:solidFill>
                  <a:latin typeface="Arial"/>
                </a:rPr>
                <a:t>C</a:t>
              </a: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 is the relative uncertainty of the reading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the </a:t>
              </a: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calibrated</a:t>
              </a: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 instr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1" lang="it-IT" sz="2400" spc="-1" strike="noStrike" baseline="-25000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 is the relative uncertainty of the reading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the </a:t>
              </a: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reading</a:t>
              </a: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 instr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3541320" y="1295280"/>
              <a:ext cx="1050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99"/>
                  </a:solidFill>
                  <a:latin typeface="Arial Narrow"/>
                </a:rPr>
                <a:t>Calib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4"/>
            <p:cNvSpPr/>
            <p:nvPr/>
          </p:nvSpPr>
          <p:spPr>
            <a:xfrm>
              <a:off x="3886200" y="1733400"/>
              <a:ext cx="6364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6248520" y="1733400"/>
              <a:ext cx="6094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2260440" y="2671920"/>
              <a:ext cx="573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3279960" y="3816360"/>
              <a:ext cx="2948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0" i="1" lang="en-US" sz="3600" spc="-1" strike="noStrike" baseline="-25000">
                  <a:solidFill>
                    <a:srgbClr val="ff9900"/>
                  </a:solidFill>
                  <a:latin typeface="Arial"/>
                </a:rPr>
                <a:t>Q</a:t>
              </a:r>
              <a:r>
                <a:rPr b="0" i="1" lang="en-US" sz="3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i="1" lang="en-US" sz="3600" spc="-1" strike="noStrike">
                  <a:solidFill>
                    <a:srgbClr val="ff9900"/>
                  </a:solidFill>
                  <a:latin typeface="Arial"/>
                </a:rPr>
                <a:t> ≥ r</a:t>
              </a:r>
              <a:r>
                <a:rPr b="0" i="1" lang="en-US" sz="3600" spc="-1" strike="noStrike" baseline="-25000">
                  <a:solidFill>
                    <a:srgbClr val="ff9900"/>
                  </a:solidFill>
                  <a:latin typeface="Arial"/>
                </a:rPr>
                <a:t>C</a:t>
              </a:r>
              <a:r>
                <a:rPr b="0" i="1" lang="en-US" sz="3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i="1" lang="en-US" sz="3600" spc="-1" strike="noStrike">
                  <a:solidFill>
                    <a:srgbClr val="ff9900"/>
                  </a:solidFill>
                  <a:latin typeface="Arial"/>
                </a:rPr>
                <a:t>  +  r</a:t>
              </a:r>
              <a:r>
                <a:rPr b="0" i="1" lang="en-US" sz="3600" spc="-1" strike="noStrike" baseline="-25000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0" i="1" lang="en-US" sz="3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417-5F64-4D73-A658-23AAD50E4A0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quirements on Diagnostic dosimeter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11280" y="2050920"/>
            <a:ext cx="243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Trac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34040" y="3917880"/>
            <a:ext cx="20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745560" y="2870280"/>
            <a:ext cx="702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Well defined reference X Ray spec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2793240" y="4680000"/>
            <a:ext cx="338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At least 10 - 3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51C-EB9A-48FE-9F7E-DA1CE141C93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Limits of error in the response of diagnostic dosimeter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609480" y="1523880"/>
            <a:ext cx="1973520" cy="69696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3800" y="1523880"/>
            <a:ext cx="1973520" cy="69696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Range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576680" y="1523880"/>
            <a:ext cx="1974960" cy="69696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Reference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6561000" y="1523880"/>
            <a:ext cx="1973520" cy="69696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Deviation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609480" y="2233440"/>
            <a:ext cx="1973520" cy="69876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Radiation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593800" y="2233440"/>
            <a:ext cx="1973520" cy="69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According to 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4576680" y="2233440"/>
            <a:ext cx="1974960" cy="69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70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561000" y="2233440"/>
            <a:ext cx="1973520" cy="69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09480" y="2943360"/>
            <a:ext cx="1973520" cy="69840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Dose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2593800" y="2943360"/>
            <a:ext cx="197352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According to 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4576680" y="2943360"/>
            <a:ext cx="197496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6561000" y="2943360"/>
            <a:ext cx="197352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609480" y="3652920"/>
            <a:ext cx="1973520" cy="69840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Direction of radiation inc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2593800" y="3652920"/>
            <a:ext cx="197352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±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8"/>
          <p:cNvSpPr/>
          <p:nvPr/>
        </p:nvSpPr>
        <p:spPr>
          <a:xfrm>
            <a:off x="4576680" y="3652920"/>
            <a:ext cx="197496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Preferenc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6561000" y="3652920"/>
            <a:ext cx="197352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609480" y="4362480"/>
            <a:ext cx="1973520" cy="69840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Atmospheric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2593800" y="4362480"/>
            <a:ext cx="197352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80-106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2"/>
          <p:cNvSpPr/>
          <p:nvPr/>
        </p:nvSpPr>
        <p:spPr>
          <a:xfrm>
            <a:off x="4576680" y="4362480"/>
            <a:ext cx="197496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101.3 h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3"/>
          <p:cNvSpPr/>
          <p:nvPr/>
        </p:nvSpPr>
        <p:spPr>
          <a:xfrm>
            <a:off x="6561000" y="4362480"/>
            <a:ext cx="1973520" cy="69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609480" y="5073480"/>
            <a:ext cx="1973520" cy="696960"/>
          </a:xfrm>
          <a:prstGeom prst="rect">
            <a:avLst/>
          </a:prstGeom>
          <a:solidFill>
            <a:srgbClr val="f9f0d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Ambient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2593800" y="5073480"/>
            <a:ext cx="1973520" cy="69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15-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4576680" y="5073480"/>
            <a:ext cx="1974960" cy="69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20°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7"/>
          <p:cNvSpPr/>
          <p:nvPr/>
        </p:nvSpPr>
        <p:spPr>
          <a:xfrm>
            <a:off x="6561000" y="5073480"/>
            <a:ext cx="1973520" cy="69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art 10: Patient dose assess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opic 4: Dose measurements: how to measure dose indicators ESD, DAP,CTDI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304920" y="3049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1067-7965-4478-A3B6-8FF49F78B34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arameters influencing patient expos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osimetry metho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strument calibr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ose measuremen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FC0-E573-4EED-8B4D-6A8E0465D74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hat we want to measur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radiation output of X Ray tub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dose-area produ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computed-tomography dose index (CTDI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Entrance surface d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D42-8E9D-4401-8709-A6504932B81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Measurements of Radiation Outpu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1353960" y="1487520"/>
            <a:ext cx="2630520" cy="4159080"/>
            <a:chOff x="1353960" y="1487520"/>
            <a:chExt cx="2630520" cy="4159080"/>
          </a:xfrm>
        </p:grpSpPr>
        <p:sp>
          <p:nvSpPr>
            <p:cNvPr id="364" name="Freeform 4"/>
            <p:cNvSpPr/>
            <p:nvPr/>
          </p:nvSpPr>
          <p:spPr>
            <a:xfrm>
              <a:off x="2237040" y="1845720"/>
              <a:ext cx="943920" cy="1135080"/>
            </a:xfrm>
            <a:custGeom>
              <a:avLst/>
              <a:gdLst/>
              <a:ahLst/>
              <a:rect l="l" t="t" r="r" b="b"/>
              <a:pathLst>
                <a:path w="685" h="757">
                  <a:moveTo>
                    <a:pt x="0" y="0"/>
                  </a:moveTo>
                  <a:lnTo>
                    <a:pt x="684" y="0"/>
                  </a:lnTo>
                  <a:lnTo>
                    <a:pt x="684" y="444"/>
                  </a:lnTo>
                  <a:lnTo>
                    <a:pt x="432" y="444"/>
                  </a:lnTo>
                  <a:lnTo>
                    <a:pt x="588" y="756"/>
                  </a:lnTo>
                  <a:lnTo>
                    <a:pt x="552" y="756"/>
                  </a:lnTo>
                  <a:lnTo>
                    <a:pt x="72" y="756"/>
                  </a:lnTo>
                  <a:lnTo>
                    <a:pt x="228" y="444"/>
                  </a:lnTo>
                  <a:lnTo>
                    <a:pt x="0" y="44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2523600" y="2385720"/>
              <a:ext cx="35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2603520" y="2139840"/>
              <a:ext cx="190080" cy="8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7"/>
            <p:cNvSpPr/>
            <p:nvPr/>
          </p:nvSpPr>
          <p:spPr>
            <a:xfrm flipH="1">
              <a:off x="1789200" y="2192400"/>
              <a:ext cx="907920" cy="30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2697120" y="2189160"/>
              <a:ext cx="902160" cy="302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1353960" y="5226480"/>
              <a:ext cx="2630520" cy="13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 flipH="1">
              <a:off x="2682000" y="1487520"/>
              <a:ext cx="23400" cy="415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Freeform 11"/>
          <p:cNvSpPr/>
          <p:nvPr/>
        </p:nvSpPr>
        <p:spPr>
          <a:xfrm>
            <a:off x="2986200" y="1635120"/>
            <a:ext cx="1401480" cy="433440"/>
          </a:xfrm>
          <a:custGeom>
            <a:avLst/>
            <a:gdLst/>
            <a:ahLst/>
            <a:rect l="l" t="t" r="r" b="b"/>
            <a:pathLst>
              <a:path w="1018" h="289">
                <a:moveTo>
                  <a:pt x="0" y="288"/>
                </a:moveTo>
                <a:lnTo>
                  <a:pt x="243" y="0"/>
                </a:lnTo>
                <a:lnTo>
                  <a:pt x="101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12"/>
          <p:cNvSpPr/>
          <p:nvPr/>
        </p:nvSpPr>
        <p:spPr>
          <a:xfrm>
            <a:off x="2824200" y="2390760"/>
            <a:ext cx="1488960" cy="365040"/>
          </a:xfrm>
          <a:custGeom>
            <a:avLst/>
            <a:gdLst/>
            <a:ahLst/>
            <a:rect l="l" t="t" r="r" b="b"/>
            <a:pathLst>
              <a:path w="1081" h="244">
                <a:moveTo>
                  <a:pt x="0" y="0"/>
                </a:moveTo>
                <a:lnTo>
                  <a:pt x="252" y="243"/>
                </a:lnTo>
                <a:lnTo>
                  <a:pt x="1080" y="2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1263600" y="5307120"/>
            <a:ext cx="1400400" cy="541080"/>
          </a:xfrm>
          <a:custGeom>
            <a:avLst/>
            <a:gdLst/>
            <a:ahLst/>
            <a:rect l="l" t="t" r="r" b="b"/>
            <a:pathLst>
              <a:path w="1018" h="361">
                <a:moveTo>
                  <a:pt x="216" y="0"/>
                </a:moveTo>
                <a:lnTo>
                  <a:pt x="0" y="360"/>
                </a:lnTo>
                <a:lnTo>
                  <a:pt x="1017" y="3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062080" y="5137200"/>
            <a:ext cx="1290600" cy="55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5"/>
          <p:cNvSpPr/>
          <p:nvPr/>
        </p:nvSpPr>
        <p:spPr>
          <a:xfrm>
            <a:off x="2619360" y="4933800"/>
            <a:ext cx="149400" cy="16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16"/>
          <p:cNvSpPr/>
          <p:nvPr/>
        </p:nvSpPr>
        <p:spPr>
          <a:xfrm>
            <a:off x="3295800" y="5157720"/>
            <a:ext cx="1403280" cy="568440"/>
          </a:xfrm>
          <a:custGeom>
            <a:avLst/>
            <a:gdLst/>
            <a:ahLst/>
            <a:rect l="l" t="t" r="r" b="b"/>
            <a:pathLst>
              <a:path w="1018" h="379">
                <a:moveTo>
                  <a:pt x="0" y="0"/>
                </a:moveTo>
                <a:lnTo>
                  <a:pt x="252" y="369"/>
                </a:lnTo>
                <a:lnTo>
                  <a:pt x="1017" y="369"/>
                </a:lnTo>
                <a:lnTo>
                  <a:pt x="1017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7"/>
          <p:cNvSpPr/>
          <p:nvPr/>
        </p:nvSpPr>
        <p:spPr>
          <a:xfrm>
            <a:off x="2725560" y="4605480"/>
            <a:ext cx="1737000" cy="379440"/>
          </a:xfrm>
          <a:custGeom>
            <a:avLst/>
            <a:gdLst/>
            <a:ahLst/>
            <a:rect l="l" t="t" r="r" b="b"/>
            <a:pathLst>
              <a:path w="1261" h="253">
                <a:moveTo>
                  <a:pt x="0" y="252"/>
                </a:moveTo>
                <a:lnTo>
                  <a:pt x="342" y="0"/>
                </a:lnTo>
                <a:lnTo>
                  <a:pt x="12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8"/>
          <p:cNvSpPr/>
          <p:nvPr/>
        </p:nvSpPr>
        <p:spPr>
          <a:xfrm flipH="1">
            <a:off x="736200" y="2174760"/>
            <a:ext cx="14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9"/>
          <p:cNvSpPr/>
          <p:nvPr/>
        </p:nvSpPr>
        <p:spPr>
          <a:xfrm flipH="1">
            <a:off x="649080" y="518472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828720" y="2193840"/>
            <a:ext cx="0" cy="2957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3386160" y="121932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X Ray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3546720" y="23670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3"/>
          <p:cNvSpPr/>
          <p:nvPr/>
        </p:nvSpPr>
        <p:spPr>
          <a:xfrm>
            <a:off x="3422160" y="4216320"/>
            <a:ext cx="196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Ion. 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4"/>
          <p:cNvSpPr/>
          <p:nvPr/>
        </p:nvSpPr>
        <p:spPr>
          <a:xfrm>
            <a:off x="3684960" y="5349960"/>
            <a:ext cx="1501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Lead s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5"/>
          <p:cNvSpPr/>
          <p:nvPr/>
        </p:nvSpPr>
        <p:spPr>
          <a:xfrm>
            <a:off x="1440720" y="547200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Tabl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534600" y="333864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S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27"/>
          <p:cNvGrpSpPr/>
          <p:nvPr/>
        </p:nvGrpSpPr>
        <p:grpSpPr>
          <a:xfrm>
            <a:off x="5888160" y="1644480"/>
            <a:ext cx="2630520" cy="4159440"/>
            <a:chOff x="5888160" y="1644480"/>
            <a:chExt cx="2630520" cy="4159440"/>
          </a:xfrm>
        </p:grpSpPr>
        <p:sp>
          <p:nvSpPr>
            <p:cNvPr id="388" name="Freeform 28"/>
            <p:cNvSpPr/>
            <p:nvPr/>
          </p:nvSpPr>
          <p:spPr>
            <a:xfrm>
              <a:off x="6771240" y="2002680"/>
              <a:ext cx="943560" cy="1135080"/>
            </a:xfrm>
            <a:custGeom>
              <a:avLst/>
              <a:gdLst/>
              <a:ahLst/>
              <a:rect l="l" t="t" r="r" b="b"/>
              <a:pathLst>
                <a:path w="685" h="757">
                  <a:moveTo>
                    <a:pt x="0" y="0"/>
                  </a:moveTo>
                  <a:lnTo>
                    <a:pt x="684" y="0"/>
                  </a:lnTo>
                  <a:lnTo>
                    <a:pt x="684" y="444"/>
                  </a:lnTo>
                  <a:lnTo>
                    <a:pt x="432" y="444"/>
                  </a:lnTo>
                  <a:lnTo>
                    <a:pt x="588" y="756"/>
                  </a:lnTo>
                  <a:lnTo>
                    <a:pt x="552" y="756"/>
                  </a:lnTo>
                  <a:lnTo>
                    <a:pt x="72" y="756"/>
                  </a:lnTo>
                  <a:lnTo>
                    <a:pt x="228" y="444"/>
                  </a:lnTo>
                  <a:lnTo>
                    <a:pt x="0" y="44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9"/>
            <p:cNvSpPr/>
            <p:nvPr/>
          </p:nvSpPr>
          <p:spPr>
            <a:xfrm>
              <a:off x="7057800" y="2543040"/>
              <a:ext cx="35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30"/>
            <p:cNvSpPr/>
            <p:nvPr/>
          </p:nvSpPr>
          <p:spPr>
            <a:xfrm>
              <a:off x="7138080" y="2297160"/>
              <a:ext cx="189720" cy="8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31"/>
            <p:cNvSpPr/>
            <p:nvPr/>
          </p:nvSpPr>
          <p:spPr>
            <a:xfrm flipH="1">
              <a:off x="6323400" y="2349360"/>
              <a:ext cx="907920" cy="30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31320" y="2346480"/>
              <a:ext cx="902520" cy="30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5888160" y="5383800"/>
              <a:ext cx="2630520" cy="13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 flipH="1">
              <a:off x="7216200" y="1644480"/>
              <a:ext cx="23400" cy="4159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Rectangle 35"/>
          <p:cNvSpPr/>
          <p:nvPr/>
        </p:nvSpPr>
        <p:spPr>
          <a:xfrm>
            <a:off x="6595920" y="5294160"/>
            <a:ext cx="1290960" cy="5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6"/>
          <p:cNvSpPr/>
          <p:nvPr/>
        </p:nvSpPr>
        <p:spPr>
          <a:xfrm>
            <a:off x="7153200" y="5092560"/>
            <a:ext cx="149400" cy="16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7"/>
          <p:cNvSpPr/>
          <p:nvPr/>
        </p:nvSpPr>
        <p:spPr>
          <a:xfrm>
            <a:off x="6611760" y="4475160"/>
            <a:ext cx="1278000" cy="87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8"/>
          <p:cNvSpPr/>
          <p:nvPr/>
        </p:nvSpPr>
        <p:spPr>
          <a:xfrm>
            <a:off x="6321600" y="4888080"/>
            <a:ext cx="1365120" cy="1215720"/>
          </a:xfrm>
          <a:custGeom>
            <a:avLst/>
            <a:gdLst/>
            <a:ahLst/>
            <a:rect l="l" t="t" r="r" b="b"/>
            <a:pathLst>
              <a:path w="991" h="811">
                <a:moveTo>
                  <a:pt x="349" y="0"/>
                </a:moveTo>
                <a:lnTo>
                  <a:pt x="0" y="810"/>
                </a:lnTo>
                <a:lnTo>
                  <a:pt x="990" y="8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9"/>
          <p:cNvSpPr/>
          <p:nvPr/>
        </p:nvSpPr>
        <p:spPr>
          <a:xfrm>
            <a:off x="6534360" y="5688000"/>
            <a:ext cx="229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Phantom (P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33AC-D54A-4D50-98CC-A2AA1E4B4B7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Measurements of Radiation Outpu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Operating condi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Consistency che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output as a function of kV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output as a function of m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output as a function of exposure ti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D198-524D-4CD8-AEC9-037A32C6A3C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Object 2"/>
          <p:cNvGraphicFramePr/>
          <p:nvPr/>
        </p:nvGraphicFramePr>
        <p:xfrm>
          <a:off x="2125800" y="4702320"/>
          <a:ext cx="4398840" cy="114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4702320"/>
                    <a:ext cx="439884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ose Area Product (DAP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9" name="Group 4"/>
          <p:cNvGrpSpPr/>
          <p:nvPr/>
        </p:nvGrpSpPr>
        <p:grpSpPr>
          <a:xfrm>
            <a:off x="3162240" y="1725480"/>
            <a:ext cx="2797200" cy="4402440"/>
            <a:chOff x="3162240" y="1725480"/>
            <a:chExt cx="2797200" cy="4402440"/>
          </a:xfrm>
        </p:grpSpPr>
        <p:sp>
          <p:nvSpPr>
            <p:cNvPr id="410" name="Freeform 5"/>
            <p:cNvSpPr/>
            <p:nvPr/>
          </p:nvSpPr>
          <p:spPr>
            <a:xfrm>
              <a:off x="4101480" y="2104920"/>
              <a:ext cx="1003320" cy="1201680"/>
            </a:xfrm>
            <a:custGeom>
              <a:avLst/>
              <a:gdLst/>
              <a:ahLst/>
              <a:rect l="l" t="t" r="r" b="b"/>
              <a:pathLst>
                <a:path w="685" h="757">
                  <a:moveTo>
                    <a:pt x="0" y="0"/>
                  </a:moveTo>
                  <a:lnTo>
                    <a:pt x="684" y="0"/>
                  </a:lnTo>
                  <a:lnTo>
                    <a:pt x="684" y="444"/>
                  </a:lnTo>
                  <a:lnTo>
                    <a:pt x="432" y="444"/>
                  </a:lnTo>
                  <a:lnTo>
                    <a:pt x="588" y="756"/>
                  </a:lnTo>
                  <a:lnTo>
                    <a:pt x="552" y="756"/>
                  </a:lnTo>
                  <a:lnTo>
                    <a:pt x="72" y="756"/>
                  </a:lnTo>
                  <a:lnTo>
                    <a:pt x="228" y="444"/>
                  </a:lnTo>
                  <a:lnTo>
                    <a:pt x="0" y="44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6"/>
            <p:cNvSpPr/>
            <p:nvPr/>
          </p:nvSpPr>
          <p:spPr>
            <a:xfrm>
              <a:off x="4406040" y="2676600"/>
              <a:ext cx="37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4491360" y="2416320"/>
              <a:ext cx="20196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 flipH="1">
              <a:off x="3625200" y="2471760"/>
              <a:ext cx="965520" cy="319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9"/>
            <p:cNvSpPr/>
            <p:nvPr/>
          </p:nvSpPr>
          <p:spPr>
            <a:xfrm>
              <a:off x="4591080" y="2468520"/>
              <a:ext cx="959400" cy="32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0"/>
            <p:cNvSpPr/>
            <p:nvPr/>
          </p:nvSpPr>
          <p:spPr>
            <a:xfrm>
              <a:off x="3162240" y="5683320"/>
              <a:ext cx="27972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 flipH="1">
              <a:off x="4574160" y="1725480"/>
              <a:ext cx="24840" cy="440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Rectangle 13"/>
          <p:cNvSpPr/>
          <p:nvPr/>
        </p:nvSpPr>
        <p:spPr>
          <a:xfrm>
            <a:off x="3892680" y="3778200"/>
            <a:ext cx="1319040" cy="87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4"/>
          <p:cNvSpPr/>
          <p:nvPr/>
        </p:nvSpPr>
        <p:spPr>
          <a:xfrm>
            <a:off x="5211720" y="381492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15"/>
          <p:cNvSpPr/>
          <p:nvPr/>
        </p:nvSpPr>
        <p:spPr>
          <a:xfrm>
            <a:off x="6226200" y="3621240"/>
            <a:ext cx="304920" cy="330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6"/>
          <p:cNvSpPr/>
          <p:nvPr/>
        </p:nvSpPr>
        <p:spPr>
          <a:xfrm flipH="1">
            <a:off x="6319440" y="3692520"/>
            <a:ext cx="144360" cy="201600"/>
          </a:xfrm>
          <a:prstGeom prst="line">
            <a:avLst/>
          </a:prstGeom>
          <a:ln w="12600">
            <a:solidFill>
              <a:srgbClr val="a31f0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1600200" y="2889360"/>
            <a:ext cx="2171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Transmission ionization 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2098800" y="5692680"/>
            <a:ext cx="4484520" cy="14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ABE-266D-4558-8510-B5B8BE5854C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ose Area Product (DAP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Line 3"/>
          <p:cNvSpPr/>
          <p:nvPr/>
        </p:nvSpPr>
        <p:spPr>
          <a:xfrm flipV="1">
            <a:off x="990720" y="1447920"/>
            <a:ext cx="7162560" cy="1063440"/>
          </a:xfrm>
          <a:prstGeom prst="line">
            <a:avLst/>
          </a:prstGeom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"/>
          <p:cNvSpPr/>
          <p:nvPr/>
        </p:nvSpPr>
        <p:spPr>
          <a:xfrm>
            <a:off x="1003320" y="2525760"/>
            <a:ext cx="7226280" cy="1208160"/>
          </a:xfrm>
          <a:prstGeom prst="line">
            <a:avLst/>
          </a:prstGeom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2437560" y="2793960"/>
            <a:ext cx="94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0.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4110840" y="307980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7133400" y="350820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455760" y="4022640"/>
            <a:ext cx="2973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ir Ke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rea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xposu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2063880" y="4038480"/>
            <a:ext cx="1769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40*10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3</a:t>
            </a:r>
            <a:r>
              <a:rPr b="0" lang="it-IT" sz="2400" spc="-1" strike="noStrike" baseline="30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2.5*10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-3</a:t>
            </a:r>
            <a:r>
              <a:rPr b="0" lang="it-IT" sz="2400" spc="-1" strike="noStrike" baseline="30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100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 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3853800" y="4038480"/>
            <a:ext cx="1778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10*10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3</a:t>
            </a:r>
            <a:r>
              <a:rPr b="0" lang="it-IT" sz="2400" spc="-1" strike="noStrike" baseline="30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10*10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-3 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100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 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6981120" y="4037040"/>
            <a:ext cx="17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2.5*10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3</a:t>
            </a:r>
            <a:r>
              <a:rPr b="0" lang="it-IT" sz="2400" spc="-1" strike="noStrike" baseline="30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40*10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-3 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100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 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2"/>
          <p:cNvSpPr/>
          <p:nvPr/>
        </p:nvSpPr>
        <p:spPr>
          <a:xfrm rot="2700000">
            <a:off x="2660400" y="2368440"/>
            <a:ext cx="330120" cy="304920"/>
          </a:xfrm>
          <a:prstGeom prst="rect">
            <a:avLst/>
          </a:prstGeom>
          <a:solidFill>
            <a:srgbClr val="99ccff"/>
          </a:solidFill>
          <a:ln w="12600">
            <a:solidFill>
              <a:srgbClr val="a3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13"/>
          <p:cNvGrpSpPr/>
          <p:nvPr/>
        </p:nvGrpSpPr>
        <p:grpSpPr>
          <a:xfrm>
            <a:off x="3874680" y="1985400"/>
            <a:ext cx="1089360" cy="1134720"/>
            <a:chOff x="3874680" y="1985400"/>
            <a:chExt cx="1089360" cy="1134720"/>
          </a:xfrm>
        </p:grpSpPr>
        <p:sp>
          <p:nvSpPr>
            <p:cNvPr id="437" name="Rectangle 14"/>
            <p:cNvSpPr/>
            <p:nvPr/>
          </p:nvSpPr>
          <p:spPr>
            <a:xfrm rot="2700000">
              <a:off x="3946680" y="2366640"/>
              <a:ext cx="402120" cy="371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 rot="2700000">
              <a:off x="4217760" y="2660760"/>
              <a:ext cx="402120" cy="371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 rot="2700000">
              <a:off x="4489200" y="2366640"/>
              <a:ext cx="402120" cy="371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 rot="2700000">
              <a:off x="4217400" y="2073240"/>
              <a:ext cx="402480" cy="371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6474600" y="1572120"/>
            <a:ext cx="1908720" cy="2043360"/>
            <a:chOff x="6474600" y="1572120"/>
            <a:chExt cx="1908720" cy="2043360"/>
          </a:xfrm>
        </p:grpSpPr>
        <p:grpSp>
          <p:nvGrpSpPr>
            <p:cNvPr id="442" name="Group 19"/>
            <p:cNvGrpSpPr/>
            <p:nvPr/>
          </p:nvGrpSpPr>
          <p:grpSpPr>
            <a:xfrm>
              <a:off x="6474600" y="2089800"/>
              <a:ext cx="959760" cy="1004040"/>
              <a:chOff x="6474600" y="2089800"/>
              <a:chExt cx="959760" cy="1004040"/>
            </a:xfrm>
          </p:grpSpPr>
          <p:sp>
            <p:nvSpPr>
              <p:cNvPr id="443" name="Rectangle 20"/>
              <p:cNvSpPr/>
              <p:nvPr/>
            </p:nvSpPr>
            <p:spPr>
              <a:xfrm rot="2700000">
                <a:off x="6537600" y="2428560"/>
                <a:ext cx="35640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1"/>
              <p:cNvSpPr/>
              <p:nvPr/>
            </p:nvSpPr>
            <p:spPr>
              <a:xfrm rot="2700000">
                <a:off x="6775920" y="2689200"/>
                <a:ext cx="35640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2"/>
              <p:cNvSpPr/>
              <p:nvPr/>
            </p:nvSpPr>
            <p:spPr>
              <a:xfrm rot="2700000">
                <a:off x="7014600" y="2428560"/>
                <a:ext cx="35640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23"/>
              <p:cNvSpPr/>
              <p:nvPr/>
            </p:nvSpPr>
            <p:spPr>
              <a:xfrm rot="2700000">
                <a:off x="6775920" y="2167920"/>
                <a:ext cx="35676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4"/>
            <p:cNvGrpSpPr/>
            <p:nvPr/>
          </p:nvGrpSpPr>
          <p:grpSpPr>
            <a:xfrm>
              <a:off x="6946920" y="1572120"/>
              <a:ext cx="960120" cy="1004040"/>
              <a:chOff x="6946920" y="1572120"/>
              <a:chExt cx="960120" cy="1004040"/>
            </a:xfrm>
          </p:grpSpPr>
          <p:sp>
            <p:nvSpPr>
              <p:cNvPr id="448" name="Rectangle 25"/>
              <p:cNvSpPr/>
              <p:nvPr/>
            </p:nvSpPr>
            <p:spPr>
              <a:xfrm rot="2700000">
                <a:off x="7009920" y="1910520"/>
                <a:ext cx="35640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26"/>
              <p:cNvSpPr/>
              <p:nvPr/>
            </p:nvSpPr>
            <p:spPr>
              <a:xfrm rot="2700000">
                <a:off x="7248240" y="2171160"/>
                <a:ext cx="35676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27"/>
              <p:cNvSpPr/>
              <p:nvPr/>
            </p:nvSpPr>
            <p:spPr>
              <a:xfrm rot="2700000">
                <a:off x="7487280" y="1910520"/>
                <a:ext cx="35640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28"/>
              <p:cNvSpPr/>
              <p:nvPr/>
            </p:nvSpPr>
            <p:spPr>
              <a:xfrm rot="2700000">
                <a:off x="7248240" y="1650240"/>
                <a:ext cx="35640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29"/>
            <p:cNvGrpSpPr/>
            <p:nvPr/>
          </p:nvGrpSpPr>
          <p:grpSpPr>
            <a:xfrm>
              <a:off x="7422840" y="2087640"/>
              <a:ext cx="960480" cy="1004400"/>
              <a:chOff x="7422840" y="2087640"/>
              <a:chExt cx="960480" cy="1004400"/>
            </a:xfrm>
          </p:grpSpPr>
          <p:sp>
            <p:nvSpPr>
              <p:cNvPr id="453" name="Rectangle 30"/>
              <p:cNvSpPr/>
              <p:nvPr/>
            </p:nvSpPr>
            <p:spPr>
              <a:xfrm rot="2700000">
                <a:off x="7485840" y="2426400"/>
                <a:ext cx="35676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31"/>
              <p:cNvSpPr/>
              <p:nvPr/>
            </p:nvSpPr>
            <p:spPr>
              <a:xfrm rot="2700000">
                <a:off x="7724520" y="2687040"/>
                <a:ext cx="356400" cy="3268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32"/>
              <p:cNvSpPr/>
              <p:nvPr/>
            </p:nvSpPr>
            <p:spPr>
              <a:xfrm rot="2700000">
                <a:off x="7963200" y="2426400"/>
                <a:ext cx="35676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33"/>
              <p:cNvSpPr/>
              <p:nvPr/>
            </p:nvSpPr>
            <p:spPr>
              <a:xfrm rot="2700000">
                <a:off x="7724520" y="2165760"/>
                <a:ext cx="356400" cy="3268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34"/>
            <p:cNvGrpSpPr/>
            <p:nvPr/>
          </p:nvGrpSpPr>
          <p:grpSpPr>
            <a:xfrm>
              <a:off x="6951600" y="2611080"/>
              <a:ext cx="960480" cy="1004400"/>
              <a:chOff x="6951600" y="2611080"/>
              <a:chExt cx="960480" cy="1004400"/>
            </a:xfrm>
          </p:grpSpPr>
          <p:sp>
            <p:nvSpPr>
              <p:cNvPr id="458" name="Rectangle 35"/>
              <p:cNvSpPr/>
              <p:nvPr/>
            </p:nvSpPr>
            <p:spPr>
              <a:xfrm rot="2700000">
                <a:off x="7014600" y="2949840"/>
                <a:ext cx="35676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36"/>
              <p:cNvSpPr/>
              <p:nvPr/>
            </p:nvSpPr>
            <p:spPr>
              <a:xfrm rot="2700000">
                <a:off x="7253280" y="3210480"/>
                <a:ext cx="356400" cy="3268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37"/>
              <p:cNvSpPr/>
              <p:nvPr/>
            </p:nvSpPr>
            <p:spPr>
              <a:xfrm rot="2700000">
                <a:off x="7491960" y="2949840"/>
                <a:ext cx="356760" cy="326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38"/>
              <p:cNvSpPr/>
              <p:nvPr/>
            </p:nvSpPr>
            <p:spPr>
              <a:xfrm rot="2700000">
                <a:off x="7253280" y="2689200"/>
                <a:ext cx="356400" cy="3268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9BD7-DAEC-437B-AF7A-C2973F3357F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alibration of a Dose Area Product (DAP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5" name="Group 43"/>
          <p:cNvGrpSpPr/>
          <p:nvPr/>
        </p:nvGrpSpPr>
        <p:grpSpPr>
          <a:xfrm>
            <a:off x="685800" y="1447920"/>
            <a:ext cx="7945560" cy="4390560"/>
            <a:chOff x="685800" y="1447920"/>
            <a:chExt cx="7945560" cy="4390560"/>
          </a:xfrm>
        </p:grpSpPr>
        <p:grpSp>
          <p:nvGrpSpPr>
            <p:cNvPr id="466" name="Group 3"/>
            <p:cNvGrpSpPr/>
            <p:nvPr/>
          </p:nvGrpSpPr>
          <p:grpSpPr>
            <a:xfrm>
              <a:off x="685800" y="1447920"/>
              <a:ext cx="2684160" cy="4178520"/>
              <a:chOff x="685800" y="1447920"/>
              <a:chExt cx="2684160" cy="4178520"/>
            </a:xfrm>
          </p:grpSpPr>
          <p:sp>
            <p:nvSpPr>
              <p:cNvPr id="467" name="Freeform 4"/>
              <p:cNvSpPr/>
              <p:nvPr/>
            </p:nvSpPr>
            <p:spPr>
              <a:xfrm>
                <a:off x="1586880" y="1807920"/>
                <a:ext cx="962640" cy="1140480"/>
              </a:xfrm>
              <a:custGeom>
                <a:avLst/>
                <a:gdLst/>
                <a:ahLst/>
                <a:rect l="l" t="t" r="r" b="b"/>
                <a:pathLst>
                  <a:path w="685" h="757">
                    <a:moveTo>
                      <a:pt x="0" y="0"/>
                    </a:moveTo>
                    <a:lnTo>
                      <a:pt x="684" y="0"/>
                    </a:lnTo>
                    <a:lnTo>
                      <a:pt x="684" y="444"/>
                    </a:lnTo>
                    <a:lnTo>
                      <a:pt x="432" y="444"/>
                    </a:lnTo>
                    <a:lnTo>
                      <a:pt x="588" y="756"/>
                    </a:lnTo>
                    <a:lnTo>
                      <a:pt x="552" y="756"/>
                    </a:lnTo>
                    <a:lnTo>
                      <a:pt x="72" y="756"/>
                    </a:lnTo>
                    <a:lnTo>
                      <a:pt x="228" y="444"/>
                    </a:lnTo>
                    <a:lnTo>
                      <a:pt x="0" y="44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5"/>
              <p:cNvSpPr/>
              <p:nvPr/>
            </p:nvSpPr>
            <p:spPr>
              <a:xfrm>
                <a:off x="1879560" y="2350080"/>
                <a:ext cx="35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6"/>
              <p:cNvSpPr/>
              <p:nvPr/>
            </p:nvSpPr>
            <p:spPr>
              <a:xfrm>
                <a:off x="1960920" y="2103120"/>
                <a:ext cx="194040" cy="8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Line 7"/>
              <p:cNvSpPr/>
              <p:nvPr/>
            </p:nvSpPr>
            <p:spPr>
              <a:xfrm flipH="1">
                <a:off x="1129320" y="2156040"/>
                <a:ext cx="926280" cy="30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Line 8"/>
              <p:cNvSpPr/>
              <p:nvPr/>
            </p:nvSpPr>
            <p:spPr>
              <a:xfrm>
                <a:off x="2056320" y="2153160"/>
                <a:ext cx="920880" cy="303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9"/>
              <p:cNvSpPr/>
              <p:nvPr/>
            </p:nvSpPr>
            <p:spPr>
              <a:xfrm>
                <a:off x="685800" y="5204160"/>
                <a:ext cx="2684160" cy="137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Line 10"/>
              <p:cNvSpPr/>
              <p:nvPr/>
            </p:nvSpPr>
            <p:spPr>
              <a:xfrm flipH="1">
                <a:off x="2041200" y="1447920"/>
                <a:ext cx="23760" cy="417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11"/>
            <p:cNvGrpSpPr/>
            <p:nvPr/>
          </p:nvGrpSpPr>
          <p:grpSpPr>
            <a:xfrm>
              <a:off x="1386720" y="3246840"/>
              <a:ext cx="2531880" cy="313200"/>
              <a:chOff x="1386720" y="3246840"/>
              <a:chExt cx="2531880" cy="313200"/>
            </a:xfrm>
          </p:grpSpPr>
          <p:sp>
            <p:nvSpPr>
              <p:cNvPr id="475" name="Rectangle 12"/>
              <p:cNvSpPr/>
              <p:nvPr/>
            </p:nvSpPr>
            <p:spPr>
              <a:xfrm>
                <a:off x="1386720" y="3395880"/>
                <a:ext cx="1266480" cy="82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13"/>
              <p:cNvSpPr/>
              <p:nvPr/>
            </p:nvSpPr>
            <p:spPr>
              <a:xfrm>
                <a:off x="2651760" y="3430440"/>
                <a:ext cx="93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14"/>
              <p:cNvSpPr/>
              <p:nvPr/>
            </p:nvSpPr>
            <p:spPr>
              <a:xfrm>
                <a:off x="3626280" y="3246840"/>
                <a:ext cx="292320" cy="31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Line 15"/>
              <p:cNvSpPr/>
              <p:nvPr/>
            </p:nvSpPr>
            <p:spPr>
              <a:xfrm flipH="1">
                <a:off x="3715920" y="3314520"/>
                <a:ext cx="137520" cy="19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16"/>
            <p:cNvGrpSpPr/>
            <p:nvPr/>
          </p:nvGrpSpPr>
          <p:grpSpPr>
            <a:xfrm>
              <a:off x="4593600" y="1456560"/>
              <a:ext cx="2684160" cy="4178880"/>
              <a:chOff x="4593600" y="1456560"/>
              <a:chExt cx="2684160" cy="4178880"/>
            </a:xfrm>
          </p:grpSpPr>
          <p:sp>
            <p:nvSpPr>
              <p:cNvPr id="480" name="Freeform 17"/>
              <p:cNvSpPr/>
              <p:nvPr/>
            </p:nvSpPr>
            <p:spPr>
              <a:xfrm>
                <a:off x="5494680" y="1816560"/>
                <a:ext cx="962640" cy="1140480"/>
              </a:xfrm>
              <a:custGeom>
                <a:avLst/>
                <a:gdLst/>
                <a:ahLst/>
                <a:rect l="l" t="t" r="r" b="b"/>
                <a:pathLst>
                  <a:path w="685" h="757">
                    <a:moveTo>
                      <a:pt x="0" y="0"/>
                    </a:moveTo>
                    <a:lnTo>
                      <a:pt x="684" y="0"/>
                    </a:lnTo>
                    <a:lnTo>
                      <a:pt x="684" y="444"/>
                    </a:lnTo>
                    <a:lnTo>
                      <a:pt x="432" y="444"/>
                    </a:lnTo>
                    <a:lnTo>
                      <a:pt x="588" y="756"/>
                    </a:lnTo>
                    <a:lnTo>
                      <a:pt x="552" y="756"/>
                    </a:lnTo>
                    <a:lnTo>
                      <a:pt x="72" y="756"/>
                    </a:lnTo>
                    <a:lnTo>
                      <a:pt x="228" y="444"/>
                    </a:lnTo>
                    <a:lnTo>
                      <a:pt x="0" y="44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18"/>
              <p:cNvSpPr/>
              <p:nvPr/>
            </p:nvSpPr>
            <p:spPr>
              <a:xfrm>
                <a:off x="5787360" y="2359080"/>
                <a:ext cx="35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Line 19"/>
              <p:cNvSpPr/>
              <p:nvPr/>
            </p:nvSpPr>
            <p:spPr>
              <a:xfrm>
                <a:off x="5868720" y="2112120"/>
                <a:ext cx="193680" cy="8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Line 20"/>
              <p:cNvSpPr/>
              <p:nvPr/>
            </p:nvSpPr>
            <p:spPr>
              <a:xfrm flipH="1">
                <a:off x="5037480" y="2164680"/>
                <a:ext cx="926280" cy="303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Line 21"/>
              <p:cNvSpPr/>
              <p:nvPr/>
            </p:nvSpPr>
            <p:spPr>
              <a:xfrm>
                <a:off x="5964480" y="2161800"/>
                <a:ext cx="920880" cy="30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4593600" y="5213160"/>
                <a:ext cx="2684160" cy="136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23"/>
              <p:cNvSpPr/>
              <p:nvPr/>
            </p:nvSpPr>
            <p:spPr>
              <a:xfrm flipH="1">
                <a:off x="5949000" y="1456560"/>
                <a:ext cx="23760" cy="417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4"/>
            <p:cNvGrpSpPr/>
            <p:nvPr/>
          </p:nvGrpSpPr>
          <p:grpSpPr>
            <a:xfrm>
              <a:off x="5292720" y="3256200"/>
              <a:ext cx="2533320" cy="313200"/>
              <a:chOff x="5292720" y="3256200"/>
              <a:chExt cx="2533320" cy="313200"/>
            </a:xfrm>
          </p:grpSpPr>
          <p:sp>
            <p:nvSpPr>
              <p:cNvPr id="488" name="Rectangle 25"/>
              <p:cNvSpPr/>
              <p:nvPr/>
            </p:nvSpPr>
            <p:spPr>
              <a:xfrm>
                <a:off x="5292720" y="3404880"/>
                <a:ext cx="1267200" cy="82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26"/>
              <p:cNvSpPr/>
              <p:nvPr/>
            </p:nvSpPr>
            <p:spPr>
              <a:xfrm>
                <a:off x="6558840" y="3439800"/>
                <a:ext cx="9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Oval 27"/>
              <p:cNvSpPr/>
              <p:nvPr/>
            </p:nvSpPr>
            <p:spPr>
              <a:xfrm>
                <a:off x="7533720" y="3256200"/>
                <a:ext cx="292320" cy="31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28"/>
              <p:cNvSpPr/>
              <p:nvPr/>
            </p:nvSpPr>
            <p:spPr>
              <a:xfrm flipH="1">
                <a:off x="7623720" y="3323520"/>
                <a:ext cx="137520" cy="19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Rectangle 29"/>
            <p:cNvSpPr/>
            <p:nvPr/>
          </p:nvSpPr>
          <p:spPr>
            <a:xfrm>
              <a:off x="993600" y="5050800"/>
              <a:ext cx="2192400" cy="123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30"/>
            <p:cNvSpPr/>
            <p:nvPr/>
          </p:nvSpPr>
          <p:spPr>
            <a:xfrm>
              <a:off x="2710440" y="4258080"/>
              <a:ext cx="1735200" cy="855720"/>
            </a:xfrm>
            <a:custGeom>
              <a:avLst/>
              <a:gdLst/>
              <a:ahLst/>
              <a:rect l="l" t="t" r="r" b="b"/>
              <a:pathLst>
                <a:path w="1234" h="568">
                  <a:moveTo>
                    <a:pt x="0" y="567"/>
                  </a:moveTo>
                  <a:lnTo>
                    <a:pt x="315" y="0"/>
                  </a:lnTo>
                  <a:lnTo>
                    <a:pt x="12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1177920" y="4671000"/>
              <a:ext cx="0" cy="10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2"/>
            <p:cNvSpPr/>
            <p:nvPr/>
          </p:nvSpPr>
          <p:spPr>
            <a:xfrm>
              <a:off x="2975400" y="4739040"/>
              <a:ext cx="0" cy="10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3"/>
            <p:cNvSpPr/>
            <p:nvPr/>
          </p:nvSpPr>
          <p:spPr>
            <a:xfrm>
              <a:off x="1183680" y="5736600"/>
              <a:ext cx="177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4"/>
            <p:cNvSpPr/>
            <p:nvPr/>
          </p:nvSpPr>
          <p:spPr>
            <a:xfrm>
              <a:off x="3132000" y="389664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Film casset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5"/>
            <p:cNvSpPr/>
            <p:nvPr/>
          </p:nvSpPr>
          <p:spPr>
            <a:xfrm>
              <a:off x="1624320" y="5373000"/>
              <a:ext cx="101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1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36"/>
            <p:cNvSpPr/>
            <p:nvPr/>
          </p:nvSpPr>
          <p:spPr>
            <a:xfrm>
              <a:off x="5059800" y="4680000"/>
              <a:ext cx="0" cy="104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37"/>
            <p:cNvSpPr/>
            <p:nvPr/>
          </p:nvSpPr>
          <p:spPr>
            <a:xfrm>
              <a:off x="6857640" y="4747680"/>
              <a:ext cx="0" cy="10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8"/>
            <p:cNvSpPr/>
            <p:nvPr/>
          </p:nvSpPr>
          <p:spPr>
            <a:xfrm>
              <a:off x="5065920" y="5745240"/>
              <a:ext cx="177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39"/>
            <p:cNvSpPr/>
            <p:nvPr/>
          </p:nvSpPr>
          <p:spPr>
            <a:xfrm>
              <a:off x="5506200" y="5383800"/>
              <a:ext cx="101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1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0"/>
            <p:cNvSpPr/>
            <p:nvPr/>
          </p:nvSpPr>
          <p:spPr>
            <a:xfrm>
              <a:off x="7146720" y="3881520"/>
              <a:ext cx="1484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Ion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Arial"/>
                </a:rPr>
                <a:t>cha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41"/>
            <p:cNvSpPr/>
            <p:nvPr/>
          </p:nvSpPr>
          <p:spPr>
            <a:xfrm>
              <a:off x="5829480" y="4915080"/>
              <a:ext cx="241920" cy="258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42"/>
            <p:cNvSpPr/>
            <p:nvPr/>
          </p:nvSpPr>
          <p:spPr>
            <a:xfrm>
              <a:off x="6026040" y="4258080"/>
              <a:ext cx="2469240" cy="679680"/>
            </a:xfrm>
            <a:custGeom>
              <a:avLst/>
              <a:gdLst/>
              <a:ahLst/>
              <a:rect l="l" t="t" r="r" b="b"/>
              <a:pathLst>
                <a:path w="1756" h="451">
                  <a:moveTo>
                    <a:pt x="0" y="450"/>
                  </a:moveTo>
                  <a:lnTo>
                    <a:pt x="738" y="0"/>
                  </a:lnTo>
                  <a:lnTo>
                    <a:pt x="17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5BD-886A-48E3-9609-70160C0220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mputed Tomography Dose Index (CTD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1536840" y="4367160"/>
            <a:ext cx="2911320" cy="180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1536840" y="3917880"/>
            <a:ext cx="2911320" cy="180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1536840" y="3468600"/>
            <a:ext cx="2911320" cy="180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5"/>
          <p:cNvSpPr/>
          <p:nvPr/>
        </p:nvSpPr>
        <p:spPr>
          <a:xfrm>
            <a:off x="1536840" y="3019320"/>
            <a:ext cx="2911320" cy="180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6"/>
          <p:cNvSpPr/>
          <p:nvPr/>
        </p:nvSpPr>
        <p:spPr>
          <a:xfrm>
            <a:off x="1536840" y="2570040"/>
            <a:ext cx="2911320" cy="180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7"/>
          <p:cNvSpPr/>
          <p:nvPr/>
        </p:nvSpPr>
        <p:spPr>
          <a:xfrm>
            <a:off x="1536840" y="4778280"/>
            <a:ext cx="242640" cy="3816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8"/>
          <p:cNvSpPr/>
          <p:nvPr/>
        </p:nvSpPr>
        <p:spPr>
          <a:xfrm>
            <a:off x="1779480" y="4759200"/>
            <a:ext cx="244440" cy="5724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29"/>
          <p:cNvSpPr/>
          <p:nvPr/>
        </p:nvSpPr>
        <p:spPr>
          <a:xfrm>
            <a:off x="2023920" y="4676760"/>
            <a:ext cx="238320" cy="1396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0"/>
          <p:cNvSpPr/>
          <p:nvPr/>
        </p:nvSpPr>
        <p:spPr>
          <a:xfrm>
            <a:off x="2262240" y="4183200"/>
            <a:ext cx="244440" cy="63324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31"/>
          <p:cNvSpPr/>
          <p:nvPr/>
        </p:nvSpPr>
        <p:spPr>
          <a:xfrm>
            <a:off x="2506680" y="3328920"/>
            <a:ext cx="244440" cy="148752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32"/>
          <p:cNvSpPr/>
          <p:nvPr/>
        </p:nvSpPr>
        <p:spPr>
          <a:xfrm>
            <a:off x="2751120" y="3076560"/>
            <a:ext cx="243000" cy="17398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3"/>
          <p:cNvSpPr/>
          <p:nvPr/>
        </p:nvSpPr>
        <p:spPr>
          <a:xfrm>
            <a:off x="2994120" y="3506760"/>
            <a:ext cx="239760" cy="13096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4"/>
          <p:cNvSpPr/>
          <p:nvPr/>
        </p:nvSpPr>
        <p:spPr>
          <a:xfrm>
            <a:off x="3233880" y="4265640"/>
            <a:ext cx="242640" cy="55080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5"/>
          <p:cNvSpPr/>
          <p:nvPr/>
        </p:nvSpPr>
        <p:spPr>
          <a:xfrm>
            <a:off x="3476520" y="4727520"/>
            <a:ext cx="244440" cy="8892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36"/>
          <p:cNvSpPr/>
          <p:nvPr/>
        </p:nvSpPr>
        <p:spPr>
          <a:xfrm>
            <a:off x="3720960" y="4765680"/>
            <a:ext cx="244440" cy="5076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7"/>
          <p:cNvSpPr/>
          <p:nvPr/>
        </p:nvSpPr>
        <p:spPr>
          <a:xfrm>
            <a:off x="3965400" y="4778280"/>
            <a:ext cx="238320" cy="3816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8"/>
          <p:cNvSpPr/>
          <p:nvPr/>
        </p:nvSpPr>
        <p:spPr>
          <a:xfrm>
            <a:off x="4203720" y="4784760"/>
            <a:ext cx="244440" cy="31680"/>
          </a:xfrm>
          <a:prstGeom prst="rect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39"/>
          <p:cNvSpPr/>
          <p:nvPr/>
        </p:nvSpPr>
        <p:spPr>
          <a:xfrm>
            <a:off x="1536840" y="2570040"/>
            <a:ext cx="1440" cy="22464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40"/>
          <p:cNvSpPr/>
          <p:nvPr/>
        </p:nvSpPr>
        <p:spPr>
          <a:xfrm>
            <a:off x="1488960" y="4816440"/>
            <a:ext cx="47880" cy="18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41"/>
          <p:cNvSpPr/>
          <p:nvPr/>
        </p:nvSpPr>
        <p:spPr>
          <a:xfrm>
            <a:off x="1488960" y="4367160"/>
            <a:ext cx="47880" cy="18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42"/>
          <p:cNvSpPr/>
          <p:nvPr/>
        </p:nvSpPr>
        <p:spPr>
          <a:xfrm>
            <a:off x="1488960" y="3917880"/>
            <a:ext cx="47880" cy="18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43"/>
          <p:cNvSpPr/>
          <p:nvPr/>
        </p:nvSpPr>
        <p:spPr>
          <a:xfrm>
            <a:off x="1488960" y="3468600"/>
            <a:ext cx="47880" cy="18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44"/>
          <p:cNvSpPr/>
          <p:nvPr/>
        </p:nvSpPr>
        <p:spPr>
          <a:xfrm>
            <a:off x="1488960" y="3019320"/>
            <a:ext cx="47880" cy="18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1488960" y="2570040"/>
            <a:ext cx="47880" cy="1800"/>
          </a:xfrm>
          <a:prstGeom prst="line">
            <a:avLst/>
          </a:prstGeom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46"/>
          <p:cNvSpPr/>
          <p:nvPr/>
        </p:nvSpPr>
        <p:spPr>
          <a:xfrm>
            <a:off x="1536840" y="4816440"/>
            <a:ext cx="2911320" cy="180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47"/>
          <p:cNvSpPr/>
          <p:nvPr/>
        </p:nvSpPr>
        <p:spPr>
          <a:xfrm flipV="1">
            <a:off x="153684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48"/>
          <p:cNvSpPr/>
          <p:nvPr/>
        </p:nvSpPr>
        <p:spPr>
          <a:xfrm flipV="1">
            <a:off x="1779480" y="4816080"/>
            <a:ext cx="180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49"/>
          <p:cNvSpPr/>
          <p:nvPr/>
        </p:nvSpPr>
        <p:spPr>
          <a:xfrm flipV="1">
            <a:off x="2023920" y="4816080"/>
            <a:ext cx="180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0"/>
          <p:cNvSpPr/>
          <p:nvPr/>
        </p:nvSpPr>
        <p:spPr>
          <a:xfrm flipV="1">
            <a:off x="226224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1"/>
          <p:cNvSpPr/>
          <p:nvPr/>
        </p:nvSpPr>
        <p:spPr>
          <a:xfrm flipV="1">
            <a:off x="250668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 flipV="1">
            <a:off x="275112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3"/>
          <p:cNvSpPr/>
          <p:nvPr/>
        </p:nvSpPr>
        <p:spPr>
          <a:xfrm flipV="1">
            <a:off x="299412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4"/>
          <p:cNvSpPr/>
          <p:nvPr/>
        </p:nvSpPr>
        <p:spPr>
          <a:xfrm flipV="1">
            <a:off x="323388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5"/>
          <p:cNvSpPr/>
          <p:nvPr/>
        </p:nvSpPr>
        <p:spPr>
          <a:xfrm flipV="1">
            <a:off x="3476520" y="4816080"/>
            <a:ext cx="180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56"/>
          <p:cNvSpPr/>
          <p:nvPr/>
        </p:nvSpPr>
        <p:spPr>
          <a:xfrm flipV="1">
            <a:off x="3720960" y="4816080"/>
            <a:ext cx="180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57"/>
          <p:cNvSpPr/>
          <p:nvPr/>
        </p:nvSpPr>
        <p:spPr>
          <a:xfrm flipV="1">
            <a:off x="3965400" y="4816080"/>
            <a:ext cx="180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58"/>
          <p:cNvSpPr/>
          <p:nvPr/>
        </p:nvSpPr>
        <p:spPr>
          <a:xfrm flipV="1">
            <a:off x="420372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59"/>
          <p:cNvSpPr/>
          <p:nvPr/>
        </p:nvSpPr>
        <p:spPr>
          <a:xfrm flipV="1">
            <a:off x="4448160" y="4816080"/>
            <a:ext cx="1440" cy="5076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60"/>
          <p:cNvSpPr/>
          <p:nvPr/>
        </p:nvSpPr>
        <p:spPr>
          <a:xfrm>
            <a:off x="1343880" y="4727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61"/>
          <p:cNvSpPr/>
          <p:nvPr/>
        </p:nvSpPr>
        <p:spPr>
          <a:xfrm>
            <a:off x="1266840" y="4278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62"/>
          <p:cNvSpPr/>
          <p:nvPr/>
        </p:nvSpPr>
        <p:spPr>
          <a:xfrm>
            <a:off x="1266840" y="3828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3"/>
          <p:cNvSpPr/>
          <p:nvPr/>
        </p:nvSpPr>
        <p:spPr>
          <a:xfrm>
            <a:off x="1266840" y="3379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4"/>
          <p:cNvSpPr/>
          <p:nvPr/>
        </p:nvSpPr>
        <p:spPr>
          <a:xfrm>
            <a:off x="1266840" y="2930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5"/>
          <p:cNvSpPr/>
          <p:nvPr/>
        </p:nvSpPr>
        <p:spPr>
          <a:xfrm>
            <a:off x="1266840" y="248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6"/>
          <p:cNvSpPr/>
          <p:nvPr/>
        </p:nvSpPr>
        <p:spPr>
          <a:xfrm>
            <a:off x="162324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7"/>
          <p:cNvSpPr/>
          <p:nvPr/>
        </p:nvSpPr>
        <p:spPr>
          <a:xfrm>
            <a:off x="186624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8"/>
          <p:cNvSpPr/>
          <p:nvPr/>
        </p:nvSpPr>
        <p:spPr>
          <a:xfrm>
            <a:off x="210420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69"/>
          <p:cNvSpPr/>
          <p:nvPr/>
        </p:nvSpPr>
        <p:spPr>
          <a:xfrm>
            <a:off x="234864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70"/>
          <p:cNvSpPr/>
          <p:nvPr/>
        </p:nvSpPr>
        <p:spPr>
          <a:xfrm>
            <a:off x="259308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1"/>
          <p:cNvSpPr/>
          <p:nvPr/>
        </p:nvSpPr>
        <p:spPr>
          <a:xfrm>
            <a:off x="283752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2"/>
          <p:cNvSpPr/>
          <p:nvPr/>
        </p:nvSpPr>
        <p:spPr>
          <a:xfrm>
            <a:off x="307584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73"/>
          <p:cNvSpPr/>
          <p:nvPr/>
        </p:nvSpPr>
        <p:spPr>
          <a:xfrm>
            <a:off x="331848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74"/>
          <p:cNvSpPr/>
          <p:nvPr/>
        </p:nvSpPr>
        <p:spPr>
          <a:xfrm>
            <a:off x="3563280" y="4962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75"/>
          <p:cNvSpPr/>
          <p:nvPr/>
        </p:nvSpPr>
        <p:spPr>
          <a:xfrm>
            <a:off x="3765600" y="4962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6"/>
          <p:cNvSpPr/>
          <p:nvPr/>
        </p:nvSpPr>
        <p:spPr>
          <a:xfrm>
            <a:off x="4003920" y="4962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7"/>
          <p:cNvSpPr/>
          <p:nvPr/>
        </p:nvSpPr>
        <p:spPr>
          <a:xfrm>
            <a:off x="4248360" y="4962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78"/>
          <p:cNvSpPr/>
          <p:nvPr/>
        </p:nvSpPr>
        <p:spPr>
          <a:xfrm>
            <a:off x="1436760" y="2354400"/>
            <a:ext cx="18604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79"/>
          <p:cNvSpPr/>
          <p:nvPr/>
        </p:nvSpPr>
        <p:spPr>
          <a:xfrm>
            <a:off x="1466640" y="2367000"/>
            <a:ext cx="122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TLD dose  (m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0"/>
          <p:cNvSpPr/>
          <p:nvPr/>
        </p:nvSpPr>
        <p:spPr>
          <a:xfrm>
            <a:off x="2506680" y="2981160"/>
            <a:ext cx="731880" cy="1828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84"/>
          <p:cNvGrpSpPr/>
          <p:nvPr/>
        </p:nvGrpSpPr>
        <p:grpSpPr>
          <a:xfrm>
            <a:off x="2523960" y="2898720"/>
            <a:ext cx="731880" cy="69840"/>
            <a:chOff x="2523960" y="2898720"/>
            <a:chExt cx="731880" cy="69840"/>
          </a:xfrm>
        </p:grpSpPr>
        <p:sp>
          <p:nvSpPr>
            <p:cNvPr id="569" name="Line 81"/>
            <p:cNvSpPr/>
            <p:nvPr/>
          </p:nvSpPr>
          <p:spPr>
            <a:xfrm>
              <a:off x="2570040" y="2930400"/>
              <a:ext cx="639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523960" y="2898720"/>
              <a:ext cx="6372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0"/>
                  </a:moveTo>
                  <a:lnTo>
                    <a:pt x="0" y="24"/>
                  </a:lnTo>
                  <a:lnTo>
                    <a:pt x="4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3198960" y="28987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44"/>
                  </a:moveTo>
                  <a:lnTo>
                    <a:pt x="36" y="24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85"/>
          <p:cNvSpPr/>
          <p:nvPr/>
        </p:nvSpPr>
        <p:spPr>
          <a:xfrm>
            <a:off x="2093760" y="2544840"/>
            <a:ext cx="1552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6"/>
          <p:cNvSpPr/>
          <p:nvPr/>
        </p:nvSpPr>
        <p:spPr>
          <a:xfrm>
            <a:off x="2215440" y="2557440"/>
            <a:ext cx="142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Nominal slice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7"/>
          <p:cNvSpPr/>
          <p:nvPr/>
        </p:nvSpPr>
        <p:spPr>
          <a:xfrm>
            <a:off x="2684520" y="275256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Arial"/>
              </a:rPr>
              <a:t>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8"/>
          <p:cNvSpPr/>
          <p:nvPr/>
        </p:nvSpPr>
        <p:spPr>
          <a:xfrm>
            <a:off x="2506680" y="2720880"/>
            <a:ext cx="4302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91"/>
          <p:cNvGrpSpPr/>
          <p:nvPr/>
        </p:nvGrpSpPr>
        <p:grpSpPr>
          <a:xfrm>
            <a:off x="2506680" y="2981160"/>
            <a:ext cx="231840" cy="341640"/>
            <a:chOff x="2506680" y="2981160"/>
            <a:chExt cx="231840" cy="341640"/>
          </a:xfrm>
        </p:grpSpPr>
        <p:sp>
          <p:nvSpPr>
            <p:cNvPr id="577" name="Rectangle 89"/>
            <p:cNvSpPr/>
            <p:nvPr/>
          </p:nvSpPr>
          <p:spPr>
            <a:xfrm>
              <a:off x="2506680" y="2981160"/>
              <a:ext cx="231840" cy="34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90"/>
            <p:cNvSpPr/>
            <p:nvPr/>
          </p:nvSpPr>
          <p:spPr>
            <a:xfrm>
              <a:off x="2506680" y="2981160"/>
              <a:ext cx="231840" cy="341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94"/>
          <p:cNvGrpSpPr/>
          <p:nvPr/>
        </p:nvGrpSpPr>
        <p:grpSpPr>
          <a:xfrm>
            <a:off x="2738520" y="2987640"/>
            <a:ext cx="255600" cy="82440"/>
            <a:chOff x="2738520" y="2987640"/>
            <a:chExt cx="255600" cy="82440"/>
          </a:xfrm>
        </p:grpSpPr>
        <p:sp>
          <p:nvSpPr>
            <p:cNvPr id="580" name="Rectangle 92"/>
            <p:cNvSpPr/>
            <p:nvPr/>
          </p:nvSpPr>
          <p:spPr>
            <a:xfrm>
              <a:off x="2738520" y="2987640"/>
              <a:ext cx="255600" cy="82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93"/>
            <p:cNvSpPr/>
            <p:nvPr/>
          </p:nvSpPr>
          <p:spPr>
            <a:xfrm>
              <a:off x="2738520" y="2987640"/>
              <a:ext cx="255600" cy="82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97"/>
          <p:cNvGrpSpPr/>
          <p:nvPr/>
        </p:nvGrpSpPr>
        <p:grpSpPr>
          <a:xfrm>
            <a:off x="2994120" y="2981160"/>
            <a:ext cx="239760" cy="525600"/>
            <a:chOff x="2994120" y="2981160"/>
            <a:chExt cx="239760" cy="525600"/>
          </a:xfrm>
        </p:grpSpPr>
        <p:sp>
          <p:nvSpPr>
            <p:cNvPr id="583" name="Rectangle 95"/>
            <p:cNvSpPr/>
            <p:nvPr/>
          </p:nvSpPr>
          <p:spPr>
            <a:xfrm>
              <a:off x="2994120" y="2981160"/>
              <a:ext cx="239760" cy="525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6"/>
            <p:cNvSpPr/>
            <p:nvPr/>
          </p:nvSpPr>
          <p:spPr>
            <a:xfrm>
              <a:off x="2994120" y="2981160"/>
              <a:ext cx="239760" cy="525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AutoShape 4"/>
          <p:cNvSpPr/>
          <p:nvPr/>
        </p:nvSpPr>
        <p:spPr>
          <a:xfrm>
            <a:off x="4876920" y="2154240"/>
            <a:ext cx="3352680" cy="1768320"/>
          </a:xfrm>
          <a:prstGeom prst="roundRect">
            <a:avLst>
              <a:gd name="adj" fmla="val 12495"/>
            </a:avLst>
          </a:prstGeom>
          <a:solidFill>
            <a:srgbClr val="114ff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5"/>
          <p:cNvGrpSpPr/>
          <p:nvPr/>
        </p:nvGrpSpPr>
        <p:grpSpPr>
          <a:xfrm>
            <a:off x="4939920" y="2152800"/>
            <a:ext cx="3046680" cy="1770840"/>
            <a:chOff x="4939920" y="2152800"/>
            <a:chExt cx="3046680" cy="1770840"/>
          </a:xfrm>
        </p:grpSpPr>
        <p:sp>
          <p:nvSpPr>
            <p:cNvPr id="587" name="Rectangle 6"/>
            <p:cNvSpPr/>
            <p:nvPr/>
          </p:nvSpPr>
          <p:spPr>
            <a:xfrm>
              <a:off x="5599800" y="2416320"/>
              <a:ext cx="97956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GB" sz="2200" spc="-1" strike="noStrike">
                  <a:solidFill>
                    <a:srgbClr val="ccecff"/>
                  </a:solidFill>
                  <a:latin typeface="Arial"/>
                </a:rPr>
                <a:t>CTDI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7"/>
            <p:cNvSpPr/>
            <p:nvPr/>
          </p:nvSpPr>
          <p:spPr>
            <a:xfrm>
              <a:off x="6480000" y="2152800"/>
              <a:ext cx="15066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GB" sz="22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</a:t>
              </a:r>
              <a:r>
                <a:rPr b="1" lang="en-GB" sz="2200" spc="-1" strike="noStrike">
                  <a:solidFill>
                    <a:srgbClr val="ccecff"/>
                  </a:solidFill>
                  <a:latin typeface="Arial"/>
                </a:rPr>
                <a:t> </a:t>
              </a:r>
              <a:r>
                <a:rPr b="1" lang="en-GB" sz="2200" spc="-1" strike="noStrike">
                  <a:solidFill>
                    <a:srgbClr val="ccecff"/>
                  </a:solidFill>
                  <a:latin typeface="Arial"/>
                </a:rPr>
                <a:t>(e</a:t>
              </a:r>
              <a:r>
                <a:rPr b="1" lang="en-GB" sz="2200" spc="-1" strike="noStrike" baseline="-25000">
                  <a:solidFill>
                    <a:srgbClr val="ccecff"/>
                  </a:solidFill>
                  <a:latin typeface="Arial"/>
                </a:rPr>
                <a:t>i</a:t>
              </a:r>
              <a:r>
                <a:rPr b="1" lang="en-GB" sz="2200" spc="-1" strike="noStrike">
                  <a:solidFill>
                    <a:srgbClr val="ccecff"/>
                  </a:solidFill>
                  <a:latin typeface="Arial"/>
                </a:rPr>
                <a:t> d</a:t>
              </a:r>
              <a:r>
                <a:rPr b="1" lang="en-GB" sz="2200" spc="-1" strike="noStrike" baseline="-25000">
                  <a:solidFill>
                    <a:srgbClr val="ccecff"/>
                  </a:solidFill>
                  <a:latin typeface="Arial"/>
                </a:rPr>
                <a:t>i</a:t>
              </a:r>
              <a:r>
                <a:rPr b="1" lang="en-GB" sz="2200" spc="-1" strike="noStrike">
                  <a:solidFill>
                    <a:srgbClr val="ccecff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8"/>
            <p:cNvSpPr/>
            <p:nvPr/>
          </p:nvSpPr>
          <p:spPr>
            <a:xfrm>
              <a:off x="6645240" y="2655720"/>
              <a:ext cx="5068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2200" spc="-1" strike="noStrike">
                  <a:solidFill>
                    <a:srgbClr val="ccecff"/>
                  </a:solidFill>
                  <a:latin typeface="Arial"/>
                </a:rPr>
                <a:t>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9"/>
            <p:cNvSpPr/>
            <p:nvPr/>
          </p:nvSpPr>
          <p:spPr>
            <a:xfrm>
              <a:off x="6553080" y="2590920"/>
              <a:ext cx="851040" cy="0"/>
            </a:xfrm>
            <a:prstGeom prst="line">
              <a:avLst/>
            </a:prstGeom>
            <a:ln w="25560">
              <a:solidFill>
                <a:srgbClr val="f9f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0"/>
            <p:cNvSpPr/>
            <p:nvPr/>
          </p:nvSpPr>
          <p:spPr>
            <a:xfrm>
              <a:off x="4939920" y="3124080"/>
              <a:ext cx="300924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2200" spc="-1" strike="noStrike">
                  <a:solidFill>
                    <a:srgbClr val="ccecff"/>
                  </a:solidFill>
                  <a:latin typeface="Arial"/>
                </a:rPr>
                <a:t>En: nominal slice wid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GB" sz="2200" spc="-1" strike="noStrike">
                  <a:solidFill>
                    <a:srgbClr val="ccecff"/>
                  </a:solidFill>
                  <a:latin typeface="Arial"/>
                </a:rPr>
                <a:t>e</a:t>
              </a:r>
              <a:r>
                <a:rPr b="1" lang="en-GB" sz="2200" spc="-1" strike="noStrike" baseline="-25000">
                  <a:solidFill>
                    <a:srgbClr val="ccecff"/>
                  </a:solidFill>
                  <a:latin typeface="Arial"/>
                </a:rPr>
                <a:t>i   :</a:t>
              </a:r>
              <a:r>
                <a:rPr b="0" lang="en-GB" sz="2200" spc="-1" strike="noStrike">
                  <a:solidFill>
                    <a:srgbClr val="ccecff"/>
                  </a:solidFill>
                  <a:latin typeface="Arial"/>
                </a:rPr>
                <a:t> TLD thickn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AutoShape 11"/>
          <p:cNvSpPr/>
          <p:nvPr/>
        </p:nvSpPr>
        <p:spPr>
          <a:xfrm>
            <a:off x="5011560" y="4495680"/>
            <a:ext cx="3035520" cy="1414440"/>
          </a:xfrm>
          <a:prstGeom prst="roundRect">
            <a:avLst>
              <a:gd name="adj" fmla="val 12495"/>
            </a:avLst>
          </a:prstGeom>
          <a:solidFill>
            <a:srgbClr val="114ff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12"/>
          <p:cNvGrpSpPr/>
          <p:nvPr/>
        </p:nvGrpSpPr>
        <p:grpSpPr>
          <a:xfrm>
            <a:off x="5148360" y="4522680"/>
            <a:ext cx="2763720" cy="1369440"/>
            <a:chOff x="5148360" y="4522680"/>
            <a:chExt cx="2763720" cy="1369440"/>
          </a:xfrm>
        </p:grpSpPr>
        <p:sp>
          <p:nvSpPr>
            <p:cNvPr id="594" name="Rectangle 13"/>
            <p:cNvSpPr/>
            <p:nvPr/>
          </p:nvSpPr>
          <p:spPr>
            <a:xfrm>
              <a:off x="5148360" y="5140440"/>
              <a:ext cx="2763720" cy="73980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Group 14"/>
            <p:cNvGrpSpPr/>
            <p:nvPr/>
          </p:nvGrpSpPr>
          <p:grpSpPr>
            <a:xfrm>
              <a:off x="5227560" y="4522680"/>
              <a:ext cx="2492640" cy="1369440"/>
              <a:chOff x="5227560" y="4522680"/>
              <a:chExt cx="2492640" cy="1369440"/>
            </a:xfrm>
          </p:grpSpPr>
          <p:sp>
            <p:nvSpPr>
              <p:cNvPr id="596" name="Rectangle 15"/>
              <p:cNvSpPr/>
              <p:nvPr/>
            </p:nvSpPr>
            <p:spPr>
              <a:xfrm>
                <a:off x="5230440" y="5257800"/>
                <a:ext cx="1078560" cy="4644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CTDI</a:t>
                </a:r>
                <a:r>
                  <a:rPr b="1" lang="en-GB" sz="2200" spc="-1" strike="noStrike" baseline="-25000">
                    <a:solidFill>
                      <a:srgbClr val="ccecff"/>
                    </a:solidFill>
                    <a:latin typeface="Arial"/>
                  </a:rPr>
                  <a:t>n</a:t>
                </a: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=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16"/>
              <p:cNvSpPr/>
              <p:nvPr/>
            </p:nvSpPr>
            <p:spPr>
              <a:xfrm>
                <a:off x="6346440" y="5473800"/>
                <a:ext cx="770760" cy="418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mA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17"/>
              <p:cNvSpPr/>
              <p:nvPr/>
            </p:nvSpPr>
            <p:spPr>
              <a:xfrm>
                <a:off x="6324480" y="5486400"/>
                <a:ext cx="851040" cy="0"/>
              </a:xfrm>
              <a:prstGeom prst="line">
                <a:avLst/>
              </a:prstGeom>
              <a:ln w="25560">
                <a:solidFill>
                  <a:srgbClr val="f9f0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18"/>
              <p:cNvSpPr/>
              <p:nvPr/>
            </p:nvSpPr>
            <p:spPr>
              <a:xfrm>
                <a:off x="6328080" y="5018040"/>
                <a:ext cx="816480" cy="418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CTDI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19"/>
              <p:cNvSpPr/>
              <p:nvPr/>
            </p:nvSpPr>
            <p:spPr>
              <a:xfrm>
                <a:off x="5227560" y="4522680"/>
                <a:ext cx="2492640" cy="418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Normalized CTDI: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AutoShape 20"/>
          <p:cNvSpPr/>
          <p:nvPr/>
        </p:nvSpPr>
        <p:spPr>
          <a:xfrm flipH="1" rot="3000000">
            <a:off x="3005640" y="2929680"/>
            <a:ext cx="503280" cy="282600"/>
          </a:xfrm>
          <a:prstGeom prst="rightArrow">
            <a:avLst>
              <a:gd name="adj1" fmla="val 50000"/>
              <a:gd name="adj2" fmla="val 72192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1"/>
          <p:cNvSpPr/>
          <p:nvPr/>
        </p:nvSpPr>
        <p:spPr>
          <a:xfrm>
            <a:off x="3200400" y="3429000"/>
            <a:ext cx="1828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TDI </a:t>
            </a:r>
            <a:r>
              <a:rPr b="1" lang="en-GB" sz="2200" spc="-1" strike="noStrike">
                <a:solidFill>
                  <a:srgbClr val="003399"/>
                </a:solidFill>
                <a:latin typeface="Arial"/>
              </a:rPr>
              <a:t>= 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C64F-0E11-4425-B45D-AADC1530DF2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mputed Tomography Dose Index (CTDI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6" name="Line 3"/>
          <p:cNvSpPr/>
          <p:nvPr/>
        </p:nvSpPr>
        <p:spPr>
          <a:xfrm>
            <a:off x="2114640" y="5410080"/>
            <a:ext cx="499428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2133720" y="2209680"/>
            <a:ext cx="0" cy="320040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5"/>
          <p:cNvSpPr/>
          <p:nvPr/>
        </p:nvSpPr>
        <p:spPr>
          <a:xfrm>
            <a:off x="4154400" y="2286000"/>
            <a:ext cx="844560" cy="2971800"/>
          </a:xfrm>
          <a:custGeom>
            <a:avLst/>
            <a:gdLst/>
            <a:ahLst/>
            <a:rect l="l" t="t" r="r" b="b"/>
            <a:pathLst>
              <a:path w="576" h="1872">
                <a:moveTo>
                  <a:pt x="0" y="1872"/>
                </a:moveTo>
                <a:cubicBezTo>
                  <a:pt x="96" y="936"/>
                  <a:pt x="192" y="0"/>
                  <a:pt x="288" y="0"/>
                </a:cubicBezTo>
                <a:cubicBezTo>
                  <a:pt x="384" y="0"/>
                  <a:pt x="480" y="936"/>
                  <a:pt x="576" y="1872"/>
                </a:cubicBezTo>
              </a:path>
            </a:pathLst>
          </a:custGeom>
          <a:noFill/>
          <a:ln w="126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 rot="16231800">
            <a:off x="1170720" y="30574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3873600" y="5257800"/>
            <a:ext cx="280800" cy="7632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>
            <a:off x="3591000" y="5334120"/>
            <a:ext cx="2826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H="1" flipV="1">
            <a:off x="4995000" y="5276160"/>
            <a:ext cx="288360" cy="392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0"/>
          <p:cNvSpPr/>
          <p:nvPr/>
        </p:nvSpPr>
        <p:spPr>
          <a:xfrm>
            <a:off x="5280120" y="5334120"/>
            <a:ext cx="28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4365720" y="2057400"/>
            <a:ext cx="422280" cy="335268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3805560" y="57895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Nominal slice 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4343400" y="5562720"/>
            <a:ext cx="422280" cy="75960"/>
          </a:xfrm>
          <a:prstGeom prst="leftRightArrow">
            <a:avLst>
              <a:gd name="adj1" fmla="val 50000"/>
              <a:gd name="adj2" fmla="val 110670"/>
            </a:avLst>
          </a:prstGeom>
          <a:solidFill>
            <a:srgbClr val="003399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5486400" y="1981080"/>
            <a:ext cx="210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896440" y="18684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CT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6"/>
          <p:cNvSpPr/>
          <p:nvPr/>
        </p:nvSpPr>
        <p:spPr>
          <a:xfrm>
            <a:off x="3727440" y="4876920"/>
            <a:ext cx="492120" cy="75960"/>
          </a:xfrm>
          <a:prstGeom prst="rightArrow">
            <a:avLst>
              <a:gd name="adj1" fmla="val 50000"/>
              <a:gd name="adj2" fmla="val 161967"/>
            </a:avLst>
          </a:prstGeom>
          <a:solidFill>
            <a:srgbClr val="003399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7"/>
          <p:cNvSpPr/>
          <p:nvPr/>
        </p:nvSpPr>
        <p:spPr>
          <a:xfrm>
            <a:off x="2365920" y="472284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Dose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02B-6E8E-45D0-8238-7711733AB08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LD arrangement for CTDI measurements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604800" y="3984480"/>
            <a:ext cx="3230640" cy="14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2873520" y="1992240"/>
            <a:ext cx="912600" cy="7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2873520" y="4253040"/>
            <a:ext cx="912600" cy="75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800360" y="2755800"/>
            <a:ext cx="1655280" cy="1212480"/>
            <a:chOff x="1800360" y="2755800"/>
            <a:chExt cx="1655280" cy="1212480"/>
          </a:xfrm>
        </p:grpSpPr>
        <p:sp>
          <p:nvSpPr>
            <p:cNvPr id="628" name="Rectangle 7"/>
            <p:cNvSpPr/>
            <p:nvPr/>
          </p:nvSpPr>
          <p:spPr>
            <a:xfrm>
              <a:off x="1870920" y="3849840"/>
              <a:ext cx="284760" cy="11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8"/>
            <p:cNvSpPr/>
            <p:nvPr/>
          </p:nvSpPr>
          <p:spPr>
            <a:xfrm>
              <a:off x="1989360" y="2755800"/>
              <a:ext cx="48240" cy="106920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1800360" y="3393720"/>
              <a:ext cx="1596600" cy="2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10"/>
            <p:cNvSpPr/>
            <p:nvPr/>
          </p:nvSpPr>
          <p:spPr>
            <a:xfrm>
              <a:off x="3171240" y="3367800"/>
              <a:ext cx="284400" cy="662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Line 11"/>
          <p:cNvSpPr/>
          <p:nvPr/>
        </p:nvSpPr>
        <p:spPr>
          <a:xfrm>
            <a:off x="3308400" y="1849320"/>
            <a:ext cx="0" cy="3411720"/>
          </a:xfrm>
          <a:prstGeom prst="line">
            <a:avLst/>
          </a:prstGeom>
          <a:ln w="28440">
            <a:solidFill>
              <a:srgbClr val="a31f0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2"/>
          <p:cNvSpPr/>
          <p:nvPr/>
        </p:nvSpPr>
        <p:spPr>
          <a:xfrm flipH="1">
            <a:off x="523440" y="3392640"/>
            <a:ext cx="3535560" cy="0"/>
          </a:xfrm>
          <a:prstGeom prst="line">
            <a:avLst/>
          </a:prstGeom>
          <a:ln w="12600">
            <a:solidFill>
              <a:srgbClr val="a31f0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484560" y="3112920"/>
            <a:ext cx="858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Axi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4"/>
          <p:cNvSpPr/>
          <p:nvPr/>
        </p:nvSpPr>
        <p:spPr>
          <a:xfrm>
            <a:off x="1126080" y="2386080"/>
            <a:ext cx="124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Support j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3464640" y="2787480"/>
            <a:ext cx="1330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X Ray 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3888000" y="3705120"/>
            <a:ext cx="92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Caps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956880" y="408924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Co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8"/>
          <p:cNvSpPr/>
          <p:nvPr/>
        </p:nvSpPr>
        <p:spPr>
          <a:xfrm>
            <a:off x="2981160" y="2214720"/>
            <a:ext cx="78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Ga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9"/>
          <p:cNvSpPr/>
          <p:nvPr/>
        </p:nvSpPr>
        <p:spPr>
          <a:xfrm>
            <a:off x="2970000" y="4467240"/>
            <a:ext cx="789480" cy="332280"/>
          </a:xfrm>
          <a:prstGeom prst="rect">
            <a:avLst/>
          </a:prstGeom>
          <a:solidFill>
            <a:srgbClr val="f9f0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Ga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20"/>
          <p:cNvSpPr/>
          <p:nvPr/>
        </p:nvSpPr>
        <p:spPr>
          <a:xfrm>
            <a:off x="3367080" y="3444840"/>
            <a:ext cx="1278000" cy="314280"/>
          </a:xfrm>
          <a:custGeom>
            <a:avLst/>
            <a:gdLst/>
            <a:ahLst/>
            <a:rect l="l" t="t" r="r" b="b"/>
            <a:pathLst>
              <a:path w="973" h="217">
                <a:moveTo>
                  <a:pt x="0" y="0"/>
                </a:moveTo>
                <a:lnTo>
                  <a:pt x="450" y="216"/>
                </a:lnTo>
                <a:lnTo>
                  <a:pt x="972" y="216"/>
                </a:lnTo>
              </a:path>
            </a:pathLst>
          </a:custGeom>
          <a:noFill/>
          <a:ln cap="rnd" w="12600">
            <a:solidFill>
              <a:srgbClr val="a31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21"/>
          <p:cNvSpPr/>
          <p:nvPr/>
        </p:nvSpPr>
        <p:spPr>
          <a:xfrm>
            <a:off x="4940280" y="3132000"/>
            <a:ext cx="2425680" cy="1043280"/>
          </a:xfrm>
          <a:custGeom>
            <a:avLst/>
            <a:gdLst/>
            <a:ahLst/>
            <a:rect l="l" t="t" r="r" b="b"/>
            <a:pathLst>
              <a:path w="1846" h="721">
                <a:moveTo>
                  <a:pt x="0" y="207"/>
                </a:moveTo>
                <a:lnTo>
                  <a:pt x="738" y="207"/>
                </a:lnTo>
                <a:lnTo>
                  <a:pt x="738" y="0"/>
                </a:lnTo>
                <a:lnTo>
                  <a:pt x="1836" y="0"/>
                </a:lnTo>
                <a:lnTo>
                  <a:pt x="1836" y="171"/>
                </a:lnTo>
                <a:lnTo>
                  <a:pt x="972" y="171"/>
                </a:lnTo>
                <a:lnTo>
                  <a:pt x="972" y="558"/>
                </a:lnTo>
                <a:lnTo>
                  <a:pt x="1845" y="558"/>
                </a:lnTo>
                <a:lnTo>
                  <a:pt x="1845" y="720"/>
                </a:lnTo>
                <a:lnTo>
                  <a:pt x="738" y="720"/>
                </a:lnTo>
                <a:lnTo>
                  <a:pt x="738" y="558"/>
                </a:lnTo>
                <a:lnTo>
                  <a:pt x="36" y="558"/>
                </a:lnTo>
                <a:lnTo>
                  <a:pt x="0" y="207"/>
                </a:lnTo>
              </a:path>
            </a:pathLst>
          </a:custGeom>
          <a:solidFill>
            <a:srgbClr val="f9f0d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22"/>
          <p:cNvSpPr/>
          <p:nvPr/>
        </p:nvSpPr>
        <p:spPr>
          <a:xfrm>
            <a:off x="7104240" y="3132000"/>
            <a:ext cx="498240" cy="1043280"/>
          </a:xfrm>
          <a:custGeom>
            <a:avLst/>
            <a:gdLst/>
            <a:ahLst/>
            <a:rect l="l" t="t" r="r" b="b"/>
            <a:pathLst>
              <a:path w="379" h="721">
                <a:moveTo>
                  <a:pt x="216" y="0"/>
                </a:moveTo>
                <a:lnTo>
                  <a:pt x="378" y="0"/>
                </a:lnTo>
                <a:lnTo>
                  <a:pt x="378" y="720"/>
                </a:lnTo>
                <a:lnTo>
                  <a:pt x="234" y="720"/>
                </a:lnTo>
                <a:lnTo>
                  <a:pt x="234" y="531"/>
                </a:lnTo>
                <a:lnTo>
                  <a:pt x="0" y="531"/>
                </a:lnTo>
                <a:lnTo>
                  <a:pt x="0" y="189"/>
                </a:lnTo>
                <a:lnTo>
                  <a:pt x="216" y="189"/>
                </a:lnTo>
                <a:lnTo>
                  <a:pt x="216" y="0"/>
                </a:lnTo>
              </a:path>
            </a:pathLst>
          </a:custGeom>
          <a:solidFill>
            <a:srgbClr val="f9f0d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3"/>
          <p:cNvSpPr/>
          <p:nvPr/>
        </p:nvSpPr>
        <p:spPr>
          <a:xfrm>
            <a:off x="6246720" y="3411360"/>
            <a:ext cx="839880" cy="4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24"/>
          <p:cNvSpPr/>
          <p:nvPr/>
        </p:nvSpPr>
        <p:spPr>
          <a:xfrm flipH="1">
            <a:off x="6610320" y="64008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6370560" y="2044800"/>
            <a:ext cx="0" cy="3073320"/>
          </a:xfrm>
          <a:prstGeom prst="line">
            <a:avLst/>
          </a:prstGeom>
          <a:ln w="12600">
            <a:solidFill>
              <a:srgbClr val="a3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6497640" y="2044800"/>
            <a:ext cx="0" cy="3073320"/>
          </a:xfrm>
          <a:prstGeom prst="line">
            <a:avLst/>
          </a:prstGeom>
          <a:ln w="12600">
            <a:solidFill>
              <a:srgbClr val="a3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6624720" y="2044800"/>
            <a:ext cx="0" cy="3073320"/>
          </a:xfrm>
          <a:prstGeom prst="line">
            <a:avLst/>
          </a:prstGeom>
          <a:ln w="12600">
            <a:solidFill>
              <a:srgbClr val="a3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8"/>
          <p:cNvSpPr/>
          <p:nvPr/>
        </p:nvSpPr>
        <p:spPr>
          <a:xfrm>
            <a:off x="6750000" y="2044800"/>
            <a:ext cx="0" cy="3073320"/>
          </a:xfrm>
          <a:prstGeom prst="line">
            <a:avLst/>
          </a:prstGeom>
          <a:ln w="12600">
            <a:solidFill>
              <a:srgbClr val="a3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9"/>
          <p:cNvSpPr/>
          <p:nvPr/>
        </p:nvSpPr>
        <p:spPr>
          <a:xfrm>
            <a:off x="6875640" y="2044800"/>
            <a:ext cx="0" cy="3073320"/>
          </a:xfrm>
          <a:prstGeom prst="line">
            <a:avLst/>
          </a:prstGeom>
          <a:ln w="12600">
            <a:solidFill>
              <a:srgbClr val="a31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0"/>
          <p:cNvSpPr/>
          <p:nvPr/>
        </p:nvSpPr>
        <p:spPr>
          <a:xfrm>
            <a:off x="4650480" y="2979720"/>
            <a:ext cx="129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Caps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1"/>
          <p:cNvSpPr/>
          <p:nvPr/>
        </p:nvSpPr>
        <p:spPr>
          <a:xfrm>
            <a:off x="6934680" y="2106720"/>
            <a:ext cx="185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X Ray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32"/>
          <p:cNvSpPr/>
          <p:nvPr/>
        </p:nvSpPr>
        <p:spPr>
          <a:xfrm>
            <a:off x="4732200" y="3678120"/>
            <a:ext cx="3206880" cy="0"/>
          </a:xfrm>
          <a:prstGeom prst="line">
            <a:avLst/>
          </a:prstGeom>
          <a:ln w="12600">
            <a:solidFill>
              <a:srgbClr val="a31f0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3"/>
          <p:cNvSpPr/>
          <p:nvPr/>
        </p:nvSpPr>
        <p:spPr>
          <a:xfrm>
            <a:off x="7675920" y="3335400"/>
            <a:ext cx="858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4"/>
          <p:cNvSpPr/>
          <p:nvPr/>
        </p:nvSpPr>
        <p:spPr>
          <a:xfrm>
            <a:off x="4801320" y="459252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LiF -T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reeform 35"/>
          <p:cNvSpPr/>
          <p:nvPr/>
        </p:nvSpPr>
        <p:spPr>
          <a:xfrm>
            <a:off x="4797360" y="3795840"/>
            <a:ext cx="1527120" cy="1133280"/>
          </a:xfrm>
          <a:custGeom>
            <a:avLst/>
            <a:gdLst/>
            <a:ahLst/>
            <a:rect l="l" t="t" r="r" b="b"/>
            <a:pathLst>
              <a:path w="1162" h="784">
                <a:moveTo>
                  <a:pt x="1161" y="0"/>
                </a:moveTo>
                <a:lnTo>
                  <a:pt x="1080" y="783"/>
                </a:lnTo>
                <a:lnTo>
                  <a:pt x="0" y="7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D9A-C394-423B-AE82-3604BB72EAD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Arial"/>
              </a:rPr>
              <a:t>CTDI in air with pencil-type ionization chamber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Computed Tomography Dose Index (CTDI) in air can be measured using a 10cm pencil ionization chamber, bisected by the scan plane at the isocentre, supported from the patient tab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he ion chamber can be supported using a retort stand and clamp, if a dedicated holder is not availab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9929-71DF-4A6E-A54D-0147274F291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o become familiar with the patient dose assessment and dosimetry instrument characteristic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ADB-1949-4064-91CC-C2FC40B4167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4" descr=""/>
          <p:cNvPicPr/>
          <p:nvPr/>
        </p:nvPicPr>
        <p:blipFill>
          <a:blip r:embed="rId1"/>
          <a:stretch/>
        </p:blipFill>
        <p:spPr>
          <a:xfrm>
            <a:off x="1676520" y="1635120"/>
            <a:ext cx="5257800" cy="36860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4"/>
          <p:cNvSpPr/>
          <p:nvPr/>
        </p:nvSpPr>
        <p:spPr>
          <a:xfrm>
            <a:off x="6998400" y="3067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I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068120" y="5353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7"/>
          <p:cNvSpPr/>
          <p:nvPr/>
        </p:nvSpPr>
        <p:spPr>
          <a:xfrm flipH="1" flipV="1">
            <a:off x="5943600" y="2533680"/>
            <a:ext cx="990720" cy="990720"/>
          </a:xfrm>
          <a:prstGeom prst="line">
            <a:avLst/>
          </a:prstGeom>
          <a:ln w="38160">
            <a:solidFill>
              <a:srgbClr val="e59c1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8"/>
          <p:cNvSpPr/>
          <p:nvPr/>
        </p:nvSpPr>
        <p:spPr>
          <a:xfrm flipV="1">
            <a:off x="2133720" y="4743000"/>
            <a:ext cx="838080" cy="685800"/>
          </a:xfrm>
          <a:prstGeom prst="line">
            <a:avLst/>
          </a:prstGeom>
          <a:ln w="38160">
            <a:solidFill>
              <a:srgbClr val="e59c1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Arial"/>
              </a:rPr>
              <a:t>CTDI in air with pencil-type ionization chamber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 Optimization of protection in CT sc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BAAE-079C-40BC-AF3F-521AF53A642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tretch/>
        </p:blipFill>
        <p:spPr>
          <a:xfrm>
            <a:off x="1395360" y="1433520"/>
            <a:ext cx="6500880" cy="42940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4"/>
          <p:cNvSpPr/>
          <p:nvPr/>
        </p:nvSpPr>
        <p:spPr>
          <a:xfrm>
            <a:off x="2315520" y="302724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Axial slice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463480" y="524340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Helical scan (pitch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Arial"/>
              </a:rPr>
              <a:t>CTDI in air with pencil-type ionization chamb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D24-EF1F-4A82-9F91-9A3D79F86F5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Measurement of entrance surface dos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8" name="Object 3"/>
          <p:cNvGraphicFramePr/>
          <p:nvPr/>
        </p:nvGraphicFramePr>
        <p:xfrm>
          <a:off x="2125800" y="4702320"/>
          <a:ext cx="4398840" cy="114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4702320"/>
                    <a:ext cx="439884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Group 4"/>
          <p:cNvGrpSpPr/>
          <p:nvPr/>
        </p:nvGrpSpPr>
        <p:grpSpPr>
          <a:xfrm>
            <a:off x="3162240" y="1725480"/>
            <a:ext cx="2797200" cy="4402440"/>
            <a:chOff x="3162240" y="1725480"/>
            <a:chExt cx="2797200" cy="4402440"/>
          </a:xfrm>
        </p:grpSpPr>
        <p:sp>
          <p:nvSpPr>
            <p:cNvPr id="681" name="Freeform 5"/>
            <p:cNvSpPr/>
            <p:nvPr/>
          </p:nvSpPr>
          <p:spPr>
            <a:xfrm>
              <a:off x="4101480" y="2104920"/>
              <a:ext cx="1003320" cy="1201680"/>
            </a:xfrm>
            <a:custGeom>
              <a:avLst/>
              <a:gdLst/>
              <a:ahLst/>
              <a:rect l="l" t="t" r="r" b="b"/>
              <a:pathLst>
                <a:path w="685" h="757">
                  <a:moveTo>
                    <a:pt x="0" y="0"/>
                  </a:moveTo>
                  <a:lnTo>
                    <a:pt x="684" y="0"/>
                  </a:lnTo>
                  <a:lnTo>
                    <a:pt x="684" y="444"/>
                  </a:lnTo>
                  <a:lnTo>
                    <a:pt x="432" y="444"/>
                  </a:lnTo>
                  <a:lnTo>
                    <a:pt x="588" y="756"/>
                  </a:lnTo>
                  <a:lnTo>
                    <a:pt x="552" y="756"/>
                  </a:lnTo>
                  <a:lnTo>
                    <a:pt x="72" y="756"/>
                  </a:lnTo>
                  <a:lnTo>
                    <a:pt x="228" y="444"/>
                  </a:lnTo>
                  <a:lnTo>
                    <a:pt x="0" y="44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6"/>
            <p:cNvSpPr/>
            <p:nvPr/>
          </p:nvSpPr>
          <p:spPr>
            <a:xfrm>
              <a:off x="4406040" y="2676600"/>
              <a:ext cx="37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7"/>
            <p:cNvSpPr/>
            <p:nvPr/>
          </p:nvSpPr>
          <p:spPr>
            <a:xfrm>
              <a:off x="4491360" y="2416320"/>
              <a:ext cx="20196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8"/>
            <p:cNvSpPr/>
            <p:nvPr/>
          </p:nvSpPr>
          <p:spPr>
            <a:xfrm flipH="1">
              <a:off x="3625200" y="2471760"/>
              <a:ext cx="965520" cy="319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4591080" y="2468520"/>
              <a:ext cx="959400" cy="32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0"/>
            <p:cNvSpPr/>
            <p:nvPr/>
          </p:nvSpPr>
          <p:spPr>
            <a:xfrm>
              <a:off x="3162240" y="5683320"/>
              <a:ext cx="27972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1"/>
            <p:cNvSpPr/>
            <p:nvPr/>
          </p:nvSpPr>
          <p:spPr>
            <a:xfrm flipH="1">
              <a:off x="4574160" y="1725480"/>
              <a:ext cx="24840" cy="440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Rectangle 12"/>
          <p:cNvSpPr/>
          <p:nvPr/>
        </p:nvSpPr>
        <p:spPr>
          <a:xfrm>
            <a:off x="2098800" y="5692680"/>
            <a:ext cx="4484520" cy="14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4459320" y="4678200"/>
            <a:ext cx="317520" cy="73080"/>
          </a:xfrm>
          <a:prstGeom prst="rect">
            <a:avLst/>
          </a:prstGeom>
          <a:solidFill>
            <a:srgbClr val="a31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reeform 14"/>
          <p:cNvSpPr/>
          <p:nvPr/>
        </p:nvSpPr>
        <p:spPr>
          <a:xfrm>
            <a:off x="4716360" y="3814920"/>
            <a:ext cx="3154320" cy="830160"/>
          </a:xfrm>
          <a:custGeom>
            <a:avLst/>
            <a:gdLst/>
            <a:ahLst/>
            <a:rect l="l" t="t" r="r" b="b"/>
            <a:pathLst>
              <a:path w="2152" h="523">
                <a:moveTo>
                  <a:pt x="0" y="522"/>
                </a:moveTo>
                <a:lnTo>
                  <a:pt x="666" y="0"/>
                </a:lnTo>
                <a:lnTo>
                  <a:pt x="21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6864480" y="331776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LD </a:t>
            </a:r>
            <a:r>
              <a:rPr b="0" lang="it-IT" sz="2400" spc="-1" strike="noStrike">
                <a:solidFill>
                  <a:srgbClr val="17691b"/>
                </a:solidFill>
                <a:latin typeface="Arial"/>
              </a:rPr>
              <a:t>or O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6"/>
          <p:cNvSpPr/>
          <p:nvPr/>
        </p:nvSpPr>
        <p:spPr>
          <a:xfrm>
            <a:off x="2176560" y="4692600"/>
            <a:ext cx="4282920" cy="1008000"/>
          </a:xfrm>
          <a:custGeom>
            <a:avLst/>
            <a:gdLst/>
            <a:ahLst/>
            <a:rect l="l" t="t" r="r" b="b"/>
            <a:pathLst>
              <a:path w="2698" h="635">
                <a:moveTo>
                  <a:pt x="2582" y="107"/>
                </a:moveTo>
                <a:lnTo>
                  <a:pt x="2582" y="107"/>
                </a:lnTo>
                <a:lnTo>
                  <a:pt x="2592" y="107"/>
                </a:lnTo>
                <a:lnTo>
                  <a:pt x="2602" y="108"/>
                </a:lnTo>
                <a:lnTo>
                  <a:pt x="2611" y="111"/>
                </a:lnTo>
                <a:lnTo>
                  <a:pt x="2619" y="115"/>
                </a:lnTo>
                <a:lnTo>
                  <a:pt x="2627" y="120"/>
                </a:lnTo>
                <a:lnTo>
                  <a:pt x="2635" y="125"/>
                </a:lnTo>
                <a:lnTo>
                  <a:pt x="2643" y="132"/>
                </a:lnTo>
                <a:lnTo>
                  <a:pt x="2649" y="139"/>
                </a:lnTo>
                <a:lnTo>
                  <a:pt x="2655" y="146"/>
                </a:lnTo>
                <a:lnTo>
                  <a:pt x="2661" y="153"/>
                </a:lnTo>
                <a:lnTo>
                  <a:pt x="2666" y="161"/>
                </a:lnTo>
                <a:lnTo>
                  <a:pt x="2671" y="169"/>
                </a:lnTo>
                <a:lnTo>
                  <a:pt x="2675" y="177"/>
                </a:lnTo>
                <a:lnTo>
                  <a:pt x="2678" y="184"/>
                </a:lnTo>
                <a:lnTo>
                  <a:pt x="2682" y="191"/>
                </a:lnTo>
                <a:lnTo>
                  <a:pt x="2684" y="197"/>
                </a:lnTo>
                <a:lnTo>
                  <a:pt x="2688" y="212"/>
                </a:lnTo>
                <a:lnTo>
                  <a:pt x="2691" y="226"/>
                </a:lnTo>
                <a:lnTo>
                  <a:pt x="2694" y="240"/>
                </a:lnTo>
                <a:lnTo>
                  <a:pt x="2697" y="254"/>
                </a:lnTo>
                <a:lnTo>
                  <a:pt x="2698" y="266"/>
                </a:lnTo>
                <a:lnTo>
                  <a:pt x="2698" y="279"/>
                </a:lnTo>
                <a:lnTo>
                  <a:pt x="2698" y="290"/>
                </a:lnTo>
                <a:lnTo>
                  <a:pt x="2696" y="301"/>
                </a:lnTo>
                <a:lnTo>
                  <a:pt x="2693" y="312"/>
                </a:lnTo>
                <a:lnTo>
                  <a:pt x="2687" y="322"/>
                </a:lnTo>
                <a:lnTo>
                  <a:pt x="2680" y="331"/>
                </a:lnTo>
                <a:lnTo>
                  <a:pt x="2671" y="340"/>
                </a:lnTo>
                <a:lnTo>
                  <a:pt x="2659" y="348"/>
                </a:lnTo>
                <a:lnTo>
                  <a:pt x="2645" y="355"/>
                </a:lnTo>
                <a:lnTo>
                  <a:pt x="2628" y="362"/>
                </a:lnTo>
                <a:lnTo>
                  <a:pt x="2609" y="368"/>
                </a:lnTo>
                <a:lnTo>
                  <a:pt x="2593" y="371"/>
                </a:lnTo>
                <a:lnTo>
                  <a:pt x="2578" y="374"/>
                </a:lnTo>
                <a:lnTo>
                  <a:pt x="2564" y="375"/>
                </a:lnTo>
                <a:lnTo>
                  <a:pt x="2551" y="375"/>
                </a:lnTo>
                <a:lnTo>
                  <a:pt x="2538" y="375"/>
                </a:lnTo>
                <a:lnTo>
                  <a:pt x="2525" y="375"/>
                </a:lnTo>
                <a:lnTo>
                  <a:pt x="2513" y="375"/>
                </a:lnTo>
                <a:lnTo>
                  <a:pt x="2501" y="375"/>
                </a:lnTo>
                <a:lnTo>
                  <a:pt x="2489" y="375"/>
                </a:lnTo>
                <a:lnTo>
                  <a:pt x="2477" y="376"/>
                </a:lnTo>
                <a:lnTo>
                  <a:pt x="2465" y="379"/>
                </a:lnTo>
                <a:lnTo>
                  <a:pt x="2453" y="382"/>
                </a:lnTo>
                <a:lnTo>
                  <a:pt x="2441" y="387"/>
                </a:lnTo>
                <a:lnTo>
                  <a:pt x="2428" y="394"/>
                </a:lnTo>
                <a:lnTo>
                  <a:pt x="2415" y="402"/>
                </a:lnTo>
                <a:lnTo>
                  <a:pt x="2402" y="413"/>
                </a:lnTo>
                <a:lnTo>
                  <a:pt x="2397" y="426"/>
                </a:lnTo>
                <a:lnTo>
                  <a:pt x="2392" y="439"/>
                </a:lnTo>
                <a:lnTo>
                  <a:pt x="2385" y="453"/>
                </a:lnTo>
                <a:lnTo>
                  <a:pt x="2378" y="467"/>
                </a:lnTo>
                <a:lnTo>
                  <a:pt x="2370" y="481"/>
                </a:lnTo>
                <a:lnTo>
                  <a:pt x="2362" y="495"/>
                </a:lnTo>
                <a:lnTo>
                  <a:pt x="2353" y="508"/>
                </a:lnTo>
                <a:lnTo>
                  <a:pt x="2344" y="521"/>
                </a:lnTo>
                <a:lnTo>
                  <a:pt x="2334" y="534"/>
                </a:lnTo>
                <a:lnTo>
                  <a:pt x="2323" y="545"/>
                </a:lnTo>
                <a:lnTo>
                  <a:pt x="2313" y="555"/>
                </a:lnTo>
                <a:lnTo>
                  <a:pt x="2302" y="564"/>
                </a:lnTo>
                <a:lnTo>
                  <a:pt x="2291" y="571"/>
                </a:lnTo>
                <a:lnTo>
                  <a:pt x="2280" y="577"/>
                </a:lnTo>
                <a:lnTo>
                  <a:pt x="2268" y="581"/>
                </a:lnTo>
                <a:lnTo>
                  <a:pt x="2258" y="583"/>
                </a:lnTo>
                <a:lnTo>
                  <a:pt x="2247" y="584"/>
                </a:lnTo>
                <a:lnTo>
                  <a:pt x="2237" y="585"/>
                </a:lnTo>
                <a:lnTo>
                  <a:pt x="2226" y="586"/>
                </a:lnTo>
                <a:lnTo>
                  <a:pt x="2216" y="587"/>
                </a:lnTo>
                <a:lnTo>
                  <a:pt x="2205" y="589"/>
                </a:lnTo>
                <a:lnTo>
                  <a:pt x="2194" y="589"/>
                </a:lnTo>
                <a:lnTo>
                  <a:pt x="2184" y="590"/>
                </a:lnTo>
                <a:lnTo>
                  <a:pt x="2173" y="591"/>
                </a:lnTo>
                <a:lnTo>
                  <a:pt x="2162" y="592"/>
                </a:lnTo>
                <a:lnTo>
                  <a:pt x="2151" y="593"/>
                </a:lnTo>
                <a:lnTo>
                  <a:pt x="2141" y="594"/>
                </a:lnTo>
                <a:lnTo>
                  <a:pt x="2130" y="595"/>
                </a:lnTo>
                <a:lnTo>
                  <a:pt x="2120" y="595"/>
                </a:lnTo>
                <a:lnTo>
                  <a:pt x="2109" y="597"/>
                </a:lnTo>
                <a:lnTo>
                  <a:pt x="2098" y="597"/>
                </a:lnTo>
                <a:lnTo>
                  <a:pt x="2087" y="598"/>
                </a:lnTo>
                <a:lnTo>
                  <a:pt x="2076" y="599"/>
                </a:lnTo>
                <a:lnTo>
                  <a:pt x="2066" y="600"/>
                </a:lnTo>
                <a:lnTo>
                  <a:pt x="2055" y="602"/>
                </a:lnTo>
                <a:lnTo>
                  <a:pt x="2045" y="603"/>
                </a:lnTo>
                <a:lnTo>
                  <a:pt x="2034" y="604"/>
                </a:lnTo>
                <a:lnTo>
                  <a:pt x="2023" y="605"/>
                </a:lnTo>
                <a:lnTo>
                  <a:pt x="2012" y="607"/>
                </a:lnTo>
                <a:lnTo>
                  <a:pt x="2002" y="608"/>
                </a:lnTo>
                <a:lnTo>
                  <a:pt x="1991" y="610"/>
                </a:lnTo>
                <a:lnTo>
                  <a:pt x="1980" y="611"/>
                </a:lnTo>
                <a:lnTo>
                  <a:pt x="1970" y="613"/>
                </a:lnTo>
                <a:lnTo>
                  <a:pt x="1959" y="615"/>
                </a:lnTo>
                <a:lnTo>
                  <a:pt x="1949" y="617"/>
                </a:lnTo>
                <a:lnTo>
                  <a:pt x="1938" y="619"/>
                </a:lnTo>
                <a:lnTo>
                  <a:pt x="1928" y="622"/>
                </a:lnTo>
                <a:lnTo>
                  <a:pt x="1917" y="624"/>
                </a:lnTo>
                <a:lnTo>
                  <a:pt x="1907" y="626"/>
                </a:lnTo>
                <a:lnTo>
                  <a:pt x="1897" y="627"/>
                </a:lnTo>
                <a:lnTo>
                  <a:pt x="1887" y="629"/>
                </a:lnTo>
                <a:lnTo>
                  <a:pt x="1877" y="631"/>
                </a:lnTo>
                <a:lnTo>
                  <a:pt x="1866" y="632"/>
                </a:lnTo>
                <a:lnTo>
                  <a:pt x="1856" y="633"/>
                </a:lnTo>
                <a:lnTo>
                  <a:pt x="1846" y="634"/>
                </a:lnTo>
                <a:lnTo>
                  <a:pt x="1836" y="635"/>
                </a:lnTo>
                <a:lnTo>
                  <a:pt x="1826" y="635"/>
                </a:lnTo>
                <a:lnTo>
                  <a:pt x="1816" y="635"/>
                </a:lnTo>
                <a:lnTo>
                  <a:pt x="1807" y="634"/>
                </a:lnTo>
                <a:lnTo>
                  <a:pt x="1797" y="633"/>
                </a:lnTo>
                <a:lnTo>
                  <a:pt x="1788" y="631"/>
                </a:lnTo>
                <a:lnTo>
                  <a:pt x="1779" y="628"/>
                </a:lnTo>
                <a:lnTo>
                  <a:pt x="1771" y="624"/>
                </a:lnTo>
                <a:lnTo>
                  <a:pt x="1763" y="620"/>
                </a:lnTo>
                <a:lnTo>
                  <a:pt x="1758" y="617"/>
                </a:lnTo>
                <a:lnTo>
                  <a:pt x="1753" y="613"/>
                </a:lnTo>
                <a:lnTo>
                  <a:pt x="1749" y="609"/>
                </a:lnTo>
                <a:lnTo>
                  <a:pt x="1745" y="605"/>
                </a:lnTo>
                <a:lnTo>
                  <a:pt x="1742" y="600"/>
                </a:lnTo>
                <a:lnTo>
                  <a:pt x="1738" y="595"/>
                </a:lnTo>
                <a:lnTo>
                  <a:pt x="1735" y="589"/>
                </a:lnTo>
                <a:lnTo>
                  <a:pt x="1732" y="584"/>
                </a:lnTo>
                <a:lnTo>
                  <a:pt x="1729" y="579"/>
                </a:lnTo>
                <a:lnTo>
                  <a:pt x="1726" y="574"/>
                </a:lnTo>
                <a:lnTo>
                  <a:pt x="1724" y="569"/>
                </a:lnTo>
                <a:lnTo>
                  <a:pt x="1721" y="564"/>
                </a:lnTo>
                <a:lnTo>
                  <a:pt x="1718" y="560"/>
                </a:lnTo>
                <a:lnTo>
                  <a:pt x="1716" y="557"/>
                </a:lnTo>
                <a:lnTo>
                  <a:pt x="1713" y="554"/>
                </a:lnTo>
                <a:lnTo>
                  <a:pt x="1710" y="552"/>
                </a:lnTo>
                <a:lnTo>
                  <a:pt x="1699" y="552"/>
                </a:lnTo>
                <a:lnTo>
                  <a:pt x="1689" y="552"/>
                </a:lnTo>
                <a:lnTo>
                  <a:pt x="1678" y="553"/>
                </a:lnTo>
                <a:lnTo>
                  <a:pt x="1668" y="553"/>
                </a:lnTo>
                <a:lnTo>
                  <a:pt x="1657" y="554"/>
                </a:lnTo>
                <a:lnTo>
                  <a:pt x="1647" y="554"/>
                </a:lnTo>
                <a:lnTo>
                  <a:pt x="1636" y="556"/>
                </a:lnTo>
                <a:lnTo>
                  <a:pt x="1626" y="557"/>
                </a:lnTo>
                <a:lnTo>
                  <a:pt x="1615" y="558"/>
                </a:lnTo>
                <a:lnTo>
                  <a:pt x="1605" y="559"/>
                </a:lnTo>
                <a:lnTo>
                  <a:pt x="1594" y="560"/>
                </a:lnTo>
                <a:lnTo>
                  <a:pt x="1584" y="562"/>
                </a:lnTo>
                <a:lnTo>
                  <a:pt x="1574" y="563"/>
                </a:lnTo>
                <a:lnTo>
                  <a:pt x="1563" y="564"/>
                </a:lnTo>
                <a:lnTo>
                  <a:pt x="1553" y="566"/>
                </a:lnTo>
                <a:lnTo>
                  <a:pt x="1542" y="567"/>
                </a:lnTo>
                <a:lnTo>
                  <a:pt x="1532" y="569"/>
                </a:lnTo>
                <a:lnTo>
                  <a:pt x="1521" y="570"/>
                </a:lnTo>
                <a:lnTo>
                  <a:pt x="1511" y="572"/>
                </a:lnTo>
                <a:lnTo>
                  <a:pt x="1500" y="573"/>
                </a:lnTo>
                <a:lnTo>
                  <a:pt x="1490" y="574"/>
                </a:lnTo>
                <a:lnTo>
                  <a:pt x="1479" y="576"/>
                </a:lnTo>
                <a:lnTo>
                  <a:pt x="1469" y="577"/>
                </a:lnTo>
                <a:lnTo>
                  <a:pt x="1458" y="578"/>
                </a:lnTo>
                <a:lnTo>
                  <a:pt x="1448" y="579"/>
                </a:lnTo>
                <a:lnTo>
                  <a:pt x="1437" y="580"/>
                </a:lnTo>
                <a:lnTo>
                  <a:pt x="1427" y="581"/>
                </a:lnTo>
                <a:lnTo>
                  <a:pt x="1417" y="582"/>
                </a:lnTo>
                <a:lnTo>
                  <a:pt x="1406" y="582"/>
                </a:lnTo>
                <a:lnTo>
                  <a:pt x="1396" y="582"/>
                </a:lnTo>
                <a:lnTo>
                  <a:pt x="1385" y="583"/>
                </a:lnTo>
                <a:lnTo>
                  <a:pt x="1375" y="583"/>
                </a:lnTo>
                <a:lnTo>
                  <a:pt x="1372" y="579"/>
                </a:lnTo>
                <a:lnTo>
                  <a:pt x="1369" y="575"/>
                </a:lnTo>
                <a:lnTo>
                  <a:pt x="1366" y="570"/>
                </a:lnTo>
                <a:lnTo>
                  <a:pt x="1362" y="565"/>
                </a:lnTo>
                <a:lnTo>
                  <a:pt x="1358" y="559"/>
                </a:lnTo>
                <a:lnTo>
                  <a:pt x="1356" y="554"/>
                </a:lnTo>
                <a:lnTo>
                  <a:pt x="1354" y="548"/>
                </a:lnTo>
                <a:lnTo>
                  <a:pt x="1353" y="543"/>
                </a:lnTo>
                <a:lnTo>
                  <a:pt x="1274" y="543"/>
                </a:lnTo>
                <a:lnTo>
                  <a:pt x="1250" y="543"/>
                </a:lnTo>
                <a:lnTo>
                  <a:pt x="1227" y="543"/>
                </a:lnTo>
                <a:lnTo>
                  <a:pt x="1204" y="543"/>
                </a:lnTo>
                <a:lnTo>
                  <a:pt x="1183" y="544"/>
                </a:lnTo>
                <a:lnTo>
                  <a:pt x="1162" y="544"/>
                </a:lnTo>
                <a:lnTo>
                  <a:pt x="1143" y="545"/>
                </a:lnTo>
                <a:lnTo>
                  <a:pt x="1123" y="546"/>
                </a:lnTo>
                <a:lnTo>
                  <a:pt x="1104" y="547"/>
                </a:lnTo>
                <a:lnTo>
                  <a:pt x="1086" y="548"/>
                </a:lnTo>
                <a:lnTo>
                  <a:pt x="1068" y="549"/>
                </a:lnTo>
                <a:lnTo>
                  <a:pt x="1050" y="550"/>
                </a:lnTo>
                <a:lnTo>
                  <a:pt x="1033" y="551"/>
                </a:lnTo>
                <a:lnTo>
                  <a:pt x="1016" y="553"/>
                </a:lnTo>
                <a:lnTo>
                  <a:pt x="999" y="554"/>
                </a:lnTo>
                <a:lnTo>
                  <a:pt x="982" y="556"/>
                </a:lnTo>
                <a:lnTo>
                  <a:pt x="966" y="557"/>
                </a:lnTo>
                <a:lnTo>
                  <a:pt x="949" y="558"/>
                </a:lnTo>
                <a:lnTo>
                  <a:pt x="931" y="560"/>
                </a:lnTo>
                <a:lnTo>
                  <a:pt x="915" y="561"/>
                </a:lnTo>
                <a:lnTo>
                  <a:pt x="897" y="562"/>
                </a:lnTo>
                <a:lnTo>
                  <a:pt x="880" y="564"/>
                </a:lnTo>
                <a:lnTo>
                  <a:pt x="861" y="565"/>
                </a:lnTo>
                <a:lnTo>
                  <a:pt x="843" y="567"/>
                </a:lnTo>
                <a:lnTo>
                  <a:pt x="824" y="568"/>
                </a:lnTo>
                <a:lnTo>
                  <a:pt x="804" y="569"/>
                </a:lnTo>
                <a:lnTo>
                  <a:pt x="784" y="570"/>
                </a:lnTo>
                <a:lnTo>
                  <a:pt x="763" y="571"/>
                </a:lnTo>
                <a:lnTo>
                  <a:pt x="741" y="572"/>
                </a:lnTo>
                <a:lnTo>
                  <a:pt x="719" y="573"/>
                </a:lnTo>
                <a:lnTo>
                  <a:pt x="695" y="574"/>
                </a:lnTo>
                <a:lnTo>
                  <a:pt x="671" y="574"/>
                </a:lnTo>
                <a:lnTo>
                  <a:pt x="646" y="575"/>
                </a:lnTo>
                <a:lnTo>
                  <a:pt x="637" y="575"/>
                </a:lnTo>
                <a:lnTo>
                  <a:pt x="628" y="576"/>
                </a:lnTo>
                <a:lnTo>
                  <a:pt x="619" y="576"/>
                </a:lnTo>
                <a:lnTo>
                  <a:pt x="609" y="576"/>
                </a:lnTo>
                <a:lnTo>
                  <a:pt x="598" y="576"/>
                </a:lnTo>
                <a:lnTo>
                  <a:pt x="588" y="576"/>
                </a:lnTo>
                <a:lnTo>
                  <a:pt x="576" y="576"/>
                </a:lnTo>
                <a:lnTo>
                  <a:pt x="565" y="576"/>
                </a:lnTo>
                <a:lnTo>
                  <a:pt x="553" y="577"/>
                </a:lnTo>
                <a:lnTo>
                  <a:pt x="540" y="577"/>
                </a:lnTo>
                <a:lnTo>
                  <a:pt x="528" y="577"/>
                </a:lnTo>
                <a:lnTo>
                  <a:pt x="515" y="576"/>
                </a:lnTo>
                <a:lnTo>
                  <a:pt x="503" y="576"/>
                </a:lnTo>
                <a:lnTo>
                  <a:pt x="490" y="576"/>
                </a:lnTo>
                <a:lnTo>
                  <a:pt x="477" y="576"/>
                </a:lnTo>
                <a:lnTo>
                  <a:pt x="464" y="576"/>
                </a:lnTo>
                <a:lnTo>
                  <a:pt x="451" y="575"/>
                </a:lnTo>
                <a:lnTo>
                  <a:pt x="438" y="575"/>
                </a:lnTo>
                <a:lnTo>
                  <a:pt x="425" y="574"/>
                </a:lnTo>
                <a:lnTo>
                  <a:pt x="413" y="574"/>
                </a:lnTo>
                <a:lnTo>
                  <a:pt x="400" y="573"/>
                </a:lnTo>
                <a:lnTo>
                  <a:pt x="388" y="572"/>
                </a:lnTo>
                <a:lnTo>
                  <a:pt x="375" y="572"/>
                </a:lnTo>
                <a:lnTo>
                  <a:pt x="363" y="571"/>
                </a:lnTo>
                <a:lnTo>
                  <a:pt x="352" y="570"/>
                </a:lnTo>
                <a:lnTo>
                  <a:pt x="341" y="569"/>
                </a:lnTo>
                <a:lnTo>
                  <a:pt x="330" y="568"/>
                </a:lnTo>
                <a:lnTo>
                  <a:pt x="320" y="567"/>
                </a:lnTo>
                <a:lnTo>
                  <a:pt x="310" y="565"/>
                </a:lnTo>
                <a:lnTo>
                  <a:pt x="300" y="564"/>
                </a:lnTo>
                <a:lnTo>
                  <a:pt x="292" y="562"/>
                </a:lnTo>
                <a:lnTo>
                  <a:pt x="283" y="561"/>
                </a:lnTo>
                <a:lnTo>
                  <a:pt x="278" y="560"/>
                </a:lnTo>
                <a:lnTo>
                  <a:pt x="273" y="559"/>
                </a:lnTo>
                <a:lnTo>
                  <a:pt x="268" y="558"/>
                </a:lnTo>
                <a:lnTo>
                  <a:pt x="263" y="557"/>
                </a:lnTo>
                <a:lnTo>
                  <a:pt x="258" y="557"/>
                </a:lnTo>
                <a:lnTo>
                  <a:pt x="253" y="556"/>
                </a:lnTo>
                <a:lnTo>
                  <a:pt x="248" y="556"/>
                </a:lnTo>
                <a:lnTo>
                  <a:pt x="243" y="555"/>
                </a:lnTo>
                <a:lnTo>
                  <a:pt x="238" y="555"/>
                </a:lnTo>
                <a:lnTo>
                  <a:pt x="233" y="554"/>
                </a:lnTo>
                <a:lnTo>
                  <a:pt x="228" y="554"/>
                </a:lnTo>
                <a:lnTo>
                  <a:pt x="223" y="554"/>
                </a:lnTo>
                <a:lnTo>
                  <a:pt x="218" y="555"/>
                </a:lnTo>
                <a:lnTo>
                  <a:pt x="213" y="555"/>
                </a:lnTo>
                <a:lnTo>
                  <a:pt x="208" y="556"/>
                </a:lnTo>
                <a:lnTo>
                  <a:pt x="203" y="556"/>
                </a:lnTo>
                <a:lnTo>
                  <a:pt x="190" y="569"/>
                </a:lnTo>
                <a:lnTo>
                  <a:pt x="177" y="582"/>
                </a:lnTo>
                <a:lnTo>
                  <a:pt x="163" y="593"/>
                </a:lnTo>
                <a:lnTo>
                  <a:pt x="148" y="604"/>
                </a:lnTo>
                <a:lnTo>
                  <a:pt x="133" y="613"/>
                </a:lnTo>
                <a:lnTo>
                  <a:pt x="118" y="621"/>
                </a:lnTo>
                <a:lnTo>
                  <a:pt x="103" y="627"/>
                </a:lnTo>
                <a:lnTo>
                  <a:pt x="88" y="632"/>
                </a:lnTo>
                <a:lnTo>
                  <a:pt x="73" y="634"/>
                </a:lnTo>
                <a:lnTo>
                  <a:pt x="59" y="635"/>
                </a:lnTo>
                <a:lnTo>
                  <a:pt x="47" y="633"/>
                </a:lnTo>
                <a:lnTo>
                  <a:pt x="34" y="628"/>
                </a:lnTo>
                <a:lnTo>
                  <a:pt x="24" y="622"/>
                </a:lnTo>
                <a:lnTo>
                  <a:pt x="15" y="612"/>
                </a:lnTo>
                <a:lnTo>
                  <a:pt x="7" y="599"/>
                </a:lnTo>
                <a:lnTo>
                  <a:pt x="1" y="583"/>
                </a:lnTo>
                <a:lnTo>
                  <a:pt x="1" y="577"/>
                </a:lnTo>
                <a:lnTo>
                  <a:pt x="1" y="572"/>
                </a:lnTo>
                <a:lnTo>
                  <a:pt x="0" y="565"/>
                </a:lnTo>
                <a:lnTo>
                  <a:pt x="0" y="558"/>
                </a:lnTo>
                <a:lnTo>
                  <a:pt x="0" y="551"/>
                </a:lnTo>
                <a:lnTo>
                  <a:pt x="1" y="544"/>
                </a:lnTo>
                <a:lnTo>
                  <a:pt x="3" y="536"/>
                </a:lnTo>
                <a:lnTo>
                  <a:pt x="7" y="530"/>
                </a:lnTo>
                <a:lnTo>
                  <a:pt x="14" y="518"/>
                </a:lnTo>
                <a:lnTo>
                  <a:pt x="21" y="508"/>
                </a:lnTo>
                <a:lnTo>
                  <a:pt x="28" y="499"/>
                </a:lnTo>
                <a:lnTo>
                  <a:pt x="35" y="490"/>
                </a:lnTo>
                <a:lnTo>
                  <a:pt x="43" y="483"/>
                </a:lnTo>
                <a:lnTo>
                  <a:pt x="50" y="476"/>
                </a:lnTo>
                <a:lnTo>
                  <a:pt x="59" y="469"/>
                </a:lnTo>
                <a:lnTo>
                  <a:pt x="67" y="464"/>
                </a:lnTo>
                <a:lnTo>
                  <a:pt x="76" y="459"/>
                </a:lnTo>
                <a:lnTo>
                  <a:pt x="85" y="454"/>
                </a:lnTo>
                <a:lnTo>
                  <a:pt x="95" y="450"/>
                </a:lnTo>
                <a:lnTo>
                  <a:pt x="106" y="447"/>
                </a:lnTo>
                <a:lnTo>
                  <a:pt x="117" y="443"/>
                </a:lnTo>
                <a:lnTo>
                  <a:pt x="129" y="440"/>
                </a:lnTo>
                <a:lnTo>
                  <a:pt x="142" y="437"/>
                </a:lnTo>
                <a:lnTo>
                  <a:pt x="155" y="435"/>
                </a:lnTo>
                <a:lnTo>
                  <a:pt x="159" y="432"/>
                </a:lnTo>
                <a:lnTo>
                  <a:pt x="162" y="429"/>
                </a:lnTo>
                <a:lnTo>
                  <a:pt x="166" y="425"/>
                </a:lnTo>
                <a:lnTo>
                  <a:pt x="169" y="421"/>
                </a:lnTo>
                <a:lnTo>
                  <a:pt x="172" y="416"/>
                </a:lnTo>
                <a:lnTo>
                  <a:pt x="174" y="411"/>
                </a:lnTo>
                <a:lnTo>
                  <a:pt x="177" y="406"/>
                </a:lnTo>
                <a:lnTo>
                  <a:pt x="180" y="401"/>
                </a:lnTo>
                <a:lnTo>
                  <a:pt x="182" y="396"/>
                </a:lnTo>
                <a:lnTo>
                  <a:pt x="185" y="391"/>
                </a:lnTo>
                <a:lnTo>
                  <a:pt x="187" y="386"/>
                </a:lnTo>
                <a:lnTo>
                  <a:pt x="190" y="381"/>
                </a:lnTo>
                <a:lnTo>
                  <a:pt x="193" y="376"/>
                </a:lnTo>
                <a:lnTo>
                  <a:pt x="196" y="371"/>
                </a:lnTo>
                <a:lnTo>
                  <a:pt x="199" y="367"/>
                </a:lnTo>
                <a:lnTo>
                  <a:pt x="203" y="363"/>
                </a:lnTo>
                <a:lnTo>
                  <a:pt x="206" y="363"/>
                </a:lnTo>
                <a:lnTo>
                  <a:pt x="211" y="363"/>
                </a:lnTo>
                <a:lnTo>
                  <a:pt x="216" y="364"/>
                </a:lnTo>
                <a:lnTo>
                  <a:pt x="221" y="364"/>
                </a:lnTo>
                <a:lnTo>
                  <a:pt x="227" y="364"/>
                </a:lnTo>
                <a:lnTo>
                  <a:pt x="233" y="365"/>
                </a:lnTo>
                <a:lnTo>
                  <a:pt x="239" y="365"/>
                </a:lnTo>
                <a:lnTo>
                  <a:pt x="246" y="365"/>
                </a:lnTo>
                <a:lnTo>
                  <a:pt x="252" y="365"/>
                </a:lnTo>
                <a:lnTo>
                  <a:pt x="259" y="364"/>
                </a:lnTo>
                <a:lnTo>
                  <a:pt x="265" y="364"/>
                </a:lnTo>
                <a:lnTo>
                  <a:pt x="271" y="363"/>
                </a:lnTo>
                <a:lnTo>
                  <a:pt x="276" y="363"/>
                </a:lnTo>
                <a:lnTo>
                  <a:pt x="281" y="361"/>
                </a:lnTo>
                <a:lnTo>
                  <a:pt x="285" y="360"/>
                </a:lnTo>
                <a:lnTo>
                  <a:pt x="289" y="359"/>
                </a:lnTo>
                <a:lnTo>
                  <a:pt x="284" y="357"/>
                </a:lnTo>
                <a:lnTo>
                  <a:pt x="279" y="355"/>
                </a:lnTo>
                <a:lnTo>
                  <a:pt x="273" y="354"/>
                </a:lnTo>
                <a:lnTo>
                  <a:pt x="267" y="352"/>
                </a:lnTo>
                <a:lnTo>
                  <a:pt x="260" y="351"/>
                </a:lnTo>
                <a:lnTo>
                  <a:pt x="253" y="349"/>
                </a:lnTo>
                <a:lnTo>
                  <a:pt x="246" y="348"/>
                </a:lnTo>
                <a:lnTo>
                  <a:pt x="238" y="346"/>
                </a:lnTo>
                <a:lnTo>
                  <a:pt x="231" y="344"/>
                </a:lnTo>
                <a:lnTo>
                  <a:pt x="224" y="341"/>
                </a:lnTo>
                <a:lnTo>
                  <a:pt x="218" y="339"/>
                </a:lnTo>
                <a:lnTo>
                  <a:pt x="211" y="336"/>
                </a:lnTo>
                <a:lnTo>
                  <a:pt x="206" y="334"/>
                </a:lnTo>
                <a:lnTo>
                  <a:pt x="201" y="330"/>
                </a:lnTo>
                <a:lnTo>
                  <a:pt x="196" y="327"/>
                </a:lnTo>
                <a:lnTo>
                  <a:pt x="193" y="323"/>
                </a:lnTo>
                <a:lnTo>
                  <a:pt x="186" y="313"/>
                </a:lnTo>
                <a:lnTo>
                  <a:pt x="180" y="302"/>
                </a:lnTo>
                <a:lnTo>
                  <a:pt x="174" y="292"/>
                </a:lnTo>
                <a:lnTo>
                  <a:pt x="168" y="281"/>
                </a:lnTo>
                <a:lnTo>
                  <a:pt x="163" y="270"/>
                </a:lnTo>
                <a:lnTo>
                  <a:pt x="158" y="259"/>
                </a:lnTo>
                <a:lnTo>
                  <a:pt x="153" y="248"/>
                </a:lnTo>
                <a:lnTo>
                  <a:pt x="148" y="237"/>
                </a:lnTo>
                <a:lnTo>
                  <a:pt x="144" y="226"/>
                </a:lnTo>
                <a:lnTo>
                  <a:pt x="140" y="214"/>
                </a:lnTo>
                <a:lnTo>
                  <a:pt x="135" y="203"/>
                </a:lnTo>
                <a:lnTo>
                  <a:pt x="131" y="192"/>
                </a:lnTo>
                <a:lnTo>
                  <a:pt x="126" y="181"/>
                </a:lnTo>
                <a:lnTo>
                  <a:pt x="122" y="170"/>
                </a:lnTo>
                <a:lnTo>
                  <a:pt x="117" y="158"/>
                </a:lnTo>
                <a:lnTo>
                  <a:pt x="113" y="147"/>
                </a:lnTo>
                <a:lnTo>
                  <a:pt x="107" y="138"/>
                </a:lnTo>
                <a:lnTo>
                  <a:pt x="103" y="128"/>
                </a:lnTo>
                <a:lnTo>
                  <a:pt x="99" y="119"/>
                </a:lnTo>
                <a:lnTo>
                  <a:pt x="96" y="111"/>
                </a:lnTo>
                <a:lnTo>
                  <a:pt x="94" y="102"/>
                </a:lnTo>
                <a:lnTo>
                  <a:pt x="92" y="95"/>
                </a:lnTo>
                <a:lnTo>
                  <a:pt x="91" y="87"/>
                </a:lnTo>
                <a:lnTo>
                  <a:pt x="91" y="80"/>
                </a:lnTo>
                <a:lnTo>
                  <a:pt x="92" y="73"/>
                </a:lnTo>
                <a:lnTo>
                  <a:pt x="93" y="67"/>
                </a:lnTo>
                <a:lnTo>
                  <a:pt x="95" y="61"/>
                </a:lnTo>
                <a:lnTo>
                  <a:pt x="97" y="55"/>
                </a:lnTo>
                <a:lnTo>
                  <a:pt x="100" y="50"/>
                </a:lnTo>
                <a:lnTo>
                  <a:pt x="104" y="45"/>
                </a:lnTo>
                <a:lnTo>
                  <a:pt x="108" y="40"/>
                </a:lnTo>
                <a:lnTo>
                  <a:pt x="113" y="36"/>
                </a:lnTo>
                <a:lnTo>
                  <a:pt x="123" y="29"/>
                </a:lnTo>
                <a:lnTo>
                  <a:pt x="132" y="24"/>
                </a:lnTo>
                <a:lnTo>
                  <a:pt x="141" y="21"/>
                </a:lnTo>
                <a:lnTo>
                  <a:pt x="150" y="20"/>
                </a:lnTo>
                <a:lnTo>
                  <a:pt x="158" y="21"/>
                </a:lnTo>
                <a:lnTo>
                  <a:pt x="166" y="23"/>
                </a:lnTo>
                <a:lnTo>
                  <a:pt x="174" y="27"/>
                </a:lnTo>
                <a:lnTo>
                  <a:pt x="182" y="32"/>
                </a:lnTo>
                <a:lnTo>
                  <a:pt x="189" y="38"/>
                </a:lnTo>
                <a:lnTo>
                  <a:pt x="196" y="44"/>
                </a:lnTo>
                <a:lnTo>
                  <a:pt x="203" y="51"/>
                </a:lnTo>
                <a:lnTo>
                  <a:pt x="210" y="58"/>
                </a:lnTo>
                <a:lnTo>
                  <a:pt x="216" y="65"/>
                </a:lnTo>
                <a:lnTo>
                  <a:pt x="223" y="72"/>
                </a:lnTo>
                <a:lnTo>
                  <a:pt x="229" y="79"/>
                </a:lnTo>
                <a:lnTo>
                  <a:pt x="236" y="85"/>
                </a:lnTo>
                <a:lnTo>
                  <a:pt x="238" y="89"/>
                </a:lnTo>
                <a:lnTo>
                  <a:pt x="241" y="93"/>
                </a:lnTo>
                <a:lnTo>
                  <a:pt x="243" y="98"/>
                </a:lnTo>
                <a:lnTo>
                  <a:pt x="246" y="104"/>
                </a:lnTo>
                <a:lnTo>
                  <a:pt x="248" y="110"/>
                </a:lnTo>
                <a:lnTo>
                  <a:pt x="251" y="117"/>
                </a:lnTo>
                <a:lnTo>
                  <a:pt x="253" y="123"/>
                </a:lnTo>
                <a:lnTo>
                  <a:pt x="256" y="130"/>
                </a:lnTo>
                <a:lnTo>
                  <a:pt x="259" y="137"/>
                </a:lnTo>
                <a:lnTo>
                  <a:pt x="263" y="144"/>
                </a:lnTo>
                <a:lnTo>
                  <a:pt x="267" y="151"/>
                </a:lnTo>
                <a:lnTo>
                  <a:pt x="272" y="158"/>
                </a:lnTo>
                <a:lnTo>
                  <a:pt x="277" y="164"/>
                </a:lnTo>
                <a:lnTo>
                  <a:pt x="284" y="170"/>
                </a:lnTo>
                <a:lnTo>
                  <a:pt x="292" y="175"/>
                </a:lnTo>
                <a:lnTo>
                  <a:pt x="300" y="180"/>
                </a:lnTo>
                <a:lnTo>
                  <a:pt x="320" y="166"/>
                </a:lnTo>
                <a:lnTo>
                  <a:pt x="328" y="166"/>
                </a:lnTo>
                <a:lnTo>
                  <a:pt x="335" y="167"/>
                </a:lnTo>
                <a:lnTo>
                  <a:pt x="341" y="168"/>
                </a:lnTo>
                <a:lnTo>
                  <a:pt x="346" y="169"/>
                </a:lnTo>
                <a:lnTo>
                  <a:pt x="351" y="170"/>
                </a:lnTo>
                <a:lnTo>
                  <a:pt x="356" y="172"/>
                </a:lnTo>
                <a:lnTo>
                  <a:pt x="360" y="174"/>
                </a:lnTo>
                <a:lnTo>
                  <a:pt x="363" y="177"/>
                </a:lnTo>
                <a:lnTo>
                  <a:pt x="367" y="179"/>
                </a:lnTo>
                <a:lnTo>
                  <a:pt x="371" y="181"/>
                </a:lnTo>
                <a:lnTo>
                  <a:pt x="374" y="184"/>
                </a:lnTo>
                <a:lnTo>
                  <a:pt x="378" y="186"/>
                </a:lnTo>
                <a:lnTo>
                  <a:pt x="382" y="189"/>
                </a:lnTo>
                <a:lnTo>
                  <a:pt x="386" y="192"/>
                </a:lnTo>
                <a:lnTo>
                  <a:pt x="390" y="195"/>
                </a:lnTo>
                <a:lnTo>
                  <a:pt x="395" y="197"/>
                </a:lnTo>
                <a:lnTo>
                  <a:pt x="405" y="191"/>
                </a:lnTo>
                <a:lnTo>
                  <a:pt x="415" y="187"/>
                </a:lnTo>
                <a:lnTo>
                  <a:pt x="425" y="183"/>
                </a:lnTo>
                <a:lnTo>
                  <a:pt x="436" y="180"/>
                </a:lnTo>
                <a:lnTo>
                  <a:pt x="446" y="178"/>
                </a:lnTo>
                <a:lnTo>
                  <a:pt x="456" y="176"/>
                </a:lnTo>
                <a:lnTo>
                  <a:pt x="467" y="174"/>
                </a:lnTo>
                <a:lnTo>
                  <a:pt x="478" y="173"/>
                </a:lnTo>
                <a:lnTo>
                  <a:pt x="488" y="172"/>
                </a:lnTo>
                <a:lnTo>
                  <a:pt x="499" y="172"/>
                </a:lnTo>
                <a:lnTo>
                  <a:pt x="509" y="171"/>
                </a:lnTo>
                <a:lnTo>
                  <a:pt x="519" y="170"/>
                </a:lnTo>
                <a:lnTo>
                  <a:pt x="530" y="169"/>
                </a:lnTo>
                <a:lnTo>
                  <a:pt x="540" y="168"/>
                </a:lnTo>
                <a:lnTo>
                  <a:pt x="550" y="167"/>
                </a:lnTo>
                <a:lnTo>
                  <a:pt x="560" y="166"/>
                </a:lnTo>
                <a:lnTo>
                  <a:pt x="571" y="165"/>
                </a:lnTo>
                <a:lnTo>
                  <a:pt x="582" y="163"/>
                </a:lnTo>
                <a:lnTo>
                  <a:pt x="594" y="162"/>
                </a:lnTo>
                <a:lnTo>
                  <a:pt x="606" y="160"/>
                </a:lnTo>
                <a:lnTo>
                  <a:pt x="617" y="159"/>
                </a:lnTo>
                <a:lnTo>
                  <a:pt x="629" y="157"/>
                </a:lnTo>
                <a:lnTo>
                  <a:pt x="642" y="156"/>
                </a:lnTo>
                <a:lnTo>
                  <a:pt x="653" y="154"/>
                </a:lnTo>
                <a:lnTo>
                  <a:pt x="666" y="152"/>
                </a:lnTo>
                <a:lnTo>
                  <a:pt x="678" y="151"/>
                </a:lnTo>
                <a:lnTo>
                  <a:pt x="691" y="149"/>
                </a:lnTo>
                <a:lnTo>
                  <a:pt x="703" y="147"/>
                </a:lnTo>
                <a:lnTo>
                  <a:pt x="716" y="146"/>
                </a:lnTo>
                <a:lnTo>
                  <a:pt x="728" y="144"/>
                </a:lnTo>
                <a:lnTo>
                  <a:pt x="741" y="142"/>
                </a:lnTo>
                <a:lnTo>
                  <a:pt x="754" y="140"/>
                </a:lnTo>
                <a:lnTo>
                  <a:pt x="767" y="139"/>
                </a:lnTo>
                <a:lnTo>
                  <a:pt x="779" y="137"/>
                </a:lnTo>
                <a:lnTo>
                  <a:pt x="792" y="135"/>
                </a:lnTo>
                <a:lnTo>
                  <a:pt x="804" y="133"/>
                </a:lnTo>
                <a:lnTo>
                  <a:pt x="817" y="131"/>
                </a:lnTo>
                <a:lnTo>
                  <a:pt x="830" y="130"/>
                </a:lnTo>
                <a:lnTo>
                  <a:pt x="842" y="128"/>
                </a:lnTo>
                <a:lnTo>
                  <a:pt x="854" y="126"/>
                </a:lnTo>
                <a:lnTo>
                  <a:pt x="867" y="124"/>
                </a:lnTo>
                <a:lnTo>
                  <a:pt x="879" y="122"/>
                </a:lnTo>
                <a:lnTo>
                  <a:pt x="891" y="120"/>
                </a:lnTo>
                <a:lnTo>
                  <a:pt x="903" y="119"/>
                </a:lnTo>
                <a:lnTo>
                  <a:pt x="914" y="117"/>
                </a:lnTo>
                <a:lnTo>
                  <a:pt x="926" y="115"/>
                </a:lnTo>
                <a:lnTo>
                  <a:pt x="937" y="114"/>
                </a:lnTo>
                <a:lnTo>
                  <a:pt x="948" y="112"/>
                </a:lnTo>
                <a:lnTo>
                  <a:pt x="966" y="109"/>
                </a:lnTo>
                <a:lnTo>
                  <a:pt x="982" y="106"/>
                </a:lnTo>
                <a:lnTo>
                  <a:pt x="998" y="104"/>
                </a:lnTo>
                <a:lnTo>
                  <a:pt x="1013" y="101"/>
                </a:lnTo>
                <a:lnTo>
                  <a:pt x="1027" y="99"/>
                </a:lnTo>
                <a:lnTo>
                  <a:pt x="1042" y="97"/>
                </a:lnTo>
                <a:lnTo>
                  <a:pt x="1056" y="95"/>
                </a:lnTo>
                <a:lnTo>
                  <a:pt x="1069" y="93"/>
                </a:lnTo>
                <a:lnTo>
                  <a:pt x="1082" y="91"/>
                </a:lnTo>
                <a:lnTo>
                  <a:pt x="1094" y="90"/>
                </a:lnTo>
                <a:lnTo>
                  <a:pt x="1107" y="89"/>
                </a:lnTo>
                <a:lnTo>
                  <a:pt x="1118" y="87"/>
                </a:lnTo>
                <a:lnTo>
                  <a:pt x="1130" y="86"/>
                </a:lnTo>
                <a:lnTo>
                  <a:pt x="1142" y="85"/>
                </a:lnTo>
                <a:lnTo>
                  <a:pt x="1153" y="84"/>
                </a:lnTo>
                <a:lnTo>
                  <a:pt x="1165" y="83"/>
                </a:lnTo>
                <a:lnTo>
                  <a:pt x="1176" y="82"/>
                </a:lnTo>
                <a:lnTo>
                  <a:pt x="1188" y="82"/>
                </a:lnTo>
                <a:lnTo>
                  <a:pt x="1199" y="82"/>
                </a:lnTo>
                <a:lnTo>
                  <a:pt x="1210" y="81"/>
                </a:lnTo>
                <a:lnTo>
                  <a:pt x="1222" y="81"/>
                </a:lnTo>
                <a:lnTo>
                  <a:pt x="1234" y="81"/>
                </a:lnTo>
                <a:lnTo>
                  <a:pt x="1246" y="81"/>
                </a:lnTo>
                <a:lnTo>
                  <a:pt x="1258" y="81"/>
                </a:lnTo>
                <a:lnTo>
                  <a:pt x="1270" y="81"/>
                </a:lnTo>
                <a:lnTo>
                  <a:pt x="1283" y="82"/>
                </a:lnTo>
                <a:lnTo>
                  <a:pt x="1296" y="82"/>
                </a:lnTo>
                <a:lnTo>
                  <a:pt x="1310" y="82"/>
                </a:lnTo>
                <a:lnTo>
                  <a:pt x="1324" y="83"/>
                </a:lnTo>
                <a:lnTo>
                  <a:pt x="1338" y="84"/>
                </a:lnTo>
                <a:lnTo>
                  <a:pt x="1354" y="84"/>
                </a:lnTo>
                <a:lnTo>
                  <a:pt x="1369" y="85"/>
                </a:lnTo>
                <a:lnTo>
                  <a:pt x="1382" y="78"/>
                </a:lnTo>
                <a:lnTo>
                  <a:pt x="1395" y="71"/>
                </a:lnTo>
                <a:lnTo>
                  <a:pt x="1409" y="65"/>
                </a:lnTo>
                <a:lnTo>
                  <a:pt x="1422" y="60"/>
                </a:lnTo>
                <a:lnTo>
                  <a:pt x="1437" y="55"/>
                </a:lnTo>
                <a:lnTo>
                  <a:pt x="1451" y="50"/>
                </a:lnTo>
                <a:lnTo>
                  <a:pt x="1466" y="46"/>
                </a:lnTo>
                <a:lnTo>
                  <a:pt x="1481" y="43"/>
                </a:lnTo>
                <a:lnTo>
                  <a:pt x="1496" y="40"/>
                </a:lnTo>
                <a:lnTo>
                  <a:pt x="1512" y="37"/>
                </a:lnTo>
                <a:lnTo>
                  <a:pt x="1528" y="34"/>
                </a:lnTo>
                <a:lnTo>
                  <a:pt x="1544" y="32"/>
                </a:lnTo>
                <a:lnTo>
                  <a:pt x="1561" y="30"/>
                </a:lnTo>
                <a:lnTo>
                  <a:pt x="1578" y="28"/>
                </a:lnTo>
                <a:lnTo>
                  <a:pt x="1595" y="26"/>
                </a:lnTo>
                <a:lnTo>
                  <a:pt x="1614" y="25"/>
                </a:lnTo>
                <a:lnTo>
                  <a:pt x="1632" y="24"/>
                </a:lnTo>
                <a:lnTo>
                  <a:pt x="1650" y="23"/>
                </a:lnTo>
                <a:lnTo>
                  <a:pt x="1670" y="22"/>
                </a:lnTo>
                <a:lnTo>
                  <a:pt x="1689" y="21"/>
                </a:lnTo>
                <a:lnTo>
                  <a:pt x="1709" y="20"/>
                </a:lnTo>
                <a:lnTo>
                  <a:pt x="1729" y="19"/>
                </a:lnTo>
                <a:lnTo>
                  <a:pt x="1750" y="18"/>
                </a:lnTo>
                <a:lnTo>
                  <a:pt x="1771" y="17"/>
                </a:lnTo>
                <a:lnTo>
                  <a:pt x="1793" y="15"/>
                </a:lnTo>
                <a:lnTo>
                  <a:pt x="1815" y="14"/>
                </a:lnTo>
                <a:lnTo>
                  <a:pt x="1837" y="12"/>
                </a:lnTo>
                <a:lnTo>
                  <a:pt x="1861" y="10"/>
                </a:lnTo>
                <a:lnTo>
                  <a:pt x="1884" y="8"/>
                </a:lnTo>
                <a:lnTo>
                  <a:pt x="1908" y="6"/>
                </a:lnTo>
                <a:lnTo>
                  <a:pt x="1933" y="3"/>
                </a:lnTo>
                <a:lnTo>
                  <a:pt x="1958" y="0"/>
                </a:lnTo>
                <a:lnTo>
                  <a:pt x="1966" y="6"/>
                </a:lnTo>
                <a:lnTo>
                  <a:pt x="1975" y="11"/>
                </a:lnTo>
                <a:lnTo>
                  <a:pt x="1984" y="17"/>
                </a:lnTo>
                <a:lnTo>
                  <a:pt x="1993" y="21"/>
                </a:lnTo>
                <a:lnTo>
                  <a:pt x="2001" y="27"/>
                </a:lnTo>
                <a:lnTo>
                  <a:pt x="2009" y="32"/>
                </a:lnTo>
                <a:lnTo>
                  <a:pt x="2016" y="36"/>
                </a:lnTo>
                <a:lnTo>
                  <a:pt x="2022" y="41"/>
                </a:lnTo>
                <a:lnTo>
                  <a:pt x="2028" y="45"/>
                </a:lnTo>
                <a:lnTo>
                  <a:pt x="2032" y="48"/>
                </a:lnTo>
                <a:lnTo>
                  <a:pt x="2035" y="51"/>
                </a:lnTo>
                <a:lnTo>
                  <a:pt x="2037" y="53"/>
                </a:lnTo>
                <a:lnTo>
                  <a:pt x="2038" y="54"/>
                </a:lnTo>
                <a:lnTo>
                  <a:pt x="2036" y="55"/>
                </a:lnTo>
                <a:lnTo>
                  <a:pt x="2034" y="54"/>
                </a:lnTo>
                <a:lnTo>
                  <a:pt x="2029" y="53"/>
                </a:lnTo>
                <a:lnTo>
                  <a:pt x="2039" y="60"/>
                </a:lnTo>
                <a:lnTo>
                  <a:pt x="2050" y="66"/>
                </a:lnTo>
                <a:lnTo>
                  <a:pt x="2063" y="71"/>
                </a:lnTo>
                <a:lnTo>
                  <a:pt x="2078" y="76"/>
                </a:lnTo>
                <a:lnTo>
                  <a:pt x="2093" y="79"/>
                </a:lnTo>
                <a:lnTo>
                  <a:pt x="2109" y="82"/>
                </a:lnTo>
                <a:lnTo>
                  <a:pt x="2126" y="86"/>
                </a:lnTo>
                <a:lnTo>
                  <a:pt x="2142" y="89"/>
                </a:lnTo>
                <a:lnTo>
                  <a:pt x="2159" y="92"/>
                </a:lnTo>
                <a:lnTo>
                  <a:pt x="2175" y="95"/>
                </a:lnTo>
                <a:lnTo>
                  <a:pt x="2191" y="99"/>
                </a:lnTo>
                <a:lnTo>
                  <a:pt x="2206" y="103"/>
                </a:lnTo>
                <a:lnTo>
                  <a:pt x="2220" y="108"/>
                </a:lnTo>
                <a:lnTo>
                  <a:pt x="2232" y="114"/>
                </a:lnTo>
                <a:lnTo>
                  <a:pt x="2243" y="122"/>
                </a:lnTo>
                <a:lnTo>
                  <a:pt x="2252" y="130"/>
                </a:lnTo>
                <a:lnTo>
                  <a:pt x="2257" y="136"/>
                </a:lnTo>
                <a:lnTo>
                  <a:pt x="2261" y="141"/>
                </a:lnTo>
                <a:lnTo>
                  <a:pt x="2264" y="146"/>
                </a:lnTo>
                <a:lnTo>
                  <a:pt x="2268" y="150"/>
                </a:lnTo>
                <a:lnTo>
                  <a:pt x="2270" y="155"/>
                </a:lnTo>
                <a:lnTo>
                  <a:pt x="2273" y="159"/>
                </a:lnTo>
                <a:lnTo>
                  <a:pt x="2275" y="163"/>
                </a:lnTo>
                <a:lnTo>
                  <a:pt x="2278" y="167"/>
                </a:lnTo>
                <a:lnTo>
                  <a:pt x="2280" y="172"/>
                </a:lnTo>
                <a:lnTo>
                  <a:pt x="2283" y="177"/>
                </a:lnTo>
                <a:lnTo>
                  <a:pt x="2286" y="182"/>
                </a:lnTo>
                <a:lnTo>
                  <a:pt x="2290" y="187"/>
                </a:lnTo>
                <a:lnTo>
                  <a:pt x="2294" y="193"/>
                </a:lnTo>
                <a:lnTo>
                  <a:pt x="2299" y="200"/>
                </a:lnTo>
                <a:lnTo>
                  <a:pt x="2304" y="207"/>
                </a:lnTo>
                <a:lnTo>
                  <a:pt x="2311" y="215"/>
                </a:lnTo>
                <a:lnTo>
                  <a:pt x="2313" y="211"/>
                </a:lnTo>
                <a:lnTo>
                  <a:pt x="2318" y="206"/>
                </a:lnTo>
                <a:lnTo>
                  <a:pt x="2323" y="203"/>
                </a:lnTo>
                <a:lnTo>
                  <a:pt x="2329" y="200"/>
                </a:lnTo>
                <a:lnTo>
                  <a:pt x="2334" y="198"/>
                </a:lnTo>
                <a:lnTo>
                  <a:pt x="2341" y="196"/>
                </a:lnTo>
                <a:lnTo>
                  <a:pt x="2347" y="195"/>
                </a:lnTo>
                <a:lnTo>
                  <a:pt x="2353" y="193"/>
                </a:lnTo>
                <a:lnTo>
                  <a:pt x="2357" y="191"/>
                </a:lnTo>
                <a:lnTo>
                  <a:pt x="2359" y="189"/>
                </a:lnTo>
                <a:lnTo>
                  <a:pt x="2362" y="187"/>
                </a:lnTo>
                <a:lnTo>
                  <a:pt x="2364" y="185"/>
                </a:lnTo>
                <a:lnTo>
                  <a:pt x="2366" y="183"/>
                </a:lnTo>
                <a:lnTo>
                  <a:pt x="2369" y="181"/>
                </a:lnTo>
                <a:lnTo>
                  <a:pt x="2371" y="180"/>
                </a:lnTo>
                <a:lnTo>
                  <a:pt x="2375" y="180"/>
                </a:lnTo>
                <a:lnTo>
                  <a:pt x="2376" y="178"/>
                </a:lnTo>
                <a:lnTo>
                  <a:pt x="2379" y="177"/>
                </a:lnTo>
                <a:lnTo>
                  <a:pt x="2384" y="176"/>
                </a:lnTo>
                <a:lnTo>
                  <a:pt x="2389" y="175"/>
                </a:lnTo>
                <a:lnTo>
                  <a:pt x="2393" y="174"/>
                </a:lnTo>
                <a:lnTo>
                  <a:pt x="2398" y="173"/>
                </a:lnTo>
                <a:lnTo>
                  <a:pt x="2400" y="172"/>
                </a:lnTo>
                <a:lnTo>
                  <a:pt x="2402" y="170"/>
                </a:lnTo>
                <a:lnTo>
                  <a:pt x="2402" y="167"/>
                </a:lnTo>
                <a:lnTo>
                  <a:pt x="2402" y="163"/>
                </a:lnTo>
                <a:lnTo>
                  <a:pt x="2403" y="160"/>
                </a:lnTo>
                <a:lnTo>
                  <a:pt x="2404" y="157"/>
                </a:lnTo>
                <a:lnTo>
                  <a:pt x="2405" y="153"/>
                </a:lnTo>
                <a:lnTo>
                  <a:pt x="2408" y="150"/>
                </a:lnTo>
                <a:lnTo>
                  <a:pt x="2412" y="147"/>
                </a:lnTo>
                <a:lnTo>
                  <a:pt x="2417" y="144"/>
                </a:lnTo>
                <a:lnTo>
                  <a:pt x="2421" y="145"/>
                </a:lnTo>
                <a:lnTo>
                  <a:pt x="2426" y="147"/>
                </a:lnTo>
                <a:lnTo>
                  <a:pt x="2432" y="149"/>
                </a:lnTo>
                <a:lnTo>
                  <a:pt x="2439" y="152"/>
                </a:lnTo>
                <a:lnTo>
                  <a:pt x="2446" y="153"/>
                </a:lnTo>
                <a:lnTo>
                  <a:pt x="2455" y="155"/>
                </a:lnTo>
                <a:lnTo>
                  <a:pt x="2465" y="156"/>
                </a:lnTo>
                <a:lnTo>
                  <a:pt x="2476" y="157"/>
                </a:lnTo>
                <a:lnTo>
                  <a:pt x="2478" y="155"/>
                </a:lnTo>
                <a:lnTo>
                  <a:pt x="2481" y="153"/>
                </a:lnTo>
                <a:lnTo>
                  <a:pt x="2483" y="151"/>
                </a:lnTo>
                <a:lnTo>
                  <a:pt x="2486" y="149"/>
                </a:lnTo>
                <a:lnTo>
                  <a:pt x="2490" y="147"/>
                </a:lnTo>
                <a:lnTo>
                  <a:pt x="2492" y="145"/>
                </a:lnTo>
                <a:lnTo>
                  <a:pt x="2495" y="142"/>
                </a:lnTo>
                <a:lnTo>
                  <a:pt x="2497" y="139"/>
                </a:lnTo>
                <a:lnTo>
                  <a:pt x="2556" y="139"/>
                </a:lnTo>
                <a:lnTo>
                  <a:pt x="2559" y="135"/>
                </a:lnTo>
                <a:lnTo>
                  <a:pt x="2562" y="130"/>
                </a:lnTo>
                <a:lnTo>
                  <a:pt x="2564" y="125"/>
                </a:lnTo>
                <a:lnTo>
                  <a:pt x="2566" y="120"/>
                </a:lnTo>
                <a:lnTo>
                  <a:pt x="2568" y="115"/>
                </a:lnTo>
                <a:lnTo>
                  <a:pt x="2571" y="111"/>
                </a:lnTo>
                <a:lnTo>
                  <a:pt x="2576" y="108"/>
                </a:lnTo>
                <a:lnTo>
                  <a:pt x="2582" y="10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B712-0ECE-43D7-9EF3-471101B8DE9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In this lesson we learned the factors influencing patient dose, and how to determine the entrance dose, dose area product, and CT dos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33A5-4904-4A65-A14E-57106571FA1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Where to Get More Inform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ssential Physics of Medical Imaging. JT Bushberg, JA Seibert, EM Leidholdt, JM Boone.  Lippincott Williams &amp; Wilkins, Philadelphia, 201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2007 Recommendations of the International Commission on Radiological Protection, ICRP 103, Annals of the ICRP 37(2-4):1-332 (2007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art 10: Patient dose assess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Topic 1: Parameters influencing patient d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04920" y="3049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9f0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237B-E134-4417-886C-CD0E664DE07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ssential parameters influencing patient exposur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908000"/>
            <a:ext cx="2502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Tub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Tube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Effective 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4240" y="3527280"/>
            <a:ext cx="21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Expos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27400" y="4822920"/>
            <a:ext cx="146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Fiel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15880" y="2251080"/>
            <a:ext cx="1690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Kerm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[mGy/m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725280" y="3527280"/>
            <a:ext cx="84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[m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169240" y="3203640"/>
            <a:ext cx="107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Ke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402520" y="4842000"/>
            <a:ext cx="70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[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554520" y="4308480"/>
            <a:ext cx="2162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Area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y m</a:t>
            </a:r>
            <a:r>
              <a:rPr b="0" lang="it-IT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722320" y="1522440"/>
            <a:ext cx="6310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600" spc="-1" strike="noStrike">
                <a:solidFill>
                  <a:srgbClr val="003399"/>
                </a:solidFill>
                <a:latin typeface="Arial"/>
              </a:rPr>
              <a:t>}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703400" y="2455920"/>
            <a:ext cx="6310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600" spc="-1" strike="noStrike">
                <a:solidFill>
                  <a:srgbClr val="003399"/>
                </a:solidFill>
                <a:latin typeface="Arial"/>
              </a:rPr>
              <a:t>}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943600" y="3508200"/>
            <a:ext cx="728640" cy="20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900" spc="-1" strike="noStrike">
                <a:solidFill>
                  <a:srgbClr val="003399"/>
                </a:solidFill>
                <a:latin typeface="Arial"/>
              </a:rPr>
              <a:t>}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2414520" y="3814920"/>
            <a:ext cx="129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1817640" y="5091120"/>
            <a:ext cx="3575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C6B0-D09C-4CD4-BF0B-91CED6499AC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s in conventional radiography: beam, collim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eam energ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epending on peak kV and filt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egulations require minimum total filtration to absorb lower energy phot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dded filtration reduces do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oal should be use of highest kV resulting in acceptable image contras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llim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rea exposed should be limited to area of CLINICAL interest to lower do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dditional benefit is less scatter, better contras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9BC8-ACAE-4D87-949F-6E07A57CF81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s in conventional radiography: grid,patient siz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G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Reduce the amount of scatter reaching image recep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But at the cost of increased patient dos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Improves image contrast significa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ypically 2-5 times: “Bucky factor”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Patient siz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hickness, volume irradiated…and dose increases with patient siz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Except for breast (compression): no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echnique charts with  technique factors for various examinations and patient thickness essential to avoid retak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Also, patient thickness must be measured accurately to use technique charts proper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 Patient dos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8E2B-2828-4943-AB83-1C71EFAAE9B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s affecting dose in fluoroscop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294920"/>
            <a:ext cx="8593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eam energy and filt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ollim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ource-to-skin dista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nverse square law: maintain max distance from pati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atient-to-image intensifi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Minimizing patient-to-image intensifier distance will lower dose and improve image sharpnes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54:52Z</dcterms:created>
  <dc:creator>IAEA</dc:creator>
  <dc:description>IAEA Training Material on Radiation Protection in Diagnostic and Interventional Radiology</dc:description>
  <dc:language>en-US</dc:language>
  <cp:lastModifiedBy>BERRIS, Theocharis</cp:lastModifiedBy>
  <cp:lastPrinted>2002-03-28T08:56:53Z</cp:lastPrinted>
  <dcterms:modified xsi:type="dcterms:W3CDTF">2011-12-10T15:22:48Z</dcterms:modified>
  <cp:revision>30</cp:revision>
  <dc:subject>Patient dose</dc:subject>
  <dc:title>RADIATION PROTECTION IN DIAGNOSTIC RADIOLOGY</dc:title>
</cp:coreProperties>
</file>