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DF71-60BA-4E3B-A014-7BA8CE154A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summarize the main subjects we did cover in this session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the main subjects covered and stress again the important features of the session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2F6-F7B3-4924-9992-ED26CE4A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CEE-15CF-42EA-852F-74DFBF3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83C-7375-4D4E-B865-97A0F9D4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A3D-152D-430A-8367-610359FC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616-385B-409B-A1F8-1562E3D9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1FC-6622-4982-B00C-27D176F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545-A1AD-4707-BA13-CBE13541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F6B-C6B4-4BA1-B03A-73139DEF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173-E5E2-45EC-8FDA-62E84B1F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999-9923-46D2-8BB2-DAFF911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1D0-7377-4D34-917F-4AEA935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DE6-C7CC-4D71-ADB4-9EEE2B8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_x0016_slid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5704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81E2-6337-474C-8725-9AAF9AEC204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_x0016_titl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RADIATION PROTECTION IN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DIAGNOSTIC AND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NTERVENTIONAL RADI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19: Optimization of Protection in Mammograph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2: Important physical paramet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080D-66DD-4589-8FD0-B9BEC40F30D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 contras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680" y="13716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Linear attenuation coefficien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for different types of breast tissue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re similar in magnitud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nd the soft tissue contrast can be quite low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contrast must be made </a:t>
            </a:r>
            <a:r>
              <a:rPr b="1" lang="en-US" sz="3200" spc="-1" strike="noStrike">
                <a:solidFill>
                  <a:srgbClr val="32a14c"/>
                </a:solidFill>
                <a:latin typeface="Arial"/>
              </a:rPr>
              <a:t>as high as possibl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by imaging with a low photon energy (hence increasing breast dose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practice, to avoid a high breast dose, a </a:t>
            </a:r>
            <a:r>
              <a:rPr b="1" lang="en-US" sz="3200" spc="-1" strike="noStrike" u="sng">
                <a:solidFill>
                  <a:srgbClr val="32a14c"/>
                </a:solidFill>
                <a:uFillTx/>
                <a:latin typeface="Arial"/>
              </a:rPr>
              <a:t>compromis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be made between the requirements of low dose and high contra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9AAC-38A1-4129-8D30-6D144A26C41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Arial"/>
              </a:rPr>
              <a:t>Variation of contrast with photon energ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05120" y="5638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1905120" y="16765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1905120" y="16765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5334120" y="16765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666080" y="571500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0      20      30      40      50  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nergy (k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992880" y="1371600"/>
            <a:ext cx="94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1905120" y="44197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905120" y="30481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257800" y="44197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5257800" y="3048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4"/>
          <p:cNvSpPr/>
          <p:nvPr/>
        </p:nvSpPr>
        <p:spPr>
          <a:xfrm flipV="1">
            <a:off x="2743200" y="55623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5"/>
          <p:cNvSpPr/>
          <p:nvPr/>
        </p:nvSpPr>
        <p:spPr>
          <a:xfrm flipV="1">
            <a:off x="3581280" y="55623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6"/>
          <p:cNvSpPr/>
          <p:nvPr/>
        </p:nvSpPr>
        <p:spPr>
          <a:xfrm flipV="1">
            <a:off x="4419720" y="55623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7"/>
          <p:cNvSpPr/>
          <p:nvPr/>
        </p:nvSpPr>
        <p:spPr>
          <a:xfrm flipV="1">
            <a:off x="2743200" y="16761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3581280" y="16761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9"/>
          <p:cNvSpPr/>
          <p:nvPr/>
        </p:nvSpPr>
        <p:spPr>
          <a:xfrm flipV="1">
            <a:off x="4419720" y="16761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0"/>
          <p:cNvSpPr/>
          <p:nvPr/>
        </p:nvSpPr>
        <p:spPr>
          <a:xfrm>
            <a:off x="2057400" y="2057400"/>
            <a:ext cx="3276720" cy="2133720"/>
          </a:xfrm>
          <a:custGeom>
            <a:avLst/>
            <a:gdLst/>
            <a:ahLst/>
            <a:rect l="l" t="t" r="r" b="b"/>
            <a:pathLst>
              <a:path w="2064" h="1344">
                <a:moveTo>
                  <a:pt x="0" y="0"/>
                </a:moveTo>
                <a:cubicBezTo>
                  <a:pt x="212" y="272"/>
                  <a:pt x="424" y="544"/>
                  <a:pt x="768" y="768"/>
                </a:cubicBezTo>
                <a:cubicBezTo>
                  <a:pt x="1112" y="992"/>
                  <a:pt x="1588" y="1168"/>
                  <a:pt x="2064" y="1344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21"/>
          <p:cNvSpPr/>
          <p:nvPr/>
        </p:nvSpPr>
        <p:spPr>
          <a:xfrm>
            <a:off x="2155680" y="3048120"/>
            <a:ext cx="3200400" cy="1904760"/>
          </a:xfrm>
          <a:custGeom>
            <a:avLst/>
            <a:gdLst/>
            <a:ahLst/>
            <a:rect l="l" t="t" r="r" b="b"/>
            <a:pathLst>
              <a:path w="2016" h="1200">
                <a:moveTo>
                  <a:pt x="0" y="0"/>
                </a:moveTo>
                <a:cubicBezTo>
                  <a:pt x="144" y="308"/>
                  <a:pt x="288" y="616"/>
                  <a:pt x="624" y="816"/>
                </a:cubicBezTo>
                <a:cubicBezTo>
                  <a:pt x="960" y="1016"/>
                  <a:pt x="1488" y="1108"/>
                  <a:pt x="2016" y="1200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137400" y="2449440"/>
            <a:ext cx="1884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Ca</a:t>
            </a:r>
            <a:r>
              <a:rPr b="1" lang="en-GB" sz="2000" spc="-1" strike="noStrike" baseline="-25000">
                <a:solidFill>
                  <a:srgbClr val="3366cc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(PO</a:t>
            </a:r>
            <a:r>
              <a:rPr b="1" lang="en-GB" sz="2000" spc="-1" strike="noStrike" baseline="-25000">
                <a:solidFill>
                  <a:srgbClr val="3366cc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)</a:t>
            </a:r>
            <a:r>
              <a:rPr b="1" lang="en-GB" sz="2000" spc="-1" strike="noStrike" baseline="-25000">
                <a:solidFill>
                  <a:srgbClr val="3366cc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O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Cal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of 0.1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1980000" y="4572000"/>
            <a:ext cx="21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Glandular t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of 1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4"/>
          <p:cNvSpPr/>
          <p:nvPr/>
        </p:nvSpPr>
        <p:spPr>
          <a:xfrm rot="16200000">
            <a:off x="198720" y="3384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5562720" y="2514600"/>
            <a:ext cx="32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01520">
              <a:lnSpc>
                <a:spcPct val="100000"/>
              </a:lnSpc>
              <a:buClr>
                <a:srgbClr val="32a1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The contrast de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by a factor of 6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15 and 30 k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1520">
              <a:lnSpc>
                <a:spcPct val="100000"/>
              </a:lnSpc>
              <a:buClr>
                <a:srgbClr val="32a1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The glandular t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contrast falls below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for energies above 27 k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B87A-FEE6-4923-9814-FB8FDA1D95D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ributors to the total unsharpness in the imag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5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ceptor blu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: (screen-film combination) can be as small as 0.1 - 0.15 mm (full width at half maximum of the point response function) with a limiting value as high as 20 cycles per m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eometric unsharpnes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: focal spot size and imaging geometry must be chosen so that the overall unsharpness reflects the performance capability of the scre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atient movemen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: compression is essenti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BF9F-1F19-4203-BE25-D93E6448320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adiation dose to the breas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se decreases rapidly with depth in tissue due to the low energy X-ray spectrum us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levant quantity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: The </a:t>
            </a:r>
            <a:r>
              <a:rPr b="0" lang="en-US" sz="3200" spc="-1" strike="noStrike">
                <a:solidFill>
                  <a:srgbClr val="32a14c"/>
                </a:solidFill>
                <a:latin typeface="Arial"/>
              </a:rPr>
              <a:t>average glandular dose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32a14c"/>
                </a:solidFill>
                <a:latin typeface="Arial"/>
              </a:rPr>
              <a:t>AG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) related to the tissues which are believed to be the most sensitive to radiation-induced carcinogenesi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35D-FD31-4F10-BC49-216724031F7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adiation dose to the breas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59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reast dos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is affected by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reast composition and thickness (use compression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hoton ener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ensitivity of the image recept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The breast compositio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as a significant influenc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on the dos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The area of the compressed breas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as a small influenc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on the dos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ean path of the photons &lt; breast dimen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of the interactions are photoelectri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6BAA-B895-4E01-B926-94D110B19A4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Arial"/>
              </a:rPr>
              <a:t>Variation of mean glandular dose with photon energ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1523880" y="5759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1523880" y="1797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1523880" y="17971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 flipV="1">
            <a:off x="4038480" y="17971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363680" y="583560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0     20     30     40   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k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951120" y="1492200"/>
            <a:ext cx="60444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1523880" y="5302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1523880" y="4159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2362320" y="56829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3200400" y="56829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4038480" y="56829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4038480" y="17967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820240" y="3016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7"/>
          <p:cNvSpPr/>
          <p:nvPr/>
        </p:nvSpPr>
        <p:spPr>
          <a:xfrm rot="16200000">
            <a:off x="-1212840" y="3570480"/>
            <a:ext cx="41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ean Glandular Dose (arb.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4267080" y="1752480"/>
            <a:ext cx="411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01520" algn="just">
              <a:lnSpc>
                <a:spcPct val="100000"/>
              </a:lnSpc>
              <a:buClr>
                <a:srgbClr val="32a1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The figure demonstr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the rapid increase in 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with decreasing photon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and increasing breast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1520" algn="just">
              <a:lnSpc>
                <a:spcPct val="100000"/>
              </a:lnSpc>
              <a:buClr>
                <a:srgbClr val="32a1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For the 8 cm thick breas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is a dose increase of a factor of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between photon energies of 17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and 30 k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1520" algn="just">
              <a:lnSpc>
                <a:spcPct val="100000"/>
              </a:lnSpc>
              <a:buClr>
                <a:srgbClr val="32a1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At 20 keV there is a dose incre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of a factor of 17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thicknesses of 2 an 8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1905120" y="56829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 flipV="1">
            <a:off x="2743200" y="56829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V="1">
            <a:off x="3581280" y="56829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1523880" y="36259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1523880" y="2787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1523880" y="21780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5"/>
          <p:cNvSpPr/>
          <p:nvPr/>
        </p:nvSpPr>
        <p:spPr>
          <a:xfrm>
            <a:off x="3962520" y="5302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3962520" y="4159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3962520" y="36259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>
            <a:off x="3962520" y="27874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9"/>
          <p:cNvSpPr/>
          <p:nvPr/>
        </p:nvSpPr>
        <p:spPr>
          <a:xfrm>
            <a:off x="3962520" y="21780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30"/>
          <p:cNvSpPr/>
          <p:nvPr/>
        </p:nvSpPr>
        <p:spPr>
          <a:xfrm>
            <a:off x="1752480" y="2711520"/>
            <a:ext cx="2133720" cy="1981080"/>
          </a:xfrm>
          <a:custGeom>
            <a:avLst/>
            <a:gdLst/>
            <a:ahLst/>
            <a:rect l="l" t="t" r="r" b="b"/>
            <a:pathLst>
              <a:path w="1344" h="1248">
                <a:moveTo>
                  <a:pt x="0" y="0"/>
                </a:moveTo>
                <a:cubicBezTo>
                  <a:pt x="32" y="328"/>
                  <a:pt x="64" y="656"/>
                  <a:pt x="288" y="864"/>
                </a:cubicBezTo>
                <a:cubicBezTo>
                  <a:pt x="512" y="1072"/>
                  <a:pt x="928" y="1160"/>
                  <a:pt x="1344" y="1248"/>
                </a:cubicBezTo>
              </a:path>
            </a:pathLst>
          </a:custGeom>
          <a:noFill/>
          <a:ln w="28440">
            <a:solidFill>
              <a:srgbClr val="cf03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31"/>
          <p:cNvSpPr/>
          <p:nvPr/>
        </p:nvSpPr>
        <p:spPr>
          <a:xfrm>
            <a:off x="2133720" y="1949400"/>
            <a:ext cx="1904760" cy="1905120"/>
          </a:xfrm>
          <a:custGeom>
            <a:avLst/>
            <a:gdLst/>
            <a:ahLst/>
            <a:rect l="l" t="t" r="r" b="b"/>
            <a:pathLst>
              <a:path w="1344" h="1248">
                <a:moveTo>
                  <a:pt x="0" y="0"/>
                </a:moveTo>
                <a:cubicBezTo>
                  <a:pt x="32" y="328"/>
                  <a:pt x="64" y="656"/>
                  <a:pt x="288" y="864"/>
                </a:cubicBezTo>
                <a:cubicBezTo>
                  <a:pt x="512" y="1072"/>
                  <a:pt x="928" y="1160"/>
                  <a:pt x="1344" y="1248"/>
                </a:cubicBezTo>
              </a:path>
            </a:pathLst>
          </a:custGeom>
          <a:noFill/>
          <a:ln w="28440">
            <a:solidFill>
              <a:srgbClr val="cf03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 flipV="1">
            <a:off x="2362320" y="17967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3200400" y="17967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4"/>
          <p:cNvSpPr/>
          <p:nvPr/>
        </p:nvSpPr>
        <p:spPr>
          <a:xfrm flipV="1">
            <a:off x="4038480" y="17967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5"/>
          <p:cNvSpPr/>
          <p:nvPr/>
        </p:nvSpPr>
        <p:spPr>
          <a:xfrm flipV="1">
            <a:off x="1905120" y="17967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6"/>
          <p:cNvSpPr/>
          <p:nvPr/>
        </p:nvSpPr>
        <p:spPr>
          <a:xfrm flipV="1">
            <a:off x="2743200" y="17967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7"/>
          <p:cNvSpPr/>
          <p:nvPr/>
        </p:nvSpPr>
        <p:spPr>
          <a:xfrm flipV="1">
            <a:off x="3581280" y="179676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8"/>
          <p:cNvSpPr/>
          <p:nvPr/>
        </p:nvSpPr>
        <p:spPr>
          <a:xfrm>
            <a:off x="2515680" y="39304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3707-2E03-406C-BB23-D70BB6AE98A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ributors to the image noise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4920" y="1447920"/>
            <a:ext cx="6583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) Quantum mott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2) Screen mott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3) Film Gr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4) Electronic noi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3: The mammographic X-ray tub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274B-A92C-4EDF-95D3-778AB8CC08A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ntradictory objectives for the spectrum of a mammographic X-ray tub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ideal X-ray spectrum for mammography is  a compromise betwee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igh contrast and high signal-to-noise ratio (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ow photon energ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 breast dose  (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igh photon energ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9D7C-B5D0-4DEE-856D-E574B1672F3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bject matter: mammography (scope is breast cancer screening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physics of the imaging syst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 to maintain the image quality while complying with dose require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in features of quality contro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8568-BDBF-4793-97D6-A9D47CF0658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 X-ray spectrum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50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t is not be possible to vary the SNR because the film may become over- or under-expos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figure gives the conventional mammographic spectrum produced by a Mo target and a Mo fil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5396040" y="1954080"/>
            <a:ext cx="2544480" cy="358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530320" y="5535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10   15   20   25 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 flipV="1">
            <a:off x="573876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 flipV="1">
            <a:off x="622152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V="1">
            <a:off x="677052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25328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773424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5395680" y="2106720"/>
            <a:ext cx="6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938480" y="1954080"/>
            <a:ext cx="464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5395680" y="3325680"/>
            <a:ext cx="6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7872120" y="2106720"/>
            <a:ext cx="6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5395680" y="4545000"/>
            <a:ext cx="6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7872120" y="3325680"/>
            <a:ext cx="6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 flipH="1">
            <a:off x="7872120" y="4545000"/>
            <a:ext cx="6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 flipV="1">
            <a:off x="5738760" y="19540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 flipV="1">
            <a:off x="622152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6221520" y="19540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 flipV="1">
            <a:off x="677052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 flipV="1">
            <a:off x="6770520" y="19540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 flipV="1">
            <a:off x="725328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7253280" y="19540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7734240" y="545940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7"/>
          <p:cNvSpPr/>
          <p:nvPr/>
        </p:nvSpPr>
        <p:spPr>
          <a:xfrm flipV="1">
            <a:off x="7734240" y="19540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28"/>
          <p:cNvSpPr/>
          <p:nvPr/>
        </p:nvSpPr>
        <p:spPr>
          <a:xfrm>
            <a:off x="5738760" y="5002200"/>
            <a:ext cx="757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288"/>
                </a:moveTo>
                <a:cubicBezTo>
                  <a:pt x="28" y="192"/>
                  <a:pt x="56" y="96"/>
                  <a:pt x="144" y="48"/>
                </a:cubicBezTo>
                <a:cubicBezTo>
                  <a:pt x="232" y="0"/>
                  <a:pt x="380" y="0"/>
                  <a:pt x="528" y="0"/>
                </a:cubicBezTo>
              </a:path>
            </a:pathLst>
          </a:custGeom>
          <a:noFill/>
          <a:ln w="28440">
            <a:solidFill>
              <a:srgbClr val="047c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9"/>
          <p:cNvSpPr/>
          <p:nvPr/>
        </p:nvSpPr>
        <p:spPr>
          <a:xfrm flipV="1">
            <a:off x="6496200" y="2335320"/>
            <a:ext cx="0" cy="266688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0"/>
          <p:cNvSpPr/>
          <p:nvPr/>
        </p:nvSpPr>
        <p:spPr>
          <a:xfrm flipV="1">
            <a:off x="6564240" y="2335320"/>
            <a:ext cx="0" cy="266688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1"/>
          <p:cNvSpPr/>
          <p:nvPr/>
        </p:nvSpPr>
        <p:spPr>
          <a:xfrm>
            <a:off x="6496200" y="2335320"/>
            <a:ext cx="68040" cy="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6564240" y="5002200"/>
            <a:ext cx="138240" cy="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3"/>
          <p:cNvSpPr/>
          <p:nvPr/>
        </p:nvSpPr>
        <p:spPr>
          <a:xfrm flipV="1">
            <a:off x="6702480" y="4545000"/>
            <a:ext cx="0" cy="45720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6702480" y="4545000"/>
            <a:ext cx="68040" cy="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35"/>
          <p:cNvSpPr/>
          <p:nvPr/>
        </p:nvSpPr>
        <p:spPr>
          <a:xfrm>
            <a:off x="6770520" y="4545000"/>
            <a:ext cx="0" cy="91440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36"/>
          <p:cNvSpPr/>
          <p:nvPr/>
        </p:nvSpPr>
        <p:spPr>
          <a:xfrm>
            <a:off x="6770520" y="5307120"/>
            <a:ext cx="1101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8" y="132"/>
                  <a:pt x="16" y="120"/>
                  <a:pt x="48" y="96"/>
                </a:cubicBezTo>
                <a:cubicBezTo>
                  <a:pt x="80" y="72"/>
                  <a:pt x="72" y="0"/>
                  <a:pt x="192" y="0"/>
                </a:cubicBezTo>
                <a:cubicBezTo>
                  <a:pt x="312" y="0"/>
                  <a:pt x="672" y="80"/>
                  <a:pt x="768" y="96"/>
                </a:cubicBezTo>
              </a:path>
            </a:pathLst>
          </a:custGeom>
          <a:noFill/>
          <a:ln w="28440">
            <a:solidFill>
              <a:srgbClr val="047c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6346440" y="59007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Energy (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8"/>
          <p:cNvSpPr/>
          <p:nvPr/>
        </p:nvSpPr>
        <p:spPr>
          <a:xfrm rot="16200000">
            <a:off x="2963160" y="367128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00"/>
                </a:solidFill>
                <a:latin typeface="Arial"/>
              </a:rPr>
              <a:t>Number of photons (arbitrary normalis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4528800" y="1371600"/>
            <a:ext cx="420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X-ray spectrum at 30 kV for an X-ray tu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with a Mo target and a 0.03 mm Mo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2623-D84E-45A2-A3F2-A388E1E5FAE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ain features of the X-ray spectrum in mammography </a:t>
            </a:r>
            <a:br>
              <a:rPr sz="3600"/>
            </a:b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haracteristic X-ray lines at 17.4 and 19.6 keV and the heavy attenuation above 20 keV (position of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K-edg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asonably close to the energies optimal for imaging breast of small to medium thicknes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higher energy spectrum is obtained by replacing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filter with a material of higher atomic number with its K-edge at a higher energy (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h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 can also be used as target materia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2DB3-975D-4C09-9921-A066C4AF39A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tions for an optimum X-ray spectrum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rast is higher for the Mo-Mo target-filter combin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advantage decreases with increasing breast thicknes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W-Pd for target-filter combination brings a substantial dose reduction but only recommended for thicker breas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E3CA-2A9F-44A9-B9FE-628F6885367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tions for an optimum X-ray spectrum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cal spot size and imaging geometry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overall unsharpnes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in the mammographic image can be estimated by combining the receptor and geometric unsharpnes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U = ([ f2(m-1)2 + F2 ]1/2) / m     (equation 1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effective focal spot siz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magnific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receptor unsharpnes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2A42-7FE9-44A0-AD56-9B3A32F7AFD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Variation of the overall unsharpness with the image magnification and focal spo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1905120" y="57024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1905120" y="173988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5"/>
          <p:cNvSpPr/>
          <p:nvPr/>
        </p:nvSpPr>
        <p:spPr>
          <a:xfrm flipV="1">
            <a:off x="1905120" y="17395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"/>
          <p:cNvSpPr/>
          <p:nvPr/>
        </p:nvSpPr>
        <p:spPr>
          <a:xfrm flipV="1">
            <a:off x="5638680" y="17395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660320" y="5645160"/>
            <a:ext cx="40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1.0              1.5               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145160" y="1447920"/>
            <a:ext cx="77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1905120" y="50166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1905120" y="36450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"/>
          <p:cNvSpPr/>
          <p:nvPr/>
        </p:nvSpPr>
        <p:spPr>
          <a:xfrm flipV="1">
            <a:off x="3581280" y="56260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3581280" y="1739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5257800" y="1739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2896560" y="19684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 rot="16200000">
            <a:off x="-1021320" y="345276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verall unsharpness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5791320" y="1981080"/>
            <a:ext cx="2895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01520">
              <a:lnSpc>
                <a:spcPct val="100000"/>
              </a:lnSpc>
              <a:buClr>
                <a:srgbClr val="32a1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For a recep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unsharpness of 0.1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1520">
              <a:lnSpc>
                <a:spcPct val="100000"/>
              </a:lnSpc>
              <a:buClr>
                <a:srgbClr val="32a1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Magnification can on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improve unsharp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significantly if the f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spot is small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1520">
              <a:lnSpc>
                <a:spcPct val="100000"/>
              </a:lnSpc>
              <a:buClr>
                <a:srgbClr val="32a1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If the focal spot is to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large, magn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will incre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the unsharp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7"/>
          <p:cNvSpPr/>
          <p:nvPr/>
        </p:nvSpPr>
        <p:spPr>
          <a:xfrm flipV="1">
            <a:off x="5334120" y="56260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1905120" y="25020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9"/>
          <p:cNvSpPr/>
          <p:nvPr/>
        </p:nvSpPr>
        <p:spPr>
          <a:xfrm>
            <a:off x="5562720" y="50166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0"/>
          <p:cNvSpPr/>
          <p:nvPr/>
        </p:nvSpPr>
        <p:spPr>
          <a:xfrm>
            <a:off x="5562720" y="36450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5562720" y="25020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22"/>
          <p:cNvSpPr/>
          <p:nvPr/>
        </p:nvSpPr>
        <p:spPr>
          <a:xfrm>
            <a:off x="1905120" y="1739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cubicBezTo>
                  <a:pt x="144" y="1012"/>
                  <a:pt x="288" y="824"/>
                  <a:pt x="384" y="624"/>
                </a:cubicBezTo>
                <a:cubicBezTo>
                  <a:pt x="480" y="424"/>
                  <a:pt x="528" y="212"/>
                  <a:pt x="576" y="0"/>
                </a:cubicBezTo>
              </a:path>
            </a:pathLst>
          </a:custGeom>
          <a:noFill/>
          <a:ln w="28440">
            <a:solidFill>
              <a:srgbClr val="32a1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1981080" y="1739880"/>
            <a:ext cx="1752840" cy="1828800"/>
          </a:xfrm>
          <a:custGeom>
            <a:avLst/>
            <a:gdLst/>
            <a:ahLst/>
            <a:rect l="l" t="t" r="r" b="b"/>
            <a:pathLst>
              <a:path w="1392" h="1200">
                <a:moveTo>
                  <a:pt x="1392" y="0"/>
                </a:moveTo>
                <a:cubicBezTo>
                  <a:pt x="1244" y="356"/>
                  <a:pt x="1096" y="712"/>
                  <a:pt x="864" y="912"/>
                </a:cubicBezTo>
                <a:cubicBezTo>
                  <a:pt x="632" y="1112"/>
                  <a:pt x="316" y="1156"/>
                  <a:pt x="0" y="1200"/>
                </a:cubicBezTo>
              </a:path>
            </a:pathLst>
          </a:custGeom>
          <a:noFill/>
          <a:ln w="28440">
            <a:solidFill>
              <a:srgbClr val="32a1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24"/>
          <p:cNvSpPr/>
          <p:nvPr/>
        </p:nvSpPr>
        <p:spPr>
          <a:xfrm>
            <a:off x="1905120" y="3111480"/>
            <a:ext cx="3657600" cy="723960"/>
          </a:xfrm>
          <a:custGeom>
            <a:avLst/>
            <a:gdLst/>
            <a:ahLst/>
            <a:rect l="l" t="t" r="r" b="b"/>
            <a:pathLst>
              <a:path w="2304" h="456">
                <a:moveTo>
                  <a:pt x="0" y="336"/>
                </a:moveTo>
                <a:cubicBezTo>
                  <a:pt x="116" y="380"/>
                  <a:pt x="232" y="424"/>
                  <a:pt x="336" y="432"/>
                </a:cubicBezTo>
                <a:cubicBezTo>
                  <a:pt x="440" y="440"/>
                  <a:pt x="296" y="456"/>
                  <a:pt x="624" y="384"/>
                </a:cubicBezTo>
                <a:cubicBezTo>
                  <a:pt x="952" y="312"/>
                  <a:pt x="1628" y="156"/>
                  <a:pt x="2304" y="0"/>
                </a:cubicBezTo>
              </a:path>
            </a:pathLst>
          </a:custGeom>
          <a:noFill/>
          <a:ln w="28440">
            <a:solidFill>
              <a:srgbClr val="32a1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1905120" y="3645000"/>
            <a:ext cx="3657600" cy="533160"/>
          </a:xfrm>
          <a:custGeom>
            <a:avLst/>
            <a:gdLst/>
            <a:ahLst/>
            <a:rect l="l" t="t" r="r" b="b"/>
            <a:pathLst>
              <a:path w="2304" h="336">
                <a:moveTo>
                  <a:pt x="0" y="0"/>
                </a:moveTo>
                <a:cubicBezTo>
                  <a:pt x="56" y="76"/>
                  <a:pt x="112" y="152"/>
                  <a:pt x="192" y="192"/>
                </a:cubicBezTo>
                <a:cubicBezTo>
                  <a:pt x="272" y="232"/>
                  <a:pt x="424" y="232"/>
                  <a:pt x="480" y="240"/>
                </a:cubicBezTo>
                <a:cubicBezTo>
                  <a:pt x="536" y="248"/>
                  <a:pt x="224" y="224"/>
                  <a:pt x="528" y="240"/>
                </a:cubicBezTo>
                <a:cubicBezTo>
                  <a:pt x="832" y="256"/>
                  <a:pt x="1568" y="296"/>
                  <a:pt x="2304" y="336"/>
                </a:cubicBezTo>
              </a:path>
            </a:pathLst>
          </a:custGeom>
          <a:noFill/>
          <a:ln w="28440">
            <a:solidFill>
              <a:srgbClr val="32a1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1905120" y="3720960"/>
            <a:ext cx="3657600" cy="1371600"/>
          </a:xfrm>
          <a:custGeom>
            <a:avLst/>
            <a:gdLst/>
            <a:ahLst/>
            <a:rect l="l" t="t" r="r" b="b"/>
            <a:pathLst>
              <a:path w="2304" h="864">
                <a:moveTo>
                  <a:pt x="0" y="0"/>
                </a:moveTo>
                <a:cubicBezTo>
                  <a:pt x="88" y="120"/>
                  <a:pt x="176" y="240"/>
                  <a:pt x="288" y="336"/>
                </a:cubicBezTo>
                <a:cubicBezTo>
                  <a:pt x="400" y="432"/>
                  <a:pt x="336" y="488"/>
                  <a:pt x="672" y="576"/>
                </a:cubicBezTo>
                <a:cubicBezTo>
                  <a:pt x="1008" y="664"/>
                  <a:pt x="1656" y="764"/>
                  <a:pt x="2304" y="864"/>
                </a:cubicBezTo>
              </a:path>
            </a:pathLst>
          </a:custGeom>
          <a:noFill/>
          <a:ln w="28440">
            <a:solidFill>
              <a:srgbClr val="32a1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7"/>
          <p:cNvSpPr/>
          <p:nvPr/>
        </p:nvSpPr>
        <p:spPr>
          <a:xfrm>
            <a:off x="3735000" y="21207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8"/>
          <p:cNvSpPr/>
          <p:nvPr/>
        </p:nvSpPr>
        <p:spPr>
          <a:xfrm>
            <a:off x="4344480" y="34164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4496760" y="42544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0"/>
          <p:cNvSpPr/>
          <p:nvPr/>
        </p:nvSpPr>
        <p:spPr>
          <a:xfrm>
            <a:off x="4579200" y="5016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4: The focal spot s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532-340C-48A4-984E-1589F76FCA3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 focal spot siz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a screening unit, a single-focus X-ray tube with a 0.3 mm focal s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ot is recommend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For general mammography purposes, a dual focus X-ray tube with an additional fine focus (0.1 mm), to be used for magnification techniques exclusively, is requir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he size of the focal spot should be verified (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star pattern, slit camera or pinhole method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) at acceptance testing, annually, or when resolution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ppears to have decreas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C697-B1D9-4A8C-93AC-EB6D304D5B8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Arial"/>
              </a:rPr>
              <a:t>Target/filter combin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82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window of the X-ray tube should be beryllium (not glass) with a maximum thickness of 1 m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typical target-filter combinations are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 + 30 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 Mo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 + 25 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 M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 + 60 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 Mo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 + 50 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 R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 + 40 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 Pd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h + 25 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 R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 + 75 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 Ag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646B-A404-42EF-820D-0DAE244767F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-ray tube filtr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eam quali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defined by the HV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uropean Protocol specifies that the HVL be between 0.3 and 0.4 mm Al at 28 kVp for a Mo-Mo combi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5: The high voltage generat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877A-2AAB-438C-81AE-86D87AED877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roduction to the physics of mammograph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ortant physical paramet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mammographic X-ray tub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focal spot siz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high voltage generato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anti-scatter grid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Automatic Exposure Contro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dosimet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uality contro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Freeform 312"/>
          <p:cNvSpPr/>
          <p:nvPr/>
        </p:nvSpPr>
        <p:spPr>
          <a:xfrm>
            <a:off x="6323040" y="3522600"/>
            <a:ext cx="1440" cy="324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316"/>
          <p:cNvSpPr/>
          <p:nvPr/>
        </p:nvSpPr>
        <p:spPr>
          <a:xfrm>
            <a:off x="6323040" y="3675240"/>
            <a:ext cx="1440" cy="288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F4AB-43DB-4362-A448-67DF624928F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tate-of-the-art specifications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r screen-film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veform with ripple not greater than that produced by a 6-pulse rectification syst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tube voltage range should be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25 - 35 kV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tube current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should be at least 100 mA on broad focus and 50 mA on fine focu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ange of tube current exposure time product (mAs)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should be at least 5 - 800 m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 should be possible to repeat exposures at the highest loadings at intervals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&lt; 30 seco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6: The anti-scatter gri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DBBE-6270-4060-9EC3-3F24E51ECFF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y an anti-scatter grid ?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catter significantly degrades the contrast of the image requiring an efficient anti-scatter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effect is quantified by the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Contrast Degradation Factor (CDF):</a:t>
            </a:r>
            <a:br>
              <a:rPr sz="2800"/>
            </a:b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           CDF=1/(1+S/P) 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ere: 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S/P: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ratio of the scattered to primary 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radiation amount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lculated values of CDF: 0.76 and 0.48 for breast thickness of 2 and 8 cm respectively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14EA-DD53-43DC-B97B-E58880E063B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 anti-scatter grid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wo types of anti-scatter grids availabl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tationary grid*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with high line density (e.g. 80 lines/cm) and an aluminum interspace materia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ving gri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2a14c"/>
                </a:solidFill>
                <a:latin typeface="Arial"/>
              </a:rPr>
              <a:t>with about 30 lines/cm with paper or cotton fiber interspac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performance of the anti-scatter grid can be expressed in terms of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contrast improvement </a:t>
            </a:r>
            <a:r>
              <a:rPr b="0" lang="en-US" sz="3200" spc="-1" strike="noStrike">
                <a:solidFill>
                  <a:srgbClr val="32a14c"/>
                </a:solidFill>
                <a:latin typeface="Arial"/>
              </a:rPr>
              <a:t>(CIF)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Bucky factor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2a14c"/>
                </a:solidFill>
                <a:latin typeface="Arial"/>
              </a:rPr>
              <a:t>(BF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*Should not be used as it introduces grid artifact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F89D-9242-4E14-BC6F-2D53205E29D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 anti-scatter grid: performance index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680" y="1294920"/>
            <a:ext cx="8593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 CIF relates the contrast with the grid to that without the grid whil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 BF gives the increase in dose associated with the use of gri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a14c"/>
                </a:solidFill>
                <a:latin typeface="Arial"/>
              </a:rPr>
              <a:t>CIF and BF values for the Philips moving gri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Rectangle 213"/>
          <p:cNvSpPr/>
          <p:nvPr/>
        </p:nvSpPr>
        <p:spPr>
          <a:xfrm>
            <a:off x="1692360" y="6345360"/>
            <a:ext cx="3024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15"/>
          <p:cNvSpPr/>
          <p:nvPr/>
        </p:nvSpPr>
        <p:spPr>
          <a:xfrm>
            <a:off x="1703520" y="6334200"/>
            <a:ext cx="19080" cy="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16"/>
          <p:cNvSpPr/>
          <p:nvPr/>
        </p:nvSpPr>
        <p:spPr>
          <a:xfrm>
            <a:off x="1716120" y="632160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17"/>
          <p:cNvSpPr/>
          <p:nvPr/>
        </p:nvSpPr>
        <p:spPr>
          <a:xfrm>
            <a:off x="1716120" y="632160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18"/>
          <p:cNvSpPr/>
          <p:nvPr/>
        </p:nvSpPr>
        <p:spPr>
          <a:xfrm>
            <a:off x="1722600" y="6345360"/>
            <a:ext cx="264636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9"/>
          <p:cNvSpPr/>
          <p:nvPr/>
        </p:nvSpPr>
        <p:spPr>
          <a:xfrm>
            <a:off x="1722600" y="6334200"/>
            <a:ext cx="2646360" cy="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20"/>
          <p:cNvSpPr/>
          <p:nvPr/>
        </p:nvSpPr>
        <p:spPr>
          <a:xfrm>
            <a:off x="1722600" y="6321600"/>
            <a:ext cx="264636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21"/>
          <p:cNvSpPr/>
          <p:nvPr/>
        </p:nvSpPr>
        <p:spPr>
          <a:xfrm>
            <a:off x="4392720" y="5811840"/>
            <a:ext cx="6120" cy="50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2"/>
          <p:cNvSpPr/>
          <p:nvPr/>
        </p:nvSpPr>
        <p:spPr>
          <a:xfrm>
            <a:off x="4381560" y="5811840"/>
            <a:ext cx="4680" cy="50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4"/>
          <p:cNvSpPr/>
          <p:nvPr/>
        </p:nvSpPr>
        <p:spPr>
          <a:xfrm>
            <a:off x="4368960" y="6321600"/>
            <a:ext cx="612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25"/>
          <p:cNvSpPr/>
          <p:nvPr/>
        </p:nvSpPr>
        <p:spPr>
          <a:xfrm>
            <a:off x="4392720" y="6321600"/>
            <a:ext cx="612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26"/>
          <p:cNvSpPr/>
          <p:nvPr/>
        </p:nvSpPr>
        <p:spPr>
          <a:xfrm>
            <a:off x="4368960" y="6345360"/>
            <a:ext cx="298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27"/>
          <p:cNvSpPr/>
          <p:nvPr/>
        </p:nvSpPr>
        <p:spPr>
          <a:xfrm>
            <a:off x="4381560" y="6321600"/>
            <a:ext cx="468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28"/>
          <p:cNvSpPr/>
          <p:nvPr/>
        </p:nvSpPr>
        <p:spPr>
          <a:xfrm>
            <a:off x="4368960" y="6334200"/>
            <a:ext cx="29880" cy="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29"/>
          <p:cNvSpPr/>
          <p:nvPr/>
        </p:nvSpPr>
        <p:spPr>
          <a:xfrm>
            <a:off x="4398840" y="6345360"/>
            <a:ext cx="133200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0"/>
          <p:cNvSpPr/>
          <p:nvPr/>
        </p:nvSpPr>
        <p:spPr>
          <a:xfrm>
            <a:off x="4398840" y="6334200"/>
            <a:ext cx="1332000" cy="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31"/>
          <p:cNvSpPr/>
          <p:nvPr/>
        </p:nvSpPr>
        <p:spPr>
          <a:xfrm>
            <a:off x="4398840" y="6321600"/>
            <a:ext cx="133200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5"/>
          <p:cNvSpPr/>
          <p:nvPr/>
        </p:nvSpPr>
        <p:spPr>
          <a:xfrm>
            <a:off x="5730840" y="632160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36"/>
          <p:cNvSpPr/>
          <p:nvPr/>
        </p:nvSpPr>
        <p:spPr>
          <a:xfrm>
            <a:off x="5756400" y="6321600"/>
            <a:ext cx="612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37"/>
          <p:cNvSpPr/>
          <p:nvPr/>
        </p:nvSpPr>
        <p:spPr>
          <a:xfrm>
            <a:off x="5730840" y="6345360"/>
            <a:ext cx="316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39"/>
          <p:cNvSpPr/>
          <p:nvPr/>
        </p:nvSpPr>
        <p:spPr>
          <a:xfrm>
            <a:off x="5730840" y="6334200"/>
            <a:ext cx="31680" cy="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0"/>
          <p:cNvSpPr/>
          <p:nvPr/>
        </p:nvSpPr>
        <p:spPr>
          <a:xfrm>
            <a:off x="5762520" y="6345360"/>
            <a:ext cx="200196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1"/>
          <p:cNvSpPr/>
          <p:nvPr/>
        </p:nvSpPr>
        <p:spPr>
          <a:xfrm>
            <a:off x="5762520" y="6334200"/>
            <a:ext cx="2001960" cy="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2"/>
          <p:cNvSpPr/>
          <p:nvPr/>
        </p:nvSpPr>
        <p:spPr>
          <a:xfrm>
            <a:off x="5762520" y="6321600"/>
            <a:ext cx="200196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7"/>
          <p:cNvSpPr/>
          <p:nvPr/>
        </p:nvSpPr>
        <p:spPr>
          <a:xfrm>
            <a:off x="7764480" y="6345360"/>
            <a:ext cx="316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9"/>
          <p:cNvSpPr/>
          <p:nvPr/>
        </p:nvSpPr>
        <p:spPr>
          <a:xfrm>
            <a:off x="7764480" y="6334200"/>
            <a:ext cx="19080" cy="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50"/>
          <p:cNvSpPr/>
          <p:nvPr/>
        </p:nvSpPr>
        <p:spPr>
          <a:xfrm>
            <a:off x="7764480" y="632160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1"/>
          <p:cNvSpPr/>
          <p:nvPr/>
        </p:nvSpPr>
        <p:spPr>
          <a:xfrm>
            <a:off x="7764480" y="632160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19320" y="3276720"/>
          <a:ext cx="6858000" cy="3070080"/>
        </p:xfrm>
        <a:graphic>
          <a:graphicData uri="http://schemas.openxmlformats.org/drawingml/2006/table">
            <a:tbl>
              <a:tblPr/>
              <a:tblGrid>
                <a:gridCol w="3047760"/>
                <a:gridCol w="1524240"/>
                <a:gridCol w="2286000"/>
              </a:tblGrid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reast thickness (c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5</a:t>
                      </a:r>
                      <a:br>
                        <a:rPr sz="2800"/>
                      </a:b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7: The Automatic Exposure Contro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B2A7-A5B6-4372-B280-8D1EFA88862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utomatic exposure control device (AEC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system should  produce consistent optical densities (optical density variation of less than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0.20 ) over a wide range of m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system should use an AEC chamber located after the screen-film cassette to compensate for different breast characteristic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detector should be movable to cover different anatomical sites on the breast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system should be adaptable to at least three screen-film combina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8: Dosimet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736B-7C60-454C-BE5E-FEAAB715478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osimetry in screen-film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e is a low risk of radiation induced cancer associated with mammograph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ssential to obtain high image quality images at the lowest possible dos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Average Glandular Dose (AGD) is the dosimetry quantity recommended for risk assess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8AFF-9087-4D2F-8D34-7B7425DEC6B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osimetry quantiti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74680" y="13716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AG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nnot be measured directl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but it is derived from measurements with a standard phantom for the actual technique set-up of the mammographic equipmen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Entrance Surface Air Kerma (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SAK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) free-in-air, i.e., without backscatter is the most frequently used quantity for mammography dosimet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other purposes (compliance with reference dose level) one may refer to ESD which includes backscat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6F1-D7D0-4898-8226-17D37A2FD29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verview / objectiv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be able to apply the principle of radiation protection to mammography including design, quality control and dosimetr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7448-5D7E-4C56-A59A-783B3D8BE94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osimetry quantiti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74680" y="1218960"/>
            <a:ext cx="8593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SAK can be determined by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TLD or OSL dosimeter calibrated in terms of air kerma free-in-air at an HVL as close as possible to 0.4 mm Al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with a standard phantom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TLD or OSL dosimeter calibrated in terms of air kerma free-in-air at a HVL as close as possible to 0.4 mm Al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n the patient ski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appropriate backscatter factor should be applied to Entrance Surface Dose to obtain the ESAK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: due to low kV used the TLD and OSL are seen on the ima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radiation dosimeter with a dynamic range covering at least 0.5 to 100 mGy (better than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</a:t>
            </a:r>
            <a:r>
              <a:rPr b="0" lang="fr-FR" sz="2400" spc="-1" strike="noStrike">
                <a:solidFill>
                  <a:srgbClr val="003399"/>
                </a:solidFill>
                <a:latin typeface="Arial"/>
              </a:rPr>
              <a:t> 10% accuracy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9: Quality Contro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202D-A188-4F25-860C-3A2C74ACF05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y Quality Control ?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SS requires Quality Assurance for medical expos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inciples established by WHO, (ICRP for dose), guidelines prepared by EC, PAHO,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Quality Control program should assur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best image qual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th the least dose to the breas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Optimiz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F16C-D2F6-4FC4-B45D-52198889BB4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QC Program Requirements (1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74680" y="1219320"/>
            <a:ext cx="8593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X-Ray generation and contro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ocal Spot size (</a:t>
            </a:r>
            <a:r>
              <a:rPr b="1" lang="en-GB" sz="2400" spc="-1" strike="noStrike">
                <a:solidFill>
                  <a:srgbClr val="32a14c"/>
                </a:solidFill>
                <a:latin typeface="Arial"/>
              </a:rPr>
              <a:t>star pattern, slit camera, pinhole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OR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System resolu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ube voltage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32a14c"/>
                </a:solidFill>
                <a:latin typeface="Arial"/>
              </a:rPr>
              <a:t>reproducibility, accuracy, HVL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EC system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32a14c"/>
                </a:solidFill>
                <a:latin typeface="Arial"/>
              </a:rPr>
              <a:t>kV and object thickness compensation, optical density  control, short term reproducibility...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mpression (</a:t>
            </a:r>
            <a:r>
              <a:rPr b="1" lang="en-GB" sz="2400" spc="-1" strike="noStrike">
                <a:solidFill>
                  <a:srgbClr val="32a14c"/>
                </a:solidFill>
                <a:latin typeface="Arial"/>
              </a:rPr>
              <a:t>compression force, compression plate alignmen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Bucky and image recepto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nti Scatter grid (</a:t>
            </a:r>
            <a:r>
              <a:rPr b="1" lang="en-GB" sz="2400" spc="-1" strike="noStrike">
                <a:solidFill>
                  <a:srgbClr val="32a14c"/>
                </a:solidFill>
                <a:latin typeface="Arial"/>
              </a:rPr>
              <a:t>grid system factor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creen-Film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32a14c"/>
                </a:solidFill>
                <a:latin typeface="Arial"/>
              </a:rPr>
              <a:t>inter-cassette sensitivity, screen-film </a:t>
            </a:r>
            <a:r>
              <a:rPr b="1" lang="en-GB" sz="2400" spc="-1" strike="noStrike">
                <a:solidFill>
                  <a:srgbClr val="32a14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2a14c"/>
                </a:solidFill>
                <a:latin typeface="Arial"/>
              </a:rPr>
              <a:t>contac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9777-16E3-4437-8859-74905775996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609480" y="1295280"/>
            <a:ext cx="7883640" cy="51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399"/>
              </a:buClr>
              <a:buSzPct val="90000"/>
              <a:buFont typeface="Monotype Sorts" charset="2"/>
              <a:buChar char="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Film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Base line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temperature, processing time, film optical density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Film and processor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aily quality control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Darkroom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safelights, light leakage, film hopper, cleanliness.….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99"/>
              </a:buClr>
              <a:buSzPct val="90000"/>
              <a:buFont typeface="Monotype Sorts" charset="2"/>
              <a:buChar char="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View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Viewing Box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brightness, homogeneity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nvironment 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oom illumination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99"/>
              </a:buClr>
              <a:buFont typeface="Monotype Sorts" charset="2"/>
              <a:buChar char="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QC Program Requirements (2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B0CC-7784-4941-87CD-FEC40E892C4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762120" y="1447920"/>
            <a:ext cx="7772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20000"/>
              </a:lnSpc>
              <a:buClr>
                <a:srgbClr val="ff9900"/>
              </a:buClr>
              <a:buSzPct val="85000"/>
              <a:buFont typeface="Monotype Sorts" charset="2"/>
              <a:buChar char=""/>
              <a:tabLst>
                <a:tab algn="l" pos="563400"/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System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4040">
              <a:lnSpc>
                <a:spcPct val="12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Reference Dose (entrance surface dose or mean glandular d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4040">
              <a:lnSpc>
                <a:spcPct val="12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mage Quality (spatial resolution, image contrast, threshold contrast visibility, exposure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QC Program Requirements (3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3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C911-7B1B-4802-9C3F-F615FD4B027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533520" y="1447920"/>
            <a:ext cx="7772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This protocol is intended to provide the basic techniques for the quality control (QC) of the physical and technical aspects of mamm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Many measurements are performed using an exposure of a test object or phan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All measurements are performed under normal working conditions: no special adjustments of the equipment are necessary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 to measuremen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239-7F07-4273-B025-00844B37030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457200" y="1219320"/>
            <a:ext cx="830592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7720" indent="-477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wo types of exposur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7720" indent="-477720">
              <a:lnSpc>
                <a:spcPct val="100000"/>
              </a:lnSpc>
              <a:buClr>
                <a:srgbClr val="ff990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ff9900"/>
                </a:solidFill>
                <a:latin typeface="Arial"/>
              </a:rPr>
              <a:t>reference exposure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is intended to provide the information of the system under </a:t>
            </a:r>
            <a:r>
              <a:rPr b="1" i="1" lang="en-GB" sz="3200" spc="-1" strike="noStrike">
                <a:solidFill>
                  <a:srgbClr val="ff9900"/>
                </a:solidFill>
                <a:latin typeface="Arial"/>
              </a:rPr>
              <a:t>defined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conditions, independent of the clinical set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7720" indent="-477720">
              <a:lnSpc>
                <a:spcPct val="40000"/>
              </a:lnSpc>
              <a:buClr>
                <a:srgbClr val="ff990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7720" indent="-477720">
              <a:lnSpc>
                <a:spcPct val="100000"/>
              </a:lnSpc>
              <a:buClr>
                <a:srgbClr val="ff990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ff9900"/>
                </a:solidFill>
                <a:latin typeface="Arial"/>
              </a:rPr>
              <a:t>routine exposure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is intended to provide the information of the system under </a:t>
            </a:r>
            <a:r>
              <a:rPr b="1" i="1" lang="en-GB" sz="3200" spc="-1" strike="noStrike">
                <a:solidFill>
                  <a:srgbClr val="ff9900"/>
                </a:solidFill>
                <a:latin typeface="Arial"/>
              </a:rPr>
              <a:t>clinical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conditions, dependent on the settings that are clinically used.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 to measuremen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3FEB-8793-4C85-A546-D4A720CEF62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457200" y="1371600"/>
            <a:ext cx="800100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lnSpc>
                <a:spcPct val="85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optical density of the processed image is measured at the </a:t>
            </a:r>
            <a:r>
              <a:rPr b="0" i="1" lang="en-GB" sz="3200" spc="-1" strike="noStrike">
                <a:solidFill>
                  <a:srgbClr val="003399"/>
                </a:solidFill>
                <a:latin typeface="Arial"/>
              </a:rPr>
              <a:t>reference point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, which lies 60 mm from the chest wall side and laterally cent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56988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569880">
              <a:lnSpc>
                <a:spcPct val="85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measured optical density at the reference point is: 1.60 ± 0.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 to measuremen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CD60-A0CE-4CD7-B773-2257BF512B8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762120" y="1238400"/>
            <a:ext cx="75438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3560" indent="-7635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3560" indent="-763560">
              <a:lnSpc>
                <a:spcPct val="95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ll measurements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 should be performed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me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 cassette to rule out AEC variations and differences between screens and cass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3560" indent="-7635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3560" indent="-763560">
              <a:lnSpc>
                <a:spcPct val="95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Limits of acceptable performance are given, but often a better result would be desirable.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 to measuremen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9: Optimization of Protection in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1: Introduction to the physics of mammograph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2AAF-170C-42D1-BA06-E44AFF4C071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33520" y="2666880"/>
            <a:ext cx="8001000" cy="365760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607680" y="2725560"/>
            <a:ext cx="140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- tube volt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08400" y="3141720"/>
            <a:ext cx="2212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- compression dev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08040" y="3556080"/>
            <a:ext cx="215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- plexiglass phant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609120" y="3970440"/>
            <a:ext cx="175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- anti scatter gr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607680" y="4384800"/>
            <a:ext cx="485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 S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606960" y="4799160"/>
            <a:ext cx="217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- phototimer detec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608040" y="5213520"/>
            <a:ext cx="51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- AE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08040" y="5621400"/>
            <a:ext cx="242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n-GB" sz="13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optical density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3578760" y="1981080"/>
            <a:ext cx="1303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Re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3141720" y="2725560"/>
            <a:ext cx="56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28 k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3140640" y="3141720"/>
            <a:ext cx="248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in contact with phant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3142080" y="355608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45 m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3141000" y="397044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pres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3137400" y="4384800"/>
            <a:ext cx="24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matching with focused g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3129840" y="4799160"/>
            <a:ext cx="268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in position closest to chest 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3142080" y="5213520"/>
            <a:ext cx="241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on, central density ste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9"/>
          <p:cNvSpPr/>
          <p:nvPr/>
        </p:nvSpPr>
        <p:spPr>
          <a:xfrm>
            <a:off x="3141720" y="5621400"/>
            <a:ext cx="160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central pos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20"/>
          <p:cNvSpPr/>
          <p:nvPr/>
        </p:nvSpPr>
        <p:spPr>
          <a:xfrm>
            <a:off x="6666480" y="1981080"/>
            <a:ext cx="1132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Rout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1"/>
          <p:cNvSpPr/>
          <p:nvPr/>
        </p:nvSpPr>
        <p:spPr>
          <a:xfrm>
            <a:off x="5978520" y="2725560"/>
            <a:ext cx="150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clinical set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2"/>
          <p:cNvSpPr/>
          <p:nvPr/>
        </p:nvSpPr>
        <p:spPr>
          <a:xfrm>
            <a:off x="5976000" y="3141720"/>
            <a:ext cx="248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in contact with phant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3"/>
          <p:cNvSpPr/>
          <p:nvPr/>
        </p:nvSpPr>
        <p:spPr>
          <a:xfrm>
            <a:off x="5977440" y="355608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45 m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4"/>
          <p:cNvSpPr/>
          <p:nvPr/>
        </p:nvSpPr>
        <p:spPr>
          <a:xfrm>
            <a:off x="5976360" y="397044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pres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5"/>
          <p:cNvSpPr/>
          <p:nvPr/>
        </p:nvSpPr>
        <p:spPr>
          <a:xfrm>
            <a:off x="5972760" y="4384800"/>
            <a:ext cx="24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matching with focused g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5978520" y="4799160"/>
            <a:ext cx="150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clinical set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7"/>
          <p:cNvSpPr/>
          <p:nvPr/>
        </p:nvSpPr>
        <p:spPr>
          <a:xfrm>
            <a:off x="5976000" y="521352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8"/>
          <p:cNvSpPr/>
          <p:nvPr/>
        </p:nvSpPr>
        <p:spPr>
          <a:xfrm>
            <a:off x="5978520" y="5621400"/>
            <a:ext cx="150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99"/>
                </a:solidFill>
                <a:latin typeface="Arial"/>
              </a:rPr>
              <a:t>clinical set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9"/>
          <p:cNvSpPr/>
          <p:nvPr/>
        </p:nvSpPr>
        <p:spPr>
          <a:xfrm>
            <a:off x="3048120" y="2743200"/>
            <a:ext cx="0" cy="3505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0"/>
          <p:cNvSpPr/>
          <p:nvPr/>
        </p:nvSpPr>
        <p:spPr>
          <a:xfrm>
            <a:off x="5867280" y="2743200"/>
            <a:ext cx="0" cy="3505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roduction of reference or routine exposur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Rectangle 36"/>
          <p:cNvSpPr/>
          <p:nvPr/>
        </p:nvSpPr>
        <p:spPr>
          <a:xfrm>
            <a:off x="533520" y="1143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For the production of the reference or routine exposure, a plexiglass phantom is exposed and the machine settings are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EC6-78D8-47DA-8B30-4B1A815884D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achieve the best image quality while keeping the breast dose as low as reasonably achievable is the goal for consistent screen-film mammograph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well defined QC program can contribute significantly to the achievement of such a goal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C138-70BF-4B69-864B-9DB3105D94C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erences (1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5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uropean Protocol for the Quality Control of the Physical and Technical Aspects of Mammography Screening.   2005. http://euref.org/index.php?option=com_phocadownload&amp;view=category&amp;id=1&amp;Itemid=8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irch R, Marshall M and Ardran G M 1979. Catalogue of spectral data for diagnostic X-Rays SRS30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uropean Guidelines for quality assurance in mammography screening, 3rd Edition (2001) ISBN 92-894-1145-7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erences (2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mmography quality control:  Radiologic technologists manual.  American College of Radiology, Reston, VA. 1999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ality Control in Diagnostic Radiology, Gray JE. et al. http://diquad.com/QC%20Book.htm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Footer Placeholder 3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EBB-8D3E-405C-91FC-26C43E41ACC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9C52-8E97-4601-A271-9A907832B18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 to the physics of mam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1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X-ray mammography is the most reliable method of detecting breast canc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t is the method of choice for breast screening programs in many developed countr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order to obtain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high quality mammogram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 at an acceptable breast dose,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it is essential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 to use the correct equip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215120" y="2438280"/>
            <a:ext cx="154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B5B8-6838-4702-A09D-063C2F593DC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ain components of the mammography imaging syste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mmographic X-ray tub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vice for compressing the brea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ti-scatter gri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mmographic image recept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utomatic Exposure Control Syst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62ED-B04A-4749-BCEC-3C21FF77B1C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S:\LEEC\IAEA\MAMGEOM.TIF"/>
          <p:cNvPicPr/>
          <p:nvPr/>
        </p:nvPicPr>
        <p:blipFill>
          <a:blip r:embed="rId1"/>
          <a:stretch/>
        </p:blipFill>
        <p:spPr>
          <a:xfrm>
            <a:off x="1373040" y="1103400"/>
            <a:ext cx="6600960" cy="5068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Mammography geomet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 flipH="1">
            <a:off x="1895040" y="1839960"/>
            <a:ext cx="1373400" cy="40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3268800" y="1913040"/>
            <a:ext cx="1176120" cy="39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 Optimization of Protection in Mamm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2C21-9CC3-4BE6-98CE-576145ADDEB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in variables of the mammographic imaging syste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994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ntras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capability of the system to exhibit  small differences in soft tissue dens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harpnes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capability of the system to make visible small detai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alcification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own to 0.1 m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os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the female breast is a radiosensitive organ and associated carcinogenic ris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determines how of a dose can be used given the task of identifying a particular object against the background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ERRIS, Theocharis</cp:lastModifiedBy>
  <cp:lastPrinted>2001-10-24T07:37:58Z</cp:lastPrinted>
  <dcterms:modified xsi:type="dcterms:W3CDTF">2011-12-10T12:23:55Z</dcterms:modified>
  <cp:revision>117</cp:revision>
  <dc:subject>Mammography</dc:subject>
  <dc:title>RADIATION PROTECTION IN DIAGNOSTIC RADIOLOGY</dc:title>
</cp:coreProperties>
</file>