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8F30-2989-4A4A-AE32-66A83F5190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3608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3608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695680" y="6459480"/>
            <a:ext cx="37256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5.9: Optimización de la protección en radi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70000" y="65372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325C-B8C7-47E6-85D5-A9650D41CC5B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627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9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– evaluación de la cámara osc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240" y="1270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Luz de seguridad de la cámara oscura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7400" y="1098720"/>
            <a:ext cx="747900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robar visualmente que todas las luces de seguridad están en buenas condiciones (filtros no agrietados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edir el velo extra resultante de las luces de seguridad, según el mismo procedimiento descrito para las fugas de luz, pero con las luces de seguridad encendid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segurarse de que las luces de seguridad se encendieron más de cinco minutos antes  para evitar los efectos del encendido in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080" y="97920"/>
            <a:ext cx="8635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Luz de seguridad de la cámara oscura (I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33480" y="1552680"/>
          <a:ext cx="7667280" cy="3269880"/>
        </p:xfrm>
        <a:graphic>
          <a:graphicData uri="http://schemas.openxmlformats.org/drawingml/2006/table">
            <a:tbl>
              <a:tblPr/>
              <a:tblGrid>
                <a:gridCol w="2440800"/>
                <a:gridCol w="5226480"/>
              </a:tblGrid>
              <a:tr h="112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 extra </a:t>
                      </a:r>
                      <a:r>
                        <a:rPr b="0" lang="el-GR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0" lang="es-ES_tradn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 </a:t>
                      </a:r>
                      <a:r>
                        <a:rPr b="0" lang="es-ES_tradnl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s-ES_tradn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0 OD en 4 minut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14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icialmente, cada seis meses y cada vez que el entorno exterior de la cámara oscura ha cambiad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312920"/>
            <a:ext cx="77662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: evaluación de la cámara oscu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a seguir paso a paso para implantar el test de QC conside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ugas de luz en la cámara osc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uz de seguridad de la cámara oscu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9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valuación de la cámara osc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uál es el equipamiento mínimo necesario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523880"/>
            <a:ext cx="4289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pa para pelícu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nsitó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840" y="147636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ermanecer en la cámara oscura durante un mínimo de cinco minutos con todas las luces apagadas, incluidas las de segur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segurarse de que las salas adyacentes están completamente ilumin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speccionar todas aquellas áreas que pueden ser probablemente una fuente de fugas de lu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necesita una película expuesta previamente con una OD de aproximadamente 1.2, para medir el velo extra resultante de cualquier fuga de luz u otras fuentes luminos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siempre diferencias de densidad óptica en una línea perpendicular al eje del tubo para evitar la influencia del efecto tac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I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320840"/>
            <a:ext cx="85932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brir el chasis con la película expuesta previamente y colocar la película (emulsión hacia arriba) sobre el (parte adecuada del) banco de tr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par la mitad de la película y exponerla durante cuatro minuto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par la película también en perpendicular al efecto tacón para evitar la influencia de esta falta de homogeneidad en las medid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V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1390680"/>
            <a:ext cx="81360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diferencia de densidad óptica del fondo (D</a:t>
            </a:r>
            <a:r>
              <a:rPr b="0" lang="es-ES" sz="3200" spc="-1" strike="noStrike" baseline="-25000">
                <a:solidFill>
                  <a:srgbClr val="ffffcc"/>
                </a:solidFill>
                <a:latin typeface="Arial"/>
              </a:rPr>
              <a:t>fond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 y del área velada (D</a:t>
            </a:r>
            <a:r>
              <a:rPr b="0" lang="es-ES" sz="3200" spc="-1" strike="noStrike" baseline="-25000">
                <a:solidFill>
                  <a:srgbClr val="ffffcc"/>
                </a:solidFill>
                <a:latin typeface="Arial"/>
              </a:rPr>
              <a:t>velad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velo extra (</a:t>
            </a:r>
            <a:r>
              <a:rPr b="0" lang="es-ES" sz="32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) val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cc00"/>
                </a:solidFill>
                <a:latin typeface="Symbol"/>
                <a:ea typeface="Symbol"/>
              </a:rPr>
              <a:t></a:t>
            </a:r>
            <a:r>
              <a:rPr b="0" lang="es-ES" sz="4000" spc="-1" strike="noStrike">
                <a:solidFill>
                  <a:srgbClr val="ffcc00"/>
                </a:solidFill>
                <a:latin typeface="Symbol"/>
                <a:ea typeface="Symbol"/>
              </a:rPr>
              <a:t></a:t>
            </a:r>
            <a:r>
              <a:rPr b="0" i="1" lang="es-ES" sz="40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cc00"/>
                </a:solidFill>
                <a:latin typeface="Arial"/>
              </a:rPr>
              <a:t>= D</a:t>
            </a:r>
            <a:r>
              <a:rPr b="0" lang="es-ES" sz="4000" spc="-1" strike="noStrike" baseline="-25000">
                <a:solidFill>
                  <a:srgbClr val="ffcc00"/>
                </a:solidFill>
                <a:latin typeface="Arial"/>
              </a:rPr>
              <a:t>velada</a:t>
            </a:r>
            <a:r>
              <a:rPr b="0" lang="es-ES" sz="4000" spc="-1" strike="noStrike">
                <a:solidFill>
                  <a:srgbClr val="ffcc00"/>
                </a:solidFill>
                <a:latin typeface="Arial"/>
              </a:rPr>
              <a:t> - D</a:t>
            </a:r>
            <a:r>
              <a:rPr b="0" lang="es-ES" sz="4000" spc="-1" strike="noStrike" baseline="-25000">
                <a:solidFill>
                  <a:srgbClr val="ffcc00"/>
                </a:solidFill>
                <a:latin typeface="Arial"/>
              </a:rPr>
              <a:t>fon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3608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V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52640" y="1682640"/>
          <a:ext cx="7448040" cy="3157200"/>
        </p:xfrm>
        <a:graphic>
          <a:graphicData uri="http://schemas.openxmlformats.org/drawingml/2006/table">
            <a:tbl>
              <a:tblPr/>
              <a:tblGrid>
                <a:gridCol w="2442600"/>
                <a:gridCol w="5005440"/>
              </a:tblGrid>
              <a:tr h="137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 extra: </a:t>
                      </a:r>
                      <a:r>
                        <a:rPr b="0" lang="el-GR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Δ</a:t>
                      </a:r>
                      <a:r>
                        <a:rPr b="0" i="1" lang="es-ES_tradn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 </a:t>
                      </a:r>
                      <a:r>
                        <a:rPr b="0" i="1" lang="es-ES_tradnl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≤ </a:t>
                      </a: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2 OD en 4 minut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8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icialmente, cada seis meses y cuando se sospecha de fugas de luz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9:42:16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4T09:51:11Z</dcterms:modified>
  <cp:revision>55</cp:revision>
  <dc:subject>Practical on Darkroom</dc:subject>
  <dc:title>RADIATION PROTECTION IN DIAGNOSTIC RADIOLOGY</dc:title>
</cp:coreProperties>
</file>