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wmf" ContentType="image/x-wmf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rte No...., Module No....Lesson 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ule tit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AEA Post Graduate Educational Course in Radiation Protection and Safe Use of Radiation Sourc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64A0F-01F3-4C4B-AD6C-CAE5AE5B8D18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Parte No...., Module No....Lesson No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Module title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IAEA Post Graduate Educational Course in Radiation Protection and Safe Use of Radiation Sources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arte …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Parte number and tit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dule…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module number and tit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esson …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session number and tit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earning objectives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Upon completion of this lesson, the  students  will  be able t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. (Add a list of what the students are expected to learn or be able to do upon completion of the sess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ctivity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the method used for presenting or conducting the lesson – lecture,  demonstration, exercise, laboratory exercise, case study, simulation, etc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uration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presentation time or duration of the session – hr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terials and equipment needed: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 (List materials and equipment needed to conduct the session, if appropriat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ferences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(List the references for the sess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Parte No...., Module No....Lesson No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1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Module title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2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IAEA Post Graduate Educational Course in Radiation Protection and Safe Use of Radiation Sources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ecture notes: ( about 100 words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Instructions for the lecturer/trai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Parte No...., Module No....Lesson No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6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Module title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IAEA Post Graduate Educational Course in Radiation Protection and Safe Use of Radiation Sources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arte …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Parte number and tit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dule…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module number and tit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esson …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session number and tit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earning objectives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Upon completion of this lesson, the  students  will  be able t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. (Add a list of what the students are expected to learn or be able to do upon completion of the sess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ctivity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the method used for presenting or conducting the lesson – lecture,  demonstration, exercise, laboratory exercise, case study, simulation, etc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uration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presentation time or duration of the session – hr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terials and equipment needed: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 (List materials and equipment needed to conduct the session, if appropriat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ferences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(List the references for the sess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82240" y="1551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8593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282600" y="3912120"/>
            <a:ext cx="8593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82240" y="1551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8260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8576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82240" y="1551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87800" y="152388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93360" y="152388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282600" y="391212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87800" y="391212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93360" y="391212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82240" y="1551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8260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82240" y="1551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82240" y="1551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82240" y="1551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82240" y="155160"/>
            <a:ext cx="85345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2240" y="1551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8260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82240" y="1551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28260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82240" y="1551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8576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82240" y="1551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82600" y="3912120"/>
            <a:ext cx="8593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2240" y="1551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8593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82600" y="3912120"/>
            <a:ext cx="8593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82240" y="1551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8260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8576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82240" y="1551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87800" y="152388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3360" y="152388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82600" y="391212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87800" y="391212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93360" y="391212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82240" y="1551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82240" y="1551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82240" y="1551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82240" y="155160"/>
            <a:ext cx="85345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82240" y="1551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28260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82240" y="1551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8576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82240" y="1551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82600" y="3912120"/>
            <a:ext cx="8593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\\pc26995\Projects\ICS\ICS.VB6\ICSUI\Graphics\IAEAlogo_Black.wmf"/>
          <p:cNvPicPr/>
          <p:nvPr/>
        </p:nvPicPr>
        <p:blipFill>
          <a:blip r:embed="rId2"/>
          <a:stretch/>
        </p:blipFill>
        <p:spPr>
          <a:xfrm>
            <a:off x="304920" y="6110280"/>
            <a:ext cx="685800" cy="596880"/>
          </a:xfrm>
          <a:prstGeom prst="rect">
            <a:avLst/>
          </a:prstGeom>
          <a:ln w="0">
            <a:noFill/>
          </a:ln>
        </p:spPr>
      </p:pic>
      <p:sp>
        <p:nvSpPr>
          <p:cNvPr id="1" name="Text Box 3"/>
          <p:cNvSpPr/>
          <p:nvPr/>
        </p:nvSpPr>
        <p:spPr>
          <a:xfrm>
            <a:off x="990720" y="6202440"/>
            <a:ext cx="914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IAEA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" name="Picture 4" descr="_x0012_slide_logo_bg2.jpg                                             00056D31_x000c_Macintosh HD                   B746CC0A:"/>
          <p:cNvPicPr/>
          <p:nvPr/>
        </p:nvPicPr>
        <p:blipFill>
          <a:blip r:embed="rId3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82240" y="1551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8260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ccff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4 Marcador de pie de página"/>
          <p:cNvSpPr/>
          <p:nvPr/>
        </p:nvSpPr>
        <p:spPr>
          <a:xfrm>
            <a:off x="2733840" y="6473880"/>
            <a:ext cx="366372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d5d7d8"/>
                </a:solidFill>
                <a:latin typeface="Arial"/>
              </a:rPr>
              <a:t>19.1 : Optimización de la protección en mamografía</a:t>
            </a:r>
            <a:endParaRPr b="0" lang="en-US" sz="9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358840" y="6559560"/>
            <a:ext cx="70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2DCB0-6C66-4E4A-B51B-E4E127DBFB1A}" type="slidenum">
              <a:rPr b="0" lang="en-GB" sz="9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2"/>
          <p:cNvSpPr/>
          <p:nvPr/>
        </p:nvSpPr>
        <p:spPr>
          <a:xfrm>
            <a:off x="3505320" y="6019920"/>
            <a:ext cx="220968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AE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ffffff"/>
                </a:solidFill>
                <a:latin typeface="Arial"/>
              </a:rPr>
              <a:t>International Atomic Energy Agency</a:t>
            </a:r>
            <a:endParaRPr b="0" lang="en-US" sz="9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44" name="Picture 3" descr="\\pc26995\Projects\ICS\ICS.VB6\ICSUI\Graphics\IAEAlogo_Black.wmf"/>
          <p:cNvPicPr/>
          <p:nvPr/>
        </p:nvPicPr>
        <p:blipFill>
          <a:blip r:embed="rId2"/>
          <a:stretch/>
        </p:blipFill>
        <p:spPr>
          <a:xfrm>
            <a:off x="4114800" y="5105520"/>
            <a:ext cx="1050840" cy="9144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4" descr="\\161.5.128.084\MTIT-Home\ALICV\My Documents\My Pictures\IAEAPresBkngd.bmp"/>
          <p:cNvPicPr/>
          <p:nvPr/>
        </p:nvPicPr>
        <p:blipFill>
          <a:blip r:embed="rId3"/>
          <a:stretch/>
        </p:blipFill>
        <p:spPr>
          <a:xfrm>
            <a:off x="0" y="0"/>
            <a:ext cx="9140760" cy="685656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28260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999720"/>
            <a:ext cx="9144000" cy="177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cecff"/>
                </a:solidFill>
                <a:latin typeface="Arial"/>
              </a:rPr>
              <a:t>PROTECCIÓN RADIOLÓGICA EN RADIODIAGNÓSTICO Y EN RADIOLOGÍA INTERVENCIONISTA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0" y="3076560"/>
            <a:ext cx="9144000" cy="1727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Parte 19.1: Optimización de la protección en mamografía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Ejercicio práctico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3" name="Text Box 9"/>
          <p:cNvSpPr/>
          <p:nvPr/>
        </p:nvSpPr>
        <p:spPr>
          <a:xfrm>
            <a:off x="457200" y="304920"/>
            <a:ext cx="8346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ccecff"/>
                </a:solidFill>
                <a:latin typeface="Arial"/>
              </a:rPr>
              <a:t>Material de entrenamiento del OIEA sobre protección radiológica en radiodiagnóstico y en radiología intervencionista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82240" y="1551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Perspectiva general / Objetivos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50440" y="1657080"/>
            <a:ext cx="802188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Poder aplicar un protocolo de control de calidad al equipamiento de mamografía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Medir la alineación del campo de rayos X y el receptor de imagen en el lado de la pared del tórax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999720"/>
            <a:ext cx="9144000" cy="177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Parte 19.1 : Optimización de la protección en mamografía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0" y="2797200"/>
            <a:ext cx="9144000" cy="1727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Sistema de colimación y alineación del haz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8" name="Text Box 6"/>
          <p:cNvSpPr/>
          <p:nvPr/>
        </p:nvSpPr>
        <p:spPr>
          <a:xfrm>
            <a:off x="457200" y="304920"/>
            <a:ext cx="8346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ccecff"/>
                </a:solidFill>
                <a:latin typeface="Arial"/>
              </a:rPr>
              <a:t>Material de entrenamiento del OIEA sobre protección radiológica en radiodiagnóstico y en radiología intervencionista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82240" y="1551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Alineación del campo de rayos X / receptor de imagen 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49200" y="1352520"/>
            <a:ext cx="84312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La alineación del campo de rayos X y el receptor de imagen en el lado de la pared torácica puede medirse con dos chasis cargados y dos absorbentes de rayos X, ej., monedas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Colocar un chasis en la bandeja del bucky y el otro encima de la mesa de soporte de la mama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82240" y="1551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Alineación del campo de rayos X / receptor de imagen 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82240" y="1352520"/>
            <a:ext cx="8574120" cy="46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Asegurarse de que el segundo chasis tiene la película cargada con el lado de la emulsión de espaldas a la pantalla. Debe extenderse más allá del lado de la pared del tórax alrededor de 30 mm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Marcar el lado de la pared torácica del bucky colocando los absorbentes encima del chasis.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82240" y="1551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Alineación del campo de rayos X / receptor de imagen 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82600" y="1523520"/>
            <a:ext cx="8593200" cy="387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Una exposición automática producirá densidades ópticas suficiente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Colocar las películas en un negatoscopio usando las imágenes de los absorbentes como referencia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Puede medirse los defectos de alineación entre la película y el campo de rayos X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82240" y="1551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Alineación del campo de rayos X / receptor de imagen 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457560" y="1214280"/>
            <a:ext cx="8625960" cy="4536000"/>
            <a:chOff x="457560" y="1214280"/>
            <a:chExt cx="8625960" cy="4536000"/>
          </a:xfrm>
        </p:grpSpPr>
        <p:sp>
          <p:nvSpPr>
            <p:cNvPr id="107" name="Text Box 10"/>
            <p:cNvSpPr/>
            <p:nvPr/>
          </p:nvSpPr>
          <p:spPr>
            <a:xfrm>
              <a:off x="7247520" y="4186080"/>
              <a:ext cx="1770120" cy="75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5320" rIns="85320" tIns="42840" bIns="4284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52480"/>
                  <a:tab algn="l" pos="1704960"/>
                  <a:tab algn="l" pos="2557440"/>
                  <a:tab algn="l" pos="3409920"/>
                  <a:tab algn="l" pos="4262400"/>
                  <a:tab algn="l" pos="5114880"/>
                  <a:tab algn="l" pos="5967360"/>
                  <a:tab algn="l" pos="6819840"/>
                  <a:tab algn="l" pos="7672320"/>
                  <a:tab algn="l" pos="8524800"/>
                  <a:tab algn="l" pos="9377280"/>
                  <a:tab algn="l" pos="10229760"/>
                </a:tabLst>
              </a:pPr>
              <a:r>
                <a:rPr b="1" lang="en-US" sz="2200" spc="-1" strike="noStrike">
                  <a:solidFill>
                    <a:srgbClr val="ffcc00"/>
                  </a:solidFill>
                  <a:latin typeface="Arial"/>
                </a:rPr>
                <a:t>Sombras de</a:t>
              </a:r>
              <a:endParaRPr b="0" lang="en-US" sz="22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852480"/>
                  <a:tab algn="l" pos="1704960"/>
                  <a:tab algn="l" pos="2557440"/>
                  <a:tab algn="l" pos="3409920"/>
                  <a:tab algn="l" pos="4262400"/>
                  <a:tab algn="l" pos="5114880"/>
                  <a:tab algn="l" pos="5967360"/>
                  <a:tab algn="l" pos="6819840"/>
                  <a:tab algn="l" pos="7672320"/>
                  <a:tab algn="l" pos="8524800"/>
                  <a:tab algn="l" pos="9377280"/>
                  <a:tab algn="l" pos="10229760"/>
                </a:tabLst>
              </a:pPr>
              <a:r>
                <a:rPr b="1" lang="en-US" sz="2200" spc="-1" strike="noStrike">
                  <a:solidFill>
                    <a:srgbClr val="ffcc00"/>
                  </a:solidFill>
                  <a:latin typeface="Arial"/>
                </a:rPr>
                <a:t>monedas</a:t>
              </a:r>
              <a:endParaRPr b="0" lang="en-US" sz="2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8" name="Text Box 11"/>
            <p:cNvSpPr/>
            <p:nvPr/>
          </p:nvSpPr>
          <p:spPr>
            <a:xfrm>
              <a:off x="6475320" y="3649680"/>
              <a:ext cx="2608200" cy="42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5320" rIns="85320" tIns="42840" bIns="428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52480"/>
                  <a:tab algn="l" pos="1704960"/>
                  <a:tab algn="l" pos="2557440"/>
                  <a:tab algn="l" pos="3409920"/>
                  <a:tab algn="l" pos="4262400"/>
                  <a:tab algn="l" pos="5114880"/>
                  <a:tab algn="l" pos="5967360"/>
                  <a:tab algn="l" pos="6819840"/>
                  <a:tab algn="l" pos="7672320"/>
                  <a:tab algn="l" pos="8524800"/>
                  <a:tab algn="l" pos="9377280"/>
                  <a:tab algn="l" pos="10229760"/>
                </a:tabLst>
              </a:pPr>
              <a:r>
                <a:rPr b="1" lang="en-US" sz="2200" spc="-1" strike="noStrike">
                  <a:solidFill>
                    <a:srgbClr val="ffcc00"/>
                  </a:solidFill>
                  <a:latin typeface="Arial"/>
                </a:rPr>
                <a:t>Campo de rayos X</a:t>
              </a:r>
              <a:endParaRPr b="0" lang="en-US" sz="2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9" name="Line 13"/>
            <p:cNvSpPr/>
            <p:nvPr/>
          </p:nvSpPr>
          <p:spPr>
            <a:xfrm flipH="1">
              <a:off x="6629040" y="4871880"/>
              <a:ext cx="1066680" cy="457200"/>
            </a:xfrm>
            <a:prstGeom prst="line">
              <a:avLst/>
            </a:prstGeom>
            <a:ln w="28440">
              <a:solidFill>
                <a:srgbClr val="eaeae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0" name="Line 15"/>
            <p:cNvSpPr/>
            <p:nvPr/>
          </p:nvSpPr>
          <p:spPr>
            <a:xfrm flipV="1">
              <a:off x="3505320" y="5328720"/>
              <a:ext cx="0" cy="304920"/>
            </a:xfrm>
            <a:prstGeom prst="line">
              <a:avLst/>
            </a:prstGeom>
            <a:ln w="9360">
              <a:solidFill>
                <a:srgbClr val="cf0325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1" name="Rectangle 17"/>
            <p:cNvSpPr/>
            <p:nvPr/>
          </p:nvSpPr>
          <p:spPr>
            <a:xfrm>
              <a:off x="2019240" y="2281320"/>
              <a:ext cx="4471920" cy="34290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5320" rIns="85320" tIns="42840" bIns="42840" anchor="ctr">
              <a:noAutofit/>
            </a:bodyPr>
            <a:p>
              <a:pPr algn="ctr">
                <a:tabLst>
                  <a:tab algn="l" pos="0"/>
                  <a:tab algn="l" pos="852480"/>
                  <a:tab algn="l" pos="1704960"/>
                  <a:tab algn="l" pos="2557440"/>
                  <a:tab algn="l" pos="3409920"/>
                  <a:tab algn="l" pos="4262400"/>
                  <a:tab algn="l" pos="5114880"/>
                  <a:tab algn="l" pos="5967360"/>
                  <a:tab algn="l" pos="6819840"/>
                  <a:tab algn="l" pos="7672320"/>
                  <a:tab algn="l" pos="8524800"/>
                  <a:tab algn="l" pos="9377280"/>
                  <a:tab algn="l" pos="1022976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2" name="Rectangle 3"/>
            <p:cNvSpPr/>
            <p:nvPr/>
          </p:nvSpPr>
          <p:spPr>
            <a:xfrm>
              <a:off x="2013120" y="1900080"/>
              <a:ext cx="4471920" cy="342900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5320" rIns="85320" tIns="42840" bIns="42840" anchor="ctr">
              <a:noAutofit/>
            </a:bodyPr>
            <a:p>
              <a:pPr algn="ctr">
                <a:tabLst>
                  <a:tab algn="l" pos="0"/>
                  <a:tab algn="l" pos="852480"/>
                  <a:tab algn="l" pos="1704960"/>
                  <a:tab algn="l" pos="2557440"/>
                  <a:tab algn="l" pos="3409920"/>
                  <a:tab algn="l" pos="4262400"/>
                  <a:tab algn="l" pos="5114880"/>
                  <a:tab algn="l" pos="5967360"/>
                  <a:tab algn="l" pos="6819840"/>
                  <a:tab algn="l" pos="7672320"/>
                  <a:tab algn="l" pos="8524800"/>
                  <a:tab algn="l" pos="9377280"/>
                  <a:tab algn="l" pos="1022976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3" name="Oval 7"/>
            <p:cNvSpPr/>
            <p:nvPr/>
          </p:nvSpPr>
          <p:spPr>
            <a:xfrm>
              <a:off x="5562720" y="5100480"/>
              <a:ext cx="542880" cy="60984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4" name="Oval 18"/>
            <p:cNvSpPr/>
            <p:nvPr/>
          </p:nvSpPr>
          <p:spPr>
            <a:xfrm>
              <a:off x="2666880" y="5100480"/>
              <a:ext cx="542880" cy="60984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5" name="Line 19"/>
            <p:cNvSpPr/>
            <p:nvPr/>
          </p:nvSpPr>
          <p:spPr>
            <a:xfrm flipH="1">
              <a:off x="6705720" y="4110120"/>
              <a:ext cx="761760" cy="304560"/>
            </a:xfrm>
            <a:prstGeom prst="line">
              <a:avLst/>
            </a:prstGeom>
            <a:ln w="28440">
              <a:solidFill>
                <a:srgbClr val="eaeae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6" name="Rectangle 16"/>
            <p:cNvSpPr/>
            <p:nvPr/>
          </p:nvSpPr>
          <p:spPr>
            <a:xfrm>
              <a:off x="3429720" y="5329080"/>
              <a:ext cx="2222640" cy="42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5320" rIns="85320" tIns="42840" bIns="428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52480"/>
                  <a:tab algn="l" pos="1704960"/>
                  <a:tab algn="l" pos="2557440"/>
                  <a:tab algn="l" pos="3409920"/>
                  <a:tab algn="l" pos="4262400"/>
                  <a:tab algn="l" pos="5114880"/>
                  <a:tab algn="l" pos="5967360"/>
                  <a:tab algn="l" pos="6819840"/>
                  <a:tab algn="l" pos="7672320"/>
                  <a:tab algn="l" pos="8524800"/>
                  <a:tab algn="l" pos="9377280"/>
                  <a:tab algn="l" pos="10229760"/>
                </a:tabLst>
              </a:pPr>
              <a:r>
                <a:rPr b="0" lang="en-US" sz="2200" spc="-1" strike="noStrike">
                  <a:solidFill>
                    <a:srgbClr val="ff9900"/>
                  </a:solidFill>
                  <a:latin typeface="Arial"/>
                </a:rPr>
                <a:t>Errror alineación</a:t>
              </a:r>
              <a:endParaRPr b="0" lang="en-US" sz="2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7" name="Text Box 20"/>
            <p:cNvSpPr/>
            <p:nvPr/>
          </p:nvSpPr>
          <p:spPr>
            <a:xfrm>
              <a:off x="6936480" y="1214280"/>
              <a:ext cx="2112840" cy="75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5320" rIns="85320" tIns="42840" bIns="428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52480"/>
                  <a:tab algn="l" pos="1704960"/>
                  <a:tab algn="l" pos="2557440"/>
                  <a:tab algn="l" pos="3409920"/>
                  <a:tab algn="l" pos="4262400"/>
                  <a:tab algn="l" pos="5114880"/>
                  <a:tab algn="l" pos="5967360"/>
                  <a:tab algn="l" pos="6819840"/>
                  <a:tab algn="l" pos="7672320"/>
                  <a:tab algn="l" pos="8524800"/>
                  <a:tab algn="l" pos="9377280"/>
                  <a:tab algn="l" pos="10229760"/>
                </a:tabLst>
              </a:pPr>
              <a:r>
                <a:rPr b="1" lang="en-US" sz="2200" spc="-1" strike="noStrike">
                  <a:solidFill>
                    <a:srgbClr val="ffcc00"/>
                  </a:solidFill>
                  <a:latin typeface="Arial"/>
                </a:rPr>
                <a:t>Película en </a:t>
              </a:r>
              <a:endParaRPr b="0" lang="en-US" sz="22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52480"/>
                  <a:tab algn="l" pos="1704960"/>
                  <a:tab algn="l" pos="2557440"/>
                  <a:tab algn="l" pos="3409920"/>
                  <a:tab algn="l" pos="4262400"/>
                  <a:tab algn="l" pos="5114880"/>
                  <a:tab algn="l" pos="5967360"/>
                  <a:tab algn="l" pos="6819840"/>
                  <a:tab algn="l" pos="7672320"/>
                  <a:tab algn="l" pos="8524800"/>
                  <a:tab algn="l" pos="9377280"/>
                  <a:tab algn="l" pos="10229760"/>
                </a:tabLst>
              </a:pPr>
              <a:r>
                <a:rPr b="1" lang="en-US" sz="2200" spc="-1" strike="noStrike">
                  <a:solidFill>
                    <a:srgbClr val="ffcc00"/>
                  </a:solidFill>
                  <a:latin typeface="Arial"/>
                </a:rPr>
                <a:t>bandeja bucky</a:t>
              </a:r>
              <a:endParaRPr b="0" lang="en-US" sz="2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8" name="Line 21"/>
            <p:cNvSpPr/>
            <p:nvPr/>
          </p:nvSpPr>
          <p:spPr>
            <a:xfrm flipH="1">
              <a:off x="6629040" y="2128680"/>
              <a:ext cx="762120" cy="304920"/>
            </a:xfrm>
            <a:prstGeom prst="line">
              <a:avLst/>
            </a:prstGeom>
            <a:ln w="28440">
              <a:solidFill>
                <a:srgbClr val="eaeae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9" name="Text Box 22"/>
            <p:cNvSpPr/>
            <p:nvPr/>
          </p:nvSpPr>
          <p:spPr>
            <a:xfrm>
              <a:off x="457560" y="3881520"/>
              <a:ext cx="1367640" cy="176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5320" rIns="85320" tIns="42840" bIns="428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52480"/>
                  <a:tab algn="l" pos="1704960"/>
                  <a:tab algn="l" pos="2557440"/>
                  <a:tab algn="l" pos="3409920"/>
                  <a:tab algn="l" pos="4262400"/>
                  <a:tab algn="l" pos="5114880"/>
                  <a:tab algn="l" pos="5967360"/>
                  <a:tab algn="l" pos="6819840"/>
                  <a:tab algn="l" pos="7672320"/>
                  <a:tab algn="l" pos="8524800"/>
                  <a:tab algn="l" pos="9377280"/>
                  <a:tab algn="l" pos="10229760"/>
                </a:tabLst>
              </a:pPr>
              <a:r>
                <a:rPr b="1" lang="en-US" sz="2200" spc="-1" strike="noStrike">
                  <a:solidFill>
                    <a:srgbClr val="ffcc00"/>
                  </a:solidFill>
                  <a:latin typeface="Arial"/>
                </a:rPr>
                <a:t>Película </a:t>
              </a:r>
              <a:endParaRPr b="0" lang="en-US" sz="22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52480"/>
                  <a:tab algn="l" pos="1704960"/>
                  <a:tab algn="l" pos="2557440"/>
                  <a:tab algn="l" pos="3409920"/>
                  <a:tab algn="l" pos="4262400"/>
                  <a:tab algn="l" pos="5114880"/>
                  <a:tab algn="l" pos="5967360"/>
                  <a:tab algn="l" pos="6819840"/>
                  <a:tab algn="l" pos="7672320"/>
                  <a:tab algn="l" pos="8524800"/>
                  <a:tab algn="l" pos="9377280"/>
                  <a:tab algn="l" pos="10229760"/>
                </a:tabLst>
              </a:pPr>
              <a:r>
                <a:rPr b="1" lang="en-US" sz="2200" spc="-1" strike="noStrike">
                  <a:solidFill>
                    <a:srgbClr val="ffcc00"/>
                  </a:solidFill>
                  <a:latin typeface="Arial"/>
                </a:rPr>
                <a:t>encima </a:t>
              </a:r>
              <a:endParaRPr b="0" lang="en-US" sz="22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52480"/>
                  <a:tab algn="l" pos="1704960"/>
                  <a:tab algn="l" pos="2557440"/>
                  <a:tab algn="l" pos="3409920"/>
                  <a:tab algn="l" pos="4262400"/>
                  <a:tab algn="l" pos="5114880"/>
                  <a:tab algn="l" pos="5967360"/>
                  <a:tab algn="l" pos="6819840"/>
                  <a:tab algn="l" pos="7672320"/>
                  <a:tab algn="l" pos="8524800"/>
                  <a:tab algn="l" pos="9377280"/>
                  <a:tab algn="l" pos="10229760"/>
                </a:tabLst>
              </a:pPr>
              <a:r>
                <a:rPr b="1" lang="en-US" sz="2200" spc="-1" strike="noStrike">
                  <a:solidFill>
                    <a:srgbClr val="ffcc00"/>
                  </a:solidFill>
                  <a:latin typeface="Arial"/>
                </a:rPr>
                <a:t>mesa de </a:t>
              </a:r>
              <a:endParaRPr b="0" lang="en-US" sz="22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52480"/>
                  <a:tab algn="l" pos="1704960"/>
                  <a:tab algn="l" pos="2557440"/>
                  <a:tab algn="l" pos="3409920"/>
                  <a:tab algn="l" pos="4262400"/>
                  <a:tab algn="l" pos="5114880"/>
                  <a:tab algn="l" pos="5967360"/>
                  <a:tab algn="l" pos="6819840"/>
                  <a:tab algn="l" pos="7672320"/>
                  <a:tab algn="l" pos="8524800"/>
                  <a:tab algn="l" pos="9377280"/>
                  <a:tab algn="l" pos="10229760"/>
                </a:tabLst>
              </a:pPr>
              <a:r>
                <a:rPr b="1" lang="en-US" sz="2200" spc="-1" strike="noStrike">
                  <a:solidFill>
                    <a:srgbClr val="ffcc00"/>
                  </a:solidFill>
                  <a:latin typeface="Arial"/>
                </a:rPr>
                <a:t>soporte </a:t>
              </a:r>
              <a:endParaRPr b="0" lang="en-US" sz="22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52480"/>
                  <a:tab algn="l" pos="1704960"/>
                  <a:tab algn="l" pos="2557440"/>
                  <a:tab algn="l" pos="3409920"/>
                  <a:tab algn="l" pos="4262400"/>
                  <a:tab algn="l" pos="5114880"/>
                  <a:tab algn="l" pos="5967360"/>
                  <a:tab algn="l" pos="6819840"/>
                  <a:tab algn="l" pos="7672320"/>
                  <a:tab algn="l" pos="8524800"/>
                  <a:tab algn="l" pos="9377280"/>
                  <a:tab algn="l" pos="10229760"/>
                </a:tabLst>
              </a:pPr>
              <a:r>
                <a:rPr b="1" lang="en-US" sz="2200" spc="-1" strike="noStrike">
                  <a:solidFill>
                    <a:srgbClr val="ffcc00"/>
                  </a:solidFill>
                  <a:latin typeface="Arial"/>
                </a:rPr>
                <a:t>mama</a:t>
              </a:r>
              <a:endParaRPr b="0" lang="en-US" sz="2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0" name="Line 23"/>
            <p:cNvSpPr/>
            <p:nvPr/>
          </p:nvSpPr>
          <p:spPr>
            <a:xfrm>
              <a:off x="1523880" y="4948200"/>
              <a:ext cx="457200" cy="457200"/>
            </a:xfrm>
            <a:prstGeom prst="line">
              <a:avLst/>
            </a:prstGeom>
            <a:ln w="28440">
              <a:solidFill>
                <a:srgbClr val="eaeae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82240" y="1551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Alineación del campo de rayos X / receptor de imagen 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ffcc00"/>
                </a:solidFill>
                <a:latin typeface="Arial"/>
              </a:rPr>
              <a:t>Nota 1:</a:t>
            </a: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 los bordes laterales del campo de rayos X deben exponer al menos el receptor de imagen. Una leve extensión más allá de cualquier borde del receptor de imagen es aceptable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ffcc00"/>
                </a:solidFill>
                <a:latin typeface="Arial"/>
              </a:rPr>
              <a:t>Nota 2:</a:t>
            </a: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 si se usan más de un tamaño de campo o distancia focal, la medida debe repetirse para cada diafragma o distancia.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82240" y="98280"/>
            <a:ext cx="8620200" cy="94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Alineación del campo de rayos X / receptor de imagen 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38280" y="1273320"/>
          <a:ext cx="8153280" cy="4733640"/>
        </p:xfrm>
        <a:graphic>
          <a:graphicData uri="http://schemas.openxmlformats.org/drawingml/2006/table">
            <a:tbl>
              <a:tblPr/>
              <a:tblGrid>
                <a:gridCol w="2763720"/>
                <a:gridCol w="5389560"/>
              </a:tblGrid>
              <a:tr h="316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Valor limit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 u="sng">
                          <a:solidFill>
                            <a:srgbClr val="ffffcc"/>
                          </a:solidFill>
                          <a:uFillTx/>
                          <a:latin typeface="Arial"/>
                        </a:rPr>
                        <a:t>Lado del tórax</a:t>
                      </a:r>
                      <a:r>
                        <a:rPr b="0" lang="es-ES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: los rayos X deben cubrir la película sin excederla más de 5 mm fuera de ella.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 u="sng">
                          <a:solidFill>
                            <a:srgbClr val="ffffcc"/>
                          </a:solidFill>
                          <a:uFillTx/>
                          <a:latin typeface="Arial"/>
                        </a:rPr>
                        <a:t>Laterales</a:t>
                      </a:r>
                      <a:r>
                        <a:rPr b="0" lang="es-ES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: Los rayos X deben cubrir la película hasta los bordes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48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Frecuencia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Anual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1081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Equipamiento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Absorbentes de rayos X, ej., monedas, cinta métrica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23T14:06:13Z</dcterms:created>
  <dc:creator>IAEA</dc:creator>
  <dc:description>IAEA Training Material on Radiation Protection in Diagnostic and Interventional Radiology</dc:description>
  <dc:language>en-US</dc:language>
  <cp:lastModifiedBy>BRITTINGER, Maria Theresa</cp:lastModifiedBy>
  <cp:lastPrinted>2001-10-12T16:57:46Z</cp:lastPrinted>
  <dcterms:modified xsi:type="dcterms:W3CDTF">2009-09-07T13:24:03Z</dcterms:modified>
  <cp:revision>95</cp:revision>
  <dc:subject>Practical on alignment</dc:subject>
  <dc:title>RADIATION PROTECTION IN DIAGNOSTIC RADIOLOGY</dc:title>
</cp:coreProperties>
</file>