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93D0-2065-4E7F-8BBE-5E82746A07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Img"/>
          </p:nvPr>
        </p:nvSpPr>
        <p:spPr>
          <a:xfrm>
            <a:off x="1147680" y="690480"/>
            <a:ext cx="4567320" cy="3424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3608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3608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712960" y="6492960"/>
            <a:ext cx="36943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6.6: </a:t>
            </a:r>
            <a:r>
              <a:rPr b="0" lang="es-ES" sz="900" spc="-1" strike="noStrike">
                <a:solidFill>
                  <a:srgbClr val="d5d7d8"/>
                </a:solidFill>
                <a:latin typeface="Arial"/>
              </a:rPr>
              <a:t>Optimización de la protección en fluoroscop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57400" y="654696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99DA-8CCB-46A2-82A9-6555ABBB6CB4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6.6: Optimización de la protección en fluoroscop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8640" y="1600200"/>
            <a:ext cx="760428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amiliarizarse con el de control de calidad en fluoroscop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valuar el comportamiento del monitor de vide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6.6: Optimización de la protección en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uncionamiento del monitor de vide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1029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luoroscopia – Funcionamiento del monitor de TV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0760" y="1523880"/>
            <a:ext cx="85932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Propósi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mprobar y ajustar el monitor de TV del sistema de fluoroscopia bajo el control de brillo automático normal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quipamien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niquí de calidad de imagen (maniquí de Lee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juste del monitor de TV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2280" y="1523520"/>
            <a:ext cx="765000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 un elemento muy importante de la cadena de imagen fluoroscópica, dado que un monitor con un ajuste de brillo bajo puede causar una tasa de dosis alta al ser usa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necesita ver el círculo dentro del cuadrado en alto y en bajo contras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oducir la imagen del maniquí bajo el control automático normal, y ajustar el moni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juste del monitor de TV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752480"/>
            <a:ext cx="492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os controles de brillo y contrast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ptimizar los círculos blancos y negros en los cuadrado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bería verse la escala completa de gri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ara restantes tests, no cambiar los controles de TV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733840" y="2743200"/>
            <a:ext cx="5829120" cy="2743200"/>
            <a:chOff x="2733840" y="2743200"/>
            <a:chExt cx="5829120" cy="2743200"/>
          </a:xfrm>
        </p:grpSpPr>
        <p:pic>
          <p:nvPicPr>
            <p:cNvPr id="106" name="Picture 7" descr="D:\Congressi e Corsi\Corso Chisinau\immagini\Senza titolo-1 copia.jpg"/>
            <p:cNvPicPr/>
            <p:nvPr/>
          </p:nvPicPr>
          <p:blipFill>
            <a:blip r:embed="rId1"/>
            <a:stretch/>
          </p:blipFill>
          <p:spPr>
            <a:xfrm>
              <a:off x="5562720" y="2743200"/>
              <a:ext cx="30002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Line 9"/>
            <p:cNvSpPr/>
            <p:nvPr/>
          </p:nvSpPr>
          <p:spPr>
            <a:xfrm>
              <a:off x="2733840" y="3429000"/>
              <a:ext cx="4352760" cy="22860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8" name="Line 8"/>
          <p:cNvSpPr/>
          <p:nvPr/>
        </p:nvSpPr>
        <p:spPr>
          <a:xfrm flipV="1">
            <a:off x="3781440" y="4114440"/>
            <a:ext cx="3238560" cy="428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aniquíes de Leeds para fluoroscopia Ajuste del monitor de TV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2240" y="1523880"/>
            <a:ext cx="421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Incorpo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a cuña con diez escalones de trasmisión fraccional desde cero a 0.9 del blanco de p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os discos de trasmisión unidad y cero para rayos X dentro de los cuadrados de trasmisiones 0.9 y 0.0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 círculo de plom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8" descr="D:\Congressi e Corsi\Corso Chisinau\immagini\Senza titolo-1 copia.jpg"/>
          <p:cNvPicPr/>
          <p:nvPr/>
        </p:nvPicPr>
        <p:blipFill>
          <a:blip r:embed="rId1"/>
          <a:stretch/>
        </p:blipFill>
        <p:spPr>
          <a:xfrm>
            <a:off x="4654440" y="1879560"/>
            <a:ext cx="4221360" cy="385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8T11:44:17Z</dcterms:modified>
  <cp:revision>71</cp:revision>
  <dc:subject>Practical on monitor measurement</dc:subject>
  <dc:title> RADIATION PROTECTION IN DIAGNOSTIC RADIOLOGY </dc:title>
</cp:coreProperties>
</file>