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5FFB-BD28-467D-BE43-37F6BFE1DA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733840" y="6492960"/>
            <a:ext cx="3654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5d7d8"/>
                </a:solidFill>
                <a:latin typeface="Arial"/>
              </a:rPr>
              <a:t>15.2: Optimización de la protección en radiografí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7640" y="653112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0CD6-3648-4ED4-B431-07DAEBB10116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923920"/>
            <a:ext cx="9144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5.2: Optimización de la protección en radi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8120" y="1168200"/>
            <a:ext cx="81867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 : control de calidad de un sistema de radiografía gener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 a seguir paso a paso para implantar el test de QC considera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inealidad de la intensidad (rendimiento o salida) de la radiación (en distintas condiciones de operación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mpensación” del kVp y m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los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5.2: Optimización de la protección en radi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da del rendimiento del tub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320" y="171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Medida del rendimiento (“salida”) del tubo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2600" y="1219320"/>
            <a:ext cx="8593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Propósi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mprobar que la salida de radiación [mGy/mAs] permanece constante al variar el m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mprobar la llamada “compensación” entre el kVp y mA, que permite que las cargas extra en un generador de alta tensión se compensen a mA altos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Mate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positivo electrónico (multímetro) capaz de medir: kV, tiempo, dosis en ai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8040" y="304560"/>
            <a:ext cx="7773840" cy="8204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Linealidad de la salida de radiación (I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4440" y="1249200"/>
            <a:ext cx="7373880" cy="4765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Méto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sar una cámara de ionización o detector de estado sólido a ~ 75 cm del foco del tub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locar bajo el detector alguna lámina de vinilo plomado para estandarizar la retrodispers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sar 70 kVp y tiempo de exposición fijos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(~ 100 m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edir la dosis en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todos los mA seleccionables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n uso (útil para medir también el kVp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inealidad de la salida de radiación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5520" y="1523880"/>
            <a:ext cx="8269200" cy="33530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Análi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cada exposición, calcular los mAs y la dosis de radiación/mAs (que deber ser constante, idealment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contrar los valores máximo y mínimo de dosis/m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Linealidad de la salida de radiación (III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valor [(max-min)/(max+min)]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ebería ser &lt; 0.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s  &gt; 0.1, comprobar acto seguido el kVp – valores altos de dosis/mAs podrían estar asociados con alto kV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l tubo tiene ajustes de foco fino y grueso, medir la linealidad para cada uno,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separadam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3T15:19:10Z</dcterms:modified>
  <cp:revision>60</cp:revision>
  <dc:subject>Practical on X-ray output measurement</dc:subject>
  <dc:title> RADIATION PROTECTION IN DIAGNOSTIC RADIOLOGY </dc:title>
</cp:coreProperties>
</file>