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153-3010-4A53-8E56-C363A55C82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cture notes: ( about 100 word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551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551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690640" y="6473880"/>
            <a:ext cx="37357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9.4 : 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60640" y="65516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B98-0FCA-426B-A573-73B9CF438BDE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00024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9.4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la salida de radiación (I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23800" y="1103400"/>
            <a:ext cx="8059680" cy="4955040"/>
            <a:chOff x="523800" y="1103400"/>
            <a:chExt cx="8059680" cy="4955040"/>
          </a:xfrm>
        </p:grpSpPr>
        <p:sp>
          <p:nvSpPr>
            <p:cNvPr id="114" name="Rectangle 37"/>
            <p:cNvSpPr/>
            <p:nvPr/>
          </p:nvSpPr>
          <p:spPr>
            <a:xfrm>
              <a:off x="6556320" y="4549680"/>
              <a:ext cx="1359000" cy="930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5" name="Group 3"/>
            <p:cNvGrpSpPr/>
            <p:nvPr/>
          </p:nvGrpSpPr>
          <p:grpSpPr>
            <a:xfrm>
              <a:off x="963720" y="1387440"/>
              <a:ext cx="2798640" cy="4402080"/>
              <a:chOff x="963720" y="1387440"/>
              <a:chExt cx="2798640" cy="4402080"/>
            </a:xfrm>
          </p:grpSpPr>
          <p:sp>
            <p:nvSpPr>
              <p:cNvPr id="116" name="Freeform 4"/>
              <p:cNvSpPr/>
              <p:nvPr/>
            </p:nvSpPr>
            <p:spPr>
              <a:xfrm>
                <a:off x="1902960" y="1766520"/>
                <a:ext cx="1004040" cy="120132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Line 5"/>
              <p:cNvSpPr/>
              <p:nvPr/>
            </p:nvSpPr>
            <p:spPr>
              <a:xfrm>
                <a:off x="2207880" y="2338200"/>
                <a:ext cx="37512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2293200" y="2077920"/>
                <a:ext cx="202320" cy="8532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 flipH="1">
                <a:off x="1426320" y="2133360"/>
                <a:ext cx="965880" cy="31986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2392920" y="2130120"/>
                <a:ext cx="960120" cy="3201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963720" y="5344920"/>
                <a:ext cx="2798640" cy="144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 flipH="1">
                <a:off x="2376360" y="1387440"/>
                <a:ext cx="24840" cy="4402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3" name="Freeform 11"/>
            <p:cNvSpPr/>
            <p:nvPr/>
          </p:nvSpPr>
          <p:spPr>
            <a:xfrm>
              <a:off x="2698920" y="1542960"/>
              <a:ext cx="1492200" cy="45900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27200" y="2343240"/>
              <a:ext cx="1584360" cy="38736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66880" y="5429160"/>
              <a:ext cx="1490400" cy="57312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1716120" y="5249880"/>
              <a:ext cx="1373040" cy="586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>
              <a:off x="2309760" y="5035680"/>
              <a:ext cx="158760" cy="172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29040" y="5272200"/>
              <a:ext cx="1492200" cy="60156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2422440" y="4686480"/>
              <a:ext cx="1847880" cy="401400"/>
            </a:xfrm>
            <a:prstGeom prst="pie">
              <a:avLst/>
            </a:pr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685800" y="2114640"/>
              <a:ext cx="11095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533160" y="5300640"/>
              <a:ext cx="46980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838080" y="2190600"/>
              <a:ext cx="0" cy="313056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3123360" y="1103400"/>
              <a:ext cx="255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Tubo de rayos 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>
              <a:off x="3294000" y="2317680"/>
              <a:ext cx="945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Filtr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Rectangle 23"/>
            <p:cNvSpPr/>
            <p:nvPr/>
          </p:nvSpPr>
          <p:spPr>
            <a:xfrm>
              <a:off x="3163320" y="4275000"/>
              <a:ext cx="2367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Cámara de ion.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3438720" y="5475240"/>
              <a:ext cx="224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Lámina plom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Rectangle 25"/>
            <p:cNvSpPr/>
            <p:nvPr/>
          </p:nvSpPr>
          <p:spPr>
            <a:xfrm>
              <a:off x="1054440" y="5603760"/>
              <a:ext cx="1772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Tope mesa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Rectangle 26"/>
            <p:cNvSpPr/>
            <p:nvPr/>
          </p:nvSpPr>
          <p:spPr>
            <a:xfrm>
              <a:off x="523800" y="3402000"/>
              <a:ext cx="772920" cy="4546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FFD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9" name="Group 27"/>
            <p:cNvGrpSpPr/>
            <p:nvPr/>
          </p:nvGrpSpPr>
          <p:grpSpPr>
            <a:xfrm>
              <a:off x="5786280" y="1554120"/>
              <a:ext cx="2797200" cy="4402080"/>
              <a:chOff x="5786280" y="1554120"/>
              <a:chExt cx="2797200" cy="4402080"/>
            </a:xfrm>
          </p:grpSpPr>
          <p:sp>
            <p:nvSpPr>
              <p:cNvPr id="140" name="Freeform 28"/>
              <p:cNvSpPr/>
              <p:nvPr/>
            </p:nvSpPr>
            <p:spPr>
              <a:xfrm>
                <a:off x="6725520" y="1933200"/>
                <a:ext cx="1003320" cy="1201320"/>
              </a:xfrm>
              <a:prstGeom prst="pie">
                <a:avLst/>
              </a:prstGeom>
              <a:noFill/>
              <a:ln cap="rnd" w="255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Line 29"/>
              <p:cNvSpPr/>
              <p:nvPr/>
            </p:nvSpPr>
            <p:spPr>
              <a:xfrm>
                <a:off x="7030080" y="2504880"/>
                <a:ext cx="375120" cy="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Line 30"/>
              <p:cNvSpPr/>
              <p:nvPr/>
            </p:nvSpPr>
            <p:spPr>
              <a:xfrm>
                <a:off x="7115400" y="2244600"/>
                <a:ext cx="201960" cy="8532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Line 31"/>
              <p:cNvSpPr/>
              <p:nvPr/>
            </p:nvSpPr>
            <p:spPr>
              <a:xfrm flipH="1">
                <a:off x="6248880" y="2300040"/>
                <a:ext cx="965520" cy="319860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Line 32"/>
              <p:cNvSpPr/>
              <p:nvPr/>
            </p:nvSpPr>
            <p:spPr>
              <a:xfrm>
                <a:off x="7214760" y="2296800"/>
                <a:ext cx="959760" cy="3201840"/>
              </a:xfrm>
              <a:prstGeom prst="line">
                <a:avLst/>
              </a:prstGeom>
              <a:ln w="1260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Rectangle 33"/>
              <p:cNvSpPr/>
              <p:nvPr/>
            </p:nvSpPr>
            <p:spPr>
              <a:xfrm>
                <a:off x="5786280" y="5511600"/>
                <a:ext cx="2797200" cy="144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Line 34"/>
              <p:cNvSpPr/>
              <p:nvPr/>
            </p:nvSpPr>
            <p:spPr>
              <a:xfrm flipH="1">
                <a:off x="7198200" y="1554120"/>
                <a:ext cx="24840" cy="4402080"/>
              </a:xfrm>
              <a:prstGeom prst="line">
                <a:avLst/>
              </a:prstGeom>
              <a:ln w="12600">
                <a:solidFill>
                  <a:srgbClr val="eaeaea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35"/>
            <p:cNvSpPr/>
            <p:nvPr/>
          </p:nvSpPr>
          <p:spPr>
            <a:xfrm>
              <a:off x="6539040" y="5416560"/>
              <a:ext cx="1373040" cy="586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Oval 36"/>
            <p:cNvSpPr/>
            <p:nvPr/>
          </p:nvSpPr>
          <p:spPr>
            <a:xfrm>
              <a:off x="7132680" y="5202360"/>
              <a:ext cx="158760" cy="172800"/>
            </a:xfrm>
            <a:prstGeom prst="ellipse">
              <a:avLst/>
            </a:prstGeom>
            <a:solidFill>
              <a:srgbClr val="eaeaea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4951440" y="3867120"/>
              <a:ext cx="133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00"/>
                  </a:solidFill>
                  <a:latin typeface="Arial"/>
                </a:rPr>
                <a:t>Maniquí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>
              <a:off x="5715000" y="4248000"/>
              <a:ext cx="914400" cy="4572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la salida de radiación (I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 ambas geometrías se coloca una lámina de plomo sobre la mesa para obtener condiciones de retrodispersión estándar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salida de radiación puede determinarse en las siguientes condiciones de operació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comprobaciones de consistencia de salida del tubo se hacen repitiendo medidas a factores de exposición constantes (ej.,: 28 kV, 50 m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la salida de radiación (V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1040" y="13622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salida se mide a diferentes kV variando el kilovoltaje en escalones fijos manteniendo constante el producto m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be usarse para la medida un producto mAs similar al requerido para la exposición de refer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rregir por distancia desde la mancha focal al detector y calcular la salida específica a 1 metro y la tasa de salida a una distancia igual a la distancia foco-película (FF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la salida de radiación - linealidad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linealidad de la salida con la corriente del tubo puede examinarse cambiando el producto mAs manteniendo constante el kilovolta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ndimiento del tubo (o “salida”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444680"/>
          <a:ext cx="8439120" cy="3860640"/>
        </p:xfrm>
        <a:graphic>
          <a:graphicData uri="http://schemas.openxmlformats.org/drawingml/2006/table">
            <a:tbl>
              <a:tblPr/>
              <a:tblGrid>
                <a:gridCol w="1790640"/>
                <a:gridCol w="6648480"/>
              </a:tblGrid>
              <a:tr h="2031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ceptable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&gt;30  mGy/mAs a 1 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seable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40-75 mGy/mAs a 1 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	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ceptable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&gt; 7.5 mGy/s a una distancia igual a la FF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seable</a:t>
                      </a: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: 10-30 mGy/s a una distancia igual a la FF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da seis meses y si hay problema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osímetro, medidor tiempos exposic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der aplicar un protocolo de control de calidad al equipamiento de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exactitud y reproducibilidad del voltaje del tub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radiación de salida y la line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4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1: Exactitud y reproducibilidad del k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del voltaje del tub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2600" y="136224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calidad de la imagen mamográfica y la dosis al paciente dependen de cualquier variación en el kilovoltaje del generador (kV) y del equipo de rayos X. Por tanto, se requiere una calibración exacta del kV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ebe realizarse una comprobación no invasiva del voltaje del tubo 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sobre el intervalo de kV total utilizado, a intervalos de 1 k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Reproducibilidad del voltaje del tub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reproducibilidad se mide mediante exposiciones repetidas al voltaje del tubo fijo normalmente usado en clínica (ej., 28 kV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tualmente, lo más adecuado para este propósito es un kilovoltímetro digital (especialmente diseñado para mamografí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xactitud y reproducibilidad del voltaje del tub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33320" y="1825560"/>
          <a:ext cx="7953480" cy="2513160"/>
        </p:xfrm>
        <a:graphic>
          <a:graphicData uri="http://schemas.openxmlformats.org/drawingml/2006/table">
            <a:tbl>
              <a:tblPr/>
              <a:tblGrid>
                <a:gridCol w="2619360"/>
                <a:gridCol w="533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actitud para 25-31 kV: &lt; ± 1 kV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producibilidad &lt; ± 0.5 kV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ada seis mese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ilovoltímetro digital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4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ema 2: Medida de la salida (rendimiento del tubo) de radiación - linea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Medidas de la salida (rendimiento) de radiación (I)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960" y="1275840"/>
            <a:ext cx="85456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rendimiento del tubo se determina por la relación de dosis en la superficie de entrada (mGy) y carga en la mancha focal (m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viene un alto rendimiento para asegurar que los tiempos de exposición son lo bastante cortos como para minimizar el movimiento e incomodidad del pacient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medida puede realizarse en aire o bajo condiciones de maniqu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edidas de la salida de radiación (II)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2600" y="1341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a salida se mide generalmente en función de factores del tubo y del generador (ej., kV, mA, s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ay dos disposiciones experimentales usadas para la determinación del rendimiento en condiciones clínic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Se coloca una cámara de ionización a una distancia fija del foco del tubo de rayos X en condiciones de buena colimación del haz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La cámara de ionización debe estar equipada con un electrómetro adecuado, preferiblemente un equipo de lectura direct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1-10-12T16:57:46Z</cp:lastPrinted>
  <dcterms:modified xsi:type="dcterms:W3CDTF">2009-09-07T15:23:01Z</dcterms:modified>
  <cp:revision>102</cp:revision>
  <dc:subject>Practical on kv accuracy</dc:subject>
  <dc:title>RADIATION PROTECTION IN DIAGNOSTIC RADIOLOGY</dc:title>
</cp:coreProperties>
</file>