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A150-F586-457A-BEA5-6ADD58470C7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2240" y="11700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2240" y="11700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" name="Picture 4" descr="_x0012_slide_logo_bg2.jpg                                             00056D31_x000c_Macintosh HD                   B746CC0A: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4 Marcador de pie de página"/>
          <p:cNvSpPr/>
          <p:nvPr/>
        </p:nvSpPr>
        <p:spPr>
          <a:xfrm>
            <a:off x="2890800" y="6464160"/>
            <a:ext cx="33447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d5d7d8"/>
                </a:solidFill>
                <a:latin typeface="Arial"/>
              </a:rPr>
              <a:t>15.4: Optimización de la protección en radiografí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52720" y="654516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D483-9140-4A8A-B4CE-42D4E98C4DAE}" type="slidenum">
              <a:rPr b="0" lang="en-GB" sz="9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Picture 3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\\161.5.128.084\MTIT-Home\ALICV\My Documents\My Pictures\IAEAPresBkngd.bmp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ROTECCIÓN RADIOLÓGICA EN RADIODIAGNÓSTICO Y EN RADIOLOGÍA INTERVENCIONIST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2923920"/>
            <a:ext cx="9144000" cy="172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rte 15.4: Optimización de la protección en radiograf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jercicio práctico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erspectiva general / Objetivo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52560" y="1504800"/>
            <a:ext cx="7213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Materia objeto: control de calidad de un sistema general de radiografí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rocedimiento a seguir paso a paso para implantar el ensayo de QC considerado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inealidad y reciprocidad de mA y tiempo de exposi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xactitud del selector de tiempo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Interpretación de resultad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5.4: Optimización de la protección en radiograf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inealidad y reciprocidad de mA y tiempo de exposi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¿Cuál es el equipamiento mínimo necesario?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30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quipo electrónico (multímetro) para medir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Tiempo de exposi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mA</a:t>
            </a:r>
            <a:br>
              <a:rPr sz="2800"/>
            </a:b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Buenos protocol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xactitud del selector de tiempo (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44600" y="1504440"/>
            <a:ext cx="826920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00"/>
                </a:solidFill>
                <a:latin typeface="Arial"/>
              </a:rPr>
              <a:t>Método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proximadamente 70 kVp, 200 m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edir tiempo a todos los valores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comúnmente usados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alcular el error entre tiempo seleccionado y re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xactitud del selector de tiempo (I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30080" y="1514520"/>
            <a:ext cx="77169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tiempo se mide normalmente desde el instante en que la salida del tubo de rayos X alcanza el 75 % del máximo hasta que cae por debajo de 75 %</a:t>
            </a:r>
            <a:br>
              <a:rPr sz="3200"/>
            </a:b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sto puede crear problemas cuando la onda de exposición presenta tiempos largos de subida y caíd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2240" y="14616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xactitud del selector de tiempo (II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93400" y="1547640"/>
            <a:ext cx="8339760" cy="4182120"/>
            <a:chOff x="293400" y="1547640"/>
            <a:chExt cx="8339760" cy="4182120"/>
          </a:xfrm>
        </p:grpSpPr>
        <p:sp>
          <p:nvSpPr>
            <p:cNvPr id="107" name="Line 3"/>
            <p:cNvSpPr/>
            <p:nvPr/>
          </p:nvSpPr>
          <p:spPr>
            <a:xfrm>
              <a:off x="1828800" y="2084400"/>
              <a:ext cx="0" cy="30481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Freeform 4"/>
            <p:cNvSpPr/>
            <p:nvPr/>
          </p:nvSpPr>
          <p:spPr>
            <a:xfrm>
              <a:off x="2349360" y="2846520"/>
              <a:ext cx="4861080" cy="2338200"/>
            </a:xfrm>
            <a:prstGeom prst="pie">
              <a:avLst/>
            </a:pr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Line 5"/>
            <p:cNvSpPr/>
            <p:nvPr/>
          </p:nvSpPr>
          <p:spPr>
            <a:xfrm>
              <a:off x="1828800" y="5118120"/>
              <a:ext cx="602784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Text Box 6"/>
            <p:cNvSpPr/>
            <p:nvPr/>
          </p:nvSpPr>
          <p:spPr>
            <a:xfrm>
              <a:off x="293400" y="1547640"/>
              <a:ext cx="3059280" cy="42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i="1" lang="en-US" sz="2200" spc="-1" strike="noStrike">
                  <a:solidFill>
                    <a:srgbClr val="ffcc00"/>
                  </a:solidFill>
                  <a:latin typeface="Arial"/>
                </a:rPr>
                <a:t>Intensidad de rayos X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Text Box 7"/>
            <p:cNvSpPr/>
            <p:nvPr/>
          </p:nvSpPr>
          <p:spPr>
            <a:xfrm>
              <a:off x="7468200" y="4486320"/>
              <a:ext cx="1164960" cy="42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i="1" lang="en-US" sz="2200" spc="-1" strike="noStrike">
                  <a:solidFill>
                    <a:srgbClr val="ffcc00"/>
                  </a:solidFill>
                  <a:latin typeface="Arial"/>
                </a:rPr>
                <a:t>Tiempo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Line 8"/>
            <p:cNvSpPr/>
            <p:nvPr/>
          </p:nvSpPr>
          <p:spPr>
            <a:xfrm>
              <a:off x="3319560" y="3379680"/>
              <a:ext cx="0" cy="19036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Line 9"/>
            <p:cNvSpPr/>
            <p:nvPr/>
          </p:nvSpPr>
          <p:spPr>
            <a:xfrm>
              <a:off x="6095880" y="3379680"/>
              <a:ext cx="0" cy="19036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Line 10"/>
            <p:cNvSpPr/>
            <p:nvPr/>
          </p:nvSpPr>
          <p:spPr>
            <a:xfrm>
              <a:off x="1623960" y="3533760"/>
              <a:ext cx="494676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Text Box 11"/>
            <p:cNvSpPr/>
            <p:nvPr/>
          </p:nvSpPr>
          <p:spPr>
            <a:xfrm>
              <a:off x="716040" y="3151080"/>
              <a:ext cx="2004840" cy="42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en-US" sz="2200" spc="-1" strike="noStrike">
                  <a:solidFill>
                    <a:srgbClr val="ffcc00"/>
                  </a:solidFill>
                  <a:latin typeface="Arial"/>
                </a:rPr>
                <a:t>75 % del máx.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Text Box 12"/>
            <p:cNvSpPr/>
            <p:nvPr/>
          </p:nvSpPr>
          <p:spPr>
            <a:xfrm>
              <a:off x="3369600" y="5308560"/>
              <a:ext cx="3885480" cy="42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0" lang="en-US" sz="2200" spc="-1" strike="noStrike">
                  <a:solidFill>
                    <a:srgbClr val="ffcc00"/>
                  </a:solidFill>
                  <a:latin typeface="Arial"/>
                </a:rPr>
                <a:t>Tiempo de exposición medido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xactitud del selector de tiempo (IV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3240" y="1447920"/>
            <a:ext cx="7164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Anális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tiempo real debe caer dentro del </a:t>
            </a:r>
            <a:r>
              <a:rPr b="0" lang="es-ES" sz="3200" spc="-1" strike="noStrike">
                <a:solidFill>
                  <a:srgbClr val="ffffcc"/>
                </a:solidFill>
                <a:latin typeface="Symbol"/>
                <a:ea typeface="Symbol"/>
              </a:rPr>
              <a:t>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5% del tiempo seleccionado, o bien </a:t>
            </a:r>
            <a:r>
              <a:rPr b="0" lang="es-ES" sz="3200" spc="-1" strike="noStrike">
                <a:solidFill>
                  <a:srgbClr val="ffffcc"/>
                </a:solidFill>
                <a:latin typeface="Symbol"/>
                <a:ea typeface="Symbol"/>
              </a:rPr>
              <a:t>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1 pulso (monofásicos, exposiciones corta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Frecuenc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ceptación, mantenimiento del selector de tiempo, anu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06:13Z</dcterms:created>
  <dc:creator>IAEA</dc:creator>
  <dc:description>IAEA Training Material on Radiation Protection in Diagnostic and Interventional Radiology</dc:description>
  <dc:language>en-US</dc:language>
  <cp:lastModifiedBy>BRITTINGER, Maria Theresa</cp:lastModifiedBy>
  <dcterms:modified xsi:type="dcterms:W3CDTF">2009-09-04T08:29:23Z</dcterms:modified>
  <cp:revision>63</cp:revision>
  <dc:subject>Practical on timer accuracy</dc:subject>
  <dc:title> RADIATION PROTECTION IN DIAGNOSTIC RADIOLOGY </dc:title>
</cp:coreProperties>
</file>