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C4B0-47FD-4523-9BAD-E202646F211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2240" y="12708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2240" y="12708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" name="Picture 4" descr="_x0012_slide_logo_bg2.jpg                                             00056D31_x000c_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4 Marcador de pie de página"/>
          <p:cNvSpPr/>
          <p:nvPr/>
        </p:nvSpPr>
        <p:spPr>
          <a:xfrm>
            <a:off x="2890800" y="6464160"/>
            <a:ext cx="3348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d5d7d8"/>
                </a:solidFill>
                <a:latin typeface="Arial"/>
              </a:rPr>
              <a:t>15.7: Optimización de la protección en radiografí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400240" y="654048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10F7-4767-45E8-9E6B-CB0E664E3C25}" type="slidenum">
              <a:rPr b="0" lang="en-GB" sz="9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Picture 3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\\161.5.128.084\MTIT-Home\ALICV\My Documents\My Pictures\IAEAPresBkngd.bmp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PROTECCIÓN RADIOLÓGICA EN RADIODIAGNÓSTICO Y EN RADIOLOGÍA INTERVENCIONISTA</a:t>
            </a: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te 15.7: Optimización de la protección en radiograf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jercicio práctico – procesador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QC de la procesadora de película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1150920" y="1409760"/>
          <a:ext cx="68565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409760"/>
                    <a:ext cx="6856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QC de la procesadora de película – cuidados químicos de la procesadora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os reactivos químicos deben sustituirse o rellenarse (sustitución automática continua) periódicamen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Usar las recomendaciones del fabrican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mprobar la temperatura del revelador diariamente – el procesado es muy sensible a la temperatur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Sensitometr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0840" y="1362240"/>
            <a:ext cx="8164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 requieren densitómetro y densitómetr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encial para mantener bajo control el procesa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 realizar diariamen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rincipales parámetros investiga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base + vel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veloci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ntras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QC de la procesadora de película – artefacto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ualquier cosa en la película no relacionada con la imagen de rayos 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Marcas de polvo, descarga estátic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Manchas de fijador (lavado pobre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roblemas de almacenamiento de la películ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roblemas de procesadora (marcas de rodillos, arañazo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QC de la procesadora de película – limpieza de la procesadora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32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odas las procesadoras acaban finalmente suci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l menos cada seis meses, destaparla y limpiarla a fon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impiar diariamente las bandejas de entra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ónde conseguir más informa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te 13.8 “Optimización de la protección en mamografía”. Ejercicio práct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erspectiva general / Objetiv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476360"/>
            <a:ext cx="776592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ateria objeto: control de calidad de la procesado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rocedimiento a seguir paso a paso para implantar el test de QC considera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lmacenamiento de la película, chasis y pantalla, sensitometr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Interpretación de los resulta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5.7: Optimización de la protección en radi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1: evaluación de la procesadora (almacenamiento de la película, chasis y pantalla, sensitometrí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¿Cuál es el equipamiento mínimo necesario?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5280" y="1523880"/>
            <a:ext cx="7383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rmómetr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nsitómetr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ensitómetr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Higrómetr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oluciones de limpieza del fabrican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uz ultravioleta (“luz negra”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QC de la procesadora de películ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3120" y="1476360"/>
            <a:ext cx="7907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Características de QC más importantes</a:t>
            </a:r>
            <a:br>
              <a:rPr sz="28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lmacenamiento adecuado de la películ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uidados de chasis y pantall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tención ala química de la procesador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ensitometrí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rtefacto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impieza de la procesador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QC de la procesadora de películ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282600" y="2082960"/>
          <a:ext cx="8593200" cy="25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2082960"/>
                    <a:ext cx="8593200" cy="25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960" y="79200"/>
            <a:ext cx="8553600" cy="1019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QC de la procesadora de película – almacenamiento de la película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9200" y="141912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película debe almacenarse en condiciones de ambiente frío y seco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&lt; 26° C, 30-60% de humedad relativ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humedad muy baja favorece las descargas estátic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l periodo de almacenamiento no debe alargarse demasia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pilar las cajas de película verticalmente para evitar presión sobre las películas (que causa marcas de presión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QC de la procesadora de película – cuidados de chasis y pantalla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6840" y="1523520"/>
            <a:ext cx="7212240" cy="39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impiar las pantallas periódicamente para evitar marcas de polvo y arañaz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Usar las soluciones de limpieza recomendadas por el fabrican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polvo puede verse con una lámpara ultravioleta de “luz negra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QC de la procesadora de película – cuidados químicos de la procesadora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2680" y="1533600"/>
            <a:ext cx="82011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eactivos químicos (revelador y fijador) se degradan con el tiempo y con el u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 particular, el revelador se oxidará (se vuelve de color pardo) y produce películas sucias y pob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fijador cambiará de pH y perderá el endurecedor de la emuls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09:42:16Z</dcterms:created>
  <dc:creator>IAEA</dc:creator>
  <dc:description>IAEA Training Material on Radiation Protection in Diagnostic and Interventional Radiology</dc:description>
  <dc:language>en-US</dc:language>
  <cp:lastModifiedBy>BRITTINGER, Maria Theresa</cp:lastModifiedBy>
  <dcterms:modified xsi:type="dcterms:W3CDTF">2009-09-04T09:11:10Z</dcterms:modified>
  <cp:revision>31</cp:revision>
  <dc:subject>Practical on Processor</dc:subject>
  <dc:title> RADIATION PROTECTION IN DIAGNOSTIC RADIOLOGY </dc:title>
</cp:coreProperties>
</file>