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60E1-C67D-4674-9C3D-1303BB4A79A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e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e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planation or/and additional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s for the lecturer/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e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e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2240" y="127080"/>
            <a:ext cx="85345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82240" y="127080"/>
            <a:ext cx="85345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pc26995\Projects\ICS\ICS.VB6\ICSUI\Graphics\IAEAlogo_Black.wmf"/>
          <p:cNvPicPr/>
          <p:nvPr/>
        </p:nvPicPr>
        <p:blipFill>
          <a:blip r:embed="rId2"/>
          <a:stretch/>
        </p:blipFill>
        <p:spPr>
          <a:xfrm>
            <a:off x="304920" y="6110280"/>
            <a:ext cx="685800" cy="596880"/>
          </a:xfrm>
          <a:prstGeom prst="rect">
            <a:avLst/>
          </a:prstGeom>
          <a:ln w="0">
            <a:noFill/>
          </a:ln>
        </p:spPr>
      </p:pic>
      <p:sp>
        <p:nvSpPr>
          <p:cNvPr id="1" name="Text Box 3"/>
          <p:cNvSpPr/>
          <p:nvPr/>
        </p:nvSpPr>
        <p:spPr>
          <a:xfrm>
            <a:off x="990720" y="620244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" name="Picture 4" descr="_x0012_slide_logo_bg2.jpg                                             00056D31_x000c_Macintosh HD                   B746CC0A: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4 Marcador de pie de página"/>
          <p:cNvSpPr/>
          <p:nvPr/>
        </p:nvSpPr>
        <p:spPr>
          <a:xfrm>
            <a:off x="2727360" y="6473880"/>
            <a:ext cx="36799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d5d7d8"/>
                </a:solidFill>
                <a:latin typeface="Arial"/>
              </a:rPr>
              <a:t>19.3 : Optimización de la protección en mamografía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377920" y="654516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8B22-745D-4B43-82AA-2749F48C15C9}" type="slidenum">
              <a:rPr b="0" lang="en-GB" sz="9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050"/>
          <p:cNvSpPr/>
          <p:nvPr/>
        </p:nvSpPr>
        <p:spPr>
          <a:xfrm>
            <a:off x="3505320" y="6019920"/>
            <a:ext cx="22096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International Atomic Energy Agency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4" name="Picture 2051" descr="\\pc26995\Projects\ICS\ICS.VB6\ICSUI\Graphics\IAEAlogo_Black.wmf"/>
          <p:cNvPicPr/>
          <p:nvPr/>
        </p:nvPicPr>
        <p:blipFill>
          <a:blip r:embed="rId2"/>
          <a:stretch/>
        </p:blipFill>
        <p:spPr>
          <a:xfrm>
            <a:off x="4114800" y="5105520"/>
            <a:ext cx="1050840" cy="914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052" descr="\\161.5.128.084\MTIT-Home\ALICV\My Documents\My Pictures\IAEAPresBkngd.bmp"/>
          <p:cNvPicPr/>
          <p:nvPr/>
        </p:nvPicPr>
        <p:blipFill>
          <a:blip r:embed="rId3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PROTECCIÓN RADIOLÓGICA EN RADIODIAGNÓSTICO Y EN RADIOLOGÍA INTERVENCIONISTA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30258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arte 19.3: Optimización de la protección en mamografí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jercicio práctico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457200" y="304920"/>
            <a:ext cx="834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Calibración de la salida </a:t>
            </a: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(III)</a:t>
            </a:r>
            <a:br>
              <a:rPr sz="3600"/>
            </a:br>
            <a:r>
              <a:rPr b="1" lang="es-ES" sz="3200" spc="-1" strike="noStrike">
                <a:solidFill>
                  <a:srgbClr val="ffcc00"/>
                </a:solidFill>
                <a:latin typeface="Arial"/>
              </a:rPr>
              <a:t>(método de test – medidas en pacientes)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2600" y="1523520"/>
            <a:ext cx="8593200" cy="33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eleccionar 10 pacientes con espesor de mama comprimida en el margen de 4 a 6 c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ara una misma proyección en cada paciente, </a:t>
            </a:r>
            <a:r>
              <a:rPr b="1" lang="es-ES" sz="3200" spc="-1" strike="noStrike">
                <a:solidFill>
                  <a:srgbClr val="ffcc00"/>
                </a:solidFill>
                <a:latin typeface="Arial"/>
              </a:rPr>
              <a:t>registrar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 los mAs tras cada exposición o el valor seleccionado, en unidades de control manual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Calibración de la salida </a:t>
            </a: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(IV) </a:t>
            </a:r>
            <a:br>
              <a:rPr sz="3600"/>
            </a:br>
            <a:r>
              <a:rPr b="1" lang="es-ES" sz="3200" spc="-1" strike="noStrike">
                <a:solidFill>
                  <a:srgbClr val="ffcc00"/>
                </a:solidFill>
                <a:latin typeface="Arial"/>
              </a:rPr>
              <a:t>(método del test – medidas de salida)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34880" y="1400040"/>
            <a:ext cx="8298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Colocar el dosímetro en el punto de referencia (45 mm por encima de la mesa del chasis, a 60 mm del lado de la pared del tórax y centrado lateralmente). La placa de compresión debe estar colocad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Seleccionar modo de exposición manual (los mismos kV, ánodo, filtración etc..) tal y como se use clínicament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c00"/>
                </a:solidFill>
                <a:latin typeface="Arial"/>
              </a:rPr>
              <a:t>Registrar 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las lecturas de kerma-aire por</a:t>
            </a:r>
            <a:r>
              <a:rPr b="1" lang="es-E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mAs para las cargas del tubo que cubran el margen de valores registrados en los pacient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Cálculos (I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11040" y="136224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alcular el valor medio de carga del tubo para los 10 pacient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Deducir el rendimiento de salida, esto es, el kerma-aire/m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alcular el valor medio de ESAK que corresponde al valor medio de la carga del tub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alcular la ESD media multiplicando la ESAK media por el factor de retrodispersión apropiado si se conoce la HV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Cálculos (II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999360" y="4572000"/>
            <a:ext cx="679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Factor de retrodispersión en función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de la HVL (Jansen et al. 1994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684720" y="1600200"/>
            <a:ext cx="80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Si no hay información sobre la HVL, aplicar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un factor de retrodispersión BF = 1.09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65200" y="2905200"/>
          <a:ext cx="7924680" cy="1461960"/>
        </p:xfrm>
        <a:graphic>
          <a:graphicData uri="http://schemas.openxmlformats.org/drawingml/2006/table">
            <a:tbl>
              <a:tblPr/>
              <a:tblGrid>
                <a:gridCol w="984240"/>
                <a:gridCol w="772920"/>
                <a:gridCol w="725760"/>
                <a:gridCol w="753840"/>
                <a:gridCol w="770040"/>
                <a:gridCol w="711360"/>
                <a:gridCol w="739440"/>
                <a:gridCol w="812880"/>
                <a:gridCol w="871560"/>
                <a:gridCol w="782640"/>
              </a:tblGrid>
              <a:tr h="79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HVL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mm Al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2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3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3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4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4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5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5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6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6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BF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.0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.0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.0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.0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.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.1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.1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.1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.1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Evaluación de resultado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omparar el valor medio de ESAK con el valor de referencia de 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10 mG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i el valor medio de ESAK excede de 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10 mGy por proyección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, disponer ensayos de investigación y acciones correctoras a emprender por la persona apropiada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19.3 : Optimización de la protección en mamografí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ema 2: Dosis en la superficie de entrada (medidas con maniquí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457200" y="304920"/>
            <a:ext cx="834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Dosis en la superficie de entrada </a:t>
            </a:r>
            <a:r>
              <a:rPr b="1" lang="es-ES" sz="3200" spc="-1" strike="noStrike">
                <a:solidFill>
                  <a:srgbClr val="ffcc00"/>
                </a:solidFill>
                <a:latin typeface="Arial"/>
              </a:rPr>
              <a:t>(medidas con maniquí)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ste método es una alternativa al de colocar TLDs en pacientes donde esta opción no se considera viable debido a interferencia con la exploración del pacien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e adapta a instalaciones donde no son accesibles recursos de dosimetría local no experienci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Equipamiento para las pruebas </a:t>
            </a:r>
            <a:r>
              <a:rPr b="1" lang="es-ES" sz="3200" spc="-1" strike="noStrike">
                <a:solidFill>
                  <a:srgbClr val="ffcc00"/>
                </a:solidFill>
                <a:latin typeface="Arial"/>
              </a:rPr>
              <a:t>(suministrado por un laboratorio central)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6240" y="1400040"/>
            <a:ext cx="8011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LDs: calibrados en términos de kerma-aire en aire libre a una HVL lo más cerca posible de 0.4 mm 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Maniquí estándar: PMMA (espesor de 45 </a:t>
            </a:r>
            <a:r>
              <a:rPr b="0" lang="es-ES" sz="3200" spc="-1" strike="noStrike">
                <a:solidFill>
                  <a:srgbClr val="ffffcc"/>
                </a:solidFill>
                <a:latin typeface="Symbol"/>
                <a:ea typeface="Symbol"/>
              </a:rPr>
              <a:t>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 0.5 mm, 150 x 240 mm</a:t>
            </a:r>
            <a:r>
              <a:rPr b="0" lang="es-ES" sz="32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ira de película revelada con densidades ópticas marcadas (con valore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uestionario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Método del test (1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6360" y="1428840"/>
            <a:ext cx="8393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Disponer el equipo de rayos X para una proyección cráneo-caudal con la placa de compresión presente y un chasis cargado en el buc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olocar el maniquí en la mesa de la mama, asegurarse de que cubre por completo el dispositivo de AEC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olocar el TLD en el punto de referenci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Método del test (2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0120" y="127620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xponer el maniquí a iguales condiciones a las usadas clínicamente para una mama de tamaño estánda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rocesar la película del modo habitu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Verificar que la densidad de la película (base + velo incluidos) en el punto de referencia está en el intervalo 1.2 a 1.8 OD (comparación visual con la tira de película suministrada por el laboratorio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erspectiva general / Objetivo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280" y="1523520"/>
            <a:ext cx="8031240" cy="35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oder aplicar un protocolo de control de calidad al equipamiento de mamografí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Medir la dosis en la superficie de entrada de la mama y la dosis glandular promedi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Interpretación de resultad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Método del test (3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6880" y="1304640"/>
            <a:ext cx="82692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ustituir el TLD por otro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i la OD de la película está dentro del margen 1.2 a 1.8 hacer una segunda exposición del maniquí buscando una OD de 1.5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Finalmente procesar una película fresca y no expuest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stimar la OD de la película de fondo por comparación visual con la tira de tes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Método del test (4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ompletar el cuestionario suministrado por el laboratorio centr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Devolver las bolsitas con los TLDs junto con las tres películas y el cuestionario al laboratorio emisor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omparar el valor de ESAK suministrado por el laboratorio al valor de límite de 11 mGy que corresponde a una OD neta de 1.0 (para valores diferentes de OD, ver tabla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160" y="36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Valores límite de ESAK en función de la densidad óptica net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95320" y="1397160"/>
          <a:ext cx="7524720" cy="4706640"/>
        </p:xfrm>
        <a:graphic>
          <a:graphicData uri="http://schemas.openxmlformats.org/drawingml/2006/table">
            <a:tbl>
              <a:tblPr/>
              <a:tblGrid>
                <a:gridCol w="3762360"/>
                <a:gridCol w="376236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Densidad neta en pelicula (OD)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Valor límite de ESAK (mGy)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.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.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.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.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Calibración de la salida </a:t>
            </a:r>
            <a:r>
              <a:rPr b="1" lang="es-ES" sz="3200" spc="-1" strike="noStrike">
                <a:solidFill>
                  <a:srgbClr val="ffcc00"/>
                </a:solidFill>
                <a:latin typeface="Arial"/>
              </a:rPr>
              <a:t>(Propósito)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Este método de determinar la ESAK con maniquí estándar da información sobre cumplimiento del ajuste técnico del equipo mamográfico con las directrices sobre dosis de radiació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Es adecuado para unidades de rayos X que tienen un sistema AEC y presentación post-exposición o para las que solo poseen control manual de exposición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Calibración de la salida </a:t>
            </a:r>
            <a:r>
              <a:rPr b="1" lang="es-ES" sz="3200" spc="-1" strike="noStrike">
                <a:solidFill>
                  <a:srgbClr val="ffcc00"/>
                </a:solidFill>
                <a:latin typeface="Arial"/>
              </a:rPr>
              <a:t>(equipamiento para el test)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82600" y="134136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Un dosímetro con rango dinámico desde al menos 0.5 to 100 mGy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exactitud &gt; ± 10%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Precisión &gt; ± 5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El dosímetro debe estar calibrado en términos de kerma-aire en aire libre a una HVL lo más cerca posible de 0.4 mm 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Maniquí estándar: PMMA (espesor de 45 </a:t>
            </a:r>
            <a:r>
              <a:rPr b="0" lang="es-ES" sz="2800" spc="-1" strike="noStrike">
                <a:solidFill>
                  <a:srgbClr val="ffffcc"/>
                </a:solidFill>
                <a:latin typeface="Symbol"/>
                <a:ea typeface="Symbol"/>
              </a:rPr>
              <a:t>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0.5 mm, 150 </a:t>
            </a:r>
            <a:r>
              <a:rPr b="0" lang="es-ES" sz="2800" spc="-1" strike="noStrike">
                <a:solidFill>
                  <a:srgbClr val="ffffcc"/>
                </a:solidFill>
                <a:latin typeface="Wingdings 2"/>
                <a:ea typeface="Wingdings 2"/>
              </a:rPr>
              <a:t>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240 mm</a:t>
            </a:r>
            <a:r>
              <a:rPr b="0" lang="es-ES" sz="28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Un densitómetro (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</a:rPr>
              <a:t>resolución de 0.01 unidades de densidad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Método de test (determinación de la carga del tubo (1)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82600" y="13780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Ajustar el equipo de rayos X para una proyección cráneo-caudal con la placa de compresión presente y un chasis cargado en el buc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olocar el maniquí en la mesa de la mama, asegurarse de que cubre por completo el dispositivo de AEC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xponer el maniquí a los parámetros usados clínicamente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Método de test (determinación de la carga del tubo (2)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Registrar la carga del tub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rocesar la película del modo norm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Medir la OD y verificar que la densidad de la película se sitúa en el rango 1.2 a 1.8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i es necesario, ajustar la densidad del AEC para conseguir una densidad óptica adecuada y repetir el procedimiento antes descrit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Método de test (medida de la output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Retirar el maniquí y situar el dosímetro en el punto de referencia. La placa de compresión debe estar colocad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eleccionar modo manual de exposición y la carga del tubo determinada previamen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Registrar la lectura del dosímetro. Si no es posible seleccionar el valor exacto de carga del tubo, hacer dos exposiciones por encima y por debajo de ese valo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Cálculo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Aplicar el factor de calibración apropiado a la lectura del dosímetr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Interpolar los resultados si hubiera sido necesario hacer los dos disparos a ambos lados del valor exact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xpresar el resultado como ESAK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Evaluación de resultado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2600" y="131616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omparar el valor de ESAK suministrado por el laboratorio al valor de límite de 11 mGy que corresponde a una OD neta de 1.0 (para valores diferentes de OD, ver tabla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i el valor medio de ESAK excede de 10 mGy por proyección, disponer los ensayos de investigación y acciones correctoras a emprender por la persona apropiada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19.3: Optimización de la protección en mamografí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ema 1: Dosis en la superficie de entrada (medidas en paciente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457200" y="304920"/>
            <a:ext cx="834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Dosis en la superficie de entrad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590400" y="1397160"/>
          <a:ext cx="8058240" cy="3668400"/>
        </p:xfrm>
        <a:graphic>
          <a:graphicData uri="http://schemas.openxmlformats.org/drawingml/2006/table">
            <a:tbl>
              <a:tblPr/>
              <a:tblGrid>
                <a:gridCol w="2667240"/>
                <a:gridCol w="5391000"/>
              </a:tblGrid>
              <a:tr h="165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Valor límit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</a:rPr>
                        <a:t>&lt;</a:t>
                      </a:r>
                      <a:r>
                        <a:rPr b="1" lang="en-GB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10 mGy para 40 mm de PMMA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</a:rPr>
                        <a:t>&lt;</a:t>
                      </a:r>
                      <a:r>
                        <a:rPr b="1" lang="en-GB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12 mGy para 45 mm de PMMA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</a:rPr>
                        <a:t>&lt;</a:t>
                      </a:r>
                      <a:r>
                        <a:rPr b="1" lang="en-GB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20 mGy para 50 mm de PMMA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Frecuencia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nual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27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quipamiento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Dosímetro, bloque de PMMA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50</a:t>
                      </a:r>
                      <a:r>
                        <a:rPr b="1" lang="es-ES" sz="2400" spc="-1" strike="noStrike">
                          <a:solidFill>
                            <a:srgbClr val="eaeaea"/>
                          </a:solidFill>
                          <a:latin typeface="Wingdings 2"/>
                          <a:ea typeface="Wingdings 2"/>
                        </a:rPr>
                        <a:t></a:t>
                      </a:r>
                      <a:r>
                        <a:rPr b="1" lang="es-E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40 mm</a:t>
                      </a:r>
                      <a:r>
                        <a:rPr b="1" lang="es-ES" sz="2400" spc="-1" strike="noStrike" baseline="30000">
                          <a:solidFill>
                            <a:srgbClr val="eaeaea"/>
                          </a:solidFill>
                          <a:latin typeface="Arial"/>
                        </a:rPr>
                        <a:t>2</a:t>
                      </a:r>
                      <a:r>
                        <a:rPr b="1" lang="es-E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, densitómetro</a:t>
                      </a:r>
                      <a:r>
                        <a:rPr b="1" lang="es-E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19.3: Optimización de la protección en mamografí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ema 3: Dosis glandular promedi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457200" y="304920"/>
            <a:ext cx="834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Determinación de la dosis glandular promedio (AGD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82600" y="1523520"/>
            <a:ext cx="8593200" cy="32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 AGD </a:t>
            </a:r>
            <a:r>
              <a:rPr b="1" lang="es-ES" sz="3200" spc="-1" strike="noStrike">
                <a:solidFill>
                  <a:srgbClr val="ffcc00"/>
                </a:solidFill>
                <a:latin typeface="Arial"/>
              </a:rPr>
              <a:t>no puede medirse directamente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, pero se deduce de medidas de la HVL y de la ESAK (con un maniquí estándar) usando factores de conversión tabulados deducidos de cálculos de Monte Carlo y verificados experimentalmen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Dosis glandular promedio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560520" y="3521160"/>
            <a:ext cx="8232120" cy="24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cc"/>
                </a:solidFill>
                <a:latin typeface="Arial"/>
              </a:rPr>
              <a:t>Tabla 1</a:t>
            </a:r>
            <a:r>
              <a:rPr b="0" lang="es-AR" sz="2800" spc="-1" strike="noStrike">
                <a:solidFill>
                  <a:srgbClr val="ffffcc"/>
                </a:solidFill>
                <a:latin typeface="Arial"/>
              </a:rPr>
              <a:t>: Factores de conversión g</a:t>
            </a:r>
            <a:r>
              <a:rPr b="0" lang="es-AR" sz="2800" spc="-1" strike="noStrike" baseline="-25000">
                <a:solidFill>
                  <a:srgbClr val="ffffcc"/>
                </a:solidFill>
                <a:latin typeface="Arial"/>
              </a:rPr>
              <a:t>PB</a:t>
            </a:r>
            <a:r>
              <a:rPr b="0" lang="es-AR" sz="2800" spc="-1" strike="noStrike">
                <a:solidFill>
                  <a:srgbClr val="ffffcc"/>
                </a:solidFill>
                <a:latin typeface="Arial"/>
              </a:rPr>
              <a:t> para calcula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cc"/>
                </a:solidFill>
                <a:latin typeface="Arial"/>
              </a:rPr>
              <a:t>la AGD para una «mama estándar D</a:t>
            </a:r>
            <a:r>
              <a:rPr b="0" lang="es-AR" sz="2800" spc="-1" strike="noStrike" baseline="-25000">
                <a:solidFill>
                  <a:srgbClr val="ffffcc"/>
                </a:solidFill>
                <a:latin typeface="Arial"/>
              </a:rPr>
              <a:t>GS</a:t>
            </a:r>
            <a:r>
              <a:rPr b="0" lang="es-AR" sz="2800" spc="-1" strike="noStrike">
                <a:solidFill>
                  <a:srgbClr val="ffffcc"/>
                </a:solidFill>
                <a:latin typeface="Arial"/>
              </a:rPr>
              <a:t>» de 50 mm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cc"/>
                </a:solidFill>
                <a:latin typeface="Arial"/>
              </a:rPr>
              <a:t>a partir de la ESAK (K</a:t>
            </a:r>
            <a:r>
              <a:rPr b="0" lang="es-AR" sz="2800" spc="-1" strike="noStrike" baseline="-25000">
                <a:solidFill>
                  <a:srgbClr val="ffffcc"/>
                </a:solidFill>
                <a:latin typeface="Arial"/>
              </a:rPr>
              <a:t>a</a:t>
            </a:r>
            <a:r>
              <a:rPr b="0" lang="es-AR" sz="2800" spc="-1" strike="noStrike">
                <a:solidFill>
                  <a:srgbClr val="ffffcc"/>
                </a:solidFill>
                <a:latin typeface="Arial"/>
              </a:rPr>
              <a:t>) medida a una carga del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cc"/>
                </a:solidFill>
                <a:latin typeface="Arial"/>
              </a:rPr>
              <a:t>tubo como para un maniquí estándar de 45 mm 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cc"/>
                </a:solidFill>
                <a:latin typeface="Arial"/>
              </a:rPr>
              <a:t>PMMA (Dance 1990)</a:t>
            </a:r>
            <a:r>
              <a:rPr b="0" lang="es-AR" sz="32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07800" y="1397160"/>
          <a:ext cx="8664480" cy="2041200"/>
        </p:xfrm>
        <a:graphic>
          <a:graphicData uri="http://schemas.openxmlformats.org/drawingml/2006/table">
            <a:tbl>
              <a:tblPr/>
              <a:tblGrid>
                <a:gridCol w="985680"/>
                <a:gridCol w="828720"/>
                <a:gridCol w="827280"/>
                <a:gridCol w="884160"/>
                <a:gridCol w="857160"/>
                <a:gridCol w="826920"/>
                <a:gridCol w="855720"/>
                <a:gridCol w="857520"/>
                <a:gridCol w="855360"/>
                <a:gridCol w="885960"/>
              </a:tblGrid>
              <a:tr h="86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HVL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mm Al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2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3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3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4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4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5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5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6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6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17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g</a:t>
                      </a:r>
                      <a:r>
                        <a:rPr b="1" lang="fr-FR" sz="2000" spc="-1" strike="noStrike" baseline="-25000">
                          <a:solidFill>
                            <a:srgbClr val="ffcc00"/>
                          </a:solidFill>
                          <a:latin typeface="Arial"/>
                        </a:rPr>
                        <a:t>PB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(mGy/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mGy)</a:t>
                      </a:r>
                      <a:r>
                        <a:rPr b="1" lang="en-GB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14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17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20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22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24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27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30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32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34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Valores límite para la AGD en función de la densidad óptica net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Text Box 1028"/>
          <p:cNvSpPr/>
          <p:nvPr/>
        </p:nvSpPr>
        <p:spPr>
          <a:xfrm>
            <a:off x="3734280" y="581040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cc"/>
                </a:solidFill>
                <a:latin typeface="Arial"/>
              </a:rPr>
              <a:t>Tabla 2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704880" y="1397160"/>
          <a:ext cx="7677000" cy="4429080"/>
        </p:xfrm>
        <a:graphic>
          <a:graphicData uri="http://schemas.openxmlformats.org/drawingml/2006/table">
            <a:tbl>
              <a:tblPr/>
              <a:tblGrid>
                <a:gridCol w="4172040"/>
                <a:gridCol w="350496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Densida neta en pel</a:t>
                      </a:r>
                      <a:r>
                        <a:rPr b="1" lang="en-GB" sz="28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ícula (OD)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GD est</a:t>
                      </a:r>
                      <a:r>
                        <a:rPr b="1" lang="en-GB" sz="2800" spc="-1" strike="noStrike">
                          <a:solidFill>
                            <a:srgbClr val="ffcc00"/>
                          </a:solidFill>
                          <a:latin typeface="Arial"/>
                          <a:ea typeface="Arial"/>
                        </a:rPr>
                        <a:t>ándar (mGy)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.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.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.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.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.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.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.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.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.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.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Cálculo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82600" y="1341360"/>
            <a:ext cx="859320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Deducir la HVL por interpolación. Puede hacerse dibujando el logaritmo de las lecturas dosimétricas frente al correspondiente espesor de absorbente de 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Deducir, si hace falta por interpolación, el factor de conversión g</a:t>
            </a:r>
            <a:r>
              <a:rPr b="0" lang="es-ES" sz="2800" spc="-1" strike="noStrike" baseline="-25000">
                <a:solidFill>
                  <a:srgbClr val="ffffcc"/>
                </a:solidFill>
                <a:latin typeface="Arial"/>
              </a:rPr>
              <a:t>PB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para la HVL medida a partir de la tabla 1. Multiplicar la ESAK medida, k</a:t>
            </a:r>
            <a:r>
              <a:rPr b="0" lang="es-ES" sz="2800" spc="-1" strike="noStrike" baseline="-25000">
                <a:solidFill>
                  <a:srgbClr val="ffffcc"/>
                </a:solidFill>
                <a:latin typeface="Arial"/>
              </a:rPr>
              <a:t>a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, a la carga del tubo determinada para la correcta exposición de un maniquí estándar y el correspondiente g</a:t>
            </a:r>
            <a:r>
              <a:rPr b="0" lang="es-ES" sz="2800" spc="-1" strike="noStrike" baseline="-25000">
                <a:solidFill>
                  <a:srgbClr val="ffffcc"/>
                </a:solidFill>
                <a:latin typeface="Arial"/>
              </a:rPr>
              <a:t>PB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para obtener la AGD estánda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</a:rPr>
              <a:t>DGS (mama) = g</a:t>
            </a:r>
            <a:r>
              <a:rPr b="0" lang="es-ES" sz="2800" spc="-1" strike="noStrike" baseline="-25000">
                <a:solidFill>
                  <a:srgbClr val="ffcc00"/>
                </a:solidFill>
                <a:latin typeface="Arial"/>
              </a:rPr>
              <a:t>PB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cc00"/>
                </a:solidFill>
                <a:latin typeface="Wingdings 2"/>
                <a:ea typeface="Wingdings 2"/>
              </a:rPr>
              <a:t>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</a:rPr>
              <a:t> k</a:t>
            </a:r>
            <a:r>
              <a:rPr b="0" lang="es-ES" sz="2800" spc="-1" strike="noStrike" baseline="-25000">
                <a:solidFill>
                  <a:srgbClr val="ffcc00"/>
                </a:solidFill>
                <a:latin typeface="Arial"/>
              </a:rPr>
              <a:t>a</a:t>
            </a:r>
            <a:r>
              <a:rPr b="0" lang="es-E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(a carga del tubo como 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     para el maniquí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Cálculos (ejemplo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Exposición de maniquí estándar en modo AEC, a 28 kV y la combinación Mo/Mo de ánodo/filtro requerida a una carga del tubo de 94 m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A partir de la calibración de la salida se encuentra el valor de referencia de 0.080 mGy/mAs (media de los valores medidos a 90 y 100 mA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La HVL medida fue 0.32 mm Al, que dan un valor de g</a:t>
            </a:r>
            <a:r>
              <a:rPr b="0" lang="es-ES" sz="2800" spc="-1" strike="noStrike" baseline="-25000">
                <a:solidFill>
                  <a:srgbClr val="ffffcc"/>
                </a:solidFill>
                <a:latin typeface="Arial"/>
              </a:rPr>
              <a:t>PB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de 0.187 derivado por interpolación en la Tabla 1 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Cálculos (ejemplo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 AGD estándar (DGS) para tal situación e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DGS =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94 [mAs] • 0.080 [mGy/mAs] • 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0.187 [mGy/mGy]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DGS = 1.4 [mGy]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Evaluación de resultado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omparar el valor de AGD estándar con el valor límite de 2.3 mGy, deducido a partir del valor límite de ESD para una densidad neta en la película de 1.0 O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ara densidades en la película distintas, los datos de dosis han de buscarse en la tabla 2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12348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Dosis en la superficie de entrada</a:t>
            </a:r>
            <a:r>
              <a:rPr b="1" lang="es-ES" sz="3200" spc="-1" strike="noStrike">
                <a:solidFill>
                  <a:srgbClr val="fcd3c1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cc00"/>
                </a:solidFill>
                <a:latin typeface="Arial"/>
              </a:rPr>
              <a:t>(ESAK)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l kerma aire en la superficie de entrada (ESAK) en aire libre (es decir, sin retrodispersión) resulta la magnitud más frecuentemente usada para dosimetría al paciente en mamografí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 ESAK puede determinarse en condiciones de referencia, bien con exposición controlada por el AEC o en técnica manu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Dosis en la superficie de entrada</a:t>
            </a:r>
            <a:r>
              <a:rPr b="1" lang="es-ES" sz="3200" spc="-1" strike="noStrike">
                <a:solidFill>
                  <a:srgbClr val="fcd3c1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(I)  </a:t>
            </a:r>
            <a:r>
              <a:rPr b="1" lang="es-ES" sz="3200" spc="-1" strike="noStrike">
                <a:solidFill>
                  <a:srgbClr val="ffcc00"/>
                </a:solidFill>
                <a:latin typeface="Arial"/>
              </a:rPr>
              <a:t>(medidas en pacientes)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2600" y="1523520"/>
            <a:ext cx="85932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ste sencillo método de determinar la ESAK requiere dosímetros de un laboratorio central para proporcionar información de primera línea sobre el nivel de dosis de radiación impartido a paciente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stá pensado para instalaciones 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donde no hay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 experiencia o recursos locale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Dosis en la superficie de entrada</a:t>
            </a:r>
            <a:r>
              <a:rPr b="1" lang="es-ES" sz="3200" spc="-1" strike="noStrike">
                <a:solidFill>
                  <a:srgbClr val="fcd3c1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(II)  </a:t>
            </a:r>
            <a:r>
              <a:rPr b="1" lang="es-ES" sz="3200" spc="-1" strike="noStrike">
                <a:solidFill>
                  <a:srgbClr val="ffcc00"/>
                </a:solidFill>
                <a:latin typeface="Arial"/>
              </a:rPr>
              <a:t>(medidas en pacientes)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6600" y="1257480"/>
            <a:ext cx="7897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eleccionar 10 pacientes con un espesor de mama comprimida en el intervalo de 4 a 6 c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ara cada paciente y proyección, colocar un TLD calibrado en el cuadrante superior interno de la mama y radiografiar al paciente normalmente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Retirar el sobre con el TLD y mantenerlo fuera de la radi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cecff"/>
                </a:solidFill>
                <a:latin typeface="Arial"/>
              </a:rPr>
              <a:t>Dosis en la superficie de entrada</a:t>
            </a:r>
            <a:r>
              <a:rPr b="1" lang="es-ES" sz="3600" spc="-1" strike="noStrike">
                <a:solidFill>
                  <a:srgbClr val="fcd3c1"/>
                </a:solidFill>
                <a:latin typeface="Arial"/>
              </a:rPr>
              <a:t> </a:t>
            </a:r>
            <a:r>
              <a:rPr b="1" lang="es-ES" sz="4000" spc="-1" strike="noStrike">
                <a:solidFill>
                  <a:srgbClr val="ccecff"/>
                </a:solidFill>
                <a:latin typeface="Arial"/>
              </a:rPr>
              <a:t>(III)  </a:t>
            </a:r>
            <a:r>
              <a:rPr b="1" lang="es-ES" sz="3600" spc="-1" strike="noStrike">
                <a:solidFill>
                  <a:srgbClr val="ffcc00"/>
                </a:solidFill>
                <a:latin typeface="Arial"/>
              </a:rPr>
              <a:t>(medidas en pacientes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ompletar el cuestionario de dosimetría al paciente (suministrado por el laboratorio central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Una vez usados los 10 sobres, devolverlos junto con el cuestionario relleno al laboratorio de dosimetría que los emitió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omparar el valor medio de ESAK con el valor de referencia de 10 mG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Calibración de la salida (I) </a:t>
            </a:r>
            <a:r>
              <a:rPr b="1" lang="es-ES" sz="3200" spc="-1" strike="noStrike">
                <a:solidFill>
                  <a:srgbClr val="ffcc00"/>
                </a:solidFill>
                <a:latin typeface="Arial"/>
              </a:rPr>
              <a:t>(Propósito)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ste método de determinar la ESAK se basa en calibrar el rendimiento del tubo de rayos X (en lo que sigue, </a:t>
            </a:r>
            <a:r>
              <a:rPr b="1" i="1" lang="es-ES" sz="3200" spc="-1" strike="noStrike">
                <a:solidFill>
                  <a:srgbClr val="ffcc00"/>
                </a:solidFill>
                <a:latin typeface="Arial"/>
              </a:rPr>
              <a:t>salida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) junto con un registro de la carga del tubo en una serie de pacient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e adapta bien a unidades de rayos X con sistema de control AEC y presentación en consola posterior a la exposición o en unidades con control manual solamente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Calibración de la salida (II) </a:t>
            </a:r>
            <a:r>
              <a:rPr b="1" lang="es-ES" sz="3200" spc="-1" strike="noStrike">
                <a:solidFill>
                  <a:srgbClr val="ffcc00"/>
                </a:solidFill>
                <a:latin typeface="Arial"/>
              </a:rPr>
              <a:t>(equipamiento para la prueba)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eleccionar un dosímetro con rango dinámico desde al menos 0.5 a 100 mGy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Exactitud &gt; ± 10%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Precisión &gt; ± 5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alibrar el dosímetro en términos de kerma-aire en airea una HVL lo más próxima posible a 0.4mm de 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Usar la indicación post-exposición de la carga del tubo (mA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3T14:06:13Z</dcterms:created>
  <dc:creator>IAEA</dc:creator>
  <dc:description>IAEA Training Material on Radiation Protection in Diagnostic and Interventional Radiology</dc:description>
  <dc:language>en-US</dc:language>
  <cp:lastModifiedBy>BRITTINGER, Maria Theresa</cp:lastModifiedBy>
  <cp:lastPrinted>2001-10-12T16:57:46Z</cp:lastPrinted>
  <dcterms:modified xsi:type="dcterms:W3CDTF">2009-09-07T15:11:07Z</dcterms:modified>
  <cp:revision>146</cp:revision>
  <dc:subject>Practical on dose</dc:subject>
  <dc:title>RADIATION PROTECTION IN DIAGNOSTIC RADIOLOGY</dc:title>
</cp:coreProperties>
</file>