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D5F9-78DE-4DDB-9524-0F79456B87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2708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12708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Picture 4" descr="_x0012_slide_logo_bg2.jpg    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4 Marcador de pie de página"/>
          <p:cNvSpPr/>
          <p:nvPr/>
        </p:nvSpPr>
        <p:spPr>
          <a:xfrm>
            <a:off x="2909880" y="6521400"/>
            <a:ext cx="331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5d7d8"/>
                </a:solidFill>
                <a:latin typeface="Arial"/>
              </a:rPr>
              <a:t>19.10: Optimización de la protección en mamografí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63880" y="654192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F07D-B0C6-47D5-BAB6-53ADD184FBBE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\\161.5.128.084\MTIT-Home\ALICV\My Documents\My Pictures\IAEAPresBkngd.bmp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r>
              <a:rPr b="1" lang="es-ES" sz="3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025440"/>
            <a:ext cx="9144000" cy="151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te 19.10: Optimización de la protección en mam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rcicio prác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(AEC) – compensación por espesor del objet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compensación por espesor del objeto se mide mediante exposición de placas de PMMA en el margen de espesores entre 20 y 40 mm, usando los ajustes clínicos para el AE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Valor límite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Todas las variaciones de OD deben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star dentro del intervalo de ± 0.20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OD, con respecto a la OD diana,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deseable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: ± 0.15 O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Frecuencia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man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(AEC) – compensación por voltaje del tub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compensación por voltaje del tubo se mide sobre el intervalo clínico de kV, filtros y materiales de blanco usad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Valor límite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Todas las variaciones de OD deben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star dentro del rango ± 0.15 OD,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 respecto a la OD dian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Deseable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: ± 0.10 O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Frecuencia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mest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erspectiva general / Objetiv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oder aplicar un protocolo de control de calidad al equipamiento de mam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edir el funcionamiento del AEC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lector de control de la densidad óptic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eproducibilidad a corto plaz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eproducibilidad a largo plaz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mpensación por espesor del objet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mpensación por voltaje del tub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9.10: Optimización de la protección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EC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Control Automático de Exposición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Sistema  AEC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2600" y="1324080"/>
            <a:ext cx="85932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 comportamiento del sistema de control automático de exposición (AEC) puede describirse por la reproducibilidad y exactitud del control de densidad óptica bajo condiciones variables, como diferentes espesores del objeto y voltajes del tubo</a:t>
            </a:r>
            <a:br>
              <a:rPr sz="2800"/>
            </a:b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Un requisito previo esencial para estas medidas es una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procesadora de película con operación estable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y usar un chasis de referenc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¿Cuál es el equipamiento mínimo necesario?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0080" y="1523520"/>
            <a:ext cx="7678800" cy="26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MMA: placas de 20 </a:t>
            </a:r>
            <a:r>
              <a:rPr b="0" lang="es-ES" sz="3200" spc="-1" strike="noStrike">
                <a:solidFill>
                  <a:srgbClr val="ffffcc"/>
                </a:solidFill>
                <a:latin typeface="Wingdings 2"/>
                <a:ea typeface="Wingdings 2"/>
              </a:rPr>
              <a:t>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300 </a:t>
            </a:r>
            <a:r>
              <a:rPr b="0" lang="es-ES" sz="3200" spc="-1" strike="noStrike">
                <a:solidFill>
                  <a:srgbClr val="ffffcc"/>
                </a:solidFill>
                <a:latin typeface="Wingdings 2"/>
                <a:ea typeface="Wingdings 2"/>
              </a:rPr>
              <a:t>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300 m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ensitóme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hasis de referenc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osíme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Ajuste del control de densidad óptica (OD): valor central y diferencia por pas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9920" y="1523520"/>
            <a:ext cx="8078760" cy="37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ducir exposiciones con material de maniquí equivalente a mama en posiciones variables del selector de control de densidad óptic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ebe establecerse un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valor diana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para la densidad óptica media, de acuerdo con la preferencia loc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Ajuste del control de OD: valor central y diferencia por pas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" y="146700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720" indent="0" algn="just">
              <a:lnSpc>
                <a:spcPct val="40000"/>
              </a:lnSpc>
              <a:buNone/>
              <a:tabLst>
                <a:tab algn="l" pos="2279520"/>
                <a:tab algn="l" pos="5816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88720" indent="0">
              <a:lnSpc>
                <a:spcPct val="90000"/>
              </a:lnSpc>
              <a:buNone/>
              <a:tabLst>
                <a:tab algn="l" pos="0"/>
                <a:tab algn="l" pos="2279520"/>
                <a:tab algn="l" pos="5816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Valor límite:</a:t>
            </a:r>
            <a:r>
              <a:rPr b="0" i="1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a OD (base + velo incluido) en el punto de 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ferencia debe mantenerse dentro de ±  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0.20 OD alrededor del valor dian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720" indent="0">
              <a:lnSpc>
                <a:spcPct val="90000"/>
              </a:lnSpc>
              <a:buNone/>
              <a:tabLst>
                <a:tab algn="l" pos="0"/>
                <a:tab algn="l" pos="2279520"/>
                <a:tab algn="l" pos="5816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l valor diana está típicamente en el rango: 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1.3 - 1.8 OD (base + velo incluido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720" indent="0">
              <a:lnSpc>
                <a:spcPct val="40000"/>
              </a:lnSpc>
              <a:buNone/>
              <a:tabLst>
                <a:tab algn="l" pos="0"/>
                <a:tab algn="l" pos="2279520"/>
                <a:tab algn="l" pos="5816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720" indent="0">
              <a:lnSpc>
                <a:spcPct val="90000"/>
              </a:lnSpc>
              <a:buNone/>
              <a:tabLst>
                <a:tab algn="l" pos="0"/>
                <a:tab algn="l" pos="2279520"/>
                <a:tab algn="l" pos="5816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a cantidad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deseable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ara el tamaño menor 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e salto de control de la densidad óptica es 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0.10 OD ;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0.20 OD por paso es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acepta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720" indent="0">
              <a:lnSpc>
                <a:spcPct val="40000"/>
              </a:lnSpc>
              <a:buNone/>
              <a:tabLst>
                <a:tab algn="l" pos="0"/>
                <a:tab algn="l" pos="2279520"/>
                <a:tab algn="l" pos="5816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720" indent="0">
              <a:lnSpc>
                <a:spcPct val="90000"/>
              </a:lnSpc>
              <a:buNone/>
              <a:tabLst>
                <a:tab algn="l" pos="0"/>
                <a:tab algn="l" pos="2279520"/>
                <a:tab algn="l" pos="5816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tervalo ajustable &gt; 1.0 OD</a:t>
            </a: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720" indent="0">
              <a:lnSpc>
                <a:spcPct val="30000"/>
              </a:lnSpc>
              <a:buNone/>
              <a:tabLst>
                <a:tab algn="l" pos="0"/>
                <a:tab algn="l" pos="2279520"/>
                <a:tab algn="l" pos="5816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720" indent="0">
              <a:lnSpc>
                <a:spcPct val="90000"/>
              </a:lnSpc>
              <a:buNone/>
              <a:tabLst>
                <a:tab algn="l" pos="0"/>
                <a:tab algn="l" pos="2279520"/>
                <a:tab algn="l" pos="5816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Frecuencia:</a:t>
            </a: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Tamaño de paso: semestr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720" indent="0">
              <a:lnSpc>
                <a:spcPct val="90000"/>
              </a:lnSpc>
              <a:buNone/>
              <a:tabLst>
                <a:tab algn="l" pos="0"/>
                <a:tab algn="l" pos="2279520"/>
                <a:tab algn="l" pos="5816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ensidad central o valor de mAs: diari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720" indent="0">
              <a:lnSpc>
                <a:spcPct val="40000"/>
              </a:lnSpc>
              <a:buNone/>
              <a:tabLst>
                <a:tab algn="l" pos="0"/>
                <a:tab algn="l" pos="2279520"/>
                <a:tab algn="l" pos="5816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(AEC) – reproducibilidad a corto plaz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2600" y="133344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locar el dosímetro en el haz de rayos X pero sin tapar el detector del AEC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reproducibilidad a corto plazo del sistema del AEC se calcula por la desviación de la lectura del medidor de exposición procedente de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diez exposiciones de rutin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(maniquí equivalente a agu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Valor límite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desviación del valor medio de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s exposiciones debe ser  &lt; ± 5%,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deseable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sería &lt; ± 2%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Frecuencia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mest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(AEC) – reproducibilidad a largo plaz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reproducibilidad a largo plazo puede evaluarse a partir de la medida de OD y mAs que resulta de exposiciones de un maniquí equivalente a agu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Valor límite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&lt; ± 0.20 OD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aceptable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&lt; ± 0.15 OD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deseable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a partir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e la OD dia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Frecuencia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ar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09:42:16Z</dcterms:created>
  <dc:creator>IAEA</dc:creator>
  <dc:description>IAEA Training Material on Radiation Protection in Diagnostic and Interventional Radiology</dc:description>
  <dc:language>en-US</dc:language>
  <cp:lastModifiedBy>BRITTINGER, Maria Theresa</cp:lastModifiedBy>
  <dcterms:modified xsi:type="dcterms:W3CDTF">2009-09-08T11:41:53Z</dcterms:modified>
  <cp:revision>40</cp:revision>
  <dc:subject>Practical on AEC measurement</dc:subject>
  <dc:title> RADIATION PROTECTION IN DIAGNOSTIC RADIOLOGY </dc:title>
</cp:coreProperties>
</file>