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BDD9-51EB-42DF-9ACF-4C4A45A694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076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0764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3189240" y="6469200"/>
            <a:ext cx="2770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d5d7d8"/>
                </a:solidFill>
                <a:latin typeface="Arial"/>
              </a:rPr>
              <a:t>12.2: Diseño de blindajes y salas de rayos X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295480" y="653112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77E-8CE3-4BD2-87E3-B363D840050E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2.2: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lindaje y diseño de instalaciones para Rayos 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- Inspec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ios de diseño (3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4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sideración de los espacios adyacentes a áreas radiológicas, incluyendo encima y de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pacio requerido para almacenamiento (siempre mayor del previsto!!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Áreas de laboratorio/docencia/reun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ios de diseño (4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samiento/almacenamiento de pelícu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mplazamiento en relación con áreas radiológ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lmacenamiento de productos químicos y elimin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entilación (vapores de glutaraldehid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ecuperación de pl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lmacenamiento de película sin us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tegorías de Departamento de Radiolog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3040" y="1495440"/>
            <a:ext cx="823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La OMS (1988) establece tres categorí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adiografía general, general de ecografía, fluoroscopia general, tomografía conven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gual que el nivel 1, más ecografía Doppler, mamografía, angiografía (incluyendo DSA), 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gual que el nivel 2, con técnicas más sofisticadas, más IR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tación característica de la sala de Radiolog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87120" y="1523880"/>
            <a:ext cx="732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ubos de rayos X y mes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ativo de tóra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alas de camb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sola del Operad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ámara oscura y almacenamiento de pelícu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Áreas circundantes (uso, ocupació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lindaj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eño típico de sa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1" name="Picture 3" descr="S:\LEEC\IAEAFIGS\FLOURRM.TIF"/>
          <p:cNvPicPr/>
          <p:nvPr/>
        </p:nvPicPr>
        <p:blipFill>
          <a:blip r:embed="rId1"/>
          <a:stretch/>
        </p:blipFill>
        <p:spPr>
          <a:xfrm>
            <a:off x="914400" y="1371600"/>
            <a:ext cx="73929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eño del departamento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partamentos grandes,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 ~ 4 o más sala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n planificarse para tener movimientos de tráfico separados, pero departamentos pequeños pueden hacerlo mediante entradas separadas para personal y pa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eño del departamento (2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1960" y="1362240"/>
            <a:ext cx="860112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alas de rayos X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ben ser lo bastante grandes para el equipamiento (recuérdese el estativo de tórax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bería haber al menos un cubículo de cambio del paciente accesible desde el exterior de la sa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consola del operador debe colocarse adonde el haz primario de radiación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NUNC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sea dirigido, pero desde donde el paciente pueda ser fácilmente observ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680" y="16164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32400" rIns="32400" tIns="16200" bIns="162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Área del operador de una sala de fluoroscopi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6280" y="1905120"/>
            <a:ext cx="23590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324000"/>
                <a:tab algn="l" pos="647640"/>
                <a:tab algn="l" pos="971640"/>
                <a:tab algn="l" pos="1295280"/>
                <a:tab algn="l" pos="1619280"/>
                <a:tab algn="l" pos="19432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</a:tabLst>
            </a:pPr>
            <a:r>
              <a:rPr b="0" lang="en-AU" sz="3400" spc="-1" strike="noStrike">
                <a:solidFill>
                  <a:srgbClr val="ffcc00"/>
                </a:solidFill>
                <a:latin typeface="Arial"/>
              </a:rPr>
              <a:t>Nótese:</a:t>
            </a: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324000"/>
                <a:tab algn="l" pos="647640"/>
                <a:tab algn="l" pos="971640"/>
                <a:tab algn="l" pos="1295280"/>
                <a:tab algn="l" pos="1619280"/>
                <a:tab algn="l" pos="19432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</a:tabLst>
            </a:pPr>
            <a:endParaRPr b="0" lang="en-US" sz="3400" spc="-1" strike="noStrike">
              <a:solidFill>
                <a:srgbClr val="eaeaea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24000"/>
                <a:tab algn="l" pos="647640"/>
                <a:tab algn="l" pos="971640"/>
                <a:tab algn="l" pos="1295280"/>
                <a:tab algn="l" pos="1619280"/>
                <a:tab algn="l" pos="19432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Vidrio plomado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24000"/>
                <a:tab algn="l" pos="647640"/>
                <a:tab algn="l" pos="971640"/>
                <a:tab algn="l" pos="1295280"/>
                <a:tab algn="l" pos="1619280"/>
                <a:tab algn="l" pos="19432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Vista diáfan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buClr>
                <a:srgbClr val="99ccff"/>
              </a:buClr>
              <a:buSzPct val="110000"/>
              <a:buFont typeface="Arial"/>
              <a:buChar char="•"/>
              <a:tabLst>
                <a:tab algn="l" pos="324000"/>
                <a:tab algn="l" pos="647640"/>
                <a:tab algn="l" pos="971640"/>
                <a:tab algn="l" pos="1295280"/>
                <a:tab algn="l" pos="1619280"/>
                <a:tab algn="l" pos="1943280"/>
                <a:tab algn="l" pos="2266920"/>
                <a:tab algn="l" pos="2590920"/>
                <a:tab algn="l" pos="2914560"/>
                <a:tab algn="l" pos="3238560"/>
                <a:tab algn="l" pos="3562200"/>
                <a:tab algn="l" pos="3886200"/>
                <a:tab algn="l" pos="4210200"/>
                <a:tab algn="l" pos="4533840"/>
                <a:tab algn="l" pos="4857840"/>
                <a:tab algn="l" pos="5181480"/>
                <a:tab algn="l" pos="5505480"/>
                <a:tab algn="l" pos="5829480"/>
                <a:tab algn="l" pos="6153120"/>
                <a:tab algn="l" pos="647712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Arial"/>
              </a:rPr>
              <a:t>Buena ilumin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211560" y="1492200"/>
            <a:ext cx="5715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62000"/>
            <a:ext cx="7770600" cy="753840"/>
          </a:xfrm>
          <a:prstGeom prst="rect">
            <a:avLst/>
          </a:prstGeom>
          <a:noFill/>
          <a:ln w="0">
            <a:noFill/>
          </a:ln>
        </p:spPr>
        <p:txBody>
          <a:bodyPr lIns="32400" rIns="32400" tIns="16200" bIns="162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ala de fluoroscop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860480" y="1311120"/>
            <a:ext cx="54230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eño del departamento (3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3400" y="1249200"/>
            <a:ext cx="852012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Debe ser capaz de contener camas y carros grandes, y cualquier equipamiento de anestesia que pueda probablemente ser utilizado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Debe contener agujeros en los suelos para cables lejos de los haces de radiación, o estar blindado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Deben tener señales de aviso de radiación en todas las puert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Deberían tener luces de aviso de radiación en el exterior para fluoroscopia, angiografía y TC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599840"/>
            <a:ext cx="7107120" cy="24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Inspección de un Departamento de Radiodiagnós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4629240" y="824040"/>
            <a:ext cx="3511440" cy="5265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1697040"/>
            <a:ext cx="3498840" cy="3527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Nótese: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ca0035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Intensificador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                                                      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de imagen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Tubo de</a:t>
            </a:r>
            <a:br>
              <a:rPr sz="2800"/>
            </a:b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rayos X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3419640" y="3047760"/>
            <a:ext cx="277164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281400" y="4424400"/>
            <a:ext cx="2814480" cy="376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0040" y="209520"/>
            <a:ext cx="80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Unidad de fluoroscopia con tubo en ar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81160" y="685800"/>
            <a:ext cx="8273880" cy="5486400"/>
            <a:chOff x="281160" y="685800"/>
            <a:chExt cx="8273880" cy="548640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4897440" y="685800"/>
              <a:ext cx="3657600" cy="548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"/>
            <p:cNvGrpSpPr/>
            <p:nvPr/>
          </p:nvGrpSpPr>
          <p:grpSpPr>
            <a:xfrm>
              <a:off x="281160" y="749160"/>
              <a:ext cx="7189560" cy="5228280"/>
              <a:chOff x="281160" y="749160"/>
              <a:chExt cx="7189560" cy="5228280"/>
            </a:xfrm>
          </p:grpSpPr>
          <p:sp>
            <p:nvSpPr>
              <p:cNvPr id="141" name="Text Box 3"/>
              <p:cNvSpPr/>
              <p:nvPr/>
            </p:nvSpPr>
            <p:spPr>
              <a:xfrm>
                <a:off x="281160" y="749160"/>
                <a:ext cx="4140000" cy="52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2400" rIns="32400" tIns="16200" bIns="162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r>
                  <a:rPr b="1" lang="en-AU" sz="3100" spc="-1" strike="noStrike">
                    <a:solidFill>
                      <a:srgbClr val="ffcc00"/>
                    </a:solidFill>
                    <a:latin typeface="Arial"/>
                  </a:rPr>
                  <a:t>Nótese:</a:t>
                </a: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r>
                  <a:rPr b="0" lang="en-AU" sz="3100" spc="-1" strike="noStrike">
                    <a:solidFill>
                      <a:srgbClr val="ffffcc"/>
                    </a:solidFill>
                    <a:latin typeface="Arial"/>
                  </a:rPr>
                  <a:t>Señal iluminada de aviso</a:t>
                </a: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r>
                  <a:rPr b="0" lang="en-AU" sz="3100" spc="-1" strike="noStrike">
                    <a:solidFill>
                      <a:srgbClr val="ffffcc"/>
                    </a:solidFill>
                    <a:latin typeface="Arial"/>
                  </a:rPr>
                  <a:t>Puertas plomadas</a:t>
                </a: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r>
                  <a:rPr b="0" lang="en-AU" sz="3100" spc="-1" strike="noStrike">
                    <a:solidFill>
                      <a:srgbClr val="ffffcc"/>
                    </a:solidFill>
                    <a:latin typeface="Arial"/>
                  </a:rPr>
                  <a:t>deslizantes</a:t>
                </a:r>
                <a:r>
                  <a:rPr b="0" lang="en-AU" sz="3100" spc="-1" strike="noStrike">
                    <a:solidFill>
                      <a:srgbClr val="ffcc00"/>
                    </a:solidFill>
                    <a:latin typeface="Arial"/>
                  </a:rPr>
                  <a:t> </a:t>
                </a: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r>
                  <a:rPr b="0" lang="en-AU" sz="3100" spc="-1" strike="noStrike">
                    <a:solidFill>
                      <a:srgbClr val="ffffcc"/>
                    </a:solidFill>
                    <a:latin typeface="Arial"/>
                  </a:rPr>
                  <a:t>Señalización de radiación</a:t>
                </a: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24000"/>
                    <a:tab algn="l" pos="647640"/>
                    <a:tab algn="l" pos="971640"/>
                    <a:tab algn="l" pos="1295280"/>
                    <a:tab algn="l" pos="1619280"/>
                    <a:tab algn="l" pos="1943280"/>
                    <a:tab algn="l" pos="2266920"/>
                    <a:tab algn="l" pos="2590920"/>
                    <a:tab algn="l" pos="2914560"/>
                    <a:tab algn="l" pos="3238560"/>
                    <a:tab algn="l" pos="3562200"/>
                    <a:tab algn="l" pos="3886200"/>
                    <a:tab algn="l" pos="4210200"/>
                    <a:tab algn="l" pos="4533840"/>
                    <a:tab algn="l" pos="4857840"/>
                    <a:tab algn="l" pos="5181480"/>
                    <a:tab algn="l" pos="5505480"/>
                    <a:tab algn="l" pos="5829480"/>
                    <a:tab algn="l" pos="6153120"/>
                    <a:tab algn="l" pos="6477120"/>
                  </a:tabLst>
                </a:pPr>
                <a:endParaRPr b="0" lang="en-US" sz="31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Line 4"/>
              <p:cNvSpPr/>
              <p:nvPr/>
            </p:nvSpPr>
            <p:spPr>
              <a:xfrm flipV="1">
                <a:off x="3548160" y="2895480"/>
                <a:ext cx="2166840" cy="5335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Line 5"/>
              <p:cNvSpPr/>
              <p:nvPr/>
            </p:nvSpPr>
            <p:spPr>
              <a:xfrm flipV="1">
                <a:off x="3429000" y="2895120"/>
                <a:ext cx="4041720" cy="7621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Line 6"/>
              <p:cNvSpPr/>
              <p:nvPr/>
            </p:nvSpPr>
            <p:spPr>
              <a:xfrm flipV="1">
                <a:off x="3733920" y="3524400"/>
                <a:ext cx="3495600" cy="14284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 flipV="1">
                <a:off x="3797280" y="1391760"/>
                <a:ext cx="1968480" cy="701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231840" y="187200"/>
            <a:ext cx="46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ecff"/>
                </a:solidFill>
                <a:latin typeface="Arial"/>
              </a:rPr>
              <a:t>Entrada a sala de TC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de protec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228320"/>
            <a:ext cx="85374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ásicamente materiales de vinilo plomado, especialmente vestidos (delantales, etc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vinilo plomado equivale a entre 0.3 - 0.5 mm o má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más importante el frente que la trase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estar parcialmente abierto por detrás (plomo solo arrib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be verificarse de nuev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y ~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ada 18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meses (usando fluoroscop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32400" rIns="32400" tIns="16200" bIns="162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Área de trabajo de Radiolog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1360" y="1523880"/>
            <a:ext cx="433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cc00"/>
                </a:solidFill>
                <a:latin typeface="Arial"/>
              </a:rPr>
              <a:t>Nótese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cc"/>
                </a:solidFill>
                <a:latin typeface="Arial"/>
              </a:rPr>
              <a:t>Armario para vestidos plomados,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cc"/>
                </a:solidFill>
                <a:latin typeface="Arial"/>
              </a:rPr>
              <a:t>Y fácil acceso para el personal a todas las salas de trabajo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4788000" y="1523880"/>
            <a:ext cx="3952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2.2: Diseño de blindajes y salas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-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spección de lista de comprobación de Departamento de radiodiagnós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tación característica de un Departamento de Radiolog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428840"/>
            <a:ext cx="819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ísic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Acceso, y restricción de acces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eparación del trabajo y áreas públ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eñales de radiación (tréboles, señales luminos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strucción de blindajes y materi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quipamiento de prote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Oper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rograma de Q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glas loc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ualificaciones y entrenamiento del pers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Infraestructura de un Departamento de Radiolog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1440" y="1523880"/>
            <a:ext cx="739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be incluir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ministro de potencia eléctr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ire acondicionado y/o venti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pacio en el suelo y carga del sue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laces a otras áreas críticas ej.: emergencias (urgenci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ios de diseño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un ambiente seguro frente a radiación, hay ciertos principios y consider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“separación” de las diferentes áreas funcionales ayuda al acceso controlad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Áreas públicas (de espera, de cambio, etc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Áreas de personal (despachos, salas de reuniones, etc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Áreas de trabajo (salas de radiación, cámaras oscuras, laboratori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sillo de acceso de pacient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840" y="1523520"/>
            <a:ext cx="421956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00"/>
                </a:solidFill>
                <a:latin typeface="Arial"/>
              </a:rPr>
              <a:t>Nóte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alas numera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cceso a habitaciones de cambio (vestuari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in áreas de acceso al pers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15" descr=""/>
          <p:cNvPicPr/>
          <p:nvPr/>
        </p:nvPicPr>
        <p:blipFill>
          <a:blip r:embed="rId1"/>
          <a:stretch/>
        </p:blipFill>
        <p:spPr>
          <a:xfrm>
            <a:off x="5130720" y="152388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72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Áreas controlad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9" name="Picture 3" descr="H:\SHARED\LCSCAN\IDENTIFY.GIF"/>
          <p:cNvPicPr/>
          <p:nvPr/>
        </p:nvPicPr>
        <p:blipFill>
          <a:blip r:embed="rId1"/>
          <a:stretch/>
        </p:blipFill>
        <p:spPr>
          <a:xfrm>
            <a:off x="1447920" y="1143000"/>
            <a:ext cx="64767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1076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incipios de diseño (2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stricción/control de acceso de público a áreas de tr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Las áreas de trabajo serán normalmente áreas controladas, por lo que el público solo puede acceder cuando va a ser explorado o trat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ovimientos del personal hacia/desde y dentro de las áreas de trabajo – separadas de las áreas públic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MUNDIYANICKAL, Abraham</cp:lastModifiedBy>
  <cp:lastPrinted>2002-03-22T11:03:34Z</cp:lastPrinted>
  <dcterms:modified xsi:type="dcterms:W3CDTF">2009-09-11T10:22:26Z</dcterms:modified>
  <cp:revision>105</cp:revision>
  <dc:subject>Practical on Checklist</dc:subject>
  <dc:title>RADIATION PROTECTION IN DIAGNOSTIC RADIOLOGY</dc:title>
</cp:coreProperties>
</file>