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FE89-09BA-4397-ABCC-2E30673DDF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2708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2708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Picture 4" descr="_x0012_slide_logo_bg2.jpg    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4 Marcador de pie de página"/>
          <p:cNvSpPr/>
          <p:nvPr/>
        </p:nvSpPr>
        <p:spPr>
          <a:xfrm>
            <a:off x="2771640" y="6473880"/>
            <a:ext cx="3578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5d7d8"/>
                </a:solidFill>
                <a:latin typeface="Arial"/>
              </a:rPr>
              <a:t>15.8: Optimización de la protección en radiografí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63880" y="65372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882B-1902-4CA9-A026-75C493DF0BAD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\\161.5.128.084\MTIT-Home\ALICV\My Documents\My Pictures\IAEAPresBkngd.bmp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796840"/>
            <a:ext cx="9144000" cy="151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te 15.8: Optimización de la protección en radi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rcicio práctico – rejill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 / Obje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81000" y="1600200"/>
            <a:ext cx="72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teria objeto: control de calidad de un sistema de radiografía gener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cedimiento paso a paso a seguir para evaluar el comportamiento de la rejill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terpretación de result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5.8: Optimización de la protección en radi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jilla (factor del sistema, homogeneidad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¿Cuál es el mínimo equipamiento necesario?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osímetro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MMA en bloques (20 cm de espesor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ensitóme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jilla antidifusora – factor del sistema de rejilla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1200" y="1523880"/>
            <a:ext cx="814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factor del sistema de rejilla puede medirse con un dosíme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ducir dos imágenes, una con y otra sin el sistema de rejill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Usar el control de exposición manual para obtener imágenes de alrededor de una unidad de densidad ópt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jilla antidifusora – factor del sistema de rejilla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8520" y="1533600"/>
            <a:ext cx="7265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primera se hace con el chasis en la bandeja del bucky (con sistema de rejilla) y el PMMA encima de la mesa, y la segunda con el chasis encima de la mesa (sin sistema de rejilla) y el PMMA encima del chas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jilla antidifusora – factor del sistema de rejilla (I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8880" y="1279080"/>
            <a:ext cx="7772400" cy="21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factor del sistema de rejilla se calcula dividiendo las exposiciones,</a:t>
            </a:r>
            <a:r>
              <a:rPr b="0" i="1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rregidas por la ley del inverso del cuadrado y las diferencias de densidad ópt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17136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90400" y="3743280"/>
          <a:ext cx="8400960" cy="2081160"/>
        </p:xfrm>
        <a:graphic>
          <a:graphicData uri="http://schemas.openxmlformats.org/drawingml/2006/table">
            <a:tbl>
              <a:tblPr/>
              <a:tblGrid>
                <a:gridCol w="2482920"/>
                <a:gridCol w="59180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Valor límit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actor del sistema de reja </a:t>
                      </a:r>
                      <a:r>
                        <a:rPr b="1" lang="es-ES" sz="2800" spc="-1" strike="noStrike">
                          <a:solidFill>
                            <a:srgbClr val="ffffcc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56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recuenci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icialmente y cuando la dosis o el tiempo de exposición aumenta de repent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magen de la rejill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a evaluar la homogeneidad de la rejilla en caso de sospechas de daño o buscando el origen de artefactos, podría obtenerse la imagen mediante exposición automática del bucky en la posición más baja del selector del AEC, sin ningún PMMA añadido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to da en general una buena imagen de las líneas de la rejill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09:42:16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dcterms:modified xsi:type="dcterms:W3CDTF">2009-09-08T11:42:49Z</dcterms:modified>
  <cp:revision>27</cp:revision>
  <dc:subject>Practical on Grid </dc:subject>
  <dc:title> RADIATION PROTECTION IN DIAGNOSTIC RADIOLOGY </dc:title>
</cp:coreProperties>
</file>