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5555-12BD-4EE9-B218-50907C5F71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1700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1700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944800" y="6473880"/>
            <a:ext cx="3243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6.5: </a:t>
            </a:r>
            <a:r>
              <a:rPr b="0" lang="es-ES" sz="900" spc="-1" strike="noStrike">
                <a:solidFill>
                  <a:srgbClr val="d5d7d8"/>
                </a:solidFill>
                <a:latin typeface="Arial"/>
              </a:rPr>
              <a:t>Optimización de la protección en fluoroscop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30480" y="6551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FCD8-E70C-40B8-9CC8-A8AA309510F9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962080"/>
            <a:ext cx="9144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6.5: Optimización de la protección en fluoroscop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2520" y="1562040"/>
            <a:ext cx="675648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miliarizarse con el de control de calidad en fluoroscopi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geometría de la imagen y su tam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6.5: Optimización de la protección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torsión de la imag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niquí de Leeds para fluoroscopia</a:t>
            </a:r>
            <a:br>
              <a:rPr sz="3200"/>
            </a:b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Distorsión de la image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9240" y="1122480"/>
            <a:ext cx="8813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80960">
              <a:spcBef>
                <a:spcPts val="9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s-ES" sz="3700" spc="-1" strike="noStrike">
                <a:solidFill>
                  <a:srgbClr val="ffffcc"/>
                </a:solidFill>
                <a:latin typeface="Arial"/>
              </a:rPr>
              <a:t>La distorsión en “almohada” ocurre porque el fósforo de entrada está curvado pero el de salida es plano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  <a:p>
            <a:pPr marL="480960" indent="-480960">
              <a:spcBef>
                <a:spcPts val="9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s-ES" sz="3700" spc="-1" strike="noStrike">
                <a:solidFill>
                  <a:srgbClr val="ffffcc"/>
                </a:solidFill>
                <a:latin typeface="Arial"/>
              </a:rPr>
              <a:t>El resultado es una imagen combada, que curva hacia dentro las líneas rectas  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  <a:p>
            <a:pPr marL="480960" indent="-480960">
              <a:spcBef>
                <a:spcPts val="9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s-ES" sz="3700" spc="-1" strike="noStrike">
                <a:solidFill>
                  <a:srgbClr val="ffffcc"/>
                </a:solidFill>
                <a:latin typeface="Arial"/>
              </a:rPr>
              <a:t>La distorsión en almohada se reduce al usar modos de magnificación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istorsión de la image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2" name="Picture 1033" descr=""/>
          <p:cNvPicPr/>
          <p:nvPr/>
        </p:nvPicPr>
        <p:blipFill>
          <a:blip r:embed="rId1"/>
          <a:stretch/>
        </p:blipFill>
        <p:spPr>
          <a:xfrm>
            <a:off x="762120" y="1738440"/>
            <a:ext cx="3200400" cy="279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4" descr=""/>
          <p:cNvPicPr/>
          <p:nvPr/>
        </p:nvPicPr>
        <p:blipFill>
          <a:blip r:embed="rId2"/>
          <a:stretch/>
        </p:blipFill>
        <p:spPr>
          <a:xfrm>
            <a:off x="5334120" y="1662120"/>
            <a:ext cx="2895480" cy="2813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35"/>
          <p:cNvSpPr/>
          <p:nvPr/>
        </p:nvSpPr>
        <p:spPr>
          <a:xfrm>
            <a:off x="1289520" y="478620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Almoha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036"/>
          <p:cNvSpPr/>
          <p:nvPr/>
        </p:nvSpPr>
        <p:spPr>
          <a:xfrm>
            <a:off x="5154120" y="478620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Distorsión en 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niquí de Leeds para fluoroscopia</a:t>
            </a:r>
            <a:br>
              <a:rPr sz="3600"/>
            </a:b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Geometría de la imagen y tamaño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7" name="Picture 1027" descr="D:\Congressi e Corsi\Corso Chisinau\immagini\Senza titolo-2 copia.jpg"/>
          <p:cNvPicPr/>
          <p:nvPr/>
        </p:nvPicPr>
        <p:blipFill>
          <a:blip r:embed="rId1"/>
          <a:stretch/>
        </p:blipFill>
        <p:spPr>
          <a:xfrm>
            <a:off x="4724280" y="1581120"/>
            <a:ext cx="3557880" cy="3649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28"/>
          <p:cNvSpPr/>
          <p:nvPr/>
        </p:nvSpPr>
        <p:spPr>
          <a:xfrm>
            <a:off x="208080" y="1774800"/>
            <a:ext cx="43671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Arial"/>
              </a:rPr>
              <a:t>Incorpora</a:t>
            </a:r>
            <a:endParaRPr b="0" lang="en-US" sz="3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Una matriz de hilos de espaciado cuadrado de 20 mm con interpolaciones diametrales de 10 mm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niquí de Leeds para fluoroscopia</a:t>
            </a:r>
            <a:br>
              <a:rPr sz="3600"/>
            </a:b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Geometría de la imagen y tamaño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87440" y="1592280"/>
            <a:ext cx="82915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190440" indent="-19044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it-IT" sz="2900" spc="-1" strike="noStrike">
                <a:solidFill>
                  <a:srgbClr val="ffcc00"/>
                </a:solidFill>
                <a:latin typeface="Arial"/>
              </a:rPr>
              <a:t>Interpretación de resultados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99ccff"/>
              </a:buClr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Tamaño de campo medido &gt; </a:t>
            </a:r>
            <a:r>
              <a:rPr b="1" lang="it-IT" sz="2200" spc="-1" strike="noStrike">
                <a:solidFill>
                  <a:srgbClr val="ffcc00"/>
                </a:solidFill>
                <a:latin typeface="Arial"/>
              </a:rPr>
              <a:t>0.85 diametro nominal</a:t>
            </a: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 del I.I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99ccff"/>
              </a:buClr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Distorsión integral =  (</a:t>
            </a:r>
            <a:r>
              <a:rPr b="0" lang="it-IT" sz="2200" spc="-1" strike="noStrike" u="sng">
                <a:solidFill>
                  <a:srgbClr val="ffffcc"/>
                </a:solidFill>
                <a:uFillTx/>
                <a:latin typeface="Arial"/>
              </a:rPr>
              <a:t>diagonal media del cuadrado grande - 1</a:t>
            </a: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)                                     </a:t>
            </a: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      n x diagonal media del cuadrado central</a:t>
            </a:r>
            <a:br>
              <a:rPr sz="2200"/>
            </a:b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99ccff"/>
              </a:buClr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it-IT" sz="2200" spc="-1" strike="noStrike">
                <a:solidFill>
                  <a:srgbClr val="ffcc00"/>
                </a:solidFill>
                <a:latin typeface="Arial"/>
              </a:rPr>
              <a:t>menor del 10 %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8T11:43:59Z</dcterms:modified>
  <cp:revision>72</cp:revision>
  <dc:subject>Practical on image distortion</dc:subject>
  <dc:title>RADIATION PROTECTION IN DIAGNOSTIC RADIOLOGY</dc:title>
</cp:coreProperties>
</file>