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2C28-9917-4E0C-91D1-EC0A035DA9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670120" y="6464160"/>
            <a:ext cx="3784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6.4: </a:t>
            </a:r>
            <a:r>
              <a:rPr b="0" lang="es-ES" sz="900" spc="-1" strike="noStrike">
                <a:solidFill>
                  <a:srgbClr val="d5d7d8"/>
                </a:solidFill>
                <a:latin typeface="Arial"/>
              </a:rPr>
              <a:t>Optimización de la protección en fluoroscop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76480" y="65484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220B-05D6-4C3E-9DB6-DD6E84D4A588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91132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6.4: Optimización de la protección en fluoroscop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aniquíes de Leeds para fluoroscopia</a:t>
            </a: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 Comportamiento global en image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90520" y="1508040"/>
            <a:ext cx="428148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09600" indent="-309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Incorpor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9600" indent="-30960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108 discos in 12 grupos de diferentes diámetros; en cada grupo hay 9 discos de diferentes contrastes frente a los rayos 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9600" indent="-30960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Se usa para evaluar el contraste umbral por detección de detal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4724280" y="1724040"/>
          <a:ext cx="3610080" cy="37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24040"/>
                    <a:ext cx="361008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aniquíes de Leeds para fluoroscopia</a:t>
            </a: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 Comportamiento global en image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20840" y="2486160"/>
            <a:ext cx="2931840" cy="20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3300" spc="-1" strike="noStrike">
                <a:solidFill>
                  <a:srgbClr val="ffffcc"/>
                </a:solidFill>
                <a:latin typeface="Arial"/>
              </a:rPr>
              <a:t>Imagen fluoroscópica típica del objeto de test</a:t>
            </a:r>
            <a:endParaRPr b="0" lang="en-US" sz="33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3657600" y="1419120"/>
          <a:ext cx="4344840" cy="43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419120"/>
                    <a:ext cx="43448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aniquíes de Leeds para fluoroscopia</a:t>
            </a: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 Comportamiento global en image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7200" y="1546200"/>
            <a:ext cx="283068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Arial"/>
              </a:rPr>
              <a:t>Interpretación de  result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Los datos se dibujan en función del diámetro del detal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El índice de detección umbral se define com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H (A) = [C(A) </a:t>
            </a:r>
            <a:r>
              <a:rPr b="0" lang="it-IT" sz="24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A]</a:t>
            </a:r>
            <a:r>
              <a:rPr b="0" lang="it-IT" sz="2400" spc="-1" strike="noStrike" baseline="30000">
                <a:solidFill>
                  <a:srgbClr val="ffffcc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8" name="Object 6"/>
          <p:cNvGraphicFramePr/>
          <p:nvPr/>
        </p:nvGraphicFramePr>
        <p:xfrm>
          <a:off x="3200400" y="1709640"/>
          <a:ext cx="545004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709640"/>
                    <a:ext cx="545004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76400" y="1571760"/>
            <a:ext cx="72324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amiliarizarse con el de control de calidad en fluoroscopi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la resolución en bajo contraste y el ruido de acuerdo a los procedimientos sugeri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erpretación de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6.4: Optimización de la protección en fluoroscopi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solución en bajo contraste y rui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2053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solución en bajo contraste y ruid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15560" y="1305000"/>
            <a:ext cx="732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Propósi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edir la resolución en bajo contraste y la influencia del ruido en la detectabilidad en bajo contraste</a:t>
            </a:r>
            <a:br>
              <a:rPr sz="28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aniquí de calidad de imagen (maniquí de Leed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Filtro de 2 mm de Cu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480" y="1428840"/>
            <a:ext cx="792504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  <a:ea typeface="Times New Roman"/>
              </a:rPr>
              <a:t>La </a:t>
            </a:r>
            <a:r>
              <a:rPr b="0" i="1" lang="es-ES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resolución en bajo contraste</a:t>
            </a:r>
            <a:r>
              <a:rPr b="0" lang="es-ES" sz="3000" spc="-1" strike="noStrike">
                <a:solidFill>
                  <a:srgbClr val="ffffcc"/>
                </a:solidFill>
                <a:latin typeface="Arial"/>
                <a:ea typeface="Times New Roman"/>
              </a:rPr>
              <a:t> determina el tamaño de detalle que puede ser reproducido visiblemente cuando hay solo una pequeña diferencia en densidad relativa respecto del área circundant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r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olución en bajo contraste se ve limitada </a:t>
            </a:r>
            <a:r>
              <a:rPr b="0" lang="es-ES" sz="28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considerablemente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por el ruido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80820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l umbral de percepción en relación al contraste y al tamaño del detalle puede determinarse, por ejemplo, por medio de una curva contraste-detall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solución en bajo contrast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114800" y="1752480"/>
            <a:ext cx="4038480" cy="4267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7840" y="-62280"/>
            <a:ext cx="82944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Maniquí de Leeds para fluoroscopia</a:t>
            </a:r>
            <a:br>
              <a:rPr sz="3200"/>
            </a:b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Ruido y pérdida de contrast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09680" y="2000160"/>
            <a:ext cx="35812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Arial"/>
              </a:rPr>
              <a:t>Incorpora</a:t>
            </a:r>
            <a:endParaRPr b="0" lang="en-US" sz="3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19 discos, cada uno de 11 mm de diámetro, de diferentes contrastes frente a rayos X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6" name="Object 0"/>
          <p:cNvGraphicFramePr/>
          <p:nvPr/>
        </p:nvGraphicFramePr>
        <p:xfrm>
          <a:off x="4272120" y="1933560"/>
          <a:ext cx="372420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72120" y="1933560"/>
                    <a:ext cx="372420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2240" y="78840"/>
            <a:ext cx="85345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aniquí de Leeds para fluoroscopia</a:t>
            </a:r>
            <a:br>
              <a:rPr sz="3600"/>
            </a:b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uido y pérdida de contrast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9" name="Picture 3" descr="D:\Congressi e Corsi\Corso Chisinau\immagini\Senza titolo-6 copia.jpg"/>
          <p:cNvPicPr/>
          <p:nvPr/>
        </p:nvPicPr>
        <p:blipFill>
          <a:blip r:embed="rId1"/>
          <a:stretch/>
        </p:blipFill>
        <p:spPr>
          <a:xfrm>
            <a:off x="4489560" y="1800360"/>
            <a:ext cx="3867120" cy="3581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420840" y="1414440"/>
            <a:ext cx="39178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85680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magen fluoroscópica típica del objeto de test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85680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.B.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42880" indent="-181080">
              <a:lnSpc>
                <a:spcPct val="100000"/>
              </a:lnSpc>
              <a:buClr>
                <a:srgbClr val="99ccff"/>
              </a:buClr>
              <a:buSzPct val="85000"/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bservar los círculos del centr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42880" indent="-181080">
              <a:lnSpc>
                <a:spcPct val="100000"/>
              </a:lnSpc>
              <a:buClr>
                <a:srgbClr val="99ccff"/>
              </a:buClr>
              <a:buSzPct val="85000"/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ar el número de círculos vist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aniquí de Leeds para fluoroscopia</a:t>
            </a:r>
            <a:br>
              <a:rPr sz="3600"/>
            </a:b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uido y pérdida de contrast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981080" y="1747800"/>
            <a:ext cx="53722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uido y pérdida de contrast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2120" y="1209600"/>
            <a:ext cx="7713720" cy="23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IE" sz="3300" spc="-1" strike="noStrike">
                <a:solidFill>
                  <a:srgbClr val="ffcc00"/>
                </a:solidFill>
                <a:latin typeface="Arial"/>
              </a:rPr>
              <a:t>Interpretación de resultados</a:t>
            </a:r>
            <a:endParaRPr b="0" lang="en-US" sz="3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El contraste umbral se determina por el detalle que solo puede ser justamente detectado. El contraste umbral de un sistema moderno en ajuste promedio </a:t>
            </a:r>
            <a:r>
              <a:rPr b="1" lang="es-ES" sz="2600" spc="-1" strike="noStrike">
                <a:solidFill>
                  <a:srgbClr val="ffcc00"/>
                </a:solidFill>
                <a:latin typeface="Arial"/>
              </a:rPr>
              <a:t>no debe ser mayor </a:t>
            </a: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de los siguientes valores: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5" name="Object 7"/>
          <p:cNvGraphicFramePr/>
          <p:nvPr/>
        </p:nvGraphicFramePr>
        <p:xfrm>
          <a:off x="2633760" y="-2994120"/>
          <a:ext cx="7126200" cy="26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3760" y="-2994120"/>
                    <a:ext cx="712620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95360" y="3778200"/>
          <a:ext cx="8362800" cy="2279880"/>
        </p:xfrm>
        <a:graphic>
          <a:graphicData uri="http://schemas.openxmlformats.org/drawingml/2006/table">
            <a:tbl>
              <a:tblPr/>
              <a:tblGrid>
                <a:gridCol w="4590720"/>
                <a:gridCol w="377208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i</a:t>
                      </a:r>
                      <a:r>
                        <a:rPr b="0" lang="en-GB" sz="28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ámetro del campo (cm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traste umbral %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 – 3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2 – 2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.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 - 1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.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dcterms:modified xsi:type="dcterms:W3CDTF">2009-09-08T11:43:43Z</dcterms:modified>
  <cp:revision>80</cp:revision>
  <dc:subject>Practical on low contrast resolution and noise</dc:subject>
  <dc:title>RADIATION PROTECTION IN DIAGNOSTIC RADIOLOGY</dc:title>
</cp:coreProperties>
</file>