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B7C-5A8C-44AF-9749-9819772A88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9520" y="654120"/>
            <a:ext cx="4651560" cy="34891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9880" y="4361040"/>
            <a:ext cx="501012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3147840" y="6524640"/>
            <a:ext cx="2846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2.1 : </a:t>
            </a:r>
            <a:r>
              <a:rPr b="0" lang="es-ES" sz="900" spc="-1" strike="noStrike">
                <a:solidFill>
                  <a:srgbClr val="d5d7d8"/>
                </a:solidFill>
                <a:latin typeface="Arial"/>
              </a:rPr>
              <a:t>Blindajes y diseño de salas de rayos X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0436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3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14640" y="6524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1B29-F4FC-4CA5-9C49-0AA69C8EAE45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" name="Picture 3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AEAPresBkngd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2.1: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lindaje y diseño de instalaciones para Rayos 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774200" cy="79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Dispers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8880" y="1628640"/>
            <a:ext cx="7773840" cy="4111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uede suponerse que la dispersión es una cierta fracción de la dosis primaria al paci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odemos usar la dosis primaria del cálculo previo, pero debemos modificarlo a la distancia desde el tubo al paciente, más corta (DFP, usualmente unos 80 cm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“fracción dispersa” depende del ángulo de dispersión y del kVp, pero tiene un máximo alrededor de 0.0025 (125 kVp a 135 grad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890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Dispers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3720" y="163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dispersión también depende del tamaño de campo. Se relaciona simplemente con un campo estándar de 400 cm</a:t>
            </a:r>
            <a:r>
              <a:rPr b="0" lang="es-ES" sz="28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– utilizaremos 1000 cm</a:t>
            </a:r>
            <a:r>
              <a:rPr b="0" lang="es-ES" sz="2800" spc="-1" strike="noStrike" baseline="30000">
                <a:solidFill>
                  <a:srgbClr val="ffffcc"/>
                </a:solidFill>
                <a:latin typeface="Arial"/>
              </a:rPr>
              <a:t>2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ara nuestro camp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tonces la dosis dispersa en el caso más desfavorable (modificada solo por la distancia y T) 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(2360 </a:t>
            </a:r>
            <a:r>
              <a:rPr b="0" lang="es-ES" sz="24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1 </a:t>
            </a:r>
            <a:r>
              <a:rPr b="0" lang="es-ES" sz="24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0.0025 </a:t>
            </a:r>
            <a:r>
              <a:rPr b="0" lang="es-ES" sz="24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100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= 3.7 mG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(400 </a:t>
            </a:r>
            <a:r>
              <a:rPr b="0" lang="es-ES" sz="24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2.5</a:t>
            </a:r>
            <a:r>
              <a:rPr b="0" lang="es-ES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0.8</a:t>
            </a:r>
            <a:r>
              <a:rPr b="0" lang="es-ES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5080" y="4797360"/>
            <a:ext cx="4103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Fug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3720" y="1484280"/>
            <a:ext cx="7765920" cy="4114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fugas deben suponerse el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máximo permitido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(1 mGy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•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s-ES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a 1 metr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Necesitamos conocer cuántas horas por semana funciona el tub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o puede tomarse a partir de la carga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, y de la corriente del tubo continua máx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fugas se modifican también por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y por la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ista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744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Fug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137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or ejemplo: si W = 300 mA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in/sem y la corriente continua máxima es 2 mA, el tiempo de funcionamiento para el cálculo de fugas es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300/(2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60) hor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2.5 hor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tonces las fugas = 2.5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1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0.25/2.5</a:t>
            </a:r>
            <a:r>
              <a:rPr b="0" lang="es-E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m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= 0.10 m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163440"/>
            <a:ext cx="8077320" cy="744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– Dosis tota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992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sí pues, la dosis total en nuestro punto de cálculo val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= (94.4 + 3.7 + 0.1) = 99.2 mGy/s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la dosis de diseño es =  0.01 mGy/s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tonces la atenuación requerida e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= 0.01/99.2 = 0.000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álculo de blindajes – plomo requerid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3760" y="1600200"/>
            <a:ext cx="7770600" cy="4116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ante tablas o gráficas de blindaje de plomo, podemos encontrar que la cantidad necesaria de plomo es 2.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ay tablas o fórmulas de cálculo par plomo, hormigón y acero, al me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roceso debe repetirse ahora para todos los otros puntos de cálculo y barrer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523880" y="1843200"/>
            <a:ext cx="1800" cy="3886200"/>
          </a:xfrm>
          <a:prstGeom prst="line">
            <a:avLst/>
          </a:prstGeom>
          <a:ln w="57240">
            <a:solidFill>
              <a:srgbClr val="eaeaea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1523880" y="5729400"/>
            <a:ext cx="6553440" cy="144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870200" y="580536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     2     3     4     5     6     7     8  m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847440" y="2224080"/>
            <a:ext cx="61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1523880" y="2376360"/>
            <a:ext cx="304920" cy="3276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Freeform 10"/>
          <p:cNvSpPr/>
          <p:nvPr/>
        </p:nvSpPr>
        <p:spPr>
          <a:xfrm>
            <a:off x="1523880" y="2376360"/>
            <a:ext cx="762120" cy="32767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1523880" y="2438280"/>
            <a:ext cx="2514600" cy="32911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Freeform 12"/>
          <p:cNvSpPr/>
          <p:nvPr/>
        </p:nvSpPr>
        <p:spPr>
          <a:xfrm>
            <a:off x="1523880" y="2438280"/>
            <a:ext cx="2895840" cy="32911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1523880" y="2514600"/>
            <a:ext cx="3581640" cy="32148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Freeform 16"/>
          <p:cNvSpPr/>
          <p:nvPr/>
        </p:nvSpPr>
        <p:spPr>
          <a:xfrm>
            <a:off x="1523880" y="2833560"/>
            <a:ext cx="4648320" cy="281952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1523880" y="3595680"/>
            <a:ext cx="5029200" cy="20574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6248880" y="50436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lomo requer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686880" y="138420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ctor de reduc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205740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27687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>
            <a:off x="34797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48261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55119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62229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Line 35"/>
          <p:cNvSpPr/>
          <p:nvPr/>
        </p:nvSpPr>
        <p:spPr>
          <a:xfrm>
            <a:off x="6921360" y="5715000"/>
            <a:ext cx="0" cy="15228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36"/>
          <p:cNvSpPr/>
          <p:nvPr/>
        </p:nvSpPr>
        <p:spPr>
          <a:xfrm flipH="1">
            <a:off x="1371240" y="2514600"/>
            <a:ext cx="152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37"/>
          <p:cNvSpPr/>
          <p:nvPr/>
        </p:nvSpPr>
        <p:spPr>
          <a:xfrm flipH="1">
            <a:off x="1371240" y="3162240"/>
            <a:ext cx="152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38"/>
          <p:cNvSpPr/>
          <p:nvPr/>
        </p:nvSpPr>
        <p:spPr>
          <a:xfrm flipH="1">
            <a:off x="1371240" y="3886200"/>
            <a:ext cx="152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39"/>
          <p:cNvSpPr/>
          <p:nvPr/>
        </p:nvSpPr>
        <p:spPr>
          <a:xfrm flipH="1">
            <a:off x="1371240" y="4572000"/>
            <a:ext cx="152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40"/>
          <p:cNvSpPr/>
          <p:nvPr/>
        </p:nvSpPr>
        <p:spPr>
          <a:xfrm flipH="1">
            <a:off x="1371240" y="5257800"/>
            <a:ext cx="152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15253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2210760" y="20289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75 kV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43"/>
          <p:cNvSpPr/>
          <p:nvPr/>
        </p:nvSpPr>
        <p:spPr>
          <a:xfrm>
            <a:off x="3658320" y="2028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4344120" y="2028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5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5182560" y="21337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00 kV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6249240" y="2438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5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6554160" y="33526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00 kV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49"/>
          <p:cNvSpPr/>
          <p:nvPr/>
        </p:nvSpPr>
        <p:spPr>
          <a:xfrm flipV="1">
            <a:off x="3124080" y="3123720"/>
            <a:ext cx="0" cy="259092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50"/>
          <p:cNvSpPr/>
          <p:nvPr/>
        </p:nvSpPr>
        <p:spPr>
          <a:xfrm>
            <a:off x="1523880" y="3149640"/>
            <a:ext cx="1600200" cy="0"/>
          </a:xfrm>
          <a:prstGeom prst="line">
            <a:avLst/>
          </a:prstGeom>
          <a:ln w="1260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ámetros de blindaje de la radi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3" descr="FIG9"/>
          <p:cNvPicPr/>
          <p:nvPr/>
        </p:nvPicPr>
        <p:blipFill>
          <a:blip r:embed="rId1"/>
          <a:stretch/>
        </p:blipFill>
        <p:spPr>
          <a:xfrm>
            <a:off x="1219320" y="13716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Blindaje de salas – Tubos de rayos X múltiple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gunas salas estarán equipadas con más de un tubo de rayos X (tal vez un tubo soportado en el techo y uno montado en el suel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cálculos de blindaje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BEN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considerar la dosis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TOTAL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de radiación de los dos tub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iseño de salas de TC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560" y="1143000"/>
            <a:ext cx="7602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</a:rPr>
              <a:t>Criterios gener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a sala grande con espacio suficiente para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scáner TC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Equipos auxiliares (inyector de medios de contraste, camilla de emergencia y equipamiento, contenedores de material  de desecho, etc)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2 vestu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espacios requeridos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ala con consola con ventana lo bastante grande como para ver al paciente en todo moment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ala de preparación del paciente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Área de espera del pacien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Sala de informes (con “workstation” de imagen secundaria)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Área de impresor láser o impresora de película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1262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diseño y cálculo de blindajes de un departamento de radiodiagnós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paso a paso a segui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Blindaje de sala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79280" y="1341000"/>
            <a:ext cx="42894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arg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Barreras protector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pa de protec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4114440" y="3200400"/>
            <a:ext cx="4151880" cy="2039040"/>
            <a:chOff x="4114440" y="3200400"/>
            <a:chExt cx="4151880" cy="203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4114440" y="3200400"/>
              <a:ext cx="4038840" cy="2039040"/>
              <a:chOff x="4114440" y="3200400"/>
              <a:chExt cx="4038840" cy="2039040"/>
            </a:xfrm>
          </p:grpSpPr>
          <p:sp>
            <p:nvSpPr>
              <p:cNvPr id="191" name="Rectangle 6"/>
              <p:cNvSpPr/>
              <p:nvPr/>
            </p:nvSpPr>
            <p:spPr>
              <a:xfrm>
                <a:off x="5514840" y="4182840"/>
                <a:ext cx="1322640" cy="398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Rectangle 7"/>
              <p:cNvSpPr/>
              <p:nvPr/>
            </p:nvSpPr>
            <p:spPr>
              <a:xfrm>
                <a:off x="5319720" y="4262400"/>
                <a:ext cx="1711440" cy="239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Rectangle 8"/>
              <p:cNvSpPr/>
              <p:nvPr/>
            </p:nvSpPr>
            <p:spPr>
              <a:xfrm>
                <a:off x="5241960" y="4262400"/>
                <a:ext cx="77760" cy="239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7031160" y="4262400"/>
                <a:ext cx="77760" cy="2397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Oval 10"/>
              <p:cNvSpPr/>
              <p:nvPr/>
            </p:nvSpPr>
            <p:spPr>
              <a:xfrm>
                <a:off x="6059520" y="4341600"/>
                <a:ext cx="155520" cy="10656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Rectangle 11"/>
              <p:cNvSpPr/>
              <p:nvPr/>
            </p:nvSpPr>
            <p:spPr>
              <a:xfrm>
                <a:off x="5981760" y="3440160"/>
                <a:ext cx="311040" cy="742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5981760" y="4581360"/>
                <a:ext cx="311040" cy="1065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Rectangle 13"/>
              <p:cNvSpPr/>
              <p:nvPr/>
            </p:nvSpPr>
            <p:spPr>
              <a:xfrm>
                <a:off x="6059520" y="3440160"/>
                <a:ext cx="155520" cy="7426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Rectangle 14"/>
              <p:cNvSpPr/>
              <p:nvPr/>
            </p:nvSpPr>
            <p:spPr>
              <a:xfrm>
                <a:off x="6059520" y="4581360"/>
                <a:ext cx="155520" cy="10656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>
                <a:off x="6137280" y="3465360"/>
                <a:ext cx="2016000" cy="1773360"/>
              </a:xfrm>
              <a:prstGeom prst="pie">
                <a:avLst/>
              </a:pr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 flipV="1" rot="10802400">
                <a:off x="4114800" y="3465000"/>
                <a:ext cx="2016000" cy="1773360"/>
              </a:xfrm>
              <a:prstGeom prst="pie">
                <a:avLst/>
              </a:prstGeom>
              <a:noFill/>
              <a:ln w="1260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6137280" y="3200400"/>
                <a:ext cx="0" cy="17524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 flipH="1">
                <a:off x="4270320" y="4395600"/>
                <a:ext cx="381168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04" name="Text Box 19"/>
            <p:cNvSpPr/>
            <p:nvPr/>
          </p:nvSpPr>
          <p:spPr>
            <a:xfrm>
              <a:off x="6380280" y="3689280"/>
              <a:ext cx="188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cc00"/>
                  </a:solidFill>
                  <a:latin typeface="Arial"/>
                </a:rPr>
                <a:t>2.5 </a:t>
              </a:r>
              <a:r>
                <a:rPr b="1" lang="it-IT" sz="12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</a:t>
              </a:r>
              <a:r>
                <a:rPr b="1" lang="it-IT" sz="1200" spc="-1" strike="noStrike">
                  <a:solidFill>
                    <a:srgbClr val="ffcc00"/>
                  </a:solidFill>
                  <a:latin typeface="Arial"/>
                </a:rPr>
                <a:t>Gy/1000 mAs-sca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" name="Text Box 20"/>
          <p:cNvSpPr/>
          <p:nvPr/>
        </p:nvSpPr>
        <p:spPr>
          <a:xfrm>
            <a:off x="3895200" y="5241960"/>
            <a:ext cx="377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Arial"/>
              </a:rPr>
              <a:t>Distribución típica de dosis dispersa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Arial"/>
              </a:rPr>
              <a:t>alrededor de un escáner T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Picture 22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2895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Carga (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): la carga semanal se expresa usualmente en miliamperios - minut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La carga para un TC es usualmente muy alt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</a:rPr>
              <a:t>Ejemplo</a:t>
            </a:r>
            <a:r>
              <a:rPr b="0" i="1" lang="es-ES_tradnl" sz="20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</a:rPr>
              <a:t>6 días de trabajo/sem, 40 pacientes/día, 40 cortes/paciente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ffffcc"/>
                </a:solidFill>
                <a:latin typeface="Arial"/>
              </a:rPr>
              <a:t>200 mAs/corte, 120 kV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El haz primario es totalmente interceptado por el conjunto de detectores. Las barreras son alcanzadas solo por radiación dispers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1882800" y="3943440"/>
            <a:ext cx="5043600" cy="476280"/>
            <a:chOff x="1882800" y="3943440"/>
            <a:chExt cx="5043600" cy="476280"/>
          </a:xfrm>
        </p:grpSpPr>
        <p:sp>
          <p:nvSpPr>
            <p:cNvPr id="210" name="Line 6"/>
            <p:cNvSpPr/>
            <p:nvPr/>
          </p:nvSpPr>
          <p:spPr>
            <a:xfrm>
              <a:off x="2558880" y="4191120"/>
              <a:ext cx="1171800" cy="1440"/>
            </a:xfrm>
            <a:prstGeom prst="line">
              <a:avLst/>
            </a:prstGeom>
            <a:ln w="144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5022360" y="3979800"/>
              <a:ext cx="1904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cc00"/>
                  </a:solidFill>
                  <a:latin typeface="Arial"/>
                </a:rPr>
                <a:t>mA-min/sem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4079880" y="3979800"/>
              <a:ext cx="884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cc00"/>
                  </a:solidFill>
                  <a:latin typeface="Arial"/>
                </a:rPr>
                <a:t>32000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1882800" y="3979800"/>
              <a:ext cx="299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cc00"/>
                  </a:solidFill>
                  <a:latin typeface="Arial"/>
                </a:rPr>
                <a:t>W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3037680" y="419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3391920" y="394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3322440" y="394344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088440" y="3943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012840" y="394344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778840" y="3943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2703240" y="3943440"/>
              <a:ext cx="6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Times New Roman"/>
                </a:rPr>
                <a:t>•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2577600" y="39434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3788640" y="39481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2250360" y="39481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4" name="Rectangle 20"/>
          <p:cNvSpPr/>
          <p:nvPr/>
        </p:nvSpPr>
        <p:spPr>
          <a:xfrm>
            <a:off x="282600" y="98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Barreras protector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49400" y="1347840"/>
            <a:ext cx="548928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Radiación disper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la radiación dispersa máxima típica alrededor de un TC es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lang="es-ES" sz="1800" spc="-1" strike="noStrike" baseline="-25000">
                <a:solidFill>
                  <a:srgbClr val="ffcc00"/>
                </a:solidFill>
                <a:latin typeface="Arial"/>
              </a:rPr>
              <a:t>tc 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= 2.5 </a:t>
            </a:r>
            <a:r>
              <a:rPr b="1" lang="es-ES" sz="16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Gy/mA-min y scan a 1 metro y 120 kV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Esta cantidad puede adoptarse para el cálculo de las barreras protector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Arial"/>
              </a:rPr>
              <a:t>El espesor </a:t>
            </a:r>
            <a:r>
              <a:rPr b="1" lang="es-ES" sz="16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lang="es-ES" sz="1600" spc="-1" strike="noStrike">
                <a:solidFill>
                  <a:srgbClr val="eaeaea"/>
                </a:solidFill>
                <a:latin typeface="Arial"/>
              </a:rPr>
              <a:t> se obtiene de la curva de atenuación para el material atenuador apropiado suponiendo fotones dispersos con la misma capacidad de penetración de los del haz úti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7b073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7b0736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ffcc00"/>
                </a:solidFill>
                <a:latin typeface="Arial"/>
              </a:rPr>
              <a:t>Ejemplo: 120 kV; P = 0.04 mSv/sem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1" i="1" lang="es-ES" sz="1400" spc="-1" strike="noStrike" baseline="-25000">
                <a:solidFill>
                  <a:srgbClr val="ffcc00"/>
                </a:solidFill>
                <a:latin typeface="Arial"/>
              </a:rPr>
              <a:t>sec</a:t>
            </a:r>
            <a:r>
              <a:rPr b="1" i="1" lang="es-ES" sz="1400" spc="-1" strike="noStrike">
                <a:solidFill>
                  <a:srgbClr val="ffcc00"/>
                </a:solidFill>
                <a:latin typeface="Arial"/>
              </a:rPr>
              <a:t>= 3 m, W= 32000 mA-min/sem, T= 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es-ES" sz="1400" spc="-1" strike="noStrike">
                <a:solidFill>
                  <a:srgbClr val="ffffcc"/>
                </a:solidFill>
                <a:latin typeface="Arial"/>
              </a:rPr>
              <a:t>Requiere 1.2 mm de plomo o 130 mm de hormigón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6129720" y="1170000"/>
            <a:ext cx="2172960" cy="780840"/>
            <a:chOff x="6129720" y="1170000"/>
            <a:chExt cx="2172960" cy="780840"/>
          </a:xfrm>
        </p:grpSpPr>
        <p:sp>
          <p:nvSpPr>
            <p:cNvPr id="227" name="Line 5"/>
            <p:cNvSpPr/>
            <p:nvPr/>
          </p:nvSpPr>
          <p:spPr>
            <a:xfrm>
              <a:off x="7264440" y="1584360"/>
              <a:ext cx="10382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8004240" y="158112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T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7412040" y="1581120"/>
              <a:ext cx="43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WS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8058240" y="12175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7467480" y="1217520"/>
              <a:ext cx="25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(d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7281360" y="12175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P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6451200" y="1563480"/>
              <a:ext cx="342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cc00"/>
                  </a:solidFill>
                  <a:latin typeface="Arial"/>
                </a:rPr>
                <a:t>uX</a:t>
              </a:r>
              <a:endParaRPr b="0" lang="en-US" sz="2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7825680" y="17222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ct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8148240" y="1170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7709760" y="1359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cc00"/>
                  </a:solidFill>
                  <a:latin typeface="Arial"/>
                </a:rPr>
                <a:t>sec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6129720" y="1279440"/>
              <a:ext cx="3391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ffcc00"/>
                  </a:solidFill>
                  <a:latin typeface="Arial"/>
                </a:rPr>
                <a:t>K</a:t>
              </a:r>
              <a:endParaRPr b="0" lang="en-US" sz="3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Rectangle 16"/>
            <p:cNvSpPr/>
            <p:nvPr/>
          </p:nvSpPr>
          <p:spPr>
            <a:xfrm>
              <a:off x="6864840" y="123336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cc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Object 18"/>
              <p:cNvSpPr txBox="1"/>
              <p:nvPr/>
            </p:nvSpPr>
            <p:spPr>
              <a:xfrm>
                <a:off x="785880" y="5286240"/>
                <a:ext cx="3701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00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4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Group 45"/>
          <p:cNvGrpSpPr/>
          <p:nvPr/>
        </p:nvGrpSpPr>
        <p:grpSpPr>
          <a:xfrm>
            <a:off x="5081760" y="3405240"/>
            <a:ext cx="3679560" cy="2362320"/>
            <a:chOff x="5081760" y="3405240"/>
            <a:chExt cx="3679560" cy="2362320"/>
          </a:xfrm>
        </p:grpSpPr>
        <p:sp>
          <p:nvSpPr>
            <p:cNvPr id="241" name="Line 19"/>
            <p:cNvSpPr/>
            <p:nvPr/>
          </p:nvSpPr>
          <p:spPr>
            <a:xfrm>
              <a:off x="6219720" y="3667320"/>
              <a:ext cx="0" cy="1641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6219720" y="5308920"/>
              <a:ext cx="20732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5081760" y="5767560"/>
              <a:ext cx="321120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5951520" y="3667320"/>
              <a:ext cx="0" cy="1641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 flipH="1">
              <a:off x="5081760" y="5308920"/>
              <a:ext cx="86976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 flipH="1">
              <a:off x="5416200" y="3864240"/>
              <a:ext cx="2141640" cy="0"/>
            </a:xfrm>
            <a:prstGeom prst="line">
              <a:avLst/>
            </a:prstGeom>
            <a:ln w="64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5483160" y="4454640"/>
              <a:ext cx="0" cy="328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 flipH="1">
              <a:off x="5482800" y="4324680"/>
              <a:ext cx="133560" cy="1299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5483160" y="4783320"/>
              <a:ext cx="200160" cy="1969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5349960" y="4521240"/>
              <a:ext cx="266760" cy="196920"/>
            </a:xfrm>
            <a:prstGeom prst="ellipse">
              <a:avLst/>
            </a:prstGeom>
            <a:solidFill>
              <a:srgbClr val="fcd3c1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Text Box 29"/>
            <p:cNvSpPr/>
            <p:nvPr/>
          </p:nvSpPr>
          <p:spPr>
            <a:xfrm>
              <a:off x="5954400" y="3405240"/>
              <a:ext cx="202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cc00"/>
                  </a:solidFill>
                  <a:latin typeface="Arial"/>
                </a:rPr>
                <a:t>Barrera secundari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5563080" y="3602160"/>
              <a:ext cx="3654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eaeaea"/>
                  </a:solidFill>
                  <a:latin typeface="Arial"/>
                </a:rPr>
                <a:t>d</a:t>
              </a:r>
              <a:r>
                <a:rPr b="0" lang="it-IT" sz="1000" spc="-1" strike="noStrike" baseline="-25000">
                  <a:solidFill>
                    <a:srgbClr val="eaeaea"/>
                  </a:solidFill>
                  <a:latin typeface="Arial"/>
                </a:rPr>
                <a:t>sec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7188120" y="4500720"/>
              <a:ext cx="787320" cy="2300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7072200" y="4546800"/>
              <a:ext cx="102096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7026120" y="4546800"/>
              <a:ext cx="4608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8093160" y="4546800"/>
              <a:ext cx="46080" cy="1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7512120" y="4592880"/>
              <a:ext cx="93600" cy="6192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7466040" y="4069080"/>
              <a:ext cx="185760" cy="4316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7466040" y="4730760"/>
              <a:ext cx="185760" cy="61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7512120" y="4069080"/>
              <a:ext cx="93600" cy="4316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7512120" y="4730760"/>
              <a:ext cx="93600" cy="61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>
              <a:off x="7559640" y="4084920"/>
              <a:ext cx="1201680" cy="102708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 flipV="1" rot="10802400">
              <a:off x="6353280" y="4083480"/>
              <a:ext cx="1201680" cy="1027080"/>
            </a:xfrm>
            <a:prstGeom prst="pie">
              <a:avLst/>
            </a:prstGeom>
            <a:noFill/>
            <a:ln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42"/>
            <p:cNvSpPr/>
            <p:nvPr/>
          </p:nvSpPr>
          <p:spPr>
            <a:xfrm>
              <a:off x="7559640" y="3930840"/>
              <a:ext cx="0" cy="1015920"/>
            </a:xfrm>
            <a:prstGeom prst="line">
              <a:avLst/>
            </a:prstGeom>
            <a:ln w="1260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43"/>
            <p:cNvSpPr/>
            <p:nvPr/>
          </p:nvSpPr>
          <p:spPr>
            <a:xfrm flipH="1">
              <a:off x="6444720" y="4623120"/>
              <a:ext cx="2273400" cy="0"/>
            </a:xfrm>
            <a:prstGeom prst="line">
              <a:avLst/>
            </a:prstGeom>
            <a:ln w="1260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683320" y="4192920"/>
              <a:ext cx="201600" cy="9190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7" name="Rectangle 47"/>
          <p:cNvSpPr/>
          <p:nvPr/>
        </p:nvSpPr>
        <p:spPr>
          <a:xfrm>
            <a:off x="108000" y="98280"/>
            <a:ext cx="8861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álculo de barreras protectoras secunda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National Council on Radiation Protection and Measurements “Structural Shielding Design and Evaluation for Medical Use of X-rays and Gamma rays of Energies up to 10” MeV, Washington DC: 1976. (NCRP report 49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2.1: Blindaje y diseño de salas de rayos X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álculo del diseño y blindaje de un departamento de radiologí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Text Box 2052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3840" cy="8380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Blindaje radiológico - Cálcul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360" y="1197000"/>
            <a:ext cx="8432640" cy="49053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tualmente basado en NCRP49, PERO  hace tiempo ya que se ha comenzado a revisar (en curso actualment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suposiciones usadas son muy pesimistas, por lo que es común un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apantallamiento excesiv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dispone de diferentes programas de computador, que dan el blindaje en forma de espesores de distintos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Principi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930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ecesitamos, para cada punto de cálculo, la dosis por semana por mA.min, modificada con U y T, y corregida por dista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tenuación requerida es simplemente la relación entre la dosis de diseño y la dosis re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n usarse tablas o cálculos para estimar el apantallamiento requeri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Detall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2682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00"/>
                </a:solidFill>
                <a:latin typeface="Arial"/>
              </a:rPr>
              <a:t>Dosis por semana - primar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atos nuevos utilizados para la versión revisada del informe NCRP49 sugieren que par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100 kVp,  la dosis/unidad de carga = 4.72 mGy/mA-min  a 1 met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125 kVp, la dosis/unidad de carga = 7.17 mGy/mA-min a 1 met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21924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Detall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0240" y="1483920"/>
            <a:ext cx="6737400" cy="3344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tonces si la carga fuera de 500 mA-min/sem a 100 kVp, la dosis primaria serí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822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82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500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4.72 mGy/sem a 1 metro = 2360 mGy/se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93240"/>
            <a:ext cx="7770600" cy="887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cálculo de blindajes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3760" y="1568160"/>
            <a:ext cx="7770600" cy="1251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sando una sala típica de rayos X, podemos calcular la dosis total por semana en un pu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Line 1028"/>
          <p:cNvSpPr/>
          <p:nvPr/>
        </p:nvSpPr>
        <p:spPr>
          <a:xfrm>
            <a:off x="2222640" y="5591160"/>
            <a:ext cx="7189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Line 1029"/>
          <p:cNvSpPr/>
          <p:nvPr/>
        </p:nvSpPr>
        <p:spPr>
          <a:xfrm>
            <a:off x="3529080" y="5591160"/>
            <a:ext cx="3203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Line 1030"/>
          <p:cNvSpPr/>
          <p:nvPr/>
        </p:nvSpPr>
        <p:spPr>
          <a:xfrm flipV="1">
            <a:off x="5751360" y="3457080"/>
            <a:ext cx="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Line 1031"/>
          <p:cNvSpPr/>
          <p:nvPr/>
        </p:nvSpPr>
        <p:spPr>
          <a:xfrm flipH="1">
            <a:off x="2091960" y="3457440"/>
            <a:ext cx="45752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032"/>
          <p:cNvSpPr/>
          <p:nvPr/>
        </p:nvSpPr>
        <p:spPr>
          <a:xfrm>
            <a:off x="2614680" y="3457440"/>
            <a:ext cx="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033"/>
          <p:cNvSpPr/>
          <p:nvPr/>
        </p:nvSpPr>
        <p:spPr>
          <a:xfrm>
            <a:off x="5032440" y="4046400"/>
            <a:ext cx="326880" cy="1103400"/>
          </a:xfrm>
          <a:prstGeom prst="rect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Line 1034"/>
          <p:cNvSpPr/>
          <p:nvPr/>
        </p:nvSpPr>
        <p:spPr>
          <a:xfrm>
            <a:off x="3333600" y="3457440"/>
            <a:ext cx="0" cy="736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1035"/>
          <p:cNvSpPr/>
          <p:nvPr/>
        </p:nvSpPr>
        <p:spPr>
          <a:xfrm flipH="1">
            <a:off x="3137040" y="4194000"/>
            <a:ext cx="196560" cy="293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1036"/>
          <p:cNvSpPr/>
          <p:nvPr/>
        </p:nvSpPr>
        <p:spPr>
          <a:xfrm>
            <a:off x="6067440" y="3790800"/>
            <a:ext cx="1470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despach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Line 1037"/>
          <p:cNvSpPr/>
          <p:nvPr/>
        </p:nvSpPr>
        <p:spPr>
          <a:xfrm>
            <a:off x="4705200" y="4635360"/>
            <a:ext cx="143856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1038"/>
          <p:cNvSpPr/>
          <p:nvPr/>
        </p:nvSpPr>
        <p:spPr>
          <a:xfrm>
            <a:off x="4444920" y="4414680"/>
            <a:ext cx="130320" cy="441360"/>
          </a:xfrm>
          <a:prstGeom prst="rect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AutoShape 1039"/>
          <p:cNvSpPr/>
          <p:nvPr/>
        </p:nvSpPr>
        <p:spPr>
          <a:xfrm rot="16200000">
            <a:off x="4529880" y="4532760"/>
            <a:ext cx="220680" cy="129960"/>
          </a:xfrm>
          <a:prstGeom prst="pie">
            <a:avLst/>
          </a:prstGeom>
          <a:solidFill>
            <a:srgbClr val="99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040"/>
          <p:cNvSpPr/>
          <p:nvPr/>
        </p:nvSpPr>
        <p:spPr>
          <a:xfrm>
            <a:off x="4876560" y="5181480"/>
            <a:ext cx="7372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5 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Oval 1041"/>
          <p:cNvSpPr/>
          <p:nvPr/>
        </p:nvSpPr>
        <p:spPr>
          <a:xfrm>
            <a:off x="5099040" y="4414680"/>
            <a:ext cx="195120" cy="368280"/>
          </a:xfrm>
          <a:prstGeom prst="ellipse">
            <a:avLst/>
          </a:prstGeom>
          <a:solidFill>
            <a:srgbClr val="ca003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Oval 1042"/>
          <p:cNvSpPr/>
          <p:nvPr/>
        </p:nvSpPr>
        <p:spPr>
          <a:xfrm>
            <a:off x="5099040" y="4267080"/>
            <a:ext cx="130320" cy="147600"/>
          </a:xfrm>
          <a:prstGeom prst="ellipse">
            <a:avLst/>
          </a:prstGeom>
          <a:solidFill>
            <a:srgbClr val="ca003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1043"/>
          <p:cNvSpPr/>
          <p:nvPr/>
        </p:nvSpPr>
        <p:spPr>
          <a:xfrm flipH="1">
            <a:off x="5098680" y="4782960"/>
            <a:ext cx="65160" cy="146160"/>
          </a:xfrm>
          <a:prstGeom prst="line">
            <a:avLst/>
          </a:prstGeom>
          <a:ln w="9360">
            <a:solidFill>
              <a:srgbClr val="ca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1044"/>
          <p:cNvSpPr/>
          <p:nvPr/>
        </p:nvSpPr>
        <p:spPr>
          <a:xfrm>
            <a:off x="5229360" y="4782960"/>
            <a:ext cx="64800" cy="146160"/>
          </a:xfrm>
          <a:prstGeom prst="line">
            <a:avLst/>
          </a:prstGeom>
          <a:ln w="9360">
            <a:solidFill>
              <a:srgbClr val="ca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AutoShape 1045"/>
          <p:cNvSpPr/>
          <p:nvPr/>
        </p:nvSpPr>
        <p:spPr>
          <a:xfrm>
            <a:off x="6143760" y="4562640"/>
            <a:ext cx="131760" cy="145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046"/>
          <p:cNvSpPr/>
          <p:nvPr/>
        </p:nvSpPr>
        <p:spPr>
          <a:xfrm>
            <a:off x="6251040" y="4413240"/>
            <a:ext cx="2401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Punto de cálcul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98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 de blindajes - Primari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9040" y="2209680"/>
            <a:ext cx="8130960" cy="4114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U = 0.25, y T = 1 (un despacho) y la distancia desde el tubo de rayos X es 2,5 m, entonces la dosis primaria real por semana 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(2360 </a:t>
            </a:r>
            <a:r>
              <a:rPr b="0" lang="es-E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0.25 </a:t>
            </a:r>
            <a:r>
              <a:rPr b="0" lang="es-ES" sz="3200" spc="-1" strike="noStrike">
                <a:solidFill>
                  <a:srgbClr val="ffcc00"/>
                </a:solidFill>
                <a:latin typeface="Wingdings 2"/>
                <a:ea typeface="Wingdings 2"/>
              </a:rPr>
              <a:t>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1)/2.5</a:t>
            </a:r>
            <a:r>
              <a:rPr b="0" lang="es-E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=  94.4 mGy/s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MUNDIYANICKAL, Abraham</cp:lastModifiedBy>
  <cp:lastPrinted>2009-09-03T13:26:37Z</cp:lastPrinted>
  <dcterms:modified xsi:type="dcterms:W3CDTF">2009-09-11T10:22:45Z</dcterms:modified>
  <cp:revision>115</cp:revision>
  <dc:subject>Practical on Shielding calculation</dc:subject>
  <dc:title>RADIATION PROTECTION IN DIAGNOSTIC RADIOLOGY</dc:title>
</cp:coreProperties>
</file>