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2691-954D-4021-859D-A51FD9073F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nation or/and additional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s for the lecturer/tr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Part No...., Module No....Lesson 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Module titl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IAEA Post Graduate Educational Course in Radiation Protection and Safe Use of Radiation Sourc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t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art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ule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module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…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session number and 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pon completion of this lesson, the  students  will 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 (Add a list of what the students are expected to learn or be able to do upon completion of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the method used for presenting or conducting the lesson – lecture,  demonstration, exercise, laboratory exercise, case study, simulati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 presentation time or duration of the session – h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erials and equipment needed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List materials and equipment needed to conduct the session, if appropri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List the references for the s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36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26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36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2240" y="127080"/>
            <a:ext cx="8534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260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260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Picture 4" descr="_x0012_slide_logo_bg2.jpg                                             00056D31_x000c_Macintosh HD                   B746CC0A: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4 Marcador de pie de página"/>
          <p:cNvSpPr/>
          <p:nvPr/>
        </p:nvSpPr>
        <p:spPr>
          <a:xfrm>
            <a:off x="2647800" y="6473880"/>
            <a:ext cx="38354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5d7d8"/>
                </a:solidFill>
                <a:latin typeface="Arial"/>
              </a:rPr>
              <a:t>15.6: Optimización de la protección en radiografí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47680" y="654048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F728-83EE-4FAF-B1E9-70D4627B826A}" type="slidenum">
              <a:rPr b="0" lang="en-GB" sz="9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Picture 3" descr="\\pc26995\Projects\ICS\ICS.VB6\ICSUI\Graphics\IAEAlogo_Black.wmf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\\161.5.128.084\MTIT-Home\ALICV\My Documents\My Pictures\IAEAPresBkngd.bmp"/>
          <p:cNvPicPr/>
          <p:nvPr/>
        </p:nvPicPr>
        <p:blipFill>
          <a:blip r:embed="rId3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260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ROTECCIÓN RADIOLÓGICA EN RADIODIAGNÓSTICO Y EN RADIOLOGÍA INTERVENCIONISTA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94948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te 15.6: Optimización de la protección en radiograf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jercicio práctico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Alineación campo de luz – campo de radiació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61960" y="1666800"/>
            <a:ext cx="6998400" cy="4343400"/>
            <a:chOff x="1461960" y="1666800"/>
            <a:chExt cx="6998400" cy="4343400"/>
          </a:xfrm>
        </p:grpSpPr>
        <p:sp>
          <p:nvSpPr>
            <p:cNvPr id="127" name="Rectangle 3"/>
            <p:cNvSpPr/>
            <p:nvPr/>
          </p:nvSpPr>
          <p:spPr>
            <a:xfrm>
              <a:off x="1869840" y="1971720"/>
              <a:ext cx="4472280" cy="3429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ctr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Oval 4"/>
            <p:cNvSpPr/>
            <p:nvPr/>
          </p:nvSpPr>
          <p:spPr>
            <a:xfrm>
              <a:off x="1461960" y="3267000"/>
              <a:ext cx="544680" cy="609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Oval 5"/>
            <p:cNvSpPr/>
            <p:nvPr/>
          </p:nvSpPr>
          <p:spPr>
            <a:xfrm>
              <a:off x="3630600" y="1666800"/>
              <a:ext cx="542880" cy="609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Oval 6"/>
            <p:cNvSpPr/>
            <p:nvPr/>
          </p:nvSpPr>
          <p:spPr>
            <a:xfrm>
              <a:off x="6068880" y="3343320"/>
              <a:ext cx="542880" cy="609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Oval 7"/>
            <p:cNvSpPr/>
            <p:nvPr/>
          </p:nvSpPr>
          <p:spPr>
            <a:xfrm>
              <a:off x="3698640" y="5400720"/>
              <a:ext cx="543240" cy="609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Oval 8"/>
            <p:cNvSpPr/>
            <p:nvPr/>
          </p:nvSpPr>
          <p:spPr>
            <a:xfrm>
              <a:off x="2208240" y="2505240"/>
              <a:ext cx="338040" cy="38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2208240" y="4640400"/>
              <a:ext cx="338040" cy="377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6984360" y="2124000"/>
              <a:ext cx="147600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Sombras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monedas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Text Box 11"/>
            <p:cNvSpPr/>
            <p:nvPr/>
          </p:nvSpPr>
          <p:spPr>
            <a:xfrm>
              <a:off x="6882480" y="4713480"/>
              <a:ext cx="119556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Campo 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rayos X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H="1">
              <a:off x="6678000" y="2809800"/>
              <a:ext cx="398520" cy="5335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 flipH="1" flipV="1">
              <a:off x="4308480" y="1893600"/>
              <a:ext cx="2776320" cy="3826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 flipH="1">
              <a:off x="6474960" y="4943520"/>
              <a:ext cx="338040" cy="745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3224160" y="1971360"/>
              <a:ext cx="0" cy="304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2819880" y="2274840"/>
              <a:ext cx="251820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Error de alineación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D:\Nikon Images\Radiology pics 2\DSCN0050.JPG"/>
          <p:cNvPicPr/>
          <p:nvPr/>
        </p:nvPicPr>
        <p:blipFill>
          <a:blip r:embed="rId1"/>
          <a:srcRect l="6249" t="3125" r="7814" b="0"/>
          <a:stretch/>
        </p:blipFill>
        <p:spPr>
          <a:xfrm>
            <a:off x="1724040" y="1371600"/>
            <a:ext cx="5665680" cy="4791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Película expuesta – método alternativo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erspectiva general / Objetivo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4960" y="1399680"/>
            <a:ext cx="73263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teria objeto : control de calidad de un sistema de radiografía gener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 a seguir paso a paso para implantar el test de QC conside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imación del haz y alineamiento de la bandeja del “bucky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nterpretación de result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Parte 15.6: Optimización de la protección en radiografía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972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limación del haz y alineamiento de la bandeja del “bucky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57200" y="304920"/>
            <a:ext cx="83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ecff"/>
                </a:solidFill>
                <a:latin typeface="Arial"/>
              </a:rPr>
              <a:t>Material de entrenamiento del OIEA sobre protección radiológica en radiodiagnóstico y en radiología intervencionis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¿Cuál es el mínimo equipamiento necesario?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39960" y="1485720"/>
            <a:ext cx="744048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Herramienta de alineamiento del haz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rcadores metálicos (ej.,: moneda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has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elícul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Alineación campo de luz – campo de radiació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400040"/>
            <a:ext cx="808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Arial"/>
              </a:rPr>
              <a:t>Méto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locar un chasis cargado sobre la camilla a 100 cm FFD (distancia foco-películ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el haz de luz a un campo ~ 20 </a:t>
            </a:r>
            <a:r>
              <a:rPr b="0" lang="es-ES" sz="2800" spc="-1" strike="noStrike">
                <a:solidFill>
                  <a:srgbClr val="ffffcc"/>
                </a:solidFill>
                <a:latin typeface="Wingdings 2"/>
                <a:ea typeface="Wingdings 2"/>
              </a:rPr>
              <a:t>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20 c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locar marcadores metálicos (ej., monedas) a cada borde del campo más una en el extremo del ánodo, y una encima del campo – usar un equipo de test si hay dispon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Hacer una exposición a ~5 mAs y 70 kV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9880"/>
            <a:ext cx="7773840" cy="1044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Alineación campo de luz – campo de radiació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09520" y="1467000"/>
            <a:ext cx="7664400" cy="4647960"/>
            <a:chOff x="1109520" y="1467000"/>
            <a:chExt cx="7664400" cy="4647960"/>
          </a:xfrm>
        </p:grpSpPr>
        <p:sp>
          <p:nvSpPr>
            <p:cNvPr id="105" name="Rectangle 3"/>
            <p:cNvSpPr/>
            <p:nvPr/>
          </p:nvSpPr>
          <p:spPr>
            <a:xfrm>
              <a:off x="1650600" y="2076480"/>
              <a:ext cx="4472280" cy="342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ctr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Oval 4"/>
            <p:cNvSpPr/>
            <p:nvPr/>
          </p:nvSpPr>
          <p:spPr>
            <a:xfrm>
              <a:off x="1109520" y="3371760"/>
              <a:ext cx="541080" cy="609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3616200" y="1467000"/>
              <a:ext cx="541080" cy="609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6122880" y="3448080"/>
              <a:ext cx="539640" cy="609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3479400" y="5505480"/>
              <a:ext cx="543240" cy="609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Oval 8"/>
            <p:cNvSpPr/>
            <p:nvPr/>
          </p:nvSpPr>
          <p:spPr>
            <a:xfrm>
              <a:off x="1989000" y="2610000"/>
              <a:ext cx="338040" cy="38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1989000" y="4745160"/>
              <a:ext cx="338040" cy="377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6867720" y="2303640"/>
              <a:ext cx="138132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Monedas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2467080" y="2530440"/>
              <a:ext cx="282456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Marcador del ánodo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2385000" y="4630680"/>
              <a:ext cx="341460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Marcador de orientación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 flipH="1">
              <a:off x="6594120" y="2838600"/>
              <a:ext cx="408240" cy="53316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 flipH="1" flipV="1">
              <a:off x="4358520" y="1771560"/>
              <a:ext cx="2506680" cy="60984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Text Box 15"/>
            <p:cNvSpPr/>
            <p:nvPr/>
          </p:nvSpPr>
          <p:spPr>
            <a:xfrm>
              <a:off x="6786000" y="4859280"/>
              <a:ext cx="1987920" cy="42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320" rIns="8532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Campo de luz</a:t>
              </a:r>
              <a:endParaRPr b="0" lang="en-US" sz="2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H="1">
              <a:off x="6189480" y="5122800"/>
              <a:ext cx="541440" cy="2304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étodo alternativo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5320" y="1438200"/>
            <a:ext cx="808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locar dos monedas a cada borde – que toquen el borde del campo de luz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Hacer una exposición ligeramente más baja, y acto seguido abrir el haz luminoso para incluir ambas monedas, y hacer otra exposición, de alrededor de la mitad de los mAs de la prime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Esto hará visibles las monedas incluso si el haz de rayos X está muy mal alinea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:\Nikon Images\Radiology pics 2\DSCN0043.JPG"/>
          <p:cNvPicPr/>
          <p:nvPr/>
        </p:nvPicPr>
        <p:blipFill>
          <a:blip r:embed="rId1"/>
          <a:srcRect l="0" t="19311" r="0" b="0"/>
          <a:stretch/>
        </p:blipFill>
        <p:spPr>
          <a:xfrm>
            <a:off x="733320" y="1419120"/>
            <a:ext cx="7696440" cy="4659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Método alternativo – Campo de luz abierto para la segunda exposición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2240" y="12708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Alineación campo de luz – campo de radiació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3800" y="1467000"/>
            <a:ext cx="707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Análisis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velar la películ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robar que se pueden ver las mone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edir la distancia entre la moneda y el borde del haz de rayos 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14:06:13Z</dcterms:created>
  <dc:creator>IAEA</dc:creator>
  <dc:description>IAEA Training Material on Radiation Protection in Diagnostic and Interventional Radiology</dc:description>
  <dc:language>en-US</dc:language>
  <cp:lastModifiedBy>BRITTINGER, Maria Theresa</cp:lastModifiedBy>
  <dcterms:modified xsi:type="dcterms:W3CDTF">2009-09-08T11:36:30Z</dcterms:modified>
  <cp:revision>70</cp:revision>
  <dc:subject>Practical on alignment</dc:subject>
  <dc:title>RADIATION PROTECTION IN DIAGNOSTIC RADIOLOGY</dc:title>
</cp:coreProperties>
</file>