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0C12-9842-48CD-9788-4B261F3624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e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e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1700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1700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797200" y="6483240"/>
            <a:ext cx="3524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9.9 : Optimización de la protección en mam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60640" y="653724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89AF-ECFF-4B66-8A40-8FBD9ABD7A58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923920"/>
            <a:ext cx="9144000" cy="172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9.9: Optimización de la protección en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715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Luz de seguridad de la cámara oscura (II)</a:t>
            </a:r>
            <a:endParaRPr b="1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19040" y="1397160"/>
          <a:ext cx="8496360" cy="4081320"/>
        </p:xfrm>
        <a:graphic>
          <a:graphicData uri="http://schemas.openxmlformats.org/drawingml/2006/table">
            <a:tbl>
              <a:tblPr/>
              <a:tblGrid>
                <a:gridCol w="2685960"/>
                <a:gridCol w="58104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alor límit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lo extra: </a:t>
                      </a: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 </a:t>
                      </a: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0.10 OD en 4 minut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ecuenci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icialmente, cada seis meses y cada vez que cambia el entorno exterior de la cámara oscur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quipamient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apa para la película, densitómetr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0840" y="1523520"/>
            <a:ext cx="8126280" cy="37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oder aplicar un protocolo de control de calidad al equipamiento de mam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valuar fugas de luz en la cámara oscu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valuar la luz de seguridad  de la cámara oscu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9.9: Optimización de la protección en mam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valuación de la cámara oscu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ugas de luz en la cámara oscura (I)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0200" y="1504800"/>
            <a:ext cx="8060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ermanecer en la cámara oscura durante un mínimo de cinco minutos con todas las luces apagadas, incluidas las de segur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segurarse de que las salas adyacentes están completamente ilumina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speccionar todas aquellas áreas que pueden ser probablemente una fuente de fugas de luz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ugas de luz en la cámara oscura (II)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necesita una película expuesta previamente con una OD de aproximadamente 1.2, para medir el velo extra resultante de cualquier fuga de luz u otras fuentes luminos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siempre diferencias de densidad óptica en una línea perpendicular al eje del tubo para evitar la influencia del efecto tac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ugas de luz en la cámara oscura (III)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9840" y="1343160"/>
            <a:ext cx="8516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brir el chasis con la película expuesta previamente y colocar la película (emulsión hacia arriba) sobre el (parte adecuada del) banco de trabaj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apar la mitad de la película y exponerla durante cuatro minuto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Tapar la película también en perpendicular al efecto tacón para evitar la influencia de esta falta de homogeneidad en las medid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2240" y="1551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ugas de luz en la cámara oscura (IV)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la diferencia de densidad óptica del fondo (D</a:t>
            </a:r>
            <a:r>
              <a:rPr b="0" lang="es-ES" sz="3200" spc="-1" strike="noStrike" baseline="-25000">
                <a:solidFill>
                  <a:srgbClr val="ffffcc"/>
                </a:solidFill>
                <a:latin typeface="Arial"/>
              </a:rPr>
              <a:t>fondo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) y del área velada (D</a:t>
            </a:r>
            <a:r>
              <a:rPr b="0" lang="es-ES" sz="3200" spc="-1" strike="noStrike" baseline="-25000">
                <a:solidFill>
                  <a:srgbClr val="ffffcc"/>
                </a:solidFill>
                <a:latin typeface="Arial"/>
              </a:rPr>
              <a:t>velada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velo extra (DD) val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DD = D</a:t>
            </a:r>
            <a:r>
              <a:rPr b="0" lang="es-ES" sz="3200" spc="-1" strike="noStrike" baseline="-25000">
                <a:solidFill>
                  <a:srgbClr val="ffcc00"/>
                </a:solidFill>
                <a:latin typeface="Arial"/>
              </a:rPr>
              <a:t>velada</a:t>
            </a: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 - D</a:t>
            </a:r>
            <a:r>
              <a:rPr b="0" lang="es-ES" sz="3200" spc="-1" strike="noStrike" baseline="-25000">
                <a:solidFill>
                  <a:srgbClr val="ffcc00"/>
                </a:solidFill>
                <a:latin typeface="Arial"/>
              </a:rPr>
              <a:t>fon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2240" y="11700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Fugas de luz en la cámara oscura (V) 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52600" y="1397160"/>
          <a:ext cx="8096040" cy="4528800"/>
        </p:xfrm>
        <a:graphic>
          <a:graphicData uri="http://schemas.openxmlformats.org/drawingml/2006/table">
            <a:tbl>
              <a:tblPr/>
              <a:tblGrid>
                <a:gridCol w="2685960"/>
                <a:gridCol w="541008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alor límit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lo extra: </a:t>
                      </a: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 </a:t>
                      </a: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0.02 OD en 4 minuto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8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ecuenci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icialmente, cada seis meses y cuando se sospecha de fugas de luz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quipamient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apa para película, densitómetr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2600" y="117000"/>
            <a:ext cx="8724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ecff"/>
                </a:solidFill>
                <a:latin typeface="Arial"/>
              </a:rPr>
              <a:t>Luz de seguridad de la cámara oscura (I)</a:t>
            </a:r>
            <a:endParaRPr b="1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1000" y="1309680"/>
            <a:ext cx="77547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mprobar visualmente que todas las luces de seguridad están en buenas condiciones (filtros no agrietados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Medir el velo extra resultante de las luces de seguridad, según el mismo procedimiento descrito para las fugas de luz, pero con las luces de seguridad encendida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segurarse de que las luces de seguridad se encendieron más de cinco minutos antes  para evitar los efectos del encendido ini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cp:lastPrinted>2009-09-08T11:13:26Z</cp:lastPrinted>
  <dcterms:modified xsi:type="dcterms:W3CDTF">2009-09-08T11:25:22Z</dcterms:modified>
  <cp:revision>111</cp:revision>
  <dc:subject>Practical on dark room evaluation</dc:subject>
  <dc:title>RADIATION PROTECTION IN DIAGNOSTIC RADIOLOGY</dc:title>
</cp:coreProperties>
</file>