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7A4-AE86-431B-B50C-53B02450C4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4616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43200" y="6502320"/>
            <a:ext cx="3654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5.3: Optimización de la protección en radi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55040" y="6529320"/>
            <a:ext cx="36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B8B-24B9-437D-86C1-BFF0BC316C35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</a:t>
            </a:r>
            <a:br>
              <a:rPr sz="3200"/>
            </a:b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INTERVENCIONISTA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3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– medida de la HV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8"/>
          <p:cNvSpPr/>
          <p:nvPr/>
        </p:nvSpPr>
        <p:spPr>
          <a:xfrm>
            <a:off x="511200" y="246240"/>
            <a:ext cx="62614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3200" spc="-1" strike="noStrike">
                <a:solidFill>
                  <a:srgbClr val="ccecff"/>
                </a:solidFill>
                <a:latin typeface="Arial"/>
              </a:rPr>
              <a:t>Geometría de medida de la HV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0240" y="1077840"/>
            <a:ext cx="7891200" cy="5037480"/>
            <a:chOff x="480240" y="1077840"/>
            <a:chExt cx="7891200" cy="5037480"/>
          </a:xfrm>
        </p:grpSpPr>
        <p:sp>
          <p:nvSpPr>
            <p:cNvPr id="113" name="Rectangle 2"/>
            <p:cNvSpPr/>
            <p:nvPr/>
          </p:nvSpPr>
          <p:spPr>
            <a:xfrm>
              <a:off x="5099040" y="1103400"/>
              <a:ext cx="1503360" cy="662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Rectangle 3"/>
            <p:cNvSpPr/>
            <p:nvPr/>
          </p:nvSpPr>
          <p:spPr>
            <a:xfrm>
              <a:off x="4444920" y="5959440"/>
              <a:ext cx="3006720" cy="74520"/>
            </a:xfrm>
            <a:prstGeom prst="rect">
              <a:avLst/>
            </a:prstGeom>
            <a:solidFill>
              <a:srgbClr val="fcd3c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5229360" y="5886360"/>
              <a:ext cx="1241280" cy="73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5359320" y="5518080"/>
              <a:ext cx="981000" cy="368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>
              <a:off x="5491080" y="2281320"/>
              <a:ext cx="784440" cy="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5491080" y="1765440"/>
              <a:ext cx="717480" cy="441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5686560" y="5518080"/>
              <a:ext cx="326880" cy="73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AutoShape 9"/>
            <p:cNvSpPr/>
            <p:nvPr/>
          </p:nvSpPr>
          <p:spPr>
            <a:xfrm rot="10800000">
              <a:off x="5621400" y="2206800"/>
              <a:ext cx="457200" cy="3311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2660760" y="1297080"/>
              <a:ext cx="2241360" cy="1746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2023920" y="1946160"/>
              <a:ext cx="3335400" cy="399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 flipV="1">
              <a:off x="3198960" y="2281320"/>
              <a:ext cx="2160360" cy="3412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2593800" y="3666960"/>
              <a:ext cx="2962440" cy="111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2417760" y="4562640"/>
              <a:ext cx="3073320" cy="8823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157480" y="5224320"/>
              <a:ext cx="2941560" cy="6620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87440" y="5959440"/>
              <a:ext cx="2025720" cy="74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>
              <a:off x="6934320" y="1471680"/>
              <a:ext cx="0" cy="4046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204680" y="2833560"/>
              <a:ext cx="11667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en-AU" sz="2200" spc="-1" strike="noStrike">
                  <a:solidFill>
                    <a:srgbClr val="ffcc00"/>
                  </a:solidFill>
                  <a:latin typeface="Arial"/>
                </a:rPr>
                <a:t>~ 75 cm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70600" y="571644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Mesa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57400" y="4973760"/>
              <a:ext cx="95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Plom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36160" y="429732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7320" y="3459240"/>
              <a:ext cx="199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Haz de rayos X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400" y="2430360"/>
              <a:ext cx="26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L</a:t>
              </a:r>
              <a:r>
                <a:rPr b="1" lang="en-GB" sz="20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áminas de alumini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7760" y="1725480"/>
              <a:ext cx="143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Colimador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0240" y="107784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cc"/>
                  </a:solidFill>
                  <a:latin typeface="Arial"/>
                </a:rPr>
                <a:t>Tubo de rayos X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pa hemirreductora (</a:t>
            </a: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HVL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)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ñadir 1 mm de aluminio al haz (mejor junto al colimador), y medir la dosi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ñadir otra lámina de 1 mm Al, medir de nuevo y repetir hasta que la dosis haya caído a menos del 50% del valor inicial, sin aten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tirar todo el Al, y hacer tres exposiciones má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pa hemirreductora (</a:t>
            </a: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HVL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)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1960" y="13240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Anális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omediar todas las medidas sin 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bujar los resultados en papel gráfico semilogarítmic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 partir del gráfico, encontrar el espesor de Al requerido para reducir la dosis sin atenuación al 50% - esta es la HV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HVL debe ser al menos el nivel especificado en la normativa local, ej., 2.3 mm Al a 80 kV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5640" y="152280"/>
            <a:ext cx="7770960" cy="741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 de la HVL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8040" y="1765440"/>
            <a:ext cx="3659040" cy="41162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ebido al endurecimiento paulatino del haz, el trazado semilogarítmico no es una línea rect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sar puntos a cada lado del valor inicial mit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alcular HVL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(valor inicial = 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50% de este = 4.5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luego la HVL = 2.6 mm Al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4343400" y="1981080"/>
          <a:ext cx="4267080" cy="34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426708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Line 5"/>
          <p:cNvSpPr/>
          <p:nvPr/>
        </p:nvSpPr>
        <p:spPr>
          <a:xfrm>
            <a:off x="7124760" y="2722680"/>
            <a:ext cx="0" cy="2361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4772160" y="3016080"/>
            <a:ext cx="38098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496400" y="1509840"/>
            <a:ext cx="925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cc00"/>
                </a:solidFill>
                <a:latin typeface="Arial"/>
              </a:rPr>
              <a:t>Dos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7466760" y="4952880"/>
            <a:ext cx="1019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AU" sz="2200" spc="-1" strike="noStrike">
                <a:solidFill>
                  <a:srgbClr val="ffcc00"/>
                </a:solidFill>
                <a:latin typeface="Arial"/>
              </a:rPr>
              <a:t>mm A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2743200" y="2361960"/>
            <a:ext cx="2135160" cy="15238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3048120" y="4343400"/>
            <a:ext cx="4151160" cy="2080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85640" y="5688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Valores mínimos de HVL (IEC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762120" y="1322280"/>
          <a:ext cx="748188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22280"/>
                    <a:ext cx="7481880" cy="48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4"/>
          <p:cNvSpPr/>
          <p:nvPr/>
        </p:nvSpPr>
        <p:spPr>
          <a:xfrm>
            <a:off x="4039920" y="3675240"/>
            <a:ext cx="2621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100" spc="-1" strike="noStrike">
                <a:solidFill>
                  <a:srgbClr val="ffcc00"/>
                </a:solidFill>
                <a:latin typeface="Arial"/>
              </a:rPr>
              <a:t>No aceptable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757600" y="1963800"/>
            <a:ext cx="2052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3100" spc="-1" strike="noStrike">
                <a:solidFill>
                  <a:srgbClr val="ffffcc"/>
                </a:solidFill>
                <a:latin typeface="Arial"/>
              </a:rPr>
              <a:t>Aceptable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1160" y="1590480"/>
            <a:ext cx="713736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medida de la HVL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a seguir paso a paso para implantar el test de QC conside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los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3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iltración (HV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pa hemirreductora (</a:t>
            </a: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HVL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)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siblemente la prueba más import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rueba si hay suficiente filtración en el haz de rayos X para eliminar radiación de baja energía dañ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uál es el equipamiento mínimo necesario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quipo electrónico (multímetro) para medir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áminas de aluminio de alta pureza. La mayoría del aluminio comercial tiene altos niveles de impurezas de nº atómico alto, ej., C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ámina de plo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inta métrica, ni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200" y="209160"/>
            <a:ext cx="7543800" cy="7239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jemplo de herramienta para HVL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4" name="Picture 3" descr="D:\MyFiles\PowerPoint\images\HVL.TIF"/>
          <p:cNvPicPr/>
          <p:nvPr/>
        </p:nvPicPr>
        <p:blipFill>
          <a:blip r:embed="rId1"/>
          <a:srcRect l="0" t="0" r="0" b="20802"/>
          <a:stretch/>
        </p:blipFill>
        <p:spPr>
          <a:xfrm>
            <a:off x="2438280" y="1295280"/>
            <a:ext cx="37083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áminas de cobre y plom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6" name="Picture 1027" descr="D:\MyFiles\PowerPoint\images\PB-CU.TIF"/>
          <p:cNvPicPr/>
          <p:nvPr/>
        </p:nvPicPr>
        <p:blipFill>
          <a:blip r:embed="rId1"/>
          <a:srcRect l="0" t="15231" r="10221" b="8583"/>
          <a:stretch/>
        </p:blipFill>
        <p:spPr>
          <a:xfrm>
            <a:off x="1241280" y="1254240"/>
            <a:ext cx="69296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inta métrica, nivel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8" name="Picture 3" descr="D:\MyFiles\PowerPoint\images\TAPE.TIF"/>
          <p:cNvPicPr/>
          <p:nvPr/>
        </p:nvPicPr>
        <p:blipFill>
          <a:blip r:embed="rId1"/>
          <a:srcRect l="0" t="19989" r="13393" b="18110"/>
          <a:stretch/>
        </p:blipFill>
        <p:spPr>
          <a:xfrm>
            <a:off x="990720" y="1733400"/>
            <a:ext cx="72565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pa hemirreductora (</a:t>
            </a: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HVL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)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étodo (el más simple – usando un multímetro) 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ocar el detector a ~ 75 cm del foco, sobre plomo o vinilo plomado (para estandarizar la retrodispersió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leccionar 80 kVp y mAs fijos (ej., 50 m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imar el haz de rayos X al tamaño del det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exposición tres ve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9-09-04T08:05:09Z</cp:lastPrinted>
  <dcterms:modified xsi:type="dcterms:W3CDTF">2009-09-04T08:18:00Z</dcterms:modified>
  <cp:revision>70</cp:revision>
  <dc:subject>Practical on HVL</dc:subject>
  <dc:title>RADIATION PROTECTION IN DIAGNOSTIC RADIOLOGY</dc:title>
</cp:coreProperties>
</file>