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9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8.png" ContentType="image/png"/>
  <Override PartName="/ppt/media/image6.jpeg" ContentType="image/jpeg"/>
  <Override PartName="/ppt/media/image24.jpeg" ContentType="image/jpeg"/>
  <Override PartName="/ppt/media/image22.png" ContentType="image/png"/>
  <Override PartName="/ppt/media/image23.wmf" ContentType="image/x-wmf"/>
  <Override PartName="/ppt/media/image5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AA9-7981-4853-91E1-434D97E9549D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E28E-4A1A-40D5-BDBD-078BFA35A578}" type="slidenum"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33cc33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E099-519D-4900-8D81-02F0E51A5ECD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1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519-C398-4AA8-BD5D-E662A1323C54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2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D5A-CF06-43E9-BD9E-A09152D3B07A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9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20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D0C-8AF0-4BF1-9D3C-A56C1A0EB650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25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7299-C5F2-43F2-B6FB-EE512192D07C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2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F94-9013-4A35-940C-76E5E0249A0E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8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AB7-2886-4857-BC7C-FA874B320D6A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2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4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7914-7D9F-41CB-B891-FE8C9DB19581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44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374-8209-4431-ADC5-5A56ECFF2B4E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50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0E9-A1E0-4575-A86C-CD0E04B2FAEF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56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3AA-FA0C-4AD7-A866-1173211941D2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1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0BE-F9D4-44AB-A2CF-2EE445A8337F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8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26B4-94A6-4806-81DB-83EB72623560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72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73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74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C0B9-B9B2-4991-9965-9F9B90FABE27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7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0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63A0-68C6-4098-9D08-7AAA49928BF4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0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1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6B44-E400-488D-A726-43ECAA445855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5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6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C5D5-08C4-4285-98F0-D2B69EF715CD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948B-C62D-4412-BC6A-232497244459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8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C88-9EDE-45F1-A1E7-8A96D87CDD93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9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0773-47E8-4ADD-9486-C7EDBDFA6049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3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4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E5D-6DB9-4A5B-9932-47EE16F3C07A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34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35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36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0C7-8F91-4941-859B-49C3EB9E4491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0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1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2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342-BCEA-4BA2-9A17-FC3C7D8E3200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6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7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48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49E-C794-4F63-B191-64C224AF3270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52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53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54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FCE-AF68-425D-A33D-39E9E449A1ED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55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12A-EC67-4FDA-B838-A50ED377710A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6629-7FC9-4C49-AD96-CB2AE3D6848B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7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B599-9EFD-41BF-A96D-BDF927C5A27D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8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9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2C0-F6A5-4DD5-BADD-F226037F3050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art No...., Module No....Lesson No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84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odule title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IAEA Post Graduate Educational Course in Radiation Protection in Pediatric Radiology</a:t>
            </a:r>
            <a:endParaRPr b="0" lang="en-US" sz="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86" name="Slide Number Placeholder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1855-4272-41ED-B81A-033C12B96DD4}" type="slidenum"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B6F8-A2F6-4404-9C0E-3A9CEF99F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2DEB-3AA4-4836-84E6-8307A94F9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163E-D71D-4C26-972D-8D350F680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DCC0-7D26-4DA3-BAC7-0015F4AD9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68DA-0607-4304-B8E8-A3A9EB19C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41F8-C495-4E25-A72B-BAC353461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27A9-16FB-42F6-BD07-A62DAD8D9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3517-7488-469B-8D4E-467D01A07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BEBF-13BB-44CB-9D7F-361539ED3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9BF6-DC6F-497E-BE4F-E8D553B1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8D3B-F66E-4785-B8FA-2FC6AD611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1671-B8A5-4439-ABE7-C8CB1479F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IAEA</a:t>
            </a:r>
            <a:endParaRPr b="0" lang="en-US" sz="22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F4F-200D-4FA2-9A5A-65FCC1215E0F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2640" y="612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Unicode MS"/>
              </a:rPr>
              <a:t>Radiation Protection in Paediatric Radiology</a:t>
            </a:r>
            <a:endParaRPr b="1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77720" y="2284560"/>
            <a:ext cx="836928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3399"/>
                </a:solidFill>
                <a:latin typeface="Arial Unicode MS"/>
              </a:rPr>
              <a:t>Radiation Protection of Children in Digital Radiography</a:t>
            </a:r>
            <a:endParaRPr b="0" lang="en-US" sz="4400" spc="-1" strike="noStrike">
              <a:solidFill>
                <a:srgbClr val="003399"/>
              </a:solidFill>
              <a:latin typeface="Arial Unicode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851280" y="414972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L04</a:t>
            </a:r>
            <a:endParaRPr b="0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449B-A5E3-4283-B499-446E6DFD2D54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creen-film </a:t>
            </a:r>
            <a:r>
              <a:rPr b="1" i="1" lang="en-GB" sz="3600" spc="-1" strike="noStrike">
                <a:solidFill>
                  <a:srgbClr val="003399"/>
                </a:solidFill>
                <a:latin typeface="Arial Unicode MS"/>
              </a:rPr>
              <a:t>vs</a:t>
            </a: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68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Digital images can be numerically modified  (not possible in screen-film radiography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19680" indent="-31968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Digital images can be easily transmitted through networks and archiv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19680" indent="-319680">
              <a:spcBef>
                <a:spcPts val="601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Attention should be paid to the potential increase of patient dose due to a tendency to:</a:t>
            </a: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7600" indent="-262800">
              <a:spcBef>
                <a:spcPts val="601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Unicode MS"/>
              </a:rPr>
              <a:t>produce more images than needed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7600" indent="-262800">
              <a:spcBef>
                <a:spcPts val="601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Unicode MS"/>
              </a:rPr>
              <a:t>produce higher image quality not necessarily required for the clinical purpos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242120" y="3500280"/>
            <a:ext cx="19018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4D73-1A05-477F-A69B-B174B69E5700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34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creen-film </a:t>
            </a:r>
            <a:r>
              <a:rPr b="1" i="1" lang="en-GB" sz="3600" spc="-1" strike="noStrike">
                <a:solidFill>
                  <a:srgbClr val="003399"/>
                </a:solidFill>
                <a:latin typeface="Arial Unicode MS"/>
              </a:rPr>
              <a:t>vs</a:t>
            </a: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236000" y="1700280"/>
            <a:ext cx="1218960" cy="1144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236000" y="3716280"/>
            <a:ext cx="1225440" cy="147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50920" y="1484280"/>
            <a:ext cx="66913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3040" indent="-47304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onventional films directly show the</a:t>
            </a:r>
            <a:r>
              <a:rPr b="0" lang="en-GB" sz="28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election of wrong exposure parameters: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images are too white or too black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473040" indent="-473040">
              <a:lnSpc>
                <a:spcPct val="50000"/>
              </a:lnSpc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473040" indent="-47304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Digital technology always provides user with a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“good image”,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 since its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dynamic rang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and tone-scaling</a:t>
            </a:r>
            <a:r>
              <a:rPr b="0" lang="en-GB" sz="28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ompensates for wrong settings even if the dose is higher than necessar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68C5-FDE1-4811-9975-4A628AC7B401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</a:rPr>
              <a:t>What is “dynamic range”?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3040" indent="-47304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Wide dose range to the detector allows 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“good”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tone scale</a:t>
            </a:r>
            <a:r>
              <a:rPr b="0" lang="en-US" sz="28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to be obtained at different dose level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47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473040" indent="-47304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Digital detectors  have a dynamic range of 1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 Unicode MS"/>
              </a:rPr>
              <a:t>4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 (from 1 to 10,000), while a screen-film system has approximately 1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 Unicode MS"/>
              </a:rPr>
              <a:t>1.5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 (from 1 to 30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2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9D8-03CD-4010-B5AD-A1A54F859452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10927" t="15795" r="31839" b="20864"/>
          <a:stretch/>
        </p:blipFill>
        <p:spPr>
          <a:xfrm>
            <a:off x="684360" y="1268280"/>
            <a:ext cx="7848360" cy="4800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95280" y="0"/>
            <a:ext cx="820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creen-film </a:t>
            </a:r>
            <a:r>
              <a:rPr b="1" i="1" lang="en-GB" sz="3600" spc="-1" strike="noStrike">
                <a:solidFill>
                  <a:srgbClr val="003399"/>
                </a:solidFill>
                <a:latin typeface="Arial Unicode MS"/>
              </a:rPr>
              <a:t>vs</a:t>
            </a: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1557360"/>
            <a:ext cx="266364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1557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 Unicode MS"/>
              </a:rPr>
              <a:t>Digital detector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C93-AD8D-41E6-A3D3-C01E4800580C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creen-fim </a:t>
            </a:r>
            <a:r>
              <a:rPr b="1" i="1" lang="en-GB" sz="3600" spc="-1" strike="noStrike">
                <a:solidFill>
                  <a:srgbClr val="003399"/>
                </a:solidFill>
                <a:latin typeface="Arial Unicode MS"/>
              </a:rPr>
              <a:t>vs</a:t>
            </a: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The key advantage of CR and DR is greatly </a:t>
            </a:r>
            <a:r>
              <a:rPr b="0" lang="en-IE" sz="2800" spc="-1" strike="noStrike">
                <a:solidFill>
                  <a:srgbClr val="ff0000"/>
                </a:solidFill>
                <a:latin typeface="Arial Unicode MS"/>
              </a:rPr>
              <a:t>improved contrast resolution</a:t>
            </a: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, accompanied by almost infinite possibilities with digital</a:t>
            </a:r>
            <a:r>
              <a:rPr b="0" lang="en-IE" sz="2800" spc="-1" strike="noStrike">
                <a:solidFill>
                  <a:srgbClr val="33cc33"/>
                </a:solidFill>
                <a:latin typeface="Arial Unicode MS"/>
              </a:rPr>
              <a:t> </a:t>
            </a:r>
            <a:r>
              <a:rPr b="0" lang="en-IE" sz="2800" spc="-1" strike="noStrike">
                <a:solidFill>
                  <a:srgbClr val="ff0000"/>
                </a:solidFill>
                <a:latin typeface="Arial Unicode MS"/>
              </a:rPr>
              <a:t>processing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4C3-9C5D-4F2C-A8C5-4D9EC148FBCB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93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n general, digital imaging has potential for dose reduction while improving image quality and diagnostic accurac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But only with much attention to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 Unicode MS"/>
              </a:rPr>
              <a:t>staff training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 Unicode MS"/>
              </a:rPr>
              <a:t>continuous monitoring of parameters and practice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The key issue is that, because of image processing, the tone scale will continue to look good even if the dose increases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247-668C-4FE2-A801-A6E15E400679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93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But, with digital systems, dose cannot be reduced indefinitely because increased noise reduces image qualit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Be aware of a tendency among technologists to avoid the possibility of repeats by working on the side of overexposure </a:t>
            </a:r>
            <a:r>
              <a:rPr b="0" lang="en-IE" sz="2800" spc="-1" strike="noStrike">
                <a:solidFill>
                  <a:srgbClr val="ff0000"/>
                </a:solidFill>
                <a:latin typeface="Arial Unicode MS"/>
              </a:rPr>
              <a:t>(the term exposure creep has been coined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3D61-2326-49BE-890C-019060941287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dose management in practice (I)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Justification is required for CR and DR studies just as it is for screen-film radiography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Positioning, collimation, and selection of optimized exposure factors, is just as essential as for </a:t>
            </a: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screen-film 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radiography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A team approach to dose management is essential 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34EB-355C-49CF-B943-079B66CDA038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dose management in practice (II)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Team participants should include: radiologist, medical physicist, radiographer/technologist, clinical engineer from the hospital, service engineer, applications specialist and imaging scientist from the manufacturer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Training of the radiologist and radiographer/technologist in the specific operational features of the CR and DR system in use is essential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8DCE-8F5D-474C-9526-F959CC4F22B6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</a:rPr>
              <a:t>CR, DR and dose management for manufacturers (I)</a:t>
            </a:r>
            <a:endParaRPr b="1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7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Manufacturers must provide adequate end-user training as part of the equipment supply packag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Nomenclature for digital imaging processing algorithms and exposure indices must be standardiz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t is essential to make provision for passing the exposure/dose information from the radiological equipment to the PACS and/or patient record in an accessible form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403280" y="6324480"/>
            <a:ext cx="74167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452B-4C2D-4F82-9658-64C073E5F6AB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ducational objectives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At the end of the program, the participant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hould 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Become familiar with different digital imaging modalitie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Understand the influence of digital radiology on image quality and patient dos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Appreciate dose management in paediatric digital radiograph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20E4-9C11-44A7-8E9B-53F0184E4418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</a:rPr>
              <a:t>CR, DR and dose management for manufacturers (II)</a:t>
            </a:r>
            <a:endParaRPr b="1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7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Dose measuring devices and dose indicators must be calibrated and must be protected from casual modification by the operator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Manufacturers and standards organizations must give particular attention to the special issues of paediatric radiology.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B2A-C0AA-4E48-A297-69B5D8A39FF8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xposure indicators in CR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xposure index: term used in relation to the absorbed dose to the phosphor plate (ICRP 93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Method for dose monitoring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Different manufacturers have different indice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IEC 62494-1:2008 specifies definitions and requirements for the exposure index of images acquired with digital X-ray imaging systems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1753-1C53-46D1-9016-36BAC104112C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xposure indicators in CR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332000" y="1341360"/>
          <a:ext cx="6960960" cy="3273480"/>
        </p:xfrm>
        <a:graphic>
          <a:graphicData uri="http://schemas.openxmlformats.org/drawingml/2006/table">
            <a:tbl>
              <a:tblPr/>
              <a:tblGrid>
                <a:gridCol w="1904760"/>
                <a:gridCol w="1341360"/>
                <a:gridCol w="1108080"/>
                <a:gridCol w="1214640"/>
                <a:gridCol w="13921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Manufacture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Exposure indicato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Mean receptor air KERMA (</a:t>
                      </a: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Gy)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Fuji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Kodak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EI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17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30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Agf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lgM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3399"/>
                          </a:solidFill>
                          <a:latin typeface="Arial Unicode MS"/>
                          <a:ea typeface="Arial Unicode MS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339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108"/>
          <p:cNvSpPr/>
          <p:nvPr/>
        </p:nvSpPr>
        <p:spPr>
          <a:xfrm>
            <a:off x="468360" y="4581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IE" sz="2000" spc="-1" strike="noStrike">
                <a:solidFill>
                  <a:srgbClr val="003399"/>
                </a:solidFill>
                <a:latin typeface="Arial Unicode MS"/>
              </a:rPr>
              <a:t>Exposure indicator is related to the air KERMA at the detector and the signal produced by the detector, and correlates with entrance skin air KERMA</a:t>
            </a:r>
            <a:r>
              <a:rPr b="0" lang="en-IE" sz="2000" spc="-1" strike="noStrike">
                <a:solidFill>
                  <a:srgbClr val="ff0000"/>
                </a:solidFill>
                <a:latin typeface="Arial Unicode MS"/>
              </a:rPr>
              <a:t>   </a:t>
            </a:r>
            <a:r>
              <a:rPr b="0" i="1" lang="en-IE" sz="2000" spc="-1" strike="noStrike">
                <a:solidFill>
                  <a:srgbClr val="003399"/>
                </a:solidFill>
                <a:latin typeface="Arial Unicode MS"/>
              </a:rPr>
              <a:t>(Vano, et al, Phys Med Biol 2008, 53:3365-80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9FF-B252-403B-91C2-01E69BBCE11D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30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Digital systems can be operated at almost any level of receptor dos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Receptor dose needs to be tailored to the imaging task (decision is made by a responsible radiologist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 follow up scoliosis examination in children could be performed at receptor dose below 1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µGy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Kushner et al. Pediat. Radiol.1986; Kogutt et al. Pediat. Radiol.1988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59" name="Picture 4" descr="care"/>
          <p:cNvPicPr/>
          <p:nvPr/>
        </p:nvPicPr>
        <p:blipFill>
          <a:blip r:embed="rId1"/>
          <a:srcRect l="16793" t="27890" r="17932" b="3906"/>
          <a:stretch/>
        </p:blipFill>
        <p:spPr>
          <a:xfrm>
            <a:off x="5651640" y="2492280"/>
            <a:ext cx="3311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D63-4227-49CB-A547-4989C7BF0820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99"/>
                </a:solidFill>
                <a:latin typeface="Arial Unicode MS"/>
              </a:rPr>
              <a:t>Training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t is important that radiology departments prepare well for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 </a:t>
            </a: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ntroduction of digital technology, or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a new system involving digital technolog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Well</a:t>
            </a:r>
            <a:r>
              <a:rPr b="0" lang="en-IE" sz="2800" spc="-1" strike="noStrike">
                <a:solidFill>
                  <a:srgbClr val="33cc33"/>
                </a:solidFill>
                <a:latin typeface="Arial Unicode MS"/>
              </a:rPr>
              <a:t>-</a:t>
            </a: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trained staff should adopt a team approach in cooperation with the suppliers technical staff, the hospital’s medical physicist, and maintenance staff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4A4-2D27-496E-B604-8946E5F2BDC7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r>
              <a:rPr b="1" lang="en-GB" sz="2800" spc="-1" strike="noStrike">
                <a:solidFill>
                  <a:srgbClr val="003399"/>
                </a:solidFill>
                <a:latin typeface="Arial Unicode MS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Unicode MS"/>
              </a:rPr>
              <a:t>Processing: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Appropriate digital image processing is crucial in producing an optimised paediatric CR or DR imag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To date there is little standardization in the methods of digital image processing or their nomenclatur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Generic categories of digital image processing: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Unicode MS"/>
              </a:rPr>
              <a:t>Exposure recognition and segmentation (autoscaling)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Unicode MS"/>
              </a:rPr>
              <a:t>Edge restoration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Unicode MS"/>
              </a:rPr>
              <a:t>Contrast enhancement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  <a:p>
            <a:pPr lvl="1" marL="727920" indent="-280080"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 Unicode MS"/>
              </a:rPr>
              <a:t>Gradation mapping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 Unicode MS"/>
              </a:rPr>
              <a:t>(Flynn, Adv. In Dig Rad, RSNA Categorical Course on Diag Rad Phys, 2003 pp 71-78)</a:t>
            </a:r>
            <a:endParaRPr b="0" lang="en-US" sz="2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1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BB0-F238-4E2A-A4DE-7F975B13C311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24309" t="28257" r="46823" b="37378"/>
          <a:stretch/>
        </p:blipFill>
        <p:spPr>
          <a:xfrm>
            <a:off x="395280" y="1197000"/>
            <a:ext cx="3456000" cy="30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1" name="Picture 5" descr=""/>
          <p:cNvPicPr/>
          <p:nvPr/>
        </p:nvPicPr>
        <p:blipFill>
          <a:blip r:embed="rId2"/>
          <a:srcRect l="33800" t="26584" r="39049" b="41419"/>
          <a:stretch/>
        </p:blipFill>
        <p:spPr>
          <a:xfrm>
            <a:off x="4716360" y="1197000"/>
            <a:ext cx="3384720" cy="3024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Rectangle 6"/>
          <p:cNvSpPr/>
          <p:nvPr/>
        </p:nvSpPr>
        <p:spPr>
          <a:xfrm>
            <a:off x="428760" y="5072040"/>
            <a:ext cx="81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Digital 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mage processing with edge restoration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612360" y="436572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Original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5082480" y="436572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rocess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68360" y="115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0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920" y="1523520"/>
            <a:ext cx="861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Role of image processing is to ‘tailor’ the raw digital data, in order to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660960" indent="-25416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Show everything that may be relevant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60960" indent="-25416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Nothing more (artifacts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60960" indent="-25416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Nothing less (masking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-305280">
              <a:spcBef>
                <a:spcPts val="700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mage processing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660960" indent="-254160">
              <a:spcBef>
                <a:spcPts val="601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Can compensate for under- or over-exposure covering a range of 300-400 times that of screen film systems – reduces repeats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60960" indent="-254160">
              <a:spcBef>
                <a:spcPts val="601"/>
              </a:spcBef>
              <a:buClr>
                <a:srgbClr val="003399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Training by an experienced trainer in paediatrics is essential and needed on a regular basis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C019-B7A7-44E3-BB8E-6E3D3933417A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FA5-D9A1-4EDB-A3A8-9FDD68E15A2F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n digital systems: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 Unicode MS"/>
              </a:rPr>
              <a:t>Wide dynamic range of the detector allows overexposure to be tolerated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 Unicode MS"/>
              </a:rPr>
              <a:t>Overexposed images have less noise, may present motion artefacts due to long exposure tim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 Unicode MS"/>
              </a:rPr>
              <a:t>Underexposure produces quantum mottle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Repeat exposures by technologists not being monitored or reported – bad electronic images are deleted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Convenience of taking images leads to covering a larger area of a patient's body and cropping or repeating the examination 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275-DBFD-4655-9F3C-6F5F4D46A268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483080" cy="5645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3421080" cy="29844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64000" y="3860280"/>
            <a:ext cx="36007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oor collimation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Large part of the body is irradiat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Not seen on digitally cropped imag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16000" y="6324480"/>
            <a:ext cx="7343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8D9-1718-4625-AC45-5E039AAD256A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Answer True or False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Overexposure is not obvious in digital radiography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se of digital detectors will always reduces the dose.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taff training is necessary in transition from screen-film to digital radiography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ollimation is not important in digital radiography, as an image can be cropped to what is needed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1AF-D086-4278-997D-B8F26DE6ED0E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4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Dose parameter monitoring is vital to prevent unnecessary exposure and for optimisation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Exposure indicator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Exposure indicator values vary with technical exposure factors (kVp, mAs, SID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Use of Diagnostic Reference Level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93" name="Picture 4" descr="j0300840"/>
          <p:cNvPicPr/>
          <p:nvPr/>
        </p:nvPicPr>
        <p:blipFill>
          <a:blip r:embed="rId1"/>
          <a:stretch/>
        </p:blipFill>
        <p:spPr>
          <a:xfrm>
            <a:off x="3708360" y="43657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2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2BE0-ED60-4CD0-9B45-96D6EB14FECC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406680" cy="3592800"/>
          </a:xfrm>
          <a:prstGeom prst="rect">
            <a:avLst/>
          </a:prstGeom>
          <a:ln w="0">
            <a:noFill/>
          </a:ln>
        </p:spPr>
      </p:pic>
      <p:sp>
        <p:nvSpPr>
          <p:cNvPr id="197" name="Oval 4"/>
          <p:cNvSpPr/>
          <p:nvPr/>
        </p:nvSpPr>
        <p:spPr>
          <a:xfrm>
            <a:off x="2700360" y="4365720"/>
            <a:ext cx="9907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7772400" cy="1555560"/>
          </a:xfrm>
          <a:prstGeom prst="rect">
            <a:avLst/>
          </a:prstGeom>
          <a:ln w="0">
            <a:noFill/>
          </a:ln>
        </p:spPr>
      </p:pic>
      <p:sp>
        <p:nvSpPr>
          <p:cNvPr id="199" name="Line 6"/>
          <p:cNvSpPr/>
          <p:nvPr/>
        </p:nvSpPr>
        <p:spPr>
          <a:xfrm flipH="1">
            <a:off x="3132000" y="4653000"/>
            <a:ext cx="136800" cy="1152360"/>
          </a:xfrm>
          <a:prstGeom prst="line">
            <a:avLst/>
          </a:prstGeom>
          <a:ln w="7308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Unicode MS"/>
              </a:rPr>
              <a:t>CR, DR and exposure indicators</a:t>
            </a:r>
            <a:endParaRPr b="1" lang="en-US" sz="4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5C27-6EE1-4FB9-85E6-50925F4329AA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Typical dose levels in CR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2195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Vano et al, Paediatric entrance doses from exposure index in computed radiography, Phys Med Biol 53 (2008):3365-3380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484360" y="841320"/>
            <a:ext cx="6480360" cy="54309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16E7-DFD9-4627-AF18-130CCAA97293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4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3399"/>
                </a:solidFill>
                <a:latin typeface="Arial Unicode MS"/>
              </a:rPr>
              <a:t>Operational methods for controlling dose in paediatric radiology: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Avoid use of gri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ncrease source-to-skin</a:t>
            </a: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 distanc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Use manual setting of exposure parameter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Reprocess, rather than repeat non-diagnostic image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C616-2FA3-4BC9-869A-231BEA0EE9EB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9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99"/>
                </a:solidFill>
                <a:latin typeface="Arial Unicode MS"/>
              </a:rPr>
              <a:t>CR, DR and optimisation</a:t>
            </a:r>
            <a:endParaRPr b="1" lang="en-US" sz="4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Unicode MS"/>
              </a:rPr>
              <a:t>Viewing environment: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Inadequate viewing environment (ambient light) has an impact on diagnostic information content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patial requirements for monitors (contrast, resolution)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Routine Quality Control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1"/>
          <a:stretch/>
        </p:blipFill>
        <p:spPr>
          <a:xfrm>
            <a:off x="5364000" y="3753000"/>
            <a:ext cx="341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225-1661-4CB6-B5D8-1A66945D7731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ummary (I)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Digital systems have distinct advantages over screen-film systems in terms of digital image availability, flexibility, and operational spe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With proper training and quality control, dose reduction and image quality improvement are possibl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Users should become aware of the possibility of unnecessarily or inadvertently high doses in all digital systems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8EE7-6454-4423-A692-0ACD90D72DAD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ummary (II)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ractice in a department should be audited periodically with respect to an index for patient dos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nless system is fully optimised, dose reduction is not achieved and overexposure is not detected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Training on dose management for particular digital system is needed during transition from screen-film and at regular intervals later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C12-F853-4282-A23A-7279A062CCA8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Answer True or False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Overexposure is not obvious in digital radiography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se of digital detectors will always reduces the dose.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taff training is necessary in transition from screen-film to digital radiography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ollimation is not important in digital radiography, as an image can be cropped to what is needed.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Answer True or False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True - Due to wide dynamic range of digital detectors, nice images can be obtained at double the dose or more and overexposures are not obvious unlike dark images in screen-film radiography.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False – Only when features are utilized, not always. See the earlier question as an example.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True – Additional consideration of image quality and dose necessitate additional training.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False - Collimation is an important tool in dose reduction as cropping image after exposure has been given does not help in patient dose.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A282-4EE9-415B-913E-8008CD2FF7E9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</a:rPr>
              <a:t>References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WILLIS, C,  Optimizing digital radiography for children,  Eur J Radiol2009, 72: 266-273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COMPAGNONE, G., et. Al., Comparison of radiation doses to patients undergoing standard radiographic examinations with conventional film screen radiography, computed radiography and direct digital radiography Br. J. Radiol. </a:t>
            </a:r>
            <a:r>
              <a:rPr b="1" lang="en-GB" sz="1400" spc="-1" strike="noStrike">
                <a:solidFill>
                  <a:srgbClr val="003399"/>
                </a:solidFill>
                <a:latin typeface="Arial Unicode MS"/>
              </a:rPr>
              <a:t>79</a:t>
            </a: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 (2006) 899-904.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ONO, K., et. Al. Comparison of a digital flat-panel versus screen-film, photofluorography and storage-phosphor systems by detection of simulated lung adenocarcinoma lesions using hard copy images. Br. J. Radiol. </a:t>
            </a:r>
            <a:r>
              <a:rPr b="1" lang="en-GB" sz="1400" spc="-1" strike="noStrike">
                <a:solidFill>
                  <a:srgbClr val="003399"/>
                </a:solidFill>
                <a:latin typeface="Arial Unicode MS"/>
              </a:rPr>
              <a:t>78</a:t>
            </a: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 (2005) 922-927.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HUFTON, A.P., DOYLE, S.M., CARTY, H.M., Digital radiography in paediatrics: radiation dose considerations and magnitude of possible dose reduction. Br. J. Radiol</a:t>
            </a:r>
            <a:r>
              <a:rPr b="1" lang="en-GB" sz="1400" spc="-1" strike="noStrike">
                <a:solidFill>
                  <a:srgbClr val="003399"/>
                </a:solidFill>
                <a:latin typeface="Arial Unicode MS"/>
              </a:rPr>
              <a:t>. 71</a:t>
            </a: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 (1998) 186-199.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RAPP-BERNARDT, U., et. al., Experimental evaluation of a portable indirect flat panel detector for the pediatric chest: comparison with storage phosphor radiography at different exposures using a chest phantom, Radiology</a:t>
            </a:r>
            <a:r>
              <a:rPr b="1" lang="en-GB" sz="1400" spc="-1" strike="noStrike">
                <a:solidFill>
                  <a:srgbClr val="003399"/>
                </a:solidFill>
                <a:latin typeface="Arial Unicode MS"/>
              </a:rPr>
              <a:t> 237</a:t>
            </a: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 (2005a) 485-491.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RAPP-BERNARDT, U., et. Al.,Portable flat-panel detector for low-dose imaging in a pediatric intensice care unit, Invest. Radiol. 40 (2005b)  736-741.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VANO, E., et al., Radiation dose and image quality for paediatric interventional cardiology, Paediatric entrance doses from exposure index in computed radiography, Phys Med Biol 53 (2008):3365-3380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spcBef>
                <a:spcPts val="3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 Unicode MS"/>
              </a:rPr>
              <a:t>INTERNATIONAL COMISSION ON RADIOLOGICAL PROTECTION, Radiation protection in digital radiology, Annals of the ICRP, Publication 93, Pergamon Press, Oxford (2000). </a:t>
            </a: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630-9EC8-4C18-A8F4-A3389C73FA92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99"/>
                </a:solidFill>
                <a:latin typeface="Arial Unicode MS"/>
              </a:rPr>
              <a:t>Contents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Overview of digital equipment used in digital radiograph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Advantages and disadvantages of digital imaging equipment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Dynamic range, possibility for dose increase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Dose management in digital radiolog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Relationship between image quality and patient dose. 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Need for additional staff training in paediatric digital radiolog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0D8-5585-42C2-9AB5-EDB5F031CDE3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Screen-film radiography is now being replaced by a variety of digital technologies in many countries</a:t>
            </a: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399"/>
                </a:solidFill>
                <a:latin typeface="Arial Unicode MS"/>
              </a:rPr>
              <a:t>Most principles for dose reduction from paediatric </a:t>
            </a: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screen-film</a:t>
            </a:r>
            <a:r>
              <a:rPr b="0" lang="sv-SE" sz="2400" spc="-1" strike="noStrike">
                <a:solidFill>
                  <a:srgbClr val="003399"/>
                </a:solidFill>
                <a:latin typeface="Arial Unicode MS"/>
              </a:rPr>
              <a:t> radiography, espacially justification,  are relevant to digital systems (see L03 for more details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399"/>
                </a:solidFill>
                <a:latin typeface="Arial Unicode MS"/>
              </a:rPr>
              <a:t>However, in digital systems  different scenarios apply for dose reduction and optimisation compared with </a:t>
            </a:r>
            <a:r>
              <a:rPr b="0" lang="en-IE" sz="2400" spc="-1" strike="noStrike">
                <a:solidFill>
                  <a:srgbClr val="003399"/>
                </a:solidFill>
                <a:latin typeface="Arial Unicode MS"/>
              </a:rPr>
              <a:t>screen-film radiography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70" name="Picture 4" descr="MCj04298370000[1]"/>
          <p:cNvPicPr/>
          <p:nvPr/>
        </p:nvPicPr>
        <p:blipFill>
          <a:blip r:embed="rId1"/>
          <a:stretch/>
        </p:blipFill>
        <p:spPr>
          <a:xfrm>
            <a:off x="6372360" y="4221000"/>
            <a:ext cx="2365200" cy="181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11280" y="4437000"/>
            <a:ext cx="37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-181080" y="429264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3399"/>
                </a:solidFill>
                <a:latin typeface="Arial Unicode MS"/>
              </a:rPr>
              <a:t>	</a:t>
            </a:r>
            <a:r>
              <a:rPr b="0" i="1" lang="sv-SE" sz="2400" spc="-1" strike="noStrike">
                <a:solidFill>
                  <a:srgbClr val="003399"/>
                </a:solidFill>
                <a:latin typeface="Arial Unicode MS"/>
              </a:rPr>
              <a:t>This presentation is focused on essential aspects of digital radiography compared with </a:t>
            </a:r>
            <a:r>
              <a:rPr b="0" i="1" lang="en-IE" sz="2400" spc="-1" strike="noStrike">
                <a:solidFill>
                  <a:srgbClr val="003399"/>
                </a:solidFill>
                <a:latin typeface="Arial Unicode MS"/>
              </a:rPr>
              <a:t>screen-film </a:t>
            </a:r>
            <a:r>
              <a:rPr b="0" i="1" lang="sv-SE" sz="2400" spc="-1" strike="noStrike">
                <a:solidFill>
                  <a:srgbClr val="003399"/>
                </a:solidFill>
                <a:latin typeface="Arial Unicode MS"/>
              </a:rPr>
              <a:t>radiography, not to digital technologies and equipment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721-3255-415F-84AA-F9CC499426CC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Introduction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aediatric radiography differs from imaging of adults, as children are smaller and less compliant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R and DR were introduced with a goal of reducing dose and improving image qualit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Initially, results were hindered by lack of relevant exposure parameters and understanding of digital technologies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otential for over-exposure exists in both with CR and DR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Although doses in radiography are low, there is a need for dose reduction and practice improvements while maintaining diagnostic quality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1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E76-5D2D-4AB2-A7A7-D0315B2BEF33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79" name="Picture 2" descr="Plate&amp;Screen"/>
          <p:cNvPicPr/>
          <p:nvPr/>
        </p:nvPicPr>
        <p:blipFill>
          <a:blip r:embed="rId1"/>
          <a:stretch/>
        </p:blipFill>
        <p:spPr>
          <a:xfrm>
            <a:off x="1403280" y="4653000"/>
            <a:ext cx="1656000" cy="1514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0" name="Picture 3" descr="FujiCR"/>
          <p:cNvPicPr/>
          <p:nvPr/>
        </p:nvPicPr>
        <p:blipFill>
          <a:blip r:embed="rId2"/>
          <a:stretch/>
        </p:blipFill>
        <p:spPr>
          <a:xfrm>
            <a:off x="324000" y="1989000"/>
            <a:ext cx="1701720" cy="25923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1" name="Picture 4" descr="Thoravision02"/>
          <p:cNvPicPr/>
          <p:nvPr/>
        </p:nvPicPr>
        <p:blipFill>
          <a:blip r:embed="rId3"/>
          <a:stretch/>
        </p:blipFill>
        <p:spPr>
          <a:xfrm>
            <a:off x="5435640" y="1916280"/>
            <a:ext cx="3025800" cy="1976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82" name="Rectangle 6"/>
          <p:cNvSpPr/>
          <p:nvPr/>
        </p:nvSpPr>
        <p:spPr>
          <a:xfrm>
            <a:off x="-335880" y="1200240"/>
            <a:ext cx="52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399"/>
                </a:solidFill>
                <a:latin typeface="Arial Unicode MS"/>
              </a:rPr>
              <a:t>Computed Radiography (CR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50920" y="115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quipment for digital radiography</a:t>
            </a:r>
            <a:endParaRPr b="0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40440" y="1200240"/>
            <a:ext cx="46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399"/>
                </a:solidFill>
                <a:latin typeface="Arial Unicode MS"/>
              </a:rPr>
              <a:t>Direct Radiography (DR)</a:t>
            </a:r>
            <a:endParaRPr b="0" lang="en-US" sz="24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85" name="Picture 10" descr="estacion borrado"/>
          <p:cNvPicPr/>
          <p:nvPr/>
        </p:nvPicPr>
        <p:blipFill>
          <a:blip r:embed="rId4"/>
          <a:stretch/>
        </p:blipFill>
        <p:spPr>
          <a:xfrm>
            <a:off x="2268360" y="1989000"/>
            <a:ext cx="1914840" cy="2551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6" name="Picture 11" descr="velocity_medium"/>
          <p:cNvPicPr/>
          <p:nvPr/>
        </p:nvPicPr>
        <p:blipFill>
          <a:blip r:embed="rId5"/>
          <a:stretch/>
        </p:blipFill>
        <p:spPr>
          <a:xfrm>
            <a:off x="6300720" y="4005360"/>
            <a:ext cx="1435320" cy="2233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2CE8-05FC-430D-8901-57A57A572432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quipment for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88360" cy="49006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2057400" y="6324480"/>
            <a:ext cx="6402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Radiation Protection in Paediatric Radiology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Arial Unicode MS"/>
              </a:rPr>
              <a:t>L04. Radiation protection in digital radiography</a:t>
            </a:r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409F-F83A-407C-B135-D073135895BA}" type="slidenum">
              <a:rPr b="0" lang="en-GB" sz="10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Equipment for digital radiography</a:t>
            </a:r>
            <a:endParaRPr b="1" lang="en-US" sz="3600" spc="-1" strike="noStrike">
              <a:solidFill>
                <a:srgbClr val="003399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CR involves an intermediate step in which the image is stored as a latent image, in a cassette-like device, before it is converted to electronic/digital form, using laser stimulation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n DR, the image is created immediately in electronic/digital form, in the image receptor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99"/>
                </a:solidFill>
                <a:latin typeface="Arial Unicode MS"/>
              </a:rPr>
              <a:t>Images from both systems can be displayed on suitable high-resolution monitors or printed out on film</a:t>
            </a:r>
            <a:endParaRPr b="0" lang="en-US" sz="2800" spc="-1" strike="noStrike">
              <a:solidFill>
                <a:srgbClr val="003399"/>
              </a:solidFill>
              <a:latin typeface="Arial Unicode MS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34460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cp:keywords/>
  <dc:language>en-US</dc:language>
  <cp:lastModifiedBy>IAEA</cp:lastModifiedBy>
  <dcterms:modified xsi:type="dcterms:W3CDTF">2010-07-12T13:48:36Z</dcterms:modified>
  <cp:revision>522</cp:revision>
  <dc:subject>Paediatrics</dc:subject>
  <dc:title>RADIATION PROTECTION IN DIAGNOSTIC RAD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7393661</vt:r8>
  </property>
  <property fmtid="{D5CDD505-2E9C-101B-9397-08002B2CF9AE}" pid="3" name="_AuthorEmail">
    <vt:lpwstr>dons@mir.wustl.edu</vt:lpwstr>
  </property>
  <property fmtid="{D5CDD505-2E9C-101B-9397-08002B2CF9AE}" pid="4" name="_AuthorEmailDisplayName">
    <vt:lpwstr>Don, Steven</vt:lpwstr>
  </property>
  <property fmtid="{D5CDD505-2E9C-101B-9397-08002B2CF9AE}" pid="5" name="_EmailSubject">
    <vt:lpwstr>PAEDIATRIC_L04_RadiationProtectionInDigitalRadiography_BRW_CEW_SD_brw_sd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