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9.png" ContentType="image/png"/>
  <Override PartName="/ppt/media/image8.png" ContentType="image/png"/>
  <Override PartName="/ppt/media/image7.wmf" ContentType="image/x-wmf"/>
  <Override PartName="/ppt/media/image5.jpeg" ContentType="image/jpeg"/>
  <Override PartName="/ppt/media/image10.png" ContentType="image/png"/>
  <Override PartName="/ppt/media/image4.wmf" ContentType="image/x-wmf"/>
  <Override PartName="/ppt/media/image13.jpeg" ContentType="image/jpeg"/>
  <Override PartName="/ppt/media/image22.jpeg" ContentType="image/jpeg"/>
  <Override PartName="/ppt/media/image14.png" ContentType="image/png"/>
  <Override PartName="/ppt/media/image2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move the slide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E04B-73EE-435F-9CE7-3D7B9181EC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3CF8-8273-45B6-931D-F72042357BA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01C2-785E-424C-B32F-2BC8B9C187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328E-5F1B-4C8A-B4D8-E49B612DCD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575-FF12-4E0F-A3B7-924ACB4223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530-90BE-40D1-A5DD-6F9DB61F6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8CFA-0418-43A5-87D8-D7B51EDCA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4C23-5E93-4FE8-9D79-A6E30EBC7D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6B3-337B-4D6A-944D-E1CF4681CA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0E59-E9C6-4F44-BA11-55495C625E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2B0C-0144-4B43-A86E-80FC18E256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F83C-4CF8-4068-9DBC-17EE85CAC6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BFD7-87D7-426F-BAE9-DE28BB1FA44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4758-7213-4241-B8A7-7D9268D22F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D9B3-9434-47E6-8983-0C6F8F5798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43A1-917B-462C-8B6E-1811A71F1D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CA6-50FA-4E54-A855-5491DA9B5B9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D551-0F0B-4651-A0B6-95DBD83595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D0A81-6431-409B-BB6C-D5D1E59E29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4EB-16A6-435A-9CC6-A278DC95E1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0CC1-0E8D-4896-9B4E-9CDE712A2C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84AF-3904-4107-AD6B-EE949EF87C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4C45-ED66-4898-879A-91E70B2D9C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10D-4648-4B83-AC07-3B5C60304E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38E3-C0DD-4A3F-9A07-B707D3F83E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2929-88D6-4D81-A109-9F6604D72F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9968-19DE-4C0D-9A2C-3CFA7AA9B5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1FA-57E5-48E3-9D0B-6EBE7FA76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192-DB5E-4E41-AF11-50716B9465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21F1-12FE-4EBC-8FC6-625E2F339B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9707-B990-4E8B-8A0F-16EE28CABE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8965-D78E-4186-86BA-A8389F960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2E61-02B5-40CB-AEC3-C99F8EA7EA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4BC6-1AEB-4DF7-A068-944398AEAB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63A-2BCF-4864-80DC-F94FCC2EF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3B1B-1DD1-4BD8-B05E-F0E1E921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661-45B6-4D3C-8775-78FCC63C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C0F-229F-43DD-8998-421233A2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2D04-181D-4756-923C-174CFA7A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9ACE-71CF-4F0B-B3C7-DAFF650D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94713-E029-4091-BE75-7AAB0BC0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7359-2CB9-4D23-ABB6-0E60C03E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C47A-73A2-491A-A573-AEB9E260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CA9F-C9C8-446A-9191-3B88F003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9D12-6C87-421B-9073-81E79C5C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36CC-CBBB-4642-B814-6847BFEB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FAE3-BB9E-4C8D-BCBD-DCEE167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3336-CB1D-44F9-B5DA-79A02CDA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302A-DE33-4AC9-9F43-C64D5D6F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9587-9B5F-4DAD-867C-42E2A032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9BC6-6309-4FA3-8EC4-D82CC7BD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3FB-7679-4FD8-B6E6-5A3FFF15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AE1E-3040-43DE-ACC8-01F120CA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7988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85440" y="152388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746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7988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85440" y="3912120"/>
            <a:ext cx="2766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523-B89B-4567-B220-951AA4A0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2240" y="97920"/>
            <a:ext cx="85345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092B-F432-4F33-A497-F83D0FAD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AA8-400F-4ED3-A9E1-DCDD09FE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91212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01E1-F7D9-4612-B17D-C4470F7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523880"/>
            <a:ext cx="4193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4680" y="3912120"/>
            <a:ext cx="8593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F45-D779-4A89-B95C-AF9C6140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1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7381-A288-4D79-81C2-FF91386834D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IAEAlogo_Black"/>
          <p:cNvPicPr/>
          <p:nvPr/>
        </p:nvPicPr>
        <p:blipFill>
          <a:blip r:embed="rId2"/>
          <a:stretch/>
        </p:blipFill>
        <p:spPr>
          <a:xfrm>
            <a:off x="304920" y="611028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1"/>
          <p:cNvSpPr/>
          <p:nvPr/>
        </p:nvSpPr>
        <p:spPr>
          <a:xfrm>
            <a:off x="990720" y="620244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83480" y="6369120"/>
            <a:ext cx="16761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54400" y="6369120"/>
            <a:ext cx="2624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7224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0284-62B7-4E55-9962-DC6D6D974476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9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0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3505320" y="6019920"/>
            <a:ext cx="22096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A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International Atomic Energy Ag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0" descr="IAEAlogo_Black"/>
          <p:cNvPicPr/>
          <p:nvPr/>
        </p:nvPicPr>
        <p:blipFill>
          <a:blip r:embed="rId2"/>
          <a:stretch/>
        </p:blipFill>
        <p:spPr>
          <a:xfrm>
            <a:off x="4114800" y="5105520"/>
            <a:ext cx="1050840" cy="91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66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Protección radiológica en radiología digital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10920" y="3141720"/>
            <a:ext cx="7848360" cy="1727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</a:rPr>
              <a:t>Sistema de archivo y comunicación de imágenes (PACS)</a:t>
            </a: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L09</a:t>
            </a:r>
            <a:endParaRPr b="0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CF7-E785-4F48-852D-CBA14A7B693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Empresa integradora de los servicios de salud (IHE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 IHE es una iniciativa para mejorar la forma en que las computadoras comparten información en el sector de atención médica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 IHE promueve el uso de normas establecidas tales como DICOM y HL7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istemas desarrollados conforme a IH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omunican mejor entre unos y otro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on más fáciles de llevar a la práctic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ermite a los servicios de salud utilizar la información de manera más eficaz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ttp://www.ihe.net/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4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49C7-ECF9-4672-8C78-6A9FA0966F8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Los Cuatro componentes más importantes del PAC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99800" y="165276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1. Acqui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3793680" y="170028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2.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976920" y="45813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3. Arch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7219440" y="162864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4. 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5144760" y="3429000"/>
            <a:ext cx="38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Base de datos de las imá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2937240" y="3392640"/>
            <a:ext cx="5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R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940680" y="2075040"/>
            <a:ext cx="74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M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3276720" y="1268280"/>
            <a:ext cx="2735280" cy="1511280"/>
          </a:xfrm>
          <a:prstGeom prst="cloudCallout">
            <a:avLst>
              <a:gd name="adj1" fmla="val -38333"/>
              <a:gd name="adj2" fmla="val 77625"/>
            </a:avLst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2195640" y="1628640"/>
            <a:ext cx="1008000" cy="505080"/>
          </a:xfrm>
          <a:prstGeom prst="rightArrow">
            <a:avLst>
              <a:gd name="adj1" fmla="val 50000"/>
              <a:gd name="adj2" fmla="val 498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13"/>
          <p:cNvSpPr/>
          <p:nvPr/>
        </p:nvSpPr>
        <p:spPr>
          <a:xfrm rot="16200000">
            <a:off x="3816000" y="3392280"/>
            <a:ext cx="1727280" cy="647640"/>
          </a:xfrm>
          <a:prstGeom prst="leftRightArrow">
            <a:avLst>
              <a:gd name="adj1" fmla="val 50000"/>
              <a:gd name="adj2" fmla="val 5309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7296120" y="21556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C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L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-Laser Fi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15"/>
          <p:cNvSpPr/>
          <p:nvPr/>
        </p:nvSpPr>
        <p:spPr>
          <a:xfrm>
            <a:off x="6084720" y="1628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6012000" y="2133720"/>
            <a:ext cx="1008000" cy="215640"/>
          </a:xfrm>
          <a:prstGeom prst="leftArrow">
            <a:avLst>
              <a:gd name="adj1" fmla="val 50000"/>
              <a:gd name="adj2" fmla="val 116861"/>
            </a:avLst>
          </a:prstGeom>
          <a:solidFill>
            <a:srgbClr val="99ccff">
              <a:alpha val="51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2513160" y="379080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Estado del exa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8"/>
          <p:cNvSpPr/>
          <p:nvPr/>
        </p:nvSpPr>
        <p:spPr>
          <a:xfrm>
            <a:off x="5762160" y="37958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 Unicode MS"/>
              </a:rPr>
              <a:t>Estado de las imág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142B-F767-4B5C-A643-B3C0D88693C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 Unicode MS"/>
              </a:rPr>
              <a:t>Ejemplos de errores que se comenten en cada componente del PACS y entre componentes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4219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Errores de adquisició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Selección de una técnica de exposición inadecuad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Realización de un examen erróneo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Imagen borrad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Errores de la red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Imagen perdid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Imagen corrompid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Incapacidad de trasmitir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0360" y="1052640"/>
            <a:ext cx="4500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Errores de archivo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Medio de almacenamiento corrompido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Fallo  de almacenamiento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Exámenes “secuestrados”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Errores de display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Error de calibración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Datos asociados no aparecen en el display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Obturadores artificial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2049-3F43-411D-8315-398D947AA40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97920"/>
            <a:ext cx="8964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Fase de adquisición de la imagen: selección de la técnica de exposición inadecuada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Los detectores digitales admiten más sobreexposición que los detectores convencional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La señal digital excesiva se reduce proporcionalmente para que la imagen conserve su aspecto habitual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La consecuencia es una exposición innecesaria al pacien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A6A2-FAEF-48DD-B3F2-73B42483E1F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280" y="97920"/>
            <a:ext cx="8964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Fase de adquisición de la imagen: se realizó un examen erróneo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El técnico radiológico puede tomar una imagen de tórax con una técnica de exposición pensada para abdomen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La señal digital se representa de manera inadecuada para su observación por el radiólog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3399"/>
                </a:solidFill>
                <a:latin typeface="Arial Unicode MS"/>
              </a:rPr>
              <a:t>La consecuencia puede ser: un examen repetido y una exposición innecesaria para el pacien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DF07-41E4-49E3-B7EB-ECF69811BF8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" y="97920"/>
            <a:ext cx="8964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Fase de adquisición: imagen borrada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El técnico radiológico puede borrar imágenes en la estación de adquisición, sin transmitirla al PAC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Puede que no sea posible recuperar la imagen borrada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3399"/>
                </a:solidFill>
                <a:latin typeface="Arial Unicode MS"/>
              </a:rPr>
              <a:t>Consecuencia: repetición de examen y exposición innecesaria al pacien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1AC9D-7052-4F58-B36D-A13AE37E21F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Problemas con la red: imagen perdida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Una interrupción del servicio de la red de datos, puede hacer que se pierda una image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Puede que no sea posible volver a transmitir la imagen desde la estación de adquisición de imágen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99"/>
                </a:solidFill>
                <a:latin typeface="Arial Unicode MS"/>
              </a:rPr>
              <a:t>Consecuencia: posible repetición de examen y exposición innecesaria al pacien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9E0F-A73E-43BE-976C-E57D32D036E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Problemas con la red: imagen corrompida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609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Una interrupción del servicio de la red puede degradar la image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Quizá no sea posible volver a transmitir la imagen desde la estación de adquisició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99"/>
                </a:solidFill>
                <a:latin typeface="Arial Unicode MS"/>
              </a:rPr>
              <a:t>Consecuencia: posible repetición de examen y exposición innecesaria al pacien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59" name="Picture 8" descr="compact_artifact"/>
          <p:cNvPicPr/>
          <p:nvPr/>
        </p:nvPicPr>
        <p:blipFill>
          <a:blip r:embed="rId1"/>
          <a:stretch/>
        </p:blipFill>
        <p:spPr>
          <a:xfrm>
            <a:off x="6877080" y="2781360"/>
            <a:ext cx="2016000" cy="1995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/>
          <p:cNvPicPr/>
          <p:nvPr/>
        </p:nvPicPr>
        <p:blipFill>
          <a:blip r:embed="rId2"/>
          <a:srcRect l="19532" t="21086" r="17188" b="13304"/>
          <a:stretch/>
        </p:blipFill>
        <p:spPr>
          <a:xfrm>
            <a:off x="6659640" y="479736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"/>
          <p:cNvPicPr/>
          <p:nvPr/>
        </p:nvPicPr>
        <p:blipFill>
          <a:blip r:embed="rId3"/>
          <a:srcRect l="27343" t="21165" r="35524" b="12403"/>
          <a:stretch/>
        </p:blipFill>
        <p:spPr>
          <a:xfrm>
            <a:off x="6732720" y="1125360"/>
            <a:ext cx="2160360" cy="16210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1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2E9-ED47-493A-8275-A8D6C76E9B6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Problemas con la red: no se pueden transmitir imágen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Una interrupción en los servicios de la red de datos impide que se transmitan imágenes desde la estación de adquisición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La capacidad de almacenamiento local es limitada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3399"/>
                </a:solidFill>
                <a:latin typeface="Arial Unicode MS"/>
              </a:rPr>
              <a:t>Si se continúa la adquisición, se pueden perder imágenes dando lugar a repetición de exámenes y a exposición innecesaria a los pacien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8992-9227-476A-AE69-F4FAF9873261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Archivo: medio de almacenamiento corrompido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Fallos en los medios de almacenamiento pueden impedir que se puedan recuperar imágen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99"/>
                </a:solidFill>
                <a:latin typeface="Arial Unicode MS"/>
              </a:rPr>
              <a:t>Esto requiere posible repetición de examen y exposición innecesaria al pacien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CE44-FA82-4CC7-9F49-08A1C0EFB784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Objetivos de capacitación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</a:rPr>
              <a:t>Entender cómo la radiología digital depende de los sistemas de archivo y transmisión de imagen (PAC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</a:rPr>
              <a:t>Proporcionar una lista con los cuatro componentes de los PAC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99"/>
                </a:solidFill>
                <a:latin typeface="Arial Unicode MS"/>
              </a:rPr>
              <a:t>Explicar cómo los errores en cada uno de los cuatro componentes de los PACS puede conribuir a la exposición innecesaria de los pacientes a la radiación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2106720" y="6380280"/>
            <a:ext cx="662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1E89-16E5-4E6F-B2AC-D0808CA8EAA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Archivo: fallo de almacenamiento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Un fallo de almacenamiento puede impedir el archivo de imágene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i se han borrado imágenes en la estación de adquisición </a:t>
            </a:r>
            <a:r>
              <a:rPr b="0" i="1" lang="en-GB" sz="2800" spc="-1" strike="noStrike">
                <a:solidFill>
                  <a:srgbClr val="003399"/>
                </a:solidFill>
                <a:latin typeface="Arial Unicode MS"/>
              </a:rPr>
              <a:t>puede ser necesaria la repetición del examen y exposición innecesaria al pacien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B0C3-271F-473E-BEEC-5E861F1BA9D8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Archivo: imágenes secuestrada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40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uando la información demográfica y del examen grabada en la imagen no concuerda con la información contenida en el RIS, las imágenes pueden quedar escondidas e inaccesibles para ser observadas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A no ser que se realice una reconciliación de los datos, el técnico radiológico puede </a:t>
            </a:r>
            <a:r>
              <a:rPr b="0" i="1" lang="en-GB" sz="2800" spc="-1" strike="noStrike">
                <a:solidFill>
                  <a:srgbClr val="003399"/>
                </a:solidFill>
                <a:latin typeface="Arial Unicode MS"/>
              </a:rPr>
              <a:t>repetir el examen con la consiguiente exposición innecesaria al pacien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82E6-C9E9-42A1-ABA0-79ECE645628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Display: calibration errónea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Los displays mal calibrados pueden hacer que las imágenes aparezcan como si estuvieran subexpuesta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Como resultado, puede ocurrir que el radiólogo dé instrucciones de que se </a:t>
            </a:r>
            <a:r>
              <a:rPr b="0" i="1" lang="en-GB" sz="2800" spc="-1" strike="noStrike">
                <a:solidFill>
                  <a:srgbClr val="003399"/>
                </a:solidFill>
                <a:latin typeface="Arial Unicode MS"/>
              </a:rPr>
              <a:t>repitan exámenes o aumente los factores de exposición al pacient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0903-D8AD-4979-BF9E-1D849CBE1BA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Display: datos asociados no visualizados en el display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5520" y="112536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Los datos que acompañan a la imagen puede que no aparezcan en el monitor del radiólog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Arial Unicode MS"/>
              </a:rPr>
              <a:t>Si entre los datos que faltan está la información de la técnica radiográfica o la exposición al paciente, el radiólogo no puede supervisar el trabajo del técnico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3399"/>
                </a:solidFill>
                <a:latin typeface="Arial Unicode MS"/>
              </a:rPr>
              <a:t>Sin la supervisión del radiólogo, los técnicos pueden realizar exámenes con exposición innecesaria a los paciente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34FA-9A00-45BE-BDB1-583AE6C5981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Display: obturadores artificial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410364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 Unicode MS"/>
              </a:rPr>
              <a:t>Con el fin de mejorar el contraste, el técnico puede añadir una colimación artificial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99"/>
                </a:solidFill>
                <a:latin typeface="Arial Unicode MS"/>
              </a:rPr>
              <a:t>Si los obturadores artificiales no son transparentes, el radiólogo no puede supervisar la práctica del técnico 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3399"/>
                </a:solidFill>
                <a:latin typeface="Arial Unicode MS"/>
              </a:rPr>
              <a:t>Sin la supervisión del radiólogo, los técnicos pueden trabajar sin la colimación adecuada, exponiendo innecesariamente a los pacientes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290" name="Picture 5" descr="Slide1"/>
          <p:cNvPicPr/>
          <p:nvPr/>
        </p:nvPicPr>
        <p:blipFill>
          <a:blip r:embed="rId1"/>
          <a:stretch/>
        </p:blipFill>
        <p:spPr>
          <a:xfrm>
            <a:off x="4341960" y="2048040"/>
            <a:ext cx="2360520" cy="29844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Slide2"/>
          <p:cNvPicPr/>
          <p:nvPr/>
        </p:nvPicPr>
        <p:blipFill>
          <a:blip r:embed="rId2"/>
          <a:stretch/>
        </p:blipFill>
        <p:spPr>
          <a:xfrm>
            <a:off x="6716880" y="2060640"/>
            <a:ext cx="2334960" cy="295272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7"/>
          <p:cNvSpPr/>
          <p:nvPr/>
        </p:nvSpPr>
        <p:spPr>
          <a:xfrm>
            <a:off x="3700080" y="5149800"/>
            <a:ext cx="52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70ff"/>
                </a:solidFill>
                <a:latin typeface="Arial Unicode MS"/>
              </a:rPr>
              <a:t>¿Cuál fue el campo de radiación re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3B02-03DD-4F9D-95E3-4024F6DCFFE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Fuentes de error en el PAC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567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Errores en la configuración del PA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Calibración inadecuada de los dispositivos PA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Pueden haber discrepancias entre el PACS y los procesos del hospit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Defectos de diseño en el PAC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Limitaciones intrínsecas a los operadores humano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Capacitación inadecuada y deficiente documentación del PACS y de los procesos del hospital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Planificación insuficiente de las interrupciones de servicio del PAC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10C2-FBAE-44FB-A21C-0756C8066D9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Errores de configuración del PAC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-360" y="1276200"/>
            <a:ext cx="91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Ajustes y valores inadecuados del softwa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Versiones  de software sin actualizar o inconsistentes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 Unicode MS"/>
              </a:rPr>
              <a:t>Combinaciones incompatibles de software y hardware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01" name="Group 8"/>
          <p:cNvGrpSpPr/>
          <p:nvPr/>
        </p:nvGrpSpPr>
        <p:grpSpPr>
          <a:xfrm>
            <a:off x="3132000" y="2924280"/>
            <a:ext cx="5283360" cy="3533760"/>
            <a:chOff x="3132000" y="2924280"/>
            <a:chExt cx="5283360" cy="3533760"/>
          </a:xfrm>
        </p:grpSpPr>
        <p:pic>
          <p:nvPicPr>
            <p:cNvPr id="302" name="Picture 9" descr="willis6"/>
            <p:cNvPicPr/>
            <p:nvPr/>
          </p:nvPicPr>
          <p:blipFill>
            <a:blip r:embed="rId1"/>
            <a:srcRect l="1297" t="1224" r="812" b="0"/>
            <a:stretch/>
          </p:blipFill>
          <p:spPr>
            <a:xfrm>
              <a:off x="3132000" y="2924280"/>
              <a:ext cx="5283360" cy="3533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3" name="Group 10"/>
            <p:cNvGrpSpPr/>
            <p:nvPr/>
          </p:nvGrpSpPr>
          <p:grpSpPr>
            <a:xfrm>
              <a:off x="3284280" y="3105360"/>
              <a:ext cx="4862520" cy="703800"/>
              <a:chOff x="3284280" y="3105360"/>
              <a:chExt cx="4862520" cy="703800"/>
            </a:xfrm>
          </p:grpSpPr>
          <p:sp>
            <p:nvSpPr>
              <p:cNvPr id="304" name="Text Box 11"/>
              <p:cNvSpPr/>
              <p:nvPr/>
            </p:nvSpPr>
            <p:spPr>
              <a:xfrm>
                <a:off x="3284280" y="3105360"/>
                <a:ext cx="25686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3300"/>
                    </a:solidFill>
                    <a:latin typeface="Microsoft Sans Serif"/>
                  </a:rPr>
                  <a:t>Departamento  principal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Text Box 12"/>
              <p:cNvSpPr/>
              <p:nvPr/>
            </p:nvSpPr>
            <p:spPr>
              <a:xfrm>
                <a:off x="5828040" y="3151440"/>
                <a:ext cx="2318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00"/>
                    </a:solidFill>
                    <a:latin typeface="Microsoft Sans Serif"/>
                  </a:rPr>
                  <a:t>Clínica ortopéd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Text Box 13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8E1C-0348-4CBA-844F-D81239CF4429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Problemas con la Calibración inadecuada de los dispositivos del PAC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0320" y="1052640"/>
            <a:ext cx="8666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Esto incluye los monitores, los detectores de la radiografía digital (DR), los digitalizadores de películas, cámaras láser, interfaces analógicas, temporizadores, etc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Metodología para la calibración no bien establecida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Frecuencia de las calibraciones no bien establecid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No se reconocen ampliamente las consecuencias de las calibraciones incorrecta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grpSp>
        <p:nvGrpSpPr>
          <p:cNvPr id="310" name="Group 4"/>
          <p:cNvGrpSpPr/>
          <p:nvPr/>
        </p:nvGrpSpPr>
        <p:grpSpPr>
          <a:xfrm>
            <a:off x="2700360" y="3968640"/>
            <a:ext cx="2879640" cy="2578320"/>
            <a:chOff x="2700360" y="3968640"/>
            <a:chExt cx="2879640" cy="2578320"/>
          </a:xfrm>
        </p:grpSpPr>
        <p:pic>
          <p:nvPicPr>
            <p:cNvPr id="311" name="Picture 5" descr="skull_post_sensitivity"/>
            <p:cNvPicPr/>
            <p:nvPr/>
          </p:nvPicPr>
          <p:blipFill>
            <a:blip r:embed="rId1"/>
            <a:srcRect l="21847" t="3198" r="11101" b="10405"/>
            <a:stretch/>
          </p:blipFill>
          <p:spPr>
            <a:xfrm>
              <a:off x="2700360" y="3968640"/>
              <a:ext cx="2879640" cy="25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Text Box 6"/>
            <p:cNvSpPr/>
            <p:nvPr/>
          </p:nvSpPr>
          <p:spPr>
            <a:xfrm>
              <a:off x="2840760" y="59342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Microsoft Sans Serif"/>
                </a:rPr>
                <a:t>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7"/>
          <p:cNvGrpSpPr/>
          <p:nvPr/>
        </p:nvGrpSpPr>
        <p:grpSpPr>
          <a:xfrm>
            <a:off x="5756400" y="3933720"/>
            <a:ext cx="2868480" cy="2567160"/>
            <a:chOff x="5756400" y="3933720"/>
            <a:chExt cx="2868480" cy="2567160"/>
          </a:xfrm>
        </p:grpSpPr>
        <p:pic>
          <p:nvPicPr>
            <p:cNvPr id="314" name="Picture 8" descr="skull_pre_sensitivity"/>
            <p:cNvPicPr/>
            <p:nvPr/>
          </p:nvPicPr>
          <p:blipFill>
            <a:blip r:embed="rId2"/>
            <a:srcRect l="30018" t="0" r="2013" b="4659"/>
            <a:stretch/>
          </p:blipFill>
          <p:spPr>
            <a:xfrm>
              <a:off x="5756400" y="3933720"/>
              <a:ext cx="2868480" cy="25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5866200" y="5936040"/>
              <a:ext cx="26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ff33"/>
                  </a:solidFill>
                  <a:latin typeface="Microsoft Sans Serif"/>
                </a:rPr>
                <a:t>Despu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Text Box 10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3B5D-3B5A-4D60-A9A5-0D9BCB279D8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iscrepancias entre el PACS y los procesos del hospital =&gt; hipótesis falsa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9840" y="1197000"/>
            <a:ext cx="8875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Los datos de identificación del paciente son un invariant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Un solo radiólogo va asociado a un informe radiológico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Un sólo médico va asociado a una solicitud de examen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Las imágenes se utilizan en cirugía de la misma manera que se utilizan en clínica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El paciente citado para la sala 4 será examinado en la sala 4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El examan iniciado en la sala 4 se terminará en la sala 4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Los pacientes ambulatorios únicamente serán examinados en la estación ambulatoria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Los mismos supervisores de los exámenes del primer turno estarán tambien presentes en tercer turno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3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C4A4-D403-4386-880F-5737F126426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Defectos de diseño del PAC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92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Algunos detalles de software and hardware, o bien no funcionan, o lo hacen en una manera no deseada </a:t>
            </a:r>
            <a:r>
              <a:rPr b="0" i="1" lang="en-US" sz="2400" spc="-1" strike="noStrike">
                <a:solidFill>
                  <a:srgbClr val="ff0066"/>
                </a:solidFill>
                <a:latin typeface="Arial Unicode MS"/>
              </a:rPr>
              <a:t>(errores, “bugs”)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Algunos procesos que son absolutamente necesarios para la práctica clínica se quedan sin soporte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Conectividad limitada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 Unicode MS"/>
              </a:rPr>
              <a:t>Implementación incompleta del DICO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 Unicode MS"/>
              </a:rPr>
              <a:t>Interpretaciones incompatibles del DICOM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 Unicode MS"/>
              </a:rPr>
              <a:t>Divergencia de las normas de la Empresa de Servicios Integrados de Salud (IHE)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Software diseñado sin cumplir los principios de diseño de software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</a:rPr>
              <a:t>Ausencia de aplicación de la ingenieria de fiabilidad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9" dur="1" fill="hold"/>
                                  <p:tgtEl>
                                    <p:spTgt spid="3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517F-5EFC-4ACD-9E57-F42CBD37FDB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Radiología Digital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La aplicación de la tecnología moderna de la información a la práctica de la radiología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Depende de sistemas automatizados de adquisición, transmisión, almacenamiento y display de imágenes digitales y datos asociado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Incluye más que sistemas: </a:t>
            </a:r>
            <a:r>
              <a:rPr b="0" i="1" lang="en-US" sz="3200" spc="-1" strike="noStrike">
                <a:solidFill>
                  <a:srgbClr val="634713"/>
                </a:solidFill>
                <a:latin typeface="Arial Unicode MS"/>
              </a:rPr>
              <a:t>incluye cómo se utilizan los sistema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9314-3F2F-4322-9C86-EE19BBE9AB6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-12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“</a:t>
            </a: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Errar es humano, pero para estropear las cosas de verdad se necesta una computadora”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1760" y="1104480"/>
            <a:ext cx="87487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Unicode MS"/>
              </a:rPr>
              <a:t>Las imágenes electrónicas son imperfectas: están sujetas a borrado, a asociación errónea, al mal “enrutamiento”, y a errores en la interpretación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Unicode MS"/>
              </a:rPr>
              <a:t>Los dispositivos y medios electrónicos no son registros permanentes: la consecuencia de un pérdida es mayor que la de una película o chasis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Unicode MS"/>
              </a:rPr>
              <a:t>Una sola imagen electrónica deficiente puede proliferar y difundirse; una sola imagen defectuosa en película se puede controlar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 Unicode MS"/>
              </a:rPr>
              <a:t>Las imágenes electrónicas defectuosas pueden desaparecer sin dejar rastro: las películas también pueden desaparecer pero dejan huella. </a:t>
            </a:r>
            <a:r>
              <a:rPr b="0" i="1" lang="en-US" sz="2000" spc="-1" strike="noStrike">
                <a:solidFill>
                  <a:srgbClr val="8681b8"/>
                </a:solidFill>
                <a:latin typeface="Arial Unicode MS"/>
              </a:rPr>
              <a:t>¿Cuántas películas había en la caja al comienzo del turno?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328" name="Picture 4" descr="P000998"/>
          <p:cNvPicPr/>
          <p:nvPr/>
        </p:nvPicPr>
        <p:blipFill>
          <a:blip r:embed="rId1"/>
          <a:stretch/>
        </p:blipFill>
        <p:spPr>
          <a:xfrm>
            <a:off x="1187280" y="4454640"/>
            <a:ext cx="2089440" cy="1566720"/>
          </a:xfrm>
          <a:prstGeom prst="rect">
            <a:avLst/>
          </a:prstGeom>
          <a:ln w="0">
            <a:noFill/>
          </a:ln>
        </p:spPr>
      </p:pic>
      <p:grpSp>
        <p:nvGrpSpPr>
          <p:cNvPr id="329" name="Group 5"/>
          <p:cNvGrpSpPr/>
          <p:nvPr/>
        </p:nvGrpSpPr>
        <p:grpSpPr>
          <a:xfrm>
            <a:off x="5003640" y="3282840"/>
            <a:ext cx="2630160" cy="2809800"/>
            <a:chOff x="5003640" y="3282840"/>
            <a:chExt cx="2630160" cy="2809800"/>
          </a:xfrm>
        </p:grpSpPr>
        <p:sp>
          <p:nvSpPr>
            <p:cNvPr id="330" name="Line 6"/>
            <p:cNvSpPr/>
            <p:nvPr/>
          </p:nvSpPr>
          <p:spPr>
            <a:xfrm>
              <a:off x="6618240" y="3282840"/>
              <a:ext cx="0" cy="1009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7"/>
            <p:cNvSpPr/>
            <p:nvPr/>
          </p:nvSpPr>
          <p:spPr>
            <a:xfrm flipV="1">
              <a:off x="6041160" y="3383280"/>
              <a:ext cx="0" cy="997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2" name="Picture 8" descr="Tapefarm"/>
            <p:cNvPicPr/>
            <p:nvPr/>
          </p:nvPicPr>
          <p:blipFill>
            <a:blip r:embed="rId2"/>
            <a:srcRect l="6750" t="8438" r="0" b="8438"/>
            <a:stretch/>
          </p:blipFill>
          <p:spPr>
            <a:xfrm>
              <a:off x="5003640" y="4461120"/>
              <a:ext cx="2630160" cy="16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 Box 11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3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FDE-E969-4F4F-BD4F-42A72D60CD20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97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El mejor mantenimiento es el preventivo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197000"/>
            <a:ext cx="8847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Microsoft Sans Serif"/>
              </a:rPr>
              <a:t>Las calibraciones han de realizarse según plan.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Microsoft Sans Serif"/>
              </a:rPr>
              <a:t>Los operadores deben limpiar, inspeccionar y documentar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681b8"/>
                </a:solidFill>
                <a:latin typeface="Microsoft Sans Serif"/>
              </a:rPr>
              <a:t>Las rutinas al comienzo del turno o las listas de comprobación son útiles. 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Microsoft Sans Serif"/>
              </a:rPr>
              <a:t>Programe el mantenimento preventivo a conveniencia del trabajo clínico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Microsoft Sans Serif"/>
              </a:rPr>
              <a:t>Actualizaciones de software son actuaciones de servicio importantes que requieren volver a verificar el funcionamiento correcto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rcRect l="39064" t="30029" r="39064" b="25225"/>
          <a:stretch/>
        </p:blipFill>
        <p:spPr>
          <a:xfrm>
            <a:off x="7089840" y="3789360"/>
            <a:ext cx="1757160" cy="2692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optics_dust"/>
          <p:cNvPicPr/>
          <p:nvPr/>
        </p:nvPicPr>
        <p:blipFill>
          <a:blip r:embed="rId2"/>
          <a:stretch/>
        </p:blipFill>
        <p:spPr>
          <a:xfrm>
            <a:off x="250920" y="3605040"/>
            <a:ext cx="3673440" cy="24879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6" descr="willis7"/>
          <p:cNvPicPr/>
          <p:nvPr/>
        </p:nvPicPr>
        <p:blipFill>
          <a:blip r:embed="rId3"/>
          <a:srcRect l="5312" t="2498" r="2406" b="2498"/>
          <a:stretch/>
        </p:blipFill>
        <p:spPr>
          <a:xfrm>
            <a:off x="4622760" y="3789360"/>
            <a:ext cx="1795680" cy="26924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lood5"/>
          <p:cNvPicPr/>
          <p:nvPr/>
        </p:nvPicPr>
        <p:blipFill>
          <a:blip r:embed="rId1"/>
          <a:stretch/>
        </p:blipFill>
        <p:spPr>
          <a:xfrm>
            <a:off x="3995640" y="4772160"/>
            <a:ext cx="2413080" cy="15174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flood1"/>
          <p:cNvPicPr/>
          <p:nvPr/>
        </p:nvPicPr>
        <p:blipFill>
          <a:blip r:embed="rId2"/>
          <a:stretch/>
        </p:blipFill>
        <p:spPr>
          <a:xfrm>
            <a:off x="6794640" y="4570560"/>
            <a:ext cx="1162080" cy="1666800"/>
          </a:xfrm>
          <a:prstGeom prst="rect">
            <a:avLst/>
          </a:prstGeom>
          <a:ln w="0">
            <a:noFill/>
          </a:ln>
        </p:spPr>
      </p:pic>
      <p:sp>
        <p:nvSpPr>
          <p:cNvPr id="343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64C6-C53B-4F7A-9C5D-81677942345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77760" y="5060880"/>
            <a:ext cx="40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00000"/>
                </a:solidFill>
                <a:latin typeface="Arial Unicode MS"/>
              </a:rPr>
              <a:t>“</a:t>
            </a:r>
            <a:r>
              <a:rPr b="0" i="1" lang="en-US" sz="1600" spc="-1" strike="noStrike">
                <a:solidFill>
                  <a:srgbClr val="c00000"/>
                </a:solidFill>
                <a:latin typeface="Arial Unicode MS"/>
              </a:rPr>
              <a:t>El tiempo atmosférico nunca cooper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La planificación insuficiente del servicio del PAC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1880" y="123840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Microsoft Sans Serif"/>
              </a:rPr>
              <a:t>¿Cómo se ve afectado el PACS si se pierde el servicio de ciertos elementos, tales como  la alimentación eléctrica,  la ventilación, el aire acondicionado o la red de datos? </a:t>
            </a:r>
            <a:endParaRPr b="0" lang="en-US" sz="1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Microsoft Sans Serif"/>
              </a:rPr>
              <a:t>¿Cómo hago para mantener la continuidad de la operación clínica durante el tiempo muerto de algún componente individual del PACS?</a:t>
            </a:r>
            <a:endParaRPr b="0" lang="en-US" sz="1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Microsoft Sans Serif"/>
              </a:rPr>
              <a:t>¿Pueden componentes locales operar durante al tiempo muerto de un componente del PACS dentral (base de datos, archivo, portales, RIS o interfaz del RIS interface)?</a:t>
            </a:r>
            <a:endParaRPr b="0" lang="en-US" sz="1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99"/>
                </a:solidFill>
                <a:latin typeface="Microsoft Sans Serif"/>
              </a:rPr>
              <a:t>¿Cómo se recupera el PACS una vez restablecido el servicio?</a:t>
            </a:r>
            <a:endParaRPr b="0" lang="en-US" sz="19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fcd3c1"/>
                </a:solidFill>
                <a:latin typeface="Microsoft Sans Serif"/>
              </a:rPr>
              <a:t>      </a:t>
            </a:r>
            <a:r>
              <a:rPr b="0" i="1" lang="en-US" sz="1900" spc="-1" strike="noStrike">
                <a:solidFill>
                  <a:srgbClr val="c00000"/>
                </a:solidFill>
                <a:latin typeface="Microsoft Sans Serif"/>
              </a:rPr>
              <a:t>¡Una actualización de sofware es una interrupción de servicio!</a:t>
            </a:r>
            <a:endParaRPr b="0" lang="en-US" sz="19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A5C-3EAB-49C8-A434-DA2F274C7A3A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Conclusiones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878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Lamentablemente, siempre ocurrirán errores en PAC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Algunos de estos errores ocasionarán dosis de radiación innecesaria a los pacient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El QC es crucial para detectar err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La Capacitación es crucial para evitar error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La ingeniería de fiabilidad es crucial para la continuidad de las operaciones clínica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La recuperación de las situaciones de desastre es clave para restablecer operaciones clínicas normale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Microsoft Sans Serif"/>
              </a:rPr>
              <a:t>La optimización incluye todos los puntos mencionados arriba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</a:rPr>
              <a:t>Otras lecciones de estas series se concentran en errores que ocurren en la adquisición y la representación visual (display) de las imágenes, en lugar de aquellas que afectan a la calidad del servicio de la red y a la fiabilidad en el archivo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5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002E-6942-43AD-9564-E5B9F5119695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sponda: correcto o incorrecto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74680" y="1523880"/>
            <a:ext cx="85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l PACS es un sistema para almacenar y recuperar información sobre los pacientes</a:t>
            </a:r>
            <a:endParaRPr b="0" lang="en-US" sz="30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peticiones de exámenes radiográficos podrían deberse a problemas con la red de datos</a:t>
            </a:r>
            <a:endParaRPr b="0" lang="en-US" sz="3000" spc="-1" strike="noStrike">
              <a:solidFill>
                <a:srgbClr val="0033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Monitores (displays) calibrados inadecuadamente pueden ocasionar exposición innecesaria a los pacientes</a:t>
            </a:r>
            <a:endParaRPr b="0" lang="en-US" sz="3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1BC-420F-4338-8E0D-23964A19E5F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Respuesta: correcto o incorrecto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8920" y="1341360"/>
            <a:ext cx="828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Incorrecto. Es el Sistema de Información del Hospital (HIS) el que se utiliza para almacenar y recuperar información de los pacientes. Esto puede relacionarse con el Sistema de Información Radiológica (RIS)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rrecto. La interrupción del servicio de la red de datos puede dar lugar a que se pierda la imagen, con lo cual sería inevitable la repetición de la exposición. 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Correcto. Los monitores inadecuadamente calibrados pueden hacer que las imágenes parezcan subexpuestas, lo cual haría que el radiólogo diera instrucciones a los técnicos de que repitan exámenes o hagan aumentar los factores de exposición de los pacientes</a:t>
            </a:r>
            <a:endParaRPr b="0" lang="en-US" sz="2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2953-FE69-402F-89A8-C1EDEB99A47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91960" y="1343160"/>
            <a:ext cx="85932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Se trata de un sistema capaz de adquirir, transmitir, almacenar, recuperar y representar visualmente (display) imágenes digitales y datos pertinentes de los pacientes obtenidos de diversas fuentes de imagen, y de comunicar la información en una red.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</a:rPr>
              <a:t>El sistema depende de interfaces con otros sistemas de información, tales como el sistema de información radiológica (RIS)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</a:rPr>
              <a:t>Sistema de archivo y comunicación de imágenes (PACS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006D-17DA-45A8-A51D-85E42B82DA82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23640" y="1197000"/>
            <a:ext cx="859284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Es una norma internacional (ISO) en la que se describe cómo identificar y formatear imágenes radiológicas y cómo los dispositivos de imagen comunican entre sí.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La norma la desarrollan conjuntamente el Colegio Americano de Radiología y la Asociación Nacional de Fabricantes Electrónicos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Está basada en el modelo ISO de intercomunicaciones de normas abiertas (OSI)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http://dicom.nema.org/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Imagen digital y comunicaciones en medicina (DICOM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F043-9EEB-4CF4-9943-767DCBA2640B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4014720" y="90360"/>
            <a:ext cx="3992760" cy="4313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1258920" y="93600"/>
            <a:ext cx="2665440" cy="49086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4006800" y="4387680"/>
            <a:ext cx="4000680" cy="871560"/>
          </a:xfrm>
          <a:prstGeom prst="rect">
            <a:avLst/>
          </a:prstGeom>
          <a:solidFill>
            <a:srgbClr val="ccecff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jemplo de algunas etiquetas que forman parte de la cabecera DI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2124000" y="656892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diation Protection in Digital Radiology  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 Avoiding Artefacts in Computed Rad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1677960" y="498780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 las cabeceras DICOM se almacena información para todas las imáge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upone una fuente de abundante información para monitorizar la exposición a los pacientes de manera prospectiva o retrosp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90ED-3919-429D-9A5C-08BD5C8178AF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Algunos puntos clave: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56944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n ocasiones, las imágenes almacenadas en algunos PACS no se pueden posprocesar.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sto se sabe de antemano, por lo que se debería aplicar el posprocesamiento las imágenes antes de archivarlas 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Se pueden ahorrar exposiciones si se permite un acceso fácil al PACS y a la teleradiología para observar imágenes previas.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Excepto en las imágenes previstas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“para presentación”</a:t>
            </a:r>
            <a:r>
              <a:rPr b="0" lang="en-US" sz="2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, el PACS almacena también imágenes para </a:t>
            </a:r>
            <a:r>
              <a:rPr b="0" lang="en-US" sz="2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“para procesamiento”</a:t>
            </a:r>
            <a:r>
              <a:rPr b="0" lang="en-US" sz="2400" spc="-1" strike="noStrike">
                <a:solidFill>
                  <a:srgbClr val="003399"/>
                </a:solidFill>
                <a:latin typeface="Arial Unicode MS"/>
                <a:ea typeface="Arial Unicode MS"/>
              </a:rPr>
              <a:t>. Éstas pueden ser procesadas retrospectivamente para recuperar información y prevenir la repetición de exposiciones</a:t>
            </a: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Radiation Protection in Digital Radiology              </a:t>
            </a: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L06 Avoiding Artefacts in Computed Radiogra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A47-9F47-4395-8190-CB2F2F05482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91960" y="1244520"/>
            <a:ext cx="8593200" cy="539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Es un sistema empleado para almacenar y recuperar. 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 Unicode MS"/>
              </a:rPr>
              <a:t>Un sistema de computadoras integradas que puede incluir un Sistema de información radiológica (RIS) o estar conectado a éste</a:t>
            </a: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Sistema de información del hospital (HIS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8472600" y="6369120"/>
            <a:ext cx="50940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76A4-DC95-4E77-8D16-6BDA217AF20C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91880" y="1106280"/>
            <a:ext cx="859284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Unicode MS"/>
              </a:rPr>
              <a:t>Es una Organización acreditada por el Instituto Nacional de Normas Americanas (ANSI) – para Desarrollar Normas (SDO) en el sector de la asistencia médica.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Unicode MS"/>
              </a:rPr>
              <a:t>Una norma sobre mensajes que permite a los servicios médicos intercambiar conjuntos clave de datos clínicos y administrativos a las aplicaciones de asistencia médica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Unicode MS"/>
              </a:rPr>
              <a:t>La norma establece los datos a intercambiar, los tiempos en que se ha de hacer el intercambio, y la comunicación de ciertos errores en la aplicación. 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Unicode MS"/>
              </a:rPr>
              <a:t>La norma proporciona funciones de apoyo, tales como verificiaciones de seguridad, identificación de los participantes, verificaciones disponibles, mecanismo de intercambio, de negociación y, lo más importante, estructuración del intercambio de datos 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Unicode MS"/>
              </a:rPr>
              <a:t>Es la norma más ampliamente utilizada en el mundo en materia de informacion sobre la asistencia médica</a:t>
            </a:r>
            <a:endParaRPr b="0" lang="en-US" sz="2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82240" y="979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Unicode MS"/>
              </a:rPr>
              <a:t>Nivel siete de salud (HL7)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124000" y="6497640"/>
            <a:ext cx="662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tección radiolígica en radiología digital              L09 Sistema de archivo y comunicación de imágenes (PA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2:56:41Z</dcterms:created>
  <dc:creator>IAEA</dc:creator>
  <dc:description/>
  <dc:language>en-US</dc:language>
  <cp:lastModifiedBy>Pedro</cp:lastModifiedBy>
  <dcterms:modified xsi:type="dcterms:W3CDTF">2014-02-18T17:16:47Z</dcterms:modified>
  <cp:revision>105</cp:revision>
  <dc:subject/>
  <dc:title>Slide 1</dc:title>
</cp:coreProperties>
</file>