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1D2C-5E5E-4BA2-9AE9-61C59076BA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úmanse los principales asuntos tratados en la sesión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ístense los principales temas abordados y destáquense de nuevo los detalles  importantes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AEAPresBkngd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4 Marcador de pie de página"/>
          <p:cNvSpPr/>
          <p:nvPr/>
        </p:nvSpPr>
        <p:spPr>
          <a:xfrm>
            <a:off x="3071880" y="6453360"/>
            <a:ext cx="29988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19: </a:t>
            </a:r>
            <a:r>
              <a:rPr b="0" lang="es-ES" sz="900" spc="-1" strike="noStrike">
                <a:solidFill>
                  <a:srgbClr val="eaeaea"/>
                </a:solidFill>
                <a:latin typeface="Arial"/>
              </a:rPr>
              <a:t>Optimización de la protección en mamografí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5840" y="65232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9107-156F-4953-83C7-F1DCED1BD427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19: Optimización de la protección en mam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2: Parámetros físicos importan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ntras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4680" y="137160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Los coeficientes de atenuación lineal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ara diferentes tipos de tejido mamario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son similares en magnitud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y el contraste en tejidos blandos puede ser muy pequeñ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contraste debe hacerse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tan alto como sea posible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produciendo la imagen con fotones de baja energía (por tanto, aumentando la dosis en mam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n la práctica, para evitar alta dosis en mama, debe llegarse a un </a:t>
            </a:r>
            <a:r>
              <a:rPr b="0" lang="es-ES" sz="2800" spc="-1" strike="noStrike" u="sng">
                <a:solidFill>
                  <a:srgbClr val="ff9900"/>
                </a:solidFill>
                <a:uFillTx/>
                <a:latin typeface="Arial"/>
              </a:rPr>
              <a:t>compromiso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entre los requisitos de baja dosis y alto contras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2240" y="44280"/>
            <a:ext cx="8682120" cy="10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Variación del contraste con la energía de los foton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992880" y="1371600"/>
            <a:ext cx="942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1.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0.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0.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4360" y="1676160"/>
            <a:ext cx="7105680" cy="4498560"/>
            <a:chOff x="684360" y="1676160"/>
            <a:chExt cx="7105680" cy="4498560"/>
          </a:xfrm>
        </p:grpSpPr>
        <p:sp>
          <p:nvSpPr>
            <p:cNvPr id="124" name="Line 4"/>
            <p:cNvSpPr/>
            <p:nvPr/>
          </p:nvSpPr>
          <p:spPr>
            <a:xfrm>
              <a:off x="1905120" y="5638680"/>
              <a:ext cx="34290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>
              <a:off x="1905120" y="1676520"/>
              <a:ext cx="34290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Line 6"/>
            <p:cNvSpPr/>
            <p:nvPr/>
          </p:nvSpPr>
          <p:spPr>
            <a:xfrm flipV="1">
              <a:off x="1905120" y="1676520"/>
              <a:ext cx="0" cy="396216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 flipV="1">
              <a:off x="5334120" y="1676520"/>
              <a:ext cx="0" cy="396216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Text Box 8"/>
            <p:cNvSpPr/>
            <p:nvPr/>
          </p:nvSpPr>
          <p:spPr>
            <a:xfrm>
              <a:off x="1665720" y="5715000"/>
              <a:ext cx="612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10      20      30      40      50   </a:t>
              </a:r>
              <a:r>
                <a:rPr b="1" lang="en-GB" sz="2400" spc="-1" strike="noStrike">
                  <a:solidFill>
                    <a:srgbClr val="ffffcc"/>
                  </a:solidFill>
                  <a:latin typeface="Arial"/>
                </a:rPr>
                <a:t>Energía (keV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>
              <a:off x="1905120" y="4419720"/>
              <a:ext cx="75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1905120" y="3048120"/>
              <a:ext cx="75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257800" y="4419720"/>
              <a:ext cx="763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5257800" y="3048120"/>
              <a:ext cx="763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Line 14"/>
            <p:cNvSpPr/>
            <p:nvPr/>
          </p:nvSpPr>
          <p:spPr>
            <a:xfrm flipV="1">
              <a:off x="2743200" y="55623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Line 15"/>
            <p:cNvSpPr/>
            <p:nvPr/>
          </p:nvSpPr>
          <p:spPr>
            <a:xfrm flipV="1">
              <a:off x="3581280" y="55623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 flipV="1">
              <a:off x="4419720" y="55623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 flipV="1">
              <a:off x="2743200" y="16761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V="1">
              <a:off x="3581280" y="16761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Line 19"/>
            <p:cNvSpPr/>
            <p:nvPr/>
          </p:nvSpPr>
          <p:spPr>
            <a:xfrm flipV="1">
              <a:off x="4419720" y="16761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2057400" y="2057400"/>
              <a:ext cx="3276720" cy="2133720"/>
            </a:xfrm>
            <a:prstGeom prst="pie">
              <a:avLst/>
            </a:pr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2155680" y="3048120"/>
              <a:ext cx="3200400" cy="1904760"/>
            </a:xfrm>
            <a:prstGeom prst="pie">
              <a:avLst/>
            </a:pr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Text Box 22"/>
            <p:cNvSpPr/>
            <p:nvPr/>
          </p:nvSpPr>
          <p:spPr>
            <a:xfrm>
              <a:off x="3021840" y="2449440"/>
              <a:ext cx="211788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Calcificación d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Ca</a:t>
              </a:r>
              <a:r>
                <a:rPr b="1" lang="en-GB" sz="2000" spc="-1" strike="noStrike" baseline="-25000">
                  <a:solidFill>
                    <a:srgbClr val="ff9900"/>
                  </a:solidFill>
                  <a:latin typeface="Arial"/>
                </a:rPr>
                <a:t>5</a:t>
              </a: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 (PO</a:t>
              </a:r>
              <a:r>
                <a:rPr b="1" lang="en-GB" sz="2000" spc="-1" strike="noStrike" baseline="-25000">
                  <a:solidFill>
                    <a:srgbClr val="ff9900"/>
                  </a:solidFill>
                  <a:latin typeface="Arial"/>
                </a:rPr>
                <a:t>4</a:t>
              </a: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)</a:t>
              </a:r>
              <a:r>
                <a:rPr b="1" lang="en-GB" sz="20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 OH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de 0.1 m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Rectangle 23"/>
            <p:cNvSpPr/>
            <p:nvPr/>
          </p:nvSpPr>
          <p:spPr>
            <a:xfrm>
              <a:off x="1995840" y="4572000"/>
              <a:ext cx="214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Tejido glandular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de 1 m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Rectangle 24"/>
            <p:cNvSpPr/>
            <p:nvPr/>
          </p:nvSpPr>
          <p:spPr>
            <a:xfrm rot="16200000">
              <a:off x="112680" y="329976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cc"/>
                  </a:solidFill>
                  <a:latin typeface="Arial"/>
                </a:rPr>
                <a:t>Contrast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4" name="Rectangle 25"/>
          <p:cNvSpPr/>
          <p:nvPr/>
        </p:nvSpPr>
        <p:spPr>
          <a:xfrm>
            <a:off x="5580000" y="2143080"/>
            <a:ext cx="324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541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El contraste disminuye en un factor de 6 entre 15 y 30 keV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2541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El contraste del tejido glandular cae por debajo de 0.1 para energías por encima de 27 keV</a:t>
            </a:r>
            <a:r>
              <a:rPr b="1" lang="en-GB" sz="1800" spc="-1" strike="noStrike">
                <a:solidFill>
                  <a:srgbClr val="32a14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ntribuciones a la borrosidad total en la image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26960" y="1413000"/>
            <a:ext cx="8393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Borrosidad del receptor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(combinación pantalla-película) puede ser tan pequeña como 0.1 - 0.15 mm (anchura total a mitad de altura de la función de respuesta puntual) con un valor límite tan alto como 20 pares de líneas por m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Borrosidad geométric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el tamaño de la mancha focal y la geometría de imagen deben elegirse de modo que la borrosidad global favorezca el máximo aprovechamiento de las posibilidades de la pantall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Movimiento de la paci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sis de radiación a la mam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dosis decrece rápidamente con la profundidad en el tejido, debido a la baja energía del espectro de rayos X us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Magnitud relevante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: la dosis glandular promedio (AGD), relacionada con los tejidos que se supone son más sensibles a la carcinogénesis inducida por radi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sis de radiación a la mam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0320" y="1267920"/>
            <a:ext cx="83293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dosis a la mama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 ve afectada por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composición y espesor de la mam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energía de los foto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sensibilidad del receptor de imagen</a:t>
            </a:r>
            <a:br>
              <a:rPr sz="2400"/>
            </a:b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La composición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de la mama</a:t>
            </a:r>
            <a:r>
              <a:rPr b="1" lang="es-ES" sz="2800" spc="-1" strike="noStrike">
                <a:solidFill>
                  <a:srgbClr val="32a14c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influye significativamente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en la dosis</a:t>
            </a: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El área de la mama comprimida</a:t>
            </a:r>
            <a:r>
              <a:rPr b="1" lang="es-ES" sz="2800" spc="-1" strike="noStrike">
                <a:solidFill>
                  <a:srgbClr val="32a14c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influye poco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en la do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recorrido promedio de los fotones &lt; dimensiones de la mam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mayoría de las interacciones son fotoeléctr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Variación de la dosis glandular media con la energía de los foton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4716360" y="1414440"/>
            <a:ext cx="411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3430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cc"/>
                </a:solidFill>
                <a:latin typeface="Arial"/>
              </a:rPr>
              <a:t>La figura muestra el rápido incremento en dosis al disminuir la energía de los fotones y al aumentar el espesor de la ma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3430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cc"/>
                </a:solidFill>
                <a:latin typeface="Arial"/>
              </a:rPr>
              <a:t>Para una mama de 8 cm de espesor hay un aumento de dosis de un factor 30 entre energías de fotones de 17.5 y 30 keV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3430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cc"/>
                </a:solidFill>
                <a:latin typeface="Arial"/>
              </a:rPr>
              <a:t>A 20 keV hay un crecimiento de dosis de un factor 17 entre espesores de 2 y 8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5800" y="1492200"/>
            <a:ext cx="4578480" cy="4803120"/>
            <a:chOff x="685800" y="1492200"/>
            <a:chExt cx="4578480" cy="4803120"/>
          </a:xfrm>
        </p:grpSpPr>
        <p:sp>
          <p:nvSpPr>
            <p:cNvPr id="154" name="Line 4"/>
            <p:cNvSpPr/>
            <p:nvPr/>
          </p:nvSpPr>
          <p:spPr>
            <a:xfrm>
              <a:off x="1523880" y="5759280"/>
              <a:ext cx="25146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Line 5"/>
            <p:cNvSpPr/>
            <p:nvPr/>
          </p:nvSpPr>
          <p:spPr>
            <a:xfrm>
              <a:off x="1523880" y="1797120"/>
              <a:ext cx="25146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Line 6"/>
            <p:cNvSpPr/>
            <p:nvPr/>
          </p:nvSpPr>
          <p:spPr>
            <a:xfrm flipV="1">
              <a:off x="1523880" y="1797120"/>
              <a:ext cx="0" cy="396216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Line 7"/>
            <p:cNvSpPr/>
            <p:nvPr/>
          </p:nvSpPr>
          <p:spPr>
            <a:xfrm flipV="1">
              <a:off x="4038480" y="1797120"/>
              <a:ext cx="0" cy="396216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1363680" y="5835600"/>
              <a:ext cx="39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10     20     30     40    </a:t>
              </a: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(keV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Text Box 9"/>
            <p:cNvSpPr/>
            <p:nvPr/>
          </p:nvSpPr>
          <p:spPr>
            <a:xfrm>
              <a:off x="951120" y="1492200"/>
              <a:ext cx="604440" cy="39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0.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Line 10"/>
            <p:cNvSpPr/>
            <p:nvPr/>
          </p:nvSpPr>
          <p:spPr>
            <a:xfrm>
              <a:off x="1523880" y="5302080"/>
              <a:ext cx="763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1523880" y="4159080"/>
              <a:ext cx="763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Line 12"/>
            <p:cNvSpPr/>
            <p:nvPr/>
          </p:nvSpPr>
          <p:spPr>
            <a:xfrm flipV="1">
              <a:off x="2362320" y="56829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 flipV="1">
              <a:off x="3200400" y="56829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 flipV="1">
              <a:off x="4038480" y="56829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 flipV="1">
              <a:off x="4038480" y="17967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Text Box 16"/>
            <p:cNvSpPr/>
            <p:nvPr/>
          </p:nvSpPr>
          <p:spPr>
            <a:xfrm>
              <a:off x="2820240" y="301608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8 c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Rectangle 17"/>
            <p:cNvSpPr/>
            <p:nvPr/>
          </p:nvSpPr>
          <p:spPr>
            <a:xfrm rot="16200000">
              <a:off x="-1288800" y="3492720"/>
              <a:ext cx="434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Dosis glandular media (unids arb.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Line 19"/>
            <p:cNvSpPr/>
            <p:nvPr/>
          </p:nvSpPr>
          <p:spPr>
            <a:xfrm flipV="1">
              <a:off x="1905120" y="56829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Line 20"/>
            <p:cNvSpPr/>
            <p:nvPr/>
          </p:nvSpPr>
          <p:spPr>
            <a:xfrm flipV="1">
              <a:off x="2743200" y="56829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3581280" y="56829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>
              <a:off x="1523880" y="3625920"/>
              <a:ext cx="763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23880" y="2787480"/>
              <a:ext cx="763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>
              <a:off x="1523880" y="2178000"/>
              <a:ext cx="763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>
              <a:off x="3962520" y="5302080"/>
              <a:ext cx="75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>
              <a:off x="3962520" y="4159080"/>
              <a:ext cx="75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>
              <a:off x="3962520" y="3625920"/>
              <a:ext cx="75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>
              <a:off x="3962520" y="2787480"/>
              <a:ext cx="75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>
              <a:off x="3962520" y="2178000"/>
              <a:ext cx="75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30"/>
            <p:cNvSpPr/>
            <p:nvPr/>
          </p:nvSpPr>
          <p:spPr>
            <a:xfrm>
              <a:off x="1752480" y="2711520"/>
              <a:ext cx="2133720" cy="1981080"/>
            </a:xfrm>
            <a:prstGeom prst="pie">
              <a:avLst/>
            </a:prstGeom>
            <a:noFill/>
            <a:ln w="28440">
              <a:solidFill>
                <a:srgbClr val="cf03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31"/>
            <p:cNvSpPr/>
            <p:nvPr/>
          </p:nvSpPr>
          <p:spPr>
            <a:xfrm>
              <a:off x="2133720" y="1949400"/>
              <a:ext cx="1904760" cy="1905120"/>
            </a:xfrm>
            <a:prstGeom prst="pie">
              <a:avLst/>
            </a:prstGeom>
            <a:noFill/>
            <a:ln w="28440">
              <a:solidFill>
                <a:srgbClr val="cf03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2362320" y="17967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Line 33"/>
            <p:cNvSpPr/>
            <p:nvPr/>
          </p:nvSpPr>
          <p:spPr>
            <a:xfrm flipV="1">
              <a:off x="3200400" y="17967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Line 34"/>
            <p:cNvSpPr/>
            <p:nvPr/>
          </p:nvSpPr>
          <p:spPr>
            <a:xfrm flipV="1">
              <a:off x="4038480" y="17967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Line 35"/>
            <p:cNvSpPr/>
            <p:nvPr/>
          </p:nvSpPr>
          <p:spPr>
            <a:xfrm flipV="1">
              <a:off x="1905120" y="17967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Line 36"/>
            <p:cNvSpPr/>
            <p:nvPr/>
          </p:nvSpPr>
          <p:spPr>
            <a:xfrm flipV="1">
              <a:off x="2743200" y="17967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Line 37"/>
            <p:cNvSpPr/>
            <p:nvPr/>
          </p:nvSpPr>
          <p:spPr>
            <a:xfrm flipV="1">
              <a:off x="3581280" y="179676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Text Box 38"/>
            <p:cNvSpPr/>
            <p:nvPr/>
          </p:nvSpPr>
          <p:spPr>
            <a:xfrm>
              <a:off x="2515680" y="393048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2 c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ntribuciones al ruido en la image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1) Moteado cuántic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2) Propiedades del receptor de imag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3) Revelado de la película y sistemas de present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Nota: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el moteado cuántico y la granularidad de la película contribuyen significativamente al  ruido total en la imagen de la mamografía con pantalla-películ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3: Tubo de rayos X mamográf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Objetivos contradictorios para el espectro de un tubo de rayos X mamográfico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espectro ideal de rayos X para mamografía es un compromiso entr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nseguir alto contraste y alta relación señal-ruido (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fotones de baja energía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ntener la dosis en mama baja (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fotones de alta energía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7080" y="155736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teria objeto: mamografía (el objetivo es el cribado del cáncer de mam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ísica del sistema de imag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ómo mantener la calidad de imagen cumpliendo con los requisitos de dos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aracterísticas principales del control de ca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spectro de rayos X para mamografía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90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n una práctica con pantalla-película, podría no ser viable variar la SNR porque la película podría acabar sobre o subexpues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figura da el espectro mamográfico convencional producido en un blanco de Mo y con filtro de M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30960" y="1371600"/>
            <a:ext cx="4032000" cy="4866480"/>
            <a:chOff x="4530960" y="1371600"/>
            <a:chExt cx="4032000" cy="4866480"/>
          </a:xfrm>
        </p:grpSpPr>
        <p:sp>
          <p:nvSpPr>
            <p:cNvPr id="198" name="Rectangle 5"/>
            <p:cNvSpPr/>
            <p:nvPr/>
          </p:nvSpPr>
          <p:spPr>
            <a:xfrm>
              <a:off x="5396040" y="1954080"/>
              <a:ext cx="2544480" cy="358164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Text Box 6"/>
            <p:cNvSpPr/>
            <p:nvPr/>
          </p:nvSpPr>
          <p:spPr>
            <a:xfrm>
              <a:off x="5530320" y="5535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10   15   20   25   30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 flipV="1">
              <a:off x="5738760" y="545940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6221520" y="5459400"/>
              <a:ext cx="0" cy="76320"/>
            </a:xfrm>
            <a:prstGeom prst="line">
              <a:avLst/>
            </a:prstGeom>
            <a:ln w="28440">
              <a:solidFill>
                <a:srgbClr val="047c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 flipV="1">
              <a:off x="6770520" y="5459400"/>
              <a:ext cx="0" cy="76320"/>
            </a:xfrm>
            <a:prstGeom prst="line">
              <a:avLst/>
            </a:prstGeom>
            <a:ln w="28440">
              <a:solidFill>
                <a:srgbClr val="047c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253280" y="5459400"/>
              <a:ext cx="0" cy="76320"/>
            </a:xfrm>
            <a:prstGeom prst="line">
              <a:avLst/>
            </a:prstGeom>
            <a:ln w="28440">
              <a:solidFill>
                <a:srgbClr val="047c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V="1">
              <a:off x="7734240" y="5459400"/>
              <a:ext cx="0" cy="76320"/>
            </a:xfrm>
            <a:prstGeom prst="line">
              <a:avLst/>
            </a:prstGeom>
            <a:ln w="28440">
              <a:solidFill>
                <a:srgbClr val="047c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H="1">
              <a:off x="5395680" y="2106720"/>
              <a:ext cx="680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Text Box 13"/>
            <p:cNvSpPr/>
            <p:nvPr/>
          </p:nvSpPr>
          <p:spPr>
            <a:xfrm>
              <a:off x="4938480" y="1954080"/>
              <a:ext cx="46404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Line 14"/>
            <p:cNvSpPr/>
            <p:nvPr/>
          </p:nvSpPr>
          <p:spPr>
            <a:xfrm flipH="1">
              <a:off x="5395680" y="3325680"/>
              <a:ext cx="680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Line 15"/>
            <p:cNvSpPr/>
            <p:nvPr/>
          </p:nvSpPr>
          <p:spPr>
            <a:xfrm flipH="1">
              <a:off x="7872120" y="2106720"/>
              <a:ext cx="680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Line 16"/>
            <p:cNvSpPr/>
            <p:nvPr/>
          </p:nvSpPr>
          <p:spPr>
            <a:xfrm flipH="1">
              <a:off x="5395680" y="4545000"/>
              <a:ext cx="680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Line 17"/>
            <p:cNvSpPr/>
            <p:nvPr/>
          </p:nvSpPr>
          <p:spPr>
            <a:xfrm flipH="1">
              <a:off x="7872120" y="3325680"/>
              <a:ext cx="680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Line 18"/>
            <p:cNvSpPr/>
            <p:nvPr/>
          </p:nvSpPr>
          <p:spPr>
            <a:xfrm flipH="1">
              <a:off x="7872120" y="4545000"/>
              <a:ext cx="680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 flipV="1">
              <a:off x="5738760" y="195408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 flipV="1">
              <a:off x="6221520" y="545940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221520" y="195408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6770520" y="545940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 flipV="1">
              <a:off x="6770520" y="195408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 flipV="1">
              <a:off x="7253280" y="545940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 flipV="1">
              <a:off x="7253280" y="195408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 flipV="1">
              <a:off x="7734240" y="545940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734240" y="195408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738760" y="5002200"/>
              <a:ext cx="757440" cy="457200"/>
            </a:xfrm>
            <a:prstGeom prst="pie">
              <a:avLst/>
            </a:pr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 flipV="1">
              <a:off x="6496200" y="2335320"/>
              <a:ext cx="0" cy="26668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 flipV="1">
              <a:off x="6564240" y="2335320"/>
              <a:ext cx="0" cy="26668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6496200" y="2335320"/>
              <a:ext cx="68040" cy="0"/>
            </a:xfrm>
            <a:prstGeom prst="line">
              <a:avLst/>
            </a:prstGeom>
            <a:ln w="28440">
              <a:solidFill>
                <a:srgbClr val="047c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6564240" y="5002200"/>
              <a:ext cx="1382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Line 33"/>
            <p:cNvSpPr/>
            <p:nvPr/>
          </p:nvSpPr>
          <p:spPr>
            <a:xfrm flipV="1">
              <a:off x="6702480" y="4545000"/>
              <a:ext cx="0" cy="457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>
              <a:off x="6702480" y="4545000"/>
              <a:ext cx="680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Line 35"/>
            <p:cNvSpPr/>
            <p:nvPr/>
          </p:nvSpPr>
          <p:spPr>
            <a:xfrm>
              <a:off x="6770520" y="4545000"/>
              <a:ext cx="0" cy="9144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6770520" y="5307120"/>
              <a:ext cx="1101960" cy="228600"/>
            </a:xfrm>
            <a:prstGeom prst="pie">
              <a:avLst/>
            </a:pr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Text Box 37"/>
            <p:cNvSpPr/>
            <p:nvPr/>
          </p:nvSpPr>
          <p:spPr>
            <a:xfrm>
              <a:off x="6346800" y="5900760"/>
              <a:ext cx="14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eaeaea"/>
                  </a:solidFill>
                  <a:latin typeface="Arial"/>
                </a:rPr>
                <a:t>Energía (keV)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Text Box 38"/>
            <p:cNvSpPr/>
            <p:nvPr/>
          </p:nvSpPr>
          <p:spPr>
            <a:xfrm rot="16200000">
              <a:off x="2930040" y="3688920"/>
              <a:ext cx="399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eaeaea"/>
                  </a:solidFill>
                  <a:latin typeface="Arial"/>
                </a:rPr>
                <a:t>Número de fotones (normalización arbitraria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4530960" y="1371600"/>
              <a:ext cx="403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Espectro de rayos X a 30 kV de un tubo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con ánodo de Mo y filtro de 0.03 mm M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incipales características del espectro de rayos X en mamografía </a:t>
            </a:r>
            <a:br>
              <a:rPr sz="3600"/>
            </a:b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Rayos X característicos con líneas a 17.4 y 19.6 keV y fuerte atenuación por encima de 20 keV (posición del borde de absorción K del </a:t>
            </a:r>
            <a:r>
              <a:rPr b="0" lang="es-ES" sz="2600" spc="-1" strike="noStrike">
                <a:solidFill>
                  <a:srgbClr val="ff9900"/>
                </a:solidFill>
                <a:latin typeface="Arial"/>
              </a:rPr>
              <a:t>Mo</a:t>
            </a: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Razonablemente próximo a las energías óptimas para imagen de mama de espesores pequeño o medi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Se obtiene un espectro de mayor energía cambiando el filtro de </a:t>
            </a:r>
            <a:r>
              <a:rPr b="0" lang="es-ES" sz="2600" spc="-1" strike="noStrike">
                <a:solidFill>
                  <a:srgbClr val="ff9900"/>
                </a:solidFill>
                <a:latin typeface="Arial"/>
              </a:rPr>
              <a:t>Mo</a:t>
            </a: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 por un material de mayor número atómico, con su borde K a mayor energía (</a:t>
            </a:r>
            <a:r>
              <a:rPr b="0" lang="es-ES" sz="2600" spc="-1" strike="noStrike">
                <a:solidFill>
                  <a:srgbClr val="ff9900"/>
                </a:solidFill>
                <a:latin typeface="Arial"/>
              </a:rPr>
              <a:t>Rh</a:t>
            </a: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s-ES" sz="2600" spc="-1" strike="noStrike">
                <a:solidFill>
                  <a:srgbClr val="ff9900"/>
                </a:solidFill>
                <a:latin typeface="Arial"/>
              </a:rPr>
              <a:t>Pd</a:t>
            </a: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El W puede usarse también como material de blanc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pciones para un espectro óptimo de rayos X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2600" y="1308240"/>
            <a:ext cx="85932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stintos trabajos científicos han mostrado que el contraste es mejor para combinaciones blanco/filtro de Mo/M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ventaja disminuye al aumentar el espesor de la ma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uso de una combinación blanco/filtro de W/Pd produce un sustancial ahorro de dosis pero solo se recomienda para las mamas más grues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pciones para un espectro óptimo de rayos X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8240" y="1268280"/>
            <a:ext cx="82501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amaño de la mancha focal y geometría de image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borrosidad global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U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en la imagen mamográfica puede estimarse combinando la borrosidad geométrica y la del recep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ccff"/>
                </a:solidFill>
                <a:latin typeface="Arial"/>
              </a:rPr>
              <a:t>U = ([f</a:t>
            </a:r>
            <a:r>
              <a:rPr b="1" lang="es-ES" sz="2800" spc="-1" strike="noStrike" baseline="30000">
                <a:solidFill>
                  <a:srgbClr val="99ccff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99ccff"/>
                </a:solidFill>
                <a:latin typeface="Arial"/>
              </a:rPr>
              <a:t>(m-1)</a:t>
            </a:r>
            <a:r>
              <a:rPr b="1" lang="es-ES" sz="2800" spc="-1" strike="noStrike" baseline="30000">
                <a:solidFill>
                  <a:srgbClr val="99ccff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99ccff"/>
                </a:solidFill>
                <a:latin typeface="Arial"/>
              </a:rPr>
              <a:t> + F</a:t>
            </a:r>
            <a:r>
              <a:rPr b="1" lang="es-ES" sz="2800" spc="-1" strike="noStrike" baseline="30000">
                <a:solidFill>
                  <a:srgbClr val="99ccff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99ccff"/>
                </a:solidFill>
                <a:latin typeface="Arial"/>
              </a:rPr>
              <a:t>]</a:t>
            </a:r>
            <a:r>
              <a:rPr b="1" lang="es-ES" sz="2800" spc="-1" strike="noStrike" baseline="30000">
                <a:solidFill>
                  <a:srgbClr val="99ccff"/>
                </a:solidFill>
                <a:latin typeface="Arial"/>
              </a:rPr>
              <a:t>1/2</a:t>
            </a:r>
            <a:r>
              <a:rPr b="1" lang="es-ES" sz="2800" spc="-1" strike="noStrike">
                <a:solidFill>
                  <a:srgbClr val="99ccff"/>
                </a:solidFill>
                <a:latin typeface="Arial"/>
              </a:rPr>
              <a:t>)/m     (ecuación 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ond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ccff"/>
                </a:solidFill>
                <a:latin typeface="Arial"/>
              </a:rPr>
              <a:t>f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tamaño de la mancha focal efectiv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ccff"/>
                </a:solidFill>
                <a:latin typeface="Arial"/>
              </a:rPr>
              <a:t>m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magnific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ccff"/>
                </a:solidFill>
                <a:latin typeface="Arial"/>
              </a:rPr>
              <a:t>F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borrosidad del recep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146160"/>
            <a:ext cx="91137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Variación de la borrosidad global con la magnificación de la imagen y la mancha foca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5867280" y="1797120"/>
            <a:ext cx="309744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778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cc"/>
                </a:solidFill>
                <a:latin typeface="Arial"/>
              </a:rPr>
              <a:t>Para una borrosidad de receptor de 0.1 m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cc"/>
                </a:solidFill>
                <a:latin typeface="Arial"/>
              </a:rPr>
              <a:t>La magnificación puede mejorar la borrosidad significativamente solo si la mancha focal es lo bastante pequeñ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cc"/>
                </a:solidFill>
                <a:latin typeface="Arial"/>
              </a:rPr>
              <a:t>Si la mancha focal es demasiado grande, la magnificación aumentará la borrosidad</a:t>
            </a:r>
            <a:r>
              <a:rPr b="1" lang="es-AR" sz="1800" spc="-1" strike="noStrike">
                <a:solidFill>
                  <a:srgbClr val="32a14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60320" y="1447920"/>
            <a:ext cx="4931280" cy="5022720"/>
            <a:chOff x="760320" y="1447920"/>
            <a:chExt cx="4931280" cy="5022720"/>
          </a:xfrm>
        </p:grpSpPr>
        <p:sp>
          <p:nvSpPr>
            <p:cNvPr id="242" name="Line 3"/>
            <p:cNvSpPr/>
            <p:nvPr/>
          </p:nvSpPr>
          <p:spPr>
            <a:xfrm>
              <a:off x="1905120" y="5702400"/>
              <a:ext cx="3733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Line 4"/>
            <p:cNvSpPr/>
            <p:nvPr/>
          </p:nvSpPr>
          <p:spPr>
            <a:xfrm>
              <a:off x="1905120" y="1739880"/>
              <a:ext cx="3733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Line 5"/>
            <p:cNvSpPr/>
            <p:nvPr/>
          </p:nvSpPr>
          <p:spPr>
            <a:xfrm flipV="1">
              <a:off x="1905120" y="1739520"/>
              <a:ext cx="0" cy="3962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Line 6"/>
            <p:cNvSpPr/>
            <p:nvPr/>
          </p:nvSpPr>
          <p:spPr>
            <a:xfrm flipV="1">
              <a:off x="5638680" y="1739520"/>
              <a:ext cx="0" cy="39625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Text Box 7"/>
            <p:cNvSpPr/>
            <p:nvPr/>
          </p:nvSpPr>
          <p:spPr>
            <a:xfrm>
              <a:off x="1679400" y="5645160"/>
              <a:ext cx="401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6600"/>
                  </a:solidFill>
                  <a:latin typeface="Arial"/>
                </a:rPr>
                <a:t>1.0              1.5                2.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aeaea"/>
                  </a:solidFill>
                  <a:latin typeface="Arial"/>
                </a:rPr>
                <a:t>Magnificación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Text Box 8"/>
            <p:cNvSpPr/>
            <p:nvPr/>
          </p:nvSpPr>
          <p:spPr>
            <a:xfrm>
              <a:off x="1145160" y="1447920"/>
              <a:ext cx="77364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0.1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0.1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0.0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1905120" y="5016600"/>
              <a:ext cx="75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>
              <a:off x="1905120" y="3645000"/>
              <a:ext cx="75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V="1">
              <a:off x="3581280" y="562608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V="1">
              <a:off x="3581280" y="173988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V="1">
              <a:off x="5257800" y="173988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2896560" y="19684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0.8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 rot="16200000">
              <a:off x="-819720" y="3470400"/>
              <a:ext cx="362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Borrosidad global (mm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 flipV="1">
              <a:off x="5334120" y="562608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>
              <a:off x="1905120" y="2502000"/>
              <a:ext cx="75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>
              <a:off x="5562720" y="5016600"/>
              <a:ext cx="75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Line 20"/>
            <p:cNvSpPr/>
            <p:nvPr/>
          </p:nvSpPr>
          <p:spPr>
            <a:xfrm>
              <a:off x="5562720" y="3645000"/>
              <a:ext cx="75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Line 21"/>
            <p:cNvSpPr/>
            <p:nvPr/>
          </p:nvSpPr>
          <p:spPr>
            <a:xfrm>
              <a:off x="5562720" y="2502000"/>
              <a:ext cx="75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Freeform 22"/>
            <p:cNvSpPr/>
            <p:nvPr/>
          </p:nvSpPr>
          <p:spPr>
            <a:xfrm>
              <a:off x="1905120" y="1739880"/>
              <a:ext cx="914400" cy="1905120"/>
            </a:xfrm>
            <a:prstGeom prst="pie">
              <a:avLst/>
            </a:pr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Freeform 23"/>
            <p:cNvSpPr/>
            <p:nvPr/>
          </p:nvSpPr>
          <p:spPr>
            <a:xfrm>
              <a:off x="1981080" y="1739880"/>
              <a:ext cx="1752840" cy="1828800"/>
            </a:xfrm>
            <a:prstGeom prst="pie">
              <a:avLst/>
            </a:pr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Freeform 24"/>
            <p:cNvSpPr/>
            <p:nvPr/>
          </p:nvSpPr>
          <p:spPr>
            <a:xfrm>
              <a:off x="1905120" y="3111480"/>
              <a:ext cx="3657600" cy="723960"/>
            </a:xfrm>
            <a:prstGeom prst="pie">
              <a:avLst/>
            </a:pr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Freeform 25"/>
            <p:cNvSpPr/>
            <p:nvPr/>
          </p:nvSpPr>
          <p:spPr>
            <a:xfrm>
              <a:off x="1905120" y="3645000"/>
              <a:ext cx="3657600" cy="533160"/>
            </a:xfrm>
            <a:prstGeom prst="pie">
              <a:avLst/>
            </a:pr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Freeform 26"/>
            <p:cNvSpPr/>
            <p:nvPr/>
          </p:nvSpPr>
          <p:spPr>
            <a:xfrm>
              <a:off x="1905120" y="3720960"/>
              <a:ext cx="3657600" cy="1371600"/>
            </a:xfrm>
            <a:prstGeom prst="pie">
              <a:avLst/>
            </a:pr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Text Box 27"/>
            <p:cNvSpPr/>
            <p:nvPr/>
          </p:nvSpPr>
          <p:spPr>
            <a:xfrm>
              <a:off x="3735000" y="21207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4344480" y="34164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Text Box 29"/>
            <p:cNvSpPr/>
            <p:nvPr/>
          </p:nvSpPr>
          <p:spPr>
            <a:xfrm>
              <a:off x="4496760" y="42544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0.1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Text Box 30"/>
            <p:cNvSpPr/>
            <p:nvPr/>
          </p:nvSpPr>
          <p:spPr>
            <a:xfrm>
              <a:off x="4579200" y="50166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0.01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4: Tamaño de la mancha fo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amaño de mancha focal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81136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ara una unidad de cribado, se recomienda un tubo de rayos X de foco único con una mancha focal de 0.3 mm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ara propósitos de mamografía general, se requiere un tubo de rayos X de doble foco con foco fino adicional (0.1 mm) para usarlo exclusivamente en técnicas de magnific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tamaño de la mancha focal debe verificarse (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patrón de estrella, cámara de ranura o método del “pinhole”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) anualmente o si la resolución se degrada rápidam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mbinación blanco/filtr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ventana del tubo de rayos X debe ser de berilio (no vidrio) con espesor máximo de 1 m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combinaciones blanco/filtro disponibles hoy en día son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Mo + 30 </a:t>
            </a:r>
            <a:r>
              <a:rPr b="1" lang="es-E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m Mo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Mo + 25 </a:t>
            </a:r>
            <a:r>
              <a:rPr b="1" lang="es-E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m M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W + 60 </a:t>
            </a:r>
            <a:r>
              <a:rPr b="1" lang="es-E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m Mo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W + 50 </a:t>
            </a:r>
            <a:r>
              <a:rPr b="1" lang="es-E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m R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W + 40 </a:t>
            </a:r>
            <a:r>
              <a:rPr b="1" lang="es-E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m Pd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Rh + 25 </a:t>
            </a:r>
            <a:r>
              <a:rPr b="1" lang="es-E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m R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iltración del tubo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74680" y="1503360"/>
            <a:ext cx="8593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Filtración permanente total </a:t>
            </a:r>
            <a:r>
              <a:rPr b="0" lang="es-ES" sz="28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0.5 mm de Al o 0.03 mm de Mo (recomendada por ICRP 34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calidad del haz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se define por la HV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n mejor índice de la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alidad del haz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 la filtración total, que puede relacionarse con la HVL usando datos publicad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La HVL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con la placa de compresión colocada, a 28kV Mo/Mo está típicamente por encima de 0.30 mm equivalentes a Al y &lt; 0.4 mm Al (European Guidelines for QA in mammography screening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5: Generador de alta tens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em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0264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Introducción a la física de la mamografí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arámetros físicos importan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tubo de rayos X mamográfic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Tamaño de mancha foc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Generador de alto volta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eja antidifusor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trol automático de exposi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osimetrí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trol de cal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Freeform 312"/>
          <p:cNvSpPr/>
          <p:nvPr/>
        </p:nvSpPr>
        <p:spPr>
          <a:xfrm>
            <a:off x="6323040" y="3522600"/>
            <a:ext cx="1440" cy="3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Freeform 316"/>
          <p:cNvSpPr/>
          <p:nvPr/>
        </p:nvSpPr>
        <p:spPr>
          <a:xfrm>
            <a:off x="6323040" y="3675240"/>
            <a:ext cx="1440" cy="2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specificaciones de “estado de arte” para mamografía con pantalla-películ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74680" y="1285560"/>
            <a:ext cx="85932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na forma de onda de potencial casi constante con un rizado no mayor que el producido por un sistema de rectificación a 6 puls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intervalo de voltajes debe ser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25 – 35 kV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corriente del tubo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debe ser al menos 100 mA con foco grueso y 50 mA con foco fino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intervalo del producto corriente del tubo por tiempo de exposición (mAs)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debe estar, al menos, entre 5 y 800 m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be ser posible repetir exposiciones con máxima carga a intervalos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&lt; 30 segund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6: Rejilla antidifuso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¿Por qué la rejilla antidifusora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74680" y="1142640"/>
            <a:ext cx="85932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os efectos de la radiación dispersa pueden degradar significativamente el contraste de la imagen y la necesidad de un dispositivo antidifusor es evid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efecto se mide por 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Factor de degradación del contraste (CDF):</a:t>
            </a:r>
            <a:br>
              <a:rPr sz="2800"/>
            </a:b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           CDF = 1/(1+ S/P)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onde: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S/P: relación de cantidades de radiación dispersa a radiación primari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Valores calculados de CDF: 0.76 y 0.48 para espesores de mama de 2 y 8 cm respectivamente [Dance et al.]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jilla antidifusor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os tipos de rejas antidifusoras disponibl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Reja estacionari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con alta densidad de líneas (ej. 80 líneas/cm) y material interespacio de alumin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Reja móvil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con unas 30 líneas/cm con interespacio de papel o fibra de algod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rendimiento de la reja antidifusora puede expresarse en términos de la 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mejora de contraste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CIF) y los 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factores de Bucky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BF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jilla antidifusora: índices de comportamient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13840" y="1294920"/>
            <a:ext cx="875052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El CIF relaciona el contraste con reja y sin ella, mientra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El BF da el incremento en dosis asociado al uso de la rej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Rectangle 213"/>
          <p:cNvSpPr/>
          <p:nvPr/>
        </p:nvSpPr>
        <p:spPr>
          <a:xfrm>
            <a:off x="1692360" y="6345360"/>
            <a:ext cx="3024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Rectangle 215"/>
          <p:cNvSpPr/>
          <p:nvPr/>
        </p:nvSpPr>
        <p:spPr>
          <a:xfrm>
            <a:off x="1703520" y="6334200"/>
            <a:ext cx="19080" cy="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Rectangle 216"/>
          <p:cNvSpPr/>
          <p:nvPr/>
        </p:nvSpPr>
        <p:spPr>
          <a:xfrm>
            <a:off x="1716120" y="6321600"/>
            <a:ext cx="64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Rectangle 217"/>
          <p:cNvSpPr/>
          <p:nvPr/>
        </p:nvSpPr>
        <p:spPr>
          <a:xfrm>
            <a:off x="1716120" y="6321600"/>
            <a:ext cx="648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220"/>
          <p:cNvSpPr/>
          <p:nvPr/>
        </p:nvSpPr>
        <p:spPr>
          <a:xfrm>
            <a:off x="1722600" y="6321600"/>
            <a:ext cx="2646360" cy="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500040" y="2708280"/>
            <a:ext cx="8643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Valores de CIF y BF para la rejilla móvil Philips</a:t>
            </a:r>
            <a:r>
              <a:rPr b="1" lang="es-ES" sz="2400" spc="-1" strike="noStrike">
                <a:solidFill>
                  <a:srgbClr val="32a14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379520" y="3357720"/>
          <a:ext cx="6792840" cy="2724120"/>
        </p:xfrm>
        <a:graphic>
          <a:graphicData uri="http://schemas.openxmlformats.org/drawingml/2006/table">
            <a:tbl>
              <a:tblPr/>
              <a:tblGrid>
                <a:gridCol w="3552840"/>
                <a:gridCol w="1440000"/>
                <a:gridCol w="1800000"/>
              </a:tblGrid>
              <a:tr h="64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spesor mama cm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I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2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6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3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8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5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0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6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2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7: Control automático de exposi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ispositivo de control automático de exposición (AEC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sistema debe producir una densidad óptica estable (variación de OD menor de </a:t>
            </a:r>
            <a:r>
              <a:rPr b="0" lang="es-ES" sz="2800" spc="-1" strike="noStrike">
                <a:solidFill>
                  <a:srgbClr val="ffffcc"/>
                </a:solidFill>
                <a:latin typeface="Symbol"/>
                <a:ea typeface="Symbol"/>
              </a:rPr>
              <a:t>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0.2 ) en un amplio rango de m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or tanto, debe estar ajustado con un AEC colocado tras el receptor de la película para tener en cuenta características de mama muy distint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detector debe ser móvil para cubrir diferentes localizaciones anatómicas en la mama y adaptable a, al menos, tres combinaciones película-pantall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8: Dosimetr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simetría en mama en mamografía con pantalla-películ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Hay un pequeño riesgo de cáncer inducido por radiación asociado con exámenes de mama con rayos X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nseguir una imagen de calidad a la dosis más baja posible es, por tanto, un requisi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 aquí la dosimetría de ma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dosis glandular media (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AGD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) es la magnitud dosimétrica generalmente recomendada para evaluación del riesg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agnitudes dosimétric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74680" y="1285560"/>
            <a:ext cx="85932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AGD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no puede medirse directamente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pero puede deducirse de medidas con un maniquí estándar en las condiciones técnicas de operación reales con que opere el equipo mamográfic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rma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ire en el seno de aire en la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perficie de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ntrada (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ESAK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) (es decir, sin retrodispersión) ha resultado la magnitud más frecuentemente usada para dosimetría al paciente en mamografí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ara otros propósitos (comparación con el nivel de dosis de referencia) es posible referirse a la ESD, que incluye retrodispers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/objetiv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4240" y="1523520"/>
            <a:ext cx="781848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r capaz de aplicar los principios de la protección radiológica a la mamografía, incluyendo diseño, control de calidad y dosimetr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agnitudes dosimétric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74680" y="1071360"/>
            <a:ext cx="8593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La ESAK puede determinarse mediant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Un dosímetro TLD calibrado en términos de kerma-aire en aire a una HVL lo más próxima posible a 0.4 mm Al,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con un maniquí estándar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Un dosímetro TLD calibrado en términos de kerma-aire en aire a una HVL lo más próxima posible a 0.4 mm Al,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pegado a la piel del paciente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(para expresar la ESAK, debe aplicarse un factor de retrodispersión apropiado a la dosis en la superficie de entrada medida con el TLD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Nota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: debido al bajo kV usado, el TLD se ve en la image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Un medidor de dosis con un rango dinámico al menos de 0.5 a100 mGy (exactitud mejor que </a:t>
            </a:r>
            <a:r>
              <a:rPr b="1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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10%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9: Control de ca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¿Por qué el control de calidad 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s BSS requieren Garantía de Calidad para las exposiciones méd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incipios establecidos por la OMS, (CIPR para la dosis), directrices preparadas por EC, PAHO,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n programa de control de calidad debe asegur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mejor calidad de image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on la mínima dosis a la mam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 aquí la conveniencia de comprobar regularmente los parámetros importantes relacionad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ámetros a considerar por un programa de QC (1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3040" y="1363680"/>
            <a:ext cx="796932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Generación y control de los rayos X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Tamaño de mancha focal (patrón de estrella, cámara de ranura, disco con orificio “pinhole”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O medidor de pares de líneas de resolución del sistem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Voltaje del tubo (reproducibilidad, exactitud, HVL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Sistema del AEC (kV y espesor del objeto, compensación, control de OD, reproducibilidad a corto plazo...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Compresión (fuerza de compresión, alineamiento de la bandeja de compresión)</a:t>
            </a:r>
            <a:br>
              <a:rPr sz="2000"/>
            </a:br>
            <a:r>
              <a:rPr b="1" lang="es-E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Bucky y receptor de image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Rejilla antidifusora (factor del sistema de rejilla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Pantalla-película (sensibilidad inter-chasis, contacto pantalla/película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1116000" y="1327320"/>
            <a:ext cx="6915240" cy="46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Procesado de pelícu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62120" indent="-304920"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–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Detalles básicos (temperatura, tiempo de procesado, OD de la películ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62120" indent="-304920"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–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Película y procesadora (sensitometrí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62120" indent="-304920"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–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Cámara oscura (luces de seguridad, fugas de luz, pasa-placas,...)</a:t>
            </a:r>
            <a:br>
              <a:rPr sz="2400"/>
            </a:b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Procesado de la pelícu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62120" indent="-304920"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–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Negatoscopio (brillo, homogeneida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62120" indent="-304920"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–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Entorno (iluminación de la sal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ámetros a considerar por un programa de QC (2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762120" y="1447920"/>
            <a:ext cx="777240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20000"/>
              </a:lnSpc>
              <a:tabLst>
                <a:tab algn="l" pos="0"/>
                <a:tab algn="l" pos="563400"/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Propiedades del sistem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863640" indent="-284040"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Dosis de referencia (dosis en la superficie de entrada o dosis glandular medi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863640" indent="-284040"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alidad de imagen (resolución espacial, contraste en la imagen, umbral de visibilidad de contraste, tiempo de exposició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ámetros a considerar por un programa de QC (3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687240" y="1447920"/>
            <a:ext cx="77724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119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Se intenta que este protocolo suministre las técnicas básicas para el control de calidad (QC) de los aspectos físicos y técnicos de la mamografí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119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Se realizan muchas medidas exponiendo un objeto de prueba o maniquí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119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Todas las medidas se realizan bajo condiciones normales de operación: no se precisan ajustes especiales de los equip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 a las medid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601560" y="1509840"/>
            <a:ext cx="80028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7720" indent="-477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Dos tipos de exposiciones: 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77720" indent="-4777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La </a:t>
            </a:r>
            <a:r>
              <a:rPr b="1" i="1" lang="es-ES" sz="2400" spc="-1" strike="noStrike">
                <a:solidFill>
                  <a:srgbClr val="ff9900"/>
                </a:solidFill>
                <a:latin typeface="Arial"/>
              </a:rPr>
              <a:t>exposición</a:t>
            </a: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de </a:t>
            </a:r>
            <a:r>
              <a:rPr b="1" i="1" lang="es-ES" sz="2400" spc="-1" strike="noStrike">
                <a:solidFill>
                  <a:srgbClr val="ff9900"/>
                </a:solidFill>
                <a:latin typeface="Arial"/>
              </a:rPr>
              <a:t>referencia </a:t>
            </a: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pretende suministrar la información del sistema en condiciones </a:t>
            </a:r>
            <a:r>
              <a:rPr b="1" i="1" lang="es-ES" sz="2400" spc="-1" strike="noStrike">
                <a:solidFill>
                  <a:srgbClr val="ff9900"/>
                </a:solidFill>
                <a:latin typeface="Arial"/>
              </a:rPr>
              <a:t>definidas</a:t>
            </a: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, independientes de las técnicas clínic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77720" indent="-477720">
              <a:lnSpc>
                <a:spcPct val="4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77720" indent="-4777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La </a:t>
            </a:r>
            <a:r>
              <a:rPr b="1" i="1" lang="es-ES" sz="2400" spc="-1" strike="noStrike">
                <a:solidFill>
                  <a:srgbClr val="ff9900"/>
                </a:solidFill>
                <a:latin typeface="Arial"/>
              </a:rPr>
              <a:t>exposición</a:t>
            </a: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 de </a:t>
            </a:r>
            <a:r>
              <a:rPr b="1" i="1" lang="es-ES" sz="2400" spc="-1" strike="noStrike">
                <a:solidFill>
                  <a:srgbClr val="ff9900"/>
                </a:solidFill>
                <a:latin typeface="Arial"/>
              </a:rPr>
              <a:t>rutina </a:t>
            </a: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pretende suministrar la información del sistema en condiciones </a:t>
            </a:r>
            <a:r>
              <a:rPr b="1" i="1" lang="es-ES" sz="2400" spc="-1" strike="noStrike">
                <a:solidFill>
                  <a:srgbClr val="ff9900"/>
                </a:solidFill>
                <a:latin typeface="Arial"/>
              </a:rPr>
              <a:t>clínicas</a:t>
            </a: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,  dependientes de los parámetros usados clínicament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 a las medid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03360" y="1371600"/>
            <a:ext cx="80010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569880">
              <a:lnSpc>
                <a:spcPct val="100000"/>
              </a:lnSpc>
              <a:spcAft>
                <a:spcPts val="1400"/>
              </a:spcAft>
              <a:buClr>
                <a:srgbClr val="99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densidad óptica (OD) de la imagen procesada se mide en el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punto de referencia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que queda 60 mm desde la pared del tórax y centrado lateralment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69880" indent="-569880">
              <a:lnSpc>
                <a:spcPct val="100000"/>
              </a:lnSpc>
              <a:spcAft>
                <a:spcPts val="1400"/>
              </a:spcAft>
              <a:buClr>
                <a:srgbClr val="99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densidad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óptica de referencia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 1.0 OD,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excluidas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base y el velo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69880" indent="-569880">
              <a:lnSpc>
                <a:spcPct val="100000"/>
              </a:lnSpc>
              <a:spcAft>
                <a:spcPts val="1400"/>
              </a:spcAft>
              <a:buClr>
                <a:srgbClr val="99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tanto, la medida de la OD en el punto de referencia apunta a: 1.0 ± 0.1 + base + velo (OD). La OD de rutina podría ser diferent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 a las medid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87480" y="1490760"/>
            <a:ext cx="725652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3560" indent="-76356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63560" indent="-763560">
              <a:lnSpc>
                <a:spcPct val="100000"/>
              </a:lnSpc>
              <a:spcAft>
                <a:spcPts val="1400"/>
              </a:spcAft>
              <a:buClr>
                <a:srgbClr val="99cc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Todas las medidas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ben realizarse con el mismo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chasi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para   descartar variaciones del AEC y diferencias entre pantallas y chasi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763560" indent="-763560">
              <a:lnSpc>
                <a:spcPct val="100000"/>
              </a:lnSpc>
              <a:spcAft>
                <a:spcPts val="1400"/>
              </a:spcAft>
              <a:buClr>
                <a:srgbClr val="99cc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dan los límites de funcionamiento aceptable, pero sería deseable con frecuencia un resultado mejor.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 a las medid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1: Introducción a la física de la mam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ducción de exposición de referencia o de rutin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533520" y="11430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aeaea"/>
                </a:solidFill>
                <a:latin typeface="Arial"/>
              </a:rPr>
              <a:t>Para la producción de la exposición de referencia o la de rutina, se expone un maniquí de plexiglass a las siguientes técnica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4000" y="2100240"/>
          <a:ext cx="8567640" cy="3575160"/>
        </p:xfrm>
        <a:graphic>
          <a:graphicData uri="http://schemas.openxmlformats.org/drawingml/2006/table">
            <a:tbl>
              <a:tblPr/>
              <a:tblGrid>
                <a:gridCol w="2519280"/>
                <a:gridCol w="3044880"/>
                <a:gridCol w="3003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xposición de referenci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xposición de rutin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oltaje del tub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8 kV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écnica clínic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sposit. compres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n contacto con maniquí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n contacto con maniquí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aniquí plexiglas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5 m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5 m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ja antidifusor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esent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esent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ID (dist. fuente-imag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justada con reja foclizad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justada con reja foclizad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tector phototim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sición más cerca pared tóra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écnica clínic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E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n, escalón dens. centr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ol dens. óptic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sición centr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écnica clínic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sume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objetivo final al usar consistentemente un equipo de mamografía con película-pantalla es lograr la mejor calidad de imagen, manteniendo la dosis a la mama tan baja como sea razonablemente alcanz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implantación de un protocolo de QC bien definido puede contribuir de modo eficaz a conseguir tal fi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conseguir más inform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uropean Protocol on dosimetry in mammography. EUR 16263 E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ance D. R., and Day G. J. 1984. The computation of scatter in mammography by Monte Carlo methods Phys. Med. Biol. 29, 237-247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Birch R, Marshall M and Ardran G M 1979. Catalogue of spectral data for diagnostic X-Rays SRS30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uropean Guidelines for quality assurance in mammography screening, 3rd Edition (2001) ISBN 92-894-1145-7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45800"/>
            <a:ext cx="914400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 a la física de la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4240" y="1268280"/>
            <a:ext cx="63057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04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 mamografía con rayos X es el método más fiable de detección del cáncer de ma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s el método de elección para el Programa de cribado mamográfico en muchos países desarrollad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ara obtener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mamogramas de alta calidad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on una dosis aceptable en mama,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es esencial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usar el equipamiento correc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7164360" y="2438280"/>
            <a:ext cx="1548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incipales componentes del sistema de image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2600" y="1666440"/>
            <a:ext cx="85932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ubo de rayos X mamográf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spositivo para comprimir la ma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ja antidifuso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ceptor de imagen mamográf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stema de control automático de exposi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MAMGEOM"/>
          <p:cNvPicPr/>
          <p:nvPr/>
        </p:nvPicPr>
        <p:blipFill>
          <a:blip r:embed="rId1"/>
          <a:stretch/>
        </p:blipFill>
        <p:spPr>
          <a:xfrm>
            <a:off x="1373040" y="1103400"/>
            <a:ext cx="6600960" cy="5068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Geometría de la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 flipH="1">
            <a:off x="1895040" y="1839960"/>
            <a:ext cx="1373400" cy="4046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3268800" y="1913040"/>
            <a:ext cx="1176120" cy="3973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2600" y="-27360"/>
            <a:ext cx="861048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incipales variables del sistema de imagen mamográfic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9488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Contraste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capacidad del sistema de hacer visibles pequeñas diferencias en la densidad de tejido blan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Nitidez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capacidad del sistema de hacer visibles pequeños detalles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(calcificaciones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por debajo de 0.1 mm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Dosis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la mama femenina es un órgano muy radiosensible y hay riesgo de carcinogénesis asociado a esta técnica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Ruido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determina hasta dónde es posible reducir la dosis en la tarea de identificar un objeto particular frente al fon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cp:lastPrinted>2009-08-25T08:54:10Z</cp:lastPrinted>
  <dcterms:modified xsi:type="dcterms:W3CDTF">2009-09-09T08:37:14Z</dcterms:modified>
  <cp:revision>189</cp:revision>
  <dc:subject>Mammography</dc:subject>
  <dc:title>RADIATION PROTECTION IN DIAGNOSTIC RADIOLOGY</dc:title>
</cp:coreProperties>
</file>