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EC2-F97B-4C6B-9F31-5643F5717A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57800"/>
            <a:ext cx="50277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ñadida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ñadida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úmanse los principales asuntos tratados en la sesión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ístense los principales temas abordados y destáquense de nuevo los detalles  importante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ción Protection and Safe Use of radiació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5840" y="14616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14616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4 Marcador de pie de página"/>
          <p:cNvSpPr/>
          <p:nvPr/>
        </p:nvSpPr>
        <p:spPr>
          <a:xfrm>
            <a:off x="3243240" y="6453360"/>
            <a:ext cx="26240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7: </a:t>
            </a: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El haz de rayos X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50840" y="651348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4AD-8CE0-4BCF-90CC-B2BFC9C3C2D9}" type="slidenum">
              <a:rPr b="0" lang="en-GB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68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 7: El haz de rayos X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pie de página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tros de Bremsstrahlung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984240" y="5661000"/>
            <a:ext cx="733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= energía de los electrones, E = energía de los fotones emitid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87240" y="1257480"/>
            <a:ext cx="8095680" cy="4345920"/>
            <a:chOff x="687240" y="1257480"/>
            <a:chExt cx="8095680" cy="4345920"/>
          </a:xfrm>
        </p:grpSpPr>
        <p:sp>
          <p:nvSpPr>
            <p:cNvPr id="219" name="Text Box 11"/>
            <p:cNvSpPr/>
            <p:nvPr/>
          </p:nvSpPr>
          <p:spPr>
            <a:xfrm>
              <a:off x="687240" y="1257480"/>
              <a:ext cx="39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N/dE 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(densidad espectral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4956120" y="127800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cc"/>
                  </a:solidFill>
                  <a:latin typeface="Arial"/>
                </a:rPr>
                <a:t>dN/d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994680" y="5143680"/>
              <a:ext cx="33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De un blanco “delgado”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>
              <a:off x="5027760" y="1714680"/>
              <a:ext cx="0" cy="3200400"/>
            </a:xfrm>
            <a:prstGeom prst="line">
              <a:avLst/>
            </a:prstGeom>
            <a:ln w="28440">
              <a:solidFill>
                <a:srgbClr val="f05e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5027760" y="4915080"/>
              <a:ext cx="3587760" cy="0"/>
            </a:xfrm>
            <a:prstGeom prst="line">
              <a:avLst/>
            </a:prstGeom>
            <a:ln w="28440">
              <a:solidFill>
                <a:srgbClr val="f05e2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Line 9"/>
            <p:cNvSpPr/>
            <p:nvPr/>
          </p:nvSpPr>
          <p:spPr>
            <a:xfrm>
              <a:off x="5027760" y="2171880"/>
              <a:ext cx="3165480" cy="2727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8399520" y="486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aeaea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7849440" y="48387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aeaea"/>
                  </a:solidFill>
                  <a:latin typeface="Arial"/>
                </a:rPr>
                <a:t>E</a:t>
              </a:r>
              <a:r>
                <a:rPr b="1" lang="fr-FR" sz="2400" spc="-1" strike="noStrike" baseline="-25000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Line 3"/>
            <p:cNvSpPr/>
            <p:nvPr/>
          </p:nvSpPr>
          <p:spPr>
            <a:xfrm>
              <a:off x="1222200" y="1604880"/>
              <a:ext cx="0" cy="3200400"/>
            </a:xfrm>
            <a:prstGeom prst="line">
              <a:avLst/>
            </a:prstGeom>
            <a:ln w="28440">
              <a:solidFill>
                <a:srgbClr val="f05e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217520" y="4838760"/>
              <a:ext cx="2320920" cy="0"/>
            </a:xfrm>
            <a:prstGeom prst="line">
              <a:avLst/>
            </a:prstGeom>
            <a:ln w="28440">
              <a:solidFill>
                <a:srgbClr val="f05e2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Arc 7"/>
            <p:cNvSpPr/>
            <p:nvPr/>
          </p:nvSpPr>
          <p:spPr>
            <a:xfrm flipH="1" flipV="1">
              <a:off x="1242000" y="2000160"/>
              <a:ext cx="1336680" cy="2819520"/>
            </a:xfrm>
            <a:prstGeom prst="pie">
              <a:avLst/>
            </a:pr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3013200" y="476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2351880" y="47624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r>
                <a:rPr b="1" lang="fr-FR" sz="2400" spc="-1" strike="noStrike" baseline="-25000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879080" y="514368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De un blanco “grueso”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Energía del espectro de rayos X (componente continua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05960" y="1226880"/>
            <a:ext cx="7969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ergía máxima de los fotones de Bremsstrahlu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nergía cinética de los electrones incidentes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 el espectro de rayos X de las instalaciones de radiología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Máx (energía) = Energía al voltaje de pico del tubo de rayos 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6640" y="3357720"/>
            <a:ext cx="3519360" cy="2633400"/>
            <a:chOff x="836640" y="3357720"/>
            <a:chExt cx="3519360" cy="2633400"/>
          </a:xfrm>
        </p:grpSpPr>
        <p:sp>
          <p:nvSpPr>
            <p:cNvPr id="236" name="Rectangle 2"/>
            <p:cNvSpPr/>
            <p:nvPr/>
          </p:nvSpPr>
          <p:spPr>
            <a:xfrm>
              <a:off x="836640" y="3357720"/>
              <a:ext cx="3519360" cy="2633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>
              <a:off x="1347480" y="3511440"/>
              <a:ext cx="0" cy="208080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>
              <a:off x="1347480" y="5592600"/>
              <a:ext cx="2371320" cy="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1390320" y="3697200"/>
              <a:ext cx="2014200" cy="188388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1347480" y="4089240"/>
              <a:ext cx="1587240" cy="148068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>
              <a:off x="1369800" y="4512960"/>
              <a:ext cx="1126800" cy="105696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1360440" y="4992480"/>
              <a:ext cx="634320" cy="61092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1753200" y="3495600"/>
              <a:ext cx="251712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5e2a"/>
                  </a:solidFill>
                  <a:latin typeface="Arial"/>
                </a:rPr>
                <a:t>Bremsstrahlung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912600" y="3419280"/>
              <a:ext cx="620280" cy="440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05e2a"/>
                  </a:solidFill>
                  <a:latin typeface="Symbol"/>
                  <a:ea typeface="Symbol"/>
                </a:rPr>
                <a:t></a:t>
              </a:r>
              <a:r>
                <a:rPr b="1" lang="fr-FR" sz="2000" spc="-1" strike="noStrike" baseline="-25000">
                  <a:solidFill>
                    <a:srgbClr val="f05e2a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3767400" y="5502240"/>
              <a:ext cx="58608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05e2a"/>
                  </a:solidFill>
                  <a:latin typeface="Arial"/>
                </a:rPr>
                <a:t>keV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1755360" y="5628960"/>
              <a:ext cx="1928880" cy="337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05e2a"/>
                  </a:solidFill>
                  <a:latin typeface="Arial"/>
                </a:rPr>
                <a:t>50   100   150   2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014800" y="3357720"/>
            <a:ext cx="3517920" cy="2614320"/>
            <a:chOff x="5014800" y="3357720"/>
            <a:chExt cx="3517920" cy="2614320"/>
          </a:xfrm>
        </p:grpSpPr>
        <p:sp>
          <p:nvSpPr>
            <p:cNvPr id="248" name="Rectangle 3"/>
            <p:cNvSpPr/>
            <p:nvPr/>
          </p:nvSpPr>
          <p:spPr>
            <a:xfrm>
              <a:off x="5014800" y="3357720"/>
              <a:ext cx="3517920" cy="26143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5233680" y="3535200"/>
              <a:ext cx="0" cy="207972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Line 17"/>
            <p:cNvSpPr/>
            <p:nvPr/>
          </p:nvSpPr>
          <p:spPr>
            <a:xfrm>
              <a:off x="5233680" y="5614920"/>
              <a:ext cx="2370240" cy="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5275080" y="3719520"/>
              <a:ext cx="2014560" cy="1884240"/>
            </a:xfrm>
            <a:prstGeom prst="line">
              <a:avLst/>
            </a:prstGeom>
            <a:ln w="28440">
              <a:solidFill>
                <a:srgbClr val="fcd3c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5824800" y="3521160"/>
              <a:ext cx="2602440" cy="825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5e2a"/>
                  </a:solidFill>
                  <a:latin typeface="Arial"/>
                </a:rPr>
                <a:t>Bremsstrahlung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5e2a"/>
                  </a:solidFill>
                  <a:latin typeface="Arial"/>
                </a:rPr>
                <a:t>tras </a:t>
              </a:r>
              <a:r>
                <a:rPr b="1" lang="fr-FR" sz="2400" spc="-1" strike="noStrike">
                  <a:solidFill>
                    <a:srgbClr val="f05e2a"/>
                  </a:solidFill>
                  <a:latin typeface="Arial"/>
                </a:rPr>
                <a:t>filtr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7631640" y="5535720"/>
              <a:ext cx="58608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05e2a"/>
                  </a:solidFill>
                  <a:latin typeface="Arial"/>
                </a:rPr>
                <a:t>keV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441760" y="4676760"/>
              <a:ext cx="1828800" cy="92556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5776920" y="4970520"/>
              <a:ext cx="1493640" cy="631800"/>
            </a:xfrm>
            <a:prstGeom prst="pie">
              <a:avLst/>
            </a:prstGeom>
            <a:solidFill>
              <a:srgbClr val="99ccff"/>
            </a:solidFill>
            <a:ln w="1260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7: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l haz de rayos X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Rayos X caracter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pie de página"/>
          <p:cNvSpPr/>
          <p:nvPr/>
        </p:nvSpPr>
        <p:spPr>
          <a:xfrm>
            <a:off x="4154400" y="6369120"/>
            <a:ext cx="29386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ayos X característicos: interacción electrón - electrón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07588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mienza con la eyección de e</a:t>
            </a:r>
            <a:r>
              <a:rPr b="0" lang="es-E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principalmente de la capa K (también es posible de L, M,…) por ionizació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 las capas, L o M, hay electrones que caen en la vacante creada en la capa 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diferencia en energías de enlace se emite como fot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a secuencia de transiciones electrónicas sucesivas entre niveles de energí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energía de los fotones emitidos es característica del átom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98520" y="1981080"/>
            <a:ext cx="3886200" cy="3542040"/>
            <a:chOff x="398520" y="1981080"/>
            <a:chExt cx="3886200" cy="3542040"/>
          </a:xfrm>
        </p:grpSpPr>
        <p:sp>
          <p:nvSpPr>
            <p:cNvPr id="263" name="Rectangle 82"/>
            <p:cNvSpPr/>
            <p:nvPr/>
          </p:nvSpPr>
          <p:spPr>
            <a:xfrm>
              <a:off x="398520" y="1981080"/>
              <a:ext cx="3886200" cy="32623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Line 83"/>
            <p:cNvSpPr/>
            <p:nvPr/>
          </p:nvSpPr>
          <p:spPr>
            <a:xfrm>
              <a:off x="1349640" y="2311560"/>
              <a:ext cx="0" cy="25794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Line 84"/>
            <p:cNvSpPr/>
            <p:nvPr/>
          </p:nvSpPr>
          <p:spPr>
            <a:xfrm>
              <a:off x="3900600" y="2389320"/>
              <a:ext cx="0" cy="24904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Line 85"/>
            <p:cNvSpPr/>
            <p:nvPr/>
          </p:nvSpPr>
          <p:spPr>
            <a:xfrm>
              <a:off x="1349640" y="3303720"/>
              <a:ext cx="2550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Text Box 86"/>
            <p:cNvSpPr/>
            <p:nvPr/>
          </p:nvSpPr>
          <p:spPr>
            <a:xfrm>
              <a:off x="2476800" y="42022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17f16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Rectangle 87"/>
            <p:cNvSpPr/>
            <p:nvPr/>
          </p:nvSpPr>
          <p:spPr>
            <a:xfrm>
              <a:off x="2476440" y="4719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17f16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Rectangle 88"/>
            <p:cNvSpPr/>
            <p:nvPr/>
          </p:nvSpPr>
          <p:spPr>
            <a:xfrm>
              <a:off x="2477160" y="3894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17f1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Rectangle 89"/>
            <p:cNvSpPr/>
            <p:nvPr/>
          </p:nvSpPr>
          <p:spPr>
            <a:xfrm>
              <a:off x="2476440" y="3639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17f1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Rectangle 90"/>
            <p:cNvSpPr/>
            <p:nvPr/>
          </p:nvSpPr>
          <p:spPr>
            <a:xfrm>
              <a:off x="2477520" y="34639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17f16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Rectangle 91"/>
            <p:cNvSpPr/>
            <p:nvPr/>
          </p:nvSpPr>
          <p:spPr>
            <a:xfrm>
              <a:off x="2476440" y="329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17f1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73" name="Group 92"/>
            <p:cNvGrpSpPr/>
            <p:nvPr/>
          </p:nvGrpSpPr>
          <p:grpSpPr>
            <a:xfrm>
              <a:off x="1359000" y="3524040"/>
              <a:ext cx="2543040" cy="0"/>
              <a:chOff x="1359000" y="3524040"/>
              <a:chExt cx="2543040" cy="0"/>
            </a:xfrm>
          </p:grpSpPr>
          <p:sp>
            <p:nvSpPr>
              <p:cNvPr id="274" name="Line 93"/>
              <p:cNvSpPr/>
              <p:nvPr/>
            </p:nvSpPr>
            <p:spPr>
              <a:xfrm>
                <a:off x="1359000" y="3524040"/>
                <a:ext cx="104868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Line 94"/>
              <p:cNvSpPr/>
              <p:nvPr/>
            </p:nvSpPr>
            <p:spPr>
              <a:xfrm>
                <a:off x="2853000" y="3524040"/>
                <a:ext cx="104904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95"/>
            <p:cNvGrpSpPr/>
            <p:nvPr/>
          </p:nvGrpSpPr>
          <p:grpSpPr>
            <a:xfrm>
              <a:off x="1359000" y="3666960"/>
              <a:ext cx="2538000" cy="0"/>
              <a:chOff x="1359000" y="3666960"/>
              <a:chExt cx="2538000" cy="0"/>
            </a:xfrm>
          </p:grpSpPr>
          <p:sp>
            <p:nvSpPr>
              <p:cNvPr id="277" name="Line 96"/>
              <p:cNvSpPr/>
              <p:nvPr/>
            </p:nvSpPr>
            <p:spPr>
              <a:xfrm>
                <a:off x="1359000" y="3666960"/>
                <a:ext cx="104688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Line 97"/>
              <p:cNvSpPr/>
              <p:nvPr/>
            </p:nvSpPr>
            <p:spPr>
              <a:xfrm>
                <a:off x="2850120" y="3666960"/>
                <a:ext cx="104688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98"/>
            <p:cNvGrpSpPr/>
            <p:nvPr/>
          </p:nvGrpSpPr>
          <p:grpSpPr>
            <a:xfrm>
              <a:off x="1349640" y="3821040"/>
              <a:ext cx="2562120" cy="0"/>
              <a:chOff x="1349640" y="3821040"/>
              <a:chExt cx="2562120" cy="0"/>
            </a:xfrm>
          </p:grpSpPr>
          <p:sp>
            <p:nvSpPr>
              <p:cNvPr id="280" name="Line 99"/>
              <p:cNvSpPr/>
              <p:nvPr/>
            </p:nvSpPr>
            <p:spPr>
              <a:xfrm>
                <a:off x="1349640" y="3821040"/>
                <a:ext cx="105660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Line 100"/>
              <p:cNvSpPr/>
              <p:nvPr/>
            </p:nvSpPr>
            <p:spPr>
              <a:xfrm>
                <a:off x="2854800" y="3821040"/>
                <a:ext cx="105696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101"/>
            <p:cNvGrpSpPr/>
            <p:nvPr/>
          </p:nvGrpSpPr>
          <p:grpSpPr>
            <a:xfrm>
              <a:off x="1349640" y="4103280"/>
              <a:ext cx="2554200" cy="0"/>
              <a:chOff x="1349640" y="4103280"/>
              <a:chExt cx="2554200" cy="0"/>
            </a:xfrm>
          </p:grpSpPr>
          <p:sp>
            <p:nvSpPr>
              <p:cNvPr id="283" name="Line 102"/>
              <p:cNvSpPr/>
              <p:nvPr/>
            </p:nvSpPr>
            <p:spPr>
              <a:xfrm>
                <a:off x="1349640" y="4103280"/>
                <a:ext cx="105336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Line 103"/>
              <p:cNvSpPr/>
              <p:nvPr/>
            </p:nvSpPr>
            <p:spPr>
              <a:xfrm>
                <a:off x="2850120" y="4103280"/>
                <a:ext cx="10537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104"/>
            <p:cNvGrpSpPr/>
            <p:nvPr/>
          </p:nvGrpSpPr>
          <p:grpSpPr>
            <a:xfrm>
              <a:off x="1359000" y="4317840"/>
              <a:ext cx="2545920" cy="0"/>
              <a:chOff x="1359000" y="4317840"/>
              <a:chExt cx="2545920" cy="0"/>
            </a:xfrm>
          </p:grpSpPr>
          <p:sp>
            <p:nvSpPr>
              <p:cNvPr id="286" name="Line 105"/>
              <p:cNvSpPr/>
              <p:nvPr/>
            </p:nvSpPr>
            <p:spPr>
              <a:xfrm>
                <a:off x="1359000" y="4317840"/>
                <a:ext cx="1050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Line 106"/>
              <p:cNvSpPr/>
              <p:nvPr/>
            </p:nvSpPr>
            <p:spPr>
              <a:xfrm>
                <a:off x="2854800" y="4317840"/>
                <a:ext cx="10501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107"/>
            <p:cNvGrpSpPr/>
            <p:nvPr/>
          </p:nvGrpSpPr>
          <p:grpSpPr>
            <a:xfrm>
              <a:off x="1351080" y="4879800"/>
              <a:ext cx="2562120" cy="0"/>
              <a:chOff x="1351080" y="4879800"/>
              <a:chExt cx="2562120" cy="0"/>
            </a:xfrm>
          </p:grpSpPr>
          <p:sp>
            <p:nvSpPr>
              <p:cNvPr id="289" name="Line 108"/>
              <p:cNvSpPr/>
              <p:nvPr/>
            </p:nvSpPr>
            <p:spPr>
              <a:xfrm>
                <a:off x="1351080" y="4879800"/>
                <a:ext cx="105660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Line 109"/>
              <p:cNvSpPr/>
              <p:nvPr/>
            </p:nvSpPr>
            <p:spPr>
              <a:xfrm>
                <a:off x="2856240" y="4879800"/>
                <a:ext cx="105696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1" name="Line 110"/>
            <p:cNvSpPr/>
            <p:nvPr/>
          </p:nvSpPr>
          <p:spPr>
            <a:xfrm>
              <a:off x="1549440" y="3306600"/>
              <a:ext cx="0" cy="1526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Line 111"/>
            <p:cNvSpPr/>
            <p:nvPr/>
          </p:nvSpPr>
          <p:spPr>
            <a:xfrm>
              <a:off x="1683000" y="3301920"/>
              <a:ext cx="0" cy="2984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Line 112"/>
            <p:cNvSpPr/>
            <p:nvPr/>
          </p:nvSpPr>
          <p:spPr>
            <a:xfrm>
              <a:off x="1814760" y="3298680"/>
              <a:ext cx="0" cy="5032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Line 113"/>
            <p:cNvSpPr/>
            <p:nvPr/>
          </p:nvSpPr>
          <p:spPr>
            <a:xfrm>
              <a:off x="1946520" y="3314880"/>
              <a:ext cx="0" cy="7110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Line 114"/>
            <p:cNvSpPr/>
            <p:nvPr/>
          </p:nvSpPr>
          <p:spPr>
            <a:xfrm>
              <a:off x="2075040" y="3314880"/>
              <a:ext cx="0" cy="10047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Line 115"/>
            <p:cNvSpPr/>
            <p:nvPr/>
          </p:nvSpPr>
          <p:spPr>
            <a:xfrm>
              <a:off x="2203560" y="3309840"/>
              <a:ext cx="0" cy="1569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Text Box 116"/>
            <p:cNvSpPr/>
            <p:nvPr/>
          </p:nvSpPr>
          <p:spPr>
            <a:xfrm>
              <a:off x="432000" y="2112840"/>
              <a:ext cx="101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d3c1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d3c1"/>
                  </a:solidFill>
                  <a:latin typeface="Arial"/>
                </a:rPr>
                <a:t>(eV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Text Box 117"/>
            <p:cNvSpPr/>
            <p:nvPr/>
          </p:nvSpPr>
          <p:spPr>
            <a:xfrm>
              <a:off x="3878640" y="3287880"/>
              <a:ext cx="29340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Rectangle 118"/>
            <p:cNvSpPr/>
            <p:nvPr/>
          </p:nvSpPr>
          <p:spPr>
            <a:xfrm>
              <a:off x="553680" y="3200400"/>
              <a:ext cx="867960" cy="19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- 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- 7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- 59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- 28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- 11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- 6951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Line 119"/>
            <p:cNvSpPr/>
            <p:nvPr/>
          </p:nvSpPr>
          <p:spPr>
            <a:xfrm>
              <a:off x="997200" y="3381480"/>
              <a:ext cx="42696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Line 120"/>
            <p:cNvSpPr/>
            <p:nvPr/>
          </p:nvSpPr>
          <p:spPr>
            <a:xfrm>
              <a:off x="997200" y="3535200"/>
              <a:ext cx="60804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Line 121"/>
            <p:cNvSpPr/>
            <p:nvPr/>
          </p:nvSpPr>
          <p:spPr>
            <a:xfrm>
              <a:off x="1124280" y="3733920"/>
              <a:ext cx="60948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Line 122"/>
            <p:cNvSpPr/>
            <p:nvPr/>
          </p:nvSpPr>
          <p:spPr>
            <a:xfrm>
              <a:off x="1221120" y="3954600"/>
              <a:ext cx="60768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123"/>
            <p:cNvSpPr/>
            <p:nvPr/>
          </p:nvSpPr>
          <p:spPr>
            <a:xfrm>
              <a:off x="1295640" y="4184640"/>
              <a:ext cx="72540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Line 124"/>
            <p:cNvSpPr/>
            <p:nvPr/>
          </p:nvSpPr>
          <p:spPr>
            <a:xfrm>
              <a:off x="1273320" y="4581360"/>
              <a:ext cx="87624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59200" y="1981080"/>
            <a:ext cx="4131000" cy="3345840"/>
            <a:chOff x="4759200" y="1981080"/>
            <a:chExt cx="4131000" cy="3345840"/>
          </a:xfrm>
        </p:grpSpPr>
        <p:sp>
          <p:nvSpPr>
            <p:cNvPr id="307" name="Rectangle 160"/>
            <p:cNvSpPr/>
            <p:nvPr/>
          </p:nvSpPr>
          <p:spPr>
            <a:xfrm>
              <a:off x="4832280" y="1981080"/>
              <a:ext cx="3982680" cy="3275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Rectangle 161"/>
            <p:cNvSpPr/>
            <p:nvPr/>
          </p:nvSpPr>
          <p:spPr>
            <a:xfrm>
              <a:off x="5270400" y="2523960"/>
              <a:ext cx="3336480" cy="233388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Text Box 162"/>
            <p:cNvSpPr/>
            <p:nvPr/>
          </p:nvSpPr>
          <p:spPr>
            <a:xfrm>
              <a:off x="5167080" y="4822920"/>
              <a:ext cx="362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0    10   20    30  40    50   60    70   8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Text Box 163"/>
            <p:cNvSpPr/>
            <p:nvPr/>
          </p:nvSpPr>
          <p:spPr>
            <a:xfrm>
              <a:off x="4759200" y="2610000"/>
              <a:ext cx="51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Line 164"/>
            <p:cNvSpPr/>
            <p:nvPr/>
          </p:nvSpPr>
          <p:spPr>
            <a:xfrm>
              <a:off x="5270400" y="4416480"/>
              <a:ext cx="332532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Line 165"/>
            <p:cNvSpPr/>
            <p:nvPr/>
          </p:nvSpPr>
          <p:spPr>
            <a:xfrm>
              <a:off x="5270400" y="4029120"/>
              <a:ext cx="332532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Line 166"/>
            <p:cNvSpPr/>
            <p:nvPr/>
          </p:nvSpPr>
          <p:spPr>
            <a:xfrm>
              <a:off x="5270400" y="3641760"/>
              <a:ext cx="332532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Line 167"/>
            <p:cNvSpPr/>
            <p:nvPr/>
          </p:nvSpPr>
          <p:spPr>
            <a:xfrm>
              <a:off x="5270400" y="3254400"/>
              <a:ext cx="332532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Line 168"/>
            <p:cNvSpPr/>
            <p:nvPr/>
          </p:nvSpPr>
          <p:spPr>
            <a:xfrm>
              <a:off x="5270400" y="2867040"/>
              <a:ext cx="332532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Line 169"/>
            <p:cNvSpPr/>
            <p:nvPr/>
          </p:nvSpPr>
          <p:spPr>
            <a:xfrm flipV="1">
              <a:off x="5630760" y="2523960"/>
              <a:ext cx="0" cy="232416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Line 170"/>
            <p:cNvSpPr/>
            <p:nvPr/>
          </p:nvSpPr>
          <p:spPr>
            <a:xfrm flipV="1">
              <a:off x="6057720" y="2512800"/>
              <a:ext cx="0" cy="232380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Line 171"/>
            <p:cNvSpPr/>
            <p:nvPr/>
          </p:nvSpPr>
          <p:spPr>
            <a:xfrm flipV="1">
              <a:off x="6495840" y="2512800"/>
              <a:ext cx="0" cy="232380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Line 172"/>
            <p:cNvSpPr/>
            <p:nvPr/>
          </p:nvSpPr>
          <p:spPr>
            <a:xfrm flipV="1">
              <a:off x="6889680" y="2512800"/>
              <a:ext cx="0" cy="232380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Line 173"/>
            <p:cNvSpPr/>
            <p:nvPr/>
          </p:nvSpPr>
          <p:spPr>
            <a:xfrm flipV="1">
              <a:off x="7316640" y="2502000"/>
              <a:ext cx="0" cy="232416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Line 174"/>
            <p:cNvSpPr/>
            <p:nvPr/>
          </p:nvSpPr>
          <p:spPr>
            <a:xfrm flipV="1">
              <a:off x="7764120" y="2523960"/>
              <a:ext cx="0" cy="232416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Line 175"/>
            <p:cNvSpPr/>
            <p:nvPr/>
          </p:nvSpPr>
          <p:spPr>
            <a:xfrm flipV="1">
              <a:off x="8191440" y="2523960"/>
              <a:ext cx="0" cy="232416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Line 176"/>
            <p:cNvSpPr/>
            <p:nvPr/>
          </p:nvSpPr>
          <p:spPr>
            <a:xfrm>
              <a:off x="5478120" y="4514760"/>
              <a:ext cx="0" cy="33336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Line 177"/>
            <p:cNvSpPr/>
            <p:nvPr/>
          </p:nvSpPr>
          <p:spPr>
            <a:xfrm>
              <a:off x="5598720" y="4514760"/>
              <a:ext cx="0" cy="33336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Line 178"/>
            <p:cNvSpPr/>
            <p:nvPr/>
          </p:nvSpPr>
          <p:spPr>
            <a:xfrm>
              <a:off x="5740200" y="4514760"/>
              <a:ext cx="0" cy="33336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Line 179"/>
            <p:cNvSpPr/>
            <p:nvPr/>
          </p:nvSpPr>
          <p:spPr>
            <a:xfrm>
              <a:off x="7688160" y="3784680"/>
              <a:ext cx="0" cy="106344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Line 180"/>
            <p:cNvSpPr/>
            <p:nvPr/>
          </p:nvSpPr>
          <p:spPr>
            <a:xfrm>
              <a:off x="7764120" y="2844720"/>
              <a:ext cx="0" cy="200340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Line 181"/>
            <p:cNvSpPr/>
            <p:nvPr/>
          </p:nvSpPr>
          <p:spPr>
            <a:xfrm>
              <a:off x="8016480" y="4062240"/>
              <a:ext cx="0" cy="78588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Line 182"/>
            <p:cNvSpPr/>
            <p:nvPr/>
          </p:nvSpPr>
          <p:spPr>
            <a:xfrm>
              <a:off x="8148600" y="4481640"/>
              <a:ext cx="0" cy="366480"/>
            </a:xfrm>
            <a:prstGeom prst="line">
              <a:avLst/>
            </a:prstGeom>
            <a:ln w="381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Text Box 183"/>
            <p:cNvSpPr/>
            <p:nvPr/>
          </p:nvSpPr>
          <p:spPr>
            <a:xfrm>
              <a:off x="5211720" y="4191120"/>
              <a:ext cx="399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L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Rectangle 184"/>
            <p:cNvSpPr/>
            <p:nvPr/>
          </p:nvSpPr>
          <p:spPr>
            <a:xfrm>
              <a:off x="5451120" y="4178160"/>
              <a:ext cx="394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L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Rectangle 185"/>
            <p:cNvSpPr/>
            <p:nvPr/>
          </p:nvSpPr>
          <p:spPr>
            <a:xfrm>
              <a:off x="5746680" y="4341960"/>
              <a:ext cx="389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L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Text Box 186"/>
            <p:cNvSpPr/>
            <p:nvPr/>
          </p:nvSpPr>
          <p:spPr>
            <a:xfrm>
              <a:off x="7389720" y="2576520"/>
              <a:ext cx="836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K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Text Box 187"/>
            <p:cNvSpPr/>
            <p:nvPr/>
          </p:nvSpPr>
          <p:spPr>
            <a:xfrm>
              <a:off x="7279920" y="3584520"/>
              <a:ext cx="836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K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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Text Box 188"/>
            <p:cNvSpPr/>
            <p:nvPr/>
          </p:nvSpPr>
          <p:spPr>
            <a:xfrm>
              <a:off x="8113320" y="4316400"/>
              <a:ext cx="54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K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Text Box 189"/>
            <p:cNvSpPr/>
            <p:nvPr/>
          </p:nvSpPr>
          <p:spPr>
            <a:xfrm>
              <a:off x="7805520" y="3749760"/>
              <a:ext cx="550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K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Symbol"/>
                  <a:ea typeface="Symbol"/>
                </a:rPr>
                <a:t></a:t>
              </a:r>
              <a:r>
                <a:rPr b="1" lang="fr-FR" sz="1600" spc="-1" strike="noStrike" baseline="-25000">
                  <a:solidFill>
                    <a:srgbClr val="eaeaea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Text Box 190"/>
            <p:cNvSpPr/>
            <p:nvPr/>
          </p:nvSpPr>
          <p:spPr>
            <a:xfrm>
              <a:off x="8214120" y="498960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(keV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ayos X característicos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5 Marcador de pie de página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racterísticas de átom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96960" y="1523880"/>
            <a:ext cx="7997760" cy="36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A, Z y magnitudes asociad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105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idrógen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1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1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13.6 e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105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arbono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12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6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283 e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105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ósforo  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31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15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2.1 ke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105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Wolframi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183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74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69.5 ke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105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2279520"/>
                <a:tab algn="l" pos="3897360"/>
                <a:tab algn="l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ranio 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238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= 92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115.6 ke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Radiación emitida por el tubo de rayos X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36240" y="1523520"/>
            <a:ext cx="84121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primari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previa a la interacción del haz de rayos X (a la salida del tub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dispers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generada tras, al menos, una interacción; necesidad de la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ja (o rejilla) antidifuso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de fug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no absorbida por el encapsulado que blinda el tubo de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trasmitid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que emerge tras el paso del haz por la mater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7: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l haz de rayos X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Filtración del haz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68360" y="-17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¿Qué es la filtración del haz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8" name="Group 43"/>
          <p:cNvGrpSpPr/>
          <p:nvPr/>
        </p:nvGrpSpPr>
        <p:grpSpPr>
          <a:xfrm>
            <a:off x="4020120" y="1527120"/>
            <a:ext cx="5113800" cy="4866480"/>
            <a:chOff x="4020120" y="1527120"/>
            <a:chExt cx="5113800" cy="4866480"/>
          </a:xfrm>
        </p:grpSpPr>
        <p:sp>
          <p:nvSpPr>
            <p:cNvPr id="349" name="Rectangle 7"/>
            <p:cNvSpPr/>
            <p:nvPr/>
          </p:nvSpPr>
          <p:spPr>
            <a:xfrm>
              <a:off x="5527800" y="2109960"/>
              <a:ext cx="2603520" cy="3581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Text Box 8"/>
            <p:cNvSpPr/>
            <p:nvPr/>
          </p:nvSpPr>
          <p:spPr>
            <a:xfrm>
              <a:off x="5666400" y="5691240"/>
              <a:ext cx="27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10    15    20    25    3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 flipV="1">
              <a:off x="5880240" y="5614920"/>
              <a:ext cx="0" cy="7632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 flipV="1">
              <a:off x="6372360" y="561492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 flipV="1">
              <a:off x="6934320" y="561492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Line 12"/>
            <p:cNvSpPr/>
            <p:nvPr/>
          </p:nvSpPr>
          <p:spPr>
            <a:xfrm flipV="1">
              <a:off x="7427880" y="561492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 flipV="1">
              <a:off x="7920000" y="5614920"/>
              <a:ext cx="0" cy="76320"/>
            </a:xfrm>
            <a:prstGeom prst="line">
              <a:avLst/>
            </a:prstGeom>
            <a:ln w="28440">
              <a:solidFill>
                <a:srgbClr val="047c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5527800" y="2262240"/>
              <a:ext cx="698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Text Box 15"/>
            <p:cNvSpPr/>
            <p:nvPr/>
          </p:nvSpPr>
          <p:spPr>
            <a:xfrm>
              <a:off x="5071680" y="2109960"/>
              <a:ext cx="4640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Line 16"/>
            <p:cNvSpPr/>
            <p:nvPr/>
          </p:nvSpPr>
          <p:spPr>
            <a:xfrm flipH="1">
              <a:off x="5527800" y="3481560"/>
              <a:ext cx="698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Line 17"/>
            <p:cNvSpPr/>
            <p:nvPr/>
          </p:nvSpPr>
          <p:spPr>
            <a:xfrm flipH="1">
              <a:off x="8059320" y="2262240"/>
              <a:ext cx="716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Line 18"/>
            <p:cNvSpPr/>
            <p:nvPr/>
          </p:nvSpPr>
          <p:spPr>
            <a:xfrm flipH="1">
              <a:off x="5527800" y="4700520"/>
              <a:ext cx="698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Line 19"/>
            <p:cNvSpPr/>
            <p:nvPr/>
          </p:nvSpPr>
          <p:spPr>
            <a:xfrm flipH="1">
              <a:off x="8059320" y="3481560"/>
              <a:ext cx="716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 flipH="1">
              <a:off x="8059320" y="4700520"/>
              <a:ext cx="716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Line 21"/>
            <p:cNvSpPr/>
            <p:nvPr/>
          </p:nvSpPr>
          <p:spPr>
            <a:xfrm flipV="1">
              <a:off x="5880240" y="210960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Line 22"/>
            <p:cNvSpPr/>
            <p:nvPr/>
          </p:nvSpPr>
          <p:spPr>
            <a:xfrm flipV="1">
              <a:off x="6372360" y="561492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Line 23"/>
            <p:cNvSpPr/>
            <p:nvPr/>
          </p:nvSpPr>
          <p:spPr>
            <a:xfrm flipV="1">
              <a:off x="6372360" y="210960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Line 24"/>
            <p:cNvSpPr/>
            <p:nvPr/>
          </p:nvSpPr>
          <p:spPr>
            <a:xfrm flipV="1">
              <a:off x="6934320" y="5614920"/>
              <a:ext cx="0" cy="7632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Line 25"/>
            <p:cNvSpPr/>
            <p:nvPr/>
          </p:nvSpPr>
          <p:spPr>
            <a:xfrm flipV="1">
              <a:off x="6934320" y="210960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Line 26"/>
            <p:cNvSpPr/>
            <p:nvPr/>
          </p:nvSpPr>
          <p:spPr>
            <a:xfrm flipV="1">
              <a:off x="7427880" y="561492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 flipV="1">
              <a:off x="7427880" y="210960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Line 28"/>
            <p:cNvSpPr/>
            <p:nvPr/>
          </p:nvSpPr>
          <p:spPr>
            <a:xfrm flipV="1">
              <a:off x="7920000" y="5614920"/>
              <a:ext cx="0" cy="76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Line 29"/>
            <p:cNvSpPr/>
            <p:nvPr/>
          </p:nvSpPr>
          <p:spPr>
            <a:xfrm flipV="1">
              <a:off x="7920000" y="2109600"/>
              <a:ext cx="0" cy="75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5880240" y="5157720"/>
              <a:ext cx="772920" cy="457200"/>
            </a:xfrm>
            <a:prstGeom prst="pie">
              <a:avLst/>
            </a:prstGeom>
            <a:noFill/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Line 31"/>
            <p:cNvSpPr/>
            <p:nvPr/>
          </p:nvSpPr>
          <p:spPr>
            <a:xfrm flipV="1">
              <a:off x="6653160" y="2490840"/>
              <a:ext cx="0" cy="266688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Line 32"/>
            <p:cNvSpPr/>
            <p:nvPr/>
          </p:nvSpPr>
          <p:spPr>
            <a:xfrm flipV="1">
              <a:off x="6723000" y="2490840"/>
              <a:ext cx="0" cy="266688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Line 33"/>
            <p:cNvSpPr/>
            <p:nvPr/>
          </p:nvSpPr>
          <p:spPr>
            <a:xfrm>
              <a:off x="6653160" y="2490840"/>
              <a:ext cx="69840" cy="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Line 34"/>
            <p:cNvSpPr/>
            <p:nvPr/>
          </p:nvSpPr>
          <p:spPr>
            <a:xfrm>
              <a:off x="6723000" y="5157720"/>
              <a:ext cx="141480" cy="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Line 35"/>
            <p:cNvSpPr/>
            <p:nvPr/>
          </p:nvSpPr>
          <p:spPr>
            <a:xfrm flipV="1">
              <a:off x="6864480" y="4700520"/>
              <a:ext cx="0" cy="45720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Line 36"/>
            <p:cNvSpPr/>
            <p:nvPr/>
          </p:nvSpPr>
          <p:spPr>
            <a:xfrm>
              <a:off x="6864480" y="4700520"/>
              <a:ext cx="69840" cy="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Line 37"/>
            <p:cNvSpPr/>
            <p:nvPr/>
          </p:nvSpPr>
          <p:spPr>
            <a:xfrm>
              <a:off x="6934320" y="4700520"/>
              <a:ext cx="0" cy="914400"/>
            </a:xfrm>
            <a:prstGeom prst="line">
              <a:avLst/>
            </a:prstGeom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Freeform 38"/>
            <p:cNvSpPr/>
            <p:nvPr/>
          </p:nvSpPr>
          <p:spPr>
            <a:xfrm>
              <a:off x="6934320" y="5462640"/>
              <a:ext cx="1125360" cy="228600"/>
            </a:xfrm>
            <a:prstGeom prst="pie">
              <a:avLst/>
            </a:prstGeom>
            <a:noFill/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Text Box 39"/>
            <p:cNvSpPr/>
            <p:nvPr/>
          </p:nvSpPr>
          <p:spPr>
            <a:xfrm>
              <a:off x="6501240" y="605628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energía (keV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Text Box 40"/>
            <p:cNvSpPr/>
            <p:nvPr/>
          </p:nvSpPr>
          <p:spPr>
            <a:xfrm rot="16200000">
              <a:off x="3045960" y="3830040"/>
              <a:ext cx="39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eaeaea"/>
                  </a:solidFill>
                  <a:latin typeface="Arial"/>
                </a:rPr>
                <a:t>Número de fotones (normalización arbitraria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Text Box 41"/>
            <p:cNvSpPr/>
            <p:nvPr/>
          </p:nvSpPr>
          <p:spPr>
            <a:xfrm>
              <a:off x="4020120" y="1527120"/>
              <a:ext cx="511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Espectro de rayos X a 30 kV de un tubo de rayos X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cc"/>
                  </a:solidFill>
                  <a:latin typeface="Arial"/>
                </a:rPr>
                <a:t>Con blanco de Mo y filtración de 0.03 mm de M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4" name="Rectangle 42"/>
          <p:cNvSpPr/>
          <p:nvPr/>
        </p:nvSpPr>
        <p:spPr>
          <a:xfrm>
            <a:off x="307440" y="1473120"/>
            <a:ext cx="41461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bsorbente colocad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ntre la fuente y el obje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bsorbe preferentem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los fotones de menor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 absorbe partes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spectro (filtros de borde 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68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iltración del tub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896760" y="1359000"/>
            <a:ext cx="74916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iltración inherente (presente siemp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osis en piel a la entrada del paciente reducid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(eliminación de rayos X de baja energía que no contribuyen a la image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iltración añadida (filtro extraíbl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educción adicional de la dosis en los tejidos superficiales y en la piel del paciente sin pérdida de calidad de imag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Filtración total (inherente + añadida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filtración total debe ser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&gt; 2.5 mm Al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para un generador de &gt; 110 k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Medida de la filtración </a:t>
            </a:r>
            <a:r>
              <a:rPr b="0" lang="es-ES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Capa hemirreduct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5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revis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producción de rayos X para diagnóstico radiológico: rayos X de Bremsstrahlung y rayos X caracter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iltración del haz, dispersión de los rayos X, calidad y cantidad de rayos X, espectro de rayos X y factores que afectan al espectro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iltración del tu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1219320" y="5029200"/>
            <a:ext cx="144756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9" name="Picture 9" descr=""/>
          <p:cNvPicPr/>
          <p:nvPr/>
        </p:nvPicPr>
        <p:blipFill>
          <a:blip r:embed="rId1"/>
          <a:stretch/>
        </p:blipFill>
        <p:spPr>
          <a:xfrm>
            <a:off x="1219320" y="1206360"/>
            <a:ext cx="70866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6019560" cy="4835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611280" y="0"/>
            <a:ext cx="7653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iltració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4539600" y="1295280"/>
            <a:ext cx="45684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99"/>
                </a:solidFill>
                <a:latin typeface="Arial"/>
              </a:rPr>
              <a:t>Cambio en cantidad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99"/>
                </a:solidFill>
                <a:latin typeface="Arial"/>
              </a:rPr>
              <a:t>cambio en calida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99"/>
                </a:solidFill>
                <a:latin typeface="Arial"/>
              </a:rPr>
              <a:t>El espectro se despalza haci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99"/>
                </a:solidFill>
                <a:latin typeface="Arial"/>
              </a:rPr>
              <a:t>mayor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6292800" y="3860640"/>
            <a:ext cx="26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espectro fuera del áno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ras ventana cápsula del tubo (filtración INHERENTE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ras filtración añadid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7: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l haz de rayos X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4: Radiación disper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Radiación emitida por el tubo de rayos X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80600" y="1523880"/>
            <a:ext cx="841212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primari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previa a la interacción del haz de rayos X (a la salida del tub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dispers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generada tras, al menos, una interac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de fug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no absorbida por el encapsulado que blinda el tubo de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ación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 trasmitid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la que emerge tras el paso del haz por la materia </a:t>
            </a:r>
            <a:r>
              <a:rPr b="0" lang="es-E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 rejilla antidifuso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68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adiación dispers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015920" y="1295280"/>
            <a:ext cx="7588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fecto en la calidad de imag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76160" indent="-3189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umento de la borrosida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76160" indent="-3189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érdida de contras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fecto sobre la dosis al pacient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76160" indent="-3189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umento de la dosis superficial y profunda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sible reducción median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76160" indent="-3189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uso de la rejil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76160" indent="-3189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imitación del campo a la porción út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76160" indent="-31896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imitación del volumen irradiado (ej.: compresión de la mama en mamografí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68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ja (o rejilla) antidifusora (I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750960" y="1268280"/>
            <a:ext cx="792468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adiación que emerge del paci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Haz primario: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contribuye a la ima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Radiación dispers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no alcanza al detector y contribuye a la parte principal de dosis al pa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jilla (entre paciente y película) elimina la mayor parte de la radiación dispers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jilla estaciona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jilla móvil (mejor comportamient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jilla focaliz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istema de Potter-Bucky (“bucky”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6"/>
          <p:cNvGrpSpPr/>
          <p:nvPr/>
        </p:nvGrpSpPr>
        <p:grpSpPr>
          <a:xfrm>
            <a:off x="911160" y="1413000"/>
            <a:ext cx="7837200" cy="4591080"/>
            <a:chOff x="911160" y="1413000"/>
            <a:chExt cx="7837200" cy="4591080"/>
          </a:xfrm>
        </p:grpSpPr>
        <p:sp>
          <p:nvSpPr>
            <p:cNvPr id="404" name="Rectangle 2"/>
            <p:cNvSpPr/>
            <p:nvPr/>
          </p:nvSpPr>
          <p:spPr>
            <a:xfrm>
              <a:off x="2950920" y="1413000"/>
              <a:ext cx="562752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Rectangle 3"/>
            <p:cNvSpPr/>
            <p:nvPr/>
          </p:nvSpPr>
          <p:spPr>
            <a:xfrm>
              <a:off x="2950920" y="1413000"/>
              <a:ext cx="562752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Line 4"/>
            <p:cNvSpPr/>
            <p:nvPr/>
          </p:nvSpPr>
          <p:spPr>
            <a:xfrm flipH="1">
              <a:off x="5623920" y="3470400"/>
              <a:ext cx="422280" cy="4572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Line 5"/>
            <p:cNvSpPr/>
            <p:nvPr/>
          </p:nvSpPr>
          <p:spPr>
            <a:xfrm flipH="1">
              <a:off x="5062320" y="3470400"/>
              <a:ext cx="984240" cy="53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6046560" y="3470400"/>
              <a:ext cx="84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2599920" y="3318120"/>
              <a:ext cx="843120" cy="304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10" name="Picture 8" descr=""/>
            <p:cNvPicPr/>
            <p:nvPr/>
          </p:nvPicPr>
          <p:blipFill>
            <a:blip r:embed="rId1"/>
            <a:stretch/>
          </p:blipFill>
          <p:spPr>
            <a:xfrm>
              <a:off x="1966680" y="1413000"/>
              <a:ext cx="53452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9"/>
            <p:cNvSpPr/>
            <p:nvPr/>
          </p:nvSpPr>
          <p:spPr>
            <a:xfrm>
              <a:off x="4709880" y="1489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</a:rPr>
                <a:t>Fuente de rayos 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5978520" y="4158000"/>
              <a:ext cx="95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Plom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911160" y="4056480"/>
              <a:ext cx="24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Rayos X dispers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3303360" y="522324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Rayos X úti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6116040" y="492480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Película y chasi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2319120" y="301644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9900"/>
                  </a:solidFill>
                  <a:latin typeface="Arial"/>
                </a:rPr>
                <a:t>Paciente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7" name="Rectangle 15"/>
          <p:cNvSpPr/>
          <p:nvPr/>
        </p:nvSpPr>
        <p:spPr>
          <a:xfrm>
            <a:off x="53964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ja (o rejilla) antidifusora (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7: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l haz de rayos X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5: Factores que afectan al espectro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50920" y="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actores que afectan al haz de rayos X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406520" y="1676520"/>
            <a:ext cx="6334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iente del tub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tencial del tubo (kilovoltaj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terial del blanco z alto o baj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po de forma de on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1810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pectro de rayos X: corriente del tu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39640" y="1676520"/>
            <a:ext cx="7842240" cy="4467240"/>
            <a:chOff x="539640" y="1676520"/>
            <a:chExt cx="7842240" cy="4467240"/>
          </a:xfrm>
        </p:grpSpPr>
        <p:graphicFrame>
          <p:nvGraphicFramePr>
            <p:cNvPr id="425" name="Object 3"/>
            <p:cNvGraphicFramePr/>
            <p:nvPr/>
          </p:nvGraphicFramePr>
          <p:xfrm>
            <a:off x="838080" y="1676520"/>
            <a:ext cx="7543800" cy="44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676520"/>
                      <a:ext cx="7543800" cy="4467240"/>
                    </a:xfrm>
                    <a:prstGeom prst="rect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7" name="Line 4"/>
            <p:cNvSpPr/>
            <p:nvPr/>
          </p:nvSpPr>
          <p:spPr>
            <a:xfrm flipV="1">
              <a:off x="2819520" y="2133360"/>
              <a:ext cx="0" cy="3276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2895480" y="3886200"/>
              <a:ext cx="4419720" cy="148608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2843280" y="5373720"/>
              <a:ext cx="5300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Text Box 7"/>
            <p:cNvSpPr/>
            <p:nvPr/>
          </p:nvSpPr>
          <p:spPr>
            <a:xfrm>
              <a:off x="4716360" y="2133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400 m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Text Box 8"/>
            <p:cNvSpPr/>
            <p:nvPr/>
          </p:nvSpPr>
          <p:spPr>
            <a:xfrm>
              <a:off x="3924360" y="4221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200 m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5076720" y="4419720"/>
              <a:ext cx="60984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5410080" y="2438280"/>
              <a:ext cx="0" cy="304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2772000" y="5589720"/>
              <a:ext cx="42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Energía de los rayos X (keV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539640" y="2925720"/>
              <a:ext cx="2438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Número de rayos X por unidad de energí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2819520" y="2425680"/>
              <a:ext cx="4495680" cy="298440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79680" y="1523880"/>
            <a:ext cx="66643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ducción de Bremsstrahlu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ayos X caracter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iltración del ha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adiación disper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ctores que afectan al espectro de rayos X, cantidad y c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10800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pectro de rayos X: corriente del tu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8" name="Picture 14" descr=""/>
          <p:cNvPicPr/>
          <p:nvPr/>
        </p:nvPicPr>
        <p:blipFill>
          <a:blip r:embed="rId1"/>
          <a:stretch/>
        </p:blipFill>
        <p:spPr>
          <a:xfrm>
            <a:off x="716040" y="1492200"/>
            <a:ext cx="4151160" cy="44132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5"/>
          <p:cNvSpPr/>
          <p:nvPr/>
        </p:nvSpPr>
        <p:spPr>
          <a:xfrm>
            <a:off x="4879800" y="2013120"/>
            <a:ext cx="32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Cambia la cant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NO cambia la cal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4887000" y="34830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kV efectivo no cambi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68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pectro de rayos X: kilovoltaj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2" name="Picture 17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346280" cy="44956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0"/>
          <p:cNvSpPr/>
          <p:nvPr/>
        </p:nvSpPr>
        <p:spPr>
          <a:xfrm>
            <a:off x="5095800" y="2435400"/>
            <a:ext cx="379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Cambio de cantidad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de calida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6400" indent="-27432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Espectro se desplaza hacia mayor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6400" indent="-274320"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9900"/>
                </a:solidFill>
                <a:latin typeface="Arial"/>
              </a:rPr>
              <a:t>Aparecen las líneas caracterís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019560" cy="48355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519120" y="0"/>
            <a:ext cx="7653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pectro de rayos X: filtració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980240" y="1295280"/>
            <a:ext cx="3843000" cy="131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Cambio en cantidad 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Cambio en calid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El espectro se despalza hacia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mayor energí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221520" y="4005360"/>
            <a:ext cx="292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spectro fuera del ánod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ras ventana cápsula del tubo (filtración INHERENT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ras filtración añadi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pectro de rayos X: Z del blanc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826920" y="1268280"/>
            <a:ext cx="7848720" cy="4572000"/>
            <a:chOff x="826920" y="1268280"/>
            <a:chExt cx="7848720" cy="4572000"/>
          </a:xfrm>
        </p:grpSpPr>
        <p:graphicFrame>
          <p:nvGraphicFramePr>
            <p:cNvPr id="450" name="Object 9"/>
            <p:cNvGraphicFramePr/>
            <p:nvPr/>
          </p:nvGraphicFramePr>
          <p:xfrm>
            <a:off x="826920" y="1268280"/>
            <a:ext cx="784872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1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1268280"/>
                      <a:ext cx="7848720" cy="4572000"/>
                    </a:xfrm>
                    <a:prstGeom prst="rect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452" name=""/>
            <p:cNvGrpSpPr/>
            <p:nvPr/>
          </p:nvGrpSpPr>
          <p:grpSpPr>
            <a:xfrm>
              <a:off x="968400" y="1848960"/>
              <a:ext cx="7489800" cy="3887280"/>
              <a:chOff x="968400" y="1848960"/>
              <a:chExt cx="7489800" cy="3887280"/>
            </a:xfrm>
          </p:grpSpPr>
          <p:sp>
            <p:nvSpPr>
              <p:cNvPr id="453" name="Rectangle 6"/>
              <p:cNvSpPr/>
              <p:nvPr/>
            </p:nvSpPr>
            <p:spPr>
              <a:xfrm>
                <a:off x="6912000" y="26859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Line 10"/>
              <p:cNvSpPr/>
              <p:nvPr/>
            </p:nvSpPr>
            <p:spPr>
              <a:xfrm flipV="1">
                <a:off x="2971800" y="1848960"/>
                <a:ext cx="0" cy="3276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Freeform 11"/>
              <p:cNvSpPr/>
              <p:nvPr/>
            </p:nvSpPr>
            <p:spPr>
              <a:xfrm>
                <a:off x="3048120" y="3754080"/>
                <a:ext cx="3962160" cy="1333800"/>
              </a:xfrm>
              <a:prstGeom prst="pie">
                <a:avLst/>
              </a:pr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Line 12"/>
              <p:cNvSpPr/>
              <p:nvPr/>
            </p:nvSpPr>
            <p:spPr>
              <a:xfrm>
                <a:off x="2971800" y="5125680"/>
                <a:ext cx="54864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Freeform 13"/>
              <p:cNvSpPr/>
              <p:nvPr/>
            </p:nvSpPr>
            <p:spPr>
              <a:xfrm>
                <a:off x="2971800" y="2916000"/>
                <a:ext cx="4813200" cy="2209680"/>
              </a:xfrm>
              <a:prstGeom prst="pie">
                <a:avLst/>
              </a:pr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Text Box 14"/>
              <p:cNvSpPr/>
              <p:nvPr/>
            </p:nvSpPr>
            <p:spPr>
              <a:xfrm>
                <a:off x="4952880" y="2077920"/>
                <a:ext cx="163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"/>
                  </a:rPr>
                  <a:t>Mayor Z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Text Box 15"/>
              <p:cNvSpPr/>
              <p:nvPr/>
            </p:nvSpPr>
            <p:spPr>
              <a:xfrm>
                <a:off x="4267080" y="43639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"/>
                  </a:rPr>
                  <a:t>Menor Z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Line 16"/>
              <p:cNvSpPr/>
              <p:nvPr/>
            </p:nvSpPr>
            <p:spPr>
              <a:xfrm flipH="1">
                <a:off x="5181480" y="2382480"/>
                <a:ext cx="76320" cy="5335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Line 17"/>
              <p:cNvSpPr/>
              <p:nvPr/>
            </p:nvSpPr>
            <p:spPr>
              <a:xfrm flipV="1">
                <a:off x="4952880" y="3753720"/>
                <a:ext cx="0" cy="76212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Rectangle 18"/>
              <p:cNvSpPr/>
              <p:nvPr/>
            </p:nvSpPr>
            <p:spPr>
              <a:xfrm>
                <a:off x="3581640" y="5276520"/>
                <a:ext cx="428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"/>
                  </a:rPr>
                  <a:t>Energía de los rayos X (keV)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Rectangle 19"/>
              <p:cNvSpPr/>
              <p:nvPr/>
            </p:nvSpPr>
            <p:spPr>
              <a:xfrm>
                <a:off x="968400" y="2458800"/>
                <a:ext cx="2090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"/>
                  </a:rPr>
                  <a:t>Número de rayos X por unidad de energí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685800" y="0"/>
            <a:ext cx="827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pectro de rayos X: forma de on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23960" y="1268280"/>
            <a:ext cx="7848720" cy="4802040"/>
            <a:chOff x="723960" y="1268280"/>
            <a:chExt cx="7848720" cy="4802040"/>
          </a:xfrm>
        </p:grpSpPr>
        <p:graphicFrame>
          <p:nvGraphicFramePr>
            <p:cNvPr id="466" name="Object 15"/>
            <p:cNvGraphicFramePr/>
            <p:nvPr/>
          </p:nvGraphicFramePr>
          <p:xfrm>
            <a:off x="723960" y="1268280"/>
            <a:ext cx="7848720" cy="480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7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960" y="1268280"/>
                      <a:ext cx="7848720" cy="4802040"/>
                    </a:xfrm>
                    <a:prstGeom prst="rect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68" name="Line 16"/>
            <p:cNvSpPr/>
            <p:nvPr/>
          </p:nvSpPr>
          <p:spPr>
            <a:xfrm flipV="1">
              <a:off x="2556000" y="1749240"/>
              <a:ext cx="0" cy="3440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Freeform 17"/>
            <p:cNvSpPr/>
            <p:nvPr/>
          </p:nvSpPr>
          <p:spPr>
            <a:xfrm>
              <a:off x="2627280" y="3189240"/>
              <a:ext cx="4419720" cy="196056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Line 18"/>
            <p:cNvSpPr/>
            <p:nvPr/>
          </p:nvSpPr>
          <p:spPr>
            <a:xfrm>
              <a:off x="2556000" y="5189400"/>
              <a:ext cx="5638680" cy="1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Freeform 19"/>
            <p:cNvSpPr/>
            <p:nvPr/>
          </p:nvSpPr>
          <p:spPr>
            <a:xfrm>
              <a:off x="2556000" y="2307960"/>
              <a:ext cx="5676840" cy="2922840"/>
            </a:xfrm>
            <a:prstGeom prst="pie">
              <a:avLst/>
            </a:prstGeom>
            <a:noFill/>
            <a:ln w="442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Text Box 20"/>
            <p:cNvSpPr/>
            <p:nvPr/>
          </p:nvSpPr>
          <p:spPr>
            <a:xfrm>
              <a:off x="5295960" y="166824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Trifás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Text Box 21"/>
            <p:cNvSpPr/>
            <p:nvPr/>
          </p:nvSpPr>
          <p:spPr>
            <a:xfrm>
              <a:off x="4076640" y="390996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onofás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Text Box 22"/>
            <p:cNvSpPr/>
            <p:nvPr/>
          </p:nvSpPr>
          <p:spPr>
            <a:xfrm>
              <a:off x="3314880" y="5460840"/>
              <a:ext cx="36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Energía de rayos X (keV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Text Box 23"/>
            <p:cNvSpPr/>
            <p:nvPr/>
          </p:nvSpPr>
          <p:spPr>
            <a:xfrm>
              <a:off x="723960" y="2789280"/>
              <a:ext cx="1832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Número de rayos X por unidad de energí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actores que afecta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643040"/>
            <a:ext cx="447516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antidad de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rriente del tubo (m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iempo de exposición (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otencial del tubo (kVp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orma de on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istancia foco-piel (fsd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ilt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6000" y="1700280"/>
            <a:ext cx="431964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alidad de los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otencial del tubo (kVp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ilt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orma de on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5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emos aprendido acerca del espectro continuo de Bremsstrahlung y de las líneas características (rayos X característico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tintos factores (kV, filtración, corriente, forma de onda, material del blanco) que influyen en la calidad y/o cantidad del haz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encontra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828440"/>
            <a:ext cx="7921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quipment for diagnostic radiology, E. Forster, MTP Press, 199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PSM Report 32, Parte 1, X-ray tubes and genera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9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he Essential Physics of Medical Imaging, Williams and Wilkins. Baltimore:199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pecificaciones de fabricantes de diferentes equipos de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9640" y="1628280"/>
            <a:ext cx="698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Familiarizarse con los principios tecnológicos de la producción de rayos X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7: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El haz de rayos X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Producción de Bremsstrahlu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" y="3049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pie de página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eracción electrón-nucleo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271160"/>
            <a:ext cx="8393400" cy="49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Bremsstrahlung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44640" indent="-366840">
              <a:spcBef>
                <a:spcPts val="799"/>
              </a:spcBef>
              <a:buClr>
                <a:srgbClr val="99ccff"/>
              </a:buClr>
              <a:buFont typeface="Times"/>
              <a:buChar char="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érdida de energía radiativa (E) por electrones que se frenan en su paso a través de un mater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44640" indent="-366840">
              <a:spcBef>
                <a:spcPts val="799"/>
              </a:spcBef>
              <a:buClr>
                <a:srgbClr val="99ccff"/>
              </a:buClr>
              <a:buFont typeface="Times"/>
              <a:buChar char="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la deceleración del electrón incidente por el campo coulombiano del núcle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44640" indent="-366840">
              <a:spcBef>
                <a:spcPts val="799"/>
              </a:spcBef>
              <a:buClr>
                <a:srgbClr val="99ccff"/>
              </a:buClr>
              <a:buFont typeface="Times"/>
              <a:buChar char="•"/>
              <a:tabLst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energía de la radiación (E) se emite en forma de fot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eracción electrón-núcleo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0680" y="1483920"/>
            <a:ext cx="75373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materiales de alto número atómic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pérdida de energía es mayor</a:t>
            </a: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pérdida de energía por Bremsstrahlu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&gt; 99% de la pérdida de energía cinética del electrón tiene lugar como producción de cal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rece  al aumentar la energía del electr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Los rayos X son predominantemente producidos por Bremsstrahlu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pie de página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os electrones golpean el núcle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0" name="Group 105"/>
          <p:cNvGrpSpPr/>
          <p:nvPr/>
        </p:nvGrpSpPr>
        <p:grpSpPr>
          <a:xfrm>
            <a:off x="628560" y="1219320"/>
            <a:ext cx="8044920" cy="4985640"/>
            <a:chOff x="628560" y="1219320"/>
            <a:chExt cx="8044920" cy="498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1419120" y="1720800"/>
              <a:ext cx="1406520" cy="1542960"/>
              <a:chOff x="1419120" y="1720800"/>
              <a:chExt cx="1406520" cy="1542960"/>
            </a:xfrm>
          </p:grpSpPr>
          <p:sp>
            <p:nvSpPr>
              <p:cNvPr id="112" name="Oval 4"/>
              <p:cNvSpPr/>
              <p:nvPr/>
            </p:nvSpPr>
            <p:spPr>
              <a:xfrm>
                <a:off x="1700280" y="2044440"/>
                <a:ext cx="843480" cy="914400"/>
              </a:xfrm>
              <a:prstGeom prst="ellipse">
                <a:avLst/>
              </a:prstGeom>
              <a:noFill/>
              <a:ln w="3168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Oval 5"/>
              <p:cNvSpPr/>
              <p:nvPr/>
            </p:nvSpPr>
            <p:spPr>
              <a:xfrm>
                <a:off x="1419120" y="1739880"/>
                <a:ext cx="1406520" cy="1523880"/>
              </a:xfrm>
              <a:prstGeom prst="ellipse">
                <a:avLst/>
              </a:prstGeom>
              <a:noFill/>
              <a:ln w="3168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Oval 6"/>
              <p:cNvSpPr/>
              <p:nvPr/>
            </p:nvSpPr>
            <p:spPr>
              <a:xfrm>
                <a:off x="2508840" y="2400120"/>
                <a:ext cx="68760" cy="7452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Oval 7"/>
              <p:cNvSpPr/>
              <p:nvPr/>
            </p:nvSpPr>
            <p:spPr>
              <a:xfrm>
                <a:off x="1729440" y="2705040"/>
                <a:ext cx="70200" cy="759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Oval 8"/>
              <p:cNvSpPr/>
              <p:nvPr/>
            </p:nvSpPr>
            <p:spPr>
              <a:xfrm>
                <a:off x="2579400" y="3009600"/>
                <a:ext cx="70200" cy="7632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Oval 9"/>
              <p:cNvSpPr/>
              <p:nvPr/>
            </p:nvSpPr>
            <p:spPr>
              <a:xfrm>
                <a:off x="1981800" y="1720800"/>
                <a:ext cx="69840" cy="759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Oval 10"/>
              <p:cNvSpPr/>
              <p:nvPr/>
            </p:nvSpPr>
            <p:spPr>
              <a:xfrm>
                <a:off x="1858320" y="3162240"/>
                <a:ext cx="70200" cy="759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Oval 11"/>
              <p:cNvSpPr/>
              <p:nvPr/>
            </p:nvSpPr>
            <p:spPr>
              <a:xfrm>
                <a:off x="2632320" y="1993680"/>
                <a:ext cx="69840" cy="7632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Oval 12"/>
              <p:cNvSpPr/>
              <p:nvPr/>
            </p:nvSpPr>
            <p:spPr>
              <a:xfrm>
                <a:off x="1987200" y="2330280"/>
                <a:ext cx="275040" cy="349200"/>
              </a:xfrm>
              <a:prstGeom prst="ellipse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Text Box 13"/>
              <p:cNvSpPr/>
              <p:nvPr/>
            </p:nvSpPr>
            <p:spPr>
              <a:xfrm>
                <a:off x="1978560" y="23209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eaeaea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2" name="Oval 14"/>
            <p:cNvSpPr/>
            <p:nvPr/>
          </p:nvSpPr>
          <p:spPr>
            <a:xfrm>
              <a:off x="4525920" y="2044800"/>
              <a:ext cx="844560" cy="914400"/>
            </a:xfrm>
            <a:prstGeom prst="ellipse">
              <a:avLst/>
            </a:prstGeom>
            <a:noFill/>
            <a:ln w="31680">
              <a:solidFill>
                <a:srgbClr val="eaeaea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4245120" y="1739880"/>
              <a:ext cx="1406520" cy="1523880"/>
            </a:xfrm>
            <a:prstGeom prst="ellipse">
              <a:avLst/>
            </a:prstGeom>
            <a:noFill/>
            <a:ln w="31680">
              <a:solidFill>
                <a:srgbClr val="eaeaea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5334120" y="2400480"/>
              <a:ext cx="69840" cy="7452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4497480" y="2343240"/>
              <a:ext cx="71280" cy="759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4287960" y="2119320"/>
              <a:ext cx="71280" cy="7632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807080" y="1720800"/>
              <a:ext cx="69840" cy="7632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4684680" y="3162240"/>
              <a:ext cx="69840" cy="7632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5457960" y="1994040"/>
              <a:ext cx="69840" cy="759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4813200" y="2330280"/>
              <a:ext cx="274680" cy="34956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4803840" y="23209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eaeaea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1149480" y="1231920"/>
              <a:ext cx="1430280" cy="1560600"/>
            </a:xfrm>
            <a:prstGeom prst="pie">
              <a:avLst/>
            </a:prstGeom>
            <a:noFill/>
            <a:ln w="28440">
              <a:solidFill>
                <a:srgbClr val="cf0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 flipV="1" rot="10800000">
              <a:off x="4584240" y="1219320"/>
              <a:ext cx="1430280" cy="1560240"/>
            </a:xfrm>
            <a:prstGeom prst="pie">
              <a:avLst/>
            </a:prstGeom>
            <a:noFill/>
            <a:ln w="28440">
              <a:solidFill>
                <a:srgbClr val="cf0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Line 26"/>
            <p:cNvSpPr/>
            <p:nvPr/>
          </p:nvSpPr>
          <p:spPr>
            <a:xfrm flipV="1">
              <a:off x="2556000" y="2717640"/>
              <a:ext cx="2039760" cy="12960"/>
            </a:xfrm>
            <a:prstGeom prst="line">
              <a:avLst/>
            </a:prstGeom>
            <a:ln w="28440">
              <a:solidFill>
                <a:srgbClr val="cf03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>
              <a:off x="1243080" y="1447920"/>
              <a:ext cx="117360" cy="253800"/>
            </a:xfrm>
            <a:prstGeom prst="line">
              <a:avLst/>
            </a:prstGeom>
            <a:ln w="12600">
              <a:solidFill>
                <a:srgbClr val="cf03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 flipV="1">
              <a:off x="5745240" y="1493640"/>
              <a:ext cx="155520" cy="347400"/>
            </a:xfrm>
            <a:prstGeom prst="line">
              <a:avLst/>
            </a:prstGeom>
            <a:ln w="12600">
              <a:solidFill>
                <a:srgbClr val="cf03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7" name="Group 29"/>
            <p:cNvGrpSpPr/>
            <p:nvPr/>
          </p:nvGrpSpPr>
          <p:grpSpPr>
            <a:xfrm>
              <a:off x="5076000" y="2679120"/>
              <a:ext cx="864000" cy="927360"/>
              <a:chOff x="5076000" y="2679120"/>
              <a:chExt cx="864000" cy="927360"/>
            </a:xfrm>
          </p:grpSpPr>
          <p:cxnSp>
            <p:nvCxnSpPr>
              <p:cNvPr id="138" name="AutoShape 30"/>
              <p:cNvCxnSpPr/>
              <p:nvPr/>
            </p:nvCxnSpPr>
            <p:spPr>
              <a:xfrm flipV="1" rot="16200000">
                <a:off x="5067360" y="268776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39" name="AutoShape 31"/>
              <p:cNvCxnSpPr/>
              <p:nvPr/>
            </p:nvCxnSpPr>
            <p:spPr>
              <a:xfrm flipV="1" rot="16200000">
                <a:off x="5225760" y="286452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0" name="AutoShape 32"/>
              <p:cNvCxnSpPr/>
              <p:nvPr/>
            </p:nvCxnSpPr>
            <p:spPr>
              <a:xfrm flipV="1" rot="16200000">
                <a:off x="5702040" y="338472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1" name="AutoShape 33"/>
              <p:cNvCxnSpPr/>
              <p:nvPr/>
            </p:nvCxnSpPr>
            <p:spPr>
              <a:xfrm flipV="1" rot="16200000">
                <a:off x="5546160" y="321012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2" name="AutoShape 34"/>
              <p:cNvCxnSpPr/>
              <p:nvPr/>
            </p:nvCxnSpPr>
            <p:spPr>
              <a:xfrm flipV="1" rot="16200000">
                <a:off x="5388120" y="3038400"/>
                <a:ext cx="177480" cy="1602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sp>
            <p:nvSpPr>
              <p:cNvPr id="143" name="Line 35"/>
              <p:cNvSpPr/>
              <p:nvPr/>
            </p:nvSpPr>
            <p:spPr>
              <a:xfrm>
                <a:off x="5871960" y="3549960"/>
                <a:ext cx="68040" cy="5652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36"/>
            <p:cNvGrpSpPr/>
            <p:nvPr/>
          </p:nvGrpSpPr>
          <p:grpSpPr>
            <a:xfrm>
              <a:off x="860760" y="2672640"/>
              <a:ext cx="1154160" cy="1067040"/>
              <a:chOff x="860760" y="2672640"/>
              <a:chExt cx="1154160" cy="1067040"/>
            </a:xfrm>
          </p:grpSpPr>
          <p:cxnSp>
            <p:nvCxnSpPr>
              <p:cNvPr id="145" name="AutoShape 37"/>
              <p:cNvCxnSpPr/>
              <p:nvPr/>
            </p:nvCxnSpPr>
            <p:spPr>
              <a:xfrm flipH="1" flipV="1" rot="5400000">
                <a:off x="1806120" y="266796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6" name="AutoShape 38"/>
              <p:cNvCxnSpPr/>
              <p:nvPr/>
            </p:nvCxnSpPr>
            <p:spPr>
              <a:xfrm flipH="1" flipV="1" rot="5400000">
                <a:off x="1594440" y="287136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7" name="AutoShape 39"/>
              <p:cNvCxnSpPr/>
              <p:nvPr/>
            </p:nvCxnSpPr>
            <p:spPr>
              <a:xfrm flipH="1" flipV="1" rot="5400000">
                <a:off x="957960" y="347004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8" name="AutoShape 40"/>
              <p:cNvCxnSpPr/>
              <p:nvPr/>
            </p:nvCxnSpPr>
            <p:spPr>
              <a:xfrm flipH="1" flipV="1" rot="5400000">
                <a:off x="1166760" y="3268800"/>
                <a:ext cx="204120" cy="2134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cxnSp>
            <p:nvCxnSpPr>
              <p:cNvPr id="149" name="AutoShape 41"/>
              <p:cNvCxnSpPr/>
              <p:nvPr/>
            </p:nvCxnSpPr>
            <p:spPr>
              <a:xfrm flipH="1" flipV="1" rot="5400000">
                <a:off x="1377360" y="3071520"/>
                <a:ext cx="204120" cy="213840"/>
              </a:xfrm>
              <a:prstGeom prst="curvedConnector5">
                <a:avLst>
                  <a:gd name="adj1" fmla="val 50000"/>
                  <a:gd name="adj2" fmla="val 49915"/>
                  <a:gd name="adj3" fmla="val 50000"/>
                </a:avLst>
              </a:prstGeom>
              <a:ln w="28440">
                <a:solidFill>
                  <a:srgbClr val="eaeaea"/>
                </a:solidFill>
                <a:miter/>
              </a:ln>
            </p:spPr>
          </p:cxnSp>
          <p:sp>
            <p:nvSpPr>
              <p:cNvPr id="150" name="Line 42"/>
              <p:cNvSpPr/>
              <p:nvPr/>
            </p:nvSpPr>
            <p:spPr>
              <a:xfrm flipH="1">
                <a:off x="860760" y="3674520"/>
                <a:ext cx="91080" cy="6516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51" name="Line 43"/>
            <p:cNvSpPr/>
            <p:nvPr/>
          </p:nvSpPr>
          <p:spPr>
            <a:xfrm>
              <a:off x="1079640" y="4102200"/>
              <a:ext cx="0" cy="19558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Line 44"/>
            <p:cNvSpPr/>
            <p:nvPr/>
          </p:nvSpPr>
          <p:spPr>
            <a:xfrm flipH="1">
              <a:off x="1066680" y="5270400"/>
              <a:ext cx="18655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Line 45"/>
            <p:cNvSpPr/>
            <p:nvPr/>
          </p:nvSpPr>
          <p:spPr>
            <a:xfrm>
              <a:off x="3763800" y="4051440"/>
              <a:ext cx="0" cy="19555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Line 46"/>
            <p:cNvSpPr/>
            <p:nvPr/>
          </p:nvSpPr>
          <p:spPr>
            <a:xfrm flipH="1">
              <a:off x="3752640" y="5219640"/>
              <a:ext cx="18637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1619280" y="4762440"/>
              <a:ext cx="68400" cy="50796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1969920" y="4978440"/>
              <a:ext cx="68400" cy="26676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2357280" y="5118120"/>
              <a:ext cx="68400" cy="15228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Line 50"/>
            <p:cNvSpPr/>
            <p:nvPr/>
          </p:nvSpPr>
          <p:spPr>
            <a:xfrm>
              <a:off x="1301760" y="3365640"/>
              <a:ext cx="304920" cy="8380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Line 51"/>
            <p:cNvSpPr/>
            <p:nvPr/>
          </p:nvSpPr>
          <p:spPr>
            <a:xfrm flipH="1">
              <a:off x="1806120" y="3213000"/>
              <a:ext cx="3645000" cy="11559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Text Box 52"/>
            <p:cNvSpPr/>
            <p:nvPr/>
          </p:nvSpPr>
          <p:spPr>
            <a:xfrm>
              <a:off x="1464480" y="35290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cc3399"/>
                  </a:solidFill>
                  <a:latin typeface="Arial"/>
                </a:rPr>
                <a:t>n(E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Text Box 53"/>
            <p:cNvSpPr/>
            <p:nvPr/>
          </p:nvSpPr>
          <p:spPr>
            <a:xfrm>
              <a:off x="3186000" y="3322800"/>
              <a:ext cx="65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</a:t>
              </a:r>
              <a:r>
                <a:rPr b="1" lang="fr-FR" sz="2400" spc="-1" strike="noStrike" baseline="-25000">
                  <a:solidFill>
                    <a:srgbClr val="cc3399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Text Box 54"/>
            <p:cNvSpPr/>
            <p:nvPr/>
          </p:nvSpPr>
          <p:spPr>
            <a:xfrm>
              <a:off x="1634400" y="52308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Line 55"/>
            <p:cNvSpPr/>
            <p:nvPr/>
          </p:nvSpPr>
          <p:spPr>
            <a:xfrm>
              <a:off x="1079640" y="5397480"/>
              <a:ext cx="5508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Text Box 56"/>
            <p:cNvSpPr/>
            <p:nvPr/>
          </p:nvSpPr>
          <p:spPr>
            <a:xfrm>
              <a:off x="2032920" y="5560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Line 57"/>
            <p:cNvSpPr/>
            <p:nvPr/>
          </p:nvSpPr>
          <p:spPr>
            <a:xfrm>
              <a:off x="1090440" y="5740560"/>
              <a:ext cx="9144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Text Box 58"/>
            <p:cNvSpPr/>
            <p:nvPr/>
          </p:nvSpPr>
          <p:spPr>
            <a:xfrm>
              <a:off x="2466360" y="57992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Line 59"/>
            <p:cNvSpPr/>
            <p:nvPr/>
          </p:nvSpPr>
          <p:spPr>
            <a:xfrm>
              <a:off x="1079640" y="6041880"/>
              <a:ext cx="1323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4280040" y="4305240"/>
              <a:ext cx="68040" cy="90180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4630680" y="4648320"/>
              <a:ext cx="69840" cy="55872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5018040" y="4902120"/>
              <a:ext cx="68400" cy="304920"/>
            </a:xfrm>
            <a:prstGeom prst="rect">
              <a:avLst/>
            </a:prstGeom>
            <a:solidFill>
              <a:srgbClr val="cc33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635760" y="442908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628560" y="4924440"/>
              <a:ext cx="43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635760" y="46767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Text Box 66"/>
            <p:cNvSpPr/>
            <p:nvPr/>
          </p:nvSpPr>
          <p:spPr>
            <a:xfrm>
              <a:off x="4342680" y="52308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Line 67"/>
            <p:cNvSpPr/>
            <p:nvPr/>
          </p:nvSpPr>
          <p:spPr>
            <a:xfrm>
              <a:off x="3787920" y="5397480"/>
              <a:ext cx="5508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Text Box 68"/>
            <p:cNvSpPr/>
            <p:nvPr/>
          </p:nvSpPr>
          <p:spPr>
            <a:xfrm>
              <a:off x="4741200" y="5560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Line 69"/>
            <p:cNvSpPr/>
            <p:nvPr/>
          </p:nvSpPr>
          <p:spPr>
            <a:xfrm>
              <a:off x="3798720" y="5740560"/>
              <a:ext cx="9144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Text Box 70"/>
            <p:cNvSpPr/>
            <p:nvPr/>
          </p:nvSpPr>
          <p:spPr>
            <a:xfrm>
              <a:off x="5174640" y="57992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Line 71"/>
            <p:cNvSpPr/>
            <p:nvPr/>
          </p:nvSpPr>
          <p:spPr>
            <a:xfrm>
              <a:off x="3787920" y="6041880"/>
              <a:ext cx="1323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4227480" y="3959280"/>
              <a:ext cx="6192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1</a:t>
              </a: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4554360" y="4302000"/>
              <a:ext cx="779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11560" y="4594320"/>
              <a:ext cx="70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n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3</a:t>
              </a:r>
              <a:r>
                <a:rPr b="1" lang="fr-FR" sz="18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1800" spc="-1" strike="noStrike" baseline="-25000">
                  <a:solidFill>
                    <a:srgbClr val="cc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6019920" y="3525840"/>
              <a:ext cx="67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</a:t>
              </a:r>
              <a:r>
                <a:rPr b="1" lang="fr-FR" sz="2400" spc="-1" strike="noStrike" baseline="-25000">
                  <a:solidFill>
                    <a:srgbClr val="cc3399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>
              <a:off x="6576840" y="4013280"/>
              <a:ext cx="0" cy="19558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 flipH="1">
              <a:off x="6565680" y="5181480"/>
              <a:ext cx="186372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6648480" y="4191120"/>
              <a:ext cx="68400" cy="99036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>
              <a:off x="6576840" y="4127400"/>
              <a:ext cx="1758960" cy="10162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718320" y="4229280"/>
              <a:ext cx="68400" cy="9522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788160" y="4292640"/>
              <a:ext cx="69840" cy="8874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6858000" y="4324320"/>
              <a:ext cx="81000" cy="85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6940440" y="4381560"/>
              <a:ext cx="69840" cy="799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7010280" y="4406760"/>
              <a:ext cx="69840" cy="7747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7067520" y="4444920"/>
              <a:ext cx="92160" cy="73656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7151760" y="4508640"/>
              <a:ext cx="81000" cy="6728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7234200" y="4546440"/>
              <a:ext cx="68400" cy="635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7304040" y="4572000"/>
              <a:ext cx="68400" cy="6094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7373880" y="4622760"/>
              <a:ext cx="69840" cy="5526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7445520" y="4681440"/>
              <a:ext cx="83880" cy="493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7526160" y="4686480"/>
              <a:ext cx="70200" cy="49500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7597800" y="4749840"/>
              <a:ext cx="68400" cy="4316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667640" y="4788000"/>
              <a:ext cx="68400" cy="3934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737480" y="4838760"/>
              <a:ext cx="69840" cy="3427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7808760" y="4851360"/>
              <a:ext cx="68400" cy="3301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7878600" y="4915080"/>
              <a:ext cx="68400" cy="2552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8021520" y="5003640"/>
              <a:ext cx="77760" cy="1778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8101080" y="5029200"/>
              <a:ext cx="69840" cy="1522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8172360" y="5067360"/>
              <a:ext cx="68400" cy="1141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8242200" y="5106960"/>
              <a:ext cx="68400" cy="745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7935120" y="519444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3399"/>
                  </a:solidFill>
                  <a:latin typeface="Arial"/>
                </a:rPr>
                <a:t>E</a:t>
              </a:r>
              <a:r>
                <a:rPr b="1" lang="fr-FR" sz="2400" spc="-1" strike="noStrike" baseline="-25000">
                  <a:solidFill>
                    <a:srgbClr val="cc3399"/>
                  </a:solidFill>
                  <a:latin typeface="Arial"/>
                </a:rPr>
                <a:t>ma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109560" y="2743200"/>
              <a:ext cx="251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Espectro d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Bremsstrahlung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947000" y="4946760"/>
              <a:ext cx="77760" cy="230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pie de página"/>
          <p:cNvSpPr/>
          <p:nvPr/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840" y="14616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pectro continuo de Bremsstrahlung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58600" y="1523880"/>
            <a:ext cx="75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energía (E) de los fotones de Bremsstrahlung puede tomar cualquier valor entre “cero” y la máxima energía cinética de los electrones inciden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número de fotones en función de E es proporcional a 1/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Blanco grueso </a:t>
            </a:r>
            <a:r>
              <a:rPr b="0" lang="es-ES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espectro lineal continu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BRITTINGER, Maria Theresa</cp:lastModifiedBy>
  <cp:lastPrinted>2002-03-28T08:56:53Z</cp:lastPrinted>
  <dcterms:modified xsi:type="dcterms:W3CDTF">2009-09-09T08:04:01Z</dcterms:modified>
  <cp:revision>156</cp:revision>
  <dc:subject>X Ray beams</dc:subject>
  <dc:title>RADIATION PROTECTION IN DIAGNOSTIC RADIOLOGY</dc:title>
</cp:coreProperties>
</file>