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5974-3457-4AF3-96AE-19DDA5F9EE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1f09"/>
                </a:solidFill>
                <a:latin typeface="Times New Roman"/>
              </a:rPr>
              <a:t>Como puede verse, un procedimiento 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00 mA, 0.5 s, 90 kV dañaría el sistema operado desde un generador monofásico rectificado en media onda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(inaceptable) mientras (siguiente diapositiv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200 mA, 0.1 s, 120 kV procedure comply with the technical characteristics of the system operated from a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33"/>
                </a:solidFill>
                <a:latin typeface="Bookshelf Symbol 5"/>
                <a:ea typeface="Bookshelf Symbol 5"/>
              </a:rPr>
              <a:t>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fully rectified generator (accep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o puede verse, un procedimiento con 200 mA, 0.1 s, 120 kV cumple con las características técnicas del sistema operado con un generador trifásico rectificado en onda completa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(acep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gráfico muestra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procedimiento que libere 500 HU/s puede continuar indefinid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caso de liberar 1000 HU/s debe parar tras 1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el ánodo ha almacenado 1</a:t>
            </a:r>
            <a:r>
              <a:rPr b="0" lang="en-US" sz="1200" spc="-1" strike="noStrike">
                <a:solidFill>
                  <a:srgbClr val="a31f09"/>
                </a:solidFill>
                <a:latin typeface="Times New Roman"/>
              </a:rPr>
              <a:t>20.000 HU, harán falta </a:t>
            </a:r>
            <a:r>
              <a:rPr b="0" lang="en-US" sz="1200" spc="-1" strike="noStrike">
                <a:solidFill>
                  <a:srgbClr val="a31f09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a31f09"/>
                </a:solidFill>
                <a:latin typeface="Times New Roman"/>
              </a:rPr>
              <a:t> 5 m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a enfriarlo complet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súmanse los principales asuntos tratados en la sesión.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Lístense los principales temas abordados y destáquense de nuevo los detalles  importantes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3480" y="61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76400" y="6512040"/>
            <a:ext cx="156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L 6: Producción de rayos X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41480" y="65120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2D40-8B20-43FF-A7F5-DC202C73D7AA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143160"/>
            <a:ext cx="91440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 6: Producción de rayos X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6: Producción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Estructura del cát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tructura del cátodo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9160" y="1294920"/>
            <a:ext cx="7710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cátodo incluye los filamentos y circuitería asociada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5580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wolframio: material preferido por su alto punto de fusión (3370°C)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95580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baja evaporación del filamento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95580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no se arquea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95580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depósito mínimo de W sobre la cubierta de vidrio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reducir la evaporación, la temperatura de emisión del cátodo solo se alcanza antes de la exposición.</a:t>
            </a:r>
            <a:r>
              <a:rPr b="0" lang="es-ES" sz="25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95580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cc"/>
                </a:solidFill>
                <a:latin typeface="Arial"/>
              </a:rPr>
              <a:t>en espera, la temperatura se mantiene a ± 1500°C para que los 2700°C de temperatura de emisión se alcancen en una fracción de segundo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jemplo de un cáto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836720" y="1523880"/>
            <a:ext cx="5486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42880" y="1196640"/>
            <a:ext cx="8220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tubos modernos tienen dos filamen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5256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o largo: mayor corriente/menor resolu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5256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o corto: menor corriente/mayor resolució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interacción coulombiana hace divergente el haz de electrones en su camino hacia el áno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5256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alta de electrones que produzcan rayos 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5256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ayor área de impacto en el blan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5256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cremento de la mancha focal </a:t>
            </a:r>
            <a:r>
              <a:rPr b="1" lang="es-ES" sz="24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s-ES" sz="2400" spc="-1" strike="noStrike">
                <a:solidFill>
                  <a:srgbClr val="a31f0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eor resolución de la imagen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tructura del cátodo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4920" y="54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¡La focalización de los electrones es crucial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6: Producción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Estructura del án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aracterísticas del tubo de rayos X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1196640"/>
            <a:ext cx="78548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stricciones mecánicas en el áno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aterial: wolframio, renio, molibdeno, grafi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ancha focal: superficie del ánodo sobre la que impactan los electr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Ángulo anód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iámetro del disco y de la pista anular (frecuencia de rotación desde 3000 a 10000 revoluc./minut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Espesor </a:t>
            </a:r>
            <a:r>
              <a:rPr b="1" lang="es-ES" sz="24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masa y material (volumen) </a:t>
            </a:r>
            <a:r>
              <a:rPr b="1" lang="es-ES" sz="24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 capacidad caloríf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stricciones térmicas en el áno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otencia instantánea en carga (unidades de calor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urva temporal de almacenamiento de cal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urva temporal de enfriamien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Ángulo anódico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6800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Principio del foco line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blanco anódico tiene una forma más rectangular o elipsoidal que circular. La forma depende d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509840" indent="-2286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Tamaño y forma del filament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509840" indent="-2286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Copa de enfoque y potenci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509840" indent="-2286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Distancia entre cátodo y áno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</a:rPr>
              <a:t>La resolución de la imagen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requiere una </a:t>
            </a: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</a:rPr>
              <a:t>mancha focal pequeñ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</a:rPr>
              <a:t>La disipación térmic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requiere una </a:t>
            </a: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</a:rPr>
              <a:t>mancha grand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7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Este conflicto se resuelve</a:t>
            </a:r>
            <a:br>
              <a:rPr sz="3200"/>
            </a:b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inclinando la superficie del blan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racterística del áno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794920" y="2614680"/>
            <a:ext cx="28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1: pista anód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2: pista anód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22320" y="1752480"/>
            <a:ext cx="42195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24"/>
          <p:cNvSpPr/>
          <p:nvPr/>
        </p:nvSpPr>
        <p:spPr>
          <a:xfrm>
            <a:off x="1828800" y="5226120"/>
            <a:ext cx="563868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Rectangle 62"/>
          <p:cNvSpPr/>
          <p:nvPr/>
        </p:nvSpPr>
        <p:spPr>
          <a:xfrm>
            <a:off x="1785960" y="5143680"/>
            <a:ext cx="5929200" cy="94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 MENOR ÁNGULO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EJOR RESOLU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Ángulo anódico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14200" y="1285920"/>
            <a:ext cx="8416440" cy="3713040"/>
            <a:chOff x="214200" y="1285920"/>
            <a:chExt cx="8416440" cy="3713040"/>
          </a:xfrm>
        </p:grpSpPr>
        <p:sp>
          <p:nvSpPr>
            <p:cNvPr id="142" name="Line 66"/>
            <p:cNvSpPr/>
            <p:nvPr/>
          </p:nvSpPr>
          <p:spPr>
            <a:xfrm>
              <a:off x="2649600" y="2106720"/>
              <a:ext cx="461880" cy="13399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>
              <a:off x="2649600" y="2106720"/>
              <a:ext cx="13698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Line 68"/>
            <p:cNvSpPr/>
            <p:nvPr/>
          </p:nvSpPr>
          <p:spPr>
            <a:xfrm>
              <a:off x="3122640" y="3435480"/>
              <a:ext cx="8492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Line 69"/>
            <p:cNvSpPr/>
            <p:nvPr/>
          </p:nvSpPr>
          <p:spPr>
            <a:xfrm flipV="1">
              <a:off x="2841480" y="2435040"/>
              <a:ext cx="560520" cy="24732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Line 70"/>
            <p:cNvSpPr/>
            <p:nvPr/>
          </p:nvSpPr>
          <p:spPr>
            <a:xfrm flipV="1">
              <a:off x="2909880" y="2658960"/>
              <a:ext cx="558720" cy="24624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Line 72"/>
            <p:cNvSpPr/>
            <p:nvPr/>
          </p:nvSpPr>
          <p:spPr>
            <a:xfrm flipV="1">
              <a:off x="2928960" y="2863800"/>
              <a:ext cx="57240" cy="47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Rectangle 73"/>
            <p:cNvSpPr/>
            <p:nvPr/>
          </p:nvSpPr>
          <p:spPr>
            <a:xfrm rot="20221200">
              <a:off x="2785680" y="2293560"/>
              <a:ext cx="57240" cy="372960"/>
            </a:xfrm>
            <a:prstGeom prst="rect">
              <a:avLst/>
            </a:prstGeom>
            <a:solidFill>
              <a:srgbClr val="a31f0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Rectangle 74"/>
            <p:cNvSpPr/>
            <p:nvPr/>
          </p:nvSpPr>
          <p:spPr>
            <a:xfrm rot="20221200">
              <a:off x="2989440" y="2876400"/>
              <a:ext cx="56880" cy="373320"/>
            </a:xfrm>
            <a:prstGeom prst="rect">
              <a:avLst/>
            </a:prstGeom>
            <a:solidFill>
              <a:srgbClr val="a31f0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75"/>
            <p:cNvSpPr/>
            <p:nvPr/>
          </p:nvSpPr>
          <p:spPr>
            <a:xfrm flipV="1">
              <a:off x="2644920" y="1547280"/>
              <a:ext cx="0" cy="55908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Line 76"/>
            <p:cNvSpPr/>
            <p:nvPr/>
          </p:nvSpPr>
          <p:spPr>
            <a:xfrm>
              <a:off x="2460600" y="1582560"/>
              <a:ext cx="179280" cy="51768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Arc 77"/>
            <p:cNvSpPr/>
            <p:nvPr/>
          </p:nvSpPr>
          <p:spPr>
            <a:xfrm flipV="1">
              <a:off x="2478240" y="1549440"/>
              <a:ext cx="166680" cy="68400"/>
            </a:xfrm>
            <a:prstGeom prst="pie">
              <a:avLst/>
            </a:prstGeom>
            <a:noFill/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Text Box 78"/>
            <p:cNvSpPr/>
            <p:nvPr/>
          </p:nvSpPr>
          <p:spPr>
            <a:xfrm>
              <a:off x="2287440" y="12859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Text Box 79"/>
            <p:cNvSpPr/>
            <p:nvPr/>
          </p:nvSpPr>
          <p:spPr>
            <a:xfrm>
              <a:off x="1428840" y="1285920"/>
              <a:ext cx="103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Ángul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Text Box 80"/>
            <p:cNvSpPr/>
            <p:nvPr/>
          </p:nvSpPr>
          <p:spPr>
            <a:xfrm>
              <a:off x="214200" y="2857680"/>
              <a:ext cx="250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Ancho haz inciden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e electrone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Line 81"/>
            <p:cNvSpPr/>
            <p:nvPr/>
          </p:nvSpPr>
          <p:spPr>
            <a:xfrm flipH="1">
              <a:off x="1384200" y="2905200"/>
              <a:ext cx="15256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Line 82"/>
            <p:cNvSpPr/>
            <p:nvPr/>
          </p:nvSpPr>
          <p:spPr>
            <a:xfrm flipH="1">
              <a:off x="1297080" y="2658960"/>
              <a:ext cx="154296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Line 83"/>
            <p:cNvSpPr/>
            <p:nvPr/>
          </p:nvSpPr>
          <p:spPr>
            <a:xfrm flipV="1">
              <a:off x="2841480" y="2658600"/>
              <a:ext cx="0" cy="3286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Line 84"/>
            <p:cNvSpPr/>
            <p:nvPr/>
          </p:nvSpPr>
          <p:spPr>
            <a:xfrm>
              <a:off x="1866960" y="2658960"/>
              <a:ext cx="0" cy="2462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Line 85"/>
            <p:cNvSpPr/>
            <p:nvPr/>
          </p:nvSpPr>
          <p:spPr>
            <a:xfrm flipH="1" flipV="1">
              <a:off x="3382920" y="2435040"/>
              <a:ext cx="76320" cy="2235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Line 86"/>
            <p:cNvSpPr/>
            <p:nvPr/>
          </p:nvSpPr>
          <p:spPr>
            <a:xfrm>
              <a:off x="2841480" y="2859120"/>
              <a:ext cx="0" cy="18702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Line 87"/>
            <p:cNvSpPr/>
            <p:nvPr/>
          </p:nvSpPr>
          <p:spPr>
            <a:xfrm>
              <a:off x="2924280" y="2913120"/>
              <a:ext cx="0" cy="18111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Line 88"/>
            <p:cNvSpPr/>
            <p:nvPr/>
          </p:nvSpPr>
          <p:spPr>
            <a:xfrm>
              <a:off x="2292480" y="4751280"/>
              <a:ext cx="11379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Line 89"/>
            <p:cNvSpPr/>
            <p:nvPr/>
          </p:nvSpPr>
          <p:spPr>
            <a:xfrm>
              <a:off x="2368440" y="4446720"/>
              <a:ext cx="4636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Line 90"/>
            <p:cNvSpPr/>
            <p:nvPr/>
          </p:nvSpPr>
          <p:spPr>
            <a:xfrm flipH="1">
              <a:off x="2966760" y="4457880"/>
              <a:ext cx="4633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Text Box 91"/>
            <p:cNvSpPr/>
            <p:nvPr/>
          </p:nvSpPr>
          <p:spPr>
            <a:xfrm>
              <a:off x="3048480" y="4010040"/>
              <a:ext cx="320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Tamaño aparente mancha foc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Rectangle 92"/>
            <p:cNvSpPr/>
            <p:nvPr/>
          </p:nvSpPr>
          <p:spPr>
            <a:xfrm>
              <a:off x="3058200" y="273852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tamaño re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mancha foc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Freeform 93"/>
            <p:cNvSpPr/>
            <p:nvPr/>
          </p:nvSpPr>
          <p:spPr>
            <a:xfrm>
              <a:off x="3479760" y="2576520"/>
              <a:ext cx="345960" cy="223920"/>
            </a:xfrm>
            <a:prstGeom prst="pie">
              <a:avLst/>
            </a:prstGeom>
            <a:noFill/>
            <a:ln w="12600">
              <a:solidFill>
                <a:srgbClr val="eaeae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Rectangle 94"/>
            <p:cNvSpPr/>
            <p:nvPr/>
          </p:nvSpPr>
          <p:spPr>
            <a:xfrm>
              <a:off x="3417480" y="457200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elícul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Line 95"/>
            <p:cNvSpPr/>
            <p:nvPr/>
          </p:nvSpPr>
          <p:spPr>
            <a:xfrm>
              <a:off x="6091920" y="2213640"/>
              <a:ext cx="681120" cy="1243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Line 96"/>
            <p:cNvSpPr/>
            <p:nvPr/>
          </p:nvSpPr>
          <p:spPr>
            <a:xfrm>
              <a:off x="6124680" y="2211480"/>
              <a:ext cx="13698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Line 97"/>
            <p:cNvSpPr/>
            <p:nvPr/>
          </p:nvSpPr>
          <p:spPr>
            <a:xfrm>
              <a:off x="6742080" y="3435480"/>
              <a:ext cx="8492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Line 98"/>
            <p:cNvSpPr/>
            <p:nvPr/>
          </p:nvSpPr>
          <p:spPr>
            <a:xfrm flipV="1">
              <a:off x="6431040" y="2352240"/>
              <a:ext cx="479520" cy="30492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Line 99"/>
            <p:cNvSpPr/>
            <p:nvPr/>
          </p:nvSpPr>
          <p:spPr>
            <a:xfrm flipV="1">
              <a:off x="6551640" y="2616120"/>
              <a:ext cx="452520" cy="29520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Line 101"/>
            <p:cNvSpPr/>
            <p:nvPr/>
          </p:nvSpPr>
          <p:spPr>
            <a:xfrm flipV="1">
              <a:off x="6486840" y="2917080"/>
              <a:ext cx="47160" cy="579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102"/>
            <p:cNvSpPr/>
            <p:nvPr/>
          </p:nvSpPr>
          <p:spPr>
            <a:xfrm rot="19663200">
              <a:off x="6248520" y="2334960"/>
              <a:ext cx="56880" cy="372960"/>
            </a:xfrm>
            <a:prstGeom prst="rect">
              <a:avLst/>
            </a:prstGeom>
            <a:solidFill>
              <a:srgbClr val="a31f0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103"/>
            <p:cNvSpPr/>
            <p:nvPr/>
          </p:nvSpPr>
          <p:spPr>
            <a:xfrm rot="19663200">
              <a:off x="6580080" y="2900160"/>
              <a:ext cx="57240" cy="372960"/>
            </a:xfrm>
            <a:prstGeom prst="rect">
              <a:avLst/>
            </a:prstGeom>
            <a:solidFill>
              <a:srgbClr val="a31f09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Line 104"/>
            <p:cNvSpPr/>
            <p:nvPr/>
          </p:nvSpPr>
          <p:spPr>
            <a:xfrm flipV="1">
              <a:off x="6119640" y="1709640"/>
              <a:ext cx="0" cy="47808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Line 105"/>
            <p:cNvSpPr/>
            <p:nvPr/>
          </p:nvSpPr>
          <p:spPr>
            <a:xfrm>
              <a:off x="5891040" y="1749600"/>
              <a:ext cx="227160" cy="480960"/>
            </a:xfrm>
            <a:prstGeom prst="line">
              <a:avLst/>
            </a:prstGeom>
            <a:ln cap="rnd" w="1260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Arc 106"/>
            <p:cNvSpPr/>
            <p:nvPr/>
          </p:nvSpPr>
          <p:spPr>
            <a:xfrm flipV="1">
              <a:off x="5881680" y="1666800"/>
              <a:ext cx="230040" cy="68400"/>
            </a:xfrm>
            <a:prstGeom prst="pie">
              <a:avLst/>
            </a:prstGeom>
            <a:noFill/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Text Box 107"/>
            <p:cNvSpPr/>
            <p:nvPr/>
          </p:nvSpPr>
          <p:spPr>
            <a:xfrm>
              <a:off x="5903640" y="13762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Text Box 108"/>
            <p:cNvSpPr/>
            <p:nvPr/>
          </p:nvSpPr>
          <p:spPr>
            <a:xfrm>
              <a:off x="5072040" y="1357200"/>
              <a:ext cx="10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Ángul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Text Box 109"/>
            <p:cNvSpPr/>
            <p:nvPr/>
          </p:nvSpPr>
          <p:spPr>
            <a:xfrm>
              <a:off x="4414680" y="2998800"/>
              <a:ext cx="214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Ancho haz inciden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e electrone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Line 110"/>
            <p:cNvSpPr/>
            <p:nvPr/>
          </p:nvSpPr>
          <p:spPr>
            <a:xfrm flipH="1">
              <a:off x="4937040" y="2963880"/>
              <a:ext cx="1549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Line 111"/>
            <p:cNvSpPr/>
            <p:nvPr/>
          </p:nvSpPr>
          <p:spPr>
            <a:xfrm flipH="1">
              <a:off x="4849560" y="2717640"/>
              <a:ext cx="15253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Line 112"/>
            <p:cNvSpPr/>
            <p:nvPr/>
          </p:nvSpPr>
          <p:spPr>
            <a:xfrm>
              <a:off x="5419800" y="2717640"/>
              <a:ext cx="0" cy="2462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Line 113"/>
            <p:cNvSpPr/>
            <p:nvPr/>
          </p:nvSpPr>
          <p:spPr>
            <a:xfrm flipH="1" flipV="1">
              <a:off x="6789600" y="2444400"/>
              <a:ext cx="98640" cy="2286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Line 114"/>
            <p:cNvSpPr/>
            <p:nvPr/>
          </p:nvSpPr>
          <p:spPr>
            <a:xfrm>
              <a:off x="6369120" y="2727360"/>
              <a:ext cx="0" cy="20811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Line 115"/>
            <p:cNvSpPr/>
            <p:nvPr/>
          </p:nvSpPr>
          <p:spPr>
            <a:xfrm>
              <a:off x="5843520" y="4809960"/>
              <a:ext cx="11397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Line 116"/>
            <p:cNvSpPr/>
            <p:nvPr/>
          </p:nvSpPr>
          <p:spPr>
            <a:xfrm>
              <a:off x="5910120" y="4505400"/>
              <a:ext cx="4636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Line 117"/>
            <p:cNvSpPr/>
            <p:nvPr/>
          </p:nvSpPr>
          <p:spPr>
            <a:xfrm flipH="1">
              <a:off x="6483240" y="4498920"/>
              <a:ext cx="4636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Text Box 118"/>
            <p:cNvSpPr/>
            <p:nvPr/>
          </p:nvSpPr>
          <p:spPr>
            <a:xfrm>
              <a:off x="6558480" y="3471840"/>
              <a:ext cx="207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tamaño aparente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de mancha focal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aumentad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Rectangle 119"/>
            <p:cNvSpPr/>
            <p:nvPr/>
          </p:nvSpPr>
          <p:spPr>
            <a:xfrm>
              <a:off x="6611040" y="279720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tamaño re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mancha foc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120"/>
            <p:cNvSpPr/>
            <p:nvPr/>
          </p:nvSpPr>
          <p:spPr>
            <a:xfrm>
              <a:off x="7031160" y="2635200"/>
              <a:ext cx="347400" cy="223920"/>
            </a:xfrm>
            <a:prstGeom prst="pie">
              <a:avLst/>
            </a:prstGeom>
            <a:noFill/>
            <a:ln w="12600">
              <a:solidFill>
                <a:srgbClr val="eaeae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21"/>
            <p:cNvSpPr/>
            <p:nvPr/>
          </p:nvSpPr>
          <p:spPr>
            <a:xfrm>
              <a:off x="6968520" y="46306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elícul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Text Box 122"/>
            <p:cNvSpPr/>
            <p:nvPr/>
          </p:nvSpPr>
          <p:spPr>
            <a:xfrm>
              <a:off x="6019560" y="1285920"/>
              <a:ext cx="32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‘</a:t>
              </a: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Line 123"/>
            <p:cNvSpPr/>
            <p:nvPr/>
          </p:nvSpPr>
          <p:spPr>
            <a:xfrm>
              <a:off x="6491160" y="2965320"/>
              <a:ext cx="0" cy="18432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fecto anódico (efecto tacón)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4200" y="1371600"/>
            <a:ext cx="770544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ángulo anódico (de 7° a 20°) induce una variación de la salida de rayos X en el plano que contiene el eje ánodo-cáto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bsorción en el ánodo de los fotones X con bajo ángulo de emisió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importancia de la influencia del efecto tacón (anódico) en la imagen depende de factores tales como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Ángulo anódic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Tamaño de la películ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Distancia foco-películ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envejecimiento del ánodo aumenta el efecto tac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7880" y="1523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revisa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principales elementos de un tubo de rayos X: estructura del cátodo y del án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restricciones tecnológicas del material del ánodo y del cát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curvas de carga y las capacidades caloríficas del tubo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efecto tacón </a:t>
            </a:r>
            <a:r>
              <a:rPr b="0" lang="es-ES" sz="3200" spc="-1" strike="noStrike">
                <a:solidFill>
                  <a:srgbClr val="ff9900"/>
                </a:solidFill>
                <a:latin typeface="Arial"/>
              </a:rPr>
              <a:t>no es siempre un factor negativ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0560" indent="-34056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usarse para compensar la diferente atenuación de distintas partes del cuerp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0560" indent="-34056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807480" indent="-280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columna vertebral torácica (la parte más gruesa del paciente hacia el lado del cátodo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807480" indent="-280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mografí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fecto anódico (efecto tacón)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amaño de mancha focal y geometría de la imag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maño finito de mancha focal </a:t>
            </a:r>
            <a:r>
              <a:rPr b="0" lang="es-ES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imagen sin agud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Mejora de la agudeza </a:t>
            </a:r>
            <a:r>
              <a:rPr b="0" lang="es-ES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mancha focal pequeña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n mamografía mancha focal </a:t>
            </a:r>
            <a:r>
              <a:rPr b="0" lang="es-ES" sz="20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0.4 mm nomin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equeño tamaño de mancha focal </a:t>
            </a:r>
            <a:r>
              <a:rPr b="0" lang="es-ES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intensidad de haz reducida (tiempo de exposición más largo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Mancha focal grande permite mayor intensidad de salida (tiempo de exposición más corto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balance depende del movimiento del órgano (órganos con movimiento rápido podrían requerir un foco mayor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6: Producción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4: Curvas de car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pacidades calóricas en carg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5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procedimiento genera una cantidad de calor en función de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95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kV usado, corriente del tubo (mA), tiempo de exposició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95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tipo de forma de onda de la alta tensió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95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número de exposiciones tomadas en secuencia rápid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7760" indent="-347760">
              <a:lnSpc>
                <a:spcPct val="75000"/>
              </a:lnSpc>
              <a:spcBef>
                <a:spcPts val="15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or en Unidades de Calor (HU) [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julio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]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7760" indent="0" algn="ctr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potencial </a:t>
            </a:r>
            <a:r>
              <a:rPr b="1" lang="es-ES" sz="20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 corriente del tubo </a:t>
            </a:r>
            <a:r>
              <a:rPr b="1" lang="es-ES" sz="20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1" lang="es-ES" sz="2000" spc="-1" strike="noStrike">
                <a:solidFill>
                  <a:srgbClr val="ccecff"/>
                </a:solidFill>
                <a:latin typeface="Arial"/>
              </a:rPr>
              <a:t> tiempo de exposició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7760" indent="-347760">
              <a:lnSpc>
                <a:spcPct val="75000"/>
              </a:lnSpc>
              <a:spcBef>
                <a:spcPts val="15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or generado por diversos tipos de circuitos de rayos X: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85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Unidades monofásicas: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HU = kV </a:t>
            </a:r>
            <a:r>
              <a:rPr b="0" lang="es-ES" sz="20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 mA </a:t>
            </a:r>
            <a:r>
              <a:rPr b="0" lang="es-ES" sz="20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85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Unidades trifásicas, 6 pulsos: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HU = 1.35 kV </a:t>
            </a:r>
            <a:r>
              <a:rPr b="0" lang="es-ES" sz="20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 mA </a:t>
            </a:r>
            <a:r>
              <a:rPr b="0" lang="es-ES" sz="20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824040" indent="-285840">
              <a:lnSpc>
                <a:spcPct val="85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Unidades trifásicas, 12 pulsos:</a:t>
            </a:r>
            <a:r>
              <a:rPr b="0" lang="es-ES" sz="2000" spc="-1" strike="noStrike">
                <a:solidFill>
                  <a:srgbClr val="17691b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HU = 1.41 kV </a:t>
            </a:r>
            <a:r>
              <a:rPr b="0" lang="es-ES" sz="2000" spc="-1" strike="noStrike">
                <a:solidFill>
                  <a:srgbClr val="ff9900"/>
                </a:solidFill>
                <a:latin typeface="Wingdings 2"/>
                <a:ea typeface="Wingdings 2"/>
              </a:rPr>
              <a:t>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 mA </a:t>
            </a:r>
            <a:r>
              <a:rPr b="0" lang="es-ES" sz="2000" spc="-1" strike="noStrike">
                <a:solidFill>
                  <a:srgbClr val="ff9900"/>
                </a:solidFill>
                <a:latin typeface="Wingdings 2"/>
                <a:ea typeface="Wingdings 2"/>
              </a:rPr>
              <a:t>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97920"/>
            <a:ext cx="8674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urvas de carga del tubo de rayos X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39304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aracterísticas de enfriamiento del tubo y tamaño de la mancha focal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{mA - tiempo} relación a kV consta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intensidad decrece al aumentar el tiempo de exposición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intensidad crece al disminuir el k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Not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más alta potencia </a:t>
            </a:r>
            <a:r>
              <a:rPr b="0" lang="es-E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tiempo de exposición menor </a:t>
            </a:r>
            <a:r>
              <a:rPr b="0" lang="es-E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érdida de agudeza por movimiento men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os fabricantes combinan las características de calentamiento en carga e información acerca de los límites de sus tubos de rayos X en representaciones gráficas llamadas Curvas de carga del tub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337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Ejemplo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Tubo A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: un procedimiento con 300 mA, 0.5 s, 90 kV podría dañar el sistema, operado por un generador monofásico rectificado en media onda (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inaceptable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08576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Tubo B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: un procedimiento con 200 mA, 0.1 s, 120 kV se adapta a las características técnicas del sistema, operado por un generador trifásico rectificado en onda completa (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aceptable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42920" y="97920"/>
            <a:ext cx="8858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urvas de carga del tubo de rayos X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97920"/>
            <a:ext cx="9001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urvas de carga del tubo de rayos X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336680" y="1600200"/>
            <a:ext cx="7234920" cy="4483080"/>
            <a:chOff x="1336680" y="1600200"/>
            <a:chExt cx="7234920" cy="4483080"/>
          </a:xfrm>
        </p:grpSpPr>
        <p:sp>
          <p:nvSpPr>
            <p:cNvPr id="215" name="Rectangle 28"/>
            <p:cNvSpPr/>
            <p:nvPr/>
          </p:nvSpPr>
          <p:spPr>
            <a:xfrm>
              <a:off x="2195640" y="3962520"/>
              <a:ext cx="2514600" cy="1371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"/>
            <p:cNvSpPr/>
            <p:nvPr/>
          </p:nvSpPr>
          <p:spPr>
            <a:xfrm>
              <a:off x="2209680" y="2133720"/>
              <a:ext cx="5203800" cy="3200400"/>
            </a:xfrm>
            <a:prstGeom prst="rect">
              <a:avLst/>
            </a:prstGeom>
            <a:noFill/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Line 4"/>
            <p:cNvSpPr/>
            <p:nvPr/>
          </p:nvSpPr>
          <p:spPr>
            <a:xfrm>
              <a:off x="2181240" y="3962520"/>
              <a:ext cx="2531880" cy="0"/>
            </a:xfrm>
            <a:prstGeom prst="line">
              <a:avLst/>
            </a:prstGeom>
            <a:ln w="28440">
              <a:solidFill>
                <a:srgbClr val="a31f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>
              <a:off x="4713120" y="3962520"/>
              <a:ext cx="0" cy="1371600"/>
            </a:xfrm>
            <a:prstGeom prst="line">
              <a:avLst/>
            </a:prstGeom>
            <a:ln w="28440">
              <a:solidFill>
                <a:srgbClr val="a31f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972080" y="5361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0.0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2886480" y="5361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0.0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351828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0.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457380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Text Box 10"/>
            <p:cNvSpPr/>
            <p:nvPr/>
          </p:nvSpPr>
          <p:spPr>
            <a:xfrm>
              <a:off x="513612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640260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5.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7247520" y="5361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10.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4430880" y="2133720"/>
              <a:ext cx="2954160" cy="2209680"/>
            </a:xfrm>
            <a:prstGeom prst="pie">
              <a:avLst/>
            </a:pr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1678680" y="1905120"/>
              <a:ext cx="519120" cy="32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7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cd3c1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2181240" y="2590920"/>
              <a:ext cx="5203800" cy="2184120"/>
            </a:xfrm>
            <a:prstGeom prst="pie">
              <a:avLst/>
            </a:prstGeom>
            <a:noFill/>
            <a:ln w="2844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2181240" y="3657600"/>
              <a:ext cx="3164040" cy="1676520"/>
            </a:xfrm>
            <a:prstGeom prst="pie">
              <a:avLst/>
            </a:prstGeom>
            <a:noFill/>
            <a:ln w="28440">
              <a:solidFill>
                <a:srgbClr val="a31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2181240" y="4267080"/>
              <a:ext cx="2390760" cy="1067040"/>
            </a:xfrm>
            <a:prstGeom prst="pie">
              <a:avLst/>
            </a:prstGeom>
            <a:noFill/>
            <a:ln w="28440">
              <a:solidFill>
                <a:srgbClr val="047c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 rot="1437000">
              <a:off x="5835960" y="35938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Arial"/>
                </a:rPr>
                <a:t>50 kVp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 rot="2157000">
              <a:off x="3371760" y="351144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99ccff"/>
                  </a:solidFill>
                  <a:latin typeface="Arial"/>
                </a:rPr>
                <a:t>70 </a:t>
              </a:r>
              <a:r>
                <a:rPr b="1" lang="fr-FR" sz="1600" spc="-1" strike="noStrike">
                  <a:solidFill>
                    <a:srgbClr val="99ccff"/>
                  </a:solidFill>
                  <a:latin typeface="Arial"/>
                </a:rPr>
                <a:t>kVp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 rot="1457400">
              <a:off x="3092760" y="4051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a31f09"/>
                  </a:solidFill>
                  <a:latin typeface="Arial"/>
                </a:rPr>
                <a:t>90 kVp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 rot="853800">
              <a:off x="2463840" y="4100040"/>
              <a:ext cx="89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17691b"/>
                  </a:solidFill>
                  <a:latin typeface="Arial"/>
                </a:rPr>
                <a:t>120</a:t>
              </a:r>
              <a:r>
                <a:rPr b="1" lang="fr-FR" sz="1400" spc="-1" strike="noStrike">
                  <a:solidFill>
                    <a:srgbClr val="17691b"/>
                  </a:solidFill>
                  <a:latin typeface="Arial"/>
                </a:rPr>
                <a:t> kVp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Text Box 22"/>
            <p:cNvSpPr/>
            <p:nvPr/>
          </p:nvSpPr>
          <p:spPr>
            <a:xfrm>
              <a:off x="4803840" y="38368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9900"/>
                  </a:solidFill>
                  <a:latin typeface="Arial"/>
                </a:rPr>
                <a:t>Inaceptabl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3868920" y="5715000"/>
              <a:ext cx="292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900"/>
                  </a:solidFill>
                  <a:latin typeface="Arial"/>
                </a:rPr>
                <a:t>Tiempo de exposición (s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 rot="16200000">
              <a:off x="153360" y="3691080"/>
              <a:ext cx="27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900"/>
                  </a:solidFill>
                  <a:latin typeface="Arial"/>
                </a:rPr>
                <a:t>Corriente del tubo (mA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5239080" y="1600200"/>
              <a:ext cx="3332520" cy="10674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Tubo de rayos X 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</a:t>
              </a: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rectificado en media ond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3000 rpm  90 kV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1.0 mm de mancha focal efectiv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AutoShape 30"/>
            <p:cNvSpPr/>
            <p:nvPr/>
          </p:nvSpPr>
          <p:spPr>
            <a:xfrm>
              <a:off x="4495680" y="3733920"/>
              <a:ext cx="457200" cy="457200"/>
            </a:xfrm>
            <a:prstGeom prst="pie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Line 31"/>
            <p:cNvSpPr/>
            <p:nvPr/>
          </p:nvSpPr>
          <p:spPr>
            <a:xfrm flipH="1">
              <a:off x="4876560" y="2666880"/>
              <a:ext cx="1143000" cy="1143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urvas de carga del tubo de rayos X (I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65400" y="1916280"/>
            <a:ext cx="7341840" cy="4185360"/>
            <a:chOff x="1265400" y="1916280"/>
            <a:chExt cx="7341840" cy="4185360"/>
          </a:xfrm>
        </p:grpSpPr>
        <p:sp>
          <p:nvSpPr>
            <p:cNvPr id="243" name="Rectangle 3"/>
            <p:cNvSpPr/>
            <p:nvPr/>
          </p:nvSpPr>
          <p:spPr>
            <a:xfrm>
              <a:off x="2209680" y="2133720"/>
              <a:ext cx="5203800" cy="3200400"/>
            </a:xfrm>
            <a:prstGeom prst="rect">
              <a:avLst/>
            </a:prstGeom>
            <a:noFill/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Rectangle 30"/>
            <p:cNvSpPr/>
            <p:nvPr/>
          </p:nvSpPr>
          <p:spPr>
            <a:xfrm>
              <a:off x="2209680" y="4572000"/>
              <a:ext cx="1462320" cy="7621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Text Box 6"/>
            <p:cNvSpPr/>
            <p:nvPr/>
          </p:nvSpPr>
          <p:spPr>
            <a:xfrm>
              <a:off x="1972080" y="5361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0.0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Text Box 7"/>
            <p:cNvSpPr/>
            <p:nvPr/>
          </p:nvSpPr>
          <p:spPr>
            <a:xfrm>
              <a:off x="2886480" y="5361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0.0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Text Box 8"/>
            <p:cNvSpPr/>
            <p:nvPr/>
          </p:nvSpPr>
          <p:spPr>
            <a:xfrm>
              <a:off x="351828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0.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Text Box 9"/>
            <p:cNvSpPr/>
            <p:nvPr/>
          </p:nvSpPr>
          <p:spPr>
            <a:xfrm>
              <a:off x="457380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513612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402600" y="53611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5.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7247520" y="5361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10.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4430880" y="2133720"/>
              <a:ext cx="2954160" cy="2209680"/>
            </a:xfrm>
            <a:prstGeom prst="pie">
              <a:avLst/>
            </a:pr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1675440" y="1928880"/>
              <a:ext cx="519120" cy="32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7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2181240" y="3809880"/>
              <a:ext cx="4008600" cy="1524240"/>
            </a:xfrm>
            <a:prstGeom prst="pie">
              <a:avLst/>
            </a:pr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Text Box 16"/>
            <p:cNvSpPr/>
            <p:nvPr/>
          </p:nvSpPr>
          <p:spPr>
            <a:xfrm rot="1747800">
              <a:off x="5552280" y="3368520"/>
              <a:ext cx="8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50</a:t>
              </a:r>
              <a:r>
                <a:rPr b="1" lang="en-GB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eaeaea"/>
                  </a:solidFill>
                  <a:latin typeface="Arial"/>
                </a:rPr>
                <a:t>kVp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 rot="2157000">
              <a:off x="3509280" y="322380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70 kV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8"/>
            <p:cNvSpPr/>
            <p:nvPr/>
          </p:nvSpPr>
          <p:spPr>
            <a:xfrm rot="1457400">
              <a:off x="3163680" y="357948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90 kV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9"/>
            <p:cNvSpPr/>
            <p:nvPr/>
          </p:nvSpPr>
          <p:spPr>
            <a:xfrm rot="622200">
              <a:off x="2809440" y="4062240"/>
              <a:ext cx="13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eaeaea"/>
                  </a:solidFill>
                  <a:latin typeface="Arial"/>
                </a:rPr>
                <a:t>125 kV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3810240" y="4495680"/>
              <a:ext cx="91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9900"/>
                  </a:solidFill>
                  <a:latin typeface="Arial"/>
                </a:rPr>
                <a:t>Aceptable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Text Box 21"/>
            <p:cNvSpPr/>
            <p:nvPr/>
          </p:nvSpPr>
          <p:spPr>
            <a:xfrm>
              <a:off x="3868200" y="5641920"/>
              <a:ext cx="38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Tiempo de exposición (s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 rot="16200000">
              <a:off x="-298080" y="3610440"/>
              <a:ext cx="35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aeaea"/>
                  </a:solidFill>
                  <a:latin typeface="Arial"/>
                </a:rPr>
                <a:t>Corriente del tubo (mA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2181240" y="2362320"/>
              <a:ext cx="5203800" cy="2184120"/>
            </a:xfrm>
            <a:prstGeom prst="pie">
              <a:avLst/>
            </a:pr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2157480" y="3035160"/>
              <a:ext cx="5227560" cy="2006640"/>
            </a:xfrm>
            <a:prstGeom prst="pie">
              <a:avLst/>
            </a:pr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Text Box 28"/>
            <p:cNvSpPr/>
            <p:nvPr/>
          </p:nvSpPr>
          <p:spPr>
            <a:xfrm>
              <a:off x="4500720" y="357192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9900"/>
                  </a:solidFill>
                  <a:latin typeface="Arial"/>
                </a:rPr>
                <a:t>Inaceptable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AutoShape 32"/>
            <p:cNvSpPr/>
            <p:nvPr/>
          </p:nvSpPr>
          <p:spPr>
            <a:xfrm>
              <a:off x="3429000" y="4343400"/>
              <a:ext cx="457200" cy="457200"/>
            </a:xfrm>
            <a:prstGeom prst="pie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H="1">
              <a:off x="3809880" y="3200400"/>
              <a:ext cx="1067040" cy="12193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248800" y="1916280"/>
              <a:ext cx="3358440" cy="10674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cd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Tubo de rayos X B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r>
                <a:rPr b="1" lang="en-GB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</a:t>
              </a: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 rectificado en onda complet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10.000 rpm  125 kV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1.0 mm mancha focal efectiv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urva de enfriamiento del ánodo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4120" y="1290240"/>
            <a:ext cx="76438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calor generado se almacena en el ánodo y se disipa a través del circuito de refrige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a curva de enfriamiento típica tien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urvas de entrada (unidades de calor almacenadas en función del tiempo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urva de enfriamiento del áno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gráfico siguiente muestra qu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 procedimiento que libera 500 HU/s puede continuar indefinidamen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i libera 1000 HU/s debe detenerse tras 10 mi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i el ánodo ha almacenado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120.000 HU, necesitará </a:t>
            </a:r>
            <a:r>
              <a:rPr b="0" lang="es-ES" sz="20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 5 min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ara enfriarse completamen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urva de enfriamiento del ánodo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370160" y="1171800"/>
            <a:ext cx="6934680" cy="5218200"/>
            <a:chOff x="1370160" y="1171800"/>
            <a:chExt cx="6934680" cy="5218200"/>
          </a:xfrm>
        </p:grpSpPr>
        <p:sp>
          <p:nvSpPr>
            <p:cNvPr id="272" name="Text Box 4"/>
            <p:cNvSpPr/>
            <p:nvPr/>
          </p:nvSpPr>
          <p:spPr>
            <a:xfrm>
              <a:off x="1854720" y="1676520"/>
              <a:ext cx="478080" cy="43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Text Box 5"/>
            <p:cNvSpPr/>
            <p:nvPr/>
          </p:nvSpPr>
          <p:spPr>
            <a:xfrm>
              <a:off x="3853800" y="5991120"/>
              <a:ext cx="33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Tiempo transcurrido (min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 rot="16200000">
              <a:off x="-931320" y="3473640"/>
              <a:ext cx="500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Unidades de calor  acumuladas (x 1000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480040" y="5680080"/>
              <a:ext cx="52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cd3c1"/>
                  </a:solidFill>
                  <a:latin typeface="Arial"/>
                </a:rPr>
                <a:t>1    2    3    4    5    6    7    8    9    10    11    12    13    1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 flipV="1">
              <a:off x="2333520" y="1771560"/>
              <a:ext cx="0" cy="3936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 flipH="1">
              <a:off x="2333520" y="5695920"/>
              <a:ext cx="4957920" cy="12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 flipV="1">
              <a:off x="7291440" y="1771560"/>
              <a:ext cx="0" cy="3936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286000" y="1752480"/>
              <a:ext cx="4994280" cy="3886200"/>
            </a:xfrm>
            <a:prstGeom prst="pie">
              <a:avLst/>
            </a:pr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Line 12"/>
            <p:cNvSpPr/>
            <p:nvPr/>
          </p:nvSpPr>
          <p:spPr>
            <a:xfrm flipH="1">
              <a:off x="2309760" y="1790640"/>
              <a:ext cx="4959360" cy="12600"/>
            </a:xfrm>
            <a:prstGeom prst="line">
              <a:avLst/>
            </a:prstGeom>
            <a:ln cap="rnd" w="2844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2379600" y="1790640"/>
              <a:ext cx="4853160" cy="3886200"/>
            </a:xfrm>
            <a:prstGeom prst="pie">
              <a:avLst/>
            </a:prstGeom>
            <a:noFill/>
            <a:ln w="2844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2379600" y="2400480"/>
              <a:ext cx="4924440" cy="3276360"/>
            </a:xfrm>
            <a:prstGeom prst="pie">
              <a:avLst/>
            </a:prstGeom>
            <a:noFill/>
            <a:ln w="2844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2379600" y="3314880"/>
              <a:ext cx="4924440" cy="2361960"/>
            </a:xfrm>
            <a:prstGeom prst="pie">
              <a:avLst/>
            </a:prstGeom>
            <a:noFill/>
            <a:ln w="2844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2379600" y="4000680"/>
              <a:ext cx="4924440" cy="1676160"/>
            </a:xfrm>
            <a:prstGeom prst="pie">
              <a:avLst/>
            </a:prstGeom>
            <a:noFill/>
            <a:ln w="28440">
              <a:solidFill>
                <a:srgbClr val="fcd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 rot="20284800">
              <a:off x="3574800" y="247932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500 HU/se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 rot="20280000">
              <a:off x="3290040" y="192528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1000 HU/se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Text Box 19"/>
            <p:cNvSpPr/>
            <p:nvPr/>
          </p:nvSpPr>
          <p:spPr>
            <a:xfrm rot="20884800">
              <a:off x="4207680" y="339048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350 HU/se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Text Box 20"/>
            <p:cNvSpPr/>
            <p:nvPr/>
          </p:nvSpPr>
          <p:spPr>
            <a:xfrm rot="21119400">
              <a:off x="4771440" y="384768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250 HU/sec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 rot="21506400">
              <a:off x="5313960" y="216828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Curva de entrad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 rot="1693200">
              <a:off x="3915000" y="455256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cd3c1"/>
                  </a:solidFill>
                  <a:latin typeface="Arial"/>
                </a:rPr>
                <a:t>Curva de enfriamient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Text Box 23"/>
            <p:cNvSpPr/>
            <p:nvPr/>
          </p:nvSpPr>
          <p:spPr>
            <a:xfrm>
              <a:off x="1836000" y="1268280"/>
              <a:ext cx="64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cc"/>
                  </a:solidFill>
                  <a:latin typeface="Arial"/>
                </a:rPr>
                <a:t>Máxima capacidad de almacenamiento de calor del ánod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V="1">
              <a:off x="3962520" y="3809880"/>
              <a:ext cx="0" cy="1905120"/>
            </a:xfrm>
            <a:prstGeom prst="line">
              <a:avLst/>
            </a:prstGeom>
            <a:ln w="28440">
              <a:solidFill>
                <a:srgbClr val="a31f0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61960" y="3809880"/>
              <a:ext cx="1600200" cy="0"/>
            </a:xfrm>
            <a:prstGeom prst="line">
              <a:avLst/>
            </a:prstGeom>
            <a:ln w="28440">
              <a:solidFill>
                <a:srgbClr val="a31f0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em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1057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ementos básicos de una unidad de rayos 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ructura del cáto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ructura del áno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urvas de carg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Generador de rayos 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trol automático de exposi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6: Producción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5: Generador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53964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Generador de rayos X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(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755640" y="1413000"/>
            <a:ext cx="76327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3040" indent="-473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Suministra al tubo de rayos X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rriente para calentar el filamento del cátod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tencial para acelerar los electr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ntrol de exposición automática (tiempo de aplicación de potenc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uministro de energía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1000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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energía del haz de rayos X (de la cual, el 99.9% se disipa como energía térmic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825480" y="1295280"/>
            <a:ext cx="756288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s características del generador tienen una gran influencia en el contraste y la agudeza de la imagen radiogr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érdida de agudeza por movimiento puede reducirse mucho con un generador que permita un tiempo de exposición tan corto como sea factib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ado que la dosis en el plano de la imagen puede expresarse como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D = k</a:t>
            </a:r>
            <a:r>
              <a:rPr b="1" lang="es-ES" sz="2400" spc="-1" strike="noStrike" baseline="-25000">
                <a:solidFill>
                  <a:srgbClr val="ff9900"/>
                </a:solidFill>
                <a:latin typeface="Arial"/>
              </a:rPr>
              <a:t>0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Times New Roman"/>
              </a:rPr>
              <a:t>•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U</a:t>
            </a:r>
            <a:r>
              <a:rPr b="1" lang="es-ES" sz="2400" spc="-1" strike="noStrike" baseline="30000">
                <a:solidFill>
                  <a:srgbClr val="ff99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00"/>
                </a:solidFill>
                <a:latin typeface="Times New Roman"/>
              </a:rPr>
              <a:t>•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I </a:t>
            </a:r>
            <a:r>
              <a:rPr b="1" lang="es-ES" sz="2400" spc="-1" strike="noStrike">
                <a:solidFill>
                  <a:srgbClr val="ff9900"/>
                </a:solidFill>
                <a:latin typeface="Times New Roman"/>
              </a:rPr>
              <a:t>•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U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oltaje de pico (kV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corriente media (m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iempo de exposición (m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ariable desde alrededor de 1.5 hasta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Generador de rayos X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(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533520" y="1341360"/>
            <a:ext cx="82152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valor del voltaje de pico tiene influencia en la dureza del ha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iene que relacionarse con la cuestión méd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¿cuál es la estructura anatómica a investiga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¿cuál es el nivel de contraste necesari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ara una exploración de tórax: 140 - 150 kV son adecuados para visualizar la estructura pulmona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ero solo se necesitan 65 kV para ver una estructura óse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rizado “r” de un generador </a:t>
            </a:r>
            <a:r>
              <a:rPr b="0" lang="es-ES" sz="2800" spc="-1" strike="noStrike" u="sng">
                <a:solidFill>
                  <a:srgbClr val="ff9900"/>
                </a:solidFill>
                <a:uFillTx/>
                <a:latin typeface="Arial"/>
              </a:rPr>
              <a:t>debe ser lo más bajo posi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 = [(U - U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/U] </a:t>
            </a:r>
            <a:r>
              <a:rPr b="0" lang="en-US" sz="2800" spc="-1" strike="noStrike">
                <a:solidFill>
                  <a:srgbClr val="eaeaea"/>
                </a:solidFill>
                <a:latin typeface="Wingdings 2"/>
                <a:ea typeface="Wingdings 2"/>
              </a:rPr>
              <a:t>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100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Generador de rayos X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(I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500040" y="-76320"/>
            <a:ext cx="79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orma de onda de la alta tensión (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341360"/>
            <a:ext cx="76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Generadores convencional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Arial"/>
              </a:rPr>
              <a:t>Monofásico de 1 pulso (dentales y algunos sistemas móvile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Arial"/>
              </a:rPr>
              <a:t>Monofásicos de 2 pulsos (rectificados en onda completa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Arial"/>
              </a:rPr>
              <a:t>Trifásicos de 6 puls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ccff"/>
                </a:solidFill>
                <a:latin typeface="Arial"/>
              </a:rPr>
              <a:t>Trifásicos de 12 pulsos</a:t>
            </a:r>
            <a:r>
              <a:rPr b="0" lang="es-ES" sz="2200" spc="-1" strike="noStrike">
                <a:solidFill>
                  <a:srgbClr val="17691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Generadores de potencial constante (CP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Generadores de alta frecuencia (HF). Usan convertidores de frecuencia (“choppers”) para pasar de 50Hz de la red alterna a voltajes con frecuencias en el rango de kHz </a:t>
            </a:r>
            <a:r>
              <a:rPr b="0" lang="es-E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 “Tecnología de inversión”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-720" y="1523880"/>
            <a:ext cx="8593560" cy="4744800"/>
            <a:chOff x="-720" y="1523880"/>
            <a:chExt cx="8593560" cy="4744800"/>
          </a:xfrm>
        </p:grpSpPr>
        <p:sp>
          <p:nvSpPr>
            <p:cNvPr id="306" name="Text Box 2"/>
            <p:cNvSpPr/>
            <p:nvPr/>
          </p:nvSpPr>
          <p:spPr>
            <a:xfrm>
              <a:off x="2251800" y="2514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Text Box 3"/>
            <p:cNvSpPr/>
            <p:nvPr/>
          </p:nvSpPr>
          <p:spPr>
            <a:xfrm>
              <a:off x="2287080" y="30481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13%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2363760" y="38098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4%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-720" y="5300640"/>
              <a:ext cx="314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Tensión de alimentación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2462040" y="1600200"/>
              <a:ext cx="169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5063400" y="1752480"/>
              <a:ext cx="30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Monofásico media ond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5132520" y="2666880"/>
              <a:ext cx="34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Monofásico onda complet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5063040" y="3429000"/>
              <a:ext cx="271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Trifásico de 6 puls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5132520" y="4191120"/>
              <a:ext cx="28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eaeaea"/>
                  </a:solidFill>
                  <a:latin typeface="Arial"/>
                </a:rPr>
                <a:t>Trifásico de 12 puls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4926600" y="58831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0.02 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6" name="Group 12"/>
            <p:cNvGrpSpPr/>
            <p:nvPr/>
          </p:nvGrpSpPr>
          <p:grpSpPr>
            <a:xfrm>
              <a:off x="3048120" y="2300400"/>
              <a:ext cx="2251080" cy="3229920"/>
              <a:chOff x="3048120" y="2300400"/>
              <a:chExt cx="2251080" cy="3229920"/>
            </a:xfrm>
          </p:grpSpPr>
          <p:sp>
            <p:nvSpPr>
              <p:cNvPr id="317" name="Line 13"/>
              <p:cNvSpPr/>
              <p:nvPr/>
            </p:nvSpPr>
            <p:spPr>
              <a:xfrm>
                <a:off x="3048120" y="2300400"/>
                <a:ext cx="2251080" cy="0"/>
              </a:xfrm>
              <a:prstGeom prst="line">
                <a:avLst/>
              </a:prstGeom>
              <a:ln w="12600">
                <a:solidFill>
                  <a:srgbClr val="a31f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18" name="Group 14"/>
              <p:cNvGrpSpPr/>
              <p:nvPr/>
            </p:nvGrpSpPr>
            <p:grpSpPr>
              <a:xfrm>
                <a:off x="3048120" y="3107880"/>
                <a:ext cx="2251080" cy="2422440"/>
                <a:chOff x="3048120" y="3107880"/>
                <a:chExt cx="2251080" cy="2422440"/>
              </a:xfrm>
            </p:grpSpPr>
            <p:sp>
              <p:nvSpPr>
                <p:cNvPr id="319" name="Line 15"/>
                <p:cNvSpPr/>
                <p:nvPr/>
              </p:nvSpPr>
              <p:spPr>
                <a:xfrm>
                  <a:off x="3048120" y="3107880"/>
                  <a:ext cx="2251080" cy="0"/>
                </a:xfrm>
                <a:prstGeom prst="line">
                  <a:avLst/>
                </a:prstGeom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16"/>
                <p:cNvSpPr/>
                <p:nvPr/>
              </p:nvSpPr>
              <p:spPr>
                <a:xfrm>
                  <a:off x="3048120" y="3915360"/>
                  <a:ext cx="2251080" cy="0"/>
                </a:xfrm>
                <a:prstGeom prst="line">
                  <a:avLst/>
                </a:prstGeom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7"/>
                <p:cNvSpPr/>
                <p:nvPr/>
              </p:nvSpPr>
              <p:spPr>
                <a:xfrm>
                  <a:off x="3048120" y="4722840"/>
                  <a:ext cx="2248920" cy="0"/>
                </a:xfrm>
                <a:prstGeom prst="line">
                  <a:avLst/>
                </a:prstGeom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8"/>
                <p:cNvSpPr/>
                <p:nvPr/>
              </p:nvSpPr>
              <p:spPr>
                <a:xfrm>
                  <a:off x="3048120" y="5530320"/>
                  <a:ext cx="2251080" cy="0"/>
                </a:xfrm>
                <a:prstGeom prst="line">
                  <a:avLst/>
                </a:prstGeom>
                <a:ln w="12600">
                  <a:solidFill>
                    <a:srgbClr val="a31f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Group 19"/>
            <p:cNvGrpSpPr/>
            <p:nvPr/>
          </p:nvGrpSpPr>
          <p:grpSpPr>
            <a:xfrm>
              <a:off x="3052800" y="1544760"/>
              <a:ext cx="971640" cy="738000"/>
              <a:chOff x="3052800" y="1544760"/>
              <a:chExt cx="971640" cy="738000"/>
            </a:xfrm>
          </p:grpSpPr>
          <p:sp>
            <p:nvSpPr>
              <p:cNvPr id="324" name="Freeform 20"/>
              <p:cNvSpPr/>
              <p:nvPr/>
            </p:nvSpPr>
            <p:spPr>
              <a:xfrm>
                <a:off x="3052800" y="1544760"/>
                <a:ext cx="488160" cy="733320"/>
              </a:xfrm>
              <a:prstGeom prst="pie">
                <a:avLst/>
              </a:prstGeom>
              <a:noFill/>
              <a:ln w="25560">
                <a:solidFill>
                  <a:srgbClr val="a31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Freeform 21"/>
              <p:cNvSpPr/>
              <p:nvPr/>
            </p:nvSpPr>
            <p:spPr>
              <a:xfrm>
                <a:off x="3540960" y="1544760"/>
                <a:ext cx="483480" cy="738000"/>
              </a:xfrm>
              <a:prstGeom prst="pie">
                <a:avLst/>
              </a:prstGeom>
              <a:noFill/>
              <a:ln w="25560">
                <a:solidFill>
                  <a:srgbClr val="a31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2"/>
            <p:cNvGrpSpPr/>
            <p:nvPr/>
          </p:nvGrpSpPr>
          <p:grpSpPr>
            <a:xfrm>
              <a:off x="3048120" y="2371680"/>
              <a:ext cx="1936440" cy="738360"/>
              <a:chOff x="3048120" y="2371680"/>
              <a:chExt cx="1936440" cy="738360"/>
            </a:xfrm>
          </p:grpSpPr>
          <p:grpSp>
            <p:nvGrpSpPr>
              <p:cNvPr id="327" name="Group 23"/>
              <p:cNvGrpSpPr/>
              <p:nvPr/>
            </p:nvGrpSpPr>
            <p:grpSpPr>
              <a:xfrm>
                <a:off x="4012920" y="2371680"/>
                <a:ext cx="971640" cy="738360"/>
                <a:chOff x="4012920" y="2371680"/>
                <a:chExt cx="971640" cy="738360"/>
              </a:xfrm>
            </p:grpSpPr>
            <p:sp>
              <p:nvSpPr>
                <p:cNvPr id="328" name="Freeform 24"/>
                <p:cNvSpPr/>
                <p:nvPr/>
              </p:nvSpPr>
              <p:spPr>
                <a:xfrm>
                  <a:off x="4012920" y="2371680"/>
                  <a:ext cx="488160" cy="73368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25"/>
                <p:cNvSpPr/>
                <p:nvPr/>
              </p:nvSpPr>
              <p:spPr>
                <a:xfrm>
                  <a:off x="4501080" y="2371680"/>
                  <a:ext cx="483480" cy="73836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26"/>
              <p:cNvGrpSpPr/>
              <p:nvPr/>
            </p:nvGrpSpPr>
            <p:grpSpPr>
              <a:xfrm>
                <a:off x="3048120" y="2371680"/>
                <a:ext cx="971640" cy="738360"/>
                <a:chOff x="3048120" y="2371680"/>
                <a:chExt cx="971640" cy="738360"/>
              </a:xfrm>
            </p:grpSpPr>
            <p:sp>
              <p:nvSpPr>
                <p:cNvPr id="331" name="Freeform 27"/>
                <p:cNvSpPr/>
                <p:nvPr/>
              </p:nvSpPr>
              <p:spPr>
                <a:xfrm>
                  <a:off x="3048120" y="2371680"/>
                  <a:ext cx="488160" cy="73368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28"/>
                <p:cNvSpPr/>
                <p:nvPr/>
              </p:nvSpPr>
              <p:spPr>
                <a:xfrm>
                  <a:off x="3536280" y="2371680"/>
                  <a:ext cx="483480" cy="73836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3" name="Group 29"/>
            <p:cNvGrpSpPr/>
            <p:nvPr/>
          </p:nvGrpSpPr>
          <p:grpSpPr>
            <a:xfrm>
              <a:off x="3048120" y="3197160"/>
              <a:ext cx="1898280" cy="135000"/>
              <a:chOff x="3048120" y="3197160"/>
              <a:chExt cx="1898280" cy="135000"/>
            </a:xfrm>
          </p:grpSpPr>
          <p:grpSp>
            <p:nvGrpSpPr>
              <p:cNvPr id="334" name="Group 30"/>
              <p:cNvGrpSpPr/>
              <p:nvPr/>
            </p:nvGrpSpPr>
            <p:grpSpPr>
              <a:xfrm>
                <a:off x="3048120" y="3197160"/>
                <a:ext cx="948600" cy="135000"/>
                <a:chOff x="3048120" y="3197160"/>
                <a:chExt cx="948600" cy="135000"/>
              </a:xfrm>
            </p:grpSpPr>
            <p:grpSp>
              <p:nvGrpSpPr>
                <p:cNvPr id="335" name="Group 31"/>
                <p:cNvGrpSpPr/>
                <p:nvPr/>
              </p:nvGrpSpPr>
              <p:grpSpPr>
                <a:xfrm>
                  <a:off x="3363120" y="3197160"/>
                  <a:ext cx="316800" cy="135000"/>
                  <a:chOff x="3363120" y="3197160"/>
                  <a:chExt cx="316800" cy="135000"/>
                </a:xfrm>
              </p:grpSpPr>
              <p:sp>
                <p:nvSpPr>
                  <p:cNvPr id="336" name="Freeform 32"/>
                  <p:cNvSpPr/>
                  <p:nvPr/>
                </p:nvSpPr>
                <p:spPr>
                  <a:xfrm>
                    <a:off x="3363120" y="3197160"/>
                    <a:ext cx="159120" cy="13428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33"/>
                  <p:cNvSpPr/>
                  <p:nvPr/>
                </p:nvSpPr>
                <p:spPr>
                  <a:xfrm>
                    <a:off x="3522240" y="3197160"/>
                    <a:ext cx="157680" cy="13500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Group 34"/>
                <p:cNvGrpSpPr/>
                <p:nvPr/>
              </p:nvGrpSpPr>
              <p:grpSpPr>
                <a:xfrm>
                  <a:off x="3048120" y="3197160"/>
                  <a:ext cx="316800" cy="135000"/>
                  <a:chOff x="3048120" y="3197160"/>
                  <a:chExt cx="316800" cy="135000"/>
                </a:xfrm>
              </p:grpSpPr>
              <p:sp>
                <p:nvSpPr>
                  <p:cNvPr id="339" name="Freeform 35"/>
                  <p:cNvSpPr/>
                  <p:nvPr/>
                </p:nvSpPr>
                <p:spPr>
                  <a:xfrm>
                    <a:off x="3048120" y="3197160"/>
                    <a:ext cx="159120" cy="13428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Freeform 36"/>
                  <p:cNvSpPr/>
                  <p:nvPr/>
                </p:nvSpPr>
                <p:spPr>
                  <a:xfrm>
                    <a:off x="3207240" y="3197160"/>
                    <a:ext cx="157680" cy="13500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Group 37"/>
                <p:cNvGrpSpPr/>
                <p:nvPr/>
              </p:nvGrpSpPr>
              <p:grpSpPr>
                <a:xfrm>
                  <a:off x="3679920" y="3197160"/>
                  <a:ext cx="316800" cy="135000"/>
                  <a:chOff x="3679920" y="3197160"/>
                  <a:chExt cx="316800" cy="135000"/>
                </a:xfrm>
              </p:grpSpPr>
              <p:sp>
                <p:nvSpPr>
                  <p:cNvPr id="342" name="Freeform 38"/>
                  <p:cNvSpPr/>
                  <p:nvPr/>
                </p:nvSpPr>
                <p:spPr>
                  <a:xfrm>
                    <a:off x="3679920" y="3197160"/>
                    <a:ext cx="159120" cy="13428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Freeform 39"/>
                  <p:cNvSpPr/>
                  <p:nvPr/>
                </p:nvSpPr>
                <p:spPr>
                  <a:xfrm>
                    <a:off x="3839040" y="3197160"/>
                    <a:ext cx="157680" cy="13500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Group 40"/>
              <p:cNvGrpSpPr/>
              <p:nvPr/>
            </p:nvGrpSpPr>
            <p:grpSpPr>
              <a:xfrm>
                <a:off x="3997800" y="3197160"/>
                <a:ext cx="948600" cy="135000"/>
                <a:chOff x="3997800" y="3197160"/>
                <a:chExt cx="948600" cy="135000"/>
              </a:xfrm>
            </p:grpSpPr>
            <p:grpSp>
              <p:nvGrpSpPr>
                <p:cNvPr id="345" name="Group 41"/>
                <p:cNvGrpSpPr/>
                <p:nvPr/>
              </p:nvGrpSpPr>
              <p:grpSpPr>
                <a:xfrm>
                  <a:off x="4312800" y="3197160"/>
                  <a:ext cx="316800" cy="135000"/>
                  <a:chOff x="4312800" y="3197160"/>
                  <a:chExt cx="316800" cy="135000"/>
                </a:xfrm>
              </p:grpSpPr>
              <p:sp>
                <p:nvSpPr>
                  <p:cNvPr id="346" name="Freeform 42"/>
                  <p:cNvSpPr/>
                  <p:nvPr/>
                </p:nvSpPr>
                <p:spPr>
                  <a:xfrm>
                    <a:off x="4312800" y="3197160"/>
                    <a:ext cx="159120" cy="13428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Freeform 43"/>
                  <p:cNvSpPr/>
                  <p:nvPr/>
                </p:nvSpPr>
                <p:spPr>
                  <a:xfrm>
                    <a:off x="4471920" y="3197160"/>
                    <a:ext cx="157680" cy="13500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" name="Group 44"/>
                <p:cNvGrpSpPr/>
                <p:nvPr/>
              </p:nvGrpSpPr>
              <p:grpSpPr>
                <a:xfrm>
                  <a:off x="3997800" y="3197160"/>
                  <a:ext cx="316800" cy="135000"/>
                  <a:chOff x="3997800" y="3197160"/>
                  <a:chExt cx="316800" cy="135000"/>
                </a:xfrm>
              </p:grpSpPr>
              <p:sp>
                <p:nvSpPr>
                  <p:cNvPr id="349" name="Freeform 45"/>
                  <p:cNvSpPr/>
                  <p:nvPr/>
                </p:nvSpPr>
                <p:spPr>
                  <a:xfrm>
                    <a:off x="3997800" y="3197160"/>
                    <a:ext cx="159120" cy="13428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Freeform 46"/>
                  <p:cNvSpPr/>
                  <p:nvPr/>
                </p:nvSpPr>
                <p:spPr>
                  <a:xfrm>
                    <a:off x="4156920" y="3197160"/>
                    <a:ext cx="157680" cy="13500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Group 47"/>
                <p:cNvGrpSpPr/>
                <p:nvPr/>
              </p:nvGrpSpPr>
              <p:grpSpPr>
                <a:xfrm>
                  <a:off x="4629600" y="3197160"/>
                  <a:ext cx="316800" cy="135000"/>
                  <a:chOff x="4629600" y="3197160"/>
                  <a:chExt cx="316800" cy="135000"/>
                </a:xfrm>
              </p:grpSpPr>
              <p:sp>
                <p:nvSpPr>
                  <p:cNvPr id="352" name="Freeform 48"/>
                  <p:cNvSpPr/>
                  <p:nvPr/>
                </p:nvSpPr>
                <p:spPr>
                  <a:xfrm>
                    <a:off x="4629600" y="3197160"/>
                    <a:ext cx="159120" cy="13428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9"/>
                  <p:cNvSpPr/>
                  <p:nvPr/>
                </p:nvSpPr>
                <p:spPr>
                  <a:xfrm>
                    <a:off x="4788720" y="3197160"/>
                    <a:ext cx="157680" cy="135000"/>
                  </a:xfrm>
                  <a:prstGeom prst="pie">
                    <a:avLst/>
                  </a:prstGeom>
                  <a:noFill/>
                  <a:ln w="25560">
                    <a:solidFill>
                      <a:srgbClr val="a31f0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4" name="Group 50"/>
            <p:cNvGrpSpPr/>
            <p:nvPr/>
          </p:nvGrpSpPr>
          <p:grpSpPr>
            <a:xfrm>
              <a:off x="3048120" y="4021200"/>
              <a:ext cx="1898280" cy="66600"/>
              <a:chOff x="3048120" y="4021200"/>
              <a:chExt cx="1898280" cy="66600"/>
            </a:xfrm>
          </p:grpSpPr>
          <p:grpSp>
            <p:nvGrpSpPr>
              <p:cNvPr id="355" name="Group 51"/>
              <p:cNvGrpSpPr/>
              <p:nvPr/>
            </p:nvGrpSpPr>
            <p:grpSpPr>
              <a:xfrm>
                <a:off x="3048120" y="4021200"/>
                <a:ext cx="948960" cy="66600"/>
                <a:chOff x="3048120" y="4021200"/>
                <a:chExt cx="948960" cy="66600"/>
              </a:xfrm>
            </p:grpSpPr>
            <p:grpSp>
              <p:nvGrpSpPr>
                <p:cNvPr id="356" name="Group 52"/>
                <p:cNvGrpSpPr/>
                <p:nvPr/>
              </p:nvGrpSpPr>
              <p:grpSpPr>
                <a:xfrm>
                  <a:off x="3048120" y="4021200"/>
                  <a:ext cx="474120" cy="66600"/>
                  <a:chOff x="3048120" y="4021200"/>
                  <a:chExt cx="474120" cy="66600"/>
                </a:xfrm>
              </p:grpSpPr>
              <p:grpSp>
                <p:nvGrpSpPr>
                  <p:cNvPr id="357" name="Group 53"/>
                  <p:cNvGrpSpPr/>
                  <p:nvPr/>
                </p:nvGrpSpPr>
                <p:grpSpPr>
                  <a:xfrm>
                    <a:off x="3205440" y="4021200"/>
                    <a:ext cx="158400" cy="66600"/>
                    <a:chOff x="3205440" y="4021200"/>
                    <a:chExt cx="158400" cy="66600"/>
                  </a:xfrm>
                </p:grpSpPr>
                <p:sp>
                  <p:nvSpPr>
                    <p:cNvPr id="358" name="Freeform 54"/>
                    <p:cNvSpPr/>
                    <p:nvPr/>
                  </p:nvSpPr>
                  <p:spPr>
                    <a:xfrm>
                      <a:off x="320544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Freeform 55"/>
                    <p:cNvSpPr/>
                    <p:nvPr/>
                  </p:nvSpPr>
                  <p:spPr>
                    <a:xfrm>
                      <a:off x="328500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" name="Group 56"/>
                  <p:cNvGrpSpPr/>
                  <p:nvPr/>
                </p:nvGrpSpPr>
                <p:grpSpPr>
                  <a:xfrm>
                    <a:off x="3048120" y="4021200"/>
                    <a:ext cx="158400" cy="66600"/>
                    <a:chOff x="3048120" y="4021200"/>
                    <a:chExt cx="158400" cy="66600"/>
                  </a:xfrm>
                </p:grpSpPr>
                <p:sp>
                  <p:nvSpPr>
                    <p:cNvPr id="361" name="Freeform 57"/>
                    <p:cNvSpPr/>
                    <p:nvPr/>
                  </p:nvSpPr>
                  <p:spPr>
                    <a:xfrm>
                      <a:off x="304812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58"/>
                    <p:cNvSpPr/>
                    <p:nvPr/>
                  </p:nvSpPr>
                  <p:spPr>
                    <a:xfrm>
                      <a:off x="312768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" name="Group 59"/>
                  <p:cNvGrpSpPr/>
                  <p:nvPr/>
                </p:nvGrpSpPr>
                <p:grpSpPr>
                  <a:xfrm>
                    <a:off x="3363840" y="4021200"/>
                    <a:ext cx="158400" cy="66600"/>
                    <a:chOff x="3363840" y="4021200"/>
                    <a:chExt cx="158400" cy="66600"/>
                  </a:xfrm>
                </p:grpSpPr>
                <p:sp>
                  <p:nvSpPr>
                    <p:cNvPr id="364" name="Freeform 60"/>
                    <p:cNvSpPr/>
                    <p:nvPr/>
                  </p:nvSpPr>
                  <p:spPr>
                    <a:xfrm>
                      <a:off x="336384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Freeform 61"/>
                    <p:cNvSpPr/>
                    <p:nvPr/>
                  </p:nvSpPr>
                  <p:spPr>
                    <a:xfrm>
                      <a:off x="344340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66" name="Group 62"/>
                <p:cNvGrpSpPr/>
                <p:nvPr/>
              </p:nvGrpSpPr>
              <p:grpSpPr>
                <a:xfrm>
                  <a:off x="3522960" y="4021200"/>
                  <a:ext cx="474120" cy="66600"/>
                  <a:chOff x="3522960" y="4021200"/>
                  <a:chExt cx="474120" cy="66600"/>
                </a:xfrm>
              </p:grpSpPr>
              <p:grpSp>
                <p:nvGrpSpPr>
                  <p:cNvPr id="367" name="Group 63"/>
                  <p:cNvGrpSpPr/>
                  <p:nvPr/>
                </p:nvGrpSpPr>
                <p:grpSpPr>
                  <a:xfrm>
                    <a:off x="3680280" y="4021200"/>
                    <a:ext cx="158400" cy="66600"/>
                    <a:chOff x="3680280" y="4021200"/>
                    <a:chExt cx="158400" cy="66600"/>
                  </a:xfrm>
                </p:grpSpPr>
                <p:sp>
                  <p:nvSpPr>
                    <p:cNvPr id="368" name="Freeform 64"/>
                    <p:cNvSpPr/>
                    <p:nvPr/>
                  </p:nvSpPr>
                  <p:spPr>
                    <a:xfrm>
                      <a:off x="368028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Freeform 65"/>
                    <p:cNvSpPr/>
                    <p:nvPr/>
                  </p:nvSpPr>
                  <p:spPr>
                    <a:xfrm>
                      <a:off x="375984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0" name="Group 66"/>
                  <p:cNvGrpSpPr/>
                  <p:nvPr/>
                </p:nvGrpSpPr>
                <p:grpSpPr>
                  <a:xfrm>
                    <a:off x="3522960" y="4021200"/>
                    <a:ext cx="158400" cy="66600"/>
                    <a:chOff x="3522960" y="4021200"/>
                    <a:chExt cx="158400" cy="66600"/>
                  </a:xfrm>
                </p:grpSpPr>
                <p:sp>
                  <p:nvSpPr>
                    <p:cNvPr id="371" name="Freeform 67"/>
                    <p:cNvSpPr/>
                    <p:nvPr/>
                  </p:nvSpPr>
                  <p:spPr>
                    <a:xfrm>
                      <a:off x="352296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Freeform 68"/>
                    <p:cNvSpPr/>
                    <p:nvPr/>
                  </p:nvSpPr>
                  <p:spPr>
                    <a:xfrm>
                      <a:off x="360252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3" name="Group 69"/>
                  <p:cNvGrpSpPr/>
                  <p:nvPr/>
                </p:nvGrpSpPr>
                <p:grpSpPr>
                  <a:xfrm>
                    <a:off x="3838680" y="4021200"/>
                    <a:ext cx="158400" cy="66600"/>
                    <a:chOff x="3838680" y="4021200"/>
                    <a:chExt cx="158400" cy="66600"/>
                  </a:xfrm>
                </p:grpSpPr>
                <p:sp>
                  <p:nvSpPr>
                    <p:cNvPr id="374" name="Freeform 70"/>
                    <p:cNvSpPr/>
                    <p:nvPr/>
                  </p:nvSpPr>
                  <p:spPr>
                    <a:xfrm>
                      <a:off x="383868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Freeform 71"/>
                    <p:cNvSpPr/>
                    <p:nvPr/>
                  </p:nvSpPr>
                  <p:spPr>
                    <a:xfrm>
                      <a:off x="391824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6" name="Group 72"/>
              <p:cNvGrpSpPr/>
              <p:nvPr/>
            </p:nvGrpSpPr>
            <p:grpSpPr>
              <a:xfrm>
                <a:off x="3997440" y="4021200"/>
                <a:ext cx="948960" cy="66600"/>
                <a:chOff x="3997440" y="4021200"/>
                <a:chExt cx="948960" cy="66600"/>
              </a:xfrm>
            </p:grpSpPr>
            <p:grpSp>
              <p:nvGrpSpPr>
                <p:cNvPr id="377" name="Group 73"/>
                <p:cNvGrpSpPr/>
                <p:nvPr/>
              </p:nvGrpSpPr>
              <p:grpSpPr>
                <a:xfrm>
                  <a:off x="3997440" y="4021200"/>
                  <a:ext cx="474120" cy="66600"/>
                  <a:chOff x="3997440" y="4021200"/>
                  <a:chExt cx="474120" cy="66600"/>
                </a:xfrm>
              </p:grpSpPr>
              <p:grpSp>
                <p:nvGrpSpPr>
                  <p:cNvPr id="378" name="Group 74"/>
                  <p:cNvGrpSpPr/>
                  <p:nvPr/>
                </p:nvGrpSpPr>
                <p:grpSpPr>
                  <a:xfrm>
                    <a:off x="4154760" y="4021200"/>
                    <a:ext cx="158400" cy="66600"/>
                    <a:chOff x="4154760" y="4021200"/>
                    <a:chExt cx="158400" cy="66600"/>
                  </a:xfrm>
                </p:grpSpPr>
                <p:sp>
                  <p:nvSpPr>
                    <p:cNvPr id="379" name="Freeform 75"/>
                    <p:cNvSpPr/>
                    <p:nvPr/>
                  </p:nvSpPr>
                  <p:spPr>
                    <a:xfrm>
                      <a:off x="415476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Freeform 76"/>
                    <p:cNvSpPr/>
                    <p:nvPr/>
                  </p:nvSpPr>
                  <p:spPr>
                    <a:xfrm>
                      <a:off x="423432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1" name="Group 77"/>
                  <p:cNvGrpSpPr/>
                  <p:nvPr/>
                </p:nvGrpSpPr>
                <p:grpSpPr>
                  <a:xfrm>
                    <a:off x="3997440" y="4021200"/>
                    <a:ext cx="158400" cy="66600"/>
                    <a:chOff x="3997440" y="4021200"/>
                    <a:chExt cx="158400" cy="66600"/>
                  </a:xfrm>
                </p:grpSpPr>
                <p:sp>
                  <p:nvSpPr>
                    <p:cNvPr id="382" name="Freeform 78"/>
                    <p:cNvSpPr/>
                    <p:nvPr/>
                  </p:nvSpPr>
                  <p:spPr>
                    <a:xfrm>
                      <a:off x="399744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Freeform 79"/>
                    <p:cNvSpPr/>
                    <p:nvPr/>
                  </p:nvSpPr>
                  <p:spPr>
                    <a:xfrm>
                      <a:off x="407700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4" name="Group 80"/>
                  <p:cNvGrpSpPr/>
                  <p:nvPr/>
                </p:nvGrpSpPr>
                <p:grpSpPr>
                  <a:xfrm>
                    <a:off x="4313160" y="4021200"/>
                    <a:ext cx="158400" cy="66600"/>
                    <a:chOff x="4313160" y="4021200"/>
                    <a:chExt cx="158400" cy="66600"/>
                  </a:xfrm>
                </p:grpSpPr>
                <p:sp>
                  <p:nvSpPr>
                    <p:cNvPr id="385" name="Freeform 81"/>
                    <p:cNvSpPr/>
                    <p:nvPr/>
                  </p:nvSpPr>
                  <p:spPr>
                    <a:xfrm>
                      <a:off x="431316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Freeform 82"/>
                    <p:cNvSpPr/>
                    <p:nvPr/>
                  </p:nvSpPr>
                  <p:spPr>
                    <a:xfrm>
                      <a:off x="439272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7" name="Group 83"/>
                <p:cNvGrpSpPr/>
                <p:nvPr/>
              </p:nvGrpSpPr>
              <p:grpSpPr>
                <a:xfrm>
                  <a:off x="4472280" y="4021200"/>
                  <a:ext cx="474120" cy="66600"/>
                  <a:chOff x="4472280" y="4021200"/>
                  <a:chExt cx="474120" cy="66600"/>
                </a:xfrm>
              </p:grpSpPr>
              <p:grpSp>
                <p:nvGrpSpPr>
                  <p:cNvPr id="388" name="Group 84"/>
                  <p:cNvGrpSpPr/>
                  <p:nvPr/>
                </p:nvGrpSpPr>
                <p:grpSpPr>
                  <a:xfrm>
                    <a:off x="4629600" y="4021200"/>
                    <a:ext cx="158400" cy="66600"/>
                    <a:chOff x="4629600" y="4021200"/>
                    <a:chExt cx="158400" cy="66600"/>
                  </a:xfrm>
                </p:grpSpPr>
                <p:sp>
                  <p:nvSpPr>
                    <p:cNvPr id="389" name="Freeform 85"/>
                    <p:cNvSpPr/>
                    <p:nvPr/>
                  </p:nvSpPr>
                  <p:spPr>
                    <a:xfrm>
                      <a:off x="462960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86"/>
                    <p:cNvSpPr/>
                    <p:nvPr/>
                  </p:nvSpPr>
                  <p:spPr>
                    <a:xfrm>
                      <a:off x="470916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Group 87"/>
                  <p:cNvGrpSpPr/>
                  <p:nvPr/>
                </p:nvGrpSpPr>
                <p:grpSpPr>
                  <a:xfrm>
                    <a:off x="4472280" y="4021200"/>
                    <a:ext cx="158400" cy="66600"/>
                    <a:chOff x="4472280" y="4021200"/>
                    <a:chExt cx="158400" cy="66600"/>
                  </a:xfrm>
                </p:grpSpPr>
                <p:sp>
                  <p:nvSpPr>
                    <p:cNvPr id="392" name="Freeform 88"/>
                    <p:cNvSpPr/>
                    <p:nvPr/>
                  </p:nvSpPr>
                  <p:spPr>
                    <a:xfrm>
                      <a:off x="447228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89"/>
                    <p:cNvSpPr/>
                    <p:nvPr/>
                  </p:nvSpPr>
                  <p:spPr>
                    <a:xfrm>
                      <a:off x="455184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Group 90"/>
                  <p:cNvGrpSpPr/>
                  <p:nvPr/>
                </p:nvGrpSpPr>
                <p:grpSpPr>
                  <a:xfrm>
                    <a:off x="4788000" y="4021200"/>
                    <a:ext cx="158400" cy="66600"/>
                    <a:chOff x="4788000" y="4021200"/>
                    <a:chExt cx="158400" cy="66600"/>
                  </a:xfrm>
                </p:grpSpPr>
                <p:sp>
                  <p:nvSpPr>
                    <p:cNvPr id="395" name="Freeform 91"/>
                    <p:cNvSpPr/>
                    <p:nvPr/>
                  </p:nvSpPr>
                  <p:spPr>
                    <a:xfrm>
                      <a:off x="4788000" y="4021200"/>
                      <a:ext cx="79560" cy="6624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800" bIns="19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92"/>
                    <p:cNvSpPr/>
                    <p:nvPr/>
                  </p:nvSpPr>
                  <p:spPr>
                    <a:xfrm>
                      <a:off x="4867560" y="4021200"/>
                      <a:ext cx="78840" cy="66600"/>
                    </a:xfrm>
                    <a:prstGeom prst="pie">
                      <a:avLst/>
                    </a:prstGeom>
                    <a:noFill/>
                    <a:ln w="25560">
                      <a:solidFill>
                        <a:srgbClr val="a31f0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97" name="Group 93"/>
            <p:cNvGrpSpPr/>
            <p:nvPr/>
          </p:nvGrpSpPr>
          <p:grpSpPr>
            <a:xfrm>
              <a:off x="3048120" y="4813200"/>
              <a:ext cx="1944000" cy="1455480"/>
              <a:chOff x="3048120" y="4813200"/>
              <a:chExt cx="1944000" cy="1455480"/>
            </a:xfrm>
          </p:grpSpPr>
          <p:grpSp>
            <p:nvGrpSpPr>
              <p:cNvPr id="398" name="Group 94"/>
              <p:cNvGrpSpPr/>
              <p:nvPr/>
            </p:nvGrpSpPr>
            <p:grpSpPr>
              <a:xfrm>
                <a:off x="3048120" y="4813200"/>
                <a:ext cx="970920" cy="737280"/>
                <a:chOff x="3048120" y="4813200"/>
                <a:chExt cx="970920" cy="737280"/>
              </a:xfrm>
            </p:grpSpPr>
            <p:sp>
              <p:nvSpPr>
                <p:cNvPr id="399" name="Freeform 95"/>
                <p:cNvSpPr/>
                <p:nvPr/>
              </p:nvSpPr>
              <p:spPr>
                <a:xfrm>
                  <a:off x="3048120" y="4813200"/>
                  <a:ext cx="487800" cy="73260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96"/>
                <p:cNvSpPr/>
                <p:nvPr/>
              </p:nvSpPr>
              <p:spPr>
                <a:xfrm>
                  <a:off x="3535920" y="4813200"/>
                  <a:ext cx="483120" cy="73728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97"/>
              <p:cNvGrpSpPr/>
              <p:nvPr/>
            </p:nvGrpSpPr>
            <p:grpSpPr>
              <a:xfrm>
                <a:off x="4015080" y="5531400"/>
                <a:ext cx="977040" cy="737280"/>
                <a:chOff x="4015080" y="5531400"/>
                <a:chExt cx="977040" cy="737280"/>
              </a:xfrm>
            </p:grpSpPr>
            <p:sp>
              <p:nvSpPr>
                <p:cNvPr id="402" name="Freeform 98"/>
                <p:cNvSpPr/>
                <p:nvPr/>
              </p:nvSpPr>
              <p:spPr>
                <a:xfrm>
                  <a:off x="4015080" y="5537160"/>
                  <a:ext cx="493560" cy="73116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99"/>
                <p:cNvSpPr/>
                <p:nvPr/>
              </p:nvSpPr>
              <p:spPr>
                <a:xfrm flipV="1">
                  <a:off x="4508640" y="5531400"/>
                  <a:ext cx="483480" cy="737280"/>
                </a:xfrm>
                <a:prstGeom prst="pie">
                  <a:avLst/>
                </a:prstGeom>
                <a:noFill/>
                <a:ln w="25560">
                  <a:solidFill>
                    <a:srgbClr val="a31f0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4" name="Line 100"/>
            <p:cNvSpPr/>
            <p:nvPr/>
          </p:nvSpPr>
          <p:spPr>
            <a:xfrm>
              <a:off x="4998960" y="1582560"/>
              <a:ext cx="0" cy="394812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Text Box 101"/>
            <p:cNvSpPr/>
            <p:nvPr/>
          </p:nvSpPr>
          <p:spPr>
            <a:xfrm>
              <a:off x="3402720" y="54849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Arial"/>
                </a:rPr>
                <a:t>0.01 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Line 102"/>
            <p:cNvSpPr/>
            <p:nvPr/>
          </p:nvSpPr>
          <p:spPr>
            <a:xfrm>
              <a:off x="3048120" y="4776840"/>
              <a:ext cx="0" cy="75564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Line 103"/>
            <p:cNvSpPr/>
            <p:nvPr/>
          </p:nvSpPr>
          <p:spPr>
            <a:xfrm>
              <a:off x="3048120" y="3162240"/>
              <a:ext cx="0" cy="75744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Line 104"/>
            <p:cNvSpPr/>
            <p:nvPr/>
          </p:nvSpPr>
          <p:spPr>
            <a:xfrm>
              <a:off x="3048120" y="2354400"/>
              <a:ext cx="0" cy="75708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Line 105"/>
            <p:cNvSpPr/>
            <p:nvPr/>
          </p:nvSpPr>
          <p:spPr>
            <a:xfrm>
              <a:off x="3048120" y="1523880"/>
              <a:ext cx="0" cy="75744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Line 106"/>
            <p:cNvSpPr/>
            <p:nvPr/>
          </p:nvSpPr>
          <p:spPr>
            <a:xfrm>
              <a:off x="3048120" y="3965400"/>
              <a:ext cx="0" cy="75744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  <a:head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Line 107"/>
            <p:cNvSpPr/>
            <p:nvPr/>
          </p:nvSpPr>
          <p:spPr>
            <a:xfrm>
              <a:off x="4022640" y="2300400"/>
              <a:ext cx="0" cy="3240000"/>
            </a:xfrm>
            <a:prstGeom prst="line">
              <a:avLst/>
            </a:prstGeom>
            <a:ln w="12600">
              <a:solidFill>
                <a:srgbClr val="a31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Text Box 108"/>
            <p:cNvSpPr/>
            <p:nvPr/>
          </p:nvSpPr>
          <p:spPr>
            <a:xfrm>
              <a:off x="754560" y="1844640"/>
              <a:ext cx="23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Arial"/>
                </a:rPr>
                <a:t>Rizado del kV (%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3" name="Rectangle 109"/>
          <p:cNvSpPr/>
          <p:nvPr/>
        </p:nvSpPr>
        <p:spPr>
          <a:xfrm>
            <a:off x="428760" y="-76320"/>
            <a:ext cx="80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orma de onda de la alta tensión </a:t>
            </a: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(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lección del número de pulsos (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689040" y="1523880"/>
            <a:ext cx="79153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aeaea"/>
                </a:solidFill>
                <a:latin typeface="Arial"/>
              </a:rPr>
              <a:t>Monofásico 1 pulso: baja potencia (&lt;2 kW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aeaea"/>
                </a:solidFill>
                <a:latin typeface="Arial"/>
              </a:rPr>
              <a:t>Monofásico 2 pulsos: baja y media potencia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aeaea"/>
                </a:solidFill>
                <a:latin typeface="Arial"/>
              </a:rPr>
              <a:t>6 pulsos: usa alimentación trifásica, media y alta potencia (compensación automática o manual de caídas de tensión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aeaea"/>
                </a:solidFill>
                <a:latin typeface="Arial"/>
              </a:rPr>
              <a:t>12 pulsos: usa dos sistemas trifásicos defasados, alta potencia hasta 150 kW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1268280"/>
            <a:ext cx="81342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P: elimina cambios de tensión o de corriente del tub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Los reguladores de alta tensión pueden controlar el voltaje </a:t>
            </a:r>
            <a:r>
              <a:rPr b="0" lang="es-ES" sz="22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0" lang="es-ES" sz="2200" spc="-1" strike="noStrike">
                <a:solidFill>
                  <a:srgbClr val="047c0d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poner en marcha o cortar la exposició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El voltaje puede ponerse en marcha en cualquier momento (resolución temporal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El rizado del kV &lt; 2% lo que supone baja exposición al paci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F: combina las ventajas del generador de potencial constante y del convenciona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Reproducibilidad y consistencia de la alta tensión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</a:rPr>
              <a:t>Posibilidad de alto ritmo de producción de imágenes (en cine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lección del número de pulsos (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6: Producción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6: Control automático de exposición (AEC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57200" y="304920"/>
            <a:ext cx="834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Control automático de exposició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800280" y="1447920"/>
            <a:ext cx="758808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ección óptima de parámetros técnicos para evitar exposiciones repetidas (kV, 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tector de radiación detrás o frente al chasis (con la debida correcció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exposición se corta cuando la dosis requerida ha sido integr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pensación de kVp para cada espeso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pensación por espesor a cada kV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811160"/>
            <a:ext cx="630576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los principios tecnológicos de la producción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Control automático de exposició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5" name="Group 65"/>
          <p:cNvGrpSpPr/>
          <p:nvPr/>
        </p:nvGrpSpPr>
        <p:grpSpPr>
          <a:xfrm>
            <a:off x="2057400" y="1447920"/>
            <a:ext cx="5686200" cy="4529160"/>
            <a:chOff x="2057400" y="1447920"/>
            <a:chExt cx="5686200" cy="4529160"/>
          </a:xfrm>
        </p:grpSpPr>
        <p:grpSp>
          <p:nvGrpSpPr>
            <p:cNvPr id="426" name="Group 3"/>
            <p:cNvGrpSpPr/>
            <p:nvPr/>
          </p:nvGrpSpPr>
          <p:grpSpPr>
            <a:xfrm>
              <a:off x="2057400" y="1447920"/>
              <a:ext cx="3956400" cy="4529160"/>
              <a:chOff x="2057400" y="1447920"/>
              <a:chExt cx="3956400" cy="4529160"/>
            </a:xfrm>
          </p:grpSpPr>
          <p:pic>
            <p:nvPicPr>
              <p:cNvPr id="4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6480" y="1536840"/>
                <a:ext cx="698040" cy="3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Rectangle 5"/>
              <p:cNvSpPr/>
              <p:nvPr/>
            </p:nvSpPr>
            <p:spPr>
              <a:xfrm>
                <a:off x="4022640" y="1447920"/>
                <a:ext cx="153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cd3c1"/>
                    </a:solidFill>
                    <a:latin typeface="Arial"/>
                  </a:rPr>
                  <a:t>Tubo rayos X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2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524040" y="1838160"/>
                <a:ext cx="291600" cy="2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Line 7"/>
              <p:cNvSpPr/>
              <p:nvPr/>
            </p:nvSpPr>
            <p:spPr>
              <a:xfrm flipH="1">
                <a:off x="2838240" y="2162160"/>
                <a:ext cx="702720" cy="24573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Line 8"/>
              <p:cNvSpPr/>
              <p:nvPr/>
            </p:nvSpPr>
            <p:spPr>
              <a:xfrm>
                <a:off x="3789000" y="2165400"/>
                <a:ext cx="717120" cy="2444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Line 9"/>
              <p:cNvSpPr/>
              <p:nvPr/>
            </p:nvSpPr>
            <p:spPr>
              <a:xfrm>
                <a:off x="3650760" y="2147760"/>
                <a:ext cx="0" cy="2432160"/>
              </a:xfrm>
              <a:prstGeom prst="line">
                <a:avLst/>
              </a:prstGeom>
              <a:ln w="324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Rectangle 10"/>
              <p:cNvSpPr/>
              <p:nvPr/>
            </p:nvSpPr>
            <p:spPr>
              <a:xfrm>
                <a:off x="4152600" y="1798560"/>
                <a:ext cx="121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cd3c1"/>
                    </a:solidFill>
                    <a:latin typeface="Arial"/>
                  </a:rPr>
                  <a:t>Colimador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Rectangle 11"/>
              <p:cNvSpPr/>
              <p:nvPr/>
            </p:nvSpPr>
            <p:spPr>
              <a:xfrm>
                <a:off x="4319640" y="2433600"/>
                <a:ext cx="58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cd3c1"/>
                    </a:solidFill>
                    <a:latin typeface="Arial"/>
                  </a:rPr>
                  <a:t>Haz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Oval 12"/>
              <p:cNvSpPr/>
              <p:nvPr/>
            </p:nvSpPr>
            <p:spPr>
              <a:xfrm rot="5400000">
                <a:off x="3198600" y="3369600"/>
                <a:ext cx="1015920" cy="2194920"/>
              </a:xfrm>
              <a:prstGeom prst="ellipse">
                <a:avLst/>
              </a:prstGeom>
              <a:solidFill>
                <a:srgbClr val="fe9b03"/>
              </a:soli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Freeform 13"/>
              <p:cNvSpPr/>
              <p:nvPr/>
            </p:nvSpPr>
            <p:spPr>
              <a:xfrm rot="5400000">
                <a:off x="3752280" y="4618080"/>
                <a:ext cx="145800" cy="205920"/>
              </a:xfrm>
              <a:prstGeom prst="pie">
                <a:avLst/>
              </a:prstGeom>
              <a:solidFill>
                <a:srgbClr val="ffff00"/>
              </a:solidFill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Text Box 14"/>
              <p:cNvSpPr/>
              <p:nvPr/>
            </p:nvSpPr>
            <p:spPr>
              <a:xfrm>
                <a:off x="3325320" y="3978360"/>
                <a:ext cx="76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cd3c1"/>
                    </a:solidFill>
                    <a:latin typeface="Arial"/>
                  </a:rPr>
                  <a:t>Tejid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cd3c1"/>
                    </a:solidFill>
                    <a:latin typeface="Arial"/>
                  </a:rPr>
                  <a:t>bland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Line 15"/>
              <p:cNvSpPr/>
              <p:nvPr/>
            </p:nvSpPr>
            <p:spPr>
              <a:xfrm flipH="1">
                <a:off x="2831400" y="4140360"/>
                <a:ext cx="550440" cy="7696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Line 16"/>
              <p:cNvSpPr/>
              <p:nvPr/>
            </p:nvSpPr>
            <p:spPr>
              <a:xfrm>
                <a:off x="3831840" y="4177440"/>
                <a:ext cx="748800" cy="7988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Line 17"/>
              <p:cNvSpPr/>
              <p:nvPr/>
            </p:nvSpPr>
            <p:spPr>
              <a:xfrm flipH="1">
                <a:off x="4296600" y="4645080"/>
                <a:ext cx="131400" cy="36180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Line 18"/>
              <p:cNvSpPr/>
              <p:nvPr/>
            </p:nvSpPr>
            <p:spPr>
              <a:xfrm>
                <a:off x="2674440" y="4436280"/>
                <a:ext cx="963360" cy="60660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Line 19"/>
              <p:cNvSpPr/>
              <p:nvPr/>
            </p:nvSpPr>
            <p:spPr>
              <a:xfrm>
                <a:off x="3449160" y="4599720"/>
                <a:ext cx="517320" cy="4510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Line 20"/>
              <p:cNvSpPr/>
              <p:nvPr/>
            </p:nvSpPr>
            <p:spPr>
              <a:xfrm>
                <a:off x="3614400" y="4481640"/>
                <a:ext cx="493200" cy="5032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Line 21"/>
              <p:cNvSpPr/>
              <p:nvPr/>
            </p:nvSpPr>
            <p:spPr>
              <a:xfrm>
                <a:off x="3177720" y="4879440"/>
                <a:ext cx="526680" cy="298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Line 22"/>
              <p:cNvSpPr/>
              <p:nvPr/>
            </p:nvSpPr>
            <p:spPr>
              <a:xfrm flipH="1">
                <a:off x="3250440" y="4295880"/>
                <a:ext cx="550440" cy="76968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46" name="Group 23"/>
              <p:cNvGrpSpPr/>
              <p:nvPr/>
            </p:nvGrpSpPr>
            <p:grpSpPr>
              <a:xfrm>
                <a:off x="2948760" y="4314960"/>
                <a:ext cx="1333080" cy="457200"/>
                <a:chOff x="2948760" y="4314960"/>
                <a:chExt cx="1333080" cy="457200"/>
              </a:xfrm>
            </p:grpSpPr>
            <p:sp>
              <p:nvSpPr>
                <p:cNvPr id="447" name="Freeform 24"/>
                <p:cNvSpPr/>
                <p:nvPr/>
              </p:nvSpPr>
              <p:spPr>
                <a:xfrm rot="5400000">
                  <a:off x="3862800" y="4353120"/>
                  <a:ext cx="457200" cy="380520"/>
                </a:xfrm>
                <a:prstGeom prst="pie">
                  <a:avLst/>
                </a:prstGeom>
                <a:solidFill>
                  <a:srgbClr val="ffff00"/>
                </a:solidFill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25"/>
                <p:cNvSpPr/>
                <p:nvPr/>
              </p:nvSpPr>
              <p:spPr>
                <a:xfrm rot="5400000">
                  <a:off x="3002760" y="4261320"/>
                  <a:ext cx="262800" cy="371160"/>
                </a:xfrm>
                <a:prstGeom prst="pie">
                  <a:avLst/>
                </a:prstGeom>
                <a:solidFill>
                  <a:srgbClr val="99ccff"/>
                </a:solidFill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Text Box 26"/>
              <p:cNvSpPr/>
              <p:nvPr/>
            </p:nvSpPr>
            <p:spPr>
              <a:xfrm>
                <a:off x="3843720" y="4386240"/>
                <a:ext cx="7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cd3c1"/>
                    </a:solidFill>
                    <a:latin typeface="Arial"/>
                  </a:rPr>
                  <a:t>Hueso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Text Box 27"/>
              <p:cNvSpPr/>
              <p:nvPr/>
            </p:nvSpPr>
            <p:spPr>
              <a:xfrm>
                <a:off x="3007080" y="4265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cd3c1"/>
                    </a:solidFill>
                    <a:latin typeface="Arial"/>
                  </a:rPr>
                  <a:t>Aire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Rectangle 28"/>
              <p:cNvSpPr/>
              <p:nvPr/>
            </p:nvSpPr>
            <p:spPr>
              <a:xfrm>
                <a:off x="2057400" y="4971960"/>
                <a:ext cx="3282480" cy="120600"/>
              </a:xfrm>
              <a:prstGeom prst="rect">
                <a:avLst/>
              </a:prstGeom>
              <a:solidFill>
                <a:srgbClr val="66ff49"/>
              </a:solidFill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Rectangle 29"/>
              <p:cNvSpPr/>
              <p:nvPr/>
            </p:nvSpPr>
            <p:spPr>
              <a:xfrm>
                <a:off x="4782240" y="4108320"/>
                <a:ext cx="106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cd3c1"/>
                    </a:solidFill>
                    <a:latin typeface="Arial"/>
                  </a:rPr>
                  <a:t>Paciente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Rectangle 30"/>
              <p:cNvSpPr/>
              <p:nvPr/>
            </p:nvSpPr>
            <p:spPr>
              <a:xfrm>
                <a:off x="5275440" y="465156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cd3c1"/>
                    </a:solidFill>
                    <a:latin typeface="Arial"/>
                  </a:rPr>
                  <a:t>Mesa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54" name="Group 31"/>
              <p:cNvGrpSpPr/>
              <p:nvPr/>
            </p:nvGrpSpPr>
            <p:grpSpPr>
              <a:xfrm>
                <a:off x="2358720" y="5178600"/>
                <a:ext cx="2779200" cy="125640"/>
                <a:chOff x="2358720" y="5178600"/>
                <a:chExt cx="2779200" cy="125640"/>
              </a:xfrm>
            </p:grpSpPr>
            <p:sp>
              <p:nvSpPr>
                <p:cNvPr id="455" name="Line 32"/>
                <p:cNvSpPr/>
                <p:nvPr/>
              </p:nvSpPr>
              <p:spPr>
                <a:xfrm flipH="1">
                  <a:off x="2395440" y="5178600"/>
                  <a:ext cx="2690640" cy="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33"/>
                <p:cNvSpPr/>
                <p:nvPr/>
              </p:nvSpPr>
              <p:spPr>
                <a:xfrm flipH="1">
                  <a:off x="2358720" y="5300640"/>
                  <a:ext cx="2779200" cy="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4"/>
                <p:cNvSpPr/>
                <p:nvPr/>
              </p:nvSpPr>
              <p:spPr>
                <a:xfrm>
                  <a:off x="4907160" y="5180040"/>
                  <a:ext cx="37440" cy="11916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35"/>
                <p:cNvSpPr/>
                <p:nvPr/>
              </p:nvSpPr>
              <p:spPr>
                <a:xfrm>
                  <a:off x="4773960" y="5180040"/>
                  <a:ext cx="37800" cy="11916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36"/>
                <p:cNvSpPr/>
                <p:nvPr/>
              </p:nvSpPr>
              <p:spPr>
                <a:xfrm>
                  <a:off x="4640760" y="5180040"/>
                  <a:ext cx="37800" cy="11916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37"/>
                <p:cNvSpPr/>
                <p:nvPr/>
              </p:nvSpPr>
              <p:spPr>
                <a:xfrm>
                  <a:off x="4507200" y="5180040"/>
                  <a:ext cx="37800" cy="11916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38"/>
                <p:cNvSpPr/>
                <p:nvPr/>
              </p:nvSpPr>
              <p:spPr>
                <a:xfrm>
                  <a:off x="4391280" y="5180040"/>
                  <a:ext cx="20520" cy="11592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39"/>
                <p:cNvSpPr/>
                <p:nvPr/>
              </p:nvSpPr>
              <p:spPr>
                <a:xfrm>
                  <a:off x="4257720" y="5180040"/>
                  <a:ext cx="20160" cy="11592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0"/>
                <p:cNvSpPr/>
                <p:nvPr/>
              </p:nvSpPr>
              <p:spPr>
                <a:xfrm>
                  <a:off x="4124520" y="5180040"/>
                  <a:ext cx="20160" cy="11592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41"/>
                <p:cNvSpPr/>
                <p:nvPr/>
              </p:nvSpPr>
              <p:spPr>
                <a:xfrm>
                  <a:off x="3990960" y="5180040"/>
                  <a:ext cx="20160" cy="11592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42"/>
                <p:cNvSpPr/>
                <p:nvPr/>
              </p:nvSpPr>
              <p:spPr>
                <a:xfrm>
                  <a:off x="3865320" y="5180040"/>
                  <a:ext cx="0" cy="11592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43"/>
                <p:cNvSpPr/>
                <p:nvPr/>
              </p:nvSpPr>
              <p:spPr>
                <a:xfrm>
                  <a:off x="3731760" y="5180040"/>
                  <a:ext cx="0" cy="11592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44"/>
                <p:cNvSpPr/>
                <p:nvPr/>
              </p:nvSpPr>
              <p:spPr>
                <a:xfrm>
                  <a:off x="3598560" y="5180040"/>
                  <a:ext cx="0" cy="11592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Line 45"/>
                <p:cNvSpPr/>
                <p:nvPr/>
              </p:nvSpPr>
              <p:spPr>
                <a:xfrm flipH="1">
                  <a:off x="3458880" y="5184720"/>
                  <a:ext cx="18360" cy="11484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Line 46"/>
                <p:cNvSpPr/>
                <p:nvPr/>
              </p:nvSpPr>
              <p:spPr>
                <a:xfrm flipH="1">
                  <a:off x="3324960" y="5184720"/>
                  <a:ext cx="18720" cy="11448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7"/>
                <p:cNvSpPr/>
                <p:nvPr/>
              </p:nvSpPr>
              <p:spPr>
                <a:xfrm flipH="1">
                  <a:off x="3191760" y="5184720"/>
                  <a:ext cx="18720" cy="11448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48"/>
                <p:cNvSpPr/>
                <p:nvPr/>
              </p:nvSpPr>
              <p:spPr>
                <a:xfrm flipH="1">
                  <a:off x="3058920" y="5184720"/>
                  <a:ext cx="18360" cy="11484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49"/>
                <p:cNvSpPr/>
                <p:nvPr/>
              </p:nvSpPr>
              <p:spPr>
                <a:xfrm flipH="1">
                  <a:off x="2904840" y="5184360"/>
                  <a:ext cx="33840" cy="11988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50"/>
                <p:cNvSpPr/>
                <p:nvPr/>
              </p:nvSpPr>
              <p:spPr>
                <a:xfrm flipH="1">
                  <a:off x="2771640" y="5184360"/>
                  <a:ext cx="34200" cy="11988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51"/>
                <p:cNvSpPr/>
                <p:nvPr/>
              </p:nvSpPr>
              <p:spPr>
                <a:xfrm flipH="1">
                  <a:off x="2638440" y="5184360"/>
                  <a:ext cx="34200" cy="11988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52"/>
                <p:cNvSpPr/>
                <p:nvPr/>
              </p:nvSpPr>
              <p:spPr>
                <a:xfrm flipH="1">
                  <a:off x="2504880" y="5184360"/>
                  <a:ext cx="33840" cy="11988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53"/>
                <p:cNvSpPr/>
                <p:nvPr/>
              </p:nvSpPr>
              <p:spPr>
                <a:xfrm>
                  <a:off x="5007240" y="5180040"/>
                  <a:ext cx="37800" cy="119160"/>
                </a:xfrm>
                <a:prstGeom prst="line">
                  <a:avLst/>
                </a:prstGeom>
                <a:ln w="28440">
                  <a:solidFill>
                    <a:srgbClr val="641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Rectangle 54"/>
              <p:cNvSpPr/>
              <p:nvPr/>
            </p:nvSpPr>
            <p:spPr>
              <a:xfrm>
                <a:off x="5317920" y="5027760"/>
                <a:ext cx="6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cd3c1"/>
                    </a:solidFill>
                    <a:latin typeface="Arial"/>
                  </a:rPr>
                  <a:t>Reja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78" name="Group 55"/>
              <p:cNvGrpSpPr/>
              <p:nvPr/>
            </p:nvGrpSpPr>
            <p:grpSpPr>
              <a:xfrm>
                <a:off x="2298240" y="5445000"/>
                <a:ext cx="2884320" cy="239760"/>
                <a:chOff x="2298240" y="5445000"/>
                <a:chExt cx="2884320" cy="239760"/>
              </a:xfrm>
            </p:grpSpPr>
            <p:sp>
              <p:nvSpPr>
                <p:cNvPr id="479" name="Rectangle 56"/>
                <p:cNvSpPr/>
                <p:nvPr/>
              </p:nvSpPr>
              <p:spPr>
                <a:xfrm>
                  <a:off x="2303280" y="5524920"/>
                  <a:ext cx="2873160" cy="79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Rectangle 57"/>
                <p:cNvSpPr/>
                <p:nvPr/>
              </p:nvSpPr>
              <p:spPr>
                <a:xfrm>
                  <a:off x="2298240" y="5445000"/>
                  <a:ext cx="2884320" cy="79920"/>
                </a:xfrm>
                <a:prstGeom prst="rect">
                  <a:avLst/>
                </a:prstGeom>
                <a:solidFill>
                  <a:srgbClr val="ff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Rectangle 58"/>
                <p:cNvSpPr/>
                <p:nvPr/>
              </p:nvSpPr>
              <p:spPr>
                <a:xfrm>
                  <a:off x="2298240" y="5604840"/>
                  <a:ext cx="2884320" cy="79920"/>
                </a:xfrm>
                <a:prstGeom prst="rect">
                  <a:avLst/>
                </a:prstGeom>
                <a:solidFill>
                  <a:srgbClr val="ff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Rectangle 59"/>
              <p:cNvSpPr/>
              <p:nvPr/>
            </p:nvSpPr>
            <p:spPr>
              <a:xfrm>
                <a:off x="5093280" y="560880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cd3c1"/>
                    </a:solidFill>
                    <a:latin typeface="Arial"/>
                  </a:rPr>
                  <a:t>Chasis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83" name="Group 60"/>
              <p:cNvGrpSpPr/>
              <p:nvPr/>
            </p:nvGrpSpPr>
            <p:grpSpPr>
              <a:xfrm>
                <a:off x="2935080" y="5349960"/>
                <a:ext cx="1637280" cy="42840"/>
                <a:chOff x="2935080" y="5349960"/>
                <a:chExt cx="1637280" cy="42840"/>
              </a:xfrm>
            </p:grpSpPr>
            <p:sp>
              <p:nvSpPr>
                <p:cNvPr id="484" name="Rectangle 61"/>
                <p:cNvSpPr/>
                <p:nvPr/>
              </p:nvSpPr>
              <p:spPr>
                <a:xfrm>
                  <a:off x="2935080" y="5349960"/>
                  <a:ext cx="661680" cy="42840"/>
                </a:xfrm>
                <a:prstGeom prst="rect">
                  <a:avLst/>
                </a:prstGeom>
                <a:solidFill>
                  <a:srgbClr val="e2131b"/>
                </a:solidFill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Rectangle 62"/>
                <p:cNvSpPr/>
                <p:nvPr/>
              </p:nvSpPr>
              <p:spPr>
                <a:xfrm>
                  <a:off x="3910680" y="5349960"/>
                  <a:ext cx="661680" cy="42840"/>
                </a:xfrm>
                <a:prstGeom prst="rect">
                  <a:avLst/>
                </a:prstGeom>
                <a:solidFill>
                  <a:srgbClr val="e2131b"/>
                </a:solidFill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6" name="Line 63"/>
            <p:cNvSpPr/>
            <p:nvPr/>
          </p:nvSpPr>
          <p:spPr>
            <a:xfrm flipH="1" flipV="1">
              <a:off x="4723920" y="5410080"/>
              <a:ext cx="999720" cy="4320"/>
            </a:xfrm>
            <a:prstGeom prst="line">
              <a:avLst/>
            </a:prstGeom>
            <a:ln w="28440">
              <a:solidFill>
                <a:srgbClr val="e2131b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Rectangle 64"/>
            <p:cNvSpPr/>
            <p:nvPr/>
          </p:nvSpPr>
          <p:spPr>
            <a:xfrm>
              <a:off x="5444640" y="525780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cd3c1"/>
                  </a:solidFill>
                  <a:latin typeface="Arial"/>
                </a:rPr>
                <a:t>Detectores del AE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685800" y="-7920"/>
            <a:ext cx="77724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Arial"/>
              </a:rPr>
              <a:t>Control automático de exposició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833400" y="1447920"/>
            <a:ext cx="748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ección óptima de parámetros técnicos para evitar exposiciones repetidas (kV, m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tector de radiación detrás o frente al chasis (con la debida correcció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exposición se corta cuando la dosis requerida ha sido integr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pensación de kVp para cada espeso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pensación por espesor a cada kV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6: Producción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7: Modos de operación del equipo d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57200" y="304920"/>
            <a:ext cx="834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Modo de operación del equipo de rayos X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y aplicaciones (I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685800" y="1125360"/>
            <a:ext cx="79185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adiografía y tomograf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Generadores monofásicos y trifásicos (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tecnología de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inversión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30 kW a 0.3 mm de tamaño de mancha f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50 - 70 kW a 1.0 mm de tamaño de mancha f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elección de kV y mAs, AEC</a:t>
            </a:r>
            <a:br>
              <a:rPr sz="1800"/>
            </a:b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adiografía y fluoroscop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Equipos bajo la mesa de exploración, generadores trifásicos (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tecnología de inversión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) – salida continua de 300 - 500 W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50 kW a 1.0 mm de tamaño de foco para graf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30 kW at 0.6 mm de tamaño de foco para fluoroscopia (alta resolució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on prioridad al contras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elección automática del kV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"/>
              </a:rPr>
              <a:t>Modo de operación del equipo de rayos X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y aplicación (II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741240" y="1371600"/>
            <a:ext cx="793440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adiografía y fluoroscop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Equipo sobre la mesa de exploración, generador trifásico (</a:t>
            </a:r>
            <a:r>
              <a:rPr b="0" lang="es-ES" sz="1800" spc="-1" strike="noStrike">
                <a:solidFill>
                  <a:srgbClr val="ff9900"/>
                </a:solidFill>
                <a:latin typeface="Arial"/>
              </a:rPr>
              <a:t>tecnología de inversión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) – salida continua de 500 W, al men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40 kW a 0.6 mm de tamaño de foco en graf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70 kW a 1.0 mm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de tamaño de foco para fluoroscopia (alta resolució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ioridad al contras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elección automática de kV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ngiografía cardiaca</a:t>
            </a: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Generador trifásico – salida continua </a:t>
            </a:r>
            <a:r>
              <a:rPr b="0" lang="es-ES" sz="20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1kW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30 kW a 0.4 mm de tamaño de fo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salida: 80 kW a 0.8 mm de tamaño de foc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asa de filmación: hasta 120 imágenes (fr)/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1440" y="148392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elementos principales que contribuyen a la deseada producción de rayos X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uministran la necesaria fuente de pot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tregan un espectro de rayos X adecu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seguran el ajuste óptimo de la exposición para garantizar la calidad de la ima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7040" y="18288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quipment for diagnostic radiology, E. Forster, MTP Press, 199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PSM Report 32, part 1, X-ray tubes and genera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spcAft>
                <a:spcPts val="99"/>
              </a:spcAft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he Essential Physics of Medical Imaging, Williams and Wilkins. Baltimore:199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ojas de datos de fabricantes de tubos de rayos X diferen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6: Producción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Elementos básicos de una unidad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28600" y="304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lementos básicos de una unidad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5760" y="1341360"/>
            <a:ext cx="474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nerador: circuito de potencia que suministra el potencial requerido al tubo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ubo de rayos X y colimador: dispositivo que produce el haz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299200" y="1971720"/>
            <a:ext cx="3305160" cy="291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ubos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2867040" y="1371600"/>
            <a:ext cx="3409920" cy="472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mponentes del tubo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2709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Cátod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filamento que, al calentarse, es la fuente del haz de electrones dirigido hacia el áno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filamento de wolframi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Ánod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(estacionario o rotatorio): recibe el impacto de los electrones y emite rayos X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Vidrio (o metal) que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ncapsula el tub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(los electrones se mueven en vací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Material de blindaj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(protección frente a la radiación dispers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omponentes del tubo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29240" y="5229360"/>
            <a:ext cx="43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: filamento de wolframio larg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: filamento de wolframio cor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3: cátodo de tamaño re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7800" y="522936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1:marca de la mancha fo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624320" y="1104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encapsul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354000" y="1104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cáto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16" descr=""/>
          <p:cNvPicPr/>
          <p:nvPr/>
        </p:nvPicPr>
        <p:blipFill>
          <a:blip r:embed="rId1"/>
          <a:stretch/>
        </p:blipFill>
        <p:spPr>
          <a:xfrm>
            <a:off x="541440" y="1547640"/>
            <a:ext cx="3762360" cy="376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BRITTINGER, Maria Theresa</cp:lastModifiedBy>
  <cp:lastPrinted>2002-03-28T08:56:53Z</cp:lastPrinted>
  <dcterms:modified xsi:type="dcterms:W3CDTF">2009-09-09T08:27:33Z</dcterms:modified>
  <cp:revision>195</cp:revision>
  <dc:subject>X Ray production and tubes</dc:subject>
  <dc:title>RADIATION PROTECTION IN DIAGNOSTIC RADIOLOGY</dc:title>
</cp:coreProperties>
</file>