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332-A434-434C-B909-988B4637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D7D4-5C26-424E-B9B8-00C7BF7F05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0A9-A1C9-4F8D-868C-DAEE746BBD7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3A2-8DA8-44E9-9061-A8DF21E10B5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592-06BF-417B-B5DF-7BD147BC580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233440" y="6445080"/>
            <a:ext cx="4659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Introducción a la Protección Radiológica en Radiodiagnóstico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8341560" y="65102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D9D2-AAA3-4F89-8165-917A886089DC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 0. Principios de Protección Radiológica y justificación del cur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12840" y="304920"/>
            <a:ext cx="86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Curso del OIEA con programa estándar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860400" y="1639800"/>
            <a:ext cx="744732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¿NECESITAMOS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LA PROTECCIÓN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RADIOLÓGICA?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i se toma café caliente…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xceso de temperatura = 60º - 37º = 23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1 sorbo = 3 m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86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3 </a:t>
            </a:r>
            <a:r>
              <a:rPr b="0" lang="es-ES" sz="3200" spc="-1" strike="noStrike">
                <a:solidFill>
                  <a:srgbClr val="ffcc66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 23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= 69 calor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79680" y="2627280"/>
            <a:ext cx="154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letal = 4 Gy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733040"/>
            <a:ext cx="7851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L 50/60 = 4 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un hombre de 70 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ergía absorbida = 4 </a:t>
            </a:r>
            <a:r>
              <a:rPr b="0" lang="es-ES" sz="32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70 = 280 Jul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= 280/4.18 = 67 calor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= 1 sorb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6508440" y="150840"/>
            <a:ext cx="1400760" cy="600120"/>
            <a:chOff x="6508440" y="150840"/>
            <a:chExt cx="1400760" cy="600120"/>
          </a:xfrm>
        </p:grpSpPr>
        <p:sp>
          <p:nvSpPr>
            <p:cNvPr id="121" name="Line 5"/>
            <p:cNvSpPr/>
            <p:nvPr/>
          </p:nvSpPr>
          <p:spPr>
            <a:xfrm>
              <a:off x="6826680" y="614520"/>
              <a:ext cx="187200" cy="853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 flipV="1">
              <a:off x="7013880" y="505080"/>
              <a:ext cx="67680" cy="19440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7081560" y="505440"/>
              <a:ext cx="250920" cy="5796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7332480" y="368640"/>
              <a:ext cx="67320" cy="19440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7399800" y="369000"/>
              <a:ext cx="250920" cy="5796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7651080" y="232200"/>
              <a:ext cx="66960" cy="19440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7718400" y="150840"/>
              <a:ext cx="190800" cy="817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H="1">
              <a:off x="6508440" y="614520"/>
              <a:ext cx="317880" cy="1364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9" name="Group 13"/>
          <p:cNvGrpSpPr/>
          <p:nvPr/>
        </p:nvGrpSpPr>
        <p:grpSpPr>
          <a:xfrm>
            <a:off x="6644160" y="662400"/>
            <a:ext cx="1405440" cy="612360"/>
            <a:chOff x="6644160" y="662400"/>
            <a:chExt cx="1405440" cy="612360"/>
          </a:xfrm>
        </p:grpSpPr>
        <p:sp>
          <p:nvSpPr>
            <p:cNvPr id="130" name="Line 14"/>
            <p:cNvSpPr/>
            <p:nvPr/>
          </p:nvSpPr>
          <p:spPr>
            <a:xfrm>
              <a:off x="6963480" y="1117440"/>
              <a:ext cx="216000" cy="1573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7179480" y="1010160"/>
              <a:ext cx="39600" cy="2642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>
              <a:off x="7219080" y="1010160"/>
              <a:ext cx="280080" cy="1306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7499520" y="876240"/>
              <a:ext cx="38880" cy="2642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7538760" y="876600"/>
              <a:ext cx="279720" cy="1303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7818840" y="742320"/>
              <a:ext cx="38880" cy="2642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7858080" y="662400"/>
              <a:ext cx="191520" cy="802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6644160" y="1117440"/>
              <a:ext cx="318960" cy="1339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Group 22"/>
          <p:cNvGrpSpPr/>
          <p:nvPr/>
        </p:nvGrpSpPr>
        <p:grpSpPr>
          <a:xfrm>
            <a:off x="6565680" y="1235160"/>
            <a:ext cx="1571760" cy="611640"/>
            <a:chOff x="6565680" y="1235160"/>
            <a:chExt cx="1571760" cy="611640"/>
          </a:xfrm>
        </p:grpSpPr>
        <p:sp>
          <p:nvSpPr>
            <p:cNvPr id="139" name="Line 23"/>
            <p:cNvSpPr/>
            <p:nvPr/>
          </p:nvSpPr>
          <p:spPr>
            <a:xfrm>
              <a:off x="6922800" y="1685160"/>
              <a:ext cx="222120" cy="1616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V="1">
              <a:off x="7144920" y="1578960"/>
              <a:ext cx="63720" cy="2674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208640" y="1579320"/>
              <a:ext cx="293760" cy="13464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02400" y="1446480"/>
              <a:ext cx="63360" cy="2674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565760" y="1446840"/>
              <a:ext cx="293760" cy="13500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859520" y="1314000"/>
              <a:ext cx="63360" cy="2674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V="1">
              <a:off x="7922880" y="1235160"/>
              <a:ext cx="214560" cy="7920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6565680" y="1685160"/>
              <a:ext cx="357120" cy="1324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7" name="Text Box 31"/>
          <p:cNvSpPr/>
          <p:nvPr/>
        </p:nvSpPr>
        <p:spPr>
          <a:xfrm rot="20523000">
            <a:off x="8072640" y="22824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X-r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36" descr=""/>
          <p:cNvPicPr/>
          <p:nvPr/>
        </p:nvPicPr>
        <p:blipFill>
          <a:blip r:embed="rId1"/>
          <a:stretch/>
        </p:blipFill>
        <p:spPr>
          <a:xfrm>
            <a:off x="5165640" y="136440"/>
            <a:ext cx="1082880" cy="213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7" descr=""/>
          <p:cNvPicPr/>
          <p:nvPr/>
        </p:nvPicPr>
        <p:blipFill>
          <a:blip r:embed="rId2"/>
          <a:stretch/>
        </p:blipFill>
        <p:spPr>
          <a:xfrm>
            <a:off x="1020600" y="4579920"/>
            <a:ext cx="2714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343240" y="176040"/>
            <a:ext cx="443232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838080" y="1243080"/>
            <a:ext cx="7467840" cy="4371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3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279440" y="1459080"/>
            <a:ext cx="658620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POR TANTO,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NECESITAMOS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PROTECCIÓN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RADIOLÓGIC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1"/>
          <p:cNvGrpSpPr/>
          <p:nvPr/>
        </p:nvGrpSpPr>
        <p:grpSpPr>
          <a:xfrm>
            <a:off x="533520" y="1251000"/>
            <a:ext cx="8076960" cy="3010320"/>
            <a:chOff x="533520" y="1251000"/>
            <a:chExt cx="8076960" cy="3010320"/>
          </a:xfrm>
        </p:grpSpPr>
        <p:sp>
          <p:nvSpPr>
            <p:cNvPr id="154" name="Line 2"/>
            <p:cNvSpPr/>
            <p:nvPr/>
          </p:nvSpPr>
          <p:spPr>
            <a:xfrm>
              <a:off x="1676520" y="2324160"/>
              <a:ext cx="601956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Line 3"/>
            <p:cNvSpPr/>
            <p:nvPr/>
          </p:nvSpPr>
          <p:spPr>
            <a:xfrm>
              <a:off x="1676520" y="2324160"/>
              <a:ext cx="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7696080" y="2324160"/>
              <a:ext cx="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33520" y="2629080"/>
              <a:ext cx="2361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cc"/>
                  </a:solidFill>
                  <a:latin typeface="Arial"/>
                </a:rPr>
                <a:t>Recibimo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cc"/>
                  </a:solidFill>
                  <a:latin typeface="Arial"/>
                </a:rPr>
                <a:t>1-3 mSv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6553080" y="2705040"/>
              <a:ext cx="2057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cc"/>
                  </a:solidFill>
                  <a:latin typeface="Arial"/>
                </a:rPr>
                <a:t>Pueden matar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cc"/>
                  </a:solidFill>
                  <a:latin typeface="Arial"/>
                </a:rPr>
                <a:t>4000 mSv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3263760" y="1251000"/>
              <a:ext cx="260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cc"/>
                  </a:solidFill>
                  <a:latin typeface="Arial"/>
                </a:rPr>
                <a:t>Radiación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0" name="Text Box 9"/>
          <p:cNvSpPr/>
          <p:nvPr/>
        </p:nvSpPr>
        <p:spPr>
          <a:xfrm>
            <a:off x="888480" y="4522680"/>
            <a:ext cx="736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¿Dónde parar, dónde está el nivel segur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¿Cuáles son los efectos de la radiació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68200" y="1523880"/>
            <a:ext cx="680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Muert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Cánc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Quemaduras en la pi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Catarat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fert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Efectos genétic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Qué puede provocar la radiación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12" descr=""/>
          <p:cNvPicPr/>
          <p:nvPr/>
        </p:nvPicPr>
        <p:blipFill>
          <a:blip r:embed="rId1"/>
          <a:stretch/>
        </p:blipFill>
        <p:spPr>
          <a:xfrm>
            <a:off x="6681960" y="1290600"/>
            <a:ext cx="1485720" cy="129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2"/>
          <a:stretch/>
        </p:blipFill>
        <p:spPr>
          <a:xfrm>
            <a:off x="3279600" y="2290680"/>
            <a:ext cx="150516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3"/>
          <a:stretch/>
        </p:blipFill>
        <p:spPr>
          <a:xfrm>
            <a:off x="6578640" y="2886120"/>
            <a:ext cx="961920" cy="108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4"/>
          <a:stretch/>
        </p:blipFill>
        <p:spPr>
          <a:xfrm>
            <a:off x="3637080" y="3838680"/>
            <a:ext cx="1523880" cy="59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5"/>
          <a:stretch/>
        </p:blipFill>
        <p:spPr>
          <a:xfrm>
            <a:off x="5511960" y="5151600"/>
            <a:ext cx="17240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652320" y="1828800"/>
            <a:ext cx="784188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¿PUEDEN LOS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RAYOS X CAUSAR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LA MUERTE?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0"/>
          <p:cNvGrpSpPr/>
          <p:nvPr/>
        </p:nvGrpSpPr>
        <p:grpSpPr>
          <a:xfrm>
            <a:off x="0" y="114480"/>
            <a:ext cx="8947080" cy="5464800"/>
            <a:chOff x="0" y="114480"/>
            <a:chExt cx="8947080" cy="5464800"/>
          </a:xfrm>
        </p:grpSpPr>
        <p:sp>
          <p:nvSpPr>
            <p:cNvPr id="170" name="Line 4"/>
            <p:cNvSpPr/>
            <p:nvPr/>
          </p:nvSpPr>
          <p:spPr>
            <a:xfrm flipV="1">
              <a:off x="3906720" y="3600360"/>
              <a:ext cx="0" cy="1008000"/>
            </a:xfrm>
            <a:prstGeom prst="line">
              <a:avLst/>
            </a:prstGeom>
            <a:ln w="3168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>
              <a:off x="1165320" y="1371600"/>
              <a:ext cx="0" cy="2971800"/>
            </a:xfrm>
            <a:prstGeom prst="line">
              <a:avLst/>
            </a:prstGeom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1165320" y="4336920"/>
              <a:ext cx="7719840" cy="0"/>
            </a:xfrm>
            <a:prstGeom prst="line">
              <a:avLst/>
            </a:prstGeom>
            <a:ln w="31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3906720" y="2400480"/>
              <a:ext cx="3353040" cy="1885680"/>
            </a:xfrm>
            <a:prstGeom prst="line">
              <a:avLst/>
            </a:prstGeom>
            <a:ln w="349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5559480" y="3778200"/>
              <a:ext cx="120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Dosi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 flipV="1">
              <a:off x="3906720" y="1485720"/>
              <a:ext cx="0" cy="2114280"/>
            </a:xfrm>
            <a:prstGeom prst="line">
              <a:avLst/>
            </a:prstGeom>
            <a:ln w="3168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4233960" y="1968480"/>
              <a:ext cx="379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Efectos determinist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6750000" y="2577960"/>
              <a:ext cx="150372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Catarata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fertilidad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ritem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pilación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 rot="18600">
              <a:off x="1865160" y="2681280"/>
              <a:ext cx="17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Cánce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. genétic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b. </a:t>
              </a:r>
              <a:r>
                <a:rPr b="1" lang="en-US" sz="20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dosi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1966680" y="4570560"/>
              <a:ext cx="606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500 mSv para cataratas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50 mSv para esterilidad (temporal-hombres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2500 mSv para esterilidad ováric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0" y="3530520"/>
              <a:ext cx="1828800" cy="0"/>
            </a:xfrm>
            <a:prstGeom prst="line">
              <a:avLst/>
            </a:prstGeom>
            <a:ln w="3492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 rot="16200000">
              <a:off x="117360" y="2354040"/>
              <a:ext cx="131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Efecto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1328760" y="1547640"/>
              <a:ext cx="217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Efectos estocástic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3" name="Picture 19" descr=""/>
            <p:cNvPicPr/>
            <p:nvPr/>
          </p:nvPicPr>
          <p:blipFill>
            <a:blip r:embed="rId1"/>
            <a:stretch/>
          </p:blipFill>
          <p:spPr>
            <a:xfrm>
              <a:off x="4365720" y="114480"/>
              <a:ext cx="458136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Justificar la necesidad de la Protección Radiológica y de la Garantía de Calidad en radiodiagnóstico y en radiología intervencionis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ar una perspectiva general sobre las diferentes fuentes que contribuyen a la exposición a la radiación, y sobre los principios de la Protección Radi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ñalar la especificidad de la exposición méd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3c1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Objectivos de la protección radiológic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2160" y="1523880"/>
            <a:ext cx="693756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EVENIR efectos determinis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MITAR la probabilidad de efectos estocá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4800" spc="-1" strike="noStrike">
                <a:solidFill>
                  <a:srgbClr val="ffffcc"/>
                </a:solidFill>
                <a:latin typeface="Arial"/>
              </a:rPr>
              <a:t>¿CÓMO? ¿Hasta qué punto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55480" y="1676520"/>
            <a:ext cx="80107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c66"/>
                </a:solidFill>
                <a:latin typeface="Times New Roman"/>
              </a:rPr>
              <a:t>Principio de OPTIMIZACIÓN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¿Hasta dónde OPTIMIZAR?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Times New Roman"/>
              </a:rPr>
              <a:t>¿Se debe forzar al máximo la OPTIMIZACIÓ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4 Marcador de pie de página"/>
          <p:cNvSpPr/>
          <p:nvPr/>
        </p:nvSpPr>
        <p:spPr>
          <a:xfrm>
            <a:off x="2119320" y="6369120"/>
            <a:ext cx="4659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Introducción a la Protección Radiológica en Radiodiagnóst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5 Marcador de número de diapositiva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29C-C818-4687-B735-C34F62E68254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1600" y="174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Detalles de algunos estudios epidemiológicos sobre riesgos de cáncer inducido por radiació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1155600"/>
            <a:ext cx="8996400" cy="5702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0" y="2421000"/>
            <a:ext cx="899640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160" y="1197000"/>
          <a:ext cx="8964720" cy="5659560"/>
        </p:xfrm>
        <a:graphic>
          <a:graphicData uri="http://schemas.openxmlformats.org/drawingml/2006/table">
            <a:tbl>
              <a:tblPr/>
              <a:tblGrid>
                <a:gridCol w="1258920"/>
                <a:gridCol w="1479600"/>
                <a:gridCol w="1328760"/>
                <a:gridCol w="1819080"/>
                <a:gridCol w="1538280"/>
                <a:gridCol w="1540080"/>
              </a:tblGrid>
              <a:tr h="120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Estudio de tiempo medio de vida de japoneses supervivientes a la bomba atómica (Shimizu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Estudio sobre espondilitis anquilosante (Weiss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Pacientes sometidos a fluoroscopia de tórax en Massachusets que padecieron tuberculosis (Boice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iños irradiados en Israel por tiña en el cuero cabelludo (Ron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Registro Nacional del Reino Unido de Trabajadores con Radiaciones (Kendall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amaño de la pobl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75991 (con dosis DS86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14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257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1083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952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eriodo de seguimient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5 – 55 años tras exposi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Hasta más de 50 años (media de 25.2 añ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Hasta más de 50 años (media de 30 añ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Hasta 32 años (media de 26 añ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Hasta 40 añ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Rangos de: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Virtualmente todos ≥ 15 añ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e menos de 15 hasta más de 4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0 – 15 añ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18 – 64 añ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(a) edades a la exposi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(b) sex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Números similares de ambos sex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83.5% de homb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Muje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Números similares de ambos sex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92% de homb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(c) grupos étnic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Japones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Oeste de UK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Oeste (norte-americana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Africanos y asiátic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Oeste de UK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Circunstancia en la que se recibió la exposi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Guer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erapia médica por enfermedad no malign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iagnóstico médic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erapia médica por enfermedad no malign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Ocupacion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4 Marcador de pie de página"/>
          <p:cNvSpPr/>
          <p:nvPr/>
        </p:nvSpPr>
        <p:spPr>
          <a:xfrm>
            <a:off x="2119320" y="6369120"/>
            <a:ext cx="4659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Introducción a la Protección Radiológica en Radiodiagnóst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980-17D0-43DC-BF67-58F2A9664FE4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4880" y="184320"/>
            <a:ext cx="825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Detalles de algunos estudios epidemiológicos sobre riesgos de cáncer inducido por radiació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1155600"/>
            <a:ext cx="8996400" cy="5702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0" y="2349360"/>
            <a:ext cx="899640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209600"/>
          <a:ext cx="9144000" cy="5664240"/>
        </p:xfrm>
        <a:graphic>
          <a:graphicData uri="http://schemas.openxmlformats.org/drawingml/2006/table">
            <a:tbl>
              <a:tblPr/>
              <a:tblGrid>
                <a:gridCol w="1284120"/>
                <a:gridCol w="1509840"/>
                <a:gridCol w="1576440"/>
                <a:gridCol w="1633680"/>
                <a:gridCol w="1671480"/>
                <a:gridCol w="1468440"/>
              </a:tblGrid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Estudio de tiempo medio de vida de japoneses supervivientes a la bomba atómica (Shimizu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Estudio sobre espondilitis anquilosante (Weiss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Pacientes sometidos a fluoroscopia de tórax en Massachusets que padecieron tuberculosis (Boice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Niños irradiados en Israel por tiña en el cuero cabelludo (Ron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Registro Nacional del Reino Unido de Trabajadores con Radiaciones (Kendall et al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Órganos irradia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odos (pero principalmente los próximos a la columna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mama y pulm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cerebro, médula ósea, tiroides, piel y mam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</a:rPr>
                        <a:t>Disponibilidad estimaciones de dosi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osis en órganos: individu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osis media en órganos: individual solo para médula ósea roja, al presente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osis en órganos: individu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osis individuales en cerebro, tiroides y pie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Dosis externas individuales en cuerpo enter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Rango de dosi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entre 0 – 4 G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entre 0 – 20 G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entre 0 – 3 G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Cerebro: 0 – 6 Gy (media 1.5 Gy) Tiroides: 0 – 0.5 Gy (media 0.09 Gy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entre 0 – 0.5 Gy (media 0.034 Sv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</a:rPr>
                        <a:t>Tasa de dosi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Al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Al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Alta, pero altamente fraccionad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Al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Baj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</a:rPr>
                        <a:t>Calidad de la radi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baja LET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Baja LET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Baja LET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Baja LET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2a14c"/>
                          </a:solidFill>
                          <a:latin typeface="Times New Roman"/>
                          <a:ea typeface="Times New Roman"/>
                        </a:rPr>
                        <a:t>Principalmente baja LET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2600" y="97920"/>
            <a:ext cx="618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ímites de dosis (ICRP 60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83840" y="4584600"/>
            <a:ext cx="6883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*  Con previsión adicional de que la dosis en un año individual</a:t>
            </a:r>
            <a:br>
              <a:rPr sz="1600"/>
            </a:b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 &gt; 30 mSv (AERB) y = 50 mSv (ICRP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Nota: D.M.P. 1931 = 500 mSv, 1947=150 mSv, 1977=50 mSv y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en 1990=20 mS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44600" y="1397160"/>
          <a:ext cx="8216640" cy="2947680"/>
        </p:xfrm>
        <a:graphic>
          <a:graphicData uri="http://schemas.openxmlformats.org/drawingml/2006/table">
            <a:tbl>
              <a:tblPr/>
              <a:tblGrid>
                <a:gridCol w="3606840"/>
                <a:gridCol w="2412720"/>
                <a:gridCol w="182880"/>
                <a:gridCol w="201420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cupacio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úblic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sis efectiv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 mSv / a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ño promedio* en 5 añ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 mSv por a</a:t>
                      </a: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ñ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49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sis equivalente annual en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ccff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ristalin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0 mS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m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ccff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i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0 mS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 mS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ccff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nos y pi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0 mS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660960" y="11476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S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358160" y="59421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ñ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mbios en el límite de dosis (ICRP)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(Niveles seguros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5" name="Object 17"/>
          <p:cNvGraphicFramePr/>
          <p:nvPr/>
        </p:nvGraphicFramePr>
        <p:xfrm>
          <a:off x="282600" y="1523880"/>
          <a:ext cx="85932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1523880"/>
                    <a:ext cx="8593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32720" y="1808280"/>
            <a:ext cx="828828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¿CUÁL ES LA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BASE PARA LOS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LÍMITES DE DOSIS?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raducción textos de la diapositiva siguien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10880" y="1341000"/>
            <a:ext cx="7464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 GRÁFICA SUPERI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asa de probabilidad de muerte  (1/año) (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posición desde edad 0 a lo largo de toda la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odelo multiplicativo, 5 mSv/a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odelo aditiv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iesgo anual 1/10000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 GRÁFICA INFERI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asa de probabilidad de muerte  (1/año) (b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xposición desde edad 18 a la de 65 añ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odelo multiplicativo, 50 mSv/a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odelo aditiv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iesgo anual 1/1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el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502560" y="1808280"/>
            <a:ext cx="828828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¿POR QUÉ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REDUCIR LOS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LÍMITES DE DOSIS?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1219320"/>
            <a:ext cx="525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¿Hay RADIACIÓN en esta habitación?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1446840" y="1351080"/>
            <a:ext cx="637416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PRINCIPIOS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DE L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PROTECCIÓN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RADIOLÓGIC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1760" y="1523880"/>
            <a:ext cx="811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Justificación de las práctic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Optimización de la protección manteniendo la exposición tan baja como sea razonablemente alcanzabl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ímites de dosis ocupacion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1177200" y="2028960"/>
            <a:ext cx="69228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¿CÓMO APLICA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ESTOS PRINCIPIOS 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RADIODIAGNÓSTICO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414360" y="2565360"/>
            <a:ext cx="83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¿Cuánto tiempo trabaja con la radi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92040" y="266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Radiografí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1"/>
          <a:stretch/>
        </p:blipFill>
        <p:spPr>
          <a:xfrm>
            <a:off x="3271680" y="3429000"/>
            <a:ext cx="2600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2240" y="73080"/>
            <a:ext cx="8699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iempo durante el que se emite radi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arga de trabajo = 100 disparos/d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 = 50</a:t>
            </a:r>
            <a:r>
              <a:rPr b="1" lang="es-ES" sz="3600" spc="-1" strike="noStrike">
                <a:solidFill>
                  <a:srgbClr val="ccecff"/>
                </a:solidFill>
                <a:latin typeface="Wingdings 2"/>
                <a:ea typeface="Wingdings 2"/>
              </a:rPr>
              <a:t>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50 ms = 2500 = 2.5 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LS = 50</a:t>
            </a:r>
            <a:r>
              <a:rPr b="1" lang="es-ES" sz="3600" spc="-1" strike="noStrike">
                <a:solidFill>
                  <a:srgbClr val="ff9900"/>
                </a:solidFill>
                <a:latin typeface="Wingdings 2"/>
                <a:ea typeface="Wingdings 2"/>
              </a:rPr>
              <a:t>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800 ms = 40,000 = 40 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Tiempo total = 45 s/d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No más de 1 min/d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425880" y="20304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Dosis al person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400" y="1951200"/>
            <a:ext cx="86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Límite de dosis ICRP = 20 mSv/añ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-57240" y="3338640"/>
            <a:ext cx="91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rabajo en radiografía </a:t>
            </a:r>
            <a:r>
              <a:rPr b="1" lang="en-US" sz="40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0.1 mSv/añ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432320" y="46022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s decir, 1/200 del límite de dos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7281720" y="53640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" name="Group 111"/>
          <p:cNvGrpSpPr/>
          <p:nvPr/>
        </p:nvGrpSpPr>
        <p:grpSpPr>
          <a:xfrm>
            <a:off x="915120" y="1168560"/>
            <a:ext cx="8005320" cy="5227560"/>
            <a:chOff x="915120" y="1168560"/>
            <a:chExt cx="8005320" cy="5227560"/>
          </a:xfrm>
        </p:grpSpPr>
        <p:sp>
          <p:nvSpPr>
            <p:cNvPr id="227" name="Rectangle 6"/>
            <p:cNvSpPr/>
            <p:nvPr/>
          </p:nvSpPr>
          <p:spPr>
            <a:xfrm>
              <a:off x="1597680" y="1168560"/>
              <a:ext cx="24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Arial"/>
                </a:rPr>
                <a:t>Dosis relativa recibid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3506400" y="6121440"/>
              <a:ext cx="351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Número de radiografías de tórax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1472760" y="1642680"/>
              <a:ext cx="1800" cy="4077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472760" y="1657440"/>
              <a:ext cx="3492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1472760" y="1842840"/>
              <a:ext cx="101880" cy="156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1472760" y="2027160"/>
              <a:ext cx="33516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1472760" y="2212920"/>
              <a:ext cx="60192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1472760" y="2398680"/>
              <a:ext cx="667080" cy="1566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1472760" y="2584440"/>
              <a:ext cx="80028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1472760" y="2770200"/>
              <a:ext cx="933480" cy="1566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472760" y="2954160"/>
              <a:ext cx="100044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1472760" y="3139920"/>
              <a:ext cx="113364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Rectangle 28"/>
            <p:cNvSpPr/>
            <p:nvPr/>
          </p:nvSpPr>
          <p:spPr>
            <a:xfrm>
              <a:off x="1472760" y="3325680"/>
              <a:ext cx="143352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1472760" y="3511440"/>
              <a:ext cx="1733760" cy="156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1472760" y="3695760"/>
              <a:ext cx="200052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>
              <a:off x="1472760" y="3881520"/>
              <a:ext cx="239904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Rectangle 36"/>
            <p:cNvSpPr/>
            <p:nvPr/>
          </p:nvSpPr>
          <p:spPr>
            <a:xfrm>
              <a:off x="1472760" y="4066920"/>
              <a:ext cx="2432160" cy="156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1472760" y="4252680"/>
              <a:ext cx="2532240" cy="156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1472760" y="4438440"/>
              <a:ext cx="2665440" cy="156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42"/>
            <p:cNvSpPr/>
            <p:nvPr/>
          </p:nvSpPr>
          <p:spPr>
            <a:xfrm>
              <a:off x="1472760" y="4622760"/>
              <a:ext cx="289908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472760" y="4808520"/>
              <a:ext cx="3999240" cy="1566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46"/>
            <p:cNvSpPr/>
            <p:nvPr/>
          </p:nvSpPr>
          <p:spPr>
            <a:xfrm>
              <a:off x="1472760" y="4994280"/>
              <a:ext cx="4530960" cy="1566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48"/>
            <p:cNvSpPr/>
            <p:nvPr/>
          </p:nvSpPr>
          <p:spPr>
            <a:xfrm>
              <a:off x="1472760" y="5180040"/>
              <a:ext cx="4730760" cy="1566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472760" y="5364000"/>
              <a:ext cx="513108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52"/>
            <p:cNvSpPr/>
            <p:nvPr/>
          </p:nvSpPr>
          <p:spPr>
            <a:xfrm>
              <a:off x="1472760" y="5549760"/>
              <a:ext cx="5996160" cy="158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Line 54"/>
            <p:cNvSpPr/>
            <p:nvPr/>
          </p:nvSpPr>
          <p:spPr>
            <a:xfrm>
              <a:off x="1472760" y="5721120"/>
              <a:ext cx="666288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Line 55"/>
            <p:cNvSpPr/>
            <p:nvPr/>
          </p:nvSpPr>
          <p:spPr>
            <a:xfrm>
              <a:off x="1472760" y="1643040"/>
              <a:ext cx="1800" cy="40777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56"/>
            <p:cNvSpPr/>
            <p:nvPr/>
          </p:nvSpPr>
          <p:spPr>
            <a:xfrm>
              <a:off x="142200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3036600" y="5848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58"/>
            <p:cNvSpPr/>
            <p:nvPr/>
          </p:nvSpPr>
          <p:spPr>
            <a:xfrm>
              <a:off x="4649760" y="58482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59"/>
            <p:cNvSpPr/>
            <p:nvPr/>
          </p:nvSpPr>
          <p:spPr>
            <a:xfrm>
              <a:off x="6315120" y="58482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60"/>
            <p:cNvSpPr/>
            <p:nvPr/>
          </p:nvSpPr>
          <p:spPr>
            <a:xfrm>
              <a:off x="7980480" y="58482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61"/>
            <p:cNvSpPr/>
            <p:nvPr/>
          </p:nvSpPr>
          <p:spPr>
            <a:xfrm>
              <a:off x="1635480" y="1587600"/>
              <a:ext cx="209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Brazo, cabeza, tobillo y pie (1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62"/>
            <p:cNvSpPr/>
            <p:nvPr/>
          </p:nvSpPr>
          <p:spPr>
            <a:xfrm>
              <a:off x="1695960" y="1763640"/>
              <a:ext cx="131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Cabeza y cuello (3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Rectangle 63"/>
            <p:cNvSpPr/>
            <p:nvPr/>
          </p:nvSpPr>
          <p:spPr>
            <a:xfrm>
              <a:off x="1891080" y="2014560"/>
              <a:ext cx="1405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Cabeza en TAC (1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Rectangle 64"/>
            <p:cNvSpPr/>
            <p:nvPr/>
          </p:nvSpPr>
          <p:spPr>
            <a:xfrm>
              <a:off x="2086920" y="2219400"/>
              <a:ext cx="152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Columna torácica (18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Rectangle 65"/>
            <p:cNvSpPr/>
            <p:nvPr/>
          </p:nvSpPr>
          <p:spPr>
            <a:xfrm>
              <a:off x="2153160" y="2395440"/>
              <a:ext cx="196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Mamografía, Cistografía (2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Rectangle 66"/>
            <p:cNvSpPr/>
            <p:nvPr/>
          </p:nvSpPr>
          <p:spPr>
            <a:xfrm>
              <a:off x="2314440" y="257184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Pelvis (24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Rectangle 67"/>
            <p:cNvSpPr/>
            <p:nvPr/>
          </p:nvSpPr>
          <p:spPr>
            <a:xfrm>
              <a:off x="2477880" y="2773440"/>
              <a:ext cx="337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Abdomen, Cadera, Fémur superior e inferior (28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Rectangle 68"/>
            <p:cNvSpPr/>
            <p:nvPr/>
          </p:nvSpPr>
          <p:spPr>
            <a:xfrm>
              <a:off x="2559960" y="2923920"/>
              <a:ext cx="212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ránsito con papilla de Ba (3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Rectangle 69"/>
            <p:cNvSpPr/>
            <p:nvPr/>
          </p:nvSpPr>
          <p:spPr>
            <a:xfrm>
              <a:off x="2622240" y="3127320"/>
              <a:ext cx="168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Abdomen obstétrico(34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Rectangle 70"/>
            <p:cNvSpPr/>
            <p:nvPr/>
          </p:nvSpPr>
          <p:spPr>
            <a:xfrm>
              <a:off x="2949840" y="3303360"/>
              <a:ext cx="170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Región lumbo-sacra (43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Rectangle 71"/>
            <p:cNvSpPr/>
            <p:nvPr/>
          </p:nvSpPr>
          <p:spPr>
            <a:xfrm>
              <a:off x="3256200" y="3504960"/>
              <a:ext cx="13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Colangiografía (52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Rectangle 72"/>
            <p:cNvSpPr/>
            <p:nvPr/>
          </p:nvSpPr>
          <p:spPr>
            <a:xfrm>
              <a:off x="3486240" y="3657600"/>
              <a:ext cx="160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Mielografía lumbar (6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3893760" y="3859200"/>
              <a:ext cx="28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AC de abdomen inferior en hombre (72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Rectangle 74"/>
            <p:cNvSpPr/>
            <p:nvPr/>
          </p:nvSpPr>
          <p:spPr>
            <a:xfrm>
              <a:off x="3960000" y="4062240"/>
              <a:ext cx="204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ac de abdomen superior(73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4038840" y="4241880"/>
              <a:ext cx="31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ránsito esófago-gastroduodenal con Ba (76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4177440" y="4417920"/>
              <a:ext cx="26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Angiografía de cabeza o periférica (8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Rectangle 77"/>
            <p:cNvSpPr/>
            <p:nvPr/>
          </p:nvSpPr>
          <p:spPr>
            <a:xfrm>
              <a:off x="4413240" y="4594320"/>
              <a:ext cx="95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Urografía (87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Rectangle 78"/>
            <p:cNvSpPr/>
            <p:nvPr/>
          </p:nvSpPr>
          <p:spPr>
            <a:xfrm>
              <a:off x="5520600" y="4767120"/>
              <a:ext cx="196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Angiografía abdominal (12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Rectangle 79"/>
            <p:cNvSpPr/>
            <p:nvPr/>
          </p:nvSpPr>
          <p:spPr>
            <a:xfrm>
              <a:off x="6031800" y="4968720"/>
              <a:ext cx="129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AC torácico (136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6202440" y="5159160"/>
              <a:ext cx="252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TAC abdomen inferior mujeres (142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Rectangle 81"/>
            <p:cNvSpPr/>
            <p:nvPr/>
          </p:nvSpPr>
          <p:spPr>
            <a:xfrm>
              <a:off x="6647760" y="5322960"/>
              <a:ext cx="129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Enema de Ba (154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Rectangle 82"/>
            <p:cNvSpPr/>
            <p:nvPr/>
          </p:nvSpPr>
          <p:spPr>
            <a:xfrm>
              <a:off x="7487280" y="5526000"/>
              <a:ext cx="143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 Narrow"/>
                </a:rPr>
                <a:t>Angio. linfática (180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Rectangle 83"/>
            <p:cNvSpPr/>
            <p:nvPr/>
          </p:nvSpPr>
          <p:spPr>
            <a:xfrm>
              <a:off x="8204760" y="588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Rectangle 84"/>
            <p:cNvSpPr/>
            <p:nvPr/>
          </p:nvSpPr>
          <p:spPr>
            <a:xfrm>
              <a:off x="915120" y="13208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Arial"/>
                </a:rPr>
                <a:t>mSv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Rectangle 85"/>
            <p:cNvSpPr/>
            <p:nvPr/>
          </p:nvSpPr>
          <p:spPr>
            <a:xfrm>
              <a:off x="1038240" y="15969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.05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Rectangle 86"/>
            <p:cNvSpPr/>
            <p:nvPr/>
          </p:nvSpPr>
          <p:spPr>
            <a:xfrm>
              <a:off x="1038600" y="1800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cc66"/>
                  </a:solidFill>
                  <a:latin typeface="Arial"/>
                </a:rPr>
                <a:t>0.15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Rectangle 87"/>
            <p:cNvSpPr/>
            <p:nvPr/>
          </p:nvSpPr>
          <p:spPr>
            <a:xfrm>
              <a:off x="1038600" y="2001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0.49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Rectangle 88"/>
            <p:cNvSpPr/>
            <p:nvPr/>
          </p:nvSpPr>
          <p:spPr>
            <a:xfrm>
              <a:off x="1038600" y="22032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0.92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Rectangle 89"/>
            <p:cNvSpPr/>
            <p:nvPr/>
          </p:nvSpPr>
          <p:spPr>
            <a:xfrm>
              <a:off x="1038240" y="24066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Rectangle 90"/>
            <p:cNvSpPr/>
            <p:nvPr/>
          </p:nvSpPr>
          <p:spPr>
            <a:xfrm>
              <a:off x="1038600" y="26082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1.22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Rectangle 91"/>
            <p:cNvSpPr/>
            <p:nvPr/>
          </p:nvSpPr>
          <p:spPr>
            <a:xfrm>
              <a:off x="1038240" y="2811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1.4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Rectangle 92"/>
            <p:cNvSpPr/>
            <p:nvPr/>
          </p:nvSpPr>
          <p:spPr>
            <a:xfrm>
              <a:off x="1038240" y="30128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1.5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Rectangle 93"/>
            <p:cNvSpPr/>
            <p:nvPr/>
          </p:nvSpPr>
          <p:spPr>
            <a:xfrm>
              <a:off x="1038240" y="3216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1.7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94"/>
            <p:cNvSpPr/>
            <p:nvPr/>
          </p:nvSpPr>
          <p:spPr>
            <a:xfrm>
              <a:off x="1038600" y="34178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2.15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Rectangle 95"/>
            <p:cNvSpPr/>
            <p:nvPr/>
          </p:nvSpPr>
          <p:spPr>
            <a:xfrm>
              <a:off x="1038600" y="36194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2.59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Rectangle 96"/>
            <p:cNvSpPr/>
            <p:nvPr/>
          </p:nvSpPr>
          <p:spPr>
            <a:xfrm>
              <a:off x="1038240" y="3822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Rectangle 97"/>
            <p:cNvSpPr/>
            <p:nvPr/>
          </p:nvSpPr>
          <p:spPr>
            <a:xfrm>
              <a:off x="1038600" y="40240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3.61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Rectangle 98"/>
            <p:cNvSpPr/>
            <p:nvPr/>
          </p:nvSpPr>
          <p:spPr>
            <a:xfrm>
              <a:off x="1038600" y="42274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3.67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Rectangle 99"/>
            <p:cNvSpPr/>
            <p:nvPr/>
          </p:nvSpPr>
          <p:spPr>
            <a:xfrm>
              <a:off x="1038240" y="44290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3.8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Rectangle 100"/>
            <p:cNvSpPr/>
            <p:nvPr/>
          </p:nvSpPr>
          <p:spPr>
            <a:xfrm>
              <a:off x="1038240" y="46306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4.0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Rectangle 101"/>
            <p:cNvSpPr/>
            <p:nvPr/>
          </p:nvSpPr>
          <p:spPr>
            <a:xfrm>
              <a:off x="1038600" y="4833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4.36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Rectangle 102"/>
            <p:cNvSpPr/>
            <p:nvPr/>
          </p:nvSpPr>
          <p:spPr>
            <a:xfrm>
              <a:off x="1038240" y="50353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6.0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Rectangle 103"/>
            <p:cNvSpPr/>
            <p:nvPr/>
          </p:nvSpPr>
          <p:spPr>
            <a:xfrm>
              <a:off x="1038240" y="5238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6.8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Rectangle 104"/>
            <p:cNvSpPr/>
            <p:nvPr/>
          </p:nvSpPr>
          <p:spPr>
            <a:xfrm>
              <a:off x="1038600" y="5440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7.13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Rectangle 105"/>
            <p:cNvSpPr/>
            <p:nvPr/>
          </p:nvSpPr>
          <p:spPr>
            <a:xfrm>
              <a:off x="1038600" y="56433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7.69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Rectangle 106"/>
            <p:cNvSpPr/>
            <p:nvPr/>
          </p:nvSpPr>
          <p:spPr>
            <a:xfrm>
              <a:off x="1038240" y="58449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c66"/>
                  </a:solidFill>
                  <a:latin typeface="Arial"/>
                </a:rPr>
                <a:t>9.0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Dosis de radiación en exploraciones con rayos X (en múltiplos de la dosis para tórax</a:t>
            </a:r>
            <a:r>
              <a:rPr b="1" lang="es-ES" sz="2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1030680" y="1592280"/>
            <a:ext cx="708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¿ES POSIBLE QUE S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PRODUZCAN EFECTO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DETERMINISTAS EN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EL TRABAJ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RADIOGRÁFICO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imes New Roman"/>
              </a:rPr>
              <a:t>¿En personal, en pacientes?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552600" y="174600"/>
            <a:ext cx="46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adiografí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608760" y="5499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: Improbab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76440" y="1251000"/>
          <a:ext cx="8057880" cy="4064040"/>
        </p:xfrm>
        <a:graphic>
          <a:graphicData uri="http://schemas.openxmlformats.org/drawingml/2006/table">
            <a:tbl>
              <a:tblPr/>
              <a:tblGrid>
                <a:gridCol w="3038400"/>
                <a:gridCol w="1695240"/>
                <a:gridCol w="1733760"/>
                <a:gridCol w="1590480"/>
              </a:tblGrid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iesg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cien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ú</a:t>
                      </a: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er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madura pi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ertilida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tarat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ánc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fecto gen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é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1168560" y="1351080"/>
            <a:ext cx="693360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FLUOROSCOPIA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Times New Roman"/>
              </a:rPr>
              <a:t>TC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81b8"/>
            </a:gs>
            <a:gs pos="100000">
              <a:srgbClr val="fcd3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a radiación con la que convivim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adiación natural</a:t>
            </a:r>
            <a:r>
              <a:rPr b="0" lang="es-ES" sz="2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rayos cósmicos, radiación interna a nuestro organismo, en la comida, en el agua que bebemos, en la casa en que vivimos, en el campo, en los materiales de construcción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lgunos contenidos de material radiactivo en el cuerpo</a:t>
            </a:r>
            <a:r>
              <a:rPr b="0" lang="es-E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mano</a:t>
            </a:r>
            <a:r>
              <a:rPr b="0" lang="es-ES" sz="2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K-40, Ra-226, Ra-22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or ej., una persona que pese 70 kg contie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40 g de K, o se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40 x 0.012%=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.0168 g de K-40</a:t>
            </a: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.1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i de K-4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24.000 fotones emitidos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46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(T</a:t>
            </a:r>
            <a:r>
              <a:rPr b="0" lang="es-ES" sz="2400" spc="-1" strike="noStrike" baseline="-25000">
                <a:solidFill>
                  <a:srgbClr val="ffffcc"/>
                </a:solidFill>
                <a:latin typeface="Arial"/>
              </a:rPr>
              <a:t>1/2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del K-40 = 1.300 millones de añ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876920" y="4343400"/>
            <a:ext cx="38088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870440" y="4908600"/>
            <a:ext cx="38088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3960" y="1523880"/>
            <a:ext cx="818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Estudio con Ba: 3-6 min/pac. </a:t>
            </a:r>
            <a:r>
              <a:rPr b="1" lang="es-ES" sz="32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 8 pac./d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=40 min/d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ANG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iagnóstica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= 50 min/d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Terapéutica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= 2 - 5 h/d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TC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= 10 - 45 min/d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5"/>
          <p:cNvSpPr/>
          <p:nvPr/>
        </p:nvSpPr>
        <p:spPr>
          <a:xfrm>
            <a:off x="548280" y="19044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luoroscopia (excl. angio terap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608760" y="5499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: Improbab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76440" y="1251000"/>
          <a:ext cx="8057880" cy="4064040"/>
        </p:xfrm>
        <a:graphic>
          <a:graphicData uri="http://schemas.openxmlformats.org/drawingml/2006/table">
            <a:tbl>
              <a:tblPr/>
              <a:tblGrid>
                <a:gridCol w="3038400"/>
                <a:gridCol w="1695240"/>
                <a:gridCol w="1733760"/>
                <a:gridCol w="1590480"/>
              </a:tblGrid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iesg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acien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ú</a:t>
                      </a:r>
                      <a:r>
                        <a:rPr b="1" lang="en-GB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er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madura pi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ertilida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tarat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ánc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fecto gen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é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um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36720" y="1506600"/>
            <a:ext cx="72403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radiación con la que convivim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radiación que puede ser le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fectos de la radi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ímites de do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Principios de la protec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plicación de los principios de la protección en radiodiagnó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8681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2600" y="85680"/>
            <a:ext cx="85471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stimación de K-40 en masa corporal no gras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880" y="1523520"/>
            <a:ext cx="823752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eso corporal =  masa de grasa + masa corporal no gra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K-40 está directamente relacionado con la masa corporal no gra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emplea un contador de radiactividad corpo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a radiación con la que convivim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1440" y="1457280"/>
            <a:ext cx="730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 1 m de espesor del suelo de un jardín de 400 m</a:t>
            </a:r>
            <a:r>
              <a:rPr b="0" lang="es-ES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se obtendrí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200 kg de K, de los cuales 1.28 kg de K-4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ambién se extraerían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.6 kg de Th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kg de 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y/a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Nueva Delhi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7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Bangalore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82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Bombay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42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Kerala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(en la franja costera)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031080" y="2771640"/>
            <a:ext cx="1581120" cy="290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98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Niveles de radiación cósmica a distintas alturas sobre la superficie del plane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735280" y="1150920"/>
            <a:ext cx="43736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a radiación con la que convivim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Text Box 282"/>
          <p:cNvSpPr/>
          <p:nvPr/>
        </p:nvSpPr>
        <p:spPr>
          <a:xfrm>
            <a:off x="2286000" y="5775480"/>
            <a:ext cx="65088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Dosis equivalente = 0.315 mSv/añ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Dosis total de fuentes naturales = 1.0 a 3.0 mSv/añ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960" y="1397160"/>
          <a:ext cx="8439120" cy="4147920"/>
        </p:xfrm>
        <a:graphic>
          <a:graphicData uri="http://schemas.openxmlformats.org/drawingml/2006/table">
            <a:tbl>
              <a:tblPr/>
              <a:tblGrid>
                <a:gridCol w="2444760"/>
                <a:gridCol w="1436760"/>
                <a:gridCol w="1292400"/>
                <a:gridCol w="1145880"/>
                <a:gridCol w="1074960"/>
                <a:gridCol w="1044360"/>
              </a:tblGrid>
              <a:tr h="43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limen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ivel de radiactividad (Bq/kg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ngesti</a:t>
                      </a: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  <a:ea typeface="Arial"/>
                        </a:rPr>
                        <a:t>ón diaria (g/d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a-2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h-2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b-2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-4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roz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6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3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2.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g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7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9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7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3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2.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umbr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3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9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1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7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tros vegetale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6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5.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rdura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6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9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.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eta combinad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7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6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6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.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3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adiación de fuentes natural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3600" y="1523520"/>
            <a:ext cx="82090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rmalmente 1-3 mSv/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áreas de fondo elevado: 3-13 mSv/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0:15:38Z</dcterms:created>
  <dc:creator>IAEA</dc:creator>
  <dc:description>IAEA Training Material on Radiation Protection in Diagnostic and Interventional Radiology</dc:description>
  <dc:language>en-US</dc:language>
  <cp:lastModifiedBy>MUNDIYANICKAL, Abraham</cp:lastModifiedBy>
  <cp:lastPrinted>2009-08-31T10:30:14Z</cp:lastPrinted>
  <dcterms:modified xsi:type="dcterms:W3CDTF">2011-05-03T15:55:27Z</dcterms:modified>
  <cp:revision>131</cp:revision>
  <dc:subject>Introduction to the principles of radiation protection</dc:subject>
  <dc:title>RADIATION PROTECTION IN DIAGNOSTIC RADIOLOGY</dc:title>
</cp:coreProperties>
</file>