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C7E5-6BCD-4575-B5CB-68E6683B41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ay métodos absolutos que suministran la información sobre la dosis pero que necesitan conocer los los parámetros característicos. Algunos otros son métodos relativos, así que los instrumentos deben calibrarse frente a valores de refe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licación y/o información a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ando la audiencia esté familiarizada con la instrumentación y con la calibración de instrumentos, las dispositivas 9-16 pueden salta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 es muy común disponer de un espectro de rayos X de referencia bien definido, disponible para el margen de energías útiles a usar en radiodiagnóstic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edidor del DAP puede colocarse en cualquier sitio entre el tubo y el paciente dado que su lectura es independiente de la posi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o puede verse, la magnitud de la DAP medida es constante, ya que el kerma-aire disminuye de acuerdo con la ley del inverso y el área crece como el cuadrado de la dist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dosis en la superficie de entrada medida bajo estas condiciones incluye la retrodispe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úmanse los principales asuntos tratados en la sesión.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Lístense los principales temas abordados y destáquense de nuevo los detalles  importantes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32720" y="6513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0B8-950E-42E9-845A-4B7E50BB7E4C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34840" y="6524640"/>
            <a:ext cx="20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eaeaea"/>
                </a:solidFill>
                <a:latin typeface="Arial"/>
              </a:rPr>
              <a:t>L10: Evaluación de dosis al paciente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57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10: Evaluación de dosis a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57120" y="28584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r>
              <a:rPr b="1" lang="sl-SI" sz="1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en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6960" y="1341360"/>
            <a:ext cx="832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ergía del haz y filt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20-140 kV; filtros de form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imación o espesor de la sec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colimador detrás del paciente reducirá el espesor de la rodaja captada en imagen pero no el espesor irradi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úmero y espaciado de cortes adyac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idad de imagen y rui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mo en todas las modalidades: al crecer la dosis =&gt; el ruido disminuy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964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Factores que afectan a la dosis en TC espira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523880"/>
            <a:ext cx="7745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mbién son válidos los factores para TC conven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itch” del barri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lación entre el recorrido de la camilla en una rotación y el espesor de cor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i el pitch = 1, las dosis son comparables a las de TC conven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dosis es proporcional a 1/pitc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0: Evaluación de dosis a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Métodos de dosimetría a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04920" y="304920"/>
            <a:ext cx="85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ómo medir dosi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5000" y="1738440"/>
            <a:ext cx="7261560" cy="4440600"/>
            <a:chOff x="765000" y="1738440"/>
            <a:chExt cx="7261560" cy="4440600"/>
          </a:xfrm>
        </p:grpSpPr>
        <p:sp>
          <p:nvSpPr>
            <p:cNvPr id="134" name="Rectangle 3"/>
            <p:cNvSpPr/>
            <p:nvPr/>
          </p:nvSpPr>
          <p:spPr>
            <a:xfrm>
              <a:off x="765000" y="2576520"/>
              <a:ext cx="1484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étodos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absolut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771840" y="4886280"/>
              <a:ext cx="1350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étod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relativ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>
              <a:off x="2904120" y="1738440"/>
              <a:ext cx="2127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orimétricos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903760" y="2347920"/>
              <a:ext cx="28378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Químicos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cc"/>
                  </a:solidFill>
                  <a:latin typeface="Arial"/>
                </a:rPr>
                <a:t>(dosímetro de Fricke)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2904840" y="3073320"/>
              <a:ext cx="3263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Ionométricos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(cámara de ionización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2901240" y="4124160"/>
              <a:ext cx="1571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Fotografí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2904480" y="4657680"/>
              <a:ext cx="146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entelle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2901960" y="5191200"/>
              <a:ext cx="53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T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2901960" y="5724360"/>
              <a:ext cx="218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Ionommétric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6330960" y="2424240"/>
              <a:ext cx="1695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Precisan de conocer un parámetro característic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Line 13"/>
            <p:cNvSpPr/>
            <p:nvPr/>
          </p:nvSpPr>
          <p:spPr>
            <a:xfrm flipV="1">
              <a:off x="2209680" y="1981080"/>
              <a:ext cx="692280" cy="8510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Line 14"/>
            <p:cNvSpPr/>
            <p:nvPr/>
          </p:nvSpPr>
          <p:spPr>
            <a:xfrm flipV="1">
              <a:off x="2209680" y="2590920"/>
              <a:ext cx="692280" cy="241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2209680" y="2832120"/>
              <a:ext cx="692280" cy="368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 flipV="1">
              <a:off x="2133720" y="4443480"/>
              <a:ext cx="691920" cy="698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 flipV="1">
              <a:off x="2133720" y="4900680"/>
              <a:ext cx="691920" cy="241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2133720" y="5141880"/>
              <a:ext cx="691920" cy="291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2133720" y="5141880"/>
              <a:ext cx="622080" cy="825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4883040" y="2521080"/>
              <a:ext cx="1219320" cy="222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 flipV="1">
              <a:off x="4859280" y="2977920"/>
              <a:ext cx="1441440" cy="3063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metría a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1440" y="133020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adiografía: dosis en la superficie de entrada ES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ediante T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actor de sal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luoroscopia: Producto dosis-área (DA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C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Índice de dosis en tomografía computada (CTDI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e la ESD a la dosis en órganos y efectiv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125360"/>
            <a:ext cx="8545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cepto mediante métodos invasivos, no pueden medirse dosis en órg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único modo en radiografía: medida de la dosis en la superficie de entrada (ESD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so de modelos matemáticos para estimar dosis intern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ueden usarse métodos físicos similares a los usados en radioterapia pero no son exacto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odelos matemáticos basados en simulaciones de Monte Carlo: se calcula la historia de millares de fotone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osis en el órgano tabulada como una fracción de la dosis a la entrada para distintas proyecci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ado que la filtración, el tamaño del campo y la orientación influyen: largas listas de tablas (Ver NRPB R262 y NRPB SR26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e la ESD a la dosis en órganos y efectiv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320" y="1267920"/>
            <a:ext cx="86900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 fluoroscopia: campo móvil, medida del producto dosis-área (DAP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 modo similar, dosis en órganos calculadas por métodos de Monte Car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Basados en un modelo matemát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estiman coeficientes de conversión como dosis en órganos por unidad de producto dosis-áre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 nuevo, deben tenerse en cuenta numerosos factores, como proyección, filtración, 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Obtenidas las dosis en órganos, la dosis efectiva se calcula de acuerdo con ICRP60 (ICRP103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0: Evaluación de dosis a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Calibración de instru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04920" y="304920"/>
            <a:ext cx="85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libración de un instrument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2600" y="1267920"/>
            <a:ext cx="85932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ablecer las condiciones de referencia de calibración (CRC) [tipo y energía de la radiación, distancia fuente-detector (SDD), tasa, ...]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arar la respuesta de un instrumento con la de otro (absoluto o calibrad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Obtener el factor de 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9120" y="5257800"/>
            <a:ext cx="8320680" cy="691200"/>
            <a:chOff x="609120" y="5257800"/>
            <a:chExt cx="8320680" cy="691200"/>
          </a:xfrm>
        </p:grpSpPr>
        <p:sp>
          <p:nvSpPr>
            <p:cNvPr id="165" name="Line 6"/>
            <p:cNvSpPr/>
            <p:nvPr/>
          </p:nvSpPr>
          <p:spPr>
            <a:xfrm>
              <a:off x="1101600" y="5605560"/>
              <a:ext cx="52437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6477120" y="5429160"/>
              <a:ext cx="245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1" i="1" lang="en-GB" sz="2000" spc="-1" strike="noStrike">
                  <a:solidFill>
                    <a:srgbClr val="ff9900"/>
                  </a:solidFill>
                  <a:latin typeface="Arial"/>
                </a:rPr>
                <a:t>[unidad adecuada]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1565280" y="5643720"/>
              <a:ext cx="446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9900"/>
                  </a:solidFill>
                  <a:latin typeface="Arial"/>
                </a:rPr>
                <a:t>Respuesta del instrumento a calibra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1459440" y="5257800"/>
              <a:ext cx="492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9900"/>
                  </a:solidFill>
                  <a:latin typeface="Arial"/>
                </a:rPr>
                <a:t>Respuesta del instrumento de referenci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609120" y="54500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99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843120" y="54244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ango (intervalo) de us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28560" y="1197000"/>
            <a:ext cx="8053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Hipótesis</a:t>
            </a:r>
            <a:r>
              <a:rPr b="0" lang="it-IT" sz="2400" spc="-1" strike="noStrike">
                <a:solidFill>
                  <a:srgbClr val="fcd3c1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la lectura del instrumento es una función monotónica conocida de la magnitud medida (usualmente lineal dentro de un cierto </a:t>
            </a:r>
            <a:r>
              <a:rPr b="0" lang="it-IT" sz="2400" spc="-1" strike="noStrike" u="sng">
                <a:solidFill>
                  <a:srgbClr val="eaeaea"/>
                </a:solidFill>
                <a:uFillTx/>
                <a:latin typeface="Arial"/>
              </a:rPr>
              <a:t>margen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especific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2040" y="2790720"/>
            <a:ext cx="7659720" cy="3609360"/>
            <a:chOff x="572040" y="2790720"/>
            <a:chExt cx="7659720" cy="3609360"/>
          </a:xfrm>
        </p:grpSpPr>
        <p:sp>
          <p:nvSpPr>
            <p:cNvPr id="174" name="Line 4"/>
            <p:cNvSpPr/>
            <p:nvPr/>
          </p:nvSpPr>
          <p:spPr>
            <a:xfrm flipV="1">
              <a:off x="2187720" y="2798280"/>
              <a:ext cx="0" cy="29847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>
              <a:off x="2192400" y="5776920"/>
              <a:ext cx="603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 flipV="1">
              <a:off x="2192400" y="4092120"/>
              <a:ext cx="3294000" cy="16909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2192400" y="4405320"/>
              <a:ext cx="2662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4859280" y="4411800"/>
              <a:ext cx="0" cy="13586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Arc 9"/>
            <p:cNvSpPr/>
            <p:nvPr/>
          </p:nvSpPr>
          <p:spPr>
            <a:xfrm rot="10800000">
              <a:off x="2187360" y="3338280"/>
              <a:ext cx="4424040" cy="243180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Arc 10"/>
            <p:cNvSpPr/>
            <p:nvPr/>
          </p:nvSpPr>
          <p:spPr>
            <a:xfrm>
              <a:off x="2187720" y="4978440"/>
              <a:ext cx="1680840" cy="79848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3855960" y="5070600"/>
              <a:ext cx="37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5868000" y="3759120"/>
              <a:ext cx="23637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4000" spc="-1" strike="noStrike">
                  <a:solidFill>
                    <a:srgbClr val="ff9900"/>
                  </a:solidFill>
                  <a:latin typeface="Arial"/>
                </a:rPr>
                <a:t>1/F = tg</a:t>
              </a:r>
              <a:r>
                <a:rPr b="0" lang="it-IT" sz="4000" spc="-1" strike="noStrike">
                  <a:solidFill>
                    <a:srgbClr val="ff9900"/>
                  </a:solidFill>
                  <a:latin typeface="Times New Roman"/>
                </a:rPr>
                <a:t> </a:t>
              </a:r>
              <a:r>
                <a:rPr b="0" lang="it-IT" sz="40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669600" y="2790720"/>
              <a:ext cx="1502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Lectura del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Instrument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6780240" y="5762520"/>
              <a:ext cx="126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Magnitud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medid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2040" y="4071960"/>
              <a:ext cx="1665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Respuesta e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calibrac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3591360" y="5915160"/>
              <a:ext cx="235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Valor de calibrac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4834080" y="5753160"/>
              <a:ext cx="34920" cy="381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9880" y="1523880"/>
            <a:ext cx="77454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revis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iferentes parámetros que influyen en la exposición del pacien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problemas relacionados con la calibración de los instru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métodos dosimétricos existentes aplicables al radiodiagnó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Uso de un instrumento calibra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668240"/>
            <a:ext cx="63057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las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mismas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condiciones de calibración (CRC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ntro del rango de u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90720" y="4365720"/>
            <a:ext cx="7653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Q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magnitud dosimétrica)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= </a:t>
            </a: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x </a:t>
            </a: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lectura del instrument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de corrección para un uso distinto del que depende de las CR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84440" y="2492280"/>
            <a:ext cx="7844040" cy="3104640"/>
            <a:chOff x="784440" y="2492280"/>
            <a:chExt cx="7844040" cy="3104640"/>
          </a:xfrm>
        </p:grpSpPr>
        <p:sp>
          <p:nvSpPr>
            <p:cNvPr id="193" name="Line 8"/>
            <p:cNvSpPr/>
            <p:nvPr/>
          </p:nvSpPr>
          <p:spPr>
            <a:xfrm>
              <a:off x="2489040" y="4545000"/>
              <a:ext cx="505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2489040" y="4238640"/>
              <a:ext cx="505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2489040" y="3922920"/>
              <a:ext cx="505152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2514600" y="3592440"/>
              <a:ext cx="505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2514600" y="3301920"/>
              <a:ext cx="505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2514600" y="2995560"/>
              <a:ext cx="505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2540160" y="2678040"/>
              <a:ext cx="50511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2489040" y="2681280"/>
              <a:ext cx="1800" cy="21780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413080" y="485928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413080" y="454500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2413080" y="423864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2413080" y="3922920"/>
              <a:ext cx="7596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>
              <a:off x="2413080" y="361620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Line 21"/>
            <p:cNvSpPr/>
            <p:nvPr/>
          </p:nvSpPr>
          <p:spPr>
            <a:xfrm>
              <a:off x="2413080" y="330192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>
              <a:off x="2413080" y="299556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2413080" y="2681280"/>
              <a:ext cx="7596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Line 24"/>
            <p:cNvSpPr/>
            <p:nvPr/>
          </p:nvSpPr>
          <p:spPr>
            <a:xfrm>
              <a:off x="2489040" y="4859280"/>
              <a:ext cx="505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2489040" y="4787640"/>
              <a:ext cx="1800" cy="142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Line 26"/>
            <p:cNvSpPr/>
            <p:nvPr/>
          </p:nvSpPr>
          <p:spPr>
            <a:xfrm flipV="1">
              <a:off x="4170240" y="4787640"/>
              <a:ext cx="1800" cy="142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 flipV="1">
              <a:off x="5859360" y="4787640"/>
              <a:ext cx="1800" cy="142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Line 28"/>
            <p:cNvSpPr/>
            <p:nvPr/>
          </p:nvSpPr>
          <p:spPr>
            <a:xfrm flipV="1">
              <a:off x="7540560" y="4787640"/>
              <a:ext cx="1800" cy="142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Line 29"/>
            <p:cNvSpPr/>
            <p:nvPr/>
          </p:nvSpPr>
          <p:spPr>
            <a:xfrm>
              <a:off x="2489040" y="2843280"/>
              <a:ext cx="1681200" cy="557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Line 30"/>
            <p:cNvSpPr/>
            <p:nvPr/>
          </p:nvSpPr>
          <p:spPr>
            <a:xfrm>
              <a:off x="4170240" y="3400560"/>
              <a:ext cx="1689120" cy="379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5859360" y="3780000"/>
              <a:ext cx="1681200" cy="269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Freeform 32"/>
            <p:cNvSpPr/>
            <p:nvPr/>
          </p:nvSpPr>
          <p:spPr>
            <a:xfrm>
              <a:off x="2460600" y="2816280"/>
              <a:ext cx="55440" cy="54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Freeform 33"/>
            <p:cNvSpPr/>
            <p:nvPr/>
          </p:nvSpPr>
          <p:spPr>
            <a:xfrm>
              <a:off x="4141800" y="3373560"/>
              <a:ext cx="55440" cy="54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Freeform 34"/>
            <p:cNvSpPr/>
            <p:nvPr/>
          </p:nvSpPr>
          <p:spPr>
            <a:xfrm>
              <a:off x="5832360" y="3753000"/>
              <a:ext cx="55800" cy="54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7513560" y="4022640"/>
              <a:ext cx="55800" cy="54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36"/>
            <p:cNvSpPr/>
            <p:nvPr/>
          </p:nvSpPr>
          <p:spPr>
            <a:xfrm>
              <a:off x="1865520" y="47340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0.92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37"/>
            <p:cNvSpPr/>
            <p:nvPr/>
          </p:nvSpPr>
          <p:spPr>
            <a:xfrm>
              <a:off x="1865520" y="4417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0.94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38"/>
            <p:cNvSpPr/>
            <p:nvPr/>
          </p:nvSpPr>
          <p:spPr>
            <a:xfrm>
              <a:off x="1865520" y="4111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0.96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39"/>
            <p:cNvSpPr/>
            <p:nvPr/>
          </p:nvSpPr>
          <p:spPr>
            <a:xfrm>
              <a:off x="1865520" y="37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0.98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2176560" y="3490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41"/>
            <p:cNvSpPr/>
            <p:nvPr/>
          </p:nvSpPr>
          <p:spPr>
            <a:xfrm>
              <a:off x="1865520" y="31766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1.02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42"/>
            <p:cNvSpPr/>
            <p:nvPr/>
          </p:nvSpPr>
          <p:spPr>
            <a:xfrm>
              <a:off x="1865520" y="2870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1.04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43"/>
            <p:cNvSpPr/>
            <p:nvPr/>
          </p:nvSpPr>
          <p:spPr>
            <a:xfrm>
              <a:off x="1865520" y="2554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1.06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44"/>
            <p:cNvSpPr/>
            <p:nvPr/>
          </p:nvSpPr>
          <p:spPr>
            <a:xfrm>
              <a:off x="2432160" y="5065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45"/>
            <p:cNvSpPr/>
            <p:nvPr/>
          </p:nvSpPr>
          <p:spPr>
            <a:xfrm>
              <a:off x="4113360" y="5065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46"/>
            <p:cNvSpPr/>
            <p:nvPr/>
          </p:nvSpPr>
          <p:spPr>
            <a:xfrm>
              <a:off x="5803920" y="5065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47"/>
            <p:cNvSpPr/>
            <p:nvPr/>
          </p:nvSpPr>
          <p:spPr>
            <a:xfrm>
              <a:off x="7485120" y="5065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cd3c1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48"/>
            <p:cNvSpPr/>
            <p:nvPr/>
          </p:nvSpPr>
          <p:spPr>
            <a:xfrm>
              <a:off x="7294320" y="533736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Arial"/>
                </a:rPr>
                <a:t>CHR (mm Al)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49"/>
            <p:cNvSpPr/>
            <p:nvPr/>
          </p:nvSpPr>
          <p:spPr>
            <a:xfrm>
              <a:off x="784440" y="2768760"/>
              <a:ext cx="97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</a:rPr>
                <a:t>corrección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50"/>
            <p:cNvSpPr/>
            <p:nvPr/>
          </p:nvSpPr>
          <p:spPr>
            <a:xfrm>
              <a:off x="852480" y="2492280"/>
              <a:ext cx="86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</a:rPr>
                <a:t>Factor d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6" name="Rectangle 4"/>
          <p:cNvSpPr/>
          <p:nvPr/>
        </p:nvSpPr>
        <p:spPr>
          <a:xfrm>
            <a:off x="538200" y="1628640"/>
            <a:ext cx="533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A. Factor de corrección por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de corrección para un uso distinto del que depende de las CR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2476440" y="1916280"/>
          <a:ext cx="4189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1916280"/>
                    <a:ext cx="4189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4"/>
          <p:cNvSpPr/>
          <p:nvPr/>
        </p:nvSpPr>
        <p:spPr>
          <a:xfrm>
            <a:off x="324000" y="1341360"/>
            <a:ext cx="554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B. Factor de corrección direc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de corrección para un uso distinto del que depende de las CR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43040" y="1600200"/>
            <a:ext cx="6637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Factor de corrección por densida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del aire (para cámaras de ionizació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2223720" y="5021280"/>
            <a:ext cx="25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99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2739960" y="5021280"/>
            <a:ext cx="12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99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2425320" y="53071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2862000" y="53071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2593440" y="502128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cd3c1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044160" y="5075280"/>
            <a:ext cx="31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cd3c1"/>
                </a:solidFill>
                <a:latin typeface="Arial"/>
              </a:rPr>
              <a:t>Valores de calibr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3772080" y="3687840"/>
            <a:ext cx="2487600" cy="1440"/>
          </a:xfrm>
          <a:prstGeom prst="line">
            <a:avLst/>
          </a:prstGeom>
          <a:ln w="23760">
            <a:solidFill>
              <a:srgbClr val="fcd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6043320" y="37670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5230800" y="3767040"/>
            <a:ext cx="933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Arial"/>
              </a:rPr>
              <a:t>27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4152600" y="37670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Times New Roman"/>
              </a:rPr>
              <a:t>(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6049440" y="29764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5237280" y="2976480"/>
            <a:ext cx="933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Arial"/>
              </a:rPr>
              <a:t>27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4354200" y="29764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Times New Roman"/>
              </a:rPr>
              <a:t>(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514400" y="41115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cd3c1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4130280" y="3321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cd3c1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4814280" y="370044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4820760" y="290988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3261240" y="32637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d3c1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333680" y="3757680"/>
            <a:ext cx="15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cd3c1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3831840" y="3757680"/>
            <a:ext cx="31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cd3c1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4535280" y="2967120"/>
            <a:ext cx="15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cd3c1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Rectangle 23"/>
          <p:cNvSpPr/>
          <p:nvPr/>
        </p:nvSpPr>
        <p:spPr>
          <a:xfrm>
            <a:off x="3825720" y="2967120"/>
            <a:ext cx="31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cd3c1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2504880" y="3321000"/>
            <a:ext cx="374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cd3c1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2904120" y="367524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fcd3c1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y precisión de un instrumento calibrado (1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195640" y="5318280"/>
            <a:ext cx="5256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Curva A: Instrumento exacto y preci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Curva B: Instrumento exacto pero no preci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Curva C: Instrumento preciso pero no exacto</a:t>
            </a:r>
            <a:r>
              <a:rPr b="0" lang="it-IT" sz="2400" spc="-1" strike="noStrike">
                <a:solidFill>
                  <a:srgbClr val="fcd3c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744200" y="1125360"/>
            <a:ext cx="5707080" cy="3819240"/>
            <a:chOff x="1744200" y="1125360"/>
            <a:chExt cx="5707080" cy="3819240"/>
          </a:xfrm>
        </p:grpSpPr>
        <p:sp>
          <p:nvSpPr>
            <p:cNvPr id="270" name="Line 4"/>
            <p:cNvSpPr/>
            <p:nvPr/>
          </p:nvSpPr>
          <p:spPr>
            <a:xfrm>
              <a:off x="2457360" y="4514400"/>
              <a:ext cx="49939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 flipV="1">
              <a:off x="2457360" y="1314000"/>
              <a:ext cx="0" cy="32004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5974920" y="1390320"/>
              <a:ext cx="842760" cy="2971800"/>
            </a:xfrm>
            <a:prstGeom prst="pie">
              <a:avLst/>
            </a:pr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3582720" y="1390320"/>
              <a:ext cx="844200" cy="2971800"/>
            </a:xfrm>
            <a:prstGeom prst="pie">
              <a:avLst/>
            </a:pr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2668320" y="3524040"/>
              <a:ext cx="2812680" cy="838080"/>
            </a:xfrm>
            <a:prstGeom prst="pie">
              <a:avLst/>
            </a:pr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AutoShape 9"/>
            <p:cNvSpPr/>
            <p:nvPr/>
          </p:nvSpPr>
          <p:spPr>
            <a:xfrm>
              <a:off x="3935160" y="4514400"/>
              <a:ext cx="69480" cy="381240"/>
            </a:xfrm>
            <a:prstGeom prst="upArrow">
              <a:avLst>
                <a:gd name="adj1" fmla="val 50000"/>
                <a:gd name="adj2" fmla="val 137176"/>
              </a:avLst>
            </a:prstGeom>
            <a:solidFill>
              <a:srgbClr val="a31f0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Text Box 10"/>
            <p:cNvSpPr/>
            <p:nvPr/>
          </p:nvSpPr>
          <p:spPr>
            <a:xfrm>
              <a:off x="3990600" y="457632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9900"/>
                  </a:solidFill>
                  <a:latin typeface="Arial"/>
                </a:rPr>
                <a:t>Valor verdade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4132440" y="112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Text Box 12"/>
            <p:cNvSpPr/>
            <p:nvPr/>
          </p:nvSpPr>
          <p:spPr>
            <a:xfrm>
              <a:off x="4835520" y="341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Text Box 13"/>
            <p:cNvSpPr/>
            <p:nvPr/>
          </p:nvSpPr>
          <p:spPr>
            <a:xfrm>
              <a:off x="6680160" y="1236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 rot="16231800">
              <a:off x="1255680" y="1856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Lectur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685800" y="-763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Exactitud y precisión de un instrumento calibrado (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83" name="Group 23"/>
          <p:cNvGrpSpPr/>
          <p:nvPr/>
        </p:nvGrpSpPr>
        <p:grpSpPr>
          <a:xfrm>
            <a:off x="677880" y="1125360"/>
            <a:ext cx="8146080" cy="5149080"/>
            <a:chOff x="677880" y="1125360"/>
            <a:chExt cx="8146080" cy="5149080"/>
          </a:xfrm>
        </p:grpSpPr>
        <p:sp>
          <p:nvSpPr>
            <p:cNvPr id="284" name="Rectangle 3"/>
            <p:cNvSpPr/>
            <p:nvPr/>
          </p:nvSpPr>
          <p:spPr>
            <a:xfrm>
              <a:off x="677880" y="1473120"/>
              <a:ext cx="1838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Trazabilida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785880" y="2266920"/>
              <a:ext cx="1434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Exactitu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2577960" y="1414440"/>
              <a:ext cx="15148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 Narrow"/>
                </a:rPr>
                <a:t>Patrón primari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 Narrow"/>
                </a:rPr>
                <a:t>(medida absoluta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4649760" y="1414440"/>
              <a:ext cx="1534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 Narrow"/>
                </a:rPr>
                <a:t>Patrón secundari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984360" y="1414440"/>
              <a:ext cx="183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 Narrow"/>
                </a:rPr>
                <a:t>Instrumento de camp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Rectangle 8"/>
            <p:cNvSpPr/>
            <p:nvPr/>
          </p:nvSpPr>
          <p:spPr>
            <a:xfrm>
              <a:off x="6083640" y="1131840"/>
              <a:ext cx="1088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cc"/>
                  </a:solidFill>
                  <a:latin typeface="Arial Narrow"/>
                </a:rPr>
                <a:t>Calibració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4590000" y="2049480"/>
              <a:ext cx="12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decre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750600" y="2960640"/>
              <a:ext cx="7775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Incertidumbre relativa asociada a la magnitud dosimétrica Q: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686160" y="4255920"/>
              <a:ext cx="7390080" cy="20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Donde: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1" lang="it-IT" sz="2400" spc="-1" strike="noStrike" baseline="-25000">
                  <a:solidFill>
                    <a:srgbClr val="ff9900"/>
                  </a:solidFill>
                  <a:latin typeface="Arial"/>
                </a:rPr>
                <a:t>C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es la incertidumbre relativa de la lectura del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          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instrumento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calibra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1" lang="it-IT" sz="2400" spc="-1" strike="noStrike" baseline="-25000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es la incertidumbre relativa de la lectura del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	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instrumento de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lectur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681720" y="1125360"/>
              <a:ext cx="1088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cc"/>
                  </a:solidFill>
                  <a:latin typeface="Arial Narrow"/>
                </a:rPr>
                <a:t>Calibració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4027320" y="1563480"/>
              <a:ext cx="6364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389640" y="1563480"/>
              <a:ext cx="6094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2401560" y="2502000"/>
              <a:ext cx="573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Rectangle 21"/>
            <p:cNvSpPr/>
            <p:nvPr/>
          </p:nvSpPr>
          <p:spPr>
            <a:xfrm>
              <a:off x="3421080" y="3646440"/>
              <a:ext cx="2948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0" i="1" lang="en-US" sz="3600" spc="-1" strike="noStrike" baseline="-25000">
                  <a:solidFill>
                    <a:srgbClr val="ff9900"/>
                  </a:solidFill>
                  <a:latin typeface="Arial"/>
                </a:rPr>
                <a:t>Q</a:t>
              </a:r>
              <a:r>
                <a:rPr b="0" i="1" lang="en-US" sz="3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i="1" lang="en-US" sz="3600" spc="-1" strike="noStrike">
                  <a:solidFill>
                    <a:srgbClr val="ff9900"/>
                  </a:solidFill>
                  <a:latin typeface="Arial"/>
                </a:rPr>
                <a:t> ≥ r</a:t>
              </a:r>
              <a:r>
                <a:rPr b="0" i="1" lang="en-US" sz="3600" spc="-1" strike="noStrike" baseline="-25000">
                  <a:solidFill>
                    <a:srgbClr val="ff9900"/>
                  </a:solidFill>
                  <a:latin typeface="Arial"/>
                </a:rPr>
                <a:t>C</a:t>
              </a:r>
              <a:r>
                <a:rPr b="0" i="1" lang="en-US" sz="3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i="1" lang="en-US" sz="3600" spc="-1" strike="noStrike">
                  <a:solidFill>
                    <a:srgbClr val="ff9900"/>
                  </a:solidFill>
                  <a:latin typeface="Arial"/>
                </a:rPr>
                <a:t>  +  r</a:t>
              </a:r>
              <a:r>
                <a:rPr b="0" i="1" lang="en-US" sz="3600" spc="-1" strike="noStrike" baseline="-25000">
                  <a:solidFill>
                    <a:srgbClr val="ff9900"/>
                  </a:solidFill>
                  <a:latin typeface="Arial"/>
                </a:rPr>
                <a:t>R</a:t>
              </a:r>
              <a:r>
                <a:rPr b="0" i="1" lang="en-US" sz="3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quisitos sobre dosímetros para diagnóstic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610560" y="2050920"/>
            <a:ext cx="2552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Trazabilid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784080" y="4071960"/>
            <a:ext cx="20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Exactitu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1574640" y="2870280"/>
            <a:ext cx="6890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No disponibles espectros de rayos X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de referencia bien defini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762560" y="4680000"/>
            <a:ext cx="372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Al menos 10 - 30 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ímites de error en la respuesta de dosímetros para diagnóstic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09480" y="1523880"/>
            <a:ext cx="7925040" cy="4246560"/>
            <a:chOff x="609480" y="1523880"/>
            <a:chExt cx="7925040" cy="4246560"/>
          </a:xfrm>
        </p:grpSpPr>
        <p:sp>
          <p:nvSpPr>
            <p:cNvPr id="305" name="Rectangle 4"/>
            <p:cNvSpPr/>
            <p:nvPr/>
          </p:nvSpPr>
          <p:spPr>
            <a:xfrm>
              <a:off x="609480" y="1523880"/>
              <a:ext cx="197352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9900"/>
                  </a:solidFill>
                  <a:latin typeface="Arial"/>
                </a:rPr>
                <a:t>Parámetr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Rectangle 5"/>
            <p:cNvSpPr/>
            <p:nvPr/>
          </p:nvSpPr>
          <p:spPr>
            <a:xfrm>
              <a:off x="2593800" y="1523880"/>
              <a:ext cx="197352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9900"/>
                  </a:solidFill>
                  <a:latin typeface="Arial"/>
                </a:rPr>
                <a:t>Rango de valor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Rectangle 6"/>
            <p:cNvSpPr/>
            <p:nvPr/>
          </p:nvSpPr>
          <p:spPr>
            <a:xfrm>
              <a:off x="4576680" y="1523880"/>
              <a:ext cx="197496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9900"/>
                  </a:solidFill>
                  <a:latin typeface="Arial"/>
                </a:rPr>
                <a:t>Condición de referenci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Rectangle 7"/>
            <p:cNvSpPr/>
            <p:nvPr/>
          </p:nvSpPr>
          <p:spPr>
            <a:xfrm>
              <a:off x="6561000" y="1523880"/>
              <a:ext cx="197352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9900"/>
                  </a:solidFill>
                  <a:latin typeface="Arial"/>
                </a:rPr>
                <a:t>Desviación (%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609480" y="2233440"/>
              <a:ext cx="1973520" cy="698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Calidad de la radiación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2593800" y="2233440"/>
              <a:ext cx="1973520" cy="698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De acuerdo con fabricant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Rectangle 10"/>
            <p:cNvSpPr/>
            <p:nvPr/>
          </p:nvSpPr>
          <p:spPr>
            <a:xfrm>
              <a:off x="4576680" y="2233440"/>
              <a:ext cx="1974960" cy="698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70 kV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6561000" y="2233440"/>
              <a:ext cx="1973520" cy="698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5-8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609480" y="294336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Tasa de dosi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2593800" y="294336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De acuerdo con fabricant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4576680" y="2943360"/>
              <a:ext cx="197496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--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6561000" y="294336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Rectangle 16"/>
            <p:cNvSpPr/>
            <p:nvPr/>
          </p:nvSpPr>
          <p:spPr>
            <a:xfrm>
              <a:off x="609480" y="365292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cc"/>
                  </a:solidFill>
                  <a:latin typeface="Arial"/>
                </a:rPr>
                <a:t>Dirección de incidencia de la radiac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Rectangle 17"/>
            <p:cNvSpPr/>
            <p:nvPr/>
          </p:nvSpPr>
          <p:spPr>
            <a:xfrm>
              <a:off x="2593800" y="365292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±5°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4576680" y="3652920"/>
              <a:ext cx="197496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Dirección de preferenci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6561000" y="365292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Rectangle 20"/>
            <p:cNvSpPr/>
            <p:nvPr/>
          </p:nvSpPr>
          <p:spPr>
            <a:xfrm>
              <a:off x="609480" y="436248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Presión atmosféric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Rectangle 21"/>
            <p:cNvSpPr/>
            <p:nvPr/>
          </p:nvSpPr>
          <p:spPr>
            <a:xfrm>
              <a:off x="2593800" y="436248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80-106 hP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Rectangle 22"/>
            <p:cNvSpPr/>
            <p:nvPr/>
          </p:nvSpPr>
          <p:spPr>
            <a:xfrm>
              <a:off x="4576680" y="4362480"/>
              <a:ext cx="197496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101.3 hP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Rectangle 23"/>
            <p:cNvSpPr/>
            <p:nvPr/>
          </p:nvSpPr>
          <p:spPr>
            <a:xfrm>
              <a:off x="6561000" y="4362480"/>
              <a:ext cx="1973520" cy="698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Rectangle 24"/>
            <p:cNvSpPr/>
            <p:nvPr/>
          </p:nvSpPr>
          <p:spPr>
            <a:xfrm>
              <a:off x="609480" y="5073480"/>
              <a:ext cx="197352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Temperatura ambient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Rectangle 25"/>
            <p:cNvSpPr/>
            <p:nvPr/>
          </p:nvSpPr>
          <p:spPr>
            <a:xfrm>
              <a:off x="2593800" y="5073480"/>
              <a:ext cx="197352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15-30°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Rectangle 26"/>
            <p:cNvSpPr/>
            <p:nvPr/>
          </p:nvSpPr>
          <p:spPr>
            <a:xfrm>
              <a:off x="4576680" y="5073480"/>
              <a:ext cx="197496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20° C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Rectangle 27"/>
            <p:cNvSpPr/>
            <p:nvPr/>
          </p:nvSpPr>
          <p:spPr>
            <a:xfrm>
              <a:off x="6561000" y="5073480"/>
              <a:ext cx="1973520" cy="696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0: Evaluación de dosis a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4: Medidas de dosis: cómo medir los indicadores de dosis ESD, DAP, CTDI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04920" y="304920"/>
            <a:ext cx="85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Qué queremos medir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radiación a la salida del tubo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roducto dosis-áre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índice de dosis en tomografía computarizada (CTD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dosis en la superficie de entr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90760" y="1557360"/>
            <a:ext cx="6161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ámetros que influyen en la exposición de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étodos de dosi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ibración de instru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das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radiación a la sali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4600" y="1219320"/>
            <a:ext cx="8162640" cy="4923360"/>
            <a:chOff x="534600" y="1219320"/>
            <a:chExt cx="8162640" cy="4923360"/>
          </a:xfrm>
        </p:grpSpPr>
        <p:grpSp>
          <p:nvGrpSpPr>
            <p:cNvPr id="336" name="Group 3"/>
            <p:cNvGrpSpPr/>
            <p:nvPr/>
          </p:nvGrpSpPr>
          <p:grpSpPr>
            <a:xfrm>
              <a:off x="1353960" y="1487520"/>
              <a:ext cx="2630520" cy="4159080"/>
              <a:chOff x="1353960" y="1487520"/>
              <a:chExt cx="2630520" cy="4159080"/>
            </a:xfrm>
          </p:grpSpPr>
          <p:sp>
            <p:nvSpPr>
              <p:cNvPr id="337" name="Freeform 4"/>
              <p:cNvSpPr/>
              <p:nvPr/>
            </p:nvSpPr>
            <p:spPr>
              <a:xfrm>
                <a:off x="2237040" y="1845720"/>
                <a:ext cx="943920" cy="113508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Line 5"/>
              <p:cNvSpPr/>
              <p:nvPr/>
            </p:nvSpPr>
            <p:spPr>
              <a:xfrm>
                <a:off x="2523600" y="2385720"/>
                <a:ext cx="35280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Line 6"/>
              <p:cNvSpPr/>
              <p:nvPr/>
            </p:nvSpPr>
            <p:spPr>
              <a:xfrm>
                <a:off x="2603520" y="2139840"/>
                <a:ext cx="190080" cy="8064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Line 7"/>
              <p:cNvSpPr/>
              <p:nvPr/>
            </p:nvSpPr>
            <p:spPr>
              <a:xfrm flipH="1">
                <a:off x="1789200" y="2192400"/>
                <a:ext cx="907920" cy="30218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Line 8"/>
              <p:cNvSpPr/>
              <p:nvPr/>
            </p:nvSpPr>
            <p:spPr>
              <a:xfrm>
                <a:off x="2697120" y="2189160"/>
                <a:ext cx="902160" cy="3025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Rectangle 9"/>
              <p:cNvSpPr/>
              <p:nvPr/>
            </p:nvSpPr>
            <p:spPr>
              <a:xfrm>
                <a:off x="1353960" y="5226480"/>
                <a:ext cx="2630520" cy="136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 flipH="1">
                <a:off x="2682000" y="1487520"/>
                <a:ext cx="23400" cy="4159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Freeform 11"/>
            <p:cNvSpPr/>
            <p:nvPr/>
          </p:nvSpPr>
          <p:spPr>
            <a:xfrm>
              <a:off x="2986200" y="1635120"/>
              <a:ext cx="1401480" cy="43344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2824200" y="2390760"/>
              <a:ext cx="1488960" cy="36504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1263600" y="5307120"/>
              <a:ext cx="1400400" cy="54108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2062080" y="5137200"/>
              <a:ext cx="1290600" cy="554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>
              <a:off x="2619360" y="4933800"/>
              <a:ext cx="149400" cy="163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3295800" y="5157720"/>
              <a:ext cx="1403280" cy="56844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2725560" y="4605480"/>
              <a:ext cx="1737000" cy="37944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736200" y="2174760"/>
              <a:ext cx="14000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 flipH="1">
              <a:off x="649080" y="5184720"/>
              <a:ext cx="7426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Line 20"/>
            <p:cNvSpPr/>
            <p:nvPr/>
          </p:nvSpPr>
          <p:spPr>
            <a:xfrm>
              <a:off x="828720" y="2193840"/>
              <a:ext cx="0" cy="29577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386520" y="1219320"/>
              <a:ext cx="2417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Tubo de rayos 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546720" y="2367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Filtr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3423960" y="4216320"/>
              <a:ext cx="248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ámara de ioniz.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3502440" y="5357880"/>
              <a:ext cx="251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Lámina de plom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1440000" y="547200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es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34600" y="3338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SD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0" name="Group 27"/>
            <p:cNvGrpSpPr/>
            <p:nvPr/>
          </p:nvGrpSpPr>
          <p:grpSpPr>
            <a:xfrm>
              <a:off x="5888160" y="1644480"/>
              <a:ext cx="2630520" cy="4159440"/>
              <a:chOff x="5888160" y="1644480"/>
              <a:chExt cx="2630520" cy="4159440"/>
            </a:xfrm>
          </p:grpSpPr>
          <p:sp>
            <p:nvSpPr>
              <p:cNvPr id="361" name="Freeform 28"/>
              <p:cNvSpPr/>
              <p:nvPr/>
            </p:nvSpPr>
            <p:spPr>
              <a:xfrm>
                <a:off x="6771240" y="2002680"/>
                <a:ext cx="943560" cy="113508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Line 29"/>
              <p:cNvSpPr/>
              <p:nvPr/>
            </p:nvSpPr>
            <p:spPr>
              <a:xfrm>
                <a:off x="7057800" y="2543040"/>
                <a:ext cx="35280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Line 30"/>
              <p:cNvSpPr/>
              <p:nvPr/>
            </p:nvSpPr>
            <p:spPr>
              <a:xfrm>
                <a:off x="7138080" y="2297160"/>
                <a:ext cx="189720" cy="8064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Line 31"/>
              <p:cNvSpPr/>
              <p:nvPr/>
            </p:nvSpPr>
            <p:spPr>
              <a:xfrm flipH="1">
                <a:off x="6323400" y="2349360"/>
                <a:ext cx="907920" cy="30222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Line 32"/>
              <p:cNvSpPr/>
              <p:nvPr/>
            </p:nvSpPr>
            <p:spPr>
              <a:xfrm>
                <a:off x="7231320" y="2346480"/>
                <a:ext cx="902520" cy="30254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Rectangle 33"/>
              <p:cNvSpPr/>
              <p:nvPr/>
            </p:nvSpPr>
            <p:spPr>
              <a:xfrm>
                <a:off x="5888160" y="5383800"/>
                <a:ext cx="2630520" cy="136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Line 34"/>
              <p:cNvSpPr/>
              <p:nvPr/>
            </p:nvSpPr>
            <p:spPr>
              <a:xfrm flipH="1">
                <a:off x="7216200" y="1644480"/>
                <a:ext cx="23400" cy="415944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35"/>
            <p:cNvSpPr/>
            <p:nvPr/>
          </p:nvSpPr>
          <p:spPr>
            <a:xfrm>
              <a:off x="6595920" y="5294160"/>
              <a:ext cx="1290960" cy="55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Oval 36"/>
            <p:cNvSpPr/>
            <p:nvPr/>
          </p:nvSpPr>
          <p:spPr>
            <a:xfrm>
              <a:off x="7153200" y="5092560"/>
              <a:ext cx="149400" cy="163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6611760" y="4475160"/>
              <a:ext cx="1278000" cy="8794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Freeform 38"/>
            <p:cNvSpPr/>
            <p:nvPr/>
          </p:nvSpPr>
          <p:spPr>
            <a:xfrm>
              <a:off x="6321600" y="4888080"/>
              <a:ext cx="1365120" cy="121572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6534720" y="5688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aniquí (PEP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radiación a la sali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diciones de ope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robación de la consist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alida (o “rendimiento”) en función del kV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alida en función del 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alida en función del tiempo de exposi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ducto dosis-área (DAP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036880" y="1484280"/>
            <a:ext cx="4983120" cy="4402080"/>
            <a:chOff x="2036880" y="1484280"/>
            <a:chExt cx="4983120" cy="4402080"/>
          </a:xfrm>
        </p:grpSpPr>
        <p:graphicFrame>
          <p:nvGraphicFramePr>
            <p:cNvPr id="377" name="Object 0"/>
            <p:cNvGraphicFramePr/>
            <p:nvPr/>
          </p:nvGraphicFramePr>
          <p:xfrm>
            <a:off x="2562480" y="4460760"/>
            <a:ext cx="4398840" cy="114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8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62480" y="4460760"/>
                      <a:ext cx="4398840" cy="114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79" name="Group 4"/>
            <p:cNvGrpSpPr/>
            <p:nvPr/>
          </p:nvGrpSpPr>
          <p:grpSpPr>
            <a:xfrm>
              <a:off x="3598920" y="1484280"/>
              <a:ext cx="2797200" cy="4402080"/>
              <a:chOff x="3598920" y="1484280"/>
              <a:chExt cx="2797200" cy="4402080"/>
            </a:xfrm>
          </p:grpSpPr>
          <p:sp>
            <p:nvSpPr>
              <p:cNvPr id="380" name="Freeform 5"/>
              <p:cNvSpPr/>
              <p:nvPr/>
            </p:nvSpPr>
            <p:spPr>
              <a:xfrm>
                <a:off x="4538160" y="1863360"/>
                <a:ext cx="1003320" cy="120132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Line 6"/>
              <p:cNvSpPr/>
              <p:nvPr/>
            </p:nvSpPr>
            <p:spPr>
              <a:xfrm>
                <a:off x="4842720" y="2435040"/>
                <a:ext cx="37512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Line 7"/>
              <p:cNvSpPr/>
              <p:nvPr/>
            </p:nvSpPr>
            <p:spPr>
              <a:xfrm>
                <a:off x="4928040" y="2174760"/>
                <a:ext cx="201960" cy="8532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Line 8"/>
              <p:cNvSpPr/>
              <p:nvPr/>
            </p:nvSpPr>
            <p:spPr>
              <a:xfrm flipH="1">
                <a:off x="4061880" y="2230200"/>
                <a:ext cx="965520" cy="31986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Line 9"/>
              <p:cNvSpPr/>
              <p:nvPr/>
            </p:nvSpPr>
            <p:spPr>
              <a:xfrm>
                <a:off x="5027760" y="2226960"/>
                <a:ext cx="959400" cy="32018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Rectangle 10"/>
              <p:cNvSpPr/>
              <p:nvPr/>
            </p:nvSpPr>
            <p:spPr>
              <a:xfrm>
                <a:off x="3598920" y="5441760"/>
                <a:ext cx="2797200" cy="144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Line 11"/>
              <p:cNvSpPr/>
              <p:nvPr/>
            </p:nvSpPr>
            <p:spPr>
              <a:xfrm flipH="1">
                <a:off x="5010840" y="1484280"/>
                <a:ext cx="24840" cy="4402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3"/>
            <p:cNvSpPr/>
            <p:nvPr/>
          </p:nvSpPr>
          <p:spPr>
            <a:xfrm>
              <a:off x="4329360" y="3536640"/>
              <a:ext cx="1319040" cy="87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5648400" y="3573360"/>
              <a:ext cx="9763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6662880" y="3379680"/>
              <a:ext cx="304920" cy="32976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6756120" y="3450960"/>
              <a:ext cx="144360" cy="20124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Rectangle 17"/>
            <p:cNvSpPr/>
            <p:nvPr/>
          </p:nvSpPr>
          <p:spPr>
            <a:xfrm>
              <a:off x="2036880" y="2647800"/>
              <a:ext cx="2171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ámara de ionización de trasmis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Rectangle 18"/>
            <p:cNvSpPr/>
            <p:nvPr/>
          </p:nvSpPr>
          <p:spPr>
            <a:xfrm>
              <a:off x="2535480" y="5451120"/>
              <a:ext cx="4484520" cy="144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ducto dosis-área (DAP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5760" y="4022640"/>
            <a:ext cx="8529840" cy="1551960"/>
            <a:chOff x="455760" y="4022640"/>
            <a:chExt cx="8529840" cy="1551960"/>
          </a:xfrm>
        </p:grpSpPr>
        <p:sp>
          <p:nvSpPr>
            <p:cNvPr id="395" name="Rectangle 8"/>
            <p:cNvSpPr/>
            <p:nvPr/>
          </p:nvSpPr>
          <p:spPr>
            <a:xfrm>
              <a:off x="455760" y="4022640"/>
              <a:ext cx="29732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Kerma-aire: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Área: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Producto</a:t>
              </a:r>
              <a:br>
                <a:rPr sz="2400"/>
              </a:br>
              <a:r>
                <a:rPr b="0" lang="it-IT" sz="2400" spc="-1" strike="noStrike">
                  <a:solidFill>
                    <a:srgbClr val="ff9900"/>
                  </a:solidFill>
                  <a:latin typeface="Arial"/>
                </a:rPr>
                <a:t>kerma-áre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2102760" y="4038480"/>
              <a:ext cx="1769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r>
                <a:rPr b="0" lang="it-IT" sz="2400" spc="-1" strike="noStrike">
                  <a:solidFill>
                    <a:srgbClr val="ffffcc"/>
                  </a:solidFill>
                  <a:latin typeface="Wingdings 2"/>
                  <a:ea typeface="Wingdings 2"/>
                </a:rPr>
                <a:t>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G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2.5</a:t>
              </a:r>
              <a:r>
                <a:rPr b="0" lang="it-IT" sz="2400" spc="-1" strike="noStrike">
                  <a:solidFill>
                    <a:srgbClr val="ffffcc"/>
                  </a:solidFill>
                  <a:latin typeface="Wingdings 2"/>
                  <a:ea typeface="Wingdings 2"/>
                </a:rPr>
                <a:t>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-3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r>
                <a:rPr b="0" lang="it-IT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Gy m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3938400" y="4038480"/>
              <a:ext cx="18399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 </a:t>
              </a:r>
              <a:r>
                <a:rPr b="0" lang="it-IT" sz="2400" spc="-1" strike="noStrike">
                  <a:solidFill>
                    <a:srgbClr val="ffffcc"/>
                  </a:solidFill>
                  <a:latin typeface="Wingdings 2"/>
                  <a:ea typeface="Wingdings 2"/>
                </a:rPr>
                <a:t></a:t>
              </a:r>
              <a:r>
                <a:rPr b="0" lang="it-IT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G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 </a:t>
              </a:r>
              <a:r>
                <a:rPr b="0" lang="it-IT" sz="2400" spc="-1" strike="noStrike">
                  <a:solidFill>
                    <a:srgbClr val="ffffcc"/>
                  </a:solidFill>
                  <a:latin typeface="Wingdings 2"/>
                  <a:ea typeface="Wingdings 2"/>
                </a:rPr>
                <a:t></a:t>
              </a:r>
              <a:r>
                <a:rPr b="0" lang="it-IT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-3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0 </a:t>
              </a:r>
              <a:r>
                <a:rPr b="0" lang="it-IT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Gy m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7060320" y="4037040"/>
              <a:ext cx="19252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2.5 </a:t>
              </a:r>
              <a:r>
                <a:rPr b="0" lang="it-IT" sz="2400" spc="-1" strike="noStrike">
                  <a:solidFill>
                    <a:srgbClr val="ffffcc"/>
                  </a:solidFill>
                  <a:latin typeface="Wingdings 2"/>
                  <a:ea typeface="Wingdings 2"/>
                </a:rPr>
                <a:t></a:t>
              </a:r>
              <a:r>
                <a:rPr b="0" lang="it-IT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G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40 </a:t>
              </a:r>
              <a:r>
                <a:rPr b="0" lang="it-IT" sz="2400" spc="-1" strike="noStrike">
                  <a:solidFill>
                    <a:srgbClr val="ffffcc"/>
                  </a:solidFill>
                  <a:latin typeface="Wingdings 2"/>
                  <a:ea typeface="Wingdings 2"/>
                </a:rPr>
                <a:t></a:t>
              </a:r>
              <a:r>
                <a:rPr b="0" lang="it-IT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-3 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m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r>
                <a:rPr b="0" lang="it-IT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Gy m</a:t>
              </a:r>
              <a:r>
                <a:rPr b="0" lang="it-IT" sz="2400" spc="-1" strike="noStrike" baseline="30000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90720" y="1447920"/>
            <a:ext cx="7392600" cy="2514960"/>
            <a:chOff x="990720" y="1447920"/>
            <a:chExt cx="7392600" cy="2514960"/>
          </a:xfrm>
        </p:grpSpPr>
        <p:sp>
          <p:nvSpPr>
            <p:cNvPr id="400" name="Line 3"/>
            <p:cNvSpPr/>
            <p:nvPr/>
          </p:nvSpPr>
          <p:spPr>
            <a:xfrm flipV="1">
              <a:off x="990720" y="1447920"/>
              <a:ext cx="7162560" cy="1063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>
              <a:off x="1003320" y="2525760"/>
              <a:ext cx="7226280" cy="12081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2437560" y="279396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0.5 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Rectangle 6"/>
            <p:cNvSpPr/>
            <p:nvPr/>
          </p:nvSpPr>
          <p:spPr>
            <a:xfrm>
              <a:off x="4110840" y="307980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7133400" y="350820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2 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Rectangle 12"/>
            <p:cNvSpPr/>
            <p:nvPr/>
          </p:nvSpPr>
          <p:spPr>
            <a:xfrm rot="2700000">
              <a:off x="2660400" y="2368440"/>
              <a:ext cx="330120" cy="304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6" name="Group 13"/>
            <p:cNvGrpSpPr/>
            <p:nvPr/>
          </p:nvGrpSpPr>
          <p:grpSpPr>
            <a:xfrm>
              <a:off x="3874680" y="1985400"/>
              <a:ext cx="1089360" cy="1134720"/>
              <a:chOff x="3874680" y="1985400"/>
              <a:chExt cx="1089360" cy="1134720"/>
            </a:xfrm>
          </p:grpSpPr>
          <p:sp>
            <p:nvSpPr>
              <p:cNvPr id="407" name="Rectangle 14"/>
              <p:cNvSpPr/>
              <p:nvPr/>
            </p:nvSpPr>
            <p:spPr>
              <a:xfrm rot="2700000">
                <a:off x="3946680" y="2366640"/>
                <a:ext cx="402120" cy="3711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Rectangle 15"/>
              <p:cNvSpPr/>
              <p:nvPr/>
            </p:nvSpPr>
            <p:spPr>
              <a:xfrm rot="2700000">
                <a:off x="4217760" y="2660760"/>
                <a:ext cx="402120" cy="3711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Rectangle 16"/>
              <p:cNvSpPr/>
              <p:nvPr/>
            </p:nvSpPr>
            <p:spPr>
              <a:xfrm rot="2700000">
                <a:off x="4489200" y="2366640"/>
                <a:ext cx="402120" cy="3711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Rectangle 17"/>
              <p:cNvSpPr/>
              <p:nvPr/>
            </p:nvSpPr>
            <p:spPr>
              <a:xfrm rot="2700000">
                <a:off x="4217400" y="2073240"/>
                <a:ext cx="402480" cy="3711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18"/>
            <p:cNvGrpSpPr/>
            <p:nvPr/>
          </p:nvGrpSpPr>
          <p:grpSpPr>
            <a:xfrm>
              <a:off x="6474600" y="1572120"/>
              <a:ext cx="1908720" cy="2043360"/>
              <a:chOff x="6474600" y="1572120"/>
              <a:chExt cx="1908720" cy="2043360"/>
            </a:xfrm>
          </p:grpSpPr>
          <p:grpSp>
            <p:nvGrpSpPr>
              <p:cNvPr id="412" name="Group 19"/>
              <p:cNvGrpSpPr/>
              <p:nvPr/>
            </p:nvGrpSpPr>
            <p:grpSpPr>
              <a:xfrm>
                <a:off x="6474600" y="2089800"/>
                <a:ext cx="959760" cy="1004040"/>
                <a:chOff x="6474600" y="2089800"/>
                <a:chExt cx="959760" cy="1004040"/>
              </a:xfrm>
            </p:grpSpPr>
            <p:sp>
              <p:nvSpPr>
                <p:cNvPr id="413" name="Rectangle 20"/>
                <p:cNvSpPr/>
                <p:nvPr/>
              </p:nvSpPr>
              <p:spPr>
                <a:xfrm rot="2700000">
                  <a:off x="6537600" y="2428560"/>
                  <a:ext cx="35640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21"/>
                <p:cNvSpPr/>
                <p:nvPr/>
              </p:nvSpPr>
              <p:spPr>
                <a:xfrm rot="2700000">
                  <a:off x="6775920" y="2689200"/>
                  <a:ext cx="35640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22"/>
                <p:cNvSpPr/>
                <p:nvPr/>
              </p:nvSpPr>
              <p:spPr>
                <a:xfrm rot="2700000">
                  <a:off x="7014600" y="2428560"/>
                  <a:ext cx="35640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Rectangle 23"/>
                <p:cNvSpPr/>
                <p:nvPr/>
              </p:nvSpPr>
              <p:spPr>
                <a:xfrm rot="2700000">
                  <a:off x="6775920" y="2167920"/>
                  <a:ext cx="35676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24"/>
              <p:cNvGrpSpPr/>
              <p:nvPr/>
            </p:nvGrpSpPr>
            <p:grpSpPr>
              <a:xfrm>
                <a:off x="6946920" y="1572120"/>
                <a:ext cx="960120" cy="1004040"/>
                <a:chOff x="6946920" y="1572120"/>
                <a:chExt cx="960120" cy="1004040"/>
              </a:xfrm>
            </p:grpSpPr>
            <p:sp>
              <p:nvSpPr>
                <p:cNvPr id="418" name="Rectangle 25"/>
                <p:cNvSpPr/>
                <p:nvPr/>
              </p:nvSpPr>
              <p:spPr>
                <a:xfrm rot="2700000">
                  <a:off x="7009920" y="1910520"/>
                  <a:ext cx="35640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26"/>
                <p:cNvSpPr/>
                <p:nvPr/>
              </p:nvSpPr>
              <p:spPr>
                <a:xfrm rot="2700000">
                  <a:off x="7248240" y="2171160"/>
                  <a:ext cx="35676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27"/>
                <p:cNvSpPr/>
                <p:nvPr/>
              </p:nvSpPr>
              <p:spPr>
                <a:xfrm rot="2700000">
                  <a:off x="7487280" y="1910520"/>
                  <a:ext cx="35640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28"/>
                <p:cNvSpPr/>
                <p:nvPr/>
              </p:nvSpPr>
              <p:spPr>
                <a:xfrm rot="2700000">
                  <a:off x="7248240" y="1650240"/>
                  <a:ext cx="35640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29"/>
              <p:cNvGrpSpPr/>
              <p:nvPr/>
            </p:nvGrpSpPr>
            <p:grpSpPr>
              <a:xfrm>
                <a:off x="7422840" y="2087640"/>
                <a:ext cx="960480" cy="1004400"/>
                <a:chOff x="7422840" y="2087640"/>
                <a:chExt cx="960480" cy="1004400"/>
              </a:xfrm>
            </p:grpSpPr>
            <p:sp>
              <p:nvSpPr>
                <p:cNvPr id="423" name="Rectangle 30"/>
                <p:cNvSpPr/>
                <p:nvPr/>
              </p:nvSpPr>
              <p:spPr>
                <a:xfrm rot="2700000">
                  <a:off x="7485840" y="2426400"/>
                  <a:ext cx="35676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31"/>
                <p:cNvSpPr/>
                <p:nvPr/>
              </p:nvSpPr>
              <p:spPr>
                <a:xfrm rot="2700000">
                  <a:off x="7724520" y="2687040"/>
                  <a:ext cx="356400" cy="3268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32"/>
                <p:cNvSpPr/>
                <p:nvPr/>
              </p:nvSpPr>
              <p:spPr>
                <a:xfrm rot="2700000">
                  <a:off x="7963200" y="2426400"/>
                  <a:ext cx="35676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33"/>
                <p:cNvSpPr/>
                <p:nvPr/>
              </p:nvSpPr>
              <p:spPr>
                <a:xfrm rot="2700000">
                  <a:off x="7724520" y="2165760"/>
                  <a:ext cx="356400" cy="3268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34"/>
              <p:cNvGrpSpPr/>
              <p:nvPr/>
            </p:nvGrpSpPr>
            <p:grpSpPr>
              <a:xfrm>
                <a:off x="6951600" y="2611080"/>
                <a:ext cx="960480" cy="1004400"/>
                <a:chOff x="6951600" y="2611080"/>
                <a:chExt cx="960480" cy="1004400"/>
              </a:xfrm>
            </p:grpSpPr>
            <p:sp>
              <p:nvSpPr>
                <p:cNvPr id="428" name="Rectangle 35"/>
                <p:cNvSpPr/>
                <p:nvPr/>
              </p:nvSpPr>
              <p:spPr>
                <a:xfrm rot="2700000">
                  <a:off x="7014600" y="2949840"/>
                  <a:ext cx="35676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36"/>
                <p:cNvSpPr/>
                <p:nvPr/>
              </p:nvSpPr>
              <p:spPr>
                <a:xfrm rot="2700000">
                  <a:off x="7253280" y="3210480"/>
                  <a:ext cx="356400" cy="3268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37"/>
                <p:cNvSpPr/>
                <p:nvPr/>
              </p:nvSpPr>
              <p:spPr>
                <a:xfrm rot="2700000">
                  <a:off x="7491960" y="2949840"/>
                  <a:ext cx="356760" cy="32652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38"/>
                <p:cNvSpPr/>
                <p:nvPr/>
              </p:nvSpPr>
              <p:spPr>
                <a:xfrm rot="2700000">
                  <a:off x="7253280" y="2689200"/>
                  <a:ext cx="356400" cy="3268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libración de un medidor del producto dosis-área (DAP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3" name="Group 43"/>
          <p:cNvGrpSpPr/>
          <p:nvPr/>
        </p:nvGrpSpPr>
        <p:grpSpPr>
          <a:xfrm>
            <a:off x="685800" y="1268280"/>
            <a:ext cx="8148960" cy="4390560"/>
            <a:chOff x="685800" y="1268280"/>
            <a:chExt cx="8148960" cy="4390560"/>
          </a:xfrm>
        </p:grpSpPr>
        <p:grpSp>
          <p:nvGrpSpPr>
            <p:cNvPr id="434" name="Group 3"/>
            <p:cNvGrpSpPr/>
            <p:nvPr/>
          </p:nvGrpSpPr>
          <p:grpSpPr>
            <a:xfrm>
              <a:off x="685800" y="1268280"/>
              <a:ext cx="2684160" cy="4178520"/>
              <a:chOff x="685800" y="1268280"/>
              <a:chExt cx="2684160" cy="4178520"/>
            </a:xfrm>
          </p:grpSpPr>
          <p:sp>
            <p:nvSpPr>
              <p:cNvPr id="435" name="Freeform 4"/>
              <p:cNvSpPr/>
              <p:nvPr/>
            </p:nvSpPr>
            <p:spPr>
              <a:xfrm>
                <a:off x="1586880" y="1628280"/>
                <a:ext cx="962640" cy="114048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Line 5"/>
              <p:cNvSpPr/>
              <p:nvPr/>
            </p:nvSpPr>
            <p:spPr>
              <a:xfrm>
                <a:off x="1879560" y="2170440"/>
                <a:ext cx="35964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Line 6"/>
              <p:cNvSpPr/>
              <p:nvPr/>
            </p:nvSpPr>
            <p:spPr>
              <a:xfrm>
                <a:off x="1960920" y="1923480"/>
                <a:ext cx="194040" cy="8100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Line 7"/>
              <p:cNvSpPr/>
              <p:nvPr/>
            </p:nvSpPr>
            <p:spPr>
              <a:xfrm flipH="1">
                <a:off x="1129320" y="1976400"/>
                <a:ext cx="926280" cy="30358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Line 8"/>
              <p:cNvSpPr/>
              <p:nvPr/>
            </p:nvSpPr>
            <p:spPr>
              <a:xfrm>
                <a:off x="2056320" y="1973520"/>
                <a:ext cx="920880" cy="30391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685800" y="5024520"/>
                <a:ext cx="2684160" cy="137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 flipH="1">
                <a:off x="2041200" y="1268280"/>
                <a:ext cx="23760" cy="417852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11"/>
            <p:cNvGrpSpPr/>
            <p:nvPr/>
          </p:nvGrpSpPr>
          <p:grpSpPr>
            <a:xfrm>
              <a:off x="1386720" y="3067200"/>
              <a:ext cx="2531880" cy="313200"/>
              <a:chOff x="1386720" y="3067200"/>
              <a:chExt cx="2531880" cy="313200"/>
            </a:xfrm>
          </p:grpSpPr>
          <p:sp>
            <p:nvSpPr>
              <p:cNvPr id="443" name="Rectangle 12"/>
              <p:cNvSpPr/>
              <p:nvPr/>
            </p:nvSpPr>
            <p:spPr>
              <a:xfrm>
                <a:off x="1386720" y="3216240"/>
                <a:ext cx="1266480" cy="82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2651760" y="3250800"/>
                <a:ext cx="93744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Oval 14"/>
              <p:cNvSpPr/>
              <p:nvPr/>
            </p:nvSpPr>
            <p:spPr>
              <a:xfrm>
                <a:off x="3626280" y="3067200"/>
                <a:ext cx="292320" cy="313200"/>
              </a:xfrm>
              <a:prstGeom prst="ellipse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Line 15"/>
              <p:cNvSpPr/>
              <p:nvPr/>
            </p:nvSpPr>
            <p:spPr>
              <a:xfrm flipH="1">
                <a:off x="3715920" y="3134880"/>
                <a:ext cx="137520" cy="19116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6"/>
            <p:cNvGrpSpPr/>
            <p:nvPr/>
          </p:nvGrpSpPr>
          <p:grpSpPr>
            <a:xfrm>
              <a:off x="4593240" y="1276920"/>
              <a:ext cx="2684160" cy="4178880"/>
              <a:chOff x="4593240" y="1276920"/>
              <a:chExt cx="2684160" cy="4178880"/>
            </a:xfrm>
          </p:grpSpPr>
          <p:sp>
            <p:nvSpPr>
              <p:cNvPr id="448" name="Freeform 17"/>
              <p:cNvSpPr/>
              <p:nvPr/>
            </p:nvSpPr>
            <p:spPr>
              <a:xfrm>
                <a:off x="5494320" y="1636920"/>
                <a:ext cx="962640" cy="114048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Line 18"/>
              <p:cNvSpPr/>
              <p:nvPr/>
            </p:nvSpPr>
            <p:spPr>
              <a:xfrm>
                <a:off x="5787000" y="2179440"/>
                <a:ext cx="35964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5868360" y="1932480"/>
                <a:ext cx="193680" cy="8100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 flipH="1">
                <a:off x="5037120" y="1985040"/>
                <a:ext cx="926280" cy="30362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Line 21"/>
              <p:cNvSpPr/>
              <p:nvPr/>
            </p:nvSpPr>
            <p:spPr>
              <a:xfrm>
                <a:off x="5964120" y="1982160"/>
                <a:ext cx="920880" cy="30394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Rectangle 22"/>
              <p:cNvSpPr/>
              <p:nvPr/>
            </p:nvSpPr>
            <p:spPr>
              <a:xfrm>
                <a:off x="4593240" y="5033520"/>
                <a:ext cx="2684160" cy="136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Line 23"/>
              <p:cNvSpPr/>
              <p:nvPr/>
            </p:nvSpPr>
            <p:spPr>
              <a:xfrm flipH="1">
                <a:off x="5948640" y="1276920"/>
                <a:ext cx="23760" cy="41788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24"/>
            <p:cNvGrpSpPr/>
            <p:nvPr/>
          </p:nvGrpSpPr>
          <p:grpSpPr>
            <a:xfrm>
              <a:off x="5292360" y="3076560"/>
              <a:ext cx="2533320" cy="313200"/>
              <a:chOff x="5292360" y="3076560"/>
              <a:chExt cx="2533320" cy="313200"/>
            </a:xfrm>
          </p:grpSpPr>
          <p:sp>
            <p:nvSpPr>
              <p:cNvPr id="456" name="Rectangle 25"/>
              <p:cNvSpPr/>
              <p:nvPr/>
            </p:nvSpPr>
            <p:spPr>
              <a:xfrm>
                <a:off x="5292360" y="3225240"/>
                <a:ext cx="1267200" cy="82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Line 26"/>
              <p:cNvSpPr/>
              <p:nvPr/>
            </p:nvSpPr>
            <p:spPr>
              <a:xfrm>
                <a:off x="6558480" y="3260160"/>
                <a:ext cx="93816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Oval 27"/>
              <p:cNvSpPr/>
              <p:nvPr/>
            </p:nvSpPr>
            <p:spPr>
              <a:xfrm>
                <a:off x="7533360" y="3076560"/>
                <a:ext cx="292320" cy="313200"/>
              </a:xfrm>
              <a:prstGeom prst="ellipse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Line 28"/>
              <p:cNvSpPr/>
              <p:nvPr/>
            </p:nvSpPr>
            <p:spPr>
              <a:xfrm flipH="1">
                <a:off x="7623360" y="3143880"/>
                <a:ext cx="137520" cy="19116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60" name="Rectangle 29"/>
            <p:cNvSpPr/>
            <p:nvPr/>
          </p:nvSpPr>
          <p:spPr>
            <a:xfrm>
              <a:off x="993600" y="4871160"/>
              <a:ext cx="2192040" cy="123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Freeform 30"/>
            <p:cNvSpPr/>
            <p:nvPr/>
          </p:nvSpPr>
          <p:spPr>
            <a:xfrm>
              <a:off x="2710440" y="4078440"/>
              <a:ext cx="1735200" cy="85572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Line 31"/>
            <p:cNvSpPr/>
            <p:nvPr/>
          </p:nvSpPr>
          <p:spPr>
            <a:xfrm>
              <a:off x="1177920" y="4491360"/>
              <a:ext cx="0" cy="104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Line 32"/>
            <p:cNvSpPr/>
            <p:nvPr/>
          </p:nvSpPr>
          <p:spPr>
            <a:xfrm>
              <a:off x="2975400" y="4559400"/>
              <a:ext cx="0" cy="10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Line 33"/>
            <p:cNvSpPr/>
            <p:nvPr/>
          </p:nvSpPr>
          <p:spPr>
            <a:xfrm>
              <a:off x="1183680" y="5556960"/>
              <a:ext cx="17730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Rectangle 34"/>
            <p:cNvSpPr/>
            <p:nvPr/>
          </p:nvSpPr>
          <p:spPr>
            <a:xfrm>
              <a:off x="3133440" y="37170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hasi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Rectangle 35"/>
            <p:cNvSpPr/>
            <p:nvPr/>
          </p:nvSpPr>
          <p:spPr>
            <a:xfrm>
              <a:off x="1623960" y="5193360"/>
              <a:ext cx="101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 c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Line 36"/>
            <p:cNvSpPr/>
            <p:nvPr/>
          </p:nvSpPr>
          <p:spPr>
            <a:xfrm>
              <a:off x="5059800" y="4500360"/>
              <a:ext cx="0" cy="1045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Line 37"/>
            <p:cNvSpPr/>
            <p:nvPr/>
          </p:nvSpPr>
          <p:spPr>
            <a:xfrm>
              <a:off x="6857280" y="4568040"/>
              <a:ext cx="0" cy="1045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Line 38"/>
            <p:cNvSpPr/>
            <p:nvPr/>
          </p:nvSpPr>
          <p:spPr>
            <a:xfrm>
              <a:off x="5065560" y="5565600"/>
              <a:ext cx="17730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Rectangle 39"/>
            <p:cNvSpPr/>
            <p:nvPr/>
          </p:nvSpPr>
          <p:spPr>
            <a:xfrm>
              <a:off x="5505480" y="5204160"/>
              <a:ext cx="101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10 c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Rectangle 40"/>
            <p:cNvSpPr/>
            <p:nvPr/>
          </p:nvSpPr>
          <p:spPr>
            <a:xfrm>
              <a:off x="7146000" y="3701880"/>
              <a:ext cx="1688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ámara d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ioniz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Oval 41"/>
            <p:cNvSpPr/>
            <p:nvPr/>
          </p:nvSpPr>
          <p:spPr>
            <a:xfrm>
              <a:off x="5829120" y="4735440"/>
              <a:ext cx="241920" cy="25884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Freeform 42"/>
            <p:cNvSpPr/>
            <p:nvPr/>
          </p:nvSpPr>
          <p:spPr>
            <a:xfrm>
              <a:off x="6025680" y="4078440"/>
              <a:ext cx="2469240" cy="67968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2240" y="44280"/>
            <a:ext cx="8537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Índice de Dosis en Tomografía Computarizada (CTD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266840" y="1749600"/>
            <a:ext cx="7088760" cy="3767040"/>
            <a:chOff x="1266840" y="1749600"/>
            <a:chExt cx="7088760" cy="3767040"/>
          </a:xfrm>
        </p:grpSpPr>
        <p:sp>
          <p:nvSpPr>
            <p:cNvPr id="476" name="Line 22"/>
            <p:cNvSpPr/>
            <p:nvPr/>
          </p:nvSpPr>
          <p:spPr>
            <a:xfrm>
              <a:off x="1536840" y="3973680"/>
              <a:ext cx="29113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Line 23"/>
            <p:cNvSpPr/>
            <p:nvPr/>
          </p:nvSpPr>
          <p:spPr>
            <a:xfrm>
              <a:off x="1536840" y="3524400"/>
              <a:ext cx="29113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>
              <a:off x="1536840" y="3075120"/>
              <a:ext cx="29113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>
              <a:off x="1536840" y="2625840"/>
              <a:ext cx="29113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Line 26"/>
            <p:cNvSpPr/>
            <p:nvPr/>
          </p:nvSpPr>
          <p:spPr>
            <a:xfrm>
              <a:off x="1536840" y="2176560"/>
              <a:ext cx="29113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Rectangle 27"/>
            <p:cNvSpPr/>
            <p:nvPr/>
          </p:nvSpPr>
          <p:spPr>
            <a:xfrm>
              <a:off x="1536840" y="4384800"/>
              <a:ext cx="242640" cy="381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Rectangle 28"/>
            <p:cNvSpPr/>
            <p:nvPr/>
          </p:nvSpPr>
          <p:spPr>
            <a:xfrm>
              <a:off x="1779480" y="4365720"/>
              <a:ext cx="244440" cy="5724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Rectangle 29"/>
            <p:cNvSpPr/>
            <p:nvPr/>
          </p:nvSpPr>
          <p:spPr>
            <a:xfrm>
              <a:off x="2023920" y="4283280"/>
              <a:ext cx="238320" cy="13968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Rectangle 30"/>
            <p:cNvSpPr/>
            <p:nvPr/>
          </p:nvSpPr>
          <p:spPr>
            <a:xfrm>
              <a:off x="2262240" y="3789720"/>
              <a:ext cx="244440" cy="63324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Rectangle 31"/>
            <p:cNvSpPr/>
            <p:nvPr/>
          </p:nvSpPr>
          <p:spPr>
            <a:xfrm>
              <a:off x="2506680" y="2935440"/>
              <a:ext cx="244440" cy="14875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Rectangle 32"/>
            <p:cNvSpPr/>
            <p:nvPr/>
          </p:nvSpPr>
          <p:spPr>
            <a:xfrm>
              <a:off x="2751120" y="2683080"/>
              <a:ext cx="243000" cy="173988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Rectangle 33"/>
            <p:cNvSpPr/>
            <p:nvPr/>
          </p:nvSpPr>
          <p:spPr>
            <a:xfrm>
              <a:off x="2994120" y="3113280"/>
              <a:ext cx="239760" cy="130968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Rectangle 34"/>
            <p:cNvSpPr/>
            <p:nvPr/>
          </p:nvSpPr>
          <p:spPr>
            <a:xfrm>
              <a:off x="3233880" y="3872160"/>
              <a:ext cx="242640" cy="55080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Rectangle 35"/>
            <p:cNvSpPr/>
            <p:nvPr/>
          </p:nvSpPr>
          <p:spPr>
            <a:xfrm>
              <a:off x="3476520" y="4334040"/>
              <a:ext cx="244440" cy="8892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Rectangle 36"/>
            <p:cNvSpPr/>
            <p:nvPr/>
          </p:nvSpPr>
          <p:spPr>
            <a:xfrm>
              <a:off x="3720960" y="4372200"/>
              <a:ext cx="244440" cy="507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Rectangle 37"/>
            <p:cNvSpPr/>
            <p:nvPr/>
          </p:nvSpPr>
          <p:spPr>
            <a:xfrm>
              <a:off x="3965400" y="4384800"/>
              <a:ext cx="238320" cy="381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Rectangle 38"/>
            <p:cNvSpPr/>
            <p:nvPr/>
          </p:nvSpPr>
          <p:spPr>
            <a:xfrm>
              <a:off x="4203720" y="4391280"/>
              <a:ext cx="244440" cy="3168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Line 39"/>
            <p:cNvSpPr/>
            <p:nvPr/>
          </p:nvSpPr>
          <p:spPr>
            <a:xfrm>
              <a:off x="1536840" y="2176560"/>
              <a:ext cx="1440" cy="22464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Line 40"/>
            <p:cNvSpPr/>
            <p:nvPr/>
          </p:nvSpPr>
          <p:spPr>
            <a:xfrm>
              <a:off x="1488960" y="4422960"/>
              <a:ext cx="4788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Line 41"/>
            <p:cNvSpPr/>
            <p:nvPr/>
          </p:nvSpPr>
          <p:spPr>
            <a:xfrm>
              <a:off x="1488960" y="3973680"/>
              <a:ext cx="4788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Line 42"/>
            <p:cNvSpPr/>
            <p:nvPr/>
          </p:nvSpPr>
          <p:spPr>
            <a:xfrm>
              <a:off x="1488960" y="3524400"/>
              <a:ext cx="4788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Line 43"/>
            <p:cNvSpPr/>
            <p:nvPr/>
          </p:nvSpPr>
          <p:spPr>
            <a:xfrm>
              <a:off x="1488960" y="3075120"/>
              <a:ext cx="4788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Line 44"/>
            <p:cNvSpPr/>
            <p:nvPr/>
          </p:nvSpPr>
          <p:spPr>
            <a:xfrm>
              <a:off x="1488960" y="2625840"/>
              <a:ext cx="4788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Line 45"/>
            <p:cNvSpPr/>
            <p:nvPr/>
          </p:nvSpPr>
          <p:spPr>
            <a:xfrm>
              <a:off x="1488960" y="2176560"/>
              <a:ext cx="4788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Line 46"/>
            <p:cNvSpPr/>
            <p:nvPr/>
          </p:nvSpPr>
          <p:spPr>
            <a:xfrm>
              <a:off x="1536840" y="4422960"/>
              <a:ext cx="29113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Line 47"/>
            <p:cNvSpPr/>
            <p:nvPr/>
          </p:nvSpPr>
          <p:spPr>
            <a:xfrm flipV="1">
              <a:off x="153684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Line 48"/>
            <p:cNvSpPr/>
            <p:nvPr/>
          </p:nvSpPr>
          <p:spPr>
            <a:xfrm flipV="1">
              <a:off x="1779480" y="442260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Line 49"/>
            <p:cNvSpPr/>
            <p:nvPr/>
          </p:nvSpPr>
          <p:spPr>
            <a:xfrm flipV="1">
              <a:off x="2023920" y="442260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Line 50"/>
            <p:cNvSpPr/>
            <p:nvPr/>
          </p:nvSpPr>
          <p:spPr>
            <a:xfrm flipV="1">
              <a:off x="226224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Line 51"/>
            <p:cNvSpPr/>
            <p:nvPr/>
          </p:nvSpPr>
          <p:spPr>
            <a:xfrm flipV="1">
              <a:off x="250668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Line 52"/>
            <p:cNvSpPr/>
            <p:nvPr/>
          </p:nvSpPr>
          <p:spPr>
            <a:xfrm flipV="1">
              <a:off x="275112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Line 53"/>
            <p:cNvSpPr/>
            <p:nvPr/>
          </p:nvSpPr>
          <p:spPr>
            <a:xfrm flipV="1">
              <a:off x="299412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Line 54"/>
            <p:cNvSpPr/>
            <p:nvPr/>
          </p:nvSpPr>
          <p:spPr>
            <a:xfrm flipV="1">
              <a:off x="323388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Line 55"/>
            <p:cNvSpPr/>
            <p:nvPr/>
          </p:nvSpPr>
          <p:spPr>
            <a:xfrm flipV="1">
              <a:off x="3476520" y="442260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Line 56"/>
            <p:cNvSpPr/>
            <p:nvPr/>
          </p:nvSpPr>
          <p:spPr>
            <a:xfrm flipV="1">
              <a:off x="3720960" y="442260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Line 57"/>
            <p:cNvSpPr/>
            <p:nvPr/>
          </p:nvSpPr>
          <p:spPr>
            <a:xfrm flipV="1">
              <a:off x="3965400" y="4422600"/>
              <a:ext cx="180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Line 58"/>
            <p:cNvSpPr/>
            <p:nvPr/>
          </p:nvSpPr>
          <p:spPr>
            <a:xfrm flipV="1">
              <a:off x="420372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Line 59"/>
            <p:cNvSpPr/>
            <p:nvPr/>
          </p:nvSpPr>
          <p:spPr>
            <a:xfrm flipV="1">
              <a:off x="4448160" y="4422600"/>
              <a:ext cx="1440" cy="5076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Rectangle 60"/>
            <p:cNvSpPr/>
            <p:nvPr/>
          </p:nvSpPr>
          <p:spPr>
            <a:xfrm>
              <a:off x="1343880" y="4334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Rectangle 61"/>
            <p:cNvSpPr/>
            <p:nvPr/>
          </p:nvSpPr>
          <p:spPr>
            <a:xfrm>
              <a:off x="1266840" y="3884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Rectangle 62"/>
            <p:cNvSpPr/>
            <p:nvPr/>
          </p:nvSpPr>
          <p:spPr>
            <a:xfrm>
              <a:off x="1266840" y="343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Rectangle 63"/>
            <p:cNvSpPr/>
            <p:nvPr/>
          </p:nvSpPr>
          <p:spPr>
            <a:xfrm>
              <a:off x="1266840" y="2986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Rectangle 64"/>
            <p:cNvSpPr/>
            <p:nvPr/>
          </p:nvSpPr>
          <p:spPr>
            <a:xfrm>
              <a:off x="1266840" y="2536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Rectangle 65"/>
            <p:cNvSpPr/>
            <p:nvPr/>
          </p:nvSpPr>
          <p:spPr>
            <a:xfrm>
              <a:off x="1266840" y="208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Rectangle 66"/>
            <p:cNvSpPr/>
            <p:nvPr/>
          </p:nvSpPr>
          <p:spPr>
            <a:xfrm>
              <a:off x="162324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Rectangle 67"/>
            <p:cNvSpPr/>
            <p:nvPr/>
          </p:nvSpPr>
          <p:spPr>
            <a:xfrm>
              <a:off x="186624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Rectangle 68"/>
            <p:cNvSpPr/>
            <p:nvPr/>
          </p:nvSpPr>
          <p:spPr>
            <a:xfrm>
              <a:off x="210420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Rectangle 69"/>
            <p:cNvSpPr/>
            <p:nvPr/>
          </p:nvSpPr>
          <p:spPr>
            <a:xfrm>
              <a:off x="234864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Rectangle 70"/>
            <p:cNvSpPr/>
            <p:nvPr/>
          </p:nvSpPr>
          <p:spPr>
            <a:xfrm>
              <a:off x="259308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Rectangle 71"/>
            <p:cNvSpPr/>
            <p:nvPr/>
          </p:nvSpPr>
          <p:spPr>
            <a:xfrm>
              <a:off x="283752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Rectangle 72"/>
            <p:cNvSpPr/>
            <p:nvPr/>
          </p:nvSpPr>
          <p:spPr>
            <a:xfrm>
              <a:off x="307584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Rectangle 73"/>
            <p:cNvSpPr/>
            <p:nvPr/>
          </p:nvSpPr>
          <p:spPr>
            <a:xfrm>
              <a:off x="331848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Rectangle 74"/>
            <p:cNvSpPr/>
            <p:nvPr/>
          </p:nvSpPr>
          <p:spPr>
            <a:xfrm>
              <a:off x="3563280" y="456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Rectangle 75"/>
            <p:cNvSpPr/>
            <p:nvPr/>
          </p:nvSpPr>
          <p:spPr>
            <a:xfrm>
              <a:off x="3765600" y="4569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Rectangle 76"/>
            <p:cNvSpPr/>
            <p:nvPr/>
          </p:nvSpPr>
          <p:spPr>
            <a:xfrm>
              <a:off x="4003920" y="4569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Rectangle 77"/>
            <p:cNvSpPr/>
            <p:nvPr/>
          </p:nvSpPr>
          <p:spPr>
            <a:xfrm>
              <a:off x="4248360" y="4569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Rectangle 78"/>
            <p:cNvSpPr/>
            <p:nvPr/>
          </p:nvSpPr>
          <p:spPr>
            <a:xfrm>
              <a:off x="1436760" y="1960920"/>
              <a:ext cx="1860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Rectangle 79"/>
            <p:cNvSpPr/>
            <p:nvPr/>
          </p:nvSpPr>
          <p:spPr>
            <a:xfrm>
              <a:off x="1466280" y="1973520"/>
              <a:ext cx="123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cc"/>
                  </a:solidFill>
                  <a:latin typeface="Arial"/>
                </a:rPr>
                <a:t>Dosis TLD (mGy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Rectangle 80"/>
            <p:cNvSpPr/>
            <p:nvPr/>
          </p:nvSpPr>
          <p:spPr>
            <a:xfrm>
              <a:off x="2506680" y="2587680"/>
              <a:ext cx="731880" cy="1828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5" name="Group 84"/>
            <p:cNvGrpSpPr/>
            <p:nvPr/>
          </p:nvGrpSpPr>
          <p:grpSpPr>
            <a:xfrm>
              <a:off x="2523960" y="2505240"/>
              <a:ext cx="731880" cy="69840"/>
              <a:chOff x="2523960" y="2505240"/>
              <a:chExt cx="731880" cy="69840"/>
            </a:xfrm>
          </p:grpSpPr>
          <p:sp>
            <p:nvSpPr>
              <p:cNvPr id="536" name="Line 81"/>
              <p:cNvSpPr/>
              <p:nvPr/>
            </p:nvSpPr>
            <p:spPr>
              <a:xfrm>
                <a:off x="2570040" y="2536920"/>
                <a:ext cx="639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Freeform 82"/>
              <p:cNvSpPr/>
              <p:nvPr/>
            </p:nvSpPr>
            <p:spPr>
              <a:xfrm>
                <a:off x="2523960" y="2505240"/>
                <a:ext cx="6372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Freeform 83"/>
              <p:cNvSpPr/>
              <p:nvPr/>
            </p:nvSpPr>
            <p:spPr>
              <a:xfrm>
                <a:off x="3198960" y="2505240"/>
                <a:ext cx="5688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39" name="Rectangle 85"/>
            <p:cNvSpPr/>
            <p:nvPr/>
          </p:nvSpPr>
          <p:spPr>
            <a:xfrm>
              <a:off x="2093760" y="2151360"/>
              <a:ext cx="1552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Rectangle 86"/>
            <p:cNvSpPr/>
            <p:nvPr/>
          </p:nvSpPr>
          <p:spPr>
            <a:xfrm>
              <a:off x="2215800" y="2163960"/>
              <a:ext cx="173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cc"/>
                  </a:solidFill>
                  <a:latin typeface="Arial"/>
                </a:rPr>
                <a:t>Ancho de corte nominal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Rectangle 87"/>
            <p:cNvSpPr/>
            <p:nvPr/>
          </p:nvSpPr>
          <p:spPr>
            <a:xfrm>
              <a:off x="2684520" y="23590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cc"/>
                  </a:solidFill>
                  <a:latin typeface="Arial"/>
                </a:rPr>
                <a:t>3 mm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Rectangle 88"/>
            <p:cNvSpPr/>
            <p:nvPr/>
          </p:nvSpPr>
          <p:spPr>
            <a:xfrm>
              <a:off x="2506680" y="2327400"/>
              <a:ext cx="430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3" name="Group 91"/>
            <p:cNvGrpSpPr/>
            <p:nvPr/>
          </p:nvGrpSpPr>
          <p:grpSpPr>
            <a:xfrm>
              <a:off x="2506680" y="2587680"/>
              <a:ext cx="231840" cy="341640"/>
              <a:chOff x="2506680" y="2587680"/>
              <a:chExt cx="231840" cy="341640"/>
            </a:xfrm>
          </p:grpSpPr>
          <p:sp>
            <p:nvSpPr>
              <p:cNvPr id="544" name="Rectangle 89"/>
              <p:cNvSpPr/>
              <p:nvPr/>
            </p:nvSpPr>
            <p:spPr>
              <a:xfrm>
                <a:off x="2506680" y="2587680"/>
                <a:ext cx="231840" cy="341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Rectangle 90"/>
              <p:cNvSpPr/>
              <p:nvPr/>
            </p:nvSpPr>
            <p:spPr>
              <a:xfrm>
                <a:off x="2506680" y="2587680"/>
                <a:ext cx="231840" cy="3416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94"/>
            <p:cNvGrpSpPr/>
            <p:nvPr/>
          </p:nvGrpSpPr>
          <p:grpSpPr>
            <a:xfrm>
              <a:off x="2738520" y="2594160"/>
              <a:ext cx="255600" cy="82440"/>
              <a:chOff x="2738520" y="2594160"/>
              <a:chExt cx="255600" cy="82440"/>
            </a:xfrm>
          </p:grpSpPr>
          <p:sp>
            <p:nvSpPr>
              <p:cNvPr id="547" name="Rectangle 92"/>
              <p:cNvSpPr/>
              <p:nvPr/>
            </p:nvSpPr>
            <p:spPr>
              <a:xfrm>
                <a:off x="2738520" y="2594160"/>
                <a:ext cx="255600" cy="82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Rectangle 93"/>
              <p:cNvSpPr/>
              <p:nvPr/>
            </p:nvSpPr>
            <p:spPr>
              <a:xfrm>
                <a:off x="2738520" y="2594160"/>
                <a:ext cx="255600" cy="824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97"/>
            <p:cNvGrpSpPr/>
            <p:nvPr/>
          </p:nvGrpSpPr>
          <p:grpSpPr>
            <a:xfrm>
              <a:off x="2994120" y="2587680"/>
              <a:ext cx="239760" cy="525600"/>
              <a:chOff x="2994120" y="2587680"/>
              <a:chExt cx="239760" cy="525600"/>
            </a:xfrm>
          </p:grpSpPr>
          <p:sp>
            <p:nvSpPr>
              <p:cNvPr id="550" name="Rectangle 95"/>
              <p:cNvSpPr/>
              <p:nvPr/>
            </p:nvSpPr>
            <p:spPr>
              <a:xfrm>
                <a:off x="2994120" y="2587680"/>
                <a:ext cx="239760" cy="525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Rectangle 96"/>
              <p:cNvSpPr/>
              <p:nvPr/>
            </p:nvSpPr>
            <p:spPr>
              <a:xfrm>
                <a:off x="2994120" y="2587680"/>
                <a:ext cx="239760" cy="5256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52" name="AutoShape 4"/>
            <p:cNvSpPr/>
            <p:nvPr/>
          </p:nvSpPr>
          <p:spPr>
            <a:xfrm>
              <a:off x="4876920" y="1760760"/>
              <a:ext cx="3352680" cy="1768320"/>
            </a:xfrm>
            <a:prstGeom prst="roundRect">
              <a:avLst>
                <a:gd name="adj" fmla="val 12495"/>
              </a:avLst>
            </a:prstGeom>
            <a:solidFill>
              <a:srgbClr val="114ffb"/>
            </a:solidFill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3" name="Group 5"/>
            <p:cNvGrpSpPr/>
            <p:nvPr/>
          </p:nvGrpSpPr>
          <p:grpSpPr>
            <a:xfrm>
              <a:off x="4786920" y="1749600"/>
              <a:ext cx="3568680" cy="1770840"/>
              <a:chOff x="4786920" y="1749600"/>
              <a:chExt cx="3568680" cy="1770840"/>
            </a:xfrm>
          </p:grpSpPr>
          <p:sp>
            <p:nvSpPr>
              <p:cNvPr id="554" name="Rectangle 6"/>
              <p:cNvSpPr/>
              <p:nvPr/>
            </p:nvSpPr>
            <p:spPr>
              <a:xfrm>
                <a:off x="5452200" y="2013120"/>
                <a:ext cx="979560" cy="41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CTDI=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Rectangle 7"/>
              <p:cNvSpPr/>
              <p:nvPr/>
            </p:nvSpPr>
            <p:spPr>
              <a:xfrm>
                <a:off x="6342480" y="1749600"/>
                <a:ext cx="152280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Symbol"/>
                    <a:ea typeface="Symbol"/>
                  </a:rPr>
                  <a:t></a:t>
                </a: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 </a:t>
                </a: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(e</a:t>
                </a:r>
                <a:r>
                  <a:rPr b="1" lang="en-GB" sz="2200" spc="-1" strike="noStrike" baseline="-25000">
                    <a:solidFill>
                      <a:srgbClr val="ccecff"/>
                    </a:solidFill>
                    <a:latin typeface="Arial"/>
                  </a:rPr>
                  <a:t>i</a:t>
                </a: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 d</a:t>
                </a:r>
                <a:r>
                  <a:rPr b="1" lang="en-GB" sz="2200" spc="-1" strike="noStrike" baseline="-25000">
                    <a:solidFill>
                      <a:srgbClr val="ccecff"/>
                    </a:solidFill>
                    <a:latin typeface="Arial"/>
                  </a:rPr>
                  <a:t>i</a:t>
                </a: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Rectangle 8"/>
              <p:cNvSpPr/>
              <p:nvPr/>
            </p:nvSpPr>
            <p:spPr>
              <a:xfrm>
                <a:off x="6508080" y="2252520"/>
                <a:ext cx="506880" cy="41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GB" sz="2200" spc="-1" strike="noStrike">
                    <a:solidFill>
                      <a:srgbClr val="ccecff"/>
                    </a:solidFill>
                    <a:latin typeface="Arial"/>
                  </a:rPr>
                  <a:t>En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Line 9"/>
              <p:cNvSpPr/>
              <p:nvPr/>
            </p:nvSpPr>
            <p:spPr>
              <a:xfrm>
                <a:off x="6416280" y="2187720"/>
                <a:ext cx="860040" cy="0"/>
              </a:xfrm>
              <a:prstGeom prst="line">
                <a:avLst/>
              </a:prstGeom>
              <a:ln w="255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Rectangle 10"/>
              <p:cNvSpPr/>
              <p:nvPr/>
            </p:nvSpPr>
            <p:spPr>
              <a:xfrm>
                <a:off x="4786920" y="2720880"/>
                <a:ext cx="35686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GB" sz="2200" spc="-1" strike="noStrike">
                    <a:solidFill>
                      <a:srgbClr val="ccecff"/>
                    </a:solidFill>
                    <a:latin typeface="Arial"/>
                  </a:rPr>
                  <a:t>En: ancho de corte nominal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GB" sz="2200" spc="-1" strike="noStrike">
                    <a:solidFill>
                      <a:srgbClr val="ccecff"/>
                    </a:solidFill>
                    <a:latin typeface="Arial"/>
                  </a:rPr>
                  <a:t>e</a:t>
                </a:r>
                <a:r>
                  <a:rPr b="1" lang="en-GB" sz="2200" spc="-1" strike="noStrike" baseline="-25000">
                    <a:solidFill>
                      <a:srgbClr val="ccecff"/>
                    </a:solidFill>
                    <a:latin typeface="Arial"/>
                  </a:rPr>
                  <a:t>i   :</a:t>
                </a:r>
                <a:r>
                  <a:rPr b="0" lang="en-GB" sz="2200" spc="-1" strike="noStrike">
                    <a:solidFill>
                      <a:srgbClr val="ccecff"/>
                    </a:solidFill>
                    <a:latin typeface="Arial"/>
                  </a:rPr>
                  <a:t> espesor de los TLDs</a:t>
                </a:r>
                <a:endParaRPr b="0" lang="en-US" sz="2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59" name="AutoShape 11"/>
            <p:cNvSpPr/>
            <p:nvPr/>
          </p:nvSpPr>
          <p:spPr>
            <a:xfrm>
              <a:off x="5011560" y="4102200"/>
              <a:ext cx="3035520" cy="1414440"/>
            </a:xfrm>
            <a:prstGeom prst="roundRect">
              <a:avLst>
                <a:gd name="adj" fmla="val 12495"/>
              </a:avLst>
            </a:prstGeom>
            <a:solidFill>
              <a:srgbClr val="114ffb"/>
            </a:solidFill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0" name="Group 12"/>
            <p:cNvGrpSpPr/>
            <p:nvPr/>
          </p:nvGrpSpPr>
          <p:grpSpPr>
            <a:xfrm>
              <a:off x="5148360" y="4129200"/>
              <a:ext cx="2763720" cy="1369440"/>
              <a:chOff x="5148360" y="4129200"/>
              <a:chExt cx="2763720" cy="1369440"/>
            </a:xfrm>
          </p:grpSpPr>
          <p:sp>
            <p:nvSpPr>
              <p:cNvPr id="561" name="Rectangle 13"/>
              <p:cNvSpPr/>
              <p:nvPr/>
            </p:nvSpPr>
            <p:spPr>
              <a:xfrm>
                <a:off x="5148360" y="4746960"/>
                <a:ext cx="2763720" cy="73980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2" name="Group 14"/>
              <p:cNvGrpSpPr/>
              <p:nvPr/>
            </p:nvGrpSpPr>
            <p:grpSpPr>
              <a:xfrm>
                <a:off x="5227920" y="4129200"/>
                <a:ext cx="2633040" cy="1369440"/>
                <a:chOff x="5227920" y="4129200"/>
                <a:chExt cx="2633040" cy="1369440"/>
              </a:xfrm>
            </p:grpSpPr>
            <p:sp>
              <p:nvSpPr>
                <p:cNvPr id="563" name="Rectangle 15"/>
                <p:cNvSpPr/>
                <p:nvPr/>
              </p:nvSpPr>
              <p:spPr>
                <a:xfrm>
                  <a:off x="5230440" y="4864320"/>
                  <a:ext cx="1078560" cy="4644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400" bIns="414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39800"/>
                      <a:tab algn="l" pos="1479600"/>
                      <a:tab algn="l" pos="2219400"/>
                      <a:tab algn="l" pos="2959200"/>
                      <a:tab algn="l" pos="3699000"/>
                      <a:tab algn="l" pos="4438800"/>
                      <a:tab algn="l" pos="5178600"/>
                      <a:tab algn="l" pos="5918040"/>
                      <a:tab algn="l" pos="6657840"/>
                      <a:tab algn="l" pos="7397640"/>
                      <a:tab algn="l" pos="8137440"/>
                      <a:tab algn="l" pos="8877240"/>
                      <a:tab algn="l" pos="9617040"/>
                      <a:tab algn="l" pos="10356840"/>
                    </a:tabLst>
                  </a:pPr>
                  <a:r>
                    <a:rPr b="1" lang="en-GB" sz="2200" spc="-1" strike="noStrike">
                      <a:solidFill>
                        <a:srgbClr val="ccecff"/>
                      </a:solidFill>
                      <a:latin typeface="Arial"/>
                    </a:rPr>
                    <a:t>CTDI</a:t>
                  </a:r>
                  <a:r>
                    <a:rPr b="1" lang="en-GB" sz="2200" spc="-1" strike="noStrike" baseline="-25000">
                      <a:solidFill>
                        <a:srgbClr val="ccecff"/>
                      </a:solidFill>
                      <a:latin typeface="Arial"/>
                    </a:rPr>
                    <a:t>n</a:t>
                  </a:r>
                  <a:r>
                    <a:rPr b="1" lang="en-GB" sz="2200" spc="-1" strike="noStrike">
                      <a:solidFill>
                        <a:srgbClr val="ccecff"/>
                      </a:solidFill>
                      <a:latin typeface="Arial"/>
                    </a:rPr>
                    <a:t>=</a:t>
                  </a:r>
                  <a:endParaRPr b="0" lang="en-US" sz="2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16"/>
                <p:cNvSpPr/>
                <p:nvPr/>
              </p:nvSpPr>
              <p:spPr>
                <a:xfrm>
                  <a:off x="6346440" y="5080320"/>
                  <a:ext cx="770760" cy="418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400" bIns="414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39800"/>
                      <a:tab algn="l" pos="1479600"/>
                      <a:tab algn="l" pos="2219400"/>
                      <a:tab algn="l" pos="2959200"/>
                      <a:tab algn="l" pos="3699000"/>
                      <a:tab algn="l" pos="4438800"/>
                      <a:tab algn="l" pos="5178600"/>
                      <a:tab algn="l" pos="5918040"/>
                      <a:tab algn="l" pos="6657840"/>
                      <a:tab algn="l" pos="7397640"/>
                      <a:tab algn="l" pos="8137440"/>
                      <a:tab algn="l" pos="8877240"/>
                      <a:tab algn="l" pos="9617040"/>
                      <a:tab algn="l" pos="10356840"/>
                    </a:tabLst>
                  </a:pPr>
                  <a:r>
                    <a:rPr b="1" lang="en-GB" sz="2200" spc="-1" strike="noStrike">
                      <a:solidFill>
                        <a:srgbClr val="ccecff"/>
                      </a:solidFill>
                      <a:latin typeface="Arial"/>
                    </a:rPr>
                    <a:t>mAs</a:t>
                  </a:r>
                  <a:endParaRPr b="0" lang="en-US" sz="2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Line 17"/>
                <p:cNvSpPr/>
                <p:nvPr/>
              </p:nvSpPr>
              <p:spPr>
                <a:xfrm>
                  <a:off x="6324480" y="5092920"/>
                  <a:ext cx="851040" cy="0"/>
                </a:xfrm>
                <a:prstGeom prst="line">
                  <a:avLst/>
                </a:prstGeom>
                <a:ln w="255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Rectangle 18"/>
                <p:cNvSpPr/>
                <p:nvPr/>
              </p:nvSpPr>
              <p:spPr>
                <a:xfrm>
                  <a:off x="6328080" y="4624560"/>
                  <a:ext cx="816480" cy="418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400" bIns="414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39800"/>
                      <a:tab algn="l" pos="1479600"/>
                      <a:tab algn="l" pos="2219400"/>
                      <a:tab algn="l" pos="2959200"/>
                      <a:tab algn="l" pos="3699000"/>
                      <a:tab algn="l" pos="4438800"/>
                      <a:tab algn="l" pos="5178600"/>
                      <a:tab algn="l" pos="5918040"/>
                      <a:tab algn="l" pos="6657840"/>
                      <a:tab algn="l" pos="7397640"/>
                      <a:tab algn="l" pos="8137440"/>
                      <a:tab algn="l" pos="8877240"/>
                      <a:tab algn="l" pos="9617040"/>
                      <a:tab algn="l" pos="10356840"/>
                    </a:tabLst>
                  </a:pPr>
                  <a:r>
                    <a:rPr b="1" lang="en-GB" sz="2200" spc="-1" strike="noStrike">
                      <a:solidFill>
                        <a:srgbClr val="ccecff"/>
                      </a:solidFill>
                      <a:latin typeface="Arial"/>
                    </a:rPr>
                    <a:t>CTDI</a:t>
                  </a:r>
                  <a:endParaRPr b="0" lang="en-US" sz="2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19"/>
                <p:cNvSpPr/>
                <p:nvPr/>
              </p:nvSpPr>
              <p:spPr>
                <a:xfrm>
                  <a:off x="5227920" y="4129200"/>
                  <a:ext cx="2633040" cy="418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400" bIns="414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39800"/>
                      <a:tab algn="l" pos="1479600"/>
                      <a:tab algn="l" pos="2219400"/>
                      <a:tab algn="l" pos="2959200"/>
                      <a:tab algn="l" pos="3699000"/>
                      <a:tab algn="l" pos="4438800"/>
                      <a:tab algn="l" pos="5178600"/>
                      <a:tab algn="l" pos="5918040"/>
                      <a:tab algn="l" pos="6657840"/>
                      <a:tab algn="l" pos="7397640"/>
                      <a:tab algn="l" pos="8137440"/>
                      <a:tab algn="l" pos="8877240"/>
                      <a:tab algn="l" pos="9617040"/>
                      <a:tab algn="l" pos="10356840"/>
                    </a:tabLst>
                  </a:pPr>
                  <a:r>
                    <a:rPr b="1" lang="en-GB" sz="2200" spc="-1" strike="noStrike">
                      <a:solidFill>
                        <a:srgbClr val="ccecff"/>
                      </a:solidFill>
                      <a:latin typeface="Arial"/>
                    </a:rPr>
                    <a:t>CTDI normalizado:</a:t>
                  </a:r>
                  <a:endParaRPr b="0" lang="en-US" sz="2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8" name="AutoShape 20"/>
            <p:cNvSpPr/>
            <p:nvPr/>
          </p:nvSpPr>
          <p:spPr>
            <a:xfrm flipH="1" rot="3000000">
              <a:off x="3005640" y="2536200"/>
              <a:ext cx="503280" cy="282600"/>
            </a:xfrm>
            <a:prstGeom prst="rightArrow">
              <a:avLst>
                <a:gd name="adj1" fmla="val 50000"/>
                <a:gd name="adj2" fmla="val 72192"/>
              </a:avLst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3200400" y="3035520"/>
              <a:ext cx="18288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CTDI </a:t>
              </a:r>
              <a:r>
                <a:rPr b="1" lang="en-GB" sz="2200" spc="-1" strike="noStrike">
                  <a:solidFill>
                    <a:srgbClr val="ffffcc"/>
                  </a:solidFill>
                  <a:latin typeface="Arial"/>
                </a:rPr>
                <a:t>= 41.4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7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Índice de Dosis en Tomografía Computarizada (CTD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95360" y="1868400"/>
            <a:ext cx="5713560" cy="4258440"/>
            <a:chOff x="1395360" y="1868400"/>
            <a:chExt cx="5713560" cy="4258440"/>
          </a:xfrm>
        </p:grpSpPr>
        <p:sp>
          <p:nvSpPr>
            <p:cNvPr id="572" name="Line 3"/>
            <p:cNvSpPr/>
            <p:nvPr/>
          </p:nvSpPr>
          <p:spPr>
            <a:xfrm>
              <a:off x="2114640" y="5410080"/>
              <a:ext cx="4994280" cy="0"/>
            </a:xfrm>
            <a:prstGeom prst="line">
              <a:avLst/>
            </a:prstGeom>
            <a:ln w="12600">
              <a:solidFill>
                <a:srgbClr val="fcd3c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Line 4"/>
            <p:cNvSpPr/>
            <p:nvPr/>
          </p:nvSpPr>
          <p:spPr>
            <a:xfrm flipV="1">
              <a:off x="2133720" y="2209680"/>
              <a:ext cx="0" cy="3200400"/>
            </a:xfrm>
            <a:prstGeom prst="line">
              <a:avLst/>
            </a:prstGeom>
            <a:ln w="12600">
              <a:solidFill>
                <a:srgbClr val="fcd3c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4154400" y="2286000"/>
              <a:ext cx="844560" cy="2971800"/>
            </a:xfrm>
            <a:prstGeom prst="pie">
              <a:avLst/>
            </a:pr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 rot="16231800">
              <a:off x="1124640" y="306108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cc"/>
                  </a:solidFill>
                  <a:latin typeface="Arial"/>
                </a:rPr>
                <a:t>Dosi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Line 7"/>
            <p:cNvSpPr/>
            <p:nvPr/>
          </p:nvSpPr>
          <p:spPr>
            <a:xfrm flipV="1">
              <a:off x="3873600" y="5257800"/>
              <a:ext cx="280800" cy="76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Line 8"/>
            <p:cNvSpPr/>
            <p:nvPr/>
          </p:nvSpPr>
          <p:spPr>
            <a:xfrm>
              <a:off x="3591000" y="5334120"/>
              <a:ext cx="2826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Line 9"/>
            <p:cNvSpPr/>
            <p:nvPr/>
          </p:nvSpPr>
          <p:spPr>
            <a:xfrm flipH="1" flipV="1">
              <a:off x="4995000" y="5276160"/>
              <a:ext cx="288360" cy="39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Line 10"/>
            <p:cNvSpPr/>
            <p:nvPr/>
          </p:nvSpPr>
          <p:spPr>
            <a:xfrm>
              <a:off x="5280120" y="5334120"/>
              <a:ext cx="2808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Rectangle 11"/>
            <p:cNvSpPr/>
            <p:nvPr/>
          </p:nvSpPr>
          <p:spPr>
            <a:xfrm>
              <a:off x="4365720" y="2057400"/>
              <a:ext cx="422280" cy="335268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Text Box 12"/>
            <p:cNvSpPr/>
            <p:nvPr/>
          </p:nvSpPr>
          <p:spPr>
            <a:xfrm>
              <a:off x="3804840" y="5789520"/>
              <a:ext cx="24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cc"/>
                  </a:solidFill>
                  <a:latin typeface="Arial"/>
                </a:rPr>
                <a:t>Ancho de corte nomin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AutoShape 13"/>
            <p:cNvSpPr/>
            <p:nvPr/>
          </p:nvSpPr>
          <p:spPr>
            <a:xfrm>
              <a:off x="4343400" y="5562720"/>
              <a:ext cx="422280" cy="75960"/>
            </a:xfrm>
            <a:prstGeom prst="leftRightArrow">
              <a:avLst>
                <a:gd name="adj1" fmla="val 50000"/>
                <a:gd name="adj2" fmla="val 110670"/>
              </a:avLst>
            </a:prstGeom>
            <a:solidFill>
              <a:srgbClr val="eaeaea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Rectangle 14"/>
            <p:cNvSpPr/>
            <p:nvPr/>
          </p:nvSpPr>
          <p:spPr>
            <a:xfrm>
              <a:off x="5486400" y="1981080"/>
              <a:ext cx="210960" cy="2286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Text Box 15"/>
            <p:cNvSpPr/>
            <p:nvPr/>
          </p:nvSpPr>
          <p:spPr>
            <a:xfrm>
              <a:off x="5896440" y="186840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TDI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AutoShape 16"/>
            <p:cNvSpPr/>
            <p:nvPr/>
          </p:nvSpPr>
          <p:spPr>
            <a:xfrm>
              <a:off x="3727440" y="4876920"/>
              <a:ext cx="492120" cy="75960"/>
            </a:xfrm>
            <a:prstGeom prst="rightArrow">
              <a:avLst>
                <a:gd name="adj1" fmla="val 50000"/>
                <a:gd name="adj2" fmla="val 161967"/>
              </a:avLst>
            </a:prstGeom>
            <a:solidFill>
              <a:srgbClr val="eaeaea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Text Box 17"/>
            <p:cNvSpPr/>
            <p:nvPr/>
          </p:nvSpPr>
          <p:spPr>
            <a:xfrm>
              <a:off x="2219040" y="471492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cc"/>
                  </a:solidFill>
                  <a:latin typeface="Arial"/>
                </a:rPr>
                <a:t>Perfil de dosi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locación de dosímetros TLD para medidas del CTDI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Line 24"/>
          <p:cNvSpPr/>
          <p:nvPr/>
        </p:nvSpPr>
        <p:spPr>
          <a:xfrm flipH="1">
            <a:off x="6610320" y="6400800"/>
            <a:ext cx="144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83840" y="1849320"/>
            <a:ext cx="8637480" cy="3411720"/>
            <a:chOff x="483840" y="1849320"/>
            <a:chExt cx="8637480" cy="3411720"/>
          </a:xfrm>
        </p:grpSpPr>
        <p:sp>
          <p:nvSpPr>
            <p:cNvPr id="590" name="Rectangle 3"/>
            <p:cNvSpPr/>
            <p:nvPr/>
          </p:nvSpPr>
          <p:spPr>
            <a:xfrm>
              <a:off x="604800" y="3984480"/>
              <a:ext cx="323064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Rectangle 4"/>
            <p:cNvSpPr/>
            <p:nvPr/>
          </p:nvSpPr>
          <p:spPr>
            <a:xfrm>
              <a:off x="2873520" y="1992240"/>
              <a:ext cx="912600" cy="75744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Rectangle 5"/>
            <p:cNvSpPr/>
            <p:nvPr/>
          </p:nvSpPr>
          <p:spPr>
            <a:xfrm>
              <a:off x="2873520" y="4253040"/>
              <a:ext cx="912600" cy="7570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93" name="Group 6"/>
            <p:cNvGrpSpPr/>
            <p:nvPr/>
          </p:nvGrpSpPr>
          <p:grpSpPr>
            <a:xfrm>
              <a:off x="1800360" y="2755800"/>
              <a:ext cx="1655280" cy="1212480"/>
              <a:chOff x="1800360" y="2755800"/>
              <a:chExt cx="1655280" cy="1212480"/>
            </a:xfrm>
          </p:grpSpPr>
          <p:sp>
            <p:nvSpPr>
              <p:cNvPr id="594" name="Rectangle 7"/>
              <p:cNvSpPr/>
              <p:nvPr/>
            </p:nvSpPr>
            <p:spPr>
              <a:xfrm>
                <a:off x="1870920" y="3849840"/>
                <a:ext cx="284760" cy="118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Rectangle 8"/>
              <p:cNvSpPr/>
              <p:nvPr/>
            </p:nvSpPr>
            <p:spPr>
              <a:xfrm>
                <a:off x="1989360" y="2755800"/>
                <a:ext cx="48240" cy="106920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Rectangle 9"/>
              <p:cNvSpPr/>
              <p:nvPr/>
            </p:nvSpPr>
            <p:spPr>
              <a:xfrm>
                <a:off x="1800360" y="3393720"/>
                <a:ext cx="1596600" cy="2736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Rectangle 10"/>
              <p:cNvSpPr/>
              <p:nvPr/>
            </p:nvSpPr>
            <p:spPr>
              <a:xfrm>
                <a:off x="3171240" y="3367800"/>
                <a:ext cx="284400" cy="66240"/>
              </a:xfrm>
              <a:prstGeom prst="rect">
                <a:avLst/>
              </a:prstGeom>
              <a:solidFill>
                <a:srgbClr val="000099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11"/>
            <p:cNvSpPr/>
            <p:nvPr/>
          </p:nvSpPr>
          <p:spPr>
            <a:xfrm>
              <a:off x="3308400" y="1849320"/>
              <a:ext cx="0" cy="3411720"/>
            </a:xfrm>
            <a:prstGeom prst="line">
              <a:avLst/>
            </a:prstGeom>
            <a:ln w="28440">
              <a:solidFill>
                <a:srgbClr val="a31f0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H="1">
              <a:off x="523440" y="3392640"/>
              <a:ext cx="3535560" cy="0"/>
            </a:xfrm>
            <a:prstGeom prst="line">
              <a:avLst/>
            </a:prstGeom>
            <a:ln w="12600">
              <a:solidFill>
                <a:srgbClr val="a31f0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Rectangle 13"/>
            <p:cNvSpPr/>
            <p:nvPr/>
          </p:nvSpPr>
          <p:spPr>
            <a:xfrm>
              <a:off x="483840" y="3112920"/>
              <a:ext cx="9039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Eje d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rotació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Rectangle 14"/>
            <p:cNvSpPr/>
            <p:nvPr/>
          </p:nvSpPr>
          <p:spPr>
            <a:xfrm>
              <a:off x="1126440" y="2386080"/>
              <a:ext cx="1429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cc"/>
                  </a:solidFill>
                  <a:latin typeface="Arial"/>
                </a:rPr>
                <a:t>Guía sopor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Rectangle 15"/>
            <p:cNvSpPr/>
            <p:nvPr/>
          </p:nvSpPr>
          <p:spPr>
            <a:xfrm>
              <a:off x="3358080" y="2806560"/>
              <a:ext cx="1624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cc"/>
                  </a:solidFill>
                  <a:latin typeface="Arial"/>
                </a:rPr>
                <a:t>Haz de rayos 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Rectangle 16"/>
            <p:cNvSpPr/>
            <p:nvPr/>
          </p:nvSpPr>
          <p:spPr>
            <a:xfrm>
              <a:off x="3888000" y="3705120"/>
              <a:ext cx="926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Cápsul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Rectangle 17"/>
            <p:cNvSpPr/>
            <p:nvPr/>
          </p:nvSpPr>
          <p:spPr>
            <a:xfrm>
              <a:off x="956160" y="4089240"/>
              <a:ext cx="83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cc"/>
                  </a:solidFill>
                  <a:latin typeface="Arial"/>
                </a:rPr>
                <a:t>mes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Rectangle 18"/>
            <p:cNvSpPr/>
            <p:nvPr/>
          </p:nvSpPr>
          <p:spPr>
            <a:xfrm>
              <a:off x="2981160" y="221472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Gantry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Rectangle 19"/>
            <p:cNvSpPr/>
            <p:nvPr/>
          </p:nvSpPr>
          <p:spPr>
            <a:xfrm>
              <a:off x="2970000" y="4467240"/>
              <a:ext cx="789480" cy="332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Gantry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3367080" y="3444840"/>
              <a:ext cx="1278000" cy="314280"/>
            </a:xfrm>
            <a:prstGeom prst="pie">
              <a:avLst/>
            </a:prstGeom>
            <a:noFill/>
            <a:ln cap="rnd" w="12600">
              <a:solidFill>
                <a:srgbClr val="a31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4940280" y="3132000"/>
              <a:ext cx="2425680" cy="1043280"/>
            </a:xfrm>
            <a:prstGeom prst="pie">
              <a:avLst/>
            </a:prstGeom>
            <a:solidFill>
              <a:srgbClr val="000099"/>
            </a:solidFill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Freeform 22"/>
            <p:cNvSpPr/>
            <p:nvPr/>
          </p:nvSpPr>
          <p:spPr>
            <a:xfrm>
              <a:off x="7104240" y="3132000"/>
              <a:ext cx="498240" cy="1043280"/>
            </a:xfrm>
            <a:prstGeom prst="pie">
              <a:avLst/>
            </a:prstGeom>
            <a:solidFill>
              <a:srgbClr val="000099"/>
            </a:solidFill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Rectangle 23"/>
            <p:cNvSpPr/>
            <p:nvPr/>
          </p:nvSpPr>
          <p:spPr>
            <a:xfrm>
              <a:off x="6246720" y="3411360"/>
              <a:ext cx="839880" cy="495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Line 25"/>
            <p:cNvSpPr/>
            <p:nvPr/>
          </p:nvSpPr>
          <p:spPr>
            <a:xfrm>
              <a:off x="6370560" y="2044800"/>
              <a:ext cx="0" cy="307332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Line 26"/>
            <p:cNvSpPr/>
            <p:nvPr/>
          </p:nvSpPr>
          <p:spPr>
            <a:xfrm>
              <a:off x="6497640" y="2044800"/>
              <a:ext cx="0" cy="307332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Line 27"/>
            <p:cNvSpPr/>
            <p:nvPr/>
          </p:nvSpPr>
          <p:spPr>
            <a:xfrm>
              <a:off x="6624720" y="2044800"/>
              <a:ext cx="0" cy="307332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Line 28"/>
            <p:cNvSpPr/>
            <p:nvPr/>
          </p:nvSpPr>
          <p:spPr>
            <a:xfrm>
              <a:off x="6750000" y="2044800"/>
              <a:ext cx="0" cy="307332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Line 29"/>
            <p:cNvSpPr/>
            <p:nvPr/>
          </p:nvSpPr>
          <p:spPr>
            <a:xfrm>
              <a:off x="6875640" y="2044800"/>
              <a:ext cx="0" cy="307332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Rectangle 30"/>
            <p:cNvSpPr/>
            <p:nvPr/>
          </p:nvSpPr>
          <p:spPr>
            <a:xfrm>
              <a:off x="4650480" y="2979720"/>
              <a:ext cx="1297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Cápsul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Rectangle 31"/>
            <p:cNvSpPr/>
            <p:nvPr/>
          </p:nvSpPr>
          <p:spPr>
            <a:xfrm>
              <a:off x="6856560" y="214308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Haz de rayos 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Line 32"/>
            <p:cNvSpPr/>
            <p:nvPr/>
          </p:nvSpPr>
          <p:spPr>
            <a:xfrm>
              <a:off x="4732200" y="3678120"/>
              <a:ext cx="3206880" cy="0"/>
            </a:xfrm>
            <a:prstGeom prst="line">
              <a:avLst/>
            </a:prstGeom>
            <a:ln w="12600">
              <a:solidFill>
                <a:srgbClr val="a31f0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Rectangle 33"/>
            <p:cNvSpPr/>
            <p:nvPr/>
          </p:nvSpPr>
          <p:spPr>
            <a:xfrm>
              <a:off x="7675200" y="3335400"/>
              <a:ext cx="9039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Eje d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cc"/>
                  </a:solidFill>
                  <a:latin typeface="Arial"/>
                </a:rPr>
                <a:t>rotació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Rectangle 34"/>
            <p:cNvSpPr/>
            <p:nvPr/>
          </p:nvSpPr>
          <p:spPr>
            <a:xfrm>
              <a:off x="4801320" y="459252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LiF -TL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Freeform 35"/>
            <p:cNvSpPr/>
            <p:nvPr/>
          </p:nvSpPr>
          <p:spPr>
            <a:xfrm>
              <a:off x="4797360" y="3795840"/>
              <a:ext cx="1527120" cy="113328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 de la dosis en la superficie de entra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098800" y="1413000"/>
            <a:ext cx="5771880" cy="4402080"/>
            <a:chOff x="2098800" y="1413000"/>
            <a:chExt cx="5771880" cy="4402080"/>
          </a:xfrm>
        </p:grpSpPr>
        <p:graphicFrame>
          <p:nvGraphicFramePr>
            <p:cNvPr id="624" name="Object 3"/>
            <p:cNvGraphicFramePr/>
            <p:nvPr/>
          </p:nvGraphicFramePr>
          <p:xfrm>
            <a:off x="2125800" y="4389480"/>
            <a:ext cx="4398840" cy="114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5800" y="4389480"/>
                      <a:ext cx="4398840" cy="114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6" name="Group 4"/>
            <p:cNvGrpSpPr/>
            <p:nvPr/>
          </p:nvGrpSpPr>
          <p:grpSpPr>
            <a:xfrm>
              <a:off x="3162240" y="1413000"/>
              <a:ext cx="2797200" cy="4402080"/>
              <a:chOff x="3162240" y="1413000"/>
              <a:chExt cx="2797200" cy="4402080"/>
            </a:xfrm>
          </p:grpSpPr>
          <p:sp>
            <p:nvSpPr>
              <p:cNvPr id="627" name="Freeform 5"/>
              <p:cNvSpPr/>
              <p:nvPr/>
            </p:nvSpPr>
            <p:spPr>
              <a:xfrm>
                <a:off x="4101480" y="1792080"/>
                <a:ext cx="1003320" cy="120132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Line 6"/>
              <p:cNvSpPr/>
              <p:nvPr/>
            </p:nvSpPr>
            <p:spPr>
              <a:xfrm>
                <a:off x="4406040" y="2363760"/>
                <a:ext cx="37512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Line 7"/>
              <p:cNvSpPr/>
              <p:nvPr/>
            </p:nvSpPr>
            <p:spPr>
              <a:xfrm>
                <a:off x="4491360" y="2103480"/>
                <a:ext cx="201960" cy="8532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Line 8"/>
              <p:cNvSpPr/>
              <p:nvPr/>
            </p:nvSpPr>
            <p:spPr>
              <a:xfrm flipH="1">
                <a:off x="3625200" y="2158920"/>
                <a:ext cx="965520" cy="31986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Line 9"/>
              <p:cNvSpPr/>
              <p:nvPr/>
            </p:nvSpPr>
            <p:spPr>
              <a:xfrm>
                <a:off x="4591080" y="2155680"/>
                <a:ext cx="959400" cy="32018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Rectangle 10"/>
              <p:cNvSpPr/>
              <p:nvPr/>
            </p:nvSpPr>
            <p:spPr>
              <a:xfrm>
                <a:off x="3162240" y="5370480"/>
                <a:ext cx="2797200" cy="144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Line 11"/>
              <p:cNvSpPr/>
              <p:nvPr/>
            </p:nvSpPr>
            <p:spPr>
              <a:xfrm flipH="1">
                <a:off x="4574160" y="1413000"/>
                <a:ext cx="24840" cy="4402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34" name="Rectangle 12"/>
            <p:cNvSpPr/>
            <p:nvPr/>
          </p:nvSpPr>
          <p:spPr>
            <a:xfrm>
              <a:off x="2098800" y="5379840"/>
              <a:ext cx="4484520" cy="14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Rectangle 13"/>
            <p:cNvSpPr/>
            <p:nvPr/>
          </p:nvSpPr>
          <p:spPr>
            <a:xfrm>
              <a:off x="4459320" y="4365360"/>
              <a:ext cx="317520" cy="72720"/>
            </a:xfrm>
            <a:prstGeom prst="rect">
              <a:avLst/>
            </a:prstGeom>
            <a:solidFill>
              <a:srgbClr val="a31f0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Freeform 14"/>
            <p:cNvSpPr/>
            <p:nvPr/>
          </p:nvSpPr>
          <p:spPr>
            <a:xfrm>
              <a:off x="4716360" y="3502080"/>
              <a:ext cx="3154320" cy="82980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Rectangle 15"/>
            <p:cNvSpPr/>
            <p:nvPr/>
          </p:nvSpPr>
          <p:spPr>
            <a:xfrm>
              <a:off x="6856920" y="300492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eaeaea"/>
                  </a:solidFill>
                  <a:latin typeface="Arial"/>
                </a:rPr>
                <a:t>TL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Freeform 16"/>
            <p:cNvSpPr/>
            <p:nvPr/>
          </p:nvSpPr>
          <p:spPr>
            <a:xfrm>
              <a:off x="2176560" y="4379760"/>
              <a:ext cx="4282920" cy="1007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8600" y="1523880"/>
            <a:ext cx="81057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esta lección hemos aprendido qué factores influyen en la dosis al paciente, y cómo acceder a una estimación del detrimento midiendo la dosis a la entrada, el producto dosis-área o los métodos de dosimetría específicos de 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523880"/>
            <a:ext cx="7745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las características de los instrumentos para evaluación de dosis al paciente y para dosi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quipment for diagnostic radiology, E. Forster, MTP Press, 199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he Essential Physics of Medical Imaging, Williams and Wilkins. Baltimore:199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eitz, W., Axiesson, B., Szendro, G. Computed tomography dose assessment - a practical approach. Nuclear Technology 37 1-4 (1993) 377-8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0: Evaluación de dosis al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Parámetros que influyen en la exposición de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920" y="304920"/>
            <a:ext cx="85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ámetros esenciales que influyen en la exposición del paciente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11160" y="1557360"/>
            <a:ext cx="8169120" cy="4005720"/>
            <a:chOff x="-11160" y="1557360"/>
            <a:chExt cx="8169120" cy="4005720"/>
          </a:xfrm>
        </p:grpSpPr>
        <p:sp>
          <p:nvSpPr>
            <p:cNvPr id="105" name="Rectangle 3"/>
            <p:cNvSpPr/>
            <p:nvPr/>
          </p:nvSpPr>
          <p:spPr>
            <a:xfrm>
              <a:off x="-11160" y="1989000"/>
              <a:ext cx="31975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cc"/>
                  </a:solidFill>
                  <a:latin typeface="Arial"/>
                </a:rPr>
                <a:t>Kilovoltaje – tensión del tub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cc"/>
                  </a:solidFill>
                  <a:latin typeface="Arial"/>
                </a:rPr>
                <a:t>Miliamperaje – intensidad de corrient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cc"/>
                  </a:solidFill>
                  <a:latin typeface="Arial"/>
                </a:rPr>
                <a:t>Filtración tota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537120" y="3551400"/>
              <a:ext cx="314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Tiempo de exposi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1632960" y="4724280"/>
              <a:ext cx="272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cc"/>
                  </a:solidFill>
                  <a:latin typeface="Arial"/>
                </a:rPr>
                <a:t>Tamaño de camp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216240" y="2251080"/>
              <a:ext cx="221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Tasa de kerm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[mGy/min]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3725280" y="369576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[min]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167800" y="3203640"/>
              <a:ext cx="1621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Kerma </a:t>
              </a:r>
              <a:r>
                <a:rPr b="0" lang="it-IT" sz="1200" spc="-1" strike="noStrike">
                  <a:solidFill>
                    <a:srgbClr val="fcd3c1"/>
                  </a:solidFill>
                  <a:latin typeface="Arial"/>
                </a:rPr>
                <a:t>(dosis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[</a:t>
              </a:r>
              <a:r>
                <a:rPr b="0" lang="it-IT" sz="2400" spc="-1" strike="noStrike">
                  <a:solidFill>
                    <a:srgbClr val="fcd3c1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Gy]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02520" y="4842000"/>
              <a:ext cx="70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[m</a:t>
              </a:r>
              <a:r>
                <a:rPr b="0" lang="it-IT" sz="2400" spc="-1" strike="noStrike" baseline="30000">
                  <a:solidFill>
                    <a:srgbClr val="fcd3c1"/>
                  </a:solidFill>
                  <a:latin typeface="Arial"/>
                </a:rPr>
                <a:t>2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6554520" y="4308480"/>
              <a:ext cx="16034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dosis-áre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[</a:t>
              </a:r>
              <a:r>
                <a:rPr b="0" lang="it-IT" sz="2400" spc="-1" strike="noStrike">
                  <a:solidFill>
                    <a:srgbClr val="fcd3c1"/>
                  </a:solidFill>
                  <a:latin typeface="Symbol"/>
                  <a:ea typeface="Symbol"/>
                </a:rPr>
                <a:t>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Gy m</a:t>
              </a:r>
              <a:r>
                <a:rPr b="0" lang="it-IT" sz="2400" spc="-1" strike="noStrike" baseline="30000">
                  <a:solidFill>
                    <a:srgbClr val="fcd3c1"/>
                  </a:solidFill>
                  <a:latin typeface="Arial"/>
                </a:rPr>
                <a:t>2</a:t>
              </a:r>
              <a:r>
                <a:rPr b="0" lang="it-IT" sz="2400" spc="-1" strike="noStrike">
                  <a:solidFill>
                    <a:srgbClr val="fcd3c1"/>
                  </a:solidFill>
                  <a:latin typeface="Arial"/>
                </a:rPr>
                <a:t> ]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2843280" y="1557360"/>
              <a:ext cx="630000" cy="17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600" spc="-1" strike="noStrike">
                  <a:solidFill>
                    <a:srgbClr val="fcd3c1"/>
                  </a:solidFill>
                  <a:latin typeface="Arial"/>
                </a:rPr>
                <a:t>}</a:t>
              </a:r>
              <a:endParaRPr b="0" lang="en-US" sz="10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703400" y="2455920"/>
              <a:ext cx="631080" cy="17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600" spc="-1" strike="noStrike">
                  <a:solidFill>
                    <a:srgbClr val="fcd3c1"/>
                  </a:solidFill>
                  <a:latin typeface="Arial"/>
                </a:rPr>
                <a:t>}</a:t>
              </a:r>
              <a:endParaRPr b="0" lang="en-US" sz="10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943600" y="3508200"/>
              <a:ext cx="728640" cy="20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900" spc="-1" strike="noStrike">
                  <a:solidFill>
                    <a:srgbClr val="fcd3c1"/>
                  </a:solidFill>
                  <a:latin typeface="Arial"/>
                </a:rPr>
                <a:t>}</a:t>
              </a:r>
              <a:endParaRPr b="0" lang="en-US" sz="1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2414520" y="3933720"/>
              <a:ext cx="129060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1817640" y="5091120"/>
              <a:ext cx="357516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56360" y="3645000"/>
              <a:ext cx="576360" cy="11523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en radiografía convencional: haz, coli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ergía del haz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pendiente del kV-pico y de la filt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normativa requiere una filtración total mínima para absorber los fotones de más baja energí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filtración añadida reduce la dos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objetivo debe ser usar el más alto kV que produzca una imagen con contraste aceptabl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im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área expuesta debe limitarse al área de interés CLÍNICO para reducir la dos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beneficio adicional es menos radiación dispersa y mejor contras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en radiografía convencional: rejilla, tamaño de pacien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3040" y="1341360"/>
            <a:ext cx="818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jillas antidifusoras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ducen la cantidad de radiación dispersa que alcanza el receptor de imag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ero a costa de aumentar la dosis al pacie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ípicamente 2-5 veces: “factor de rejilla”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amaño del pacie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spesor, volumen irradiado…la dosis aumenta con el tamaño del pacie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cepto para mama (compresión): sin contro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rtas técnicas con factores de exposición sugeridos para distintas exploraciones y espesores de paciente ayudan a evitar repetici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 a la dosis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13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Energía del haz y filtració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Colimació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Distancia foco-pi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ey del inverso del cuadrado: mantener máxima distancia del tubo al pacien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Distancia paciente-intensificador de imagen (II)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Minimizar la distancia paciente - II reduce la dosi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ero disminuye ligeramente la calidad de imagen al aumentar la radiación dispers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Magnificación de imagen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a magnificación geométrica y la electrónica aumentan la dosi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Rejill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i paciente de pequeño tamaño (menos dispersa) prescindir (quizá) de la rejill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¡Haz de radiación a tiempo!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54:52Z</dcterms:created>
  <dc:creator>IAEA</dc:creator>
  <dc:description>IAEA Training Material on Radiation Protection in Diagnostic and Interventional Radiology</dc:description>
  <cp:keywords/>
  <dc:language>en-US</dc:language>
  <cp:lastModifiedBy>BRITTINGER, Maria Theresa</cp:lastModifiedBy>
  <cp:lastPrinted>2002-03-28T08:56:53Z</cp:lastPrinted>
  <dcterms:modified xsi:type="dcterms:W3CDTF">2009-09-02T11:45:08Z</dcterms:modified>
  <cp:revision>104</cp:revision>
  <dc:subject>Patient dose</dc:subject>
  <dc:title> RADIATION PROTECTION IN DIAGNOSTIC RADIOLOGY </dc:title>
</cp:coreProperties>
</file>