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6.jpeg" ContentType="image/jpeg"/>
  <Override PartName="/ppt/media/image16.gif" ContentType="image/gif"/>
  <Override PartName="/ppt/media/image1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13.gif" ContentType="image/gif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79D-4323-4C17-9841-B80482C165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8900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8900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2509920" y="6519960"/>
            <a:ext cx="4078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7.2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ptimización de la protección en Radiología Intervencionist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4360" y="65851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60F-847D-4687-B449-D5AA4F4147E1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512720"/>
            <a:ext cx="878544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64644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7.2: Optimización de la protección en radiología intervencion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5280" y="30492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2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Recomendaciones del ICRP 8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cd3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09480" y="4572000"/>
            <a:ext cx="818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Opacidades inducidas por radiación en el cristalino de un especialista de Radiología intervencionista sujeto a niveles altos de radiación dispersa de un tubo de rayos X sobre la mesa.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otografía de V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ñó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et 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(1998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ecff"/>
                </a:solidFill>
                <a:latin typeface="Arial"/>
              </a:rPr>
              <a:t>ICRP 85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05720" cy="3154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11280" y="419112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Guía fluoroscópica de colocación de electrodos de estimulación espinal ilustrando prácticas que pueden resultar en exposición directa a los rayos X de las manos del médico que realiza el procedimiento: (a) mano del médico en el áreas del haz de rayos X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Si las exposiciones se realizan en estas circunstancias, las manos reciben exposición directa y son visibles en las imágenes resultantes (b).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(Fotografías cortesía de S. Balter.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040" y="2209680"/>
            <a:ext cx="5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(a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927200" y="220968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(b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685800" y="166212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uchos de estos daños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son EVITABLES –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Todos los serios lo son!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97080" y="6660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Angiografí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14842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Más de 50 informes aparecieron en los años 1990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104120" y="3357720"/>
            <a:ext cx="49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ás de 100 cas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405440" y="4724280"/>
            <a:ext cx="664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robablemente millar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de casos no reportad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7" descr="C:\office 2000 clippart\CLIPART\HOMEANIM\AG00029_.GIF"/>
          <p:cNvPicPr/>
          <p:nvPr/>
        </p:nvPicPr>
        <p:blipFill>
          <a:blip r:embed="rId1"/>
          <a:stretch/>
        </p:blipFill>
        <p:spPr>
          <a:xfrm>
            <a:off x="6026040" y="3048120"/>
            <a:ext cx="1714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09600" y="189000"/>
            <a:ext cx="55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¿Por qué aparece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9640" y="12034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alta de entrenamiento en protección radiológica en aquellos que realizan estos estudios, com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99736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ardiólog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rólog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Gastro-enterólog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irujanos ortopéd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3240" y="2978280"/>
            <a:ext cx="402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irujanos vascula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aumatólogo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ediat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estesiólog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541080" y="18900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ánc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207180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Niños en el máximo riesgo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5" descr="C:\office 2000 clippart\CLIPART\HOMEANIM\J0076241.GIF"/>
          <p:cNvPicPr/>
          <p:nvPr/>
        </p:nvPicPr>
        <p:blipFill>
          <a:blip r:embed="rId1"/>
          <a:stretch/>
        </p:blipFill>
        <p:spPr>
          <a:xfrm>
            <a:off x="2160720" y="3573360"/>
            <a:ext cx="2411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65040" y="1335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6880" y="1201680"/>
            <a:ext cx="896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Informes recibidos por la FDA de lesiones en piel de fluoroscopi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ecff"/>
                </a:solidFill>
                <a:latin typeface="Arial"/>
              </a:rPr>
              <a:t>Lesiones en piel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1916280"/>
          <a:ext cx="8569080" cy="3787560"/>
        </p:xfrm>
        <a:graphic>
          <a:graphicData uri="http://schemas.openxmlformats.org/drawingml/2006/table">
            <a:tbl>
              <a:tblPr/>
              <a:tblGrid>
                <a:gridCol w="5543280"/>
                <a:gridCol w="3025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cedimiento con informe de lesi</a:t>
                      </a: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úmero de lesiones reportadas del procedim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laci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ón por RF con catéter cardia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ocaci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ón de catéter para quimioterap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hunt portosist. transyugular intrahep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át,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gioplastia cor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gioplastia re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s m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últiples hepatobiliares (angioplastia, c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locaci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ón, stent, biopsia, etc.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angiograf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 percut</a:t>
                      </a:r>
                      <a:r>
                        <a:rPr b="1" lang="en-GB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ánea seguida de embolizaciones multipl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304920" y="1052640"/>
          <a:ext cx="8381880" cy="39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52640"/>
                    <a:ext cx="838188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3"/>
          <p:cNvSpPr/>
          <p:nvPr/>
        </p:nvSpPr>
        <p:spPr>
          <a:xfrm>
            <a:off x="475200" y="5084640"/>
            <a:ext cx="82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recimiento de la PTCA en La India (1989-199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723960" y="1623960"/>
            <a:ext cx="769608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0.5% de incremento en 1995 respecto de 1994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999 – Casi 14000 cas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cedimientos repetidos entre 5 y 10% en los años 1990</a:t>
            </a:r>
            <a:br>
              <a:rPr sz="36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(tres veces 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 la misma les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 que una les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 diferent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66720" indent="-66672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60" y="4876920"/>
            <a:ext cx="60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ccecff"/>
                </a:solidFill>
                <a:latin typeface="Arial"/>
              </a:rPr>
              <a:t>ACTP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523880"/>
            <a:ext cx="78901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práctica de la radiología intervencionista podría llevar a efectos deterministas indeseado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evitar tales consecuencias, es esencial seguir las recomendaciones internacionales publicadas por la CIP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olo una efectiva implantación de medidas de protección radiológica puede dar lugar a una reducción de dosis significativa tanto al personal como al paciente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49320" y="1557360"/>
            <a:ext cx="72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0.6% de incremento (5,925 frente a 2,879)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996 frente a 1995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42920" y="3860640"/>
            <a:ext cx="700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Predominantemente dilataciones de la válvula mitral mediante balón.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46160"/>
            <a:ext cx="8861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ervenciones cardiacas no coronari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71640" y="450864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En La India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0.01 PTCA/1000 habitantes, lo que representa 1/100 de la frecuencia en Jap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5373720"/>
            <a:ext cx="71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¿Cuántos casos más, equipos de rayos X, etc, cabe esperar en años venideros en La Indi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1801800" y="189000"/>
          <a:ext cx="561816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89000"/>
                    <a:ext cx="56181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09480" y="1523880"/>
            <a:ext cx="80010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2880" indent="-45720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ritema a 2 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45720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ataratas a 2 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45720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Depilación permanente a 7 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45720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Necrosis retardada de piel a 12 Gy</a:t>
            </a:r>
            <a:br>
              <a:rPr sz="2400"/>
            </a:b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ara exposiciones continuadas en ojos, por ej., las experimentadas por intervencionist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45720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ataratas a 4 Gy, si la dosis recibida lo es en menos de 3 meses, (5.5 Gy, si se recibió en un periodo más largo de 3 me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240" y="98280"/>
            <a:ext cx="8861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Dosis agudas de radiación impartidas a tejidos durante un único procedimiento o en procedimientos habidos en plazos cortos, pueden producir: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ecff"/>
                </a:solidFill>
                <a:latin typeface="Arial"/>
              </a:rPr>
              <a:t>Cambios en la piel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397160"/>
          <a:ext cx="8137440" cy="4325760"/>
        </p:xfrm>
        <a:graphic>
          <a:graphicData uri="http://schemas.openxmlformats.org/drawingml/2006/table">
            <a:tbl>
              <a:tblPr/>
              <a:tblGrid>
                <a:gridCol w="2592360"/>
                <a:gridCol w="5545080"/>
              </a:tblGrid>
              <a:tr h="135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itema temprano transitori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cas horas tras 2 Gy (debido al cambio en la permeabilidad vascular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incipal proceso eritematos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~10 días, como consecuencia de la inflamación secundaria por muerte de células epiteliales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ardío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5680" indent="-266760">
                        <a:lnSpc>
                          <a:spcPct val="100000"/>
                        </a:lnSpc>
                        <a:buClr>
                          <a:srgbClr val="99ccff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-10 semanas tras la exposición,   con matiz azulado producido por isquemia dérmica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55680" indent="-266760">
                        <a:lnSpc>
                          <a:spcPct val="100000"/>
                        </a:lnSpc>
                        <a:buClr>
                          <a:srgbClr val="99ccff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&gt;26 semanas, telangiectasia y posterior necrosis.</a:t>
                      </a:r>
                      <a:r>
                        <a:rPr b="0" lang="es-E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2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Medidas de reducción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370520" y="2432160"/>
            <a:ext cx="690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Arial"/>
              </a:rPr>
              <a:t>PREVENCIÓN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4" descr="C:\office 2000 clippart\CLIPART\HOMEANIM\AG00010_.GIF"/>
          <p:cNvPicPr/>
          <p:nvPr/>
        </p:nvPicPr>
        <p:blipFill>
          <a:blip r:embed="rId1"/>
          <a:stretch/>
        </p:blipFill>
        <p:spPr>
          <a:xfrm>
            <a:off x="6934320" y="4495680"/>
            <a:ext cx="1646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896760" y="1954080"/>
            <a:ext cx="749160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Generar el haz al mínimo de tiempo absoluto es la regla de oro para control de dosis al paciente y al pers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Recordar que las tasas de dosis serán mayores y la dosis se acumulará más deprisa en pacientes más grues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Mantener el tubo de rayos X a la máxima distancia del pacient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Mantener el intensificador de imagen tan próximo como sea posible a los pacien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6360" y="11937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cciones prácticas para control de do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ecff"/>
                </a:solidFill>
                <a:latin typeface="Arial"/>
              </a:rPr>
              <a:t>Angiografí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684360" y="1112760"/>
            <a:ext cx="78483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No abusar de la magnificación geométric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Suprimir la rejilla en procedimientos con pacientes pequeños o cuando el intensificador de imagen no pueda colocarse cerca del pacient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limar siempre ciñendo la irradiación al área de interé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uando el procedimiento se prolonga inesperadamente, considerar otras opciones para colocar al paciente o variar el campo de rayos X u otros medios de cambiar la angulación (orientación) del haz para que no se irradie constantemente el mismo área de piel en el haz direc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044720" y="1262160"/>
            <a:ext cx="712764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n muchas máquinas, la tasa de dosis varía durante el procedimiento intervencionis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l tiempo de fluoroscopia es solo un indicador grosero de la posibilidad de aparición de daños por radiació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Aft>
                <a:spcPts val="9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l tamaño del paciente y aspectos del procedimiento tales como localizaciones del haz, ángulo, tasas de dosis normales o altas, distancia del tubo al paciente y número de adquisiciones pueden cambiar en un factor 10 la dosis máxima al paciente para un tiempo dado total de fluoroscop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981000" y="1158840"/>
            <a:ext cx="72630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Aft>
                <a:spcPts val="1049"/>
              </a:spcAft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El personal debe llevar delantales protectores, usar los blindajes, vigilar sus dosis y conocer cómo colocarse y cómo usar  las máquinas para mínima dos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Aft>
                <a:spcPts val="1049"/>
              </a:spcAft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Si el haz es horizontal o casi horizontal, el operador debe permanecer del lado del intensificador [para reducir la dosis]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Aft>
                <a:spcPts val="1049"/>
              </a:spcAft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Si el haz es vertical o casi vertical, mantener el tubo bajo el pacient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a controlar la dosis al person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523880"/>
            <a:ext cx="69120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fectos deterministas en radiología intervencion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comendaciones del ICRP 8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das de reducción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539640" y="1197000"/>
            <a:ext cx="827892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Si el procedimiento entraña riesgo de daños por radiación, los pacientes deben ser informados sobre los riesgos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Si la dosis máxima acumulada en piel se estima de 3 Gy o superior, deben mantenerse registros de la exposición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Todos los pacientes con dosis estimadas de 3 Gy ó más deben ser seguidos hasta 14 días después de la exposición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El médico personal del paciente debe ser informado de la posibilidad de efectos de la radiación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Si la dosis es suficiente para causar efectos observables, el paciente debe ser aconsejado tras el procedimiento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Aft>
                <a:spcPts val="825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Arial"/>
              </a:rPr>
              <a:t>Debe establecerse un método para identificar procedimientos repetidos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ngiografía - protección de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Los efectos deterministas a pacientes y personal pueden evitarse implantando actuaciones prácticas de reducción de dosis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Las recomendaciones de la CIPR proporcionan un marco dentro del cuál los procedimientos de radiología intervencionista deben llevarse a cabo de manera segura, tanto para el paciente como para el personal. 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Wagner LK and Archer BR. Minimising risks from fluoroscopic x rays. Third Edition. Parteners in Radiation Management (R.M. Partenership). The Woodlands, TX 77381. USA 2000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V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Arial"/>
              </a:rPr>
              <a:t>ñó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, E and  Lezana, A. Radiation protection in Interventional Radiology. 9th European Congress of Radiology, Vienna (Austria), March 5‑10, 1995. Refresher Cours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voidance of radiation injuries from medical interventional procedures. ICRP Publication 85. Ann ICRP 2000;30 (2). Pergamo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Joint WHO/IRH/CE workshop on efficacy and radiation safety in IR. München, October, 1995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737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os efectos deterministas que podrían suceder en Radiología Intervencionista y las recomendaciones internacionales relacionadas sobre protección radiológ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2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Efectos deterministas en radiología intervencion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2 Marcador de pie de página"/>
          <p:cNvSpPr/>
          <p:nvPr/>
        </p:nvSpPr>
        <p:spPr>
          <a:xfrm>
            <a:off x="2057400" y="6369120"/>
            <a:ext cx="472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17.2: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Optimización de la protección en Radiología Intervencionist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5B4-8B34-4579-B8FB-A01C94BB19C2}" type="slidenum">
              <a:rPr b="0" lang="en-GB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2" descr="C:\office 2000 clippart\CLIPART\PHOTOHM\J01450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429160" y="1371600"/>
            <a:ext cx="36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adiologí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Intervencionist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4" descr="C:\My Documents\oration\green.jpg"/>
          <p:cNvPicPr/>
          <p:nvPr/>
        </p:nvPicPr>
        <p:blipFill>
          <a:blip r:embed="rId2"/>
          <a:stretch/>
        </p:blipFill>
        <p:spPr>
          <a:xfrm>
            <a:off x="3733920" y="1066680"/>
            <a:ext cx="142704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567400" y="3166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C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84960" y="53769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Radiografí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523880" y="1447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24000" y="1159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Doble angioplastia coronaria en un día seguidas de un injerto debido a la complicación. Dosis </a:t>
            </a:r>
            <a:r>
              <a:rPr b="1" lang="es-ES" sz="24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 20 Gy (ICRP 8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2080" y="4937040"/>
            <a:ext cx="85914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(a)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6-8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semanas tras la angiografía coronaria múltiple y procedimientos de angioplastia</a:t>
            </a: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(b)</a:t>
            </a: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16-21 seman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(c)</a:t>
            </a: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18-21 meses tras los procedimientos mostrando la necrosis tisular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(d)</a:t>
            </a: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Fotografía próxima de la lesión mostrada en (c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(e)</a:t>
            </a: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Fotografía tras el injerto de piel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Fotografías cortesía de T. Shope &amp; ICRP)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667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390760" y="1371600"/>
            <a:ext cx="27478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57200" y="5105520"/>
            <a:ext cx="829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La fotografía muestra la depilación temporal de la región occipital derecha del cráneo 5-6 semanas tras la embolización </a:t>
            </a:r>
            <a:r>
              <a:rPr b="1" lang="en-GB" sz="1400" spc="-1" strike="noStrike">
                <a:solidFill>
                  <a:srgbClr val="eaeaea"/>
                </a:solidFill>
                <a:latin typeface="Arial"/>
              </a:rPr>
              <a:t>(Cortesía W. Huda).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Crecimiento (cabello más gris que el original) 3 meses después.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054400" y="2209680"/>
            <a:ext cx="37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Dosis total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8 G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18900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Embolización transarterial en Neurorradiología de AVM paraorbital 2 veces en un plazo de 3 día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133720" y="1117440"/>
            <a:ext cx="5105160" cy="3427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66720" y="4653000"/>
            <a:ext cx="815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(a) </a:t>
            </a: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Placa esclerótica despigmentada con contorno hiperpigmentado a media espalda de un paciente al que se le practicaron tres TIPS. Estos cambios se presentaron 2 años después de los procedimientos y se describieron como típicos de radiodermitis crónica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(Fotografía de Nahass y Cornelius, 1998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(b) Placa ulcerada con un área rectangular de hiperpigmentación alrededor en mitad de la espald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02720" y="1630440"/>
            <a:ext cx="5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(a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1160" y="155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600" y="0"/>
            <a:ext cx="8610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hunt Portosistémico Transyugular Intrahepático - TIPS</a:t>
            </a: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 -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8-20T12:45:04Z</cp:lastPrinted>
  <dcterms:modified xsi:type="dcterms:W3CDTF">2009-09-03T09:29:07Z</dcterms:modified>
  <cp:revision>199</cp:revision>
  <dc:subject>Interventional Radiology (part 2)</dc:subject>
  <dc:title>RADIATION PROTECTION IN DIAGNOSTIC RADIOLOGY</dc:title>
</cp:coreProperties>
</file>