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9692-8471-4380-8F3B-C8790B7605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3125880" y="6440400"/>
            <a:ext cx="28558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14: </a:t>
            </a: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Exposición a la radiación en el embarazo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79560" y="650088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050E-CB7B-4A9D-891C-3D4A04293E36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2048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14: Exposición a la radiación en el embar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28600" y="304920"/>
            <a:ext cx="85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posición inadvertid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                                           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9560" y="1550880"/>
            <a:ext cx="8504280" cy="4087800"/>
            <a:chOff x="439560" y="1550880"/>
            <a:chExt cx="8504280" cy="4087800"/>
          </a:xfrm>
        </p:grpSpPr>
        <p:sp>
          <p:nvSpPr>
            <p:cNvPr id="132" name="Oval 3"/>
            <p:cNvSpPr/>
            <p:nvPr/>
          </p:nvSpPr>
          <p:spPr>
            <a:xfrm flipH="1">
              <a:off x="812880" y="1886040"/>
              <a:ext cx="203040" cy="1141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8681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Line 4"/>
            <p:cNvSpPr/>
            <p:nvPr/>
          </p:nvSpPr>
          <p:spPr>
            <a:xfrm>
              <a:off x="914400" y="1943280"/>
              <a:ext cx="5181480" cy="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3251160" y="1886040"/>
              <a:ext cx="0" cy="1141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6095880" y="1886040"/>
              <a:ext cx="0" cy="1141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608400" y="2111400"/>
              <a:ext cx="269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Última menstruación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5486760" y="1996920"/>
              <a:ext cx="244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Periodos vencid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251160" y="2556000"/>
              <a:ext cx="2946600" cy="114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 flipH="1">
              <a:off x="6197760" y="2556000"/>
              <a:ext cx="406080" cy="11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2743200" y="2556000"/>
              <a:ext cx="507960" cy="11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3251160" y="3162240"/>
              <a:ext cx="2946600" cy="1144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1625760" y="3162240"/>
              <a:ext cx="1625400" cy="11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6603840" y="3108240"/>
              <a:ext cx="215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Proceso psicológico 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incertidumb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2927160" y="1550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5771880" y="1550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28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Text Box 21"/>
            <p:cNvSpPr/>
            <p:nvPr/>
          </p:nvSpPr>
          <p:spPr>
            <a:xfrm>
              <a:off x="6684840" y="2422440"/>
              <a:ext cx="192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Periodo de exposición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WordArt 22"/>
            <p:cNvSpPr txBox="1"/>
            <p:nvPr/>
          </p:nvSpPr>
          <p:spPr>
            <a:xfrm>
              <a:off x="439560" y="4716360"/>
              <a:ext cx="8504280" cy="9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80"/>
                    </a:solidFill>
                    <a:miter/>
                  </a:ln>
                  <a:solidFill>
                    <a:srgbClr val="99ccff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"/>
                </a:rPr>
                <a:t>¿Cómo de sensible es el recién concebido?</a:t>
              </a:r>
              <a:endParaRPr b="1" lang="en-US" sz="4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evención de la exposición inadvertida en el embar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0760" y="1190520"/>
            <a:ext cx="82947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uando una mujer en edad reproductiva acude a una exploración que implica la exposición del área pélvica, pregunt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¿Es probable que esté embarazada? ¿Ha tenido el periodo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Esto se debe anotar en el lugar adecuado de la hoj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¿Mujeres de menos de 16 años?: última menstruación</a:t>
            </a:r>
            <a:br>
              <a:rPr sz="2400"/>
            </a:b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pendiendo de la respue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No hay posibilidad de embaraz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Proceda con la explo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Sensibilidad del recién concebi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5240" y="1523880"/>
            <a:ext cx="806292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asta principios de los años 80, al recién concebido se le consideraba muy sensible a la radiación – ¡aunque nadie sabía cuánto!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percataron de qu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La organogénesis se inicia 3-5 semanas tras la concep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En el periodo previo a la organogénesis una alta exposición a la radiación podría llevar a fallo en la implantación. Una baja dosis podría no tener ningún efecto observabl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ciente definitiva o probablemente embarazad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6640" y="1309680"/>
            <a:ext cx="85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embarazo está establecido o es probable: Revise la justificación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¿Puede retrasarse la exploración hasta después del parto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¿Implica un retraso en la exploración un riesgo mayor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i se va a emprender el procedimiento, la dosis fetal debe mantenerse al mínimo consistente con los propósitos diagnóst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485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4: Exposición a la radiación en el embar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Ejemplo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304920"/>
            <a:ext cx="86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cedimientos de alta dosi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2600" y="126684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finidos como procedimientos que implican dosis fetales de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decenas de mG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Arial"/>
              </a:rPr>
              <a:t>TC abdominal y pélvica, estudios con bario</a:t>
            </a:r>
            <a:br>
              <a:rPr sz="2400"/>
            </a:br>
            <a:r>
              <a:rPr b="0" lang="es-E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imaciones de dosis, dosis típicas en cada departam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plicar la regla de los 10 dí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 caso de exposición no advertida – el riesgo de la irradiación podría ser menor que los riesgos con procedimientos diagnósticos fetales invasivos. Además, la terminación podría no estar justificad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posición de mujeres con capacidad reproductiv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Esto es, mujeres no embaraza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nvestigaciones alternativas que no involucren radiación, cuando sea po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l nivel del diagnóstico - muerte, malformación, retraso en crecimiento, retraso mental grave, efectos hereditarios – no tiene interés. Solo la inducción de cáncer necesita consideracio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plicar la regla de los diez días para procedimientos de alta dosis como la TC pélvica, estudios con bario, 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Etapa de preimplantación (hasta 10 días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olo efecto letal, todo o n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embrión contiene solo unas pocas células no especializa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i se dañan demasiadas células – el embrión es reabsorbi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i solo murieron unas pocas – las restantes células pluripotentes remplazan las perdidas en unas pocas divisiones celula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upervivientes de la bomba atómica – incidencia alta de nacimientos normales junto con aborto espontáne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Dosis fetales aproximadas de exploraciones convencionales con rayos X (</a:t>
            </a:r>
            <a:r>
              <a:rPr b="1" lang="es-ES" sz="1600" spc="-1" strike="noStrike">
                <a:solidFill>
                  <a:srgbClr val="ccecff"/>
                </a:solidFill>
                <a:latin typeface="Arial"/>
              </a:rPr>
              <a:t>datos de UK 1998</a:t>
            </a: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47640" y="1854360"/>
          <a:ext cx="7764480" cy="3147840"/>
        </p:xfrm>
        <a:graphic>
          <a:graphicData uri="http://schemas.openxmlformats.org/drawingml/2006/table">
            <a:tbl>
              <a:tblPr/>
              <a:tblGrid>
                <a:gridCol w="3967200"/>
                <a:gridCol w="1944720"/>
                <a:gridCol w="18525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edi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G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áxim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G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dome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óra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&lt;0.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&lt;0.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rografía intravenos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 Columna lumba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lvi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ráneo o Columna torácic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&lt;0.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&lt;0.0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366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Dosis fetales aproximadas de procedimientos fluoroscópicos y de CT </a:t>
            </a:r>
            <a:r>
              <a:rPr b="1" lang="es-ES" sz="1600" spc="-1" strike="noStrike">
                <a:solidFill>
                  <a:srgbClr val="ccecff"/>
                </a:solidFill>
                <a:latin typeface="Arial"/>
              </a:rPr>
              <a:t>(datos de U.K. 1998)</a:t>
            </a:r>
            <a:endParaRPr b="1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96800" y="1554120"/>
          <a:ext cx="8266320" cy="4130640"/>
        </p:xfrm>
        <a:graphic>
          <a:graphicData uri="http://schemas.openxmlformats.org/drawingml/2006/table">
            <a:tbl>
              <a:tblPr/>
              <a:tblGrid>
                <a:gridCol w="4037040"/>
                <a:gridCol w="2295720"/>
                <a:gridCol w="1933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edia  (mG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áxima (mGy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pilla de bario (tracto GI sup.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nema de bari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C de cabez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&lt; 0.00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&lt; 0.00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C de tóra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C de abdome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C de pelvi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illares de mujeres embarazadas se exponen a la radiación ionizante cada 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falta de conocimiento es la responsable de gran ansiedad y probablemente de la terminación innecesaria de embaraz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la mayoría de las pacientes, la exposición a la radiación es médicamente apropiada y mínimo el riesgo radi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teterismo cardíaco en gest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na barrera de plomo envuelta alrededor del abdomen de la madre desde el diafragma hasta la sínfisis del pub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s posible, el procedimiento debe realizarse tras el periodo de organogénesis principal (&gt;12 semanas). En el 4º mes, el volumen del feto es pequeño, de modo que hay gran distancia entre feto y tóra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osis en el rango de 2 mS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4: Exposición a la radiación en el embar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Riesgo del feto a la radi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90440" y="304920"/>
            <a:ext cx="86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iesgo fetal a la radi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2600" y="1206360"/>
            <a:ext cx="85932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ay riesgos referidos a la radiación a lo largo del embarazo, relacionados con la etapa de gestación y la dosis absorb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riesgos son más importantes durante la organogénesis y en el periodo fetal temprano, algo menos en el 2º trimestre y menos en el 3º trimest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2680" y="4351320"/>
            <a:ext cx="8434440" cy="1589040"/>
            <a:chOff x="382680" y="4351320"/>
            <a:chExt cx="8434440" cy="1589040"/>
          </a:xfrm>
        </p:grpSpPr>
        <p:pic>
          <p:nvPicPr>
            <p:cNvPr id="175" name="Picture 4" descr="F:\prg011.jpg"/>
            <p:cNvPicPr/>
            <p:nvPr/>
          </p:nvPicPr>
          <p:blipFill>
            <a:blip r:embed="rId1"/>
            <a:stretch/>
          </p:blipFill>
          <p:spPr>
            <a:xfrm>
              <a:off x="1328760" y="4362480"/>
              <a:ext cx="198108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" descr="F:\prg013.jpg"/>
            <p:cNvPicPr/>
            <p:nvPr/>
          </p:nvPicPr>
          <p:blipFill>
            <a:blip r:embed="rId2"/>
            <a:srcRect l="0" t="6929" r="0" b="20786"/>
            <a:stretch/>
          </p:blipFill>
          <p:spPr>
            <a:xfrm>
              <a:off x="4232160" y="4351320"/>
              <a:ext cx="1497240" cy="15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" descr="F:\prg014.jpg"/>
            <p:cNvPicPr/>
            <p:nvPr/>
          </p:nvPicPr>
          <p:blipFill>
            <a:blip r:embed="rId3"/>
            <a:srcRect l="6929" t="0" r="0" b="0"/>
            <a:stretch/>
          </p:blipFill>
          <p:spPr>
            <a:xfrm>
              <a:off x="6759720" y="4406760"/>
              <a:ext cx="205740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7"/>
            <p:cNvSpPr/>
            <p:nvPr/>
          </p:nvSpPr>
          <p:spPr>
            <a:xfrm>
              <a:off x="5977080" y="4772160"/>
              <a:ext cx="533160" cy="180720"/>
            </a:xfrm>
            <a:prstGeom prst="rightArrow">
              <a:avLst>
                <a:gd name="adj1" fmla="val 50000"/>
                <a:gd name="adj2" fmla="val 73755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3490920" y="4767120"/>
              <a:ext cx="533520" cy="181080"/>
            </a:xfrm>
            <a:prstGeom prst="rightArrow">
              <a:avLst>
                <a:gd name="adj1" fmla="val 50000"/>
                <a:gd name="adj2" fmla="val 7365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3324240" y="50259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Menor</a:t>
              </a:r>
              <a:r>
                <a:rPr b="0" lang="en-US" sz="2000" spc="-1" strike="noStrike">
                  <a:solidFill>
                    <a:srgbClr val="f05e2a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5743440" y="5043600"/>
              <a:ext cx="11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382680" y="470844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Mayor riesg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Malformaciones inducidas por la radiació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s malformaciones tienen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un umbral de 100-200 mGy o mayor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y se asocian típicamente con problemas del sistema nervioso centra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osis fetales de 100 mGy no se alcanzan ni siquiera con 3 exámenes de TC pélvico o con 20 exploraciones de radiodiagnóstico convencional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os niveles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pueden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alcanzarse en procedimientos intervencionistas en la pelvis, bajo control fluoroscópico, y con radioterap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Efectos sobre el sistema nervioso centra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700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urante 8-25 semanas tras la concepción el SNC es particularmente sensible a la radi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osis fetales por encima de 100 mGy pueden producir cierta reducción del IQ (cociente de inteligenc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dosis fetales en el rango de 1000 mGy (1 Gy) pueden producir retraso mental grave, particularmente durante las semanas 8-15 y menos desde las 16-2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:\MVC-005F.JPG"/>
          <p:cNvPicPr/>
          <p:nvPr/>
        </p:nvPicPr>
        <p:blipFill>
          <a:blip r:embed="rId1">
            <a:lum bright="28000"/>
          </a:blip>
          <a:srcRect l="9000" t="10000" r="9000" b="12000"/>
          <a:stretch/>
        </p:blipFill>
        <p:spPr>
          <a:xfrm>
            <a:off x="1447920" y="1447920"/>
            <a:ext cx="6095880" cy="4346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27080" y="-47520"/>
            <a:ext cx="88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eterotema de materia gris (flechas) cerca de los ventrículos en un individuo con retraso mental que apareció como resultado de exposición a la radiación con dosis alta en út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5"/>
          <p:cNvGrpSpPr/>
          <p:nvPr/>
        </p:nvGrpSpPr>
        <p:grpSpPr>
          <a:xfrm>
            <a:off x="1143000" y="1282680"/>
            <a:ext cx="7086600" cy="4876920"/>
            <a:chOff x="1143000" y="1282680"/>
            <a:chExt cx="7086600" cy="4876920"/>
          </a:xfrm>
        </p:grpSpPr>
        <p:sp>
          <p:nvSpPr>
            <p:cNvPr id="190" name="Rectangle 4"/>
            <p:cNvSpPr/>
            <p:nvPr/>
          </p:nvSpPr>
          <p:spPr>
            <a:xfrm>
              <a:off x="1143000" y="1282680"/>
              <a:ext cx="7086600" cy="4876920"/>
            </a:xfrm>
            <a:prstGeom prst="rect">
              <a:avLst/>
            </a:prstGeom>
            <a:solidFill>
              <a:srgbClr val="0d0d1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91" name="Picture 2" descr="A:\MVC-001F.JPG"/>
            <p:cNvPicPr/>
            <p:nvPr/>
          </p:nvPicPr>
          <p:blipFill>
            <a:blip r:embed="rId1"/>
            <a:srcRect l="3000" t="4000" r="0" b="8000"/>
            <a:stretch/>
          </p:blipFill>
          <p:spPr>
            <a:xfrm>
              <a:off x="1295280" y="1435320"/>
              <a:ext cx="6782040" cy="461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3"/>
          <p:cNvSpPr/>
          <p:nvPr/>
        </p:nvSpPr>
        <p:spPr>
          <a:xfrm>
            <a:off x="254160" y="6480"/>
            <a:ext cx="872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recuencia de microcefalia en función de la dosis y el tiempo de gestación como resultado de la exposición in-útero en supervivientes de la bomba atómica (Miller 1976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eucemia y cáncer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4960" y="1467000"/>
            <a:ext cx="785988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ha demostrado que la radiación incrementa el riesgo de leucemia y muchos tipos de cáncer en adultos y niñ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 lo largo de la mayor parte del embarazo, se supone que el embrión o feto tienen el mismo riesgo de efectos carcinogénicos, al igual que los niñ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eucemia y cáncer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riesgo relativo podría ser tan alto como 1.4 (40% mayor que la incidencia normal) debido a una dosis fetal de 10 m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riesgo del individuo, sin embargo, es pequeño, con un riesgo de cáncer a edades entre 0-15 años con un exceso de alrededor de 1 cáncer mortal por cada 1,700 niños expuestos “in útero” a 10 m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babilidad de tener hijos sanos en función de la dosis de radi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08120" y="1397160"/>
          <a:ext cx="7953120" cy="4093920"/>
        </p:xfrm>
        <a:graphic>
          <a:graphicData uri="http://schemas.openxmlformats.org/drawingml/2006/table">
            <a:tbl>
              <a:tblPr/>
              <a:tblGrid>
                <a:gridCol w="3227400"/>
                <a:gridCol w="2197080"/>
                <a:gridCol w="25286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osis al concebido (mGy) sobre el fondo natur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babilidad de no malformac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babilidad de cancer (0-19 año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0" rIns="0" tIns="0" bIns="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0" rIns="0" tIns="0" bIns="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0" rIns="0" tIns="0" bIns="0" anchor="ctr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&gt;1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ible, ver tex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yo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m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5320" y="1523880"/>
            <a:ext cx="604044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roducción al proble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mplo de dosis por exam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iesgo de radiación fe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Freeform 312"/>
          <p:cNvSpPr/>
          <p:nvPr/>
        </p:nvSpPr>
        <p:spPr>
          <a:xfrm>
            <a:off x="6323040" y="3522600"/>
            <a:ext cx="1440" cy="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Freeform 316"/>
          <p:cNvSpPr/>
          <p:nvPr/>
        </p:nvSpPr>
        <p:spPr>
          <a:xfrm>
            <a:off x="6323040" y="3675240"/>
            <a:ext cx="1440" cy="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rradiación previa a la concep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irradiación de las gónadas de los padres previa a la concepción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no ha evidenciado</a:t>
            </a:r>
            <a:r>
              <a:rPr b="1" lang="es-ES" sz="3200" spc="-1" strike="noStrike">
                <a:solidFill>
                  <a:srgbClr val="f05e2a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cremento de riesgo de cáncer o malformaciones en los niñ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a afirmación proviene de estudios extensivos de supervivientes de la bomba atómica así como de estudios de pacientes tratados con radioterapia siendo niñ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posición a la radiación de mujeres gestant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antes que trabajen con radiaciones para usos médicos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podrían trabajar en un ambiente radiológic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en tanto haya garantía razonable de que la dosis fetal puede mantenerse por debajo de 1 mGy durante el embar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1 mGy es aproximadamente la dosis que todas las personas reciben anualmente de la radiación natural de fon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vestigación en pacientes gestant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71480" y="1698120"/>
            <a:ext cx="3726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debe evitar hacer investigación con radiaciones que implique pacientes gestan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54360" y="1698480"/>
            <a:ext cx="4221360" cy="4295880"/>
            <a:chOff x="4554360" y="1698480"/>
            <a:chExt cx="4221360" cy="4295880"/>
          </a:xfrm>
        </p:grpSpPr>
        <p:pic>
          <p:nvPicPr>
            <p:cNvPr id="206" name="Object 8" descr=""/>
            <p:cNvPicPr/>
            <p:nvPr/>
          </p:nvPicPr>
          <p:blipFill>
            <a:blip r:embed="rId1"/>
            <a:stretch/>
          </p:blipFill>
          <p:spPr>
            <a:xfrm>
              <a:off x="4554360" y="1698480"/>
              <a:ext cx="4221360" cy="422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Object 5" descr=""/>
            <p:cNvPicPr/>
            <p:nvPr/>
          </p:nvPicPr>
          <p:blipFill>
            <a:blip r:embed="rId2"/>
            <a:stretch/>
          </p:blipFill>
          <p:spPr>
            <a:xfrm>
              <a:off x="4776840" y="1905120"/>
              <a:ext cx="2079360" cy="408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rminación del embar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terminación del embarazo a dosis fetales de menos de 100 mGy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no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á justificada sobre la base del riesgo radi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 dosis fetales por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encima de 100 mGy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puede haber daño fetal, cuya magnitud y tipo es función de la dosis y de la etapa de gest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estos casos las decisiones deberían basarse en circunstancias individu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rminación del embar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31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osis fetales altas (100-1000 mGy) durante la última fase del embarazo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no van a</a:t>
            </a:r>
            <a:r>
              <a:rPr b="1" lang="es-ES" sz="3200" spc="-1" strike="noStrike">
                <a:solidFill>
                  <a:srgbClr val="f05e2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ducir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probablemente</a:t>
            </a:r>
            <a:r>
              <a:rPr b="1" lang="es-ES" sz="3200" spc="-1" strike="noStrike">
                <a:solidFill>
                  <a:srgbClr val="f05e2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lformaciones o defectos de nacimiento, dado que todos los órganos se han formado y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62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iesgos en la población gestante no expuesta a la radiación médic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iesg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borto espontáne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&gt; 15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ncidencia de anomalías genéticas   4-1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traso intrauterino de crecimient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   4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ncidencia malformación importante    2-4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illares de mujeres embarazadas se exponen a la radiación ionizante cada 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debe hacer una evaluación apropiada del riesgo, a fin de evitar la terminación del embarazo probablemente innecesa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rincipio de justificación de la protección radiológica debe estar basado siempre en  circunstancias individu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CRP Publication 84. Pregnancy and Medical Radiation (1999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CRP, 1986. Developmental effects of irradiation on the brain of the embryo and fetus. Annals of the ICRP 16 (4), Pergamon Press, Oxfor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ussell, J.G.B., Diagnostic radiation, pregnancy and termination, Br. J. Radiol. 62 733 (1989) 92-3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68080" y="1523880"/>
            <a:ext cx="6132600" cy="22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la exposición a la radiación en el embarazo y consideraciones dosimétricas asoci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4: Exposición a la radiación en el embar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Introducción al proble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52280" y="304920"/>
            <a:ext cx="86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437840"/>
            <a:ext cx="85932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En algunas circunstancias, la exposición es inadecuada y el niño no nacido podría estar en un riesgo acrecent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La dosis prenatales de la mayoría de los procedimientos </a:t>
            </a: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diagnósticos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 realizados adecuadamente </a:t>
            </a: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no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 presentan incremento de riesgo medible de muerte prenatal, malformación, daño menta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Dosis más altas</a:t>
            </a:r>
            <a:r>
              <a:rPr b="0" lang="es-ES" sz="2600" spc="-1" strike="noStrike">
                <a:solidFill>
                  <a:srgbClr val="ffffcc"/>
                </a:solidFill>
                <a:latin typeface="Arial"/>
              </a:rPr>
              <a:t> tales como las de procedimientos terapéuticos </a:t>
            </a:r>
            <a:r>
              <a:rPr b="0" lang="es-ES" sz="2600" spc="-1" strike="noStrike">
                <a:solidFill>
                  <a:srgbClr val="ff9900"/>
                </a:solidFill>
                <a:latin typeface="Arial"/>
              </a:rPr>
              <a:t>pueden producir daño fetal considerabl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3"/>
          <p:cNvGrpSpPr/>
          <p:nvPr/>
        </p:nvGrpSpPr>
        <p:grpSpPr>
          <a:xfrm>
            <a:off x="590400" y="1390680"/>
            <a:ext cx="8403840" cy="4898520"/>
            <a:chOff x="590400" y="1390680"/>
            <a:chExt cx="8403840" cy="4898520"/>
          </a:xfrm>
        </p:grpSpPr>
        <p:pic>
          <p:nvPicPr>
            <p:cNvPr id="108" name="Picture 2" descr="A:\MVC-002F.JPG"/>
            <p:cNvPicPr/>
            <p:nvPr/>
          </p:nvPicPr>
          <p:blipFill>
            <a:blip r:embed="rId1"/>
            <a:srcRect l="7500" t="14000" r="10500" b="0"/>
            <a:stretch/>
          </p:blipFill>
          <p:spPr>
            <a:xfrm>
              <a:off x="590400" y="1390680"/>
              <a:ext cx="7983720" cy="48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"/>
            <p:cNvSpPr/>
            <p:nvPr/>
          </p:nvSpPr>
          <p:spPr>
            <a:xfrm>
              <a:off x="1290600" y="1976040"/>
              <a:ext cx="1330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1360440" y="1780920"/>
              <a:ext cx="112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Cráneofetal</a:t>
              </a: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6123240" y="1456920"/>
              <a:ext cx="14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costill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7523640" y="1976040"/>
              <a:ext cx="147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angre extra-  uterin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Line 7"/>
            <p:cNvSpPr/>
            <p:nvPr/>
          </p:nvSpPr>
          <p:spPr>
            <a:xfrm flipH="1">
              <a:off x="6402960" y="2431800"/>
              <a:ext cx="840240" cy="455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H="1">
              <a:off x="5632920" y="1910880"/>
              <a:ext cx="560160" cy="650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2201040" y="2236680"/>
              <a:ext cx="1120320" cy="585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>
              <a:off x="4513680" y="5829480"/>
              <a:ext cx="30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Dosis fetal 20 mG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7" name="Text Box 12"/>
          <p:cNvSpPr/>
          <p:nvPr/>
        </p:nvSpPr>
        <p:spPr>
          <a:xfrm>
            <a:off x="131760" y="76320"/>
            <a:ext cx="891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jemplo de uso justificado de la TC en una gestante accidentada en un vehículo a mo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263600" y="1382760"/>
            <a:ext cx="7089480" cy="4759200"/>
            <a:chOff x="1263600" y="1382760"/>
            <a:chExt cx="7089480" cy="4759200"/>
          </a:xfrm>
        </p:grpSpPr>
        <p:pic>
          <p:nvPicPr>
            <p:cNvPr id="119" name="Picture 2" descr="A:\MVC-004F.JPG"/>
            <p:cNvPicPr/>
            <p:nvPr/>
          </p:nvPicPr>
          <p:blipFill>
            <a:blip r:embed="rId1"/>
            <a:srcRect l="13500" t="14000" r="7500" b="4000"/>
            <a:stretch/>
          </p:blipFill>
          <p:spPr>
            <a:xfrm>
              <a:off x="1325160" y="1382760"/>
              <a:ext cx="6742440" cy="47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3"/>
            <p:cNvSpPr/>
            <p:nvPr/>
          </p:nvSpPr>
          <p:spPr>
            <a:xfrm>
              <a:off x="1263600" y="1690560"/>
              <a:ext cx="189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Sangre lib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323720" y="5346720"/>
              <a:ext cx="3940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Riñón roto a nivel de la aorta (sin contraste en él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5406840" y="5657760"/>
              <a:ext cx="29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Herida esplénic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 flipV="1">
              <a:off x="2394000" y="4659480"/>
              <a:ext cx="1204200" cy="446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2116440" y="2123280"/>
              <a:ext cx="1254600" cy="1069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H="1" flipV="1">
              <a:off x="7122960" y="5044680"/>
              <a:ext cx="123840" cy="709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6" name="Text Box 10"/>
          <p:cNvSpPr/>
          <p:nvPr/>
        </p:nvSpPr>
        <p:spPr>
          <a:xfrm>
            <a:off x="304920" y="525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xploración de TC de 3 min hecha en el quirófano. Ella y el niño sobrevivier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nálisis de la situ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440" y="1252440"/>
            <a:ext cx="83329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número de mujeres expuestas semanalmente sin saber que pueden estar encintas lleva a exposición a la radiación no advertida del recién concebi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xposiciones</a:t>
            </a:r>
            <a:r>
              <a:rPr b="0" lang="es-ES" sz="2400" spc="-1" strike="noStrike">
                <a:solidFill>
                  <a:srgbClr val="f05e2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planificadas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cientes que requieren exploraciones radiológicas o de medicina nuclear, o incluso terapia durante la gest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valuación de funciones valvulares o escopia de implantes o situaciones que requieren cateterismo cardia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xposición</a:t>
            </a:r>
            <a:r>
              <a:rPr b="0" lang="es-ES" sz="2400" spc="-1" strike="noStrike">
                <a:solidFill>
                  <a:srgbClr val="f05e2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ccidental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en el embaraz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xposiciones</a:t>
            </a:r>
            <a:r>
              <a:rPr b="0" lang="es-ES" sz="2400" spc="-1" strike="noStrike">
                <a:solidFill>
                  <a:srgbClr val="f05e2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ocupacionales</a:t>
            </a:r>
            <a:r>
              <a:rPr b="0" lang="es-ES" sz="2400" spc="-1" strike="noStrike">
                <a:solidFill>
                  <a:srgbClr val="f05e2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urante el embaraz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Exposición de la mujer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con capacidad reprodu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BRITTINGER, Maria Theresa</cp:lastModifiedBy>
  <cp:lastPrinted>2001-10-24T07:37:58Z</cp:lastPrinted>
  <dcterms:modified xsi:type="dcterms:W3CDTF">2009-09-02T12:31:48Z</dcterms:modified>
  <cp:revision>193</cp:revision>
  <dc:subject>Radiation exposure in pregnancy</dc:subject>
  <dc:title>RADIATION PROTECTION IN DIAGNOSTIC RADIOLOGY</dc:title>
</cp:coreProperties>
</file>