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wmf" ContentType="image/x-wmf"/>
  <Override PartName="/ppt/media/image3.wmf" ContentType="image/x-wmf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5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97A0-3639-414E-96EB-AEC1D30C12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os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os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os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os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os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os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os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os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os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os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úmanse los principales asuntos tratados en la sesión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ístense los principales temas abordados y destáquense de nuevo los detalles  importantes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úmanse los principales asuntos tratados en la sesión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ístense los principales temas abordados y destáquense de nuevo los detalles  importantes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protección radiológica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os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os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4 Marcador de pie de página"/>
          <p:cNvSpPr/>
          <p:nvPr/>
        </p:nvSpPr>
        <p:spPr>
          <a:xfrm>
            <a:off x="2925720" y="6448320"/>
            <a:ext cx="33019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16.2: </a:t>
            </a:r>
            <a:r>
              <a:rPr b="0" lang="es-ES" sz="900" spc="-1" strike="noStrike">
                <a:solidFill>
                  <a:srgbClr val="eaeaea"/>
                </a:solidFill>
                <a:latin typeface="Arial"/>
              </a:rPr>
              <a:t>Optimización de la protección en fluoroscop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06640" y="651348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770-D2BC-4E61-BA4D-D4781C006161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78688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16.2: Optimización de la protección en fluoroscop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28600" y="3049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012000" y="2565360"/>
            <a:ext cx="2813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La tasa de dosis dispersa es mayor cuando crece el tamaño de camp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al personal (IV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95280" y="1628640"/>
            <a:ext cx="5329080" cy="4392720"/>
            <a:chOff x="395280" y="1628640"/>
            <a:chExt cx="5329080" cy="4392720"/>
          </a:xfrm>
        </p:grpSpPr>
        <p:sp>
          <p:nvSpPr>
            <p:cNvPr id="183" name="Freeform 5"/>
            <p:cNvSpPr/>
            <p:nvPr/>
          </p:nvSpPr>
          <p:spPr>
            <a:xfrm>
              <a:off x="1015920" y="4195800"/>
              <a:ext cx="970200" cy="468360"/>
            </a:xfrm>
            <a:prstGeom prst="pie">
              <a:avLst/>
            </a:prstGeom>
            <a:solidFill>
              <a:srgbClr val="808080"/>
            </a:solidFill>
            <a:ln w="0">
              <a:solidFill>
                <a:srgbClr val="2db73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Line 6"/>
            <p:cNvSpPr/>
            <p:nvPr/>
          </p:nvSpPr>
          <p:spPr>
            <a:xfrm>
              <a:off x="1447920" y="2676600"/>
              <a:ext cx="1440" cy="1587600"/>
            </a:xfrm>
            <a:prstGeom prst="line">
              <a:avLst/>
            </a:prstGeom>
            <a:ln w="61920">
              <a:solidFill>
                <a:srgbClr val="fd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1333440" y="4179960"/>
              <a:ext cx="230400" cy="250920"/>
            </a:xfrm>
            <a:prstGeom prst="pie">
              <a:avLst/>
            </a:prstGeom>
            <a:solidFill>
              <a:srgbClr val="fd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Line 8"/>
            <p:cNvSpPr/>
            <p:nvPr/>
          </p:nvSpPr>
          <p:spPr>
            <a:xfrm flipV="1">
              <a:off x="1447920" y="4595400"/>
              <a:ext cx="1440" cy="1119240"/>
            </a:xfrm>
            <a:prstGeom prst="line">
              <a:avLst/>
            </a:prstGeom>
            <a:ln w="61920">
              <a:solidFill>
                <a:srgbClr val="fd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1333440" y="4430880"/>
              <a:ext cx="230400" cy="249120"/>
            </a:xfrm>
            <a:prstGeom prst="pie">
              <a:avLst/>
            </a:prstGeom>
            <a:solidFill>
              <a:srgbClr val="fd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1447920" y="4430880"/>
              <a:ext cx="1461960" cy="1440"/>
            </a:xfrm>
            <a:prstGeom prst="line">
              <a:avLst/>
            </a:prstGeom>
            <a:ln w="61920">
              <a:solidFill>
                <a:srgbClr val="fd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2833560" y="4305240"/>
              <a:ext cx="230400" cy="249120"/>
            </a:xfrm>
            <a:prstGeom prst="pie">
              <a:avLst/>
            </a:prstGeom>
            <a:solidFill>
              <a:srgbClr val="fd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 flipH="1">
              <a:off x="1591920" y="3900600"/>
              <a:ext cx="1219320" cy="473040"/>
            </a:xfrm>
            <a:prstGeom prst="line">
              <a:avLst/>
            </a:prstGeom>
            <a:ln w="61920">
              <a:solidFill>
                <a:srgbClr val="fd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Freeform 13"/>
            <p:cNvSpPr/>
            <p:nvPr/>
          </p:nvSpPr>
          <p:spPr>
            <a:xfrm>
              <a:off x="2700360" y="3811680"/>
              <a:ext cx="255600" cy="234720"/>
            </a:xfrm>
            <a:prstGeom prst="pie">
              <a:avLst/>
            </a:prstGeom>
            <a:solidFill>
              <a:srgbClr val="fd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1447920" y="4229280"/>
              <a:ext cx="253800" cy="234720"/>
            </a:xfrm>
            <a:prstGeom prst="pie">
              <a:avLst/>
            </a:prstGeom>
            <a:solidFill>
              <a:srgbClr val="fd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 flipV="1">
              <a:off x="1447920" y="3378240"/>
              <a:ext cx="968400" cy="1052640"/>
            </a:xfrm>
            <a:prstGeom prst="line">
              <a:avLst/>
            </a:prstGeom>
            <a:ln w="61920">
              <a:solidFill>
                <a:srgbClr val="fd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2281320" y="3260880"/>
              <a:ext cx="242640" cy="264960"/>
            </a:xfrm>
            <a:prstGeom prst="pie">
              <a:avLst/>
            </a:prstGeom>
            <a:solidFill>
              <a:srgbClr val="fd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3494160" y="3611520"/>
              <a:ext cx="644400" cy="1401840"/>
            </a:xfrm>
            <a:prstGeom prst="pie">
              <a:avLst/>
            </a:prstGeom>
            <a:solidFill>
              <a:srgbClr val="0000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3602160" y="3144960"/>
              <a:ext cx="430200" cy="466560"/>
            </a:xfrm>
            <a:prstGeom prst="pie">
              <a:avLst/>
            </a:prstGeom>
            <a:solidFill>
              <a:srgbClr val="0000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 flipH="1">
              <a:off x="3602160" y="5013360"/>
              <a:ext cx="108000" cy="701640"/>
            </a:xfrm>
            <a:prstGeom prst="line">
              <a:avLst/>
            </a:prstGeom>
            <a:ln w="61920">
              <a:solidFill>
                <a:srgbClr val="fd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>
              <a:off x="3925800" y="5013360"/>
              <a:ext cx="106560" cy="701640"/>
            </a:xfrm>
            <a:prstGeom prst="line">
              <a:avLst/>
            </a:prstGeom>
            <a:ln w="61920">
              <a:solidFill>
                <a:srgbClr val="fd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Rectangle 21"/>
            <p:cNvSpPr/>
            <p:nvPr/>
          </p:nvSpPr>
          <p:spPr>
            <a:xfrm>
              <a:off x="2464560" y="4038480"/>
              <a:ext cx="102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0.3 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mGy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/h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>
              <a:off x="2556000" y="3467160"/>
              <a:ext cx="9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6 mGy/h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>
              <a:off x="2445480" y="2882880"/>
              <a:ext cx="102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0.8 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mGy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/h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>
              <a:off x="538920" y="2712960"/>
              <a:ext cx="806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100 kV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>
              <a:off x="1473120" y="4786200"/>
              <a:ext cx="200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1m distancia a pacient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Rectangle 26"/>
            <p:cNvSpPr/>
            <p:nvPr/>
          </p:nvSpPr>
          <p:spPr>
            <a:xfrm>
              <a:off x="1633320" y="5000760"/>
              <a:ext cx="20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Espesor paciente 18 cm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Freeform 27"/>
            <p:cNvSpPr/>
            <p:nvPr/>
          </p:nvSpPr>
          <p:spPr>
            <a:xfrm>
              <a:off x="1179360" y="4313160"/>
              <a:ext cx="592200" cy="233280"/>
            </a:xfrm>
            <a:prstGeom prst="pie">
              <a:avLst/>
            </a:prstGeom>
            <a:noFill/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Rectangle 28"/>
            <p:cNvSpPr/>
            <p:nvPr/>
          </p:nvSpPr>
          <p:spPr>
            <a:xfrm>
              <a:off x="4278960" y="4110120"/>
              <a:ext cx="9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a8ffff"/>
                  </a:solidFill>
                  <a:latin typeface="Arial"/>
                </a:rPr>
                <a:t>0.7 mGy/h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29"/>
            <p:cNvSpPr/>
            <p:nvPr/>
          </p:nvSpPr>
          <p:spPr>
            <a:xfrm>
              <a:off x="4278960" y="3467160"/>
              <a:ext cx="9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a8ffff"/>
                  </a:solidFill>
                  <a:latin typeface="Arial"/>
                </a:rPr>
                <a:t>1.1 mGy/h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Rectangle 30"/>
            <p:cNvSpPr/>
            <p:nvPr/>
          </p:nvSpPr>
          <p:spPr>
            <a:xfrm>
              <a:off x="4278960" y="2882880"/>
              <a:ext cx="9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a8ffff"/>
                  </a:solidFill>
                  <a:latin typeface="Arial"/>
                </a:rPr>
                <a:t>1.3 mGy/h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Rectangle 31"/>
            <p:cNvSpPr/>
            <p:nvPr/>
          </p:nvSpPr>
          <p:spPr>
            <a:xfrm>
              <a:off x="4256640" y="2449440"/>
              <a:ext cx="97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a8a8a8"/>
                  </a:solidFill>
                  <a:latin typeface="Arial"/>
                </a:rPr>
                <a:t>17x17 cm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32"/>
            <p:cNvSpPr/>
            <p:nvPr/>
          </p:nvSpPr>
          <p:spPr>
            <a:xfrm>
              <a:off x="4100400" y="2325600"/>
              <a:ext cx="1258920" cy="474840"/>
            </a:xfrm>
            <a:prstGeom prst="rect">
              <a:avLst/>
            </a:prstGeom>
            <a:solidFill>
              <a:srgbClr val="a800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Rectangle 33"/>
            <p:cNvSpPr/>
            <p:nvPr/>
          </p:nvSpPr>
          <p:spPr>
            <a:xfrm>
              <a:off x="2362320" y="2313000"/>
              <a:ext cx="1258920" cy="45072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Rectangle 34"/>
            <p:cNvSpPr/>
            <p:nvPr/>
          </p:nvSpPr>
          <p:spPr>
            <a:xfrm>
              <a:off x="2542320" y="2424240"/>
              <a:ext cx="97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ffffff"/>
                  </a:solidFill>
                  <a:latin typeface="Arial"/>
                </a:rPr>
                <a:t>11x11 cm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Rectangle 35"/>
            <p:cNvSpPr/>
            <p:nvPr/>
          </p:nvSpPr>
          <p:spPr>
            <a:xfrm>
              <a:off x="4253760" y="2436840"/>
              <a:ext cx="97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ffffff"/>
                  </a:solidFill>
                  <a:latin typeface="Arial"/>
                </a:rPr>
                <a:t>17x17 cm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Rectangle 36"/>
            <p:cNvSpPr/>
            <p:nvPr/>
          </p:nvSpPr>
          <p:spPr>
            <a:xfrm>
              <a:off x="624600" y="3014640"/>
              <a:ext cx="62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1 m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Rectangle 37"/>
            <p:cNvSpPr/>
            <p:nvPr/>
          </p:nvSpPr>
          <p:spPr>
            <a:xfrm>
              <a:off x="1039680" y="1755720"/>
              <a:ext cx="397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9900"/>
                  </a:solidFill>
                  <a:latin typeface="Arial"/>
                </a:rPr>
                <a:t>Dependencia con tamaño campo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5280" y="1628640"/>
              <a:ext cx="5329080" cy="43927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6080040" y="1643040"/>
            <a:ext cx="2884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La tasa de dosis dispersa disminuye cuando la distancia al paciente aumen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al personal (V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26920" y="1700280"/>
            <a:ext cx="4753080" cy="3673440"/>
            <a:chOff x="826920" y="1700280"/>
            <a:chExt cx="4753080" cy="3673440"/>
          </a:xfrm>
        </p:grpSpPr>
        <p:grpSp>
          <p:nvGrpSpPr>
            <p:cNvPr id="220" name=""/>
            <p:cNvGrpSpPr/>
            <p:nvPr/>
          </p:nvGrpSpPr>
          <p:grpSpPr>
            <a:xfrm>
              <a:off x="902520" y="1752480"/>
              <a:ext cx="4550760" cy="3568680"/>
              <a:chOff x="902520" y="1752480"/>
              <a:chExt cx="4550760" cy="3568680"/>
            </a:xfrm>
          </p:grpSpPr>
          <p:sp>
            <p:nvSpPr>
              <p:cNvPr id="221" name="Freeform 5"/>
              <p:cNvSpPr/>
              <p:nvPr/>
            </p:nvSpPr>
            <p:spPr>
              <a:xfrm>
                <a:off x="1455840" y="3956040"/>
                <a:ext cx="866520" cy="419040"/>
              </a:xfrm>
              <a:prstGeom prst="pie">
                <a:avLst/>
              </a:prstGeom>
              <a:solidFill>
                <a:srgbClr val="bfbfbf"/>
              </a:solidFill>
              <a:ln w="0">
                <a:solidFill>
                  <a:srgbClr val="00a7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Line 6"/>
              <p:cNvSpPr/>
              <p:nvPr/>
            </p:nvSpPr>
            <p:spPr>
              <a:xfrm>
                <a:off x="1841400" y="2597040"/>
                <a:ext cx="1800" cy="1420920"/>
              </a:xfrm>
              <a:prstGeom prst="line">
                <a:avLst/>
              </a:prstGeom>
              <a:ln w="55440">
                <a:solidFill>
                  <a:srgbClr val="fdd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Freeform 7"/>
              <p:cNvSpPr/>
              <p:nvPr/>
            </p:nvSpPr>
            <p:spPr>
              <a:xfrm>
                <a:off x="1738440" y="3943440"/>
                <a:ext cx="206280" cy="222120"/>
              </a:xfrm>
              <a:prstGeom prst="pie">
                <a:avLst/>
              </a:prstGeom>
              <a:solidFill>
                <a:srgbClr val="fd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Line 8"/>
              <p:cNvSpPr/>
              <p:nvPr/>
            </p:nvSpPr>
            <p:spPr>
              <a:xfrm flipV="1">
                <a:off x="1841400" y="4165200"/>
                <a:ext cx="1800" cy="1150920"/>
              </a:xfrm>
              <a:prstGeom prst="line">
                <a:avLst/>
              </a:prstGeom>
              <a:ln w="30240">
                <a:solidFill>
                  <a:srgbClr val="dfdf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1841400" y="4165560"/>
                <a:ext cx="816120" cy="1800"/>
              </a:xfrm>
              <a:prstGeom prst="line">
                <a:avLst/>
              </a:prstGeom>
              <a:ln w="20520">
                <a:solidFill>
                  <a:srgbClr val="ffc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Freeform 10"/>
              <p:cNvSpPr/>
              <p:nvPr/>
            </p:nvSpPr>
            <p:spPr>
              <a:xfrm>
                <a:off x="2630520" y="4122720"/>
                <a:ext cx="79200" cy="85680"/>
              </a:xfrm>
              <a:prstGeom prst="pie">
                <a:avLst/>
              </a:prstGeom>
              <a:solidFill>
                <a:srgbClr val="ffc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Line 11"/>
              <p:cNvSpPr/>
              <p:nvPr/>
            </p:nvSpPr>
            <p:spPr>
              <a:xfrm flipH="1">
                <a:off x="1887480" y="3822840"/>
                <a:ext cx="679680" cy="323640"/>
              </a:xfrm>
              <a:prstGeom prst="line">
                <a:avLst/>
              </a:prstGeom>
              <a:ln w="20520">
                <a:solidFill>
                  <a:srgbClr val="ffc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2525760" y="3795840"/>
                <a:ext cx="87120" cy="77760"/>
              </a:xfrm>
              <a:prstGeom prst="pie">
                <a:avLst/>
              </a:prstGeom>
              <a:solidFill>
                <a:srgbClr val="ffc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Freeform 13"/>
              <p:cNvSpPr/>
              <p:nvPr/>
            </p:nvSpPr>
            <p:spPr>
              <a:xfrm>
                <a:off x="1839960" y="4095720"/>
                <a:ext cx="87120" cy="77760"/>
              </a:xfrm>
              <a:prstGeom prst="pie">
                <a:avLst/>
              </a:prstGeom>
              <a:solidFill>
                <a:srgbClr val="ffc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Line 14"/>
              <p:cNvSpPr/>
              <p:nvPr/>
            </p:nvSpPr>
            <p:spPr>
              <a:xfrm flipV="1">
                <a:off x="1838160" y="3473280"/>
                <a:ext cx="641520" cy="695520"/>
              </a:xfrm>
              <a:prstGeom prst="line">
                <a:avLst/>
              </a:prstGeom>
              <a:ln w="20520">
                <a:solidFill>
                  <a:srgbClr val="ffc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Freeform 15"/>
              <p:cNvSpPr/>
              <p:nvPr/>
            </p:nvSpPr>
            <p:spPr>
              <a:xfrm>
                <a:off x="2433600" y="3433680"/>
                <a:ext cx="82440" cy="90720"/>
              </a:xfrm>
              <a:prstGeom prst="pie">
                <a:avLst/>
              </a:prstGeom>
              <a:solidFill>
                <a:srgbClr val="ffc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Rectangle 16"/>
              <p:cNvSpPr/>
              <p:nvPr/>
            </p:nvSpPr>
            <p:spPr>
              <a:xfrm>
                <a:off x="902520" y="2630520"/>
                <a:ext cx="806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ff"/>
                    </a:solidFill>
                    <a:latin typeface="Arial"/>
                  </a:rPr>
                  <a:t>100 kV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Rectangle 17"/>
              <p:cNvSpPr/>
              <p:nvPr/>
            </p:nvSpPr>
            <p:spPr>
              <a:xfrm>
                <a:off x="911880" y="3613320"/>
                <a:ext cx="872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</a:rPr>
                  <a:t>11x11</a:t>
                </a: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 cm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Rectangle 18"/>
              <p:cNvSpPr/>
              <p:nvPr/>
            </p:nvSpPr>
            <p:spPr>
              <a:xfrm>
                <a:off x="980280" y="2898720"/>
                <a:ext cx="622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ff"/>
                    </a:solidFill>
                    <a:latin typeface="Arial"/>
                  </a:rPr>
                  <a:t>1 mA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Freeform 19"/>
              <p:cNvSpPr/>
              <p:nvPr/>
            </p:nvSpPr>
            <p:spPr>
              <a:xfrm>
                <a:off x="4543560" y="3016080"/>
                <a:ext cx="385560" cy="417600"/>
              </a:xfrm>
              <a:prstGeom prst="pie">
                <a:avLst/>
              </a:prstGeom>
              <a:solidFill>
                <a:srgbClr val="00a8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Freeform 20"/>
              <p:cNvSpPr/>
              <p:nvPr/>
            </p:nvSpPr>
            <p:spPr>
              <a:xfrm>
                <a:off x="4446720" y="3433680"/>
                <a:ext cx="579240" cy="1255680"/>
              </a:xfrm>
              <a:prstGeom prst="pie">
                <a:avLst/>
              </a:prstGeom>
              <a:solidFill>
                <a:srgbClr val="00a8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Line 21"/>
              <p:cNvSpPr/>
              <p:nvPr/>
            </p:nvSpPr>
            <p:spPr>
              <a:xfrm flipH="1">
                <a:off x="4568400" y="4689360"/>
                <a:ext cx="96840" cy="627120"/>
              </a:xfrm>
              <a:prstGeom prst="line">
                <a:avLst/>
              </a:prstGeom>
              <a:ln w="55440">
                <a:solidFill>
                  <a:srgbClr val="8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4857840" y="4689360"/>
                <a:ext cx="95040" cy="627120"/>
              </a:xfrm>
              <a:prstGeom prst="line">
                <a:avLst/>
              </a:prstGeom>
              <a:ln w="55440">
                <a:solidFill>
                  <a:srgbClr val="8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Rectangle 23"/>
              <p:cNvSpPr/>
              <p:nvPr/>
            </p:nvSpPr>
            <p:spPr>
              <a:xfrm>
                <a:off x="4080960" y="239544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ff"/>
                    </a:solidFill>
                    <a:latin typeface="Arial"/>
                  </a:rPr>
                  <a:t>mGy/h at 1m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Rectangle 24"/>
              <p:cNvSpPr/>
              <p:nvPr/>
            </p:nvSpPr>
            <p:spPr>
              <a:xfrm>
                <a:off x="2354040" y="2395440"/>
                <a:ext cx="1562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ff"/>
                    </a:solidFill>
                    <a:latin typeface="Arial"/>
                  </a:rPr>
                  <a:t>mGy/h at 0.5m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Freeform 25"/>
              <p:cNvSpPr/>
              <p:nvPr/>
            </p:nvSpPr>
            <p:spPr>
              <a:xfrm>
                <a:off x="4037040" y="4129200"/>
                <a:ext cx="88920" cy="14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Rectangle 26"/>
              <p:cNvSpPr/>
              <p:nvPr/>
            </p:nvSpPr>
            <p:spPr>
              <a:xfrm>
                <a:off x="4148280" y="4248000"/>
                <a:ext cx="19080" cy="2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Freeform 27"/>
              <p:cNvSpPr/>
              <p:nvPr/>
            </p:nvSpPr>
            <p:spPr>
              <a:xfrm>
                <a:off x="4186080" y="4129200"/>
                <a:ext cx="90720" cy="14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Freeform 28"/>
              <p:cNvSpPr/>
              <p:nvPr/>
            </p:nvSpPr>
            <p:spPr>
              <a:xfrm>
                <a:off x="4037040" y="3554280"/>
                <a:ext cx="88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Rectangle 29"/>
              <p:cNvSpPr/>
              <p:nvPr/>
            </p:nvSpPr>
            <p:spPr>
              <a:xfrm>
                <a:off x="4148280" y="3673440"/>
                <a:ext cx="19080" cy="2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Freeform 30"/>
              <p:cNvSpPr/>
              <p:nvPr/>
            </p:nvSpPr>
            <p:spPr>
              <a:xfrm>
                <a:off x="4189320" y="3554280"/>
                <a:ext cx="88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Freeform 31"/>
              <p:cNvSpPr/>
              <p:nvPr/>
            </p:nvSpPr>
            <p:spPr>
              <a:xfrm>
                <a:off x="4037040" y="2978280"/>
                <a:ext cx="88920" cy="14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Rectangle 32"/>
              <p:cNvSpPr/>
              <p:nvPr/>
            </p:nvSpPr>
            <p:spPr>
              <a:xfrm>
                <a:off x="4148280" y="3097080"/>
                <a:ext cx="19080" cy="2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Freeform 33"/>
              <p:cNvSpPr/>
              <p:nvPr/>
            </p:nvSpPr>
            <p:spPr>
              <a:xfrm>
                <a:off x="4189320" y="2978280"/>
                <a:ext cx="88920" cy="14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Freeform 34"/>
              <p:cNvSpPr/>
              <p:nvPr/>
            </p:nvSpPr>
            <p:spPr>
              <a:xfrm>
                <a:off x="3289320" y="3433680"/>
                <a:ext cx="577800" cy="1255680"/>
              </a:xfrm>
              <a:prstGeom prst="pie">
                <a:avLst/>
              </a:prstGeom>
              <a:solidFill>
                <a:srgbClr val="a8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Freeform 35"/>
              <p:cNvSpPr/>
              <p:nvPr/>
            </p:nvSpPr>
            <p:spPr>
              <a:xfrm>
                <a:off x="3386160" y="3016080"/>
                <a:ext cx="384120" cy="417600"/>
              </a:xfrm>
              <a:prstGeom prst="pie">
                <a:avLst/>
              </a:prstGeom>
              <a:solidFill>
                <a:srgbClr val="a8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Line 36"/>
              <p:cNvSpPr/>
              <p:nvPr/>
            </p:nvSpPr>
            <p:spPr>
              <a:xfrm>
                <a:off x="3652920" y="4694400"/>
                <a:ext cx="96840" cy="626760"/>
              </a:xfrm>
              <a:prstGeom prst="line">
                <a:avLst/>
              </a:prstGeom>
              <a:ln w="55440">
                <a:solidFill>
                  <a:srgbClr val="8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Line 37"/>
              <p:cNvSpPr/>
              <p:nvPr/>
            </p:nvSpPr>
            <p:spPr>
              <a:xfrm flipH="1">
                <a:off x="3409560" y="4689360"/>
                <a:ext cx="96840" cy="627120"/>
              </a:xfrm>
              <a:prstGeom prst="line">
                <a:avLst/>
              </a:prstGeom>
              <a:ln w="55440">
                <a:solidFill>
                  <a:srgbClr val="8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Freeform 38"/>
              <p:cNvSpPr/>
              <p:nvPr/>
            </p:nvSpPr>
            <p:spPr>
              <a:xfrm>
                <a:off x="2876400" y="2978280"/>
                <a:ext cx="92160" cy="14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Rectangle 39"/>
              <p:cNvSpPr/>
              <p:nvPr/>
            </p:nvSpPr>
            <p:spPr>
              <a:xfrm>
                <a:off x="2989440" y="3097080"/>
                <a:ext cx="18720" cy="2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Freeform 40"/>
              <p:cNvSpPr/>
              <p:nvPr/>
            </p:nvSpPr>
            <p:spPr>
              <a:xfrm>
                <a:off x="3029040" y="2978280"/>
                <a:ext cx="90360" cy="141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Freeform 41"/>
              <p:cNvSpPr/>
              <p:nvPr/>
            </p:nvSpPr>
            <p:spPr>
              <a:xfrm>
                <a:off x="2878200" y="3606840"/>
                <a:ext cx="88920" cy="141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Rectangle 42"/>
              <p:cNvSpPr/>
              <p:nvPr/>
            </p:nvSpPr>
            <p:spPr>
              <a:xfrm>
                <a:off x="2989440" y="3726000"/>
                <a:ext cx="1872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Freeform 43"/>
              <p:cNvSpPr/>
              <p:nvPr/>
            </p:nvSpPr>
            <p:spPr>
              <a:xfrm>
                <a:off x="3027240" y="3610080"/>
                <a:ext cx="93960" cy="13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Freeform 44"/>
              <p:cNvSpPr/>
              <p:nvPr/>
            </p:nvSpPr>
            <p:spPr>
              <a:xfrm>
                <a:off x="2890800" y="4129200"/>
                <a:ext cx="46080" cy="141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Rectangle 45"/>
              <p:cNvSpPr/>
              <p:nvPr/>
            </p:nvSpPr>
            <p:spPr>
              <a:xfrm>
                <a:off x="2989440" y="4248000"/>
                <a:ext cx="18720" cy="2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Freeform 46"/>
              <p:cNvSpPr/>
              <p:nvPr/>
            </p:nvSpPr>
            <p:spPr>
              <a:xfrm>
                <a:off x="3029040" y="4129200"/>
                <a:ext cx="90360" cy="141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Rectangle 47"/>
              <p:cNvSpPr/>
              <p:nvPr/>
            </p:nvSpPr>
            <p:spPr>
              <a:xfrm>
                <a:off x="1212480" y="1752480"/>
                <a:ext cx="349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600" spc="-1" strike="noStrike">
                    <a:solidFill>
                      <a:srgbClr val="ff9900"/>
                    </a:solidFill>
                    <a:latin typeface="Arial"/>
                  </a:rPr>
                  <a:t>Variación de distancia</a:t>
                </a:r>
                <a:endParaRPr b="0" lang="en-US" sz="2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826920" y="1700280"/>
              <a:ext cx="4753080" cy="367344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6300720" y="2435400"/>
            <a:ext cx="276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El tubo bajo la mesa reduce, en general, altas tasas de dosis en el cristalino del especialis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60320" y="1785960"/>
            <a:ext cx="5668920" cy="3800520"/>
            <a:chOff x="760320" y="1785960"/>
            <a:chExt cx="5668920" cy="3800520"/>
          </a:xfrm>
        </p:grpSpPr>
        <p:sp>
          <p:nvSpPr>
            <p:cNvPr id="267" name="Rectangle 5"/>
            <p:cNvSpPr/>
            <p:nvPr/>
          </p:nvSpPr>
          <p:spPr>
            <a:xfrm>
              <a:off x="760320" y="1876320"/>
              <a:ext cx="1930320" cy="885960"/>
            </a:xfrm>
            <a:prstGeom prst="rect">
              <a:avLst/>
            </a:prstGeom>
            <a:solidFill>
              <a:srgbClr val="00808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3344760" y="1785960"/>
              <a:ext cx="3084480" cy="598320"/>
            </a:xfrm>
            <a:prstGeom prst="rect">
              <a:avLst/>
            </a:prstGeom>
            <a:solidFill>
              <a:srgbClr val="00a8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Rectangle 7"/>
            <p:cNvSpPr/>
            <p:nvPr/>
          </p:nvSpPr>
          <p:spPr>
            <a:xfrm>
              <a:off x="3344760" y="3071880"/>
              <a:ext cx="2584440" cy="658800"/>
            </a:xfrm>
            <a:prstGeom prst="rect">
              <a:avLst/>
            </a:prstGeom>
            <a:solidFill>
              <a:srgbClr val="00a8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1230480" y="3908520"/>
              <a:ext cx="2055600" cy="592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3562200" y="4429080"/>
              <a:ext cx="2367000" cy="460440"/>
            </a:xfrm>
            <a:prstGeom prst="rect">
              <a:avLst/>
            </a:prstGeom>
            <a:solidFill>
              <a:srgbClr val="a800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Rectangle 10"/>
            <p:cNvSpPr/>
            <p:nvPr/>
          </p:nvSpPr>
          <p:spPr>
            <a:xfrm>
              <a:off x="3573360" y="5143680"/>
              <a:ext cx="2713320" cy="442800"/>
            </a:xfrm>
            <a:prstGeom prst="rect">
              <a:avLst/>
            </a:prstGeom>
            <a:solidFill>
              <a:srgbClr val="a800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Rectangle 11"/>
            <p:cNvSpPr/>
            <p:nvPr/>
          </p:nvSpPr>
          <p:spPr>
            <a:xfrm>
              <a:off x="1252440" y="4937040"/>
              <a:ext cx="1747800" cy="492120"/>
            </a:xfrm>
            <a:prstGeom prst="rect">
              <a:avLst/>
            </a:prstGeom>
            <a:solidFill>
              <a:srgbClr val="a80000"/>
            </a:solidFill>
            <a:ln w="0">
              <a:solidFill>
                <a:srgbClr val="00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 flipH="1">
              <a:off x="2777760" y="2170080"/>
              <a:ext cx="536760" cy="180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2779560" y="2190600"/>
              <a:ext cx="1800" cy="127800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2779560" y="3489480"/>
              <a:ext cx="536760" cy="144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 flipH="1">
              <a:off x="3343320" y="4659480"/>
              <a:ext cx="187200" cy="144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 flipV="1">
              <a:off x="3343320" y="4659480"/>
              <a:ext cx="1440" cy="66816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3343320" y="5357880"/>
              <a:ext cx="187200" cy="144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Line 19"/>
            <p:cNvSpPr/>
            <p:nvPr/>
          </p:nvSpPr>
          <p:spPr>
            <a:xfrm>
              <a:off x="1627200" y="3003480"/>
              <a:ext cx="973080" cy="180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2523960" y="2879640"/>
              <a:ext cx="228600" cy="24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Line 21"/>
            <p:cNvSpPr/>
            <p:nvPr/>
          </p:nvSpPr>
          <p:spPr>
            <a:xfrm>
              <a:off x="2940120" y="5095800"/>
              <a:ext cx="222120" cy="180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3086280" y="4971960"/>
              <a:ext cx="2286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Line 23"/>
            <p:cNvSpPr/>
            <p:nvPr/>
          </p:nvSpPr>
          <p:spPr>
            <a:xfrm>
              <a:off x="1623960" y="2743200"/>
              <a:ext cx="4680" cy="99684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1512720" y="3657600"/>
              <a:ext cx="2286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Line 25"/>
            <p:cNvSpPr/>
            <p:nvPr/>
          </p:nvSpPr>
          <p:spPr>
            <a:xfrm>
              <a:off x="2338560" y="4513320"/>
              <a:ext cx="1440" cy="241200"/>
            </a:xfrm>
            <a:prstGeom prst="line">
              <a:avLst/>
            </a:prstGeom>
            <a:ln w="61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Freeform 26"/>
            <p:cNvSpPr/>
            <p:nvPr/>
          </p:nvSpPr>
          <p:spPr>
            <a:xfrm>
              <a:off x="2224080" y="4672080"/>
              <a:ext cx="2286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Rectangle 27"/>
            <p:cNvSpPr/>
            <p:nvPr/>
          </p:nvSpPr>
          <p:spPr>
            <a:xfrm>
              <a:off x="1100160" y="2057400"/>
              <a:ext cx="111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ffffff"/>
                  </a:solidFill>
                  <a:latin typeface="Arial"/>
                </a:rPr>
                <a:t>LA MEJOR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Rectangle 28"/>
            <p:cNvSpPr/>
            <p:nvPr/>
          </p:nvSpPr>
          <p:spPr>
            <a:xfrm>
              <a:off x="821880" y="2340000"/>
              <a:ext cx="185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ffffff"/>
                  </a:solidFill>
                  <a:latin typeface="Arial"/>
                </a:rPr>
                <a:t>CONFIGURACIÓN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Rectangle 29"/>
            <p:cNvSpPr/>
            <p:nvPr/>
          </p:nvSpPr>
          <p:spPr>
            <a:xfrm>
              <a:off x="3420000" y="1963800"/>
              <a:ext cx="289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INTENSIFICADOR ARRIB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Rectangle 30"/>
            <p:cNvSpPr/>
            <p:nvPr/>
          </p:nvSpPr>
          <p:spPr>
            <a:xfrm>
              <a:off x="3490920" y="3273480"/>
              <a:ext cx="233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TUBO DE R X ABAJ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1302840" y="3987720"/>
              <a:ext cx="197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AHORRA  UN FACTOR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1300680" y="4205160"/>
              <a:ext cx="163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3 O MÁS EN DOSI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1319400" y="5025960"/>
              <a:ext cx="162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COMPARADO CON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1428840" y="5243400"/>
              <a:ext cx="3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3775680" y="4568760"/>
              <a:ext cx="215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TUBO DE R X ARRIB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3720960" y="5272200"/>
              <a:ext cx="24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INTENSIFICADOR ABAJ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al personal (V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4572000" y="1219320"/>
            <a:ext cx="4278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cc"/>
                </a:solidFill>
                <a:latin typeface="Arial"/>
              </a:rPr>
              <a:t>El tubo bajo la mesa reduce, en general, altas tasas de dosis en el cristalino del especialist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al personal (V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57680" y="3201840"/>
            <a:ext cx="4017960" cy="3106800"/>
            <a:chOff x="4657680" y="3201840"/>
            <a:chExt cx="4017960" cy="3106800"/>
          </a:xfrm>
        </p:grpSpPr>
        <p:sp>
          <p:nvSpPr>
            <p:cNvPr id="302" name="Rectangle 35"/>
            <p:cNvSpPr/>
            <p:nvPr/>
          </p:nvSpPr>
          <p:spPr>
            <a:xfrm>
              <a:off x="4657680" y="3213000"/>
              <a:ext cx="4017960" cy="309564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Freeform 36"/>
            <p:cNvSpPr/>
            <p:nvPr/>
          </p:nvSpPr>
          <p:spPr>
            <a:xfrm>
              <a:off x="5522760" y="4724280"/>
              <a:ext cx="782640" cy="3891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Line 37"/>
            <p:cNvSpPr/>
            <p:nvPr/>
          </p:nvSpPr>
          <p:spPr>
            <a:xfrm>
              <a:off x="5872320" y="4919760"/>
              <a:ext cx="1234800" cy="1440"/>
            </a:xfrm>
            <a:prstGeom prst="line">
              <a:avLst/>
            </a:prstGeom>
            <a:ln w="3024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Freeform 38"/>
            <p:cNvSpPr/>
            <p:nvPr/>
          </p:nvSpPr>
          <p:spPr>
            <a:xfrm>
              <a:off x="7072200" y="4862520"/>
              <a:ext cx="101880" cy="112680"/>
            </a:xfrm>
            <a:prstGeom prst="pie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Line 39"/>
            <p:cNvSpPr/>
            <p:nvPr/>
          </p:nvSpPr>
          <p:spPr>
            <a:xfrm flipH="1">
              <a:off x="5933880" y="4456080"/>
              <a:ext cx="1090440" cy="438120"/>
            </a:xfrm>
            <a:prstGeom prst="line">
              <a:avLst/>
            </a:prstGeom>
            <a:ln w="3024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Freeform 40"/>
            <p:cNvSpPr/>
            <p:nvPr/>
          </p:nvSpPr>
          <p:spPr>
            <a:xfrm>
              <a:off x="6975360" y="4416480"/>
              <a:ext cx="111240" cy="106200"/>
            </a:xfrm>
            <a:prstGeom prst="pie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Freeform 41"/>
            <p:cNvSpPr/>
            <p:nvPr/>
          </p:nvSpPr>
          <p:spPr>
            <a:xfrm>
              <a:off x="5872320" y="4827600"/>
              <a:ext cx="110880" cy="106200"/>
            </a:xfrm>
            <a:prstGeom prst="pie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Line 42"/>
            <p:cNvSpPr/>
            <p:nvPr/>
          </p:nvSpPr>
          <p:spPr>
            <a:xfrm flipV="1">
              <a:off x="5872320" y="3997440"/>
              <a:ext cx="819000" cy="922320"/>
            </a:xfrm>
            <a:prstGeom prst="line">
              <a:avLst/>
            </a:prstGeom>
            <a:ln w="3024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Freeform 43"/>
            <p:cNvSpPr/>
            <p:nvPr/>
          </p:nvSpPr>
          <p:spPr>
            <a:xfrm>
              <a:off x="6632640" y="3943440"/>
              <a:ext cx="108000" cy="120600"/>
            </a:xfrm>
            <a:prstGeom prst="pie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Freeform 44"/>
            <p:cNvSpPr/>
            <p:nvPr/>
          </p:nvSpPr>
          <p:spPr>
            <a:xfrm>
              <a:off x="7999560" y="4237200"/>
              <a:ext cx="522000" cy="1170000"/>
            </a:xfrm>
            <a:prstGeom prst="pie">
              <a:avLst/>
            </a:prstGeom>
            <a:solidFill>
              <a:srgbClr val="8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Freeform 45"/>
            <p:cNvSpPr/>
            <p:nvPr/>
          </p:nvSpPr>
          <p:spPr>
            <a:xfrm>
              <a:off x="8086680" y="3846600"/>
              <a:ext cx="347760" cy="390600"/>
            </a:xfrm>
            <a:prstGeom prst="pie">
              <a:avLst/>
            </a:prstGeom>
            <a:solidFill>
              <a:srgbClr val="8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Line 46"/>
            <p:cNvSpPr/>
            <p:nvPr/>
          </p:nvSpPr>
          <p:spPr>
            <a:xfrm flipH="1">
              <a:off x="8109000" y="5407200"/>
              <a:ext cx="85680" cy="583920"/>
            </a:xfrm>
            <a:prstGeom prst="line">
              <a:avLst/>
            </a:prstGeom>
            <a:ln w="55440">
              <a:solidFill>
                <a:srgbClr val="fd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Line 47"/>
            <p:cNvSpPr/>
            <p:nvPr/>
          </p:nvSpPr>
          <p:spPr>
            <a:xfrm>
              <a:off x="8326440" y="5407200"/>
              <a:ext cx="87480" cy="583920"/>
            </a:xfrm>
            <a:prstGeom prst="line">
              <a:avLst/>
            </a:prstGeom>
            <a:ln w="55440">
              <a:solidFill>
                <a:srgbClr val="fd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Rectangle 48"/>
            <p:cNvSpPr/>
            <p:nvPr/>
          </p:nvSpPr>
          <p:spPr>
            <a:xfrm>
              <a:off x="6922800" y="459900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Arial"/>
                </a:rPr>
                <a:t>1.3 (59%)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Rectangle 49"/>
            <p:cNvSpPr/>
            <p:nvPr/>
          </p:nvSpPr>
          <p:spPr>
            <a:xfrm>
              <a:off x="6922800" y="411336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Arial"/>
                </a:rPr>
                <a:t>1.2 (55%)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Rectangle 50"/>
            <p:cNvSpPr/>
            <p:nvPr/>
          </p:nvSpPr>
          <p:spPr>
            <a:xfrm>
              <a:off x="6941880" y="374004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Arial"/>
                </a:rPr>
                <a:t>1.2 (55%)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Rectangle 51"/>
            <p:cNvSpPr/>
            <p:nvPr/>
          </p:nvSpPr>
          <p:spPr>
            <a:xfrm>
              <a:off x="5013720" y="53658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Arial"/>
                </a:rPr>
                <a:t>100 kV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Rectangle 52"/>
            <p:cNvSpPr/>
            <p:nvPr/>
          </p:nvSpPr>
          <p:spPr>
            <a:xfrm>
              <a:off x="4800600" y="4794120"/>
              <a:ext cx="86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Arial"/>
                </a:rPr>
                <a:t>20x20 cm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Rectangle 53"/>
            <p:cNvSpPr/>
            <p:nvPr/>
          </p:nvSpPr>
          <p:spPr>
            <a:xfrm>
              <a:off x="5912640" y="5589720"/>
              <a:ext cx="2265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Arial"/>
                </a:rPr>
                <a:t>distancia al paciente: 1m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Rectangle 54"/>
            <p:cNvSpPr/>
            <p:nvPr/>
          </p:nvSpPr>
          <p:spPr>
            <a:xfrm>
              <a:off x="5104800" y="5576760"/>
              <a:ext cx="329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Arial"/>
                </a:rPr>
                <a:t>1 m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Rectangle 55"/>
            <p:cNvSpPr/>
            <p:nvPr/>
          </p:nvSpPr>
          <p:spPr>
            <a:xfrm>
              <a:off x="5004000" y="426096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Arial"/>
                </a:rPr>
                <a:t>1 Gy/h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Rectangle 56"/>
            <p:cNvSpPr/>
            <p:nvPr/>
          </p:nvSpPr>
          <p:spPr>
            <a:xfrm>
              <a:off x="4768560" y="4479840"/>
              <a:ext cx="121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Arial"/>
                </a:rPr>
                <a:t>(17 mGy/min)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Rectangle 57"/>
            <p:cNvSpPr/>
            <p:nvPr/>
          </p:nvSpPr>
          <p:spPr>
            <a:xfrm>
              <a:off x="5353200" y="5905440"/>
              <a:ext cx="1123920" cy="266760"/>
            </a:xfrm>
            <a:prstGeom prst="rect">
              <a:avLst/>
            </a:prstGeom>
            <a:solidFill>
              <a:srgbClr val="a8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Rectangle 58"/>
            <p:cNvSpPr/>
            <p:nvPr/>
          </p:nvSpPr>
          <p:spPr>
            <a:xfrm>
              <a:off x="7013160" y="3201840"/>
              <a:ext cx="71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mGy/h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Line 59"/>
            <p:cNvSpPr/>
            <p:nvPr/>
          </p:nvSpPr>
          <p:spPr>
            <a:xfrm>
              <a:off x="5872320" y="4919760"/>
              <a:ext cx="591840" cy="399960"/>
            </a:xfrm>
            <a:prstGeom prst="line">
              <a:avLst/>
            </a:prstGeom>
            <a:ln w="3024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Freeform 60"/>
            <p:cNvSpPr/>
            <p:nvPr/>
          </p:nvSpPr>
          <p:spPr>
            <a:xfrm>
              <a:off x="6410160" y="5251320"/>
              <a:ext cx="113040" cy="106560"/>
            </a:xfrm>
            <a:prstGeom prst="pie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Rectangle 61"/>
            <p:cNvSpPr/>
            <p:nvPr/>
          </p:nvSpPr>
          <p:spPr>
            <a:xfrm>
              <a:off x="6878160" y="5202360"/>
              <a:ext cx="93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Arial"/>
                </a:rPr>
                <a:t>2.2 (100%)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Line 62"/>
            <p:cNvSpPr/>
            <p:nvPr/>
          </p:nvSpPr>
          <p:spPr>
            <a:xfrm>
              <a:off x="5872320" y="5057640"/>
              <a:ext cx="1440" cy="860400"/>
            </a:xfrm>
            <a:prstGeom prst="line">
              <a:avLst/>
            </a:prstGeom>
            <a:ln w="5544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Freeform 63"/>
            <p:cNvSpPr/>
            <p:nvPr/>
          </p:nvSpPr>
          <p:spPr>
            <a:xfrm>
              <a:off x="5778360" y="4919760"/>
              <a:ext cx="185760" cy="206280"/>
            </a:xfrm>
            <a:prstGeom prst="pie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Line 64"/>
            <p:cNvSpPr/>
            <p:nvPr/>
          </p:nvSpPr>
          <p:spPr>
            <a:xfrm flipV="1">
              <a:off x="5872320" y="3358800"/>
              <a:ext cx="1440" cy="1560600"/>
            </a:xfrm>
            <a:prstGeom prst="line">
              <a:avLst/>
            </a:prstGeom>
            <a:ln w="4608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Rectangle 67"/>
            <p:cNvSpPr/>
            <p:nvPr/>
          </p:nvSpPr>
          <p:spPr>
            <a:xfrm>
              <a:off x="5455800" y="5916600"/>
              <a:ext cx="83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Arial"/>
                </a:rPr>
                <a:t>Tubo R X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50920" y="1341360"/>
            <a:ext cx="4176720" cy="3672000"/>
            <a:chOff x="250920" y="1341360"/>
            <a:chExt cx="4176720" cy="3672000"/>
          </a:xfrm>
        </p:grpSpPr>
        <p:grpSp>
          <p:nvGrpSpPr>
            <p:cNvPr id="334" name=""/>
            <p:cNvGrpSpPr/>
            <p:nvPr/>
          </p:nvGrpSpPr>
          <p:grpSpPr>
            <a:xfrm>
              <a:off x="311400" y="1565280"/>
              <a:ext cx="4019400" cy="3100320"/>
              <a:chOff x="311400" y="1565280"/>
              <a:chExt cx="4019400" cy="3100320"/>
            </a:xfrm>
          </p:grpSpPr>
          <p:sp>
            <p:nvSpPr>
              <p:cNvPr id="335" name="Freeform 5"/>
              <p:cNvSpPr/>
              <p:nvPr/>
            </p:nvSpPr>
            <p:spPr>
              <a:xfrm>
                <a:off x="866880" y="3244680"/>
                <a:ext cx="903240" cy="435240"/>
              </a:xfrm>
              <a:prstGeom prst="pie">
                <a:avLst/>
              </a:prstGeom>
              <a:solidFill>
                <a:srgbClr val="bfbfb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" name="Line 6"/>
              <p:cNvSpPr/>
              <p:nvPr/>
            </p:nvSpPr>
            <p:spPr>
              <a:xfrm>
                <a:off x="1268640" y="1827360"/>
                <a:ext cx="1440" cy="1479240"/>
              </a:xfrm>
              <a:prstGeom prst="line">
                <a:avLst/>
              </a:prstGeom>
              <a:ln w="5868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" name="Freeform 7"/>
              <p:cNvSpPr/>
              <p:nvPr/>
            </p:nvSpPr>
            <p:spPr>
              <a:xfrm>
                <a:off x="1160640" y="3228840"/>
                <a:ext cx="214200" cy="233640"/>
              </a:xfrm>
              <a:prstGeom prst="pie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Line 8"/>
              <p:cNvSpPr/>
              <p:nvPr/>
            </p:nvSpPr>
            <p:spPr>
              <a:xfrm flipV="1">
                <a:off x="1268640" y="3462120"/>
                <a:ext cx="1440" cy="1198440"/>
              </a:xfrm>
              <a:prstGeom prst="line">
                <a:avLst/>
              </a:prstGeom>
              <a:ln w="3168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Line 9"/>
              <p:cNvSpPr/>
              <p:nvPr/>
            </p:nvSpPr>
            <p:spPr>
              <a:xfrm>
                <a:off x="1268640" y="3462480"/>
                <a:ext cx="1428480" cy="1440"/>
              </a:xfrm>
              <a:prstGeom prst="line">
                <a:avLst/>
              </a:prstGeom>
              <a:ln w="3168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Freeform 10"/>
              <p:cNvSpPr/>
              <p:nvPr/>
            </p:nvSpPr>
            <p:spPr>
              <a:xfrm>
                <a:off x="2657520" y="3398760"/>
                <a:ext cx="117360" cy="127080"/>
              </a:xfrm>
              <a:prstGeom prst="pie">
                <a:avLst/>
              </a:pr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Line 11"/>
              <p:cNvSpPr/>
              <p:nvPr/>
            </p:nvSpPr>
            <p:spPr>
              <a:xfrm flipH="1">
                <a:off x="1341720" y="2944800"/>
                <a:ext cx="1258560" cy="488880"/>
              </a:xfrm>
              <a:prstGeom prst="line">
                <a:avLst/>
              </a:prstGeom>
              <a:ln w="3168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Freeform 12"/>
              <p:cNvSpPr/>
              <p:nvPr/>
            </p:nvSpPr>
            <p:spPr>
              <a:xfrm>
                <a:off x="2543400" y="2898720"/>
                <a:ext cx="129960" cy="120600"/>
              </a:xfrm>
              <a:prstGeom prst="pie">
                <a:avLst/>
              </a:pr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Freeform 13"/>
              <p:cNvSpPr/>
              <p:nvPr/>
            </p:nvSpPr>
            <p:spPr>
              <a:xfrm>
                <a:off x="1268640" y="3359160"/>
                <a:ext cx="129960" cy="120600"/>
              </a:xfrm>
              <a:prstGeom prst="pie">
                <a:avLst/>
              </a:pr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" name="Line 14"/>
              <p:cNvSpPr/>
              <p:nvPr/>
            </p:nvSpPr>
            <p:spPr>
              <a:xfrm flipV="1">
                <a:off x="1268640" y="2432160"/>
                <a:ext cx="949320" cy="1030320"/>
              </a:xfrm>
              <a:prstGeom prst="line">
                <a:avLst/>
              </a:prstGeom>
              <a:ln w="3168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Freeform 15"/>
              <p:cNvSpPr/>
              <p:nvPr/>
            </p:nvSpPr>
            <p:spPr>
              <a:xfrm>
                <a:off x="2149560" y="2371680"/>
                <a:ext cx="122400" cy="135000"/>
              </a:xfrm>
              <a:prstGeom prst="pie">
                <a:avLst/>
              </a:pr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" name="Freeform 16"/>
              <p:cNvSpPr/>
              <p:nvPr/>
            </p:nvSpPr>
            <p:spPr>
              <a:xfrm>
                <a:off x="3727440" y="2698920"/>
                <a:ext cx="603360" cy="1307880"/>
              </a:xfrm>
              <a:prstGeom prst="pie">
                <a:avLst/>
              </a:prstGeom>
              <a:solidFill>
                <a:srgbClr val="8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" name="Freeform 17"/>
              <p:cNvSpPr/>
              <p:nvPr/>
            </p:nvSpPr>
            <p:spPr>
              <a:xfrm>
                <a:off x="3818160" y="2286000"/>
                <a:ext cx="401400" cy="436680"/>
              </a:xfrm>
              <a:prstGeom prst="pie">
                <a:avLst/>
              </a:prstGeom>
              <a:solidFill>
                <a:srgbClr val="8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Rectangle 20"/>
              <p:cNvSpPr/>
              <p:nvPr/>
            </p:nvSpPr>
            <p:spPr>
              <a:xfrm>
                <a:off x="2482560" y="3105000"/>
                <a:ext cx="83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Arial"/>
                  </a:rPr>
                  <a:t>1.3 (59%)</a:t>
                </a:r>
                <a:endParaRPr b="0" lang="en-US" sz="1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Rectangle 21"/>
              <p:cNvSpPr/>
              <p:nvPr/>
            </p:nvSpPr>
            <p:spPr>
              <a:xfrm>
                <a:off x="2482560" y="2558880"/>
                <a:ext cx="83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Arial"/>
                  </a:rPr>
                  <a:t>2.0 (91%)</a:t>
                </a:r>
                <a:endParaRPr b="0" lang="en-US" sz="1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Rectangle 22"/>
              <p:cNvSpPr/>
              <p:nvPr/>
            </p:nvSpPr>
            <p:spPr>
              <a:xfrm>
                <a:off x="2482200" y="206208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Arial"/>
                  </a:rPr>
                  <a:t>2.2 (100%)</a:t>
                </a:r>
                <a:endParaRPr b="0" lang="en-US" sz="1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" name="Rectangle 23"/>
              <p:cNvSpPr/>
              <p:nvPr/>
            </p:nvSpPr>
            <p:spPr>
              <a:xfrm>
                <a:off x="478440" y="1946160"/>
                <a:ext cx="60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Arial"/>
                  </a:rPr>
                  <a:t>100 kV</a:t>
                </a:r>
                <a:endParaRPr b="0" lang="en-US" sz="1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Rectangle 24"/>
              <p:cNvSpPr/>
              <p:nvPr/>
            </p:nvSpPr>
            <p:spPr>
              <a:xfrm>
                <a:off x="426240" y="2886120"/>
                <a:ext cx="80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20x20 cm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Rectangle 25"/>
              <p:cNvSpPr/>
              <p:nvPr/>
            </p:nvSpPr>
            <p:spPr>
              <a:xfrm>
                <a:off x="1542600" y="4365720"/>
                <a:ext cx="226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Arial"/>
                  </a:rPr>
                  <a:t>distancia al paciente: 1m</a:t>
                </a:r>
                <a:endParaRPr b="0" lang="en-US" sz="1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Rectangle 26"/>
              <p:cNvSpPr/>
              <p:nvPr/>
            </p:nvSpPr>
            <p:spPr>
              <a:xfrm>
                <a:off x="609120" y="2181240"/>
                <a:ext cx="329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Arial"/>
                  </a:rPr>
                  <a:t>1 m</a:t>
                </a:r>
                <a:endParaRPr b="0" lang="en-US" sz="1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Rectangle 27"/>
              <p:cNvSpPr/>
              <p:nvPr/>
            </p:nvSpPr>
            <p:spPr>
              <a:xfrm>
                <a:off x="387720" y="3352680"/>
                <a:ext cx="584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Arial"/>
                  </a:rPr>
                  <a:t>1 Gy/h</a:t>
                </a:r>
                <a:endParaRPr b="0" lang="en-US" sz="1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Rectangle 28"/>
              <p:cNvSpPr/>
              <p:nvPr/>
            </p:nvSpPr>
            <p:spPr>
              <a:xfrm>
                <a:off x="311400" y="3733920"/>
                <a:ext cx="1157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Arial"/>
                  </a:rPr>
                  <a:t>(17mGy/min)</a:t>
                </a:r>
                <a:endParaRPr b="0" lang="en-US" sz="1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Rectangle 29"/>
              <p:cNvSpPr/>
              <p:nvPr/>
            </p:nvSpPr>
            <p:spPr>
              <a:xfrm>
                <a:off x="669960" y="1565280"/>
                <a:ext cx="1193760" cy="254160"/>
              </a:xfrm>
              <a:prstGeom prst="rect">
                <a:avLst/>
              </a:prstGeom>
              <a:solidFill>
                <a:srgbClr val="a8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Rectangle 30"/>
              <p:cNvSpPr/>
              <p:nvPr/>
            </p:nvSpPr>
            <p:spPr>
              <a:xfrm>
                <a:off x="2587680" y="1616040"/>
                <a:ext cx="750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ffffff"/>
                    </a:solidFill>
                    <a:latin typeface="Arial"/>
                  </a:rPr>
                  <a:t>mGy/h</a:t>
                </a:r>
                <a:endParaRPr b="0" lang="en-US" sz="19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" name="Line 31"/>
              <p:cNvSpPr/>
              <p:nvPr/>
            </p:nvSpPr>
            <p:spPr>
              <a:xfrm>
                <a:off x="1268640" y="3462480"/>
                <a:ext cx="685800" cy="447480"/>
              </a:xfrm>
              <a:prstGeom prst="line">
                <a:avLst/>
              </a:prstGeom>
              <a:ln w="3168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" name="Freeform 32"/>
              <p:cNvSpPr/>
              <p:nvPr/>
            </p:nvSpPr>
            <p:spPr>
              <a:xfrm>
                <a:off x="1890720" y="3833640"/>
                <a:ext cx="130320" cy="119160"/>
              </a:xfrm>
              <a:prstGeom prst="pie">
                <a:avLst/>
              </a:pr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" name="Rectangle 33"/>
              <p:cNvSpPr/>
              <p:nvPr/>
            </p:nvSpPr>
            <p:spPr>
              <a:xfrm>
                <a:off x="2482560" y="3778200"/>
                <a:ext cx="83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Arial"/>
                  </a:rPr>
                  <a:t>1.2 (55%)</a:t>
                </a:r>
                <a:endParaRPr b="0" lang="en-US" sz="1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Rectangle 34"/>
              <p:cNvSpPr/>
              <p:nvPr/>
            </p:nvSpPr>
            <p:spPr>
              <a:xfrm>
                <a:off x="839160" y="1579680"/>
                <a:ext cx="887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Arial"/>
                  </a:rPr>
                  <a:t>Tubo  R X</a:t>
                </a:r>
                <a:endParaRPr b="0" lang="en-US" sz="1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" name="Line 65"/>
              <p:cNvSpPr/>
              <p:nvPr/>
            </p:nvSpPr>
            <p:spPr>
              <a:xfrm flipH="1">
                <a:off x="3865320" y="4038480"/>
                <a:ext cx="95400" cy="627120"/>
              </a:xfrm>
              <a:prstGeom prst="line">
                <a:avLst/>
              </a:prstGeom>
              <a:ln w="55440">
                <a:solidFill>
                  <a:srgbClr val="fdd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" name="Line 66"/>
              <p:cNvSpPr/>
              <p:nvPr/>
            </p:nvSpPr>
            <p:spPr>
              <a:xfrm>
                <a:off x="4106880" y="4038480"/>
                <a:ext cx="96840" cy="627120"/>
              </a:xfrm>
              <a:prstGeom prst="line">
                <a:avLst/>
              </a:prstGeom>
              <a:ln w="55440">
                <a:solidFill>
                  <a:srgbClr val="fdd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50920" y="1341360"/>
              <a:ext cx="4176720" cy="367200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2240" y="115920"/>
            <a:ext cx="8537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as dosis al personal y al paciente están parcialmente ligad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523880" y="1676520"/>
            <a:ext cx="6096240" cy="4114800"/>
            <a:chOff x="1523880" y="1676520"/>
            <a:chExt cx="6096240" cy="4114800"/>
          </a:xfrm>
        </p:grpSpPr>
        <p:sp>
          <p:nvSpPr>
            <p:cNvPr id="368" name="Rectangle 506"/>
            <p:cNvSpPr/>
            <p:nvPr/>
          </p:nvSpPr>
          <p:spPr>
            <a:xfrm>
              <a:off x="1523880" y="1676520"/>
              <a:ext cx="6096240" cy="411480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69" name="Picture 509" descr=""/>
            <p:cNvPicPr/>
            <p:nvPr/>
          </p:nvPicPr>
          <p:blipFill>
            <a:blip r:embed="rId1"/>
            <a:stretch/>
          </p:blipFill>
          <p:spPr>
            <a:xfrm>
              <a:off x="1905120" y="1905120"/>
              <a:ext cx="5410080" cy="35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211640" y="1822320"/>
              <a:ext cx="3240000" cy="3753000"/>
            </a:xfrm>
            <a:prstGeom prst="rect">
              <a:avLst/>
            </a:prstGeom>
            <a:solidFill>
              <a:srgbClr val="e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000099"/>
                </a:buClr>
                <a:buSzPct val="110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X ray system availabl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lvl="1" marL="800280" indent="-258840">
                <a:lnSpc>
                  <a:spcPct val="100000"/>
                </a:lnSpc>
                <a:buClr>
                  <a:srgbClr val="000099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Real conditions of the system (maintenance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lvl="1" marL="800280" indent="-258840">
                <a:lnSpc>
                  <a:spcPct val="100000"/>
                </a:lnSpc>
                <a:buClr>
                  <a:srgbClr val="000099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How the system is used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99"/>
                </a:buClr>
                <a:buSzPct val="110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RP tools availabl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99"/>
                </a:buClr>
                <a:buSzPct val="110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Number and kind of procedur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99"/>
                </a:buClr>
                <a:buSzPct val="110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Staff skill and operational protocols used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94"/>
          <p:cNvSpPr/>
          <p:nvPr/>
        </p:nvSpPr>
        <p:spPr>
          <a:xfrm>
            <a:off x="1071720" y="1484280"/>
            <a:ext cx="6781680" cy="41911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595" descr=""/>
          <p:cNvPicPr/>
          <p:nvPr/>
        </p:nvPicPr>
        <p:blipFill>
          <a:blip r:embed="rId1"/>
          <a:stretch/>
        </p:blipFill>
        <p:spPr>
          <a:xfrm>
            <a:off x="1571760" y="1698480"/>
            <a:ext cx="5727600" cy="37418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2600" y="0"/>
            <a:ext cx="86104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as dosis al personal y al paciente están parcialmente ligad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965160" y="3135240"/>
            <a:ext cx="24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Si el tamaño del paciente aumen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3276720" y="1628640"/>
            <a:ext cx="1657080" cy="3864240"/>
          </a:xfrm>
          <a:prstGeom prst="upArrow">
            <a:avLst>
              <a:gd name="adj1" fmla="val 50000"/>
              <a:gd name="adj2" fmla="val 58299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292720" y="2806560"/>
            <a:ext cx="32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La dosis en la piel del paciente y el nivel de radiación dispersa crecen sustancialm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2600" y="0"/>
            <a:ext cx="86104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s dosis al personal y al paciente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755640" y="2924280"/>
            <a:ext cx="309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Cambiar de fluoroscopia normal al modo de alta tasa de dosi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3657600" y="1628640"/>
            <a:ext cx="1490760" cy="4321440"/>
          </a:xfrm>
          <a:prstGeom prst="upArrow">
            <a:avLst>
              <a:gd name="adj1" fmla="val 50000"/>
              <a:gd name="adj2" fmla="val 7247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5508720" y="306864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Incrementa la tasa de dosis en un factor de 2 o má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2240" y="43920"/>
            <a:ext cx="8537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s dosis al personal y al paciente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6"/>
          <p:cNvSpPr/>
          <p:nvPr/>
        </p:nvSpPr>
        <p:spPr>
          <a:xfrm>
            <a:off x="684360" y="3429000"/>
            <a:ext cx="293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Usar rejilla antidifuso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3005280" y="1628640"/>
            <a:ext cx="1638000" cy="4321440"/>
          </a:xfrm>
          <a:prstGeom prst="upArrow">
            <a:avLst>
              <a:gd name="adj1" fmla="val 50000"/>
              <a:gd name="adj2" fmla="val 6595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716360" y="3141720"/>
            <a:ext cx="395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Hace crecer la dosis a la entrada del paciente en un factor desde 2 a 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2600" y="0"/>
            <a:ext cx="86104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s dosis al personal y al paciente (I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6.2: Optimización de la protección en 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2: Factores que afectan a la dosis al paci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33984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2960" y="1523520"/>
            <a:ext cx="788976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: protección radiológica en equipos de fluoroscop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anto parámetros físicos como técnicos pueden tener influencia en la dosis al personal y al pac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Una buena política de PR y habilidad del personal son esenciales para reducir las exposiciones al personal y al pacient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684360" y="2652840"/>
            <a:ext cx="388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ambiar de modo de alto a bajo ruido (en cine y DSA - digital subtraction angiography – angiografía por sustracción digit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4444920" y="1557360"/>
            <a:ext cx="1422360" cy="4319640"/>
          </a:xfrm>
          <a:prstGeom prst="upArrow">
            <a:avLst>
              <a:gd name="adj1" fmla="val 50000"/>
              <a:gd name="adj2" fmla="val 75924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869080" y="3141720"/>
            <a:ext cx="302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Incrementa la dosis por imagen en un factor de 2 a 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2240" y="0"/>
            <a:ext cx="8537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al paciente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5 Marcador de número de diapositiva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9E1C-A6F9-4FA5-A847-4E8C02BE0A17}" type="slidenum">
              <a:rPr b="0" lang="en-GB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896760" y="2349360"/>
            <a:ext cx="295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Cambiar de  fluoroscopia convencional a modo digi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5651640" y="242100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eaeaea"/>
                </a:solidFill>
                <a:uFillTx/>
                <a:latin typeface="Arial"/>
              </a:rPr>
              <a:t>Puede</a:t>
            </a: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 reducir la tasa de dosis hasta un 25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708360" y="1413000"/>
            <a:ext cx="1898640" cy="4537080"/>
          </a:xfrm>
          <a:prstGeom prst="downArrow">
            <a:avLst>
              <a:gd name="adj1" fmla="val 50000"/>
              <a:gd name="adj2" fmla="val 59741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740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al paciente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1628640" y="1447920"/>
            <a:ext cx="5838840" cy="4495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Freeform 6"/>
          <p:cNvSpPr/>
          <p:nvPr/>
        </p:nvSpPr>
        <p:spPr>
          <a:xfrm>
            <a:off x="1774800" y="2392200"/>
            <a:ext cx="897120" cy="970200"/>
          </a:xfrm>
          <a:prstGeom prst="pie">
            <a:avLst/>
          </a:prstGeom>
          <a:solidFill>
            <a:srgbClr val="32a14c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Freeform 7"/>
          <p:cNvSpPr/>
          <p:nvPr/>
        </p:nvSpPr>
        <p:spPr>
          <a:xfrm>
            <a:off x="1876320" y="3483000"/>
            <a:ext cx="696960" cy="735120"/>
          </a:xfrm>
          <a:prstGeom prst="pie">
            <a:avLst/>
          </a:prstGeom>
          <a:solidFill>
            <a:srgbClr val="32a14c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Freeform 8"/>
          <p:cNvSpPr/>
          <p:nvPr/>
        </p:nvSpPr>
        <p:spPr>
          <a:xfrm>
            <a:off x="2004840" y="5257800"/>
            <a:ext cx="435240" cy="431640"/>
          </a:xfrm>
          <a:prstGeom prst="pie">
            <a:avLst/>
          </a:prstGeom>
          <a:solidFill>
            <a:srgbClr val="32a14c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Freeform 9"/>
          <p:cNvSpPr/>
          <p:nvPr/>
        </p:nvSpPr>
        <p:spPr>
          <a:xfrm>
            <a:off x="1959120" y="4368960"/>
            <a:ext cx="529920" cy="583920"/>
          </a:xfrm>
          <a:prstGeom prst="pie">
            <a:avLst/>
          </a:prstGeom>
          <a:solidFill>
            <a:srgbClr val="32a14c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1835280" y="1700280"/>
            <a:ext cx="2736720" cy="61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iámetro d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Intensificad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5148360" y="1700280"/>
            <a:ext cx="2317680" cy="54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Dosis a la entr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del paciente relativ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3068640" y="2854440"/>
            <a:ext cx="406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99"/>
                </a:solidFill>
                <a:latin typeface="Arial"/>
              </a:rPr>
              <a:t>12" (32 cm)                   dosis 100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3011400" y="36752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3067200" y="3675240"/>
            <a:ext cx="4065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99"/>
                </a:solidFill>
                <a:latin typeface="Arial"/>
              </a:rPr>
              <a:t>9" (22 cm)                     dosis 150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3011400" y="45356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3069000" y="4535640"/>
            <a:ext cx="4065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99"/>
                </a:solidFill>
                <a:latin typeface="Arial"/>
              </a:rPr>
              <a:t>6" (16 cm)                     dosis 200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3068280" y="5280120"/>
            <a:ext cx="4091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fr-FR" sz="2100" spc="-1" strike="noStrike">
                <a:solidFill>
                  <a:srgbClr val="000099"/>
                </a:solidFill>
                <a:latin typeface="Arial"/>
              </a:rPr>
              <a:t>5" (11 cm)                  dosis 300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115920"/>
            <a:ext cx="85341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al paciente (I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900000" y="314172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Cambiar a un campo menor del intensifica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AutoShape 3"/>
          <p:cNvSpPr/>
          <p:nvPr/>
        </p:nvSpPr>
        <p:spPr>
          <a:xfrm>
            <a:off x="3657600" y="1557360"/>
            <a:ext cx="1490760" cy="4464000"/>
          </a:xfrm>
          <a:prstGeom prst="upArrow">
            <a:avLst>
              <a:gd name="adj1" fmla="val 50000"/>
              <a:gd name="adj2" fmla="val 74861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5486400" y="3073320"/>
            <a:ext cx="295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Puede aumentar la dosis a la entrada del paciente hasta en un factor 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2600" y="-27360"/>
            <a:ext cx="83930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al paciente (IV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6.2: Optimización de la protección en 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3: Ejemplos de valores de do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152280" y="304920"/>
            <a:ext cx="86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6821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jemplo de dosis por imagen (“frame”) en CE/CGR ADVANTIX LCV0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811080" y="1447920"/>
            <a:ext cx="7432920" cy="3797280"/>
            <a:chOff x="811080" y="1447920"/>
            <a:chExt cx="7432920" cy="3797280"/>
          </a:xfrm>
        </p:grpSpPr>
        <p:sp>
          <p:nvSpPr>
            <p:cNvPr id="421" name="AutoShape 5"/>
            <p:cNvSpPr/>
            <p:nvPr/>
          </p:nvSpPr>
          <p:spPr>
            <a:xfrm>
              <a:off x="3745080" y="1447920"/>
              <a:ext cx="1565280" cy="1347840"/>
            </a:xfrm>
            <a:prstGeom prst="roundRect">
              <a:avLst>
                <a:gd name="adj" fmla="val 2685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AutoShape 6"/>
            <p:cNvSpPr/>
            <p:nvPr/>
          </p:nvSpPr>
          <p:spPr>
            <a:xfrm>
              <a:off x="3749760" y="1452600"/>
              <a:ext cx="1555560" cy="1338120"/>
            </a:xfrm>
            <a:prstGeom prst="roundRect">
              <a:avLst>
                <a:gd name="adj" fmla="val 26852"/>
              </a:avLst>
            </a:prstGeom>
            <a:noFill/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Rectangle 11"/>
            <p:cNvSpPr/>
            <p:nvPr/>
          </p:nvSpPr>
          <p:spPr>
            <a:xfrm>
              <a:off x="4527720" y="24876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AutoShape 12"/>
            <p:cNvSpPr/>
            <p:nvPr/>
          </p:nvSpPr>
          <p:spPr>
            <a:xfrm>
              <a:off x="811080" y="3898800"/>
              <a:ext cx="1565280" cy="1346400"/>
            </a:xfrm>
            <a:prstGeom prst="roundRect">
              <a:avLst>
                <a:gd name="adj" fmla="val 26861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AutoShape 13"/>
            <p:cNvSpPr/>
            <p:nvPr/>
          </p:nvSpPr>
          <p:spPr>
            <a:xfrm>
              <a:off x="816120" y="3903840"/>
              <a:ext cx="1555560" cy="1336320"/>
            </a:xfrm>
            <a:prstGeom prst="roundRect">
              <a:avLst>
                <a:gd name="adj" fmla="val 26861"/>
              </a:avLst>
            </a:prstGeom>
            <a:noFill/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AutoShape 17"/>
            <p:cNvSpPr/>
            <p:nvPr/>
          </p:nvSpPr>
          <p:spPr>
            <a:xfrm>
              <a:off x="2766960" y="3898800"/>
              <a:ext cx="1565280" cy="1346400"/>
            </a:xfrm>
            <a:prstGeom prst="roundRect">
              <a:avLst>
                <a:gd name="adj" fmla="val 26861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AutoShape 18"/>
            <p:cNvSpPr/>
            <p:nvPr/>
          </p:nvSpPr>
          <p:spPr>
            <a:xfrm>
              <a:off x="2771640" y="3903840"/>
              <a:ext cx="1555920" cy="1336320"/>
            </a:xfrm>
            <a:prstGeom prst="roundRect">
              <a:avLst>
                <a:gd name="adj" fmla="val 26861"/>
              </a:avLst>
            </a:prstGeom>
            <a:solidFill>
              <a:srgbClr val="eaeaea"/>
            </a:solidFill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Rectangle 22"/>
            <p:cNvSpPr/>
            <p:nvPr/>
          </p:nvSpPr>
          <p:spPr>
            <a:xfrm>
              <a:off x="3549600" y="4818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>
              <a:off x="4722840" y="3898800"/>
              <a:ext cx="1565280" cy="1346400"/>
            </a:xfrm>
            <a:prstGeom prst="roundRect">
              <a:avLst>
                <a:gd name="adj" fmla="val 26861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AutoShape 24"/>
            <p:cNvSpPr/>
            <p:nvPr/>
          </p:nvSpPr>
          <p:spPr>
            <a:xfrm>
              <a:off x="4727520" y="3903840"/>
              <a:ext cx="1555920" cy="1336320"/>
            </a:xfrm>
            <a:prstGeom prst="roundRect">
              <a:avLst>
                <a:gd name="adj" fmla="val 26861"/>
              </a:avLst>
            </a:prstGeom>
            <a:noFill/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Rectangle 28"/>
            <p:cNvSpPr/>
            <p:nvPr/>
          </p:nvSpPr>
          <p:spPr>
            <a:xfrm>
              <a:off x="5505480" y="4818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AutoShape 29"/>
            <p:cNvSpPr/>
            <p:nvPr/>
          </p:nvSpPr>
          <p:spPr>
            <a:xfrm>
              <a:off x="6678720" y="3898800"/>
              <a:ext cx="1565280" cy="1346400"/>
            </a:xfrm>
            <a:prstGeom prst="roundRect">
              <a:avLst>
                <a:gd name="adj" fmla="val 26861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AutoShape 30"/>
            <p:cNvSpPr/>
            <p:nvPr/>
          </p:nvSpPr>
          <p:spPr>
            <a:xfrm>
              <a:off x="6683400" y="3903840"/>
              <a:ext cx="1555560" cy="1336320"/>
            </a:xfrm>
            <a:prstGeom prst="roundRect">
              <a:avLst>
                <a:gd name="adj" fmla="val 26861"/>
              </a:avLst>
            </a:prstGeom>
            <a:noFill/>
            <a:ln w="1116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Line 35"/>
            <p:cNvSpPr/>
            <p:nvPr/>
          </p:nvSpPr>
          <p:spPr>
            <a:xfrm>
              <a:off x="4527720" y="2825640"/>
              <a:ext cx="1440" cy="520920"/>
            </a:xfrm>
            <a:prstGeom prst="line">
              <a:avLst/>
            </a:prstGeom>
            <a:ln w="66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Line 36"/>
            <p:cNvSpPr/>
            <p:nvPr/>
          </p:nvSpPr>
          <p:spPr>
            <a:xfrm flipH="1">
              <a:off x="1593720" y="3346560"/>
              <a:ext cx="2934000" cy="1440"/>
            </a:xfrm>
            <a:prstGeom prst="line">
              <a:avLst/>
            </a:prstGeom>
            <a:ln w="66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Line 37"/>
            <p:cNvSpPr/>
            <p:nvPr/>
          </p:nvSpPr>
          <p:spPr>
            <a:xfrm>
              <a:off x="1593720" y="3346560"/>
              <a:ext cx="1800" cy="520560"/>
            </a:xfrm>
            <a:prstGeom prst="line">
              <a:avLst/>
            </a:prstGeom>
            <a:ln w="66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Line 38"/>
            <p:cNvSpPr/>
            <p:nvPr/>
          </p:nvSpPr>
          <p:spPr>
            <a:xfrm>
              <a:off x="4527720" y="2825640"/>
              <a:ext cx="1440" cy="520920"/>
            </a:xfrm>
            <a:prstGeom prst="line">
              <a:avLst/>
            </a:prstGeom>
            <a:ln w="66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 flipH="1">
              <a:off x="3519000" y="3352680"/>
              <a:ext cx="978120" cy="1800"/>
            </a:xfrm>
            <a:prstGeom prst="line">
              <a:avLst/>
            </a:prstGeom>
            <a:ln w="66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Line 40"/>
            <p:cNvSpPr/>
            <p:nvPr/>
          </p:nvSpPr>
          <p:spPr>
            <a:xfrm>
              <a:off x="3549600" y="3346560"/>
              <a:ext cx="1800" cy="520560"/>
            </a:xfrm>
            <a:prstGeom prst="line">
              <a:avLst/>
            </a:prstGeom>
            <a:ln w="66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Line 41"/>
            <p:cNvSpPr/>
            <p:nvPr/>
          </p:nvSpPr>
          <p:spPr>
            <a:xfrm>
              <a:off x="4527720" y="2825640"/>
              <a:ext cx="1440" cy="520920"/>
            </a:xfrm>
            <a:prstGeom prst="line">
              <a:avLst/>
            </a:prstGeom>
            <a:ln w="66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Line 42"/>
            <p:cNvSpPr/>
            <p:nvPr/>
          </p:nvSpPr>
          <p:spPr>
            <a:xfrm>
              <a:off x="4527720" y="3346560"/>
              <a:ext cx="977760" cy="1440"/>
            </a:xfrm>
            <a:prstGeom prst="line">
              <a:avLst/>
            </a:prstGeom>
            <a:ln w="66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Line 43"/>
            <p:cNvSpPr/>
            <p:nvPr/>
          </p:nvSpPr>
          <p:spPr>
            <a:xfrm>
              <a:off x="5505480" y="3346560"/>
              <a:ext cx="1440" cy="520560"/>
            </a:xfrm>
            <a:prstGeom prst="line">
              <a:avLst/>
            </a:prstGeom>
            <a:ln w="66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Line 44"/>
            <p:cNvSpPr/>
            <p:nvPr/>
          </p:nvSpPr>
          <p:spPr>
            <a:xfrm>
              <a:off x="4527720" y="2825640"/>
              <a:ext cx="1440" cy="520920"/>
            </a:xfrm>
            <a:prstGeom prst="line">
              <a:avLst/>
            </a:prstGeom>
            <a:ln w="66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>
              <a:off x="4527720" y="3346560"/>
              <a:ext cx="2931840" cy="1440"/>
            </a:xfrm>
            <a:prstGeom prst="line">
              <a:avLst/>
            </a:prstGeom>
            <a:ln w="66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>
              <a:off x="7459560" y="3346560"/>
              <a:ext cx="1800" cy="520560"/>
            </a:xfrm>
            <a:prstGeom prst="line">
              <a:avLst/>
            </a:prstGeom>
            <a:ln w="66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51280" y="1700280"/>
              <a:ext cx="136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Dosis t</a:t>
              </a:r>
              <a:r>
                <a:rPr b="1" lang="en-GB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í</a:t>
              </a: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pica</a:t>
              </a:r>
              <a:br>
                <a:rPr sz="1600"/>
              </a:b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4 mGy/im. o 0.1 mGy/f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77080" y="4005360"/>
              <a:ext cx="1224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modo D: dosis factor 10 bajo ruid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32360" y="4149720"/>
              <a:ext cx="117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modo C: dosis factor 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87640" y="4149720"/>
              <a:ext cx="1150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modo B: dosis factor 2.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1640" y="4149720"/>
              <a:ext cx="115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modo A: dosis 1 alto ruid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3"/>
          <p:cNvSpPr/>
          <p:nvPr/>
        </p:nvSpPr>
        <p:spPr>
          <a:xfrm>
            <a:off x="1373760" y="1752480"/>
            <a:ext cx="588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00"/>
                </a:solidFill>
                <a:latin typeface="Arial"/>
              </a:rPr>
              <a:t>GE/CGR ADVANTX  LCV (fluoroscopia)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09800" y="2727360"/>
            <a:ext cx="5661720" cy="2438280"/>
            <a:chOff x="1909800" y="2727360"/>
            <a:chExt cx="5661720" cy="2438280"/>
          </a:xfrm>
        </p:grpSpPr>
        <p:sp>
          <p:nvSpPr>
            <p:cNvPr id="453" name="Freeform 5"/>
            <p:cNvSpPr/>
            <p:nvPr/>
          </p:nvSpPr>
          <p:spPr>
            <a:xfrm>
              <a:off x="2174760" y="2749680"/>
              <a:ext cx="412920" cy="392040"/>
            </a:xfrm>
            <a:prstGeom prst="pie">
              <a:avLst/>
            </a:prstGeom>
            <a:solidFill>
              <a:srgbClr val="bf406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>
              <a:off x="2171880" y="2746440"/>
              <a:ext cx="419040" cy="396720"/>
            </a:xfrm>
            <a:prstGeom prst="pie">
              <a:avLst/>
            </a:prstGeom>
            <a:solidFill>
              <a:srgbClr val="bf406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Freeform 7"/>
            <p:cNvSpPr/>
            <p:nvPr/>
          </p:nvSpPr>
          <p:spPr>
            <a:xfrm>
              <a:off x="2174760" y="2728800"/>
              <a:ext cx="412920" cy="393840"/>
            </a:xfrm>
            <a:prstGeom prst="pie">
              <a:avLst/>
            </a:pr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>
              <a:off x="2171880" y="2727360"/>
              <a:ext cx="419040" cy="396720"/>
            </a:xfrm>
            <a:prstGeom prst="pie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>
              <a:off x="1914480" y="4314960"/>
              <a:ext cx="933480" cy="846000"/>
            </a:xfrm>
            <a:prstGeom prst="pie">
              <a:avLst/>
            </a:pr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Freeform 10"/>
            <p:cNvSpPr/>
            <p:nvPr/>
          </p:nvSpPr>
          <p:spPr>
            <a:xfrm>
              <a:off x="1909800" y="4309920"/>
              <a:ext cx="942840" cy="855720"/>
            </a:xfrm>
            <a:prstGeom prst="pie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Freeform 11"/>
            <p:cNvSpPr/>
            <p:nvPr/>
          </p:nvSpPr>
          <p:spPr>
            <a:xfrm>
              <a:off x="2054160" y="3384720"/>
              <a:ext cx="654120" cy="653760"/>
            </a:xfrm>
            <a:prstGeom prst="pie">
              <a:avLst/>
            </a:pr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Freeform 12"/>
            <p:cNvSpPr/>
            <p:nvPr/>
          </p:nvSpPr>
          <p:spPr>
            <a:xfrm>
              <a:off x="2050920" y="3381480"/>
              <a:ext cx="660600" cy="660240"/>
            </a:xfrm>
            <a:prstGeom prst="pie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Rectangle 14"/>
            <p:cNvSpPr/>
            <p:nvPr/>
          </p:nvSpPr>
          <p:spPr>
            <a:xfrm>
              <a:off x="3247200" y="2819520"/>
              <a:ext cx="4147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Arial"/>
                </a:rPr>
                <a:t>Dosis BAJA 10 mGy/min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Rectangle 15"/>
            <p:cNvSpPr/>
            <p:nvPr/>
          </p:nvSpPr>
          <p:spPr>
            <a:xfrm>
              <a:off x="3247200" y="3687840"/>
              <a:ext cx="4324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Arial"/>
                </a:rPr>
                <a:t>Dosis MEDIA 20 mGy/min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Rectangle 16"/>
            <p:cNvSpPr/>
            <p:nvPr/>
          </p:nvSpPr>
          <p:spPr>
            <a:xfrm>
              <a:off x="3247560" y="4678200"/>
              <a:ext cx="4126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Arial"/>
                </a:rPr>
                <a:t>Dosis ALTA 40 mGy/min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6821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jemplo de tasa de dosis a la entrada en 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685800" y="1676520"/>
            <a:ext cx="5064120" cy="3886200"/>
          </a:xfrm>
          <a:prstGeom prst="rect">
            <a:avLst/>
          </a:prstGeom>
          <a:solidFill>
            <a:srgbClr val="0000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755640" y="1763640"/>
            <a:ext cx="4924440" cy="369432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5"/>
          <p:cNvSpPr/>
          <p:nvPr/>
        </p:nvSpPr>
        <p:spPr>
          <a:xfrm>
            <a:off x="5797440" y="2666880"/>
            <a:ext cx="2813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La dosis dispersa es mayor del lado del tubo de rayos 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Ejemplo de tasa de dosis dispersa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jemplo de tasa de dosis alrededor de un arco móvi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11280" y="1671480"/>
            <a:ext cx="7306920" cy="4331520"/>
            <a:chOff x="611280" y="1671480"/>
            <a:chExt cx="7306920" cy="4331520"/>
          </a:xfrm>
        </p:grpSpPr>
        <p:grpSp>
          <p:nvGrpSpPr>
            <p:cNvPr id="471" name="Group 42"/>
            <p:cNvGrpSpPr/>
            <p:nvPr/>
          </p:nvGrpSpPr>
          <p:grpSpPr>
            <a:xfrm>
              <a:off x="2340000" y="1671480"/>
              <a:ext cx="5578200" cy="4331520"/>
              <a:chOff x="2340000" y="1671480"/>
              <a:chExt cx="5578200" cy="4331520"/>
            </a:xfrm>
          </p:grpSpPr>
          <p:sp>
            <p:nvSpPr>
              <p:cNvPr id="472" name="Freeform 4"/>
              <p:cNvSpPr/>
              <p:nvPr/>
            </p:nvSpPr>
            <p:spPr>
              <a:xfrm>
                <a:off x="4816800" y="2989080"/>
                <a:ext cx="907920" cy="533520"/>
              </a:xfrm>
              <a:prstGeom prst="pie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Freeform 5"/>
              <p:cNvSpPr/>
              <p:nvPr/>
            </p:nvSpPr>
            <p:spPr>
              <a:xfrm>
                <a:off x="4808520" y="2977920"/>
                <a:ext cx="925560" cy="55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Freeform 6"/>
              <p:cNvSpPr/>
              <p:nvPr/>
            </p:nvSpPr>
            <p:spPr>
              <a:xfrm>
                <a:off x="4767480" y="3449520"/>
                <a:ext cx="1049400" cy="104760"/>
              </a:xfrm>
              <a:prstGeom prst="pie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Freeform 7"/>
              <p:cNvSpPr/>
              <p:nvPr/>
            </p:nvSpPr>
            <p:spPr>
              <a:xfrm>
                <a:off x="4757760" y="3441600"/>
                <a:ext cx="822600" cy="12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Freeform 8"/>
              <p:cNvSpPr/>
              <p:nvPr/>
            </p:nvSpPr>
            <p:spPr>
              <a:xfrm>
                <a:off x="5237280" y="3441600"/>
                <a:ext cx="58896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Rectangle 9"/>
              <p:cNvSpPr/>
              <p:nvPr/>
            </p:nvSpPr>
            <p:spPr>
              <a:xfrm>
                <a:off x="4932000" y="3043080"/>
                <a:ext cx="905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000000"/>
                    </a:solidFill>
                    <a:latin typeface="Times New Roman"/>
                  </a:rPr>
                  <a:t>paciente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Rectangle 10"/>
              <p:cNvSpPr/>
              <p:nvPr/>
            </p:nvSpPr>
            <p:spPr>
              <a:xfrm>
                <a:off x="5632920" y="2014560"/>
                <a:ext cx="2285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ffffcc"/>
                    </a:solidFill>
                    <a:latin typeface="Arial"/>
                  </a:rPr>
                  <a:t>Intensificador de imagen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79" name="Group 11"/>
              <p:cNvGrpSpPr/>
              <p:nvPr/>
            </p:nvGrpSpPr>
            <p:grpSpPr>
              <a:xfrm>
                <a:off x="4932000" y="5408280"/>
                <a:ext cx="2673720" cy="594720"/>
                <a:chOff x="4932000" y="5408280"/>
                <a:chExt cx="2673720" cy="594720"/>
              </a:xfrm>
            </p:grpSpPr>
            <p:sp>
              <p:nvSpPr>
                <p:cNvPr id="480" name="Freeform 12"/>
                <p:cNvSpPr/>
                <p:nvPr/>
              </p:nvSpPr>
              <p:spPr>
                <a:xfrm>
                  <a:off x="5111640" y="5459040"/>
                  <a:ext cx="2351880" cy="2700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13"/>
                <p:cNvSpPr/>
                <p:nvPr/>
              </p:nvSpPr>
              <p:spPr>
                <a:xfrm>
                  <a:off x="5106240" y="5408280"/>
                  <a:ext cx="30240" cy="633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Freeform 14"/>
                <p:cNvSpPr/>
                <p:nvPr/>
              </p:nvSpPr>
              <p:spPr>
                <a:xfrm>
                  <a:off x="7442280" y="5408280"/>
                  <a:ext cx="30240" cy="633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Freeform 15"/>
                <p:cNvSpPr/>
                <p:nvPr/>
              </p:nvSpPr>
              <p:spPr>
                <a:xfrm>
                  <a:off x="6266880" y="5408280"/>
                  <a:ext cx="30240" cy="633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Rectangle 16"/>
                <p:cNvSpPr/>
                <p:nvPr/>
              </p:nvSpPr>
              <p:spPr>
                <a:xfrm>
                  <a:off x="4932000" y="5446440"/>
                  <a:ext cx="26737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ffffcc"/>
                      </a:solidFill>
                      <a:latin typeface="Times New Roman"/>
                    </a:rPr>
                    <a:t>100 cm           50 cm              0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Rectangle 17"/>
                <p:cNvSpPr/>
                <p:nvPr/>
              </p:nvSpPr>
              <p:spPr>
                <a:xfrm>
                  <a:off x="5951520" y="5667120"/>
                  <a:ext cx="636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ffffcc"/>
                      </a:solidFill>
                      <a:latin typeface="Times New Roman"/>
                    </a:rPr>
                    <a:t>Scale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6" name="Freeform 18"/>
              <p:cNvSpPr/>
              <p:nvPr/>
            </p:nvSpPr>
            <p:spPr>
              <a:xfrm>
                <a:off x="2905200" y="2585880"/>
                <a:ext cx="2071800" cy="29732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Freeform 19"/>
              <p:cNvSpPr/>
              <p:nvPr/>
            </p:nvSpPr>
            <p:spPr>
              <a:xfrm>
                <a:off x="4078440" y="2922480"/>
                <a:ext cx="898560" cy="211608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Freeform 20"/>
              <p:cNvSpPr/>
              <p:nvPr/>
            </p:nvSpPr>
            <p:spPr>
              <a:xfrm>
                <a:off x="3751560" y="2849400"/>
                <a:ext cx="1233360" cy="286236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Freeform 21"/>
              <p:cNvSpPr/>
              <p:nvPr/>
            </p:nvSpPr>
            <p:spPr>
              <a:xfrm>
                <a:off x="2340000" y="2062080"/>
                <a:ext cx="2637000" cy="3497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Rectangle 22"/>
              <p:cNvSpPr/>
              <p:nvPr/>
            </p:nvSpPr>
            <p:spPr>
              <a:xfrm>
                <a:off x="2942640" y="220968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ffffcc"/>
                    </a:solidFill>
                    <a:latin typeface="Times New Roman"/>
                  </a:rPr>
                  <a:t>1.2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Rectangle 23"/>
              <p:cNvSpPr/>
              <p:nvPr/>
            </p:nvSpPr>
            <p:spPr>
              <a:xfrm>
                <a:off x="3336480" y="351792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ffffcc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Rectangle 24"/>
              <p:cNvSpPr/>
              <p:nvPr/>
            </p:nvSpPr>
            <p:spPr>
              <a:xfrm>
                <a:off x="3547440" y="431316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ffffcc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Rectangle 25"/>
              <p:cNvSpPr/>
              <p:nvPr/>
            </p:nvSpPr>
            <p:spPr>
              <a:xfrm>
                <a:off x="4039560" y="4405320"/>
                <a:ext cx="389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ffffcc"/>
                    </a:solidFill>
                    <a:latin typeface="Times New Roman"/>
                  </a:rPr>
                  <a:t>12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4" name="Freeform 26"/>
              <p:cNvSpPr/>
              <p:nvPr/>
            </p:nvSpPr>
            <p:spPr>
              <a:xfrm>
                <a:off x="5313600" y="2547720"/>
                <a:ext cx="1197000" cy="608040"/>
              </a:xfrm>
              <a:prstGeom prst="pie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Freeform 27"/>
              <p:cNvSpPr/>
              <p:nvPr/>
            </p:nvSpPr>
            <p:spPr>
              <a:xfrm>
                <a:off x="6164280" y="3154320"/>
                <a:ext cx="538200" cy="1417680"/>
              </a:xfrm>
              <a:prstGeom prst="pie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Freeform 28"/>
              <p:cNvSpPr/>
              <p:nvPr/>
            </p:nvSpPr>
            <p:spPr>
              <a:xfrm>
                <a:off x="5313600" y="4570200"/>
                <a:ext cx="1060200" cy="438120"/>
              </a:xfrm>
              <a:prstGeom prst="pie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7" name="Freeform 29"/>
              <p:cNvSpPr/>
              <p:nvPr/>
            </p:nvSpPr>
            <p:spPr>
              <a:xfrm>
                <a:off x="5305680" y="2539800"/>
                <a:ext cx="1406520" cy="247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8" name="Freeform 30"/>
              <p:cNvSpPr/>
              <p:nvPr/>
            </p:nvSpPr>
            <p:spPr>
              <a:xfrm>
                <a:off x="5305680" y="2547720"/>
                <a:ext cx="1251000" cy="149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9" name="Freeform 31"/>
              <p:cNvSpPr/>
              <p:nvPr/>
            </p:nvSpPr>
            <p:spPr>
              <a:xfrm>
                <a:off x="5191200" y="1677960"/>
                <a:ext cx="201600" cy="357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0" name="Freeform 32"/>
              <p:cNvSpPr/>
              <p:nvPr/>
            </p:nvSpPr>
            <p:spPr>
              <a:xfrm>
                <a:off x="5183280" y="1671480"/>
                <a:ext cx="214200" cy="3682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1" name="Freeform 33"/>
              <p:cNvSpPr/>
              <p:nvPr/>
            </p:nvSpPr>
            <p:spPr>
              <a:xfrm>
                <a:off x="4981680" y="2027160"/>
                <a:ext cx="609480" cy="906480"/>
              </a:xfrm>
              <a:prstGeom prst="pie">
                <a:avLst/>
              </a:prstGeom>
              <a:solidFill>
                <a:srgbClr val="00ff00"/>
              </a:solidFill>
              <a:ln cap="rnd"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2" name="Freeform 34"/>
              <p:cNvSpPr/>
              <p:nvPr/>
            </p:nvSpPr>
            <p:spPr>
              <a:xfrm>
                <a:off x="4973760" y="2020680"/>
                <a:ext cx="623880" cy="9190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3" name="Freeform 35"/>
              <p:cNvSpPr/>
              <p:nvPr/>
            </p:nvSpPr>
            <p:spPr>
              <a:xfrm>
                <a:off x="5116680" y="4551120"/>
                <a:ext cx="353880" cy="2332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4" name="Freeform 36"/>
              <p:cNvSpPr/>
              <p:nvPr/>
            </p:nvSpPr>
            <p:spPr>
              <a:xfrm>
                <a:off x="5108760" y="4543200"/>
                <a:ext cx="371520" cy="24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5" name="Freeform 37"/>
              <p:cNvSpPr/>
              <p:nvPr/>
            </p:nvSpPr>
            <p:spPr>
              <a:xfrm>
                <a:off x="4648320" y="4776480"/>
                <a:ext cx="1292400" cy="3319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6" name="Freeform 38"/>
              <p:cNvSpPr/>
              <p:nvPr/>
            </p:nvSpPr>
            <p:spPr>
              <a:xfrm>
                <a:off x="4637160" y="4768560"/>
                <a:ext cx="1314360" cy="34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7" name="Freeform 39"/>
              <p:cNvSpPr/>
              <p:nvPr/>
            </p:nvSpPr>
            <p:spPr>
              <a:xfrm>
                <a:off x="4988160" y="3530520"/>
                <a:ext cx="557280" cy="1020600"/>
              </a:xfrm>
              <a:prstGeom prst="pie">
                <a:avLst/>
              </a:pr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8" name="Rectangle 40"/>
              <p:cNvSpPr/>
              <p:nvPr/>
            </p:nvSpPr>
            <p:spPr>
              <a:xfrm>
                <a:off x="4636080" y="4751280"/>
                <a:ext cx="1370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000000"/>
                    </a:solidFill>
                    <a:latin typeface="Times New Roman"/>
                  </a:rPr>
                  <a:t>Tubo rayos X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09" name="Rectangle 41"/>
            <p:cNvSpPr/>
            <p:nvPr/>
          </p:nvSpPr>
          <p:spPr>
            <a:xfrm>
              <a:off x="611280" y="2637000"/>
              <a:ext cx="223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cc"/>
                  </a:solidFill>
                  <a:latin typeface="Arial"/>
                </a:rPr>
                <a:t>Valores en µGy/min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6.2: Optimización de la protección en 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4: Elementos de protec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9880" y="1483920"/>
            <a:ext cx="85932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ctores que afectan a las dosis al pers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ctores que afectan a la dosis al paci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mplos de valores de do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Herramientas de protec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las de protección radi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3745080" y="1981080"/>
            <a:ext cx="2198520" cy="258156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4"/>
          <p:cNvSpPr/>
          <p:nvPr/>
        </p:nvSpPr>
        <p:spPr>
          <a:xfrm>
            <a:off x="3951360" y="4724280"/>
            <a:ext cx="16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Corti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15" name="Picture 5" descr=""/>
          <p:cNvPicPr/>
          <p:nvPr/>
        </p:nvPicPr>
        <p:blipFill>
          <a:blip r:embed="rId2"/>
          <a:stretch/>
        </p:blipFill>
        <p:spPr>
          <a:xfrm>
            <a:off x="6330960" y="2057400"/>
            <a:ext cx="2197080" cy="16192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6"/>
          <p:cNvSpPr/>
          <p:nvPr/>
        </p:nvSpPr>
        <p:spPr>
          <a:xfrm>
            <a:off x="6559560" y="403848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Tiroi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17" name="Picture 7" descr=""/>
          <p:cNvPicPr/>
          <p:nvPr/>
        </p:nvPicPr>
        <p:blipFill>
          <a:blip r:embed="rId3"/>
          <a:stretch/>
        </p:blipFill>
        <p:spPr>
          <a:xfrm>
            <a:off x="709560" y="1981080"/>
            <a:ext cx="2795760" cy="2286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1271520" y="4572000"/>
            <a:ext cx="18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Pantalla y gaf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ecff"/>
                </a:solidFill>
                <a:latin typeface="Arial"/>
              </a:rPr>
              <a:t>Útiles de protección (I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ecff"/>
                </a:solidFill>
                <a:latin typeface="Arial"/>
              </a:rPr>
              <a:t>Útiles de protección (II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219320" y="1523880"/>
            <a:ext cx="6781680" cy="4480200"/>
            <a:chOff x="1219320" y="1523880"/>
            <a:chExt cx="6781680" cy="4480200"/>
          </a:xfrm>
        </p:grpSpPr>
        <p:sp>
          <p:nvSpPr>
            <p:cNvPr id="522" name="Rectangle 4"/>
            <p:cNvSpPr/>
            <p:nvPr/>
          </p:nvSpPr>
          <p:spPr>
            <a:xfrm>
              <a:off x="1219320" y="1523880"/>
              <a:ext cx="6781680" cy="448020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AutoShape 7"/>
            <p:cNvSpPr/>
            <p:nvPr/>
          </p:nvSpPr>
          <p:spPr>
            <a:xfrm>
              <a:off x="5435640" y="5029200"/>
              <a:ext cx="2432160" cy="907920"/>
            </a:xfrm>
            <a:prstGeom prst="roundRect">
              <a:avLst>
                <a:gd name="adj" fmla="val 9986"/>
              </a:avLst>
            </a:prstGeom>
            <a:solidFill>
              <a:srgbClr val="86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1332000" y="1989000"/>
              <a:ext cx="96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ffff"/>
                  </a:solidFill>
                  <a:latin typeface="Arial"/>
                </a:rPr>
                <a:t>Haz direct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Rectangle 11"/>
            <p:cNvSpPr/>
            <p:nvPr/>
          </p:nvSpPr>
          <p:spPr>
            <a:xfrm>
              <a:off x="3276720" y="3141720"/>
              <a:ext cx="1079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ffff"/>
                  </a:solidFill>
                  <a:latin typeface="Arial"/>
                </a:rPr>
                <a:t>Guante plomado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Freeform 13"/>
            <p:cNvSpPr/>
            <p:nvPr/>
          </p:nvSpPr>
          <p:spPr>
            <a:xfrm>
              <a:off x="1461960" y="2170080"/>
              <a:ext cx="1381320" cy="265320"/>
            </a:xfrm>
            <a:prstGeom prst="pie">
              <a:avLst/>
            </a:prstGeom>
            <a:solidFill>
              <a:srgbClr val="c2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Freeform 14"/>
            <p:cNvSpPr/>
            <p:nvPr/>
          </p:nvSpPr>
          <p:spPr>
            <a:xfrm>
              <a:off x="1389240" y="2247840"/>
              <a:ext cx="1225440" cy="19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Freeform 15"/>
            <p:cNvSpPr/>
            <p:nvPr/>
          </p:nvSpPr>
          <p:spPr>
            <a:xfrm>
              <a:off x="2529000" y="2185920"/>
              <a:ext cx="8100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4394160" y="2097000"/>
              <a:ext cx="825480" cy="131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4394160" y="2228760"/>
              <a:ext cx="825480" cy="131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4416480" y="2114640"/>
              <a:ext cx="780840" cy="228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1461960" y="2556000"/>
              <a:ext cx="1381320" cy="266400"/>
            </a:xfrm>
            <a:prstGeom prst="pie">
              <a:avLst/>
            </a:prstGeom>
            <a:solidFill>
              <a:srgbClr val="c2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1389240" y="2635200"/>
              <a:ext cx="1225440" cy="19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2529000" y="2571840"/>
              <a:ext cx="8100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61960" y="4281480"/>
              <a:ext cx="1381320" cy="266760"/>
            </a:xfrm>
            <a:prstGeom prst="pie">
              <a:avLst/>
            </a:prstGeom>
            <a:solidFill>
              <a:srgbClr val="c2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Freeform 23"/>
            <p:cNvSpPr/>
            <p:nvPr/>
          </p:nvSpPr>
          <p:spPr>
            <a:xfrm>
              <a:off x="1389240" y="4361040"/>
              <a:ext cx="1225440" cy="19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Freeform 24"/>
            <p:cNvSpPr/>
            <p:nvPr/>
          </p:nvSpPr>
          <p:spPr>
            <a:xfrm>
              <a:off x="2529000" y="4297320"/>
              <a:ext cx="8100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Freeform 25"/>
            <p:cNvSpPr/>
            <p:nvPr/>
          </p:nvSpPr>
          <p:spPr>
            <a:xfrm>
              <a:off x="1461960" y="4668840"/>
              <a:ext cx="1381320" cy="264960"/>
            </a:xfrm>
            <a:prstGeom prst="pie">
              <a:avLst/>
            </a:prstGeom>
            <a:solidFill>
              <a:srgbClr val="c2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Freeform 26"/>
            <p:cNvSpPr/>
            <p:nvPr/>
          </p:nvSpPr>
          <p:spPr>
            <a:xfrm>
              <a:off x="1389240" y="4746600"/>
              <a:ext cx="1225440" cy="19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Freeform 27"/>
            <p:cNvSpPr/>
            <p:nvPr/>
          </p:nvSpPr>
          <p:spPr>
            <a:xfrm>
              <a:off x="2529000" y="4684680"/>
              <a:ext cx="8100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Freeform 28"/>
            <p:cNvSpPr/>
            <p:nvPr/>
          </p:nvSpPr>
          <p:spPr>
            <a:xfrm>
              <a:off x="4406760" y="2522520"/>
              <a:ext cx="827280" cy="131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Freeform 29"/>
            <p:cNvSpPr/>
            <p:nvPr/>
          </p:nvSpPr>
          <p:spPr>
            <a:xfrm>
              <a:off x="4406760" y="2654280"/>
              <a:ext cx="827280" cy="131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Freeform 30"/>
            <p:cNvSpPr/>
            <p:nvPr/>
          </p:nvSpPr>
          <p:spPr>
            <a:xfrm>
              <a:off x="4429080" y="2540160"/>
              <a:ext cx="781200" cy="228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Freeform 31"/>
            <p:cNvSpPr/>
            <p:nvPr/>
          </p:nvSpPr>
          <p:spPr>
            <a:xfrm>
              <a:off x="4394160" y="4595760"/>
              <a:ext cx="825480" cy="131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Freeform 32"/>
            <p:cNvSpPr/>
            <p:nvPr/>
          </p:nvSpPr>
          <p:spPr>
            <a:xfrm>
              <a:off x="4394160" y="4727520"/>
              <a:ext cx="825480" cy="131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Freeform 33"/>
            <p:cNvSpPr/>
            <p:nvPr/>
          </p:nvSpPr>
          <p:spPr>
            <a:xfrm>
              <a:off x="4416480" y="4611600"/>
              <a:ext cx="780840" cy="230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Freeform 34"/>
            <p:cNvSpPr/>
            <p:nvPr/>
          </p:nvSpPr>
          <p:spPr>
            <a:xfrm>
              <a:off x="4394160" y="4170240"/>
              <a:ext cx="825480" cy="131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Freeform 35"/>
            <p:cNvSpPr/>
            <p:nvPr/>
          </p:nvSpPr>
          <p:spPr>
            <a:xfrm>
              <a:off x="4394160" y="4302000"/>
              <a:ext cx="825480" cy="131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Freeform 36"/>
            <p:cNvSpPr/>
            <p:nvPr/>
          </p:nvSpPr>
          <p:spPr>
            <a:xfrm>
              <a:off x="4416480" y="4187880"/>
              <a:ext cx="780840" cy="228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Freeform 37"/>
            <p:cNvSpPr/>
            <p:nvPr/>
          </p:nvSpPr>
          <p:spPr>
            <a:xfrm>
              <a:off x="3214800" y="1533600"/>
              <a:ext cx="892080" cy="1508040"/>
            </a:xfrm>
            <a:prstGeom prst="pie">
              <a:avLst/>
            </a:prstGeom>
            <a:solidFill>
              <a:srgbClr val="3eb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Freeform 38"/>
            <p:cNvSpPr/>
            <p:nvPr/>
          </p:nvSpPr>
          <p:spPr>
            <a:xfrm>
              <a:off x="3240000" y="3684600"/>
              <a:ext cx="892440" cy="1506600"/>
            </a:xfrm>
            <a:prstGeom prst="pie">
              <a:avLst/>
            </a:prstGeom>
            <a:solidFill>
              <a:srgbClr val="3eb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Rectangle 39"/>
            <p:cNvSpPr/>
            <p:nvPr/>
          </p:nvSpPr>
          <p:spPr>
            <a:xfrm>
              <a:off x="5294520" y="208908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80ff"/>
                  </a:solidFill>
                  <a:latin typeface="Arial"/>
                </a:rPr>
                <a:t>90 %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Rectangle 40"/>
            <p:cNvSpPr/>
            <p:nvPr/>
          </p:nvSpPr>
          <p:spPr>
            <a:xfrm>
              <a:off x="5320080" y="463536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80ff"/>
                  </a:solidFill>
                  <a:latin typeface="Arial"/>
                </a:rPr>
                <a:t>60 %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Rectangle 41"/>
            <p:cNvSpPr/>
            <p:nvPr/>
          </p:nvSpPr>
          <p:spPr>
            <a:xfrm>
              <a:off x="5332680" y="415620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80ff"/>
                  </a:solidFill>
                  <a:latin typeface="Arial"/>
                </a:rPr>
                <a:t>70 %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Rectangle 42"/>
            <p:cNvSpPr/>
            <p:nvPr/>
          </p:nvSpPr>
          <p:spPr>
            <a:xfrm>
              <a:off x="5307480" y="251784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80ff"/>
                  </a:solidFill>
                  <a:latin typeface="Arial"/>
                </a:rPr>
                <a:t>80 %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Rectangle 43"/>
            <p:cNvSpPr/>
            <p:nvPr/>
          </p:nvSpPr>
          <p:spPr>
            <a:xfrm>
              <a:off x="5613840" y="5129280"/>
              <a:ext cx="212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9900"/>
                  </a:solidFill>
                  <a:latin typeface="Arial"/>
                </a:rPr>
                <a:t>Con W la atenuación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Rectangle 44"/>
            <p:cNvSpPr/>
            <p:nvPr/>
          </p:nvSpPr>
          <p:spPr>
            <a:xfrm>
              <a:off x="5598360" y="5383080"/>
              <a:ext cx="2021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9900"/>
                  </a:solidFill>
                  <a:latin typeface="Arial"/>
                </a:rPr>
                <a:t>es </a:t>
              </a:r>
              <a:r>
                <a:rPr b="1" lang="en-US" sz="17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</a:t>
              </a:r>
              <a:r>
                <a:rPr b="1" lang="en-US" sz="1700" spc="-1" strike="noStrike">
                  <a:solidFill>
                    <a:srgbClr val="ff9900"/>
                  </a:solidFill>
                  <a:latin typeface="Arial"/>
                </a:rPr>
                <a:t> 3 veces mejor 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Rectangle 45"/>
            <p:cNvSpPr/>
            <p:nvPr/>
          </p:nvSpPr>
          <p:spPr>
            <a:xfrm>
              <a:off x="5638680" y="5637240"/>
              <a:ext cx="1311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9900"/>
                  </a:solidFill>
                  <a:latin typeface="Arial"/>
                </a:rPr>
                <a:t>que con Pb!!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Rectangle 46"/>
            <p:cNvSpPr/>
            <p:nvPr/>
          </p:nvSpPr>
          <p:spPr>
            <a:xfrm>
              <a:off x="1431360" y="1600200"/>
              <a:ext cx="76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100 kV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Freeform 47"/>
            <p:cNvSpPr/>
            <p:nvPr/>
          </p:nvSpPr>
          <p:spPr>
            <a:xfrm>
              <a:off x="6202440" y="2448000"/>
              <a:ext cx="428400" cy="593640"/>
            </a:xfrm>
            <a:prstGeom prst="pie">
              <a:avLst/>
            </a:prstGeom>
            <a:noFill/>
            <a:ln w="0">
              <a:solidFill>
                <a:srgbClr val="dfdfd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Freeform 48"/>
            <p:cNvSpPr/>
            <p:nvPr/>
          </p:nvSpPr>
          <p:spPr>
            <a:xfrm>
              <a:off x="6202440" y="3935520"/>
              <a:ext cx="428400" cy="592200"/>
            </a:xfrm>
            <a:prstGeom prst="pie">
              <a:avLst/>
            </a:prstGeom>
            <a:noFill/>
            <a:ln w="0">
              <a:solidFill>
                <a:srgbClr val="dfdfd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Rectangle 49"/>
            <p:cNvSpPr/>
            <p:nvPr/>
          </p:nvSpPr>
          <p:spPr>
            <a:xfrm>
              <a:off x="4393080" y="1654200"/>
              <a:ext cx="21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9900"/>
                  </a:solidFill>
                  <a:latin typeface="Arial"/>
                </a:rPr>
                <a:t>Intensidad trasmitida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Rectangle 50"/>
            <p:cNvSpPr/>
            <p:nvPr/>
          </p:nvSpPr>
          <p:spPr>
            <a:xfrm>
              <a:off x="1258560" y="3595680"/>
              <a:ext cx="831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100 kV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Rectangle 51"/>
            <p:cNvSpPr/>
            <p:nvPr/>
          </p:nvSpPr>
          <p:spPr>
            <a:xfrm>
              <a:off x="1332000" y="4003560"/>
              <a:ext cx="96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ffff"/>
                  </a:solidFill>
                  <a:latin typeface="Arial"/>
                </a:rPr>
                <a:t>Haz direct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Rectangle 52"/>
            <p:cNvSpPr/>
            <p:nvPr/>
          </p:nvSpPr>
          <p:spPr>
            <a:xfrm>
              <a:off x="1303200" y="2838600"/>
              <a:ext cx="965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ffff"/>
                  </a:solidFill>
                  <a:latin typeface="Arial"/>
                </a:rPr>
                <a:t>Radiación dispers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Rectangle 54"/>
            <p:cNvSpPr/>
            <p:nvPr/>
          </p:nvSpPr>
          <p:spPr>
            <a:xfrm>
              <a:off x="3317760" y="5229360"/>
              <a:ext cx="966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ffff"/>
                  </a:solidFill>
                  <a:latin typeface="Arial"/>
                </a:rPr>
                <a:t>Guante con W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Rectangle 56"/>
            <p:cNvSpPr/>
            <p:nvPr/>
          </p:nvSpPr>
          <p:spPr>
            <a:xfrm>
              <a:off x="5555160" y="3227400"/>
              <a:ext cx="1346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cc33"/>
                  </a:solidFill>
                  <a:latin typeface="Arial"/>
                </a:rPr>
                <a:t>Para idéntica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Rectangle 57"/>
            <p:cNvSpPr/>
            <p:nvPr/>
          </p:nvSpPr>
          <p:spPr>
            <a:xfrm>
              <a:off x="5555160" y="3481560"/>
              <a:ext cx="1718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cc33"/>
                  </a:solidFill>
                  <a:latin typeface="Arial"/>
                </a:rPr>
                <a:t>percepción tactil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Rectangle 52"/>
            <p:cNvSpPr/>
            <p:nvPr/>
          </p:nvSpPr>
          <p:spPr>
            <a:xfrm>
              <a:off x="1403280" y="5013360"/>
              <a:ext cx="965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ffff"/>
                  </a:solidFill>
                  <a:latin typeface="Arial"/>
                </a:rPr>
                <a:t>Radiación dispersa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metría persona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81480" y="1557360"/>
            <a:ext cx="259380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Se recomiendan varios dosímetros person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586120" cy="38451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5"/>
          <p:cNvSpPr/>
          <p:nvPr/>
        </p:nvSpPr>
        <p:spPr>
          <a:xfrm>
            <a:off x="637920" y="571500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Fuente: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Avoidance of radiation injuries from interventional procedures. ICRP draft 20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2"/>
          <a:stretch/>
        </p:blipFill>
        <p:spPr>
          <a:xfrm>
            <a:off x="6248520" y="3809880"/>
            <a:ext cx="22795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6.2: Optimización de la protección en 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5: Reglas de protección radi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2195640" y="1413000"/>
            <a:ext cx="5689440" cy="2226960"/>
          </a:xfrm>
          <a:prstGeom prst="rect">
            <a:avLst/>
          </a:prstGeom>
          <a:solidFill>
            <a:srgbClr val="eaeaea"/>
          </a:solidFill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Pantalla articulada, madiles plomados, guantes, protectores tiroideos, etc, deben estar disponibles usualmente en las salas de rayos 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914400" y="3124080"/>
            <a:ext cx="984240" cy="2362320"/>
          </a:xfrm>
          <a:custGeom>
            <a:avLst/>
            <a:gdLst>
              <a:gd name="textAreaLeft" fmla="*/ 131760 w 984240"/>
              <a:gd name="textAreaRight" fmla="*/ 852480 w 984240"/>
              <a:gd name="textAreaTop" fmla="*/ 413280 h 2362320"/>
              <a:gd name="textAreaBottom" fmla="*/ 171288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2340000" y="4683240"/>
            <a:ext cx="5472000" cy="947160"/>
          </a:xfrm>
          <a:prstGeom prst="rect">
            <a:avLst/>
          </a:prstGeom>
          <a:solidFill>
            <a:srgbClr val="eaeaea"/>
          </a:solidFill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eberían usarse siempre y adecuadam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612360" y="3808440"/>
            <a:ext cx="20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OSI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OBLEM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8000" y="146160"/>
            <a:ext cx="9036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Reglas prácticas de protección 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radiológica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(I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1546200" y="1864080"/>
            <a:ext cx="4465800" cy="128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Deben programarse verificaciones periódicas</a:t>
            </a:r>
            <a:r>
              <a:rPr b="1" lang="fr-FR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de control de calida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2844720" y="4489560"/>
            <a:ext cx="4896000" cy="1463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El personal debe pedir estas verificaciones y prever disponibilidad de sala suficiente para llevarlas a cab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Freeform 11"/>
          <p:cNvSpPr/>
          <p:nvPr/>
        </p:nvSpPr>
        <p:spPr>
          <a:xfrm>
            <a:off x="1271520" y="3233880"/>
            <a:ext cx="1168560" cy="2187360"/>
          </a:xfrm>
          <a:prstGeom prst="pie">
            <a:avLst/>
          </a:prstGeom>
          <a:solidFill>
            <a:srgbClr val="ff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840960" y="3505320"/>
            <a:ext cx="20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OSI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OBLEM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82240" y="0"/>
            <a:ext cx="8682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Reglas prácticas de protección radiológica (II)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687680" y="1676520"/>
            <a:ext cx="6340320" cy="2226960"/>
          </a:xfrm>
          <a:prstGeom prst="rect">
            <a:avLst/>
          </a:prstGeom>
          <a:solidFill>
            <a:srgbClr val="eaeaea"/>
          </a:solidFill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Las tasas de dosis deben ser conocidas en cada modo operacional y para cada tamaño de pantalla de entrada del intensifica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AutoShape 3"/>
          <p:cNvSpPr/>
          <p:nvPr/>
        </p:nvSpPr>
        <p:spPr>
          <a:xfrm>
            <a:off x="352440" y="2743200"/>
            <a:ext cx="1265400" cy="2057400"/>
          </a:xfrm>
          <a:custGeom>
            <a:avLst/>
            <a:gdLst>
              <a:gd name="textAreaLeft" fmla="*/ 169560 w 1265400"/>
              <a:gd name="textAreaRight" fmla="*/ 1095840 w 126540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2a14c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1687680" y="4255920"/>
            <a:ext cx="6340320" cy="1373760"/>
          </a:xfrm>
          <a:prstGeom prst="rect">
            <a:avLst/>
          </a:prstGeom>
          <a:solidFill>
            <a:srgbClr val="eaeaea"/>
          </a:solidFill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Así, pueden establecerse criterios para el uso correcto de cualquier modo de operación d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8920" y="146160"/>
            <a:ext cx="8861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Reglas prácticas de protección radiológica (III)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2270160" y="1523880"/>
            <a:ext cx="5470560" cy="1557000"/>
          </a:xfrm>
          <a:prstGeom prst="rect">
            <a:avLst/>
          </a:prstGeom>
          <a:solidFill>
            <a:srgbClr val="eaeaea"/>
          </a:solidFill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Parámetros important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istancia foco-piel del pac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istancia paciente-intensificador de ima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AutoShape 3"/>
          <p:cNvSpPr/>
          <p:nvPr/>
        </p:nvSpPr>
        <p:spPr>
          <a:xfrm>
            <a:off x="712800" y="2746440"/>
            <a:ext cx="1266840" cy="2057400"/>
          </a:xfrm>
          <a:custGeom>
            <a:avLst/>
            <a:gdLst>
              <a:gd name="textAreaLeft" fmla="*/ 169560 w 1266840"/>
              <a:gd name="textAreaRight" fmla="*/ 1097280 w 126684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268360" y="3584520"/>
            <a:ext cx="5535720" cy="1557000"/>
          </a:xfrm>
          <a:prstGeom prst="rect">
            <a:avLst/>
          </a:prstGeom>
          <a:solidFill>
            <a:srgbClr val="eaeaea"/>
          </a:solidFill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La dosis al paciente aumentará si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La distancia foco-piel es cort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La distancia paciente-intensificador de imagen es larg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8614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Reglas prácticas de protección radiológica (IV)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quipamiento y especialista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1195560" y="1523880"/>
            <a:ext cx="6929280" cy="426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3552840" y="2852640"/>
            <a:ext cx="2314440" cy="1433520"/>
          </a:xfrm>
          <a:prstGeom prst="rect">
            <a:avLst/>
          </a:prstGeom>
          <a:solidFill>
            <a:srgbClr val="fcd3c1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5560920" y="1690560"/>
            <a:ext cx="2313000" cy="803520"/>
          </a:xfrm>
          <a:prstGeom prst="rect">
            <a:avLst/>
          </a:prstGeom>
          <a:solidFill>
            <a:srgbClr val="99cc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1319040" y="1704960"/>
            <a:ext cx="2311560" cy="803160"/>
          </a:xfrm>
          <a:prstGeom prst="rect">
            <a:avLst/>
          </a:prstGeom>
          <a:solidFill>
            <a:srgbClr val="99cc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1483920" y="1790640"/>
            <a:ext cx="1966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ependiente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los equip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5837400" y="1773360"/>
            <a:ext cx="1785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Dependiente 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del especialista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5148360" y="4724280"/>
            <a:ext cx="28083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ff"/>
                </a:solidFill>
                <a:latin typeface="Arial"/>
              </a:rPr>
              <a:t>Número de imágenes grabadas en cada procedimie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Freeform 18"/>
          <p:cNvSpPr/>
          <p:nvPr/>
        </p:nvSpPr>
        <p:spPr>
          <a:xfrm>
            <a:off x="1638360" y="2954160"/>
            <a:ext cx="1400040" cy="1192320"/>
          </a:xfrm>
          <a:prstGeom prst="pie">
            <a:avLst/>
          </a:prstGeom>
          <a:solidFill>
            <a:srgbClr val="32a14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Freeform 19"/>
          <p:cNvSpPr/>
          <p:nvPr/>
        </p:nvSpPr>
        <p:spPr>
          <a:xfrm>
            <a:off x="6046920" y="2968560"/>
            <a:ext cx="1331640" cy="1192320"/>
          </a:xfrm>
          <a:prstGeom prst="pie">
            <a:avLst/>
          </a:prstGeom>
          <a:solidFill>
            <a:srgbClr val="0080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Freeform 20"/>
          <p:cNvSpPr/>
          <p:nvPr/>
        </p:nvSpPr>
        <p:spPr>
          <a:xfrm>
            <a:off x="3629160" y="1797120"/>
            <a:ext cx="1050840" cy="931680"/>
          </a:xfrm>
          <a:prstGeom prst="pie">
            <a:avLst/>
          </a:prstGeom>
          <a:solidFill>
            <a:srgbClr val="32a14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35280" y="306864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justes hechos por el servicio tecni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03280" y="458316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a14c"/>
                </a:solidFill>
                <a:latin typeface="Arial"/>
              </a:rPr>
              <a:t>Dosis/imagen a la entrada del intensificad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738360" y="1600200"/>
            <a:ext cx="361764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d3c1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d3c1"/>
                </a:solidFill>
                <a:latin typeface="Arial"/>
              </a:rPr>
              <a:t>de los equip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4994280" y="1600200"/>
            <a:ext cx="351648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Queha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el especialis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AutoShape 4"/>
          <p:cNvSpPr/>
          <p:nvPr/>
        </p:nvSpPr>
        <p:spPr>
          <a:xfrm>
            <a:off x="2181240" y="2895480"/>
            <a:ext cx="703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AutoShape 5"/>
          <p:cNvSpPr/>
          <p:nvPr/>
        </p:nvSpPr>
        <p:spPr>
          <a:xfrm>
            <a:off x="6400800" y="2895480"/>
            <a:ext cx="70344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738360" y="3916440"/>
            <a:ext cx="3587400" cy="1922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d3c1"/>
                </a:solidFill>
                <a:latin typeface="Arial"/>
              </a:rPr>
              <a:t>El comportamiento rel del intensificador puede obligar a aumentar la tasa de dosis a la entra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5029200" y="3963960"/>
            <a:ext cx="3646440" cy="155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Conocer el comportamiento real del intensificador y la tasa de dosis requeri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quipamiento y especialista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bjetiv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7160" y="1523520"/>
            <a:ext cx="760248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miliarizarse con la aplicación de los principios de la  protección radiológica práctica a sistemas de fluoroscop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738360" y="1600200"/>
            <a:ext cx="383364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e equip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4994280" y="1600200"/>
            <a:ext cx="351648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Queha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el especialis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2133720" y="2666880"/>
            <a:ext cx="703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6400800" y="2666880"/>
            <a:ext cx="70344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738360" y="3629160"/>
            <a:ext cx="3757320" cy="155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Buenas condiciones de trabajo del control automático de brillo y la posibilidad de inhibir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5029200" y="3657600"/>
            <a:ext cx="3446640" cy="1618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Usarlo adecuadamente a fin de evitar una alta tasa de dosis cuando queda dentro del campo un guante plomad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quipamiento y especialista (I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703440" y="1981080"/>
            <a:ext cx="371628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e equip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4994280" y="1981080"/>
            <a:ext cx="351648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Queha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el especialis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2039760" y="32767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400800" y="32767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773280" y="4297320"/>
            <a:ext cx="358776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Fácil selección de la colimación del camp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5064120" y="4335480"/>
            <a:ext cx="3446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Uso eficaz de la posibilidad de colim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quipamiento y especialista (IV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703440" y="1523880"/>
            <a:ext cx="379224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e equip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4994280" y="1523880"/>
            <a:ext cx="351648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Queha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el especialis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AutoShape 4"/>
          <p:cNvSpPr/>
          <p:nvPr/>
        </p:nvSpPr>
        <p:spPr>
          <a:xfrm>
            <a:off x="2039760" y="28195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6400800" y="28195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515880" y="3657600"/>
            <a:ext cx="4361040" cy="2228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Factor de rej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Funcionamiento del intensificad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Procedimiento operacional recomendado o recuperado: nivel de ruido, tasa de pulsos, longitud de pulso, etc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064120" y="3679920"/>
            <a:ext cx="3446640" cy="1191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Protocolo actualmente en uso </a:t>
            </a:r>
            <a:r>
              <a:rPr b="1" lang="en-GB" sz="32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dosis al paciente total por procedimie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quipamiento y especialista (V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iesgo por radiación al persona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703440" y="1752480"/>
            <a:ext cx="379224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de equip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4994280" y="1752480"/>
            <a:ext cx="351648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Queha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el especialis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AutoShape 5"/>
          <p:cNvSpPr/>
          <p:nvPr/>
        </p:nvSpPr>
        <p:spPr>
          <a:xfrm>
            <a:off x="2039760" y="30481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1" name="AutoShape 6"/>
          <p:cNvSpPr/>
          <p:nvPr/>
        </p:nvSpPr>
        <p:spPr>
          <a:xfrm>
            <a:off x="6400800" y="3048120"/>
            <a:ext cx="703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2a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701640" y="3860640"/>
            <a:ext cx="3799080" cy="1922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Dimensiones de la sa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Espesor de blindaj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"/>
              </a:rPr>
              <a:t>Posición del sistema de rayos 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5064120" y="3886200"/>
            <a:ext cx="3446640" cy="1191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istancia y posición relativa del personal respecto del pac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umen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dosis al personal y al paciente pueden verse afectadas de modo significativo por muchos factores físicos trabajando con equipos de fluoroscopia: geometría del haz, distancia desde la fuente, diámetro del intensificador de imagen y tipo de sistema de fluoroscop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Hay reglas prácticas de PR que permiten reducir tales exposi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umen (II): ”Reglas de oro”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18800" y="1413000"/>
            <a:ext cx="72248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ntener el II cerca del paci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No abusar de los modos de magnific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ntener el tubo de rayos X a máxima distancia del paci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sar kVp elevados cuando sea po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Vestir delantales de protección y monitores de radiación, y saber dónde es más intensa la radiación dispers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ntener una distancia larga, mientras sea po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71520" y="141300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Wagner LK and Archer BR. Minimising risks from fluoroscopic x rays. Third Edition. Partners in radiation Management (R.M. Partnership). The Woodlands, TX 77381. USA 2000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V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ñó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, E and  Lezana, A. Radiation Protection in Interventional Radiology. 9th European Congress of Radiology, Vienna (Austria), March 5‑10, 1995. Refresher Cours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voidance of radiation injuries from medical interventional procedures. ICRP Publication 85.Ann ICRP 2000;30 (2). Pergam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6.2: Optimización de la protección en 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Factores que afectan a las dosis al pers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52280" y="304920"/>
            <a:ext cx="86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cuerdo: absorbción y dispers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4000" y="1722240"/>
            <a:ext cx="446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e cada 1000 fotones que alcanzan al paciente, unos 100-200 se dispersan, unos 20 alcanzan el detector de imagen, y el resto son absorbidos (= dosis de radiació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La dispersión sigue también ± la ley del inverso del cuadrado, así que la distancia respecto del paciente mejora la segurid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n radiología, la dispersión se dirige principalmente hacia la fuen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6403680" y="144756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cc"/>
                </a:solidFill>
                <a:latin typeface="Arial"/>
              </a:rPr>
              <a:t>X-Ray tub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6" name="Group 22"/>
          <p:cNvGrpSpPr/>
          <p:nvPr/>
        </p:nvGrpSpPr>
        <p:grpSpPr>
          <a:xfrm>
            <a:off x="4583160" y="1906560"/>
            <a:ext cx="3876480" cy="4114440"/>
            <a:chOff x="4583160" y="1906560"/>
            <a:chExt cx="3876480" cy="4114440"/>
          </a:xfrm>
        </p:grpSpPr>
        <p:sp>
          <p:nvSpPr>
            <p:cNvPr id="107" name="AutoShape 3"/>
            <p:cNvSpPr/>
            <p:nvPr/>
          </p:nvSpPr>
          <p:spPr>
            <a:xfrm>
              <a:off x="5781240" y="2152080"/>
              <a:ext cx="1621080" cy="2763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80000"/>
                </a:gs>
                <a:gs pos="100000">
                  <a:srgbClr val="f6b7b0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6274440" y="1906560"/>
              <a:ext cx="6339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 flipH="1" flipV="1">
              <a:off x="5146560" y="3441960"/>
              <a:ext cx="916200" cy="675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Oval 6"/>
            <p:cNvSpPr/>
            <p:nvPr/>
          </p:nvSpPr>
          <p:spPr>
            <a:xfrm>
              <a:off x="5499360" y="3933000"/>
              <a:ext cx="2113920" cy="1228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 flipH="1" flipV="1">
              <a:off x="4794480" y="3748320"/>
              <a:ext cx="1056960" cy="368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 flipH="1" flipV="1">
              <a:off x="5358240" y="3257280"/>
              <a:ext cx="775440" cy="736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Line 9"/>
            <p:cNvSpPr/>
            <p:nvPr/>
          </p:nvSpPr>
          <p:spPr>
            <a:xfrm flipH="1" flipV="1">
              <a:off x="4583160" y="4240440"/>
              <a:ext cx="1127520" cy="61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 flipH="1" flipV="1">
              <a:off x="5639760" y="3073320"/>
              <a:ext cx="633960" cy="92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 flipV="1">
              <a:off x="6979320" y="3134880"/>
              <a:ext cx="422640" cy="859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V="1">
              <a:off x="7120440" y="3318840"/>
              <a:ext cx="563760" cy="736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 flipV="1">
              <a:off x="7331760" y="3687480"/>
              <a:ext cx="845280" cy="491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6556680" y="5038560"/>
              <a:ext cx="0" cy="982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>
              <a:off x="7331760" y="4793040"/>
              <a:ext cx="1127520" cy="368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 flipV="1">
              <a:off x="7472880" y="4178880"/>
              <a:ext cx="986760" cy="122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 flipH="1">
              <a:off x="4723560" y="4731480"/>
              <a:ext cx="986760" cy="245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Line 18"/>
            <p:cNvSpPr/>
            <p:nvPr/>
          </p:nvSpPr>
          <p:spPr>
            <a:xfrm flipV="1">
              <a:off x="7191000" y="3441960"/>
              <a:ext cx="775080" cy="675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5757840" y="5161680"/>
              <a:ext cx="1691280" cy="612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s dosis al personal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960" y="1555920"/>
            <a:ext cx="60897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La </a:t>
            </a:r>
            <a:r>
              <a:rPr b="0" lang="es-ES" sz="3000" spc="-1" strike="noStrike">
                <a:solidFill>
                  <a:srgbClr val="ff9900"/>
                </a:solidFill>
                <a:latin typeface="Arial"/>
              </a:rPr>
              <a:t>fuente principal </a:t>
            </a: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de radiación al personal en una </a:t>
            </a:r>
            <a:r>
              <a:rPr b="0" lang="es-ES" sz="3000" spc="-1" strike="noStrike">
                <a:solidFill>
                  <a:srgbClr val="ff9900"/>
                </a:solidFill>
                <a:latin typeface="Arial"/>
              </a:rPr>
              <a:t>sala de fluoroscopia</a:t>
            </a: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 es </a:t>
            </a:r>
            <a:r>
              <a:rPr b="0" lang="es-ES" sz="3000" spc="-1" strike="noStrike">
                <a:solidFill>
                  <a:srgbClr val="ff9900"/>
                </a:solidFill>
                <a:latin typeface="Arial"/>
              </a:rPr>
              <a:t>el paciente</a:t>
            </a: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 (radiación dispersa)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La radiación dispersa no es uniforme alrededor del paciente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El nivel de tasa de dosis en torno al paciente es una función compleja de un gran número de factores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7315200" y="2133720"/>
            <a:ext cx="1187280" cy="122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4"/>
          <p:cNvSpPr/>
          <p:nvPr/>
        </p:nvSpPr>
        <p:spPr>
          <a:xfrm>
            <a:off x="457200" y="533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38080" y="1219320"/>
            <a:ext cx="7454880" cy="5028840"/>
            <a:chOff x="838080" y="1219320"/>
            <a:chExt cx="7454880" cy="5028840"/>
          </a:xfrm>
        </p:grpSpPr>
        <p:sp>
          <p:nvSpPr>
            <p:cNvPr id="130" name="Rectangle 2"/>
            <p:cNvSpPr/>
            <p:nvPr/>
          </p:nvSpPr>
          <p:spPr>
            <a:xfrm>
              <a:off x="838080" y="1219320"/>
              <a:ext cx="7454880" cy="49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Rectangle 3"/>
            <p:cNvSpPr/>
            <p:nvPr/>
          </p:nvSpPr>
          <p:spPr>
            <a:xfrm>
              <a:off x="998640" y="1371600"/>
              <a:ext cx="2503440" cy="13939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2112840" y="3705120"/>
              <a:ext cx="4462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ffff"/>
                  </a:solidFill>
                  <a:latin typeface="Arial"/>
                </a:rPr>
                <a:t>POSICIÓN DEL TUBO DE RAYOS X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3594240" y="2043000"/>
              <a:ext cx="734760" cy="498600"/>
            </a:xfrm>
            <a:prstGeom prst="pie">
              <a:avLst/>
            </a:prstGeom>
            <a:solidFill>
              <a:srgbClr val="ff00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2928960" y="2928960"/>
              <a:ext cx="733320" cy="498600"/>
            </a:xfrm>
            <a:prstGeom prst="pie">
              <a:avLst/>
            </a:prstGeom>
            <a:solidFill>
              <a:srgbClr val="ffff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Freeform 8"/>
            <p:cNvSpPr/>
            <p:nvPr/>
          </p:nvSpPr>
          <p:spPr>
            <a:xfrm>
              <a:off x="1208160" y="3618000"/>
              <a:ext cx="733320" cy="498240"/>
            </a:xfrm>
            <a:prstGeom prst="pie">
              <a:avLst/>
            </a:prstGeom>
            <a:solidFill>
              <a:srgbClr val="ff8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168560" y="4206960"/>
              <a:ext cx="734760" cy="498240"/>
            </a:xfrm>
            <a:prstGeom prst="pie">
              <a:avLst/>
            </a:prstGeom>
            <a:solidFill>
              <a:srgbClr val="00c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2735280" y="5192640"/>
              <a:ext cx="735120" cy="498600"/>
            </a:xfrm>
            <a:prstGeom prst="pie">
              <a:avLst/>
            </a:prstGeom>
            <a:solidFill>
              <a:srgbClr val="0080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1091880" y="1573200"/>
              <a:ext cx="2405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ffff00"/>
                  </a:solidFill>
                  <a:latin typeface="Arial"/>
                </a:rPr>
                <a:t>FACTORES  QUE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1090800" y="1922400"/>
              <a:ext cx="2163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ffff00"/>
                  </a:solidFill>
                  <a:latin typeface="Arial"/>
                </a:rPr>
                <a:t>AFECTAN A LA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1091880" y="2271600"/>
              <a:ext cx="2404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ffff00"/>
                  </a:solidFill>
                  <a:latin typeface="Arial"/>
                </a:rPr>
                <a:t>DOSIS AL STAFF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5091120" y="1339920"/>
              <a:ext cx="2993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ffffff"/>
                  </a:solidFill>
                  <a:latin typeface="Arial"/>
                </a:rPr>
                <a:t>ESTATURA DEL STAFF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Rectangle 15"/>
            <p:cNvSpPr/>
            <p:nvPr/>
          </p:nvSpPr>
          <p:spPr>
            <a:xfrm>
              <a:off x="4527720" y="2144880"/>
              <a:ext cx="271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ffff00"/>
                  </a:solidFill>
                  <a:latin typeface="Arial"/>
                </a:rPr>
                <a:t>POSICIÓN RELATIVA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Rectangle 16"/>
            <p:cNvSpPr/>
            <p:nvPr/>
          </p:nvSpPr>
          <p:spPr>
            <a:xfrm>
              <a:off x="4526280" y="2455920"/>
              <a:ext cx="349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ffff00"/>
                  </a:solidFill>
                  <a:latin typeface="Arial"/>
                </a:rPr>
                <a:t>RESPECTO DEL PACIENTE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Rectangle 17"/>
            <p:cNvSpPr/>
            <p:nvPr/>
          </p:nvSpPr>
          <p:spPr>
            <a:xfrm>
              <a:off x="3713040" y="3071880"/>
              <a:ext cx="456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bf80"/>
                  </a:solidFill>
                  <a:latin typeface="Arial"/>
                </a:rPr>
                <a:t>VOLUMEN IRRADIADO DE PACIENT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Rectangle 18"/>
            <p:cNvSpPr/>
            <p:nvPr/>
          </p:nvSpPr>
          <p:spPr>
            <a:xfrm>
              <a:off x="2098800" y="4281480"/>
              <a:ext cx="3678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ffbfbf"/>
                  </a:solidFill>
                  <a:latin typeface="Arial"/>
                </a:rPr>
                <a:t>kV, mA y tiempo (NÚMERO Y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2099880" y="4592520"/>
              <a:ext cx="4875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ffbfbf"/>
                  </a:solidFill>
                  <a:latin typeface="Arial"/>
                </a:rPr>
                <a:t>CARACTERÍSTICAS DE LOS PULSOS)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3615840" y="5305320"/>
              <a:ext cx="3646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ffffc0"/>
                  </a:solidFill>
                  <a:latin typeface="Arial"/>
                </a:rPr>
                <a:t>USO EFICAZ DE BLINDAJES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3616560" y="5616720"/>
              <a:ext cx="3926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ffffc0"/>
                  </a:solidFill>
                  <a:latin typeface="Arial"/>
                </a:rPr>
                <a:t>ARTICULADOS Y/O GAFAS DE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3616200" y="5927760"/>
              <a:ext cx="177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ffffc0"/>
                  </a:solidFill>
                  <a:latin typeface="Arial"/>
                </a:rPr>
                <a:t>PROTECCIÓN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4168800" y="1273320"/>
              <a:ext cx="735120" cy="49680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al personal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533520" y="1752480"/>
            <a:ext cx="5064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al personal (I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435640" y="1844640"/>
            <a:ext cx="3375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La dosis dispersa es más alta cerca del área en la que el haz de rayos X entra en el pacien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4360" y="1844640"/>
            <a:ext cx="3887640" cy="3960720"/>
            <a:chOff x="684360" y="1844640"/>
            <a:chExt cx="3887640" cy="3960720"/>
          </a:xfrm>
        </p:grpSpPr>
        <p:sp>
          <p:nvSpPr>
            <p:cNvPr id="156" name="Freeform 6"/>
            <p:cNvSpPr/>
            <p:nvPr/>
          </p:nvSpPr>
          <p:spPr>
            <a:xfrm>
              <a:off x="1352520" y="4033800"/>
              <a:ext cx="927000" cy="455760"/>
            </a:xfrm>
            <a:prstGeom prst="pie">
              <a:avLst/>
            </a:prstGeom>
            <a:solidFill>
              <a:srgbClr val="187c30"/>
            </a:solidFill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>
              <a:off x="1763640" y="2550960"/>
              <a:ext cx="1800" cy="154800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1654200" y="4017960"/>
              <a:ext cx="218880" cy="24300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 flipV="1">
              <a:off x="1763640" y="4260960"/>
              <a:ext cx="1800" cy="1255680"/>
            </a:xfrm>
            <a:prstGeom prst="line">
              <a:avLst/>
            </a:prstGeom>
            <a:ln w="270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Line 10"/>
            <p:cNvSpPr/>
            <p:nvPr/>
          </p:nvSpPr>
          <p:spPr>
            <a:xfrm>
              <a:off x="1763640" y="4260960"/>
              <a:ext cx="1465200" cy="1440"/>
            </a:xfrm>
            <a:prstGeom prst="line">
              <a:avLst/>
            </a:prstGeom>
            <a:ln w="270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189240" y="4195800"/>
              <a:ext cx="119160" cy="1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 flipH="1">
              <a:off x="1763280" y="3720960"/>
              <a:ext cx="1365480" cy="540000"/>
            </a:xfrm>
            <a:prstGeom prst="line">
              <a:avLst/>
            </a:prstGeom>
            <a:ln w="270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071880" y="3672000"/>
              <a:ext cx="135000" cy="1252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 flipV="1">
              <a:off x="1763640" y="3184560"/>
              <a:ext cx="974880" cy="1076400"/>
            </a:xfrm>
            <a:prstGeom prst="line">
              <a:avLst/>
            </a:prstGeom>
            <a:ln w="270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2666880" y="3121200"/>
              <a:ext cx="127080" cy="1396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3720960" y="3462480"/>
              <a:ext cx="617760" cy="1369800"/>
            </a:xfrm>
            <a:prstGeom prst="pie">
              <a:avLst/>
            </a:prstGeom>
            <a:solidFill>
              <a:srgbClr val="808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3822840" y="3006720"/>
              <a:ext cx="412560" cy="455760"/>
            </a:xfrm>
            <a:prstGeom prst="pie">
              <a:avLst/>
            </a:prstGeom>
            <a:solidFill>
              <a:srgbClr val="808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 flipH="1">
              <a:off x="3822840" y="4832280"/>
              <a:ext cx="102960" cy="68436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4132440" y="4832280"/>
              <a:ext cx="102960" cy="68436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Rectangle 20"/>
            <p:cNvSpPr/>
            <p:nvPr/>
          </p:nvSpPr>
          <p:spPr>
            <a:xfrm>
              <a:off x="2763720" y="3892680"/>
              <a:ext cx="91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0.3 mGy/h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Rectangle 21"/>
            <p:cNvSpPr/>
            <p:nvPr/>
          </p:nvSpPr>
          <p:spPr>
            <a:xfrm>
              <a:off x="2763720" y="3322800"/>
              <a:ext cx="91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0.6 mGy/h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Rectangle 22"/>
            <p:cNvSpPr/>
            <p:nvPr/>
          </p:nvSpPr>
          <p:spPr>
            <a:xfrm>
              <a:off x="2661840" y="2751120"/>
              <a:ext cx="91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eaeaea"/>
                  </a:solidFill>
                  <a:latin typeface="Arial"/>
                </a:rPr>
                <a:t>0.9 mGy/h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Rectangle 23"/>
            <p:cNvSpPr/>
            <p:nvPr/>
          </p:nvSpPr>
          <p:spPr>
            <a:xfrm>
              <a:off x="897120" y="2585880"/>
              <a:ext cx="72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eaeaea"/>
                  </a:solidFill>
                  <a:latin typeface="Arial"/>
                </a:rPr>
                <a:t>100 kV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Rectangle 24"/>
            <p:cNvSpPr/>
            <p:nvPr/>
          </p:nvSpPr>
          <p:spPr>
            <a:xfrm>
              <a:off x="768960" y="3659040"/>
              <a:ext cx="69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eaeaea"/>
                  </a:solidFill>
                  <a:latin typeface="Arial"/>
                </a:rPr>
                <a:t>11x11 cm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Rectangle 25"/>
            <p:cNvSpPr/>
            <p:nvPr/>
          </p:nvSpPr>
          <p:spPr>
            <a:xfrm>
              <a:off x="1827000" y="4724280"/>
              <a:ext cx="205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1m distancia al pacient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Rectangle 26"/>
            <p:cNvSpPr/>
            <p:nvPr/>
          </p:nvSpPr>
          <p:spPr>
            <a:xfrm>
              <a:off x="1840320" y="4959360"/>
              <a:ext cx="18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eaeaea"/>
                  </a:solidFill>
                  <a:latin typeface="Arial"/>
                </a:rPr>
                <a:t>Espesor paciente 18 cm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978120" y="2879640"/>
              <a:ext cx="5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eaeaea"/>
                  </a:solidFill>
                  <a:latin typeface="Arial"/>
                </a:rPr>
                <a:t>1 m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1351800" y="2011320"/>
              <a:ext cx="257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9900"/>
                  </a:solidFill>
                  <a:latin typeface="Arial"/>
                </a:rPr>
                <a:t>Dependencia angular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1844640"/>
              <a:ext cx="3887640" cy="39607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cp:keywords/>
  <dc:language>en-US</dc:language>
  <cp:lastModifiedBy>BRITTINGER, Maria Theresa</cp:lastModifiedBy>
  <cp:lastPrinted>2009-08-05T16:10:53Z</cp:lastPrinted>
  <dcterms:modified xsi:type="dcterms:W3CDTF">2009-09-09T08:35:22Z</dcterms:modified>
  <cp:revision>155</cp:revision>
  <dc:subject>Fluoroscopy (part 2)</dc:subject>
  <dc:title> RADIATION PROTECTION IN DIAGNOSTIC RADIOLOGY </dc:title>
</cp:coreProperties>
</file>