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4.jpeg" ContentType="image/jpeg"/>
  <Override PartName="/ppt/media/image1.wmf" ContentType="image/x-wmf"/>
  <Override PartName="/ppt/media/image15.jpeg" ContentType="image/jpeg"/>
  <Override PartName="/ppt/media/image3.wmf" ContentType="image/x-wmf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3.png" ContentType="image/png"/>
  <Override PartName="/ppt/media/image8.wmf" ContentType="image/x-wmf"/>
  <Override PartName="/ppt/media/image9.wmf" ContentType="image/x-wmf"/>
  <Override PartName="/ppt/media/image5.wmf" ContentType="image/x-wmf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e No...., Module No....Lesson 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AEA Post Graduate Educational Course in protección radiológica and Safe Use of radiación Sour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E62AD-F0FD-434C-8E51-C3A7B9004F6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e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protección radiológica and Safe Use of radiació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te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art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dule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modul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sson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session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arning objectiv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Upon completion of this lesson, the  students  will 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. (Add a list of what the students are expected to learn or be able to do upon completion of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tivity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the method used for presenting or conducting the lesson – lecture,  demonstration, exercise, laboratory exercise, case study, simulation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urati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resentation time or duration of the session – h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terials and equipos needed: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(List materials and equipos needed to conduct the session, if appropri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ferenc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List the references for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e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protección radiológica and Safe Use of radiació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e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protección radiológica and Safe Use of radiació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planation or/and additional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nstructions for the lecturer/trai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e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protección radiológica and Safe Use of radiació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e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protección radiológica and Safe Use of radiació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planation or/and additional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nstructions for the lecturer/trai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e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protección radiológica and Safe Use of radiació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cture notes: ( about 100 word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nstructions for the lecturer/trai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e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protección radiológica and Safe Use of radiació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te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art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dule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modul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sson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session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arning objectiv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Upon completion of this lesson, the  students  will 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. (Add a list of what the students are expected to learn or be able to do upon completion of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tivity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the method used for presenting or conducting the lesson – lecture,  demonstration, exercise, laboratory exercise, case study, simulation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urati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resentation time or duration of the session – h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terials and equipos needed: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(List materials and equipos needed to conduct the session, if appropri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ferenc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List the references for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97920"/>
            <a:ext cx="8534160" cy="9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8260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97920"/>
            <a:ext cx="8534160" cy="9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97920"/>
            <a:ext cx="8534160" cy="9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780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336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8260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780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336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97920"/>
            <a:ext cx="8534160" cy="9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97920"/>
            <a:ext cx="8534160" cy="9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97920"/>
            <a:ext cx="8534160" cy="9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97920"/>
            <a:ext cx="8534160" cy="9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920" y="97920"/>
            <a:ext cx="8534160" cy="44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97920"/>
            <a:ext cx="8534160" cy="9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97920"/>
            <a:ext cx="8534160" cy="9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97920"/>
            <a:ext cx="8534160" cy="9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576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97920"/>
            <a:ext cx="8534160" cy="9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97920"/>
            <a:ext cx="8534160" cy="9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8260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97920"/>
            <a:ext cx="8534160" cy="9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576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97920"/>
            <a:ext cx="8534160" cy="9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780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336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8260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780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9336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97920"/>
            <a:ext cx="8534160" cy="9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97920"/>
            <a:ext cx="8534160" cy="9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97920"/>
            <a:ext cx="8534160" cy="9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97920"/>
            <a:ext cx="8534160" cy="44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97920"/>
            <a:ext cx="8534160" cy="9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97920"/>
            <a:ext cx="8534160" cy="9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97920"/>
            <a:ext cx="8534160" cy="9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2"/>
          <p:cNvSpPr/>
          <p:nvPr/>
        </p:nvSpPr>
        <p:spPr>
          <a:xfrm>
            <a:off x="3505320" y="6019920"/>
            <a:ext cx="22096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AE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International Atomic Energy Agency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" name="Picture 3" descr="IAEAlogo_Black"/>
          <p:cNvPicPr/>
          <p:nvPr/>
        </p:nvPicPr>
        <p:blipFill>
          <a:blip r:embed="rId2"/>
          <a:stretch/>
        </p:blipFill>
        <p:spPr>
          <a:xfrm>
            <a:off x="4114800" y="5105520"/>
            <a:ext cx="1050840" cy="914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4" descr="IAEAPresBkngd"/>
          <p:cNvPicPr/>
          <p:nvPr/>
        </p:nvPicPr>
        <p:blipFill>
          <a:blip r:embed="rId3"/>
          <a:stretch/>
        </p:blipFill>
        <p:spPr>
          <a:xfrm>
            <a:off x="0" y="0"/>
            <a:ext cx="9140760" cy="6856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IAEAlogo_Black"/>
          <p:cNvPicPr/>
          <p:nvPr/>
        </p:nvPicPr>
        <p:blipFill>
          <a:blip r:embed="rId2"/>
          <a:stretch/>
        </p:blipFill>
        <p:spPr>
          <a:xfrm>
            <a:off x="304920" y="6110280"/>
            <a:ext cx="685800" cy="59688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990720" y="620244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AEA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97920"/>
            <a:ext cx="8534160" cy="9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4 Marcador de pie de página"/>
          <p:cNvSpPr/>
          <p:nvPr/>
        </p:nvSpPr>
        <p:spPr>
          <a:xfrm>
            <a:off x="2771640" y="6519960"/>
            <a:ext cx="357516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eaeaea"/>
                </a:solidFill>
                <a:latin typeface="Arial"/>
              </a:rPr>
              <a:t>23: </a:t>
            </a:r>
            <a:r>
              <a:rPr b="0" lang="es-ES" sz="900" spc="-1" strike="noStrike">
                <a:solidFill>
                  <a:srgbClr val="eaeaea"/>
                </a:solidFill>
                <a:latin typeface="Arial"/>
              </a:rPr>
              <a:t>Organización de la QA en Radiodiagnóstico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250840" y="6524640"/>
            <a:ext cx="70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A1A8F-F019-4D56-BF9D-F6CF29ABDE6C}" type="slidenum">
              <a:rPr b="0" lang="en-GB" sz="9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PROTECCIÓN RADIOLÓGICA EN RADIODIAGNÓSTICO Y EN RADIOLOGÍA INTERVENCIONISTA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0" y="2796840"/>
            <a:ext cx="9144000" cy="1515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L 23: Organización de la Garantía de Calidad (QA) en Radiodiagnóstico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457200" y="304920"/>
            <a:ext cx="8346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cecff"/>
                </a:solidFill>
                <a:latin typeface="Arial"/>
              </a:rPr>
              <a:t>Material de entrenamiento del OIEA sobre Protección Radiológica en radiodiagnóstico y en radiología intervencionist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97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Normas de calidad de imagen aceptable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82600" y="1268280"/>
            <a:ext cx="86104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125"/>
              </a:spcAft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cc"/>
                </a:solidFill>
                <a:latin typeface="Arial"/>
              </a:rPr>
              <a:t>Antes del comienzo de un programa de control de calidad, deben establecerse normas de calidad de imagen aceptable. 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Aft>
                <a:spcPts val="1125"/>
              </a:spcAft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cc"/>
                </a:solidFill>
                <a:latin typeface="Arial"/>
              </a:rPr>
              <a:t>Idealmente, estas normas deben ser </a:t>
            </a:r>
            <a:r>
              <a:rPr b="1" lang="es-ES" sz="3000" spc="-1" strike="noStrike">
                <a:solidFill>
                  <a:srgbClr val="ff9900"/>
                </a:solidFill>
                <a:latin typeface="Arial"/>
              </a:rPr>
              <a:t>objetivas</a:t>
            </a:r>
            <a:r>
              <a:rPr b="0" lang="es-ES" sz="3000" spc="-1" strike="noStrike">
                <a:solidFill>
                  <a:srgbClr val="ffffcc"/>
                </a:solidFill>
                <a:latin typeface="Arial"/>
              </a:rPr>
              <a:t>, por ejemplo “límites de aceptabilidad para los parámetros que caracterizan la calidad de imagen”, pero podrían ser </a:t>
            </a:r>
            <a:r>
              <a:rPr b="1" lang="es-ES" sz="3000" spc="-1" strike="noStrike">
                <a:solidFill>
                  <a:srgbClr val="ff9900"/>
                </a:solidFill>
                <a:latin typeface="Arial"/>
              </a:rPr>
              <a:t>subjetivas, </a:t>
            </a:r>
            <a:r>
              <a:rPr b="0" lang="es-ES" sz="3000" spc="-1" strike="noStrike">
                <a:solidFill>
                  <a:srgbClr val="ffffcc"/>
                </a:solidFill>
                <a:latin typeface="Arial"/>
              </a:rPr>
              <a:t>por ejemplo “opiniones de personal profesional” en casos en que no puedan definirse normas objetivas adecuadas.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97920"/>
            <a:ext cx="8534160" cy="95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Análisis de repeticiones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79040" y="1196640"/>
            <a:ext cx="7753320" cy="51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El análisis de imágenes rechazadas es un componente básico del programa de garantía de calidad 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Las imágenes consideradas de calidad inadecuada se clasifican de acuerdo a la causa del rechazo, que podría deberse a la competencia del personal técnico, a problemas de los equipos o a dificultades específicas asociadas a la exploración, o a alguna combinación de estos elementos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Ejemplos de principales causas de repetición: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Fallos de exposición (especialmente importantes en equipos radiográficos móviles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Posicionamiento incorrecto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Fallo de los equipo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97920"/>
            <a:ext cx="8534160" cy="95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¿Cómo comenzar? (I)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360" y="1523880"/>
            <a:ext cx="6659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Buscar experiencia pasada en la literatura existente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Tener en cuenta el personal y el material disponible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Definir prioridades si no es posible desarrollar el programa completo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Buscar la utilidad de las acciones a llevar a cabo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0" name="Object 1024" descr=""/>
          <p:cNvPicPr/>
          <p:nvPr/>
        </p:nvPicPr>
        <p:blipFill>
          <a:blip r:embed="rId1"/>
          <a:stretch/>
        </p:blipFill>
        <p:spPr>
          <a:xfrm>
            <a:off x="7142040" y="1600200"/>
            <a:ext cx="162108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97920"/>
            <a:ext cx="8534160" cy="95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¿Cómo comenzar? (II)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48880" y="1285920"/>
            <a:ext cx="6675480" cy="47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049"/>
              </a:spcAft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Con los controles de calidad “básicos” (calidad de imagen y dosis al paciente)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Aft>
                <a:spcPts val="1049"/>
              </a:spcAft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Criterios para decidir si los resultados de los controles son lo bastante buenos (comparación con niveles orientativos) o si es necesario proponer acciones correctoras.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Aft>
                <a:spcPts val="1049"/>
              </a:spcAft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¡Dejar controles más difíciles para una segunda etapa!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3" name="Object 1024" descr=""/>
          <p:cNvPicPr/>
          <p:nvPr/>
        </p:nvPicPr>
        <p:blipFill>
          <a:blip r:embed="rId1"/>
          <a:stretch/>
        </p:blipFill>
        <p:spPr>
          <a:xfrm>
            <a:off x="7162920" y="1197000"/>
            <a:ext cx="162072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97920"/>
            <a:ext cx="8534160" cy="95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¡Un consejo básico!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77600" y="1303200"/>
            <a:ext cx="624204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Cualquier acción (control de calidad, acción correctora, etc) debe ser informada y documentada, y: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Debe ser realizada en un tiempo razonable.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Los informes deben ser comprendidos y conocidos por radiólogos y técnicos.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Debe tenerse en cuenta el coste de las acciones correctoras propuestas (deben evitarse las acciones menos útiles)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6" name="Object 1024" descr=""/>
          <p:cNvPicPr/>
          <p:nvPr/>
        </p:nvPicPr>
        <p:blipFill>
          <a:blip r:embed="rId1"/>
          <a:stretch/>
        </p:blipFill>
        <p:spPr>
          <a:xfrm>
            <a:off x="6969240" y="2057400"/>
            <a:ext cx="19461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97920"/>
            <a:ext cx="8534160" cy="95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Objetos de test para la evaluación objetiva de la calidad de imagen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542880" y="1752480"/>
            <a:ext cx="1847880" cy="19814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"/>
          <p:cNvPicPr/>
          <p:nvPr/>
        </p:nvPicPr>
        <p:blipFill>
          <a:blip r:embed="rId2"/>
          <a:stretch/>
        </p:blipFill>
        <p:spPr>
          <a:xfrm>
            <a:off x="2590920" y="1828800"/>
            <a:ext cx="1969920" cy="18525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"/>
          <p:cNvPicPr/>
          <p:nvPr/>
        </p:nvPicPr>
        <p:blipFill>
          <a:blip r:embed="rId3"/>
          <a:stretch/>
        </p:blipFill>
        <p:spPr>
          <a:xfrm>
            <a:off x="6934320" y="1752480"/>
            <a:ext cx="1639800" cy="36576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"/>
          <p:cNvPicPr/>
          <p:nvPr/>
        </p:nvPicPr>
        <p:blipFill>
          <a:blip r:embed="rId4"/>
          <a:stretch/>
        </p:blipFill>
        <p:spPr>
          <a:xfrm>
            <a:off x="4724280" y="1828800"/>
            <a:ext cx="2048040" cy="22860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7"/>
          <p:cNvSpPr/>
          <p:nvPr/>
        </p:nvSpPr>
        <p:spPr>
          <a:xfrm>
            <a:off x="422280" y="4267080"/>
            <a:ext cx="1701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Arial"/>
              </a:rPr>
              <a:t>Test para QC de monitores e impresoras láser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2602080" y="4267080"/>
            <a:ext cx="1755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Arial"/>
              </a:rPr>
              <a:t>Test para QC de geometría en fluoroscopi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4800600" y="4343400"/>
            <a:ext cx="1701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Arial"/>
              </a:rPr>
              <a:t>Test para QC de radiografí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6629400" y="5638680"/>
            <a:ext cx="2109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Arial"/>
              </a:rPr>
              <a:t>Test para QC en mamografí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048120" y="1294920"/>
            <a:ext cx="5943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Para una exploración de tórax en proyección P/A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Realizada en inspiración profunda (evaluada por la posición de las costillas por encima del diafragma – bien 6 anteriormente o 10 posteriormente) y con respiración suspendida.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Reproducción simétrica del tórax como muestra la posición central del proceso espinoso entre los extremos mediales de las clavículas.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Borde medial de las escápulas fuera de los campos pulmonares.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Reproducción de la parrilla costal por encima del diafragma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304920" y="97920"/>
            <a:ext cx="8534160" cy="95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ecff"/>
                </a:solidFill>
                <a:latin typeface="Arial"/>
              </a:rPr>
              <a:t>Imágenes clínicas y criterios de calidad para la evaluación de la calidad de imagen (I)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676440" y="1447920"/>
            <a:ext cx="2239920" cy="1989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"/>
          <p:cNvPicPr/>
          <p:nvPr/>
        </p:nvPicPr>
        <p:blipFill>
          <a:blip r:embed="rId2"/>
          <a:stretch/>
        </p:blipFill>
        <p:spPr>
          <a:xfrm>
            <a:off x="746280" y="3733920"/>
            <a:ext cx="20970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112920" y="1862280"/>
            <a:ext cx="5562720" cy="42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Para una exploración de tórax (cont.):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55680" indent="-35568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Reproducción visualmente nítida del patrón vascular en el pulmón entero, especialmente los vasos periférico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55680" indent="-35568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Reproducción visualmente nítida de: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36828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La tráquea y los bronquios proximales,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36828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Los contornos del corazón y la aorta,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36828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El diafragma y los ángulos costofrénicos laterales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55680" indent="-35568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Visualización del pulmón retrocardiaco y el mediastino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55680" indent="-35568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Visualización de la columna a través de la sombra cardiaca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5334120" y="1371600"/>
            <a:ext cx="3000240" cy="39888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eaeaea"/>
                </a:solidFill>
                <a:latin typeface="Arial"/>
              </a:rPr>
              <a:t>EUR 16260.  CEC 1996</a:t>
            </a:r>
            <a:r>
              <a:rPr b="1" lang="en-GB" sz="20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2239920" cy="1989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"/>
          <p:cNvPicPr/>
          <p:nvPr/>
        </p:nvPicPr>
        <p:blipFill>
          <a:blip r:embed="rId2"/>
          <a:stretch/>
        </p:blipFill>
        <p:spPr>
          <a:xfrm>
            <a:off x="722160" y="4038480"/>
            <a:ext cx="2097360" cy="221004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304920" y="97920"/>
            <a:ext cx="8534160" cy="95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ecff"/>
                </a:solidFill>
                <a:latin typeface="Arial"/>
              </a:rPr>
              <a:t>Imágenes clínicas y criterios de calidad para la evaluación de la calidad de imagen (II)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97920"/>
            <a:ext cx="8534160" cy="95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Dosimetría al paciente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34680" y="1214280"/>
            <a:ext cx="6529320" cy="487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cc"/>
                </a:solidFill>
                <a:latin typeface="Arial"/>
              </a:rPr>
              <a:t>Indicadores de dosis: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cc"/>
                </a:solidFill>
                <a:latin typeface="Arial"/>
              </a:rPr>
              <a:t>Dosis a la entrada en exploraciones simples.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cc"/>
                </a:solidFill>
                <a:latin typeface="Arial"/>
              </a:rPr>
              <a:t>Producto dosis-área y número total de imágenes y tiempo de fluoroscopia en procedimientos complejos.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cc"/>
                </a:solidFill>
                <a:latin typeface="Arial"/>
              </a:rPr>
              <a:t>En algunos procedimientos intervencionistas complejos, máxima dosis en piel.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cc"/>
                </a:solidFill>
                <a:latin typeface="Arial"/>
              </a:rPr>
              <a:t>En tomografía con TC, CTDI y número de cortes (también producto dosis-longitud).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7174080" y="1600200"/>
            <a:ext cx="1330200" cy="21528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"/>
          <p:cNvPicPr/>
          <p:nvPr/>
        </p:nvPicPr>
        <p:blipFill>
          <a:blip r:embed="rId2"/>
          <a:stretch/>
        </p:blipFill>
        <p:spPr>
          <a:xfrm>
            <a:off x="6858000" y="3733920"/>
            <a:ext cx="1758960" cy="18000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97920"/>
            <a:ext cx="8534160" cy="95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Dónde conseguir más información (I)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592840" cy="40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Quality Assurance in Diagnostic Radiology. World Health Organization. Geneva, 1982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International Basic Safety Standards for Protection Against Ionizing radiation and for the Safety of radiation Sources. Safety Series115, IAEA, 1996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ICRP 73. Radiological Protection and Safety in Medicine. Annals of the ICRP, 26(2), 1996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NCRP 99, Quality Assurance for Diagnostic Imaging, 1988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97920"/>
            <a:ext cx="8534160" cy="95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Introducción 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Materia objeto: Planificación y organización de la Garantía de Calidad (QA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Descripción de la etapa principal a seguir para lograr poner en servicio un programa eficaz de QA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Reglas de protección radiológica relativas a la QA en radiodiagnóstic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97920"/>
            <a:ext cx="8534160" cy="95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Dónde conseguir más información (II)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European guidelines on quality criteria for diagnostic radiographic images.  Report EUR 16260, 1996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Quality Criteria for Diagnostic Radiographic Images in Pediatrics, (Office for Official Publications of the European Communities, Luxembourg), Report EUR 16261, 1996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Quality Criteria for Computed Tomography. Report EUR 16262, 1999.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97920"/>
            <a:ext cx="8534160" cy="95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Temas</a:t>
            </a:r>
            <a:r>
              <a:rPr b="1" lang="es-ES" sz="3200" spc="-1" strike="noStrike">
                <a:solidFill>
                  <a:srgbClr val="ccec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2200" y="1599840"/>
            <a:ext cx="792180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Normas de calidad de imagen aceptabl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Análisis de repeticiones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Calidad de imagen y dosis al pacient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fecto de las imágenes de mala calida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97920"/>
            <a:ext cx="8534160" cy="95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Objetivo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41520" y="1523880"/>
            <a:ext cx="8178480" cy="28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Familiarizarse con los requisitos específicos referidos a conceptos de QA, protección radiológica en radiodiagnóstico y procedimientos para revisar y evaluar eficacia global de la protección radiológic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Parte 23: Organización de la QA en Radiodiagnóstico </a:t>
            </a:r>
            <a:br>
              <a:rPr sz="3600"/>
            </a:b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0" y="279720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Tema 1: Normas de calidad de imagen aceptabl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228600" y="304920"/>
            <a:ext cx="8610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cecff"/>
                </a:solidFill>
                <a:latin typeface="Arial"/>
              </a:rPr>
              <a:t>Material de entrenamiento del OIEA sobre Protección Radiológica en radiodiagnóstico y en radiología intervencionist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97920"/>
            <a:ext cx="8534160" cy="95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Programas de garantía de calidad (I)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07520" y="1523880"/>
            <a:ext cx="8412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Los equipos de imagen radiológicos deben producir imágenes que satisfagan las necesidades del radiólogo u otros intérpretes </a:t>
            </a:r>
            <a:r>
              <a:rPr b="1" lang="es-ES" sz="2400" spc="-1" strike="noStrike">
                <a:solidFill>
                  <a:srgbClr val="ff9900"/>
                </a:solidFill>
                <a:latin typeface="Arial"/>
              </a:rPr>
              <a:t>sin implicar la irradiación innecesaria del paciente</a:t>
            </a: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Las actuaciones de garantía de calidad contribuyen a la producción de </a:t>
            </a:r>
            <a:r>
              <a:rPr b="1" lang="es-ES" sz="2400" spc="-1" strike="noStrike">
                <a:solidFill>
                  <a:srgbClr val="ff9900"/>
                </a:solidFill>
                <a:latin typeface="Arial"/>
              </a:rPr>
              <a:t>imágenes diagnósticas de calidad</a:t>
            </a: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9900"/>
                </a:solidFill>
                <a:latin typeface="Arial"/>
              </a:rPr>
              <a:t>consistente </a:t>
            </a: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reduciendo las variaciones en función de los equipos de imagen.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Los aspectos de control de calidad de un programa de garantía de calidad no están, sin embargo, relacionados necesariamente con la calidad (contenido de información) de la imagen.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97920"/>
            <a:ext cx="8534160" cy="95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Programas de garantía de calidad (II)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6354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Se ha reconocido crecientemente que los programas de garantía de calidad dirigidos a la actuación del operador y a la función de los equipos puede ser de gran valor para mejorar el contenido de información diagnóstica, reduciendo la exposición a la radiación y los costes médicos, y mejorando la gestión del departamento.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Los programas de garantía de calidad contribuyen así a la provisión de cuidado sanitario de alta calidad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7" name="Picture 1028" descr=""/>
          <p:cNvPicPr/>
          <p:nvPr/>
        </p:nvPicPr>
        <p:blipFill>
          <a:blip r:embed="rId1"/>
          <a:stretch/>
        </p:blipFill>
        <p:spPr>
          <a:xfrm>
            <a:off x="7174080" y="1523880"/>
            <a:ext cx="1330200" cy="21528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29" descr=""/>
          <p:cNvPicPr/>
          <p:nvPr/>
        </p:nvPicPr>
        <p:blipFill>
          <a:blip r:embed="rId2"/>
          <a:stretch/>
        </p:blipFill>
        <p:spPr>
          <a:xfrm>
            <a:off x="6781680" y="3657600"/>
            <a:ext cx="1758960" cy="18003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97920"/>
            <a:ext cx="8534160" cy="95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Programas de garantía de calidad (III)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17600" y="1413000"/>
            <a:ext cx="6507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400"/>
              </a:spcAft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Diferentes estudios han indicado que muchas instalaciones de radiodiagnóstico producen mala calidad de imágenes y producen una exposición a la radiación innecesaria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Aft>
                <a:spcPts val="1400"/>
              </a:spcAft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Un mal funcionamiento de los equipos contribuye</a:t>
            </a:r>
            <a:br>
              <a:rPr sz="2800"/>
            </a:b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significativamente a que</a:t>
            </a:r>
            <a:br>
              <a:rPr sz="2800"/>
            </a:b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prevalezcan las imágenes</a:t>
            </a:r>
            <a:br>
              <a:rPr sz="2800"/>
            </a:b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de mala calidad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6659640" y="4149720"/>
            <a:ext cx="1662120" cy="20988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2600" y="97920"/>
            <a:ext cx="86472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Efecto de las imágenes de baja calidad</a:t>
            </a:r>
            <a:r>
              <a:rPr b="1" lang="es-ES" sz="3200" spc="-1" strike="noStrike">
                <a:solidFill>
                  <a:srgbClr val="ccec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82000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8920" indent="0">
              <a:lnSpc>
                <a:spcPct val="90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La mala calidad de imagen tiene tres efectos negativos: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901800" indent="-457200">
              <a:lnSpc>
                <a:spcPct val="90000"/>
              </a:lnSpc>
              <a:spcAft>
                <a:spcPts val="901"/>
              </a:spcAft>
              <a:buClr>
                <a:srgbClr val="99cc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Si la imagen no es de calidad adecuada, los especialistas no dispondrán de toda la información diagnóstica que podrían haber obtenido, y esto puede llevar a un diagnóstico incorrecto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901800" indent="-457200">
              <a:lnSpc>
                <a:spcPct val="90000"/>
              </a:lnSpc>
              <a:spcAft>
                <a:spcPts val="901"/>
              </a:spcAft>
              <a:buClr>
                <a:srgbClr val="99cc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Si la calidad de la radiografía es tan mala que no puede usarse, el paciente debe ser expuesto otra vez, causando un aumento en el coste del diagnóstico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901800" indent="-457200">
              <a:lnSpc>
                <a:spcPct val="90000"/>
              </a:lnSpc>
              <a:spcAft>
                <a:spcPts val="901"/>
              </a:spcAft>
              <a:buClr>
                <a:srgbClr val="99cc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En la producción de radiografías de calidad inadecuada también surge un exceso innecesario de exposición a la radiació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3T14:06:13Z</dcterms:created>
  <dc:creator>IAEA</dc:creator>
  <dc:description>IAEA Training Material on Radiation Protection in Diagnostic and Interventional Radiology</dc:description>
  <cp:keywords/>
  <dc:language>en-US</dc:language>
  <cp:lastModifiedBy>BRITTINGER, Maria Theresa</cp:lastModifiedBy>
  <dcterms:modified xsi:type="dcterms:W3CDTF">2009-09-03T13:20:52Z</dcterms:modified>
  <cp:revision>95</cp:revision>
  <dc:subject>Organizing QA</dc:subject>
  <dc:title>RADIATION PROTECTION IN DIAGNOSTIC RADIOLOGY</dc:title>
</cp:coreProperties>
</file>