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6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9.gif" ContentType="image/gif"/>
  <Override PartName="/ppt/media/image14.png" ContentType="image/png"/>
  <Override PartName="/ppt/media/image10.jpeg" ContentType="image/jpeg"/>
  <Override PartName="/ppt/media/image1.wmf" ContentType="image/x-wmf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5.jpeg" ContentType="image/jpeg"/>
  <Override PartName="/ppt/media/image41.jpeg" ContentType="image/jpeg"/>
  <Override PartName="/ppt/media/image45.jpeg" ContentType="image/jpeg"/>
  <Override PartName="/ppt/media/image4.wmf" ContentType="image/x-wmf"/>
  <Override PartName="/ppt/media/image42.jpeg" ContentType="image/jpeg"/>
  <Override PartName="/ppt/media/image51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43.png" ContentType="image/png"/>
  <Override PartName="/ppt/media/image3.wmf" ContentType="image/x-wmf"/>
  <Override PartName="/ppt/media/image47.jpeg" ContentType="image/jpeg"/>
  <Override PartName="/ppt/media/image48.jpeg" ContentType="image/jpeg"/>
  <Override PartName="/ppt/media/image39.png" ContentType="image/png"/>
  <Override PartName="/ppt/media/image50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49.jpeg" ContentType="image/jpeg"/>
  <Override PartName="/ppt/media/image7.wmf" ContentType="image/x-wmf"/>
  <Override PartName="/ppt/media/image20.jpeg" ContentType="image/jpeg"/>
  <Override PartName="/ppt/media/image35.png" ContentType="image/png"/>
  <Override PartName="/ppt/media/image37.png" ContentType="image/png"/>
  <Override PartName="/ppt/media/image34.jpeg" ContentType="image/jpeg"/>
  <Override PartName="/ppt/media/image33.png" ContentType="image/png"/>
  <Override PartName="/ppt/media/image31.png" ContentType="image/png"/>
  <Override PartName="/ppt/media/image30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641520" y="939636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AEA Training Material on Radiation Protection in PET/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02. Pet/CT Techn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5313240" y="941076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E5E4A9-FE9F-493F-ACE2-A22EBFB07E31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PET/CT: siglas en inglés de Tomografía del Emisión de Positrones/Tomografía Axial Computar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s: Blanco se traduce en algunos  países  también como diana (o objetivo de impac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¿Ya está lista la sop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ués derl bombardeo del material blanco con el haz de iones, no tenemos  hecha la F-18 fluordeoxiglucosa  (FDG),  solamente tenemos disponible el F-1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bombardeo puede durar tipicamente 2 horas (1 período de semidesintegració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es enviado al módulo químico para ser sintetizado  con un número de químicos y reactivoa que son necesarios para producir la deoxiglucosa florinada 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-fluorodeoxiglucosa – conocida como FDG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módulo de síntesis química (conocido en el pasado como “caja negra”) o CPCU, operado por un programa de computadora, realiza un número de pasos como calentamiento, enfriamiento, filtrado, purificación,  que permiten adicionar el 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y marcar la FD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síntesis de FDG típica adiciona  otra hora al proces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neut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GO – Germanato de bismuto (Bismuth Greman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SO – Oxi-ortosilicato de Lutesio (Lutetium Oxyorthosilic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SO – Oxi-ortosilicato de Gadolineo (Gadolinium Oxyorthosilic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- Número ató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FM: siglas de tubo fotomultiplica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atoriedad: azar (ran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3841920" y="0"/>
            <a:ext cx="2939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"/>
          <p:cNvSpPr/>
          <p:nvPr/>
        </p:nvSpPr>
        <p:spPr>
          <a:xfrm>
            <a:off x="3841920" y="9418680"/>
            <a:ext cx="2939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4"/>
          <p:cNvSpPr/>
          <p:nvPr/>
        </p:nvSpPr>
        <p:spPr>
          <a:xfrm>
            <a:off x="0" y="9418680"/>
            <a:ext cx="2936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5"/>
          <p:cNvSpPr/>
          <p:nvPr/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6"/>
          <p:cNvSpPr/>
          <p:nvPr/>
        </p:nvSpPr>
        <p:spPr>
          <a:xfrm>
            <a:off x="3841920" y="0"/>
            <a:ext cx="2939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7"/>
          <p:cNvSpPr/>
          <p:nvPr/>
        </p:nvSpPr>
        <p:spPr>
          <a:xfrm>
            <a:off x="3841920" y="9418680"/>
            <a:ext cx="2939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0" y="9418680"/>
            <a:ext cx="2936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9"/>
          <p:cNvSpPr/>
          <p:nvPr/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971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: El índice de captación estándard (SUV) permite monitorear el resultado de la terap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 de CT (HU) : Denominados números o unidades de “Houndfield” en honor a ese eminente científ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itch: traducido por algunos autores como factor o relación de paso en el barrido, pero se emplea el término en inglés en la mayoría de los paí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tch with multslice scanners is somewhat counterintu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d sources  son usadas en PET simples sin equipo de 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H: Unidades de Hound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s “Des” magnéticas (algunos autores las denominas Ds) guían los iones en un recorrido cir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C72-1726-4A43-9454-AC483686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0A0-A8BD-4061-8523-3B7302A6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7D4-F8EA-4706-872A-FF389935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06C-6427-4F1C-9062-DE4B5D2A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D22-1FC3-4232-8723-84A41D88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278-8BC2-4063-8821-84BF766F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7CB-B808-447B-B510-66406B98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C2A-9957-4375-8C6D-0452091B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DC2-EC26-4EA3-8992-A157A849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9E0-6A50-48AE-BEF1-5F70F8FD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AF6-897F-4F01-A865-E6483812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A87-F3B9-475D-90C8-CCE34F62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0574-FEEE-4126-8401-ABCCE42C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4230-5D48-49D8-BBBD-19AFC698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18E5-DE20-4F74-AD9A-CAF15A96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64F2-0CA9-4D8E-9B44-0E57B9A5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0196-9D89-4C24-897F-0E2EAAFB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72B9-9104-4042-9DED-FF9A78B9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9A0E-7276-427D-8A01-4F02BAF2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2A59-0B66-41BB-966A-11DC4296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6331-B7B5-43C6-9FAA-D57DF7D3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AA17-A52B-4478-97D3-178FF4F3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5284-39A6-44B0-86E9-46BDF6EA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DA78-54D5-4BA2-94E7-274B52AE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90ED-303C-49EC-8499-B67B60E8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F85B-4832-47CE-B32E-2BAB6E8D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837D-26DA-491D-A36E-E112D874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53D2-051C-46E4-ABE1-ADB8613F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1A16-6F16-439D-A126-459F3C3D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10D3-90B7-4D5A-9D6E-8E831F43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B1BAB-1DB2-4675-816F-5D2CDC2C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E709-10E8-4E7D-A4FD-6338D836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2095-EFC7-4A9E-9D0D-2CDB1026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6783-AC05-4C2F-B966-F2B7C41D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A8F8-950E-4432-84A1-B8F21BE8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5AA1-4F03-41E0-BA40-7AF0CAC0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065840" y="652356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Title of Le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379720" y="6524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3DB7-C2C6-4B1F-9BEA-91762C517654}" type="slidenum"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39FE-5CBC-43CC-A322-C2E5C62FC4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492360" y="6523560"/>
            <a:ext cx="216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Parte 2. Tecnología PET/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8379720" y="6524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B1ED-F27C-4935-8822-385370BF8FED}" type="slidenum"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A24B-FB82-4FE9-A1D2-EF3EA2C897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74680" y="14842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742560" y="6523560"/>
            <a:ext cx="162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Parte 2. Tecnología PET/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8379720" y="6524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C52-6983-4B67-BE61-442B3E953C9B}" type="slidenum">
              <a:rPr b="0" lang="en-GB" sz="900" spc="-1" strike="noStrike">
                <a:solidFill>
                  <a:srgbClr val="00339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8A12-B3CB-42EE-987E-C92CAA42F8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  <a:ea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1158120" y="221760"/>
            <a:ext cx="67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Arial"/>
              </a:rPr>
              <a:t>OIEA Material de Capacitación en Protecci</a:t>
            </a: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ón Radiológica en PET/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116000" y="1511280"/>
            <a:ext cx="68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179280" y="1268280"/>
            <a:ext cx="88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  <a:ea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6"/>
          <p:cNvSpPr/>
          <p:nvPr/>
        </p:nvSpPr>
        <p:spPr>
          <a:xfrm>
            <a:off x="824400" y="221760"/>
            <a:ext cx="74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Arial"/>
              </a:rPr>
              <a:t>OIEA Material de Entrenamiento en Protecci</a:t>
            </a: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ón Radiológica en Radiotera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116000" y="1511280"/>
            <a:ext cx="68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179280" y="1268280"/>
            <a:ext cx="88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  <a:ea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6"/>
          <p:cNvSpPr/>
          <p:nvPr/>
        </p:nvSpPr>
        <p:spPr>
          <a:xfrm>
            <a:off x="824400" y="221760"/>
            <a:ext cx="74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Arial"/>
              </a:rPr>
              <a:t>OIEA Material de Entrenamiento en Protecci</a:t>
            </a:r>
            <a:r>
              <a:rPr b="1" lang="en-GB" sz="1600" spc="-1" strike="noStrike">
                <a:solidFill>
                  <a:srgbClr val="3366cc"/>
                </a:solidFill>
                <a:latin typeface="Arial"/>
                <a:ea typeface="Times New Roman"/>
              </a:rPr>
              <a:t>ón Radiológica en Radiotera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116000" y="1511280"/>
            <a:ext cx="68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79280" y="1268280"/>
            <a:ext cx="88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274680" y="14842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26648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3399"/>
                </a:solidFill>
                <a:latin typeface="Arial"/>
                <a:ea typeface="Arial"/>
              </a:rPr>
              <a:t>PROTECCIÓN RADIOLÓGICA EN PET/C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0" y="306864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3399"/>
                </a:solidFill>
                <a:latin typeface="Arial"/>
              </a:rPr>
              <a:t>Parte 2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3399"/>
                </a:solidFill>
                <a:latin typeface="Arial"/>
              </a:rPr>
              <a:t>Tecnología PET/C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roducción del </a:t>
            </a:r>
            <a:r>
              <a:rPr b="1" lang="en-GB" sz="36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F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79280" y="1376280"/>
            <a:ext cx="7737480" cy="213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El protón es acelerado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Impacta el blanco de </a:t>
            </a:r>
            <a:r>
              <a:rPr b="0" lang="en-GB" sz="32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Colisiona con el núcleo de </a:t>
            </a:r>
            <a:r>
              <a:rPr b="0" lang="en-GB" sz="32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Se genera </a:t>
            </a:r>
            <a:r>
              <a:rPr b="0" lang="en-GB" sz="32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F y se emite un neutrón (n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744480" y="4257720"/>
                <a:ext cx="76438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F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roducción del C-11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647360" y="1628640"/>
            <a:ext cx="6380280" cy="24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l protón es acelerad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Impacta sobre el blanco de 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"/>
              </a:rPr>
              <a:t>14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Colisiona con el núcleo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"/>
              </a:rPr>
              <a:t>14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e produce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"/>
              </a:rPr>
              <a:t>11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y se emite una partícula alfa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α</a:t>
            </a: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826920" y="4257720"/>
                <a:ext cx="76438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roducción de la FD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39160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 final del bombardeo del blanco con el haz de iones se obtiene solamente el radionúclido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, 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o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a 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 fluorodesoxiglucosa (FDG))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l bombardeo tendría una duración típica de 2 horas (es decir un período de semidesintegración del 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)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l 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 es enviado entonces al módulo químico (módulo de síntesis) donde al reaccionar con otros reactivos produce la fluorodesoxiglucos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FDG)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n el módulo de síntesis se realiza una serie de pasos como calentamiento, enfriamiento, filtrado, purificación, etc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a síntesis de FDG añade típicamente una hora al proceso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iba2_0093Synth_out"/>
          <p:cNvPicPr/>
          <p:nvPr/>
        </p:nvPicPr>
        <p:blipFill>
          <a:blip r:embed="rId1"/>
          <a:stretch/>
        </p:blipFill>
        <p:spPr>
          <a:xfrm>
            <a:off x="4788000" y="1268280"/>
            <a:ext cx="1473120" cy="208764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3"/>
          <p:cNvSpPr/>
          <p:nvPr/>
        </p:nvSpPr>
        <p:spPr>
          <a:xfrm rot="5400000">
            <a:off x="6119280" y="2241360"/>
            <a:ext cx="792000" cy="576360"/>
          </a:xfrm>
          <a:custGeom>
            <a:avLst/>
            <a:gdLst>
              <a:gd name="textAreaLeft" fmla="*/ 455760 w 792000"/>
              <a:gd name="textAreaRight" fmla="*/ 668520 w 792000"/>
              <a:gd name="textAreaTop" fmla="*/ 77400 h 576360"/>
              <a:gd name="textAreaBottom" fmla="*/ 246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hotcell_"/>
          <p:cNvPicPr/>
          <p:nvPr/>
        </p:nvPicPr>
        <p:blipFill>
          <a:blip r:embed="rId2"/>
          <a:stretch/>
        </p:blipFill>
        <p:spPr>
          <a:xfrm>
            <a:off x="539640" y="1125360"/>
            <a:ext cx="3564000" cy="2327400"/>
          </a:xfrm>
          <a:prstGeom prst="rect">
            <a:avLst/>
          </a:prstGeom>
          <a:ln w="0">
            <a:noFill/>
          </a:ln>
        </p:spPr>
      </p:pic>
      <p:grpSp>
        <p:nvGrpSpPr>
          <p:cNvPr id="438" name="Group 5"/>
          <p:cNvGrpSpPr/>
          <p:nvPr/>
        </p:nvGrpSpPr>
        <p:grpSpPr>
          <a:xfrm>
            <a:off x="2556000" y="2781360"/>
            <a:ext cx="1871640" cy="360360"/>
            <a:chOff x="2556000" y="2781360"/>
            <a:chExt cx="1871640" cy="360360"/>
          </a:xfrm>
        </p:grpSpPr>
        <p:sp>
          <p:nvSpPr>
            <p:cNvPr id="439" name="Oval 6"/>
            <p:cNvSpPr/>
            <p:nvPr/>
          </p:nvSpPr>
          <p:spPr>
            <a:xfrm>
              <a:off x="2556000" y="2781360"/>
              <a:ext cx="358560" cy="360360"/>
            </a:xfrm>
            <a:prstGeom prst="ellipse">
              <a:avLst/>
            </a:prstGeom>
            <a:solidFill>
              <a:srgbClr val="3fa237"/>
            </a:solidFill>
            <a:ln w="9360">
              <a:solidFill>
                <a:srgbClr val="3fa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f9f0df"/>
                  </a:solidFill>
                  <a:latin typeface="Univers LT Std 45 Light"/>
                  <a:ea typeface="MS P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7"/>
            <p:cNvSpPr/>
            <p:nvPr/>
          </p:nvSpPr>
          <p:spPr>
            <a:xfrm>
              <a:off x="3276720" y="2781360"/>
              <a:ext cx="358560" cy="360360"/>
            </a:xfrm>
            <a:prstGeom prst="ellipse">
              <a:avLst/>
            </a:prstGeom>
            <a:solidFill>
              <a:srgbClr val="3fa237"/>
            </a:solidFill>
            <a:ln w="9360">
              <a:solidFill>
                <a:srgbClr val="3fa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f9f0df"/>
                  </a:solidFill>
                  <a:latin typeface="Univers LT Std 45 Light"/>
                  <a:ea typeface="MS P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4068720" y="2781360"/>
              <a:ext cx="358920" cy="360360"/>
            </a:xfrm>
            <a:prstGeom prst="ellipse">
              <a:avLst/>
            </a:prstGeom>
            <a:solidFill>
              <a:srgbClr val="3fa237"/>
            </a:solidFill>
            <a:ln w="9360">
              <a:solidFill>
                <a:srgbClr val="3fa2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f9f0df"/>
                  </a:solidFill>
                  <a:latin typeface="Univers LT Std 45 Light"/>
                  <a:ea typeface="MS P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9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Univers LT Std 45 Light"/>
              </a:rPr>
              <a:t>Sistema de </a:t>
            </a:r>
            <a:r>
              <a:rPr b="1" lang="en-GB" sz="2000" spc="-1" strike="noStrike">
                <a:solidFill>
                  <a:srgbClr val="003399"/>
                </a:solidFill>
                <a:latin typeface="Univers LT Std 45 Light"/>
              </a:rPr>
              <a:t>síntesis del</a:t>
            </a:r>
            <a:r>
              <a:rPr b="1" lang="fr-BE" sz="2000" spc="-1" strike="noStrike" baseline="30000">
                <a:solidFill>
                  <a:srgbClr val="003399"/>
                </a:solidFill>
                <a:latin typeface="Univers LT Std 45 Light"/>
              </a:rPr>
              <a:t>  18</a:t>
            </a:r>
            <a:r>
              <a:rPr b="1" lang="fr-BE" sz="2000" spc="-1" strike="noStrike">
                <a:solidFill>
                  <a:srgbClr val="003399"/>
                </a:solidFill>
                <a:latin typeface="Univers LT Std 45 Light"/>
              </a:rPr>
              <a:t>F FD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0"/>
          <p:cNvGrpSpPr/>
          <p:nvPr/>
        </p:nvGrpSpPr>
        <p:grpSpPr>
          <a:xfrm>
            <a:off x="6443640" y="2997360"/>
            <a:ext cx="2521080" cy="3024000"/>
            <a:chOff x="6443640" y="2997360"/>
            <a:chExt cx="2521080" cy="3024000"/>
          </a:xfrm>
        </p:grpSpPr>
        <p:pic>
          <p:nvPicPr>
            <p:cNvPr id="444" name="Picture 11" descr="iba2_0093Synth_out"/>
            <p:cNvPicPr/>
            <p:nvPr/>
          </p:nvPicPr>
          <p:blipFill>
            <a:blip r:embed="rId3"/>
            <a:stretch/>
          </p:blipFill>
          <p:spPr>
            <a:xfrm>
              <a:off x="6443640" y="2997360"/>
              <a:ext cx="164772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AutoShape 12"/>
            <p:cNvSpPr/>
            <p:nvPr/>
          </p:nvSpPr>
          <p:spPr>
            <a:xfrm rot="5400000">
              <a:off x="7814160" y="4402440"/>
              <a:ext cx="604440" cy="339480"/>
            </a:xfrm>
            <a:custGeom>
              <a:avLst/>
              <a:gdLst>
                <a:gd name="textAreaLeft" fmla="*/ 347760 w 604440"/>
                <a:gd name="textAreaRight" fmla="*/ 510120 w 604440"/>
                <a:gd name="textAreaTop" fmla="*/ 45720 h 339480"/>
                <a:gd name="textAreaBottom" fmla="*/ 145080 h 3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Picture 13" descr=""/>
            <p:cNvPicPr/>
            <p:nvPr/>
          </p:nvPicPr>
          <p:blipFill>
            <a:blip r:embed="rId4"/>
            <a:stretch/>
          </p:blipFill>
          <p:spPr>
            <a:xfrm>
              <a:off x="7335720" y="3216600"/>
              <a:ext cx="1629000" cy="45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"/>
          <p:cNvSpPr/>
          <p:nvPr/>
        </p:nvSpPr>
        <p:spPr>
          <a:xfrm>
            <a:off x="250920" y="189000"/>
            <a:ext cx="86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Módulo de síntesis de FD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"/>
          <p:cNvPicPr/>
          <p:nvPr/>
        </p:nvPicPr>
        <p:blipFill>
          <a:blip r:embed="rId1"/>
          <a:stretch/>
        </p:blipFill>
        <p:spPr>
          <a:xfrm>
            <a:off x="1817640" y="1247760"/>
            <a:ext cx="5562720" cy="46292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23336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Parte 2: Tecnología PET/C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0" y="2923920"/>
            <a:ext cx="9144000" cy="219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ulo 2.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Equipos PE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etección de coincidencia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2" name="Picture 5" descr="npo00002c"/>
          <p:cNvPicPr/>
          <p:nvPr/>
        </p:nvPicPr>
        <p:blipFill>
          <a:blip r:embed="rId1"/>
          <a:srcRect l="1181" t="1575" r="787" b="1575"/>
          <a:stretch/>
        </p:blipFill>
        <p:spPr>
          <a:xfrm>
            <a:off x="2232000" y="2033640"/>
            <a:ext cx="4417920" cy="279072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"/>
          <p:cNvSpPr/>
          <p:nvPr/>
        </p:nvSpPr>
        <p:spPr>
          <a:xfrm>
            <a:off x="2743200" y="4952880"/>
            <a:ext cx="533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6553080" y="213372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9 CuadroTexto"/>
          <p:cNvSpPr/>
          <p:nvPr/>
        </p:nvSpPr>
        <p:spPr>
          <a:xfrm>
            <a:off x="2233440" y="2013120"/>
            <a:ext cx="2951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misor de positr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10 CuadroTexto"/>
          <p:cNvSpPr/>
          <p:nvPr/>
        </p:nvSpPr>
        <p:spPr>
          <a:xfrm>
            <a:off x="4788000" y="4257720"/>
            <a:ext cx="104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lectr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11 CuadroTexto"/>
          <p:cNvSpPr/>
          <p:nvPr/>
        </p:nvSpPr>
        <p:spPr>
          <a:xfrm>
            <a:off x="6912000" y="16858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et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12 CuadroTexto"/>
          <p:cNvSpPr/>
          <p:nvPr/>
        </p:nvSpPr>
        <p:spPr>
          <a:xfrm>
            <a:off x="2664000" y="53006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et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13 CuadroTexto"/>
          <p:cNvSpPr/>
          <p:nvPr/>
        </p:nvSpPr>
        <p:spPr>
          <a:xfrm>
            <a:off x="5076720" y="2168640"/>
            <a:ext cx="1357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511 keV Fot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14 CuadroTexto"/>
          <p:cNvSpPr/>
          <p:nvPr/>
        </p:nvSpPr>
        <p:spPr>
          <a:xfrm>
            <a:off x="2303640" y="4179960"/>
            <a:ext cx="1296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Fotón de 511 k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15 CuadroTexto"/>
          <p:cNvSpPr/>
          <p:nvPr/>
        </p:nvSpPr>
        <p:spPr>
          <a:xfrm>
            <a:off x="4427640" y="2960640"/>
            <a:ext cx="104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Positr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Arial"/>
              </a:rPr>
              <a:t>La reacción es la siguient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3960" y="2671560"/>
            <a:ext cx="771840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Y la energía asociada a la masa de los positrones 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 = mc²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= 9.11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×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-31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kg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(3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8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m/se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=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8.2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-14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J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= 8.2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-14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J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(1.6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×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-19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J/eV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= 511 keV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4"/>
              <p:cNvSpPr txBox="1"/>
              <p:nvPr/>
            </p:nvSpPr>
            <p:spPr>
              <a:xfrm>
                <a:off x="453960" y="1182600"/>
                <a:ext cx="64944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F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Detección de las emision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87520" y="1267920"/>
            <a:ext cx="822960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os radionucleidos PET son emisores de positron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La PET puede detectar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artículas beta (</a:t>
            </a:r>
            <a:r>
              <a:rPr b="0" lang="el-GR" sz="2400" spc="-1" strike="noStrike">
                <a:solidFill>
                  <a:srgbClr val="003399"/>
                </a:solidFill>
                <a:latin typeface="Arial"/>
              </a:rPr>
              <a:t>β</a:t>
            </a: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), 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Radiación de frenado (Brehmsstrahlung) , 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Rayos gamma de aniquilació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a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radiación de frenado no es significativ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a detección más importante es la de los fotones gamma de 511keV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a mayoría de los sistemas detectan rayos gamma de 511 keV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nfiguracion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419720" y="1371600"/>
            <a:ext cx="46051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nillo completo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nillo parcial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n continua rotació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Detectores formando un panel plano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Número reducido de tubos fotomultiplicadores (TFM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Cámara gamma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d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2 cabezas que rotan 180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°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 (prácticamente en desuso en la actualidad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1"/>
          <a:srcRect l="27908" t="31944" r="36694" b="22690"/>
          <a:stretch/>
        </p:blipFill>
        <p:spPr>
          <a:xfrm>
            <a:off x="355680" y="1674720"/>
            <a:ext cx="3963960" cy="38102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Responder: Verdadero o fals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n los ciclotrones se aceleran protones para que impacten en un blanco de 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O, produciendo un neutrón y un emisor de positrones, el 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F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l funcionamiento de los equipos de PET se basa en detectar rayos gamma originados en  la aniquilación de positrones. Estos proceden del emisor de positrones producido en el ciclotron, y distribuido en el interior del paciente. Tras la reacción de aniquilación los dos fotones gamma se transmiten a través del paciente en sentido opuesto uno al otro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Los tomógrafos computarizados (CT) funcionan   detectando la cantidad de rayos X, generados por un tubo externo de rayos X, trasmitidos a través del cuerpo del paciente, bajo diferentes ángul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entelleador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360360" y="5084640"/>
            <a:ext cx="8675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0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El Na(Tl)I trabaja bien a 140 keV pero la eficiencia de detección a  511 keV es ba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0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BGO, LSO y GSO son los centelleadores comúnmente usados en los equipos P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755640" y="1504800"/>
          <a:ext cx="7920000" cy="3448080"/>
        </p:xfrm>
        <a:graphic>
          <a:graphicData uri="http://schemas.openxmlformats.org/drawingml/2006/table">
            <a:tbl>
              <a:tblPr/>
              <a:tblGrid>
                <a:gridCol w="1187640"/>
                <a:gridCol w="1187280"/>
                <a:gridCol w="684360"/>
                <a:gridCol w="1368360"/>
                <a:gridCol w="1655640"/>
                <a:gridCol w="1836720"/>
              </a:tblGrid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ensidad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(g/c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Tiempo de decaimiento (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uminiscencia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(% 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tud de aten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(m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a (Tl)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G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Rectangle 49"/>
          <p:cNvSpPr/>
          <p:nvPr/>
        </p:nvSpPr>
        <p:spPr>
          <a:xfrm>
            <a:off x="3276720" y="5913360"/>
            <a:ext cx="522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99"/>
                </a:solidFill>
                <a:latin typeface="Arial"/>
              </a:rPr>
              <a:t>N d T: Longitud de atenuación en un material es la distancia a la cual la probabilidad de que una partícula siga libre de interacciones se reduce a un 37%, o en otras palabras, la distancia a la cual un haz de partículas reduce su intensidad a un 37% (1/e x 1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1960" y="1159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etectores utilizados en PE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75" name="Group 85"/>
          <p:cNvGrpSpPr/>
          <p:nvPr/>
        </p:nvGrpSpPr>
        <p:grpSpPr>
          <a:xfrm>
            <a:off x="3818520" y="1700280"/>
            <a:ext cx="4689000" cy="2862360"/>
            <a:chOff x="3818520" y="1700280"/>
            <a:chExt cx="4689000" cy="2862360"/>
          </a:xfrm>
        </p:grpSpPr>
        <p:grpSp>
          <p:nvGrpSpPr>
            <p:cNvPr id="476" name="Group 7"/>
            <p:cNvGrpSpPr/>
            <p:nvPr/>
          </p:nvGrpSpPr>
          <p:grpSpPr>
            <a:xfrm>
              <a:off x="3818520" y="2082960"/>
              <a:ext cx="2442600" cy="2427840"/>
              <a:chOff x="3818520" y="2082960"/>
              <a:chExt cx="2442600" cy="2427840"/>
            </a:xfrm>
          </p:grpSpPr>
          <p:sp>
            <p:nvSpPr>
              <p:cNvPr id="477" name="Freeform 8"/>
              <p:cNvSpPr/>
              <p:nvPr/>
            </p:nvSpPr>
            <p:spPr>
              <a:xfrm>
                <a:off x="5095440" y="2581200"/>
                <a:ext cx="657000" cy="1320840"/>
              </a:xfrm>
              <a:custGeom>
                <a:avLst/>
                <a:gdLst>
                  <a:gd name="textAreaLeft" fmla="*/ 0 w 657000"/>
                  <a:gd name="textAreaRight" fmla="*/ 657360 w 657000"/>
                  <a:gd name="textAreaTop" fmla="*/ 0 h 1320840"/>
                  <a:gd name="textAreaBottom" fmla="*/ 1321200 h 1320840"/>
                </a:gdLst>
                <a:ahLst/>
                <a:rect l="textAreaLeft" t="textAreaTop" r="textAreaRight" b="textAreaBottom"/>
                <a:pathLst>
                  <a:path w="669" h="1305">
                    <a:moveTo>
                      <a:pt x="669" y="0"/>
                    </a:moveTo>
                    <a:lnTo>
                      <a:pt x="366" y="180"/>
                    </a:lnTo>
                    <a:lnTo>
                      <a:pt x="0" y="394"/>
                    </a:lnTo>
                    <a:lnTo>
                      <a:pt x="0" y="1305"/>
                    </a:lnTo>
                    <a:lnTo>
                      <a:pt x="63" y="1262"/>
                    </a:lnTo>
                    <a:lnTo>
                      <a:pt x="103" y="1231"/>
                    </a:lnTo>
                    <a:lnTo>
                      <a:pt x="123" y="1217"/>
                    </a:lnTo>
                    <a:lnTo>
                      <a:pt x="183" y="1171"/>
                    </a:lnTo>
                    <a:lnTo>
                      <a:pt x="203" y="1157"/>
                    </a:lnTo>
                    <a:lnTo>
                      <a:pt x="263" y="1111"/>
                    </a:lnTo>
                    <a:lnTo>
                      <a:pt x="286" y="1097"/>
                    </a:lnTo>
                    <a:lnTo>
                      <a:pt x="346" y="1051"/>
                    </a:lnTo>
                    <a:lnTo>
                      <a:pt x="366" y="1039"/>
                    </a:lnTo>
                    <a:lnTo>
                      <a:pt x="406" y="1008"/>
                    </a:lnTo>
                    <a:lnTo>
                      <a:pt x="426" y="994"/>
                    </a:lnTo>
                    <a:lnTo>
                      <a:pt x="489" y="948"/>
                    </a:lnTo>
                    <a:lnTo>
                      <a:pt x="509" y="934"/>
                    </a:lnTo>
                    <a:lnTo>
                      <a:pt x="569" y="885"/>
                    </a:lnTo>
                    <a:lnTo>
                      <a:pt x="589" y="871"/>
                    </a:lnTo>
                    <a:lnTo>
                      <a:pt x="649" y="825"/>
                    </a:lnTo>
                    <a:lnTo>
                      <a:pt x="669" y="811"/>
                    </a:lnTo>
                    <a:lnTo>
                      <a:pt x="6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9"/>
              <p:cNvSpPr/>
              <p:nvPr/>
            </p:nvSpPr>
            <p:spPr>
              <a:xfrm>
                <a:off x="5449320" y="2568960"/>
                <a:ext cx="308880" cy="205920"/>
              </a:xfrm>
              <a:custGeom>
                <a:avLst/>
                <a:gdLst>
                  <a:gd name="textAreaLeft" fmla="*/ 0 w 308880"/>
                  <a:gd name="textAreaRight" fmla="*/ 309240 w 30888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317" h="203">
                    <a:moveTo>
                      <a:pt x="12" y="203"/>
                    </a:moveTo>
                    <a:lnTo>
                      <a:pt x="14" y="203"/>
                    </a:lnTo>
                    <a:lnTo>
                      <a:pt x="317" y="23"/>
                    </a:lnTo>
                    <a:lnTo>
                      <a:pt x="303" y="0"/>
                    </a:lnTo>
                    <a:lnTo>
                      <a:pt x="0" y="180"/>
                    </a:lnTo>
                    <a:lnTo>
                      <a:pt x="12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0"/>
              <p:cNvSpPr/>
              <p:nvPr/>
            </p:nvSpPr>
            <p:spPr>
              <a:xfrm>
                <a:off x="5082120" y="2751480"/>
                <a:ext cx="377280" cy="23940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383" h="237">
                    <a:moveTo>
                      <a:pt x="26" y="226"/>
                    </a:moveTo>
                    <a:lnTo>
                      <a:pt x="20" y="237"/>
                    </a:lnTo>
                    <a:lnTo>
                      <a:pt x="383" y="23"/>
                    </a:lnTo>
                    <a:lnTo>
                      <a:pt x="371" y="0"/>
                    </a:lnTo>
                    <a:lnTo>
                      <a:pt x="6" y="214"/>
                    </a:lnTo>
                    <a:lnTo>
                      <a:pt x="0" y="226"/>
                    </a:lnTo>
                    <a:lnTo>
                      <a:pt x="6" y="214"/>
                    </a:lnTo>
                    <a:lnTo>
                      <a:pt x="0" y="217"/>
                    </a:lnTo>
                    <a:lnTo>
                      <a:pt x="0" y="226"/>
                    </a:lnTo>
                    <a:lnTo>
                      <a:pt x="26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082120" y="2980080"/>
                <a:ext cx="26280" cy="94788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6" h="937">
                    <a:moveTo>
                      <a:pt x="6" y="900"/>
                    </a:moveTo>
                    <a:lnTo>
                      <a:pt x="26" y="911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911"/>
                    </a:lnTo>
                    <a:lnTo>
                      <a:pt x="20" y="923"/>
                    </a:lnTo>
                    <a:lnTo>
                      <a:pt x="0" y="911"/>
                    </a:lnTo>
                    <a:lnTo>
                      <a:pt x="0" y="937"/>
                    </a:lnTo>
                    <a:lnTo>
                      <a:pt x="20" y="923"/>
                    </a:lnTo>
                    <a:lnTo>
                      <a:pt x="6" y="9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2"/>
              <p:cNvSpPr/>
              <p:nvPr/>
            </p:nvSpPr>
            <p:spPr>
              <a:xfrm>
                <a:off x="5089320" y="3848400"/>
                <a:ext cx="71280" cy="662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60" y="0"/>
                    </a:moveTo>
                    <a:lnTo>
                      <a:pt x="0" y="43"/>
                    </a:lnTo>
                    <a:lnTo>
                      <a:pt x="14" y="66"/>
                    </a:lnTo>
                    <a:lnTo>
                      <a:pt x="74" y="2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"/>
              <p:cNvSpPr/>
              <p:nvPr/>
            </p:nvSpPr>
            <p:spPr>
              <a:xfrm>
                <a:off x="5149080" y="3814920"/>
                <a:ext cx="55440" cy="522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57" h="52">
                    <a:moveTo>
                      <a:pt x="40" y="0"/>
                    </a:moveTo>
                    <a:lnTo>
                      <a:pt x="0" y="32"/>
                    </a:lnTo>
                    <a:lnTo>
                      <a:pt x="14" y="52"/>
                    </a:lnTo>
                    <a:lnTo>
                      <a:pt x="57" y="23"/>
                    </a:lnTo>
                    <a:lnTo>
                      <a:pt x="54" y="2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4"/>
              <p:cNvSpPr/>
              <p:nvPr/>
            </p:nvSpPr>
            <p:spPr>
              <a:xfrm>
                <a:off x="5187240" y="3801240"/>
                <a:ext cx="36000" cy="370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20" y="0"/>
                    </a:moveTo>
                    <a:lnTo>
                      <a:pt x="0" y="14"/>
                    </a:lnTo>
                    <a:lnTo>
                      <a:pt x="14" y="37"/>
                    </a:lnTo>
                    <a:lnTo>
                      <a:pt x="37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5"/>
              <p:cNvSpPr/>
              <p:nvPr/>
            </p:nvSpPr>
            <p:spPr>
              <a:xfrm>
                <a:off x="5209200" y="3755160"/>
                <a:ext cx="75600" cy="691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7" h="69">
                    <a:moveTo>
                      <a:pt x="62" y="0"/>
                    </a:moveTo>
                    <a:lnTo>
                      <a:pt x="60" y="3"/>
                    </a:lnTo>
                    <a:lnTo>
                      <a:pt x="0" y="46"/>
                    </a:lnTo>
                    <a:lnTo>
                      <a:pt x="17" y="69"/>
                    </a:lnTo>
                    <a:lnTo>
                      <a:pt x="77" y="2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6"/>
              <p:cNvSpPr/>
              <p:nvPr/>
            </p:nvSpPr>
            <p:spPr>
              <a:xfrm>
                <a:off x="5268960" y="3742920"/>
                <a:ext cx="33120" cy="342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5" h="34">
                    <a:moveTo>
                      <a:pt x="18" y="0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15" y="34"/>
                    </a:lnTo>
                    <a:lnTo>
                      <a:pt x="35" y="2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7"/>
              <p:cNvSpPr/>
              <p:nvPr/>
            </p:nvSpPr>
            <p:spPr>
              <a:xfrm>
                <a:off x="5287680" y="3697200"/>
                <a:ext cx="74160" cy="6624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7" h="66">
                    <a:moveTo>
                      <a:pt x="62" y="0"/>
                    </a:moveTo>
                    <a:lnTo>
                      <a:pt x="0" y="46"/>
                    </a:lnTo>
                    <a:lnTo>
                      <a:pt x="17" y="66"/>
                    </a:lnTo>
                    <a:lnTo>
                      <a:pt x="77" y="2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8"/>
              <p:cNvSpPr/>
              <p:nvPr/>
            </p:nvSpPr>
            <p:spPr>
              <a:xfrm>
                <a:off x="5348880" y="3683520"/>
                <a:ext cx="33480" cy="33120"/>
              </a:xfrm>
              <a:custGeom>
                <a:avLst/>
                <a:gdLst>
                  <a:gd name="textAreaLeft" fmla="*/ 0 w 33480"/>
                  <a:gd name="textAreaRight" fmla="*/ 33480 w 334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5" h="34">
                    <a:moveTo>
                      <a:pt x="20" y="0"/>
                    </a:moveTo>
                    <a:lnTo>
                      <a:pt x="0" y="14"/>
                    </a:lnTo>
                    <a:lnTo>
                      <a:pt x="15" y="34"/>
                    </a:lnTo>
                    <a:lnTo>
                      <a:pt x="35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9"/>
              <p:cNvSpPr/>
              <p:nvPr/>
            </p:nvSpPr>
            <p:spPr>
              <a:xfrm>
                <a:off x="5365080" y="3636360"/>
                <a:ext cx="76680" cy="662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7" h="66">
                    <a:moveTo>
                      <a:pt x="60" y="0"/>
                    </a:moveTo>
                    <a:lnTo>
                      <a:pt x="0" y="46"/>
                    </a:lnTo>
                    <a:lnTo>
                      <a:pt x="15" y="66"/>
                    </a:lnTo>
                    <a:lnTo>
                      <a:pt x="77" y="2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0"/>
              <p:cNvSpPr/>
              <p:nvPr/>
            </p:nvSpPr>
            <p:spPr>
              <a:xfrm>
                <a:off x="5426280" y="3622320"/>
                <a:ext cx="37440" cy="34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20" y="0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17" y="34"/>
                    </a:lnTo>
                    <a:lnTo>
                      <a:pt x="37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1"/>
              <p:cNvSpPr/>
              <p:nvPr/>
            </p:nvSpPr>
            <p:spPr>
              <a:xfrm>
                <a:off x="5443560" y="3590640"/>
                <a:ext cx="57960" cy="51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57" h="51">
                    <a:moveTo>
                      <a:pt x="43" y="0"/>
                    </a:moveTo>
                    <a:lnTo>
                      <a:pt x="0" y="31"/>
                    </a:lnTo>
                    <a:lnTo>
                      <a:pt x="17" y="51"/>
                    </a:lnTo>
                    <a:lnTo>
                      <a:pt x="57" y="20"/>
                    </a:lnTo>
                    <a:lnTo>
                      <a:pt x="57" y="2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2"/>
              <p:cNvSpPr/>
              <p:nvPr/>
            </p:nvSpPr>
            <p:spPr>
              <a:xfrm>
                <a:off x="5490360" y="3575520"/>
                <a:ext cx="32040" cy="370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20" y="0"/>
                    </a:moveTo>
                    <a:lnTo>
                      <a:pt x="0" y="15"/>
                    </a:lnTo>
                    <a:lnTo>
                      <a:pt x="14" y="37"/>
                    </a:lnTo>
                    <a:lnTo>
                      <a:pt x="34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"/>
              <p:cNvSpPr/>
              <p:nvPr/>
            </p:nvSpPr>
            <p:spPr>
              <a:xfrm>
                <a:off x="5506200" y="3529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4" h="68">
                    <a:moveTo>
                      <a:pt x="60" y="0"/>
                    </a:moveTo>
                    <a:lnTo>
                      <a:pt x="0" y="45"/>
                    </a:lnTo>
                    <a:lnTo>
                      <a:pt x="14" y="68"/>
                    </a:lnTo>
                    <a:lnTo>
                      <a:pt x="74" y="2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4"/>
              <p:cNvSpPr/>
              <p:nvPr/>
            </p:nvSpPr>
            <p:spPr>
              <a:xfrm>
                <a:off x="5565960" y="3514320"/>
                <a:ext cx="37800" cy="360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7" h="35">
                    <a:moveTo>
                      <a:pt x="20" y="0"/>
                    </a:moveTo>
                    <a:lnTo>
                      <a:pt x="0" y="15"/>
                    </a:lnTo>
                    <a:lnTo>
                      <a:pt x="14" y="35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5"/>
              <p:cNvSpPr/>
              <p:nvPr/>
            </p:nvSpPr>
            <p:spPr>
              <a:xfrm>
                <a:off x="5585040" y="3468600"/>
                <a:ext cx="76680" cy="662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7" h="65">
                    <a:moveTo>
                      <a:pt x="60" y="0"/>
                    </a:moveTo>
                    <a:lnTo>
                      <a:pt x="0" y="45"/>
                    </a:lnTo>
                    <a:lnTo>
                      <a:pt x="17" y="65"/>
                    </a:lnTo>
                    <a:lnTo>
                      <a:pt x="77" y="2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6"/>
              <p:cNvSpPr/>
              <p:nvPr/>
            </p:nvSpPr>
            <p:spPr>
              <a:xfrm>
                <a:off x="5644440" y="3453480"/>
                <a:ext cx="36360" cy="36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7" h="35">
                    <a:moveTo>
                      <a:pt x="20" y="0"/>
                    </a:moveTo>
                    <a:lnTo>
                      <a:pt x="0" y="15"/>
                    </a:lnTo>
                    <a:lnTo>
                      <a:pt x="17" y="35"/>
                    </a:lnTo>
                    <a:lnTo>
                      <a:pt x="37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7"/>
              <p:cNvSpPr/>
              <p:nvPr/>
            </p:nvSpPr>
            <p:spPr>
              <a:xfrm>
                <a:off x="5664960" y="3405240"/>
                <a:ext cx="74160" cy="687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77" h="68">
                    <a:moveTo>
                      <a:pt x="63" y="0"/>
                    </a:moveTo>
                    <a:lnTo>
                      <a:pt x="0" y="48"/>
                    </a:lnTo>
                    <a:lnTo>
                      <a:pt x="17" y="68"/>
                    </a:lnTo>
                    <a:lnTo>
                      <a:pt x="77" y="2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8"/>
              <p:cNvSpPr/>
              <p:nvPr/>
            </p:nvSpPr>
            <p:spPr>
              <a:xfrm>
                <a:off x="5727600" y="3389760"/>
                <a:ext cx="37440" cy="388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40" h="38">
                    <a:moveTo>
                      <a:pt x="14" y="12"/>
                    </a:moveTo>
                    <a:lnTo>
                      <a:pt x="20" y="0"/>
                    </a:lnTo>
                    <a:lnTo>
                      <a:pt x="0" y="15"/>
                    </a:lnTo>
                    <a:lnTo>
                      <a:pt x="14" y="38"/>
                    </a:lnTo>
                    <a:lnTo>
                      <a:pt x="34" y="23"/>
                    </a:lnTo>
                    <a:lnTo>
                      <a:pt x="40" y="12"/>
                    </a:lnTo>
                    <a:lnTo>
                      <a:pt x="34" y="23"/>
                    </a:lnTo>
                    <a:lnTo>
                      <a:pt x="40" y="20"/>
                    </a:lnTo>
                    <a:lnTo>
                      <a:pt x="40" y="12"/>
                    </a:lnTo>
                    <a:lnTo>
                      <a:pt x="1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"/>
              <p:cNvSpPr/>
              <p:nvPr/>
            </p:nvSpPr>
            <p:spPr>
              <a:xfrm>
                <a:off x="5739480" y="2554920"/>
                <a:ext cx="25920" cy="8470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847080"/>
                  <a:gd name="textAreaBottom" fmla="*/ 847440 h 847080"/>
                </a:gdLst>
                <a:ahLst/>
                <a:rect l="textAreaLeft" t="textAreaTop" r="textAreaRight" b="textAreaBottom"/>
                <a:pathLst>
                  <a:path w="26" h="837">
                    <a:moveTo>
                      <a:pt x="20" y="37"/>
                    </a:moveTo>
                    <a:lnTo>
                      <a:pt x="0" y="26"/>
                    </a:lnTo>
                    <a:lnTo>
                      <a:pt x="0" y="837"/>
                    </a:lnTo>
                    <a:lnTo>
                      <a:pt x="26" y="837"/>
                    </a:lnTo>
                    <a:lnTo>
                      <a:pt x="26" y="26"/>
                    </a:lnTo>
                    <a:lnTo>
                      <a:pt x="6" y="14"/>
                    </a:lnTo>
                    <a:lnTo>
                      <a:pt x="26" y="26"/>
                    </a:lnTo>
                    <a:lnTo>
                      <a:pt x="26" y="0"/>
                    </a:lnTo>
                    <a:lnTo>
                      <a:pt x="6" y="14"/>
                    </a:lnTo>
                    <a:lnTo>
                      <a:pt x="2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"/>
              <p:cNvSpPr/>
              <p:nvPr/>
            </p:nvSpPr>
            <p:spPr>
              <a:xfrm>
                <a:off x="5082120" y="2977200"/>
                <a:ext cx="407880" cy="129600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1296000"/>
                  <a:gd name="textAreaBottom" fmla="*/ 1296360 h 1296000"/>
                </a:gdLst>
                <a:ahLst/>
                <a:rect l="textAreaLeft" t="textAreaTop" r="textAreaRight" b="textAreaBottom"/>
                <a:pathLst>
                  <a:path w="411" h="1280">
                    <a:moveTo>
                      <a:pt x="0" y="0"/>
                    </a:moveTo>
                    <a:lnTo>
                      <a:pt x="411" y="214"/>
                    </a:lnTo>
                    <a:lnTo>
                      <a:pt x="411" y="1280"/>
                    </a:lnTo>
                    <a:lnTo>
                      <a:pt x="0" y="9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1"/>
              <p:cNvSpPr/>
              <p:nvPr/>
            </p:nvSpPr>
            <p:spPr>
              <a:xfrm>
                <a:off x="5082120" y="2977200"/>
                <a:ext cx="407880" cy="129600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1296000"/>
                  <a:gd name="textAreaBottom" fmla="*/ 1296360 h 1296000"/>
                </a:gdLst>
                <a:ahLst/>
                <a:rect l="textAreaLeft" t="textAreaTop" r="textAreaRight" b="textAreaBottom"/>
                <a:pathLst>
                  <a:path w="411" h="1280">
                    <a:moveTo>
                      <a:pt x="0" y="0"/>
                    </a:moveTo>
                    <a:lnTo>
                      <a:pt x="411" y="214"/>
                    </a:lnTo>
                    <a:lnTo>
                      <a:pt x="411" y="1280"/>
                    </a:lnTo>
                    <a:lnTo>
                      <a:pt x="0" y="923"/>
                    </a:lnTo>
                    <a:lnTo>
                      <a:pt x="0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2"/>
              <p:cNvSpPr/>
              <p:nvPr/>
            </p:nvSpPr>
            <p:spPr>
              <a:xfrm>
                <a:off x="5089320" y="2563200"/>
                <a:ext cx="1171440" cy="630000"/>
              </a:xfrm>
              <a:custGeom>
                <a:avLst/>
                <a:gdLst>
                  <a:gd name="textAreaLeft" fmla="*/ 0 w 1171440"/>
                  <a:gd name="textAreaRight" fmla="*/ 1171800 w 1171440"/>
                  <a:gd name="textAreaTop" fmla="*/ 0 h 630000"/>
                  <a:gd name="textAreaBottom" fmla="*/ 630360 h 630000"/>
                </a:gdLst>
                <a:ahLst/>
                <a:rect l="textAreaLeft" t="textAreaTop" r="textAreaRight" b="textAreaBottom"/>
                <a:pathLst>
                  <a:path w="1191" h="623">
                    <a:moveTo>
                      <a:pt x="674" y="0"/>
                    </a:moveTo>
                    <a:lnTo>
                      <a:pt x="1191" y="178"/>
                    </a:lnTo>
                    <a:lnTo>
                      <a:pt x="408" y="623"/>
                    </a:lnTo>
                    <a:lnTo>
                      <a:pt x="0" y="403"/>
                    </a:lnTo>
                    <a:lnTo>
                      <a:pt x="6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3"/>
              <p:cNvSpPr/>
              <p:nvPr/>
            </p:nvSpPr>
            <p:spPr>
              <a:xfrm>
                <a:off x="5089320" y="2563200"/>
                <a:ext cx="1171440" cy="630000"/>
              </a:xfrm>
              <a:custGeom>
                <a:avLst/>
                <a:gdLst>
                  <a:gd name="textAreaLeft" fmla="*/ 0 w 1171440"/>
                  <a:gd name="textAreaRight" fmla="*/ 1171800 w 1171440"/>
                  <a:gd name="textAreaTop" fmla="*/ 0 h 630000"/>
                  <a:gd name="textAreaBottom" fmla="*/ 630360 h 630000"/>
                </a:gdLst>
                <a:ahLst/>
                <a:rect l="textAreaLeft" t="textAreaTop" r="textAreaRight" b="textAreaBottom"/>
                <a:pathLst>
                  <a:path w="1191" h="623">
                    <a:moveTo>
                      <a:pt x="674" y="0"/>
                    </a:moveTo>
                    <a:lnTo>
                      <a:pt x="1191" y="178"/>
                    </a:lnTo>
                    <a:lnTo>
                      <a:pt x="408" y="623"/>
                    </a:lnTo>
                    <a:lnTo>
                      <a:pt x="0" y="403"/>
                    </a:lnTo>
                    <a:lnTo>
                      <a:pt x="674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4"/>
              <p:cNvSpPr/>
              <p:nvPr/>
            </p:nvSpPr>
            <p:spPr>
              <a:xfrm>
                <a:off x="3940200" y="2082960"/>
                <a:ext cx="489600" cy="843120"/>
              </a:xfrm>
              <a:custGeom>
                <a:avLst/>
                <a:gdLst>
                  <a:gd name="textAreaLeft" fmla="*/ 0 w 489600"/>
                  <a:gd name="textAreaRight" fmla="*/ 489960 w 4896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497" h="832">
                    <a:moveTo>
                      <a:pt x="63" y="197"/>
                    </a:moveTo>
                    <a:lnTo>
                      <a:pt x="49" y="206"/>
                    </a:lnTo>
                    <a:lnTo>
                      <a:pt x="40" y="215"/>
                    </a:lnTo>
                    <a:lnTo>
                      <a:pt x="35" y="223"/>
                    </a:lnTo>
                    <a:lnTo>
                      <a:pt x="23" y="237"/>
                    </a:lnTo>
                    <a:lnTo>
                      <a:pt x="15" y="255"/>
                    </a:lnTo>
                    <a:lnTo>
                      <a:pt x="9" y="266"/>
                    </a:lnTo>
                    <a:lnTo>
                      <a:pt x="3" y="289"/>
                    </a:lnTo>
                    <a:lnTo>
                      <a:pt x="0" y="306"/>
                    </a:lnTo>
                    <a:lnTo>
                      <a:pt x="0" y="320"/>
                    </a:lnTo>
                    <a:lnTo>
                      <a:pt x="0" y="780"/>
                    </a:lnTo>
                    <a:lnTo>
                      <a:pt x="0" y="792"/>
                    </a:lnTo>
                    <a:lnTo>
                      <a:pt x="3" y="803"/>
                    </a:lnTo>
                    <a:lnTo>
                      <a:pt x="9" y="814"/>
                    </a:lnTo>
                    <a:lnTo>
                      <a:pt x="12" y="820"/>
                    </a:lnTo>
                    <a:lnTo>
                      <a:pt x="17" y="826"/>
                    </a:lnTo>
                    <a:lnTo>
                      <a:pt x="26" y="829"/>
                    </a:lnTo>
                    <a:lnTo>
                      <a:pt x="35" y="832"/>
                    </a:lnTo>
                    <a:lnTo>
                      <a:pt x="43" y="832"/>
                    </a:lnTo>
                    <a:lnTo>
                      <a:pt x="46" y="829"/>
                    </a:lnTo>
                    <a:lnTo>
                      <a:pt x="60" y="823"/>
                    </a:lnTo>
                    <a:lnTo>
                      <a:pt x="437" y="569"/>
                    </a:lnTo>
                    <a:lnTo>
                      <a:pt x="452" y="554"/>
                    </a:lnTo>
                    <a:lnTo>
                      <a:pt x="463" y="543"/>
                    </a:lnTo>
                    <a:lnTo>
                      <a:pt x="474" y="526"/>
                    </a:lnTo>
                    <a:lnTo>
                      <a:pt x="486" y="503"/>
                    </a:lnTo>
                    <a:lnTo>
                      <a:pt x="494" y="477"/>
                    </a:lnTo>
                    <a:lnTo>
                      <a:pt x="497" y="463"/>
                    </a:lnTo>
                    <a:lnTo>
                      <a:pt x="497" y="452"/>
                    </a:lnTo>
                    <a:lnTo>
                      <a:pt x="497" y="49"/>
                    </a:lnTo>
                    <a:lnTo>
                      <a:pt x="497" y="37"/>
                    </a:lnTo>
                    <a:lnTo>
                      <a:pt x="494" y="29"/>
                    </a:lnTo>
                    <a:lnTo>
                      <a:pt x="489" y="17"/>
                    </a:lnTo>
                    <a:lnTo>
                      <a:pt x="486" y="15"/>
                    </a:lnTo>
                    <a:lnTo>
                      <a:pt x="474" y="6"/>
                    </a:lnTo>
                    <a:lnTo>
                      <a:pt x="469" y="3"/>
                    </a:lnTo>
                    <a:lnTo>
                      <a:pt x="460" y="0"/>
                    </a:lnTo>
                    <a:lnTo>
                      <a:pt x="452" y="0"/>
                    </a:lnTo>
                    <a:lnTo>
                      <a:pt x="449" y="3"/>
                    </a:lnTo>
                    <a:lnTo>
                      <a:pt x="437" y="6"/>
                    </a:lnTo>
                    <a:lnTo>
                      <a:pt x="63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5"/>
              <p:cNvSpPr/>
              <p:nvPr/>
            </p:nvSpPr>
            <p:spPr>
              <a:xfrm>
                <a:off x="3940200" y="2082960"/>
                <a:ext cx="489600" cy="843120"/>
              </a:xfrm>
              <a:custGeom>
                <a:avLst/>
                <a:gdLst>
                  <a:gd name="textAreaLeft" fmla="*/ 0 w 489600"/>
                  <a:gd name="textAreaRight" fmla="*/ 489960 w 4896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497" h="832">
                    <a:moveTo>
                      <a:pt x="63" y="197"/>
                    </a:moveTo>
                    <a:lnTo>
                      <a:pt x="49" y="206"/>
                    </a:lnTo>
                    <a:lnTo>
                      <a:pt x="40" y="215"/>
                    </a:lnTo>
                    <a:lnTo>
                      <a:pt x="35" y="223"/>
                    </a:lnTo>
                    <a:lnTo>
                      <a:pt x="23" y="237"/>
                    </a:lnTo>
                    <a:lnTo>
                      <a:pt x="15" y="255"/>
                    </a:lnTo>
                    <a:lnTo>
                      <a:pt x="9" y="266"/>
                    </a:lnTo>
                    <a:lnTo>
                      <a:pt x="3" y="289"/>
                    </a:lnTo>
                    <a:lnTo>
                      <a:pt x="0" y="306"/>
                    </a:lnTo>
                    <a:lnTo>
                      <a:pt x="0" y="320"/>
                    </a:lnTo>
                    <a:lnTo>
                      <a:pt x="0" y="780"/>
                    </a:lnTo>
                    <a:lnTo>
                      <a:pt x="0" y="792"/>
                    </a:lnTo>
                    <a:lnTo>
                      <a:pt x="3" y="803"/>
                    </a:lnTo>
                    <a:lnTo>
                      <a:pt x="9" y="814"/>
                    </a:lnTo>
                    <a:lnTo>
                      <a:pt x="12" y="820"/>
                    </a:lnTo>
                    <a:lnTo>
                      <a:pt x="17" y="826"/>
                    </a:lnTo>
                    <a:lnTo>
                      <a:pt x="26" y="829"/>
                    </a:lnTo>
                    <a:lnTo>
                      <a:pt x="35" y="832"/>
                    </a:lnTo>
                    <a:lnTo>
                      <a:pt x="43" y="832"/>
                    </a:lnTo>
                    <a:lnTo>
                      <a:pt x="46" y="829"/>
                    </a:lnTo>
                    <a:lnTo>
                      <a:pt x="60" y="823"/>
                    </a:lnTo>
                    <a:lnTo>
                      <a:pt x="437" y="569"/>
                    </a:lnTo>
                    <a:lnTo>
                      <a:pt x="452" y="554"/>
                    </a:lnTo>
                    <a:lnTo>
                      <a:pt x="463" y="543"/>
                    </a:lnTo>
                    <a:lnTo>
                      <a:pt x="474" y="526"/>
                    </a:lnTo>
                    <a:lnTo>
                      <a:pt x="486" y="503"/>
                    </a:lnTo>
                    <a:lnTo>
                      <a:pt x="494" y="477"/>
                    </a:lnTo>
                    <a:lnTo>
                      <a:pt x="497" y="463"/>
                    </a:lnTo>
                    <a:lnTo>
                      <a:pt x="497" y="452"/>
                    </a:lnTo>
                    <a:lnTo>
                      <a:pt x="497" y="49"/>
                    </a:lnTo>
                    <a:lnTo>
                      <a:pt x="497" y="37"/>
                    </a:lnTo>
                    <a:lnTo>
                      <a:pt x="494" y="29"/>
                    </a:lnTo>
                    <a:lnTo>
                      <a:pt x="489" y="17"/>
                    </a:lnTo>
                    <a:lnTo>
                      <a:pt x="486" y="15"/>
                    </a:lnTo>
                    <a:lnTo>
                      <a:pt x="474" y="6"/>
                    </a:lnTo>
                    <a:lnTo>
                      <a:pt x="469" y="3"/>
                    </a:lnTo>
                    <a:lnTo>
                      <a:pt x="460" y="0"/>
                    </a:lnTo>
                    <a:lnTo>
                      <a:pt x="452" y="0"/>
                    </a:lnTo>
                    <a:lnTo>
                      <a:pt x="449" y="3"/>
                    </a:lnTo>
                    <a:lnTo>
                      <a:pt x="437" y="6"/>
                    </a:lnTo>
                    <a:lnTo>
                      <a:pt x="63" y="197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6"/>
              <p:cNvSpPr/>
              <p:nvPr/>
            </p:nvSpPr>
            <p:spPr>
              <a:xfrm>
                <a:off x="3940200" y="2082960"/>
                <a:ext cx="1816560" cy="1829160"/>
              </a:xfrm>
              <a:custGeom>
                <a:avLst/>
                <a:gdLst>
                  <a:gd name="textAreaLeft" fmla="*/ 0 w 1816560"/>
                  <a:gd name="textAreaRight" fmla="*/ 1816920 w 1816560"/>
                  <a:gd name="textAreaTop" fmla="*/ 0 h 1829160"/>
                  <a:gd name="textAreaBottom" fmla="*/ 1829520 h 1829160"/>
                </a:gdLst>
                <a:ahLst/>
                <a:rect l="textAreaLeft" t="textAreaTop" r="textAreaRight" b="textAreaBottom"/>
                <a:pathLst>
                  <a:path w="1848" h="1806">
                    <a:moveTo>
                      <a:pt x="486" y="0"/>
                    </a:moveTo>
                    <a:lnTo>
                      <a:pt x="1848" y="474"/>
                    </a:lnTo>
                    <a:lnTo>
                      <a:pt x="1174" y="877"/>
                    </a:lnTo>
                    <a:lnTo>
                      <a:pt x="1174" y="1806"/>
                    </a:lnTo>
                    <a:lnTo>
                      <a:pt x="12" y="823"/>
                    </a:lnTo>
                    <a:lnTo>
                      <a:pt x="0" y="792"/>
                    </a:lnTo>
                    <a:lnTo>
                      <a:pt x="0" y="286"/>
                    </a:lnTo>
                    <a:lnTo>
                      <a:pt x="12" y="255"/>
                    </a:lnTo>
                    <a:lnTo>
                      <a:pt x="32" y="223"/>
                    </a:lnTo>
                    <a:lnTo>
                      <a:pt x="57" y="200"/>
                    </a:lnTo>
                    <a:lnTo>
                      <a:pt x="434" y="6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7"/>
              <p:cNvSpPr/>
              <p:nvPr/>
            </p:nvSpPr>
            <p:spPr>
              <a:xfrm>
                <a:off x="3940200" y="2082960"/>
                <a:ext cx="1816560" cy="1829160"/>
              </a:xfrm>
              <a:custGeom>
                <a:avLst/>
                <a:gdLst>
                  <a:gd name="textAreaLeft" fmla="*/ 0 w 1816560"/>
                  <a:gd name="textAreaRight" fmla="*/ 1816920 w 1816560"/>
                  <a:gd name="textAreaTop" fmla="*/ 0 h 1829160"/>
                  <a:gd name="textAreaBottom" fmla="*/ 1829520 h 1829160"/>
                </a:gdLst>
                <a:ahLst/>
                <a:rect l="textAreaLeft" t="textAreaTop" r="textAreaRight" b="textAreaBottom"/>
                <a:pathLst>
                  <a:path w="1848" h="1806">
                    <a:moveTo>
                      <a:pt x="486" y="0"/>
                    </a:moveTo>
                    <a:lnTo>
                      <a:pt x="1848" y="474"/>
                    </a:lnTo>
                    <a:lnTo>
                      <a:pt x="1174" y="877"/>
                    </a:lnTo>
                    <a:lnTo>
                      <a:pt x="1174" y="1806"/>
                    </a:lnTo>
                    <a:lnTo>
                      <a:pt x="12" y="823"/>
                    </a:lnTo>
                    <a:lnTo>
                      <a:pt x="0" y="792"/>
                    </a:lnTo>
                    <a:lnTo>
                      <a:pt x="0" y="286"/>
                    </a:lnTo>
                    <a:lnTo>
                      <a:pt x="12" y="255"/>
                    </a:lnTo>
                    <a:lnTo>
                      <a:pt x="32" y="223"/>
                    </a:lnTo>
                    <a:lnTo>
                      <a:pt x="57" y="200"/>
                    </a:lnTo>
                    <a:lnTo>
                      <a:pt x="434" y="6"/>
                    </a:lnTo>
                    <a:lnTo>
                      <a:pt x="486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8"/>
              <p:cNvSpPr/>
              <p:nvPr/>
            </p:nvSpPr>
            <p:spPr>
              <a:xfrm>
                <a:off x="3980880" y="2352960"/>
                <a:ext cx="1516680" cy="849960"/>
              </a:xfrm>
              <a:custGeom>
                <a:avLst/>
                <a:gdLst>
                  <a:gd name="textAreaLeft" fmla="*/ 0 w 1516680"/>
                  <a:gd name="textAreaRight" fmla="*/ 1517040 w 1516680"/>
                  <a:gd name="textAreaTop" fmla="*/ 0 h 849960"/>
                  <a:gd name="textAreaBottom" fmla="*/ 850320 h 849960"/>
                </a:gdLst>
                <a:ahLst/>
                <a:rect l="textAreaLeft" t="textAreaTop" r="textAreaRight" b="textAreaBottom"/>
                <a:pathLst>
                  <a:path w="1543" h="840">
                    <a:moveTo>
                      <a:pt x="1543" y="840"/>
                    </a:moveTo>
                    <a:lnTo>
                      <a:pt x="17" y="6"/>
                    </a:lnTo>
                    <a:lnTo>
                      <a:pt x="0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39"/>
              <p:cNvSpPr/>
              <p:nvPr/>
            </p:nvSpPr>
            <p:spPr>
              <a:xfrm>
                <a:off x="4445640" y="2092680"/>
                <a:ext cx="1815120" cy="655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0"/>
              <p:cNvSpPr/>
              <p:nvPr/>
            </p:nvSpPr>
            <p:spPr>
              <a:xfrm flipH="1" flipV="1">
                <a:off x="4201920" y="2198880"/>
                <a:ext cx="1230840" cy="5605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1"/>
              <p:cNvSpPr/>
              <p:nvPr/>
            </p:nvSpPr>
            <p:spPr>
              <a:xfrm>
                <a:off x="3964680" y="2624400"/>
                <a:ext cx="1124280" cy="8053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2"/>
              <p:cNvSpPr/>
              <p:nvPr/>
            </p:nvSpPr>
            <p:spPr>
              <a:xfrm flipH="1" flipV="1">
                <a:off x="4397400" y="2085120"/>
                <a:ext cx="5508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43"/>
              <p:cNvSpPr/>
              <p:nvPr/>
            </p:nvSpPr>
            <p:spPr>
              <a:xfrm>
                <a:off x="3940200" y="2300400"/>
                <a:ext cx="47880" cy="979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49" h="97">
                    <a:moveTo>
                      <a:pt x="0" y="97"/>
                    </a:moveTo>
                    <a:lnTo>
                      <a:pt x="3" y="82"/>
                    </a:lnTo>
                    <a:lnTo>
                      <a:pt x="6" y="74"/>
                    </a:lnTo>
                    <a:lnTo>
                      <a:pt x="6" y="68"/>
                    </a:lnTo>
                    <a:lnTo>
                      <a:pt x="9" y="62"/>
                    </a:lnTo>
                    <a:lnTo>
                      <a:pt x="12" y="57"/>
                    </a:lnTo>
                    <a:lnTo>
                      <a:pt x="12" y="54"/>
                    </a:lnTo>
                    <a:lnTo>
                      <a:pt x="15" y="51"/>
                    </a:lnTo>
                    <a:lnTo>
                      <a:pt x="17" y="48"/>
                    </a:lnTo>
                    <a:lnTo>
                      <a:pt x="20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2" y="45"/>
                    </a:lnTo>
                    <a:lnTo>
                      <a:pt x="35" y="48"/>
                    </a:lnTo>
                    <a:lnTo>
                      <a:pt x="40" y="48"/>
                    </a:lnTo>
                    <a:lnTo>
                      <a:pt x="49" y="54"/>
                    </a:lnTo>
                    <a:lnTo>
                      <a:pt x="40" y="48"/>
                    </a:lnTo>
                    <a:lnTo>
                      <a:pt x="37" y="45"/>
                    </a:lnTo>
                    <a:lnTo>
                      <a:pt x="35" y="45"/>
                    </a:lnTo>
                    <a:lnTo>
                      <a:pt x="32" y="42"/>
                    </a:lnTo>
                    <a:lnTo>
                      <a:pt x="29" y="40"/>
                    </a:lnTo>
                    <a:lnTo>
                      <a:pt x="26" y="37"/>
                    </a:lnTo>
                    <a:lnTo>
                      <a:pt x="26" y="31"/>
                    </a:lnTo>
                    <a:lnTo>
                      <a:pt x="26" y="28"/>
                    </a:lnTo>
                    <a:lnTo>
                      <a:pt x="26" y="25"/>
                    </a:lnTo>
                    <a:lnTo>
                      <a:pt x="29" y="20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5" y="8"/>
                    </a:lnTo>
                    <a:lnTo>
                      <a:pt x="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44"/>
              <p:cNvSpPr/>
              <p:nvPr/>
            </p:nvSpPr>
            <p:spPr>
              <a:xfrm>
                <a:off x="3957480" y="2919240"/>
                <a:ext cx="1533600" cy="135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45"/>
              <p:cNvSpPr/>
              <p:nvPr/>
            </p:nvSpPr>
            <p:spPr>
              <a:xfrm flipH="1" flipV="1">
                <a:off x="5119920" y="3818880"/>
                <a:ext cx="369720" cy="306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46"/>
              <p:cNvSpPr/>
              <p:nvPr/>
            </p:nvSpPr>
            <p:spPr>
              <a:xfrm flipH="1" flipV="1">
                <a:off x="5142960" y="3716640"/>
                <a:ext cx="34668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47"/>
              <p:cNvSpPr/>
              <p:nvPr/>
            </p:nvSpPr>
            <p:spPr>
              <a:xfrm flipH="1" flipV="1">
                <a:off x="5171040" y="3494520"/>
                <a:ext cx="320400" cy="24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48"/>
              <p:cNvSpPr/>
              <p:nvPr/>
            </p:nvSpPr>
            <p:spPr>
              <a:xfrm flipH="1" flipV="1">
                <a:off x="5171040" y="3369960"/>
                <a:ext cx="320400" cy="22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49"/>
              <p:cNvSpPr/>
              <p:nvPr/>
            </p:nvSpPr>
            <p:spPr>
              <a:xfrm flipH="1" flipV="1">
                <a:off x="5156640" y="3240360"/>
                <a:ext cx="334800" cy="22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50"/>
              <p:cNvSpPr/>
              <p:nvPr/>
            </p:nvSpPr>
            <p:spPr>
              <a:xfrm flipH="1" flipV="1">
                <a:off x="5125320" y="3107160"/>
                <a:ext cx="365400" cy="21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51"/>
              <p:cNvSpPr/>
              <p:nvPr/>
            </p:nvSpPr>
            <p:spPr>
              <a:xfrm flipH="1" flipV="1">
                <a:off x="5159520" y="3611160"/>
                <a:ext cx="331920" cy="250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52"/>
              <p:cNvSpPr/>
              <p:nvPr/>
            </p:nvSpPr>
            <p:spPr>
              <a:xfrm flipH="1" flipV="1">
                <a:off x="5661720" y="2682360"/>
                <a:ext cx="405000" cy="169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53"/>
              <p:cNvSpPr/>
              <p:nvPr/>
            </p:nvSpPr>
            <p:spPr>
              <a:xfrm flipH="1" flipV="1">
                <a:off x="5365080" y="2910240"/>
                <a:ext cx="316080" cy="164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54"/>
              <p:cNvSpPr/>
              <p:nvPr/>
            </p:nvSpPr>
            <p:spPr>
              <a:xfrm flipH="1" flipV="1">
                <a:off x="5711400" y="2621520"/>
                <a:ext cx="454320" cy="17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55"/>
              <p:cNvSpPr/>
              <p:nvPr/>
            </p:nvSpPr>
            <p:spPr>
              <a:xfrm flipH="1" flipV="1">
                <a:off x="5240880" y="2947680"/>
                <a:ext cx="343800" cy="19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56"/>
              <p:cNvSpPr/>
              <p:nvPr/>
            </p:nvSpPr>
            <p:spPr>
              <a:xfrm flipH="1" flipV="1">
                <a:off x="5459400" y="2852280"/>
                <a:ext cx="321840" cy="167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7"/>
              <p:cNvSpPr/>
              <p:nvPr/>
            </p:nvSpPr>
            <p:spPr>
              <a:xfrm>
                <a:off x="5490360" y="2751480"/>
                <a:ext cx="770760" cy="151884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1518840"/>
                  <a:gd name="textAreaBottom" fmla="*/ 1519200 h 1518840"/>
                </a:gdLst>
                <a:ahLst/>
                <a:rect l="textAreaLeft" t="textAreaTop" r="textAreaRight" b="textAreaBottom"/>
                <a:pathLst>
                  <a:path w="786" h="1500">
                    <a:moveTo>
                      <a:pt x="786" y="943"/>
                    </a:moveTo>
                    <a:lnTo>
                      <a:pt x="786" y="0"/>
                    </a:lnTo>
                    <a:lnTo>
                      <a:pt x="740" y="23"/>
                    </a:lnTo>
                    <a:lnTo>
                      <a:pt x="714" y="34"/>
                    </a:lnTo>
                    <a:lnTo>
                      <a:pt x="643" y="72"/>
                    </a:lnTo>
                    <a:lnTo>
                      <a:pt x="620" y="83"/>
                    </a:lnTo>
                    <a:lnTo>
                      <a:pt x="571" y="109"/>
                    </a:lnTo>
                    <a:lnTo>
                      <a:pt x="549" y="123"/>
                    </a:lnTo>
                    <a:lnTo>
                      <a:pt x="477" y="160"/>
                    </a:lnTo>
                    <a:lnTo>
                      <a:pt x="452" y="174"/>
                    </a:lnTo>
                    <a:lnTo>
                      <a:pt x="406" y="200"/>
                    </a:lnTo>
                    <a:lnTo>
                      <a:pt x="380" y="214"/>
                    </a:lnTo>
                    <a:lnTo>
                      <a:pt x="334" y="243"/>
                    </a:lnTo>
                    <a:lnTo>
                      <a:pt x="286" y="269"/>
                    </a:lnTo>
                    <a:lnTo>
                      <a:pt x="237" y="297"/>
                    </a:lnTo>
                    <a:lnTo>
                      <a:pt x="214" y="312"/>
                    </a:lnTo>
                    <a:lnTo>
                      <a:pt x="166" y="340"/>
                    </a:lnTo>
                    <a:lnTo>
                      <a:pt x="117" y="372"/>
                    </a:lnTo>
                    <a:lnTo>
                      <a:pt x="94" y="386"/>
                    </a:lnTo>
                    <a:lnTo>
                      <a:pt x="72" y="400"/>
                    </a:lnTo>
                    <a:lnTo>
                      <a:pt x="0" y="446"/>
                    </a:lnTo>
                    <a:lnTo>
                      <a:pt x="0" y="1500"/>
                    </a:lnTo>
                    <a:lnTo>
                      <a:pt x="72" y="1446"/>
                    </a:lnTo>
                    <a:lnTo>
                      <a:pt x="94" y="1426"/>
                    </a:lnTo>
                    <a:lnTo>
                      <a:pt x="166" y="1371"/>
                    </a:lnTo>
                    <a:lnTo>
                      <a:pt x="237" y="1320"/>
                    </a:lnTo>
                    <a:lnTo>
                      <a:pt x="263" y="1300"/>
                    </a:lnTo>
                    <a:lnTo>
                      <a:pt x="406" y="1200"/>
                    </a:lnTo>
                    <a:lnTo>
                      <a:pt x="429" y="1180"/>
                    </a:lnTo>
                    <a:lnTo>
                      <a:pt x="500" y="1131"/>
                    </a:lnTo>
                    <a:lnTo>
                      <a:pt x="571" y="1083"/>
                    </a:lnTo>
                    <a:lnTo>
                      <a:pt x="594" y="1066"/>
                    </a:lnTo>
                    <a:lnTo>
                      <a:pt x="714" y="989"/>
                    </a:lnTo>
                    <a:lnTo>
                      <a:pt x="740" y="971"/>
                    </a:lnTo>
                    <a:lnTo>
                      <a:pt x="786" y="9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58"/>
              <p:cNvSpPr/>
              <p:nvPr/>
            </p:nvSpPr>
            <p:spPr>
              <a:xfrm>
                <a:off x="5490360" y="2751480"/>
                <a:ext cx="770760" cy="151884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1518840"/>
                  <a:gd name="textAreaBottom" fmla="*/ 1519200 h 1518840"/>
                </a:gdLst>
                <a:ahLst/>
                <a:rect l="textAreaLeft" t="textAreaTop" r="textAreaRight" b="textAreaBottom"/>
                <a:pathLst>
                  <a:path w="786" h="1500">
                    <a:moveTo>
                      <a:pt x="786" y="943"/>
                    </a:moveTo>
                    <a:lnTo>
                      <a:pt x="786" y="0"/>
                    </a:lnTo>
                    <a:lnTo>
                      <a:pt x="740" y="23"/>
                    </a:lnTo>
                    <a:lnTo>
                      <a:pt x="714" y="34"/>
                    </a:lnTo>
                    <a:lnTo>
                      <a:pt x="643" y="72"/>
                    </a:lnTo>
                    <a:lnTo>
                      <a:pt x="620" y="83"/>
                    </a:lnTo>
                    <a:lnTo>
                      <a:pt x="571" y="109"/>
                    </a:lnTo>
                    <a:lnTo>
                      <a:pt x="549" y="123"/>
                    </a:lnTo>
                    <a:lnTo>
                      <a:pt x="477" y="160"/>
                    </a:lnTo>
                    <a:lnTo>
                      <a:pt x="452" y="174"/>
                    </a:lnTo>
                    <a:lnTo>
                      <a:pt x="406" y="200"/>
                    </a:lnTo>
                    <a:lnTo>
                      <a:pt x="380" y="214"/>
                    </a:lnTo>
                    <a:lnTo>
                      <a:pt x="334" y="243"/>
                    </a:lnTo>
                    <a:lnTo>
                      <a:pt x="286" y="269"/>
                    </a:lnTo>
                    <a:lnTo>
                      <a:pt x="237" y="297"/>
                    </a:lnTo>
                    <a:lnTo>
                      <a:pt x="214" y="312"/>
                    </a:lnTo>
                    <a:lnTo>
                      <a:pt x="166" y="340"/>
                    </a:lnTo>
                    <a:lnTo>
                      <a:pt x="117" y="372"/>
                    </a:lnTo>
                    <a:lnTo>
                      <a:pt x="94" y="386"/>
                    </a:lnTo>
                    <a:lnTo>
                      <a:pt x="72" y="400"/>
                    </a:lnTo>
                    <a:lnTo>
                      <a:pt x="0" y="446"/>
                    </a:lnTo>
                    <a:lnTo>
                      <a:pt x="0" y="1500"/>
                    </a:lnTo>
                    <a:lnTo>
                      <a:pt x="72" y="1446"/>
                    </a:lnTo>
                    <a:lnTo>
                      <a:pt x="94" y="1426"/>
                    </a:lnTo>
                    <a:lnTo>
                      <a:pt x="166" y="1371"/>
                    </a:lnTo>
                    <a:lnTo>
                      <a:pt x="237" y="1320"/>
                    </a:lnTo>
                    <a:lnTo>
                      <a:pt x="263" y="1300"/>
                    </a:lnTo>
                    <a:lnTo>
                      <a:pt x="406" y="1200"/>
                    </a:lnTo>
                    <a:lnTo>
                      <a:pt x="429" y="1180"/>
                    </a:lnTo>
                    <a:lnTo>
                      <a:pt x="500" y="1131"/>
                    </a:lnTo>
                    <a:lnTo>
                      <a:pt x="571" y="1083"/>
                    </a:lnTo>
                    <a:lnTo>
                      <a:pt x="594" y="1066"/>
                    </a:lnTo>
                    <a:lnTo>
                      <a:pt x="714" y="989"/>
                    </a:lnTo>
                    <a:lnTo>
                      <a:pt x="740" y="971"/>
                    </a:lnTo>
                    <a:lnTo>
                      <a:pt x="786" y="9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59"/>
              <p:cNvSpPr/>
              <p:nvPr/>
            </p:nvSpPr>
            <p:spPr>
              <a:xfrm>
                <a:off x="5589360" y="3128400"/>
                <a:ext cx="2880" cy="106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60"/>
              <p:cNvSpPr/>
              <p:nvPr/>
            </p:nvSpPr>
            <p:spPr>
              <a:xfrm>
                <a:off x="5683680" y="3067560"/>
                <a:ext cx="1440" cy="1054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61"/>
              <p:cNvSpPr/>
              <p:nvPr/>
            </p:nvSpPr>
            <p:spPr>
              <a:xfrm flipV="1">
                <a:off x="5781600" y="3011760"/>
                <a:ext cx="1080" cy="102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62"/>
              <p:cNvSpPr/>
              <p:nvPr/>
            </p:nvSpPr>
            <p:spPr>
              <a:xfrm flipV="1">
                <a:off x="5875920" y="2953440"/>
                <a:ext cx="2880" cy="1016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63"/>
              <p:cNvSpPr/>
              <p:nvPr/>
            </p:nvSpPr>
            <p:spPr>
              <a:xfrm>
                <a:off x="5978160" y="2899800"/>
                <a:ext cx="1440" cy="99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64"/>
              <p:cNvSpPr/>
              <p:nvPr/>
            </p:nvSpPr>
            <p:spPr>
              <a:xfrm>
                <a:off x="6071400" y="2844360"/>
                <a:ext cx="1440" cy="989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65"/>
              <p:cNvSpPr/>
              <p:nvPr/>
            </p:nvSpPr>
            <p:spPr>
              <a:xfrm flipV="1">
                <a:off x="5490360" y="2865240"/>
                <a:ext cx="770760" cy="46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66"/>
              <p:cNvSpPr/>
              <p:nvPr/>
            </p:nvSpPr>
            <p:spPr>
              <a:xfrm flipV="1">
                <a:off x="5491440" y="3092040"/>
                <a:ext cx="769320" cy="49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67"/>
              <p:cNvSpPr/>
              <p:nvPr/>
            </p:nvSpPr>
            <p:spPr>
              <a:xfrm flipH="1">
                <a:off x="5490000" y="3216960"/>
                <a:ext cx="770760" cy="514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68"/>
              <p:cNvSpPr/>
              <p:nvPr/>
            </p:nvSpPr>
            <p:spPr>
              <a:xfrm flipV="1">
                <a:off x="5490360" y="3335400"/>
                <a:ext cx="770760" cy="52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9"/>
              <p:cNvSpPr/>
              <p:nvPr/>
            </p:nvSpPr>
            <p:spPr>
              <a:xfrm flipV="1">
                <a:off x="5490360" y="3453120"/>
                <a:ext cx="770760" cy="53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70"/>
              <p:cNvSpPr/>
              <p:nvPr/>
            </p:nvSpPr>
            <p:spPr>
              <a:xfrm flipV="1">
                <a:off x="5490360" y="3577680"/>
                <a:ext cx="770760" cy="54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71"/>
              <p:cNvSpPr/>
              <p:nvPr/>
            </p:nvSpPr>
            <p:spPr>
              <a:xfrm flipH="1" flipV="1">
                <a:off x="5535360" y="2805120"/>
                <a:ext cx="339120" cy="15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72"/>
              <p:cNvSpPr/>
              <p:nvPr/>
            </p:nvSpPr>
            <p:spPr>
              <a:xfrm flipH="1" flipV="1">
                <a:off x="5606640" y="2743200"/>
                <a:ext cx="371160" cy="15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73"/>
              <p:cNvSpPr/>
              <p:nvPr/>
            </p:nvSpPr>
            <p:spPr>
              <a:xfrm flipV="1">
                <a:off x="5490360" y="2973960"/>
                <a:ext cx="770760" cy="49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74"/>
              <p:cNvSpPr/>
              <p:nvPr/>
            </p:nvSpPr>
            <p:spPr>
              <a:xfrm>
                <a:off x="6166080" y="2794680"/>
                <a:ext cx="0" cy="974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75"/>
              <p:cNvSpPr/>
              <p:nvPr/>
            </p:nvSpPr>
            <p:spPr>
              <a:xfrm>
                <a:off x="4310280" y="4234320"/>
                <a:ext cx="959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b2b2b2"/>
                    </a:solidFill>
                    <a:latin typeface="Arial"/>
                  </a:rPr>
                  <a:t>Lightgu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76"/>
              <p:cNvSpPr/>
              <p:nvPr/>
            </p:nvSpPr>
            <p:spPr>
              <a:xfrm>
                <a:off x="3818520" y="3315240"/>
                <a:ext cx="49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3399"/>
                    </a:solidFill>
                    <a:latin typeface="Arial"/>
                  </a:rPr>
                  <a:t>TF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7"/>
              <p:cNvSpPr/>
              <p:nvPr/>
            </p:nvSpPr>
            <p:spPr>
              <a:xfrm>
                <a:off x="5205960" y="2395800"/>
                <a:ext cx="1836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78"/>
              <p:cNvSpPr/>
              <p:nvPr/>
            </p:nvSpPr>
            <p:spPr>
              <a:xfrm>
                <a:off x="4738320" y="3292920"/>
                <a:ext cx="1846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9"/>
              <p:cNvSpPr/>
              <p:nvPr/>
            </p:nvSpPr>
            <p:spPr>
              <a:xfrm>
                <a:off x="4729680" y="2682360"/>
                <a:ext cx="18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0"/>
              <p:cNvSpPr/>
              <p:nvPr/>
            </p:nvSpPr>
            <p:spPr>
              <a:xfrm flipV="1">
                <a:off x="4822920" y="3973680"/>
                <a:ext cx="259200" cy="287640"/>
              </a:xfrm>
              <a:prstGeom prst="line">
                <a:avLst/>
              </a:prstGeom>
              <a:ln w="255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0" name="Picture 87" descr=""/>
            <p:cNvPicPr/>
            <p:nvPr/>
          </p:nvPicPr>
          <p:blipFill>
            <a:blip r:embed="rId1"/>
            <a:stretch/>
          </p:blipFill>
          <p:spPr>
            <a:xfrm>
              <a:off x="6364440" y="1700280"/>
              <a:ext cx="214308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82 CuadroTexto"/>
            <p:cNvSpPr/>
            <p:nvPr/>
          </p:nvSpPr>
          <p:spPr>
            <a:xfrm>
              <a:off x="4203720" y="4286160"/>
              <a:ext cx="1143000" cy="276480"/>
            </a:xfrm>
            <a:prstGeom prst="rect">
              <a:avLst/>
            </a:prstGeom>
            <a:solidFill>
              <a:srgbClr val="f4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Guías de l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86"/>
          <p:cNvGrpSpPr/>
          <p:nvPr/>
        </p:nvGrpSpPr>
        <p:grpSpPr>
          <a:xfrm>
            <a:off x="1042920" y="1341360"/>
            <a:ext cx="2552760" cy="4086360"/>
            <a:chOff x="1042920" y="1341360"/>
            <a:chExt cx="2552760" cy="4086360"/>
          </a:xfrm>
        </p:grpSpPr>
        <p:pic>
          <p:nvPicPr>
            <p:cNvPr id="553" name="Picture 86" descr=""/>
            <p:cNvPicPr/>
            <p:nvPr/>
          </p:nvPicPr>
          <p:blipFill>
            <a:blip r:embed="rId2"/>
            <a:stretch/>
          </p:blipFill>
          <p:spPr>
            <a:xfrm>
              <a:off x="1042920" y="1341360"/>
              <a:ext cx="2552760" cy="40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81 CuadroTexto"/>
            <p:cNvSpPr/>
            <p:nvPr/>
          </p:nvSpPr>
          <p:spPr>
            <a:xfrm>
              <a:off x="2124000" y="4508640"/>
              <a:ext cx="1368360" cy="2764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ccff"/>
                  </a:solidFill>
                  <a:latin typeface="Arial"/>
                </a:rPr>
                <a:t>Bloque det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84 CuadroTexto"/>
            <p:cNvSpPr/>
            <p:nvPr/>
          </p:nvSpPr>
          <p:spPr>
            <a:xfrm>
              <a:off x="1143000" y="3429000"/>
              <a:ext cx="500040" cy="2764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ff"/>
                  </a:solidFill>
                  <a:latin typeface="Arial"/>
                </a:rPr>
                <a:t>TF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Sistema de anillo completo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57" name="Group 1031"/>
          <p:cNvGrpSpPr/>
          <p:nvPr/>
        </p:nvGrpSpPr>
        <p:grpSpPr>
          <a:xfrm>
            <a:off x="1704960" y="1238400"/>
            <a:ext cx="5495760" cy="4495680"/>
            <a:chOff x="1704960" y="1238400"/>
            <a:chExt cx="5495760" cy="4495680"/>
          </a:xfrm>
        </p:grpSpPr>
        <p:pic>
          <p:nvPicPr>
            <p:cNvPr id="558" name="Picture 1030" descr=""/>
            <p:cNvPicPr/>
            <p:nvPr/>
          </p:nvPicPr>
          <p:blipFill>
            <a:blip r:embed="rId1"/>
            <a:stretch/>
          </p:blipFill>
          <p:spPr>
            <a:xfrm>
              <a:off x="3828960" y="1238400"/>
              <a:ext cx="337176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028"/>
            <p:cNvSpPr/>
            <p:nvPr/>
          </p:nvSpPr>
          <p:spPr>
            <a:xfrm>
              <a:off x="1704960" y="182880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Bloque det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029"/>
            <p:cNvSpPr/>
            <p:nvPr/>
          </p:nvSpPr>
          <p:spPr>
            <a:xfrm>
              <a:off x="3152520" y="2362320"/>
              <a:ext cx="1067040" cy="53316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7280" y="22500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leatoriedad y dispersió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879280" y="5049360"/>
            <a:ext cx="496908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18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Suceso de aniquilació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61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→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Fotón gamm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----- Línea de respuest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63" name="Group 12"/>
          <p:cNvGrpSpPr/>
          <p:nvPr/>
        </p:nvGrpSpPr>
        <p:grpSpPr>
          <a:xfrm>
            <a:off x="863640" y="1341360"/>
            <a:ext cx="7848720" cy="4227120"/>
            <a:chOff x="863640" y="1341360"/>
            <a:chExt cx="7848720" cy="4227120"/>
          </a:xfrm>
        </p:grpSpPr>
        <p:pic>
          <p:nvPicPr>
            <p:cNvPr id="564" name="Picture 3" descr=""/>
            <p:cNvPicPr/>
            <p:nvPr/>
          </p:nvPicPr>
          <p:blipFill>
            <a:blip r:embed="rId1"/>
            <a:srcRect l="0" t="20397" r="0" b="0"/>
            <a:stretch/>
          </p:blipFill>
          <p:spPr>
            <a:xfrm>
              <a:off x="863640" y="1341360"/>
              <a:ext cx="7848720" cy="351792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  <p:sp>
          <p:nvSpPr>
            <p:cNvPr id="565" name="7 CuadroTexto"/>
            <p:cNvSpPr/>
            <p:nvPr/>
          </p:nvSpPr>
          <p:spPr>
            <a:xfrm>
              <a:off x="971640" y="4257720"/>
              <a:ext cx="190656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Coincidencia de detección, en la que al menos uno de los fotones ha sido dispers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7 CuadroTexto"/>
            <p:cNvSpPr/>
            <p:nvPr/>
          </p:nvSpPr>
          <p:spPr>
            <a:xfrm>
              <a:off x="4284720" y="4221000"/>
              <a:ext cx="14745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Coincidencia aleatori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7 CuadroTexto"/>
            <p:cNvSpPr/>
            <p:nvPr/>
          </p:nvSpPr>
          <p:spPr>
            <a:xfrm>
              <a:off x="6804000" y="4257720"/>
              <a:ext cx="1513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Coincidencia re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Arial"/>
              </a:rPr>
              <a:t>Dispersión y aleatoriedad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-360" y="1217160"/>
            <a:ext cx="3243240" cy="42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Dispersió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542880" indent="-27792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Depende del pacien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542880" indent="-27792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Se corrige aplicando datos de la C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Rectangle 1027"/>
          <p:cNvSpPr/>
          <p:nvPr/>
        </p:nvSpPr>
        <p:spPr>
          <a:xfrm>
            <a:off x="3959280" y="1197000"/>
            <a:ext cx="496872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Aleator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653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El número de sucesos aleatorios puede ser superior al de los “rea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653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Se corr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64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Reduciendo la ventana de coinci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64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Midiendo eventos aleatorios (retardando la ventana de coincid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51"/>
          <p:cNvSpPr/>
          <p:nvPr/>
        </p:nvSpPr>
        <p:spPr>
          <a:xfrm>
            <a:off x="7096320" y="58053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e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4"/>
          <p:cNvSpPr/>
          <p:nvPr/>
        </p:nvSpPr>
        <p:spPr>
          <a:xfrm>
            <a:off x="250920" y="-633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La detección de sucesos aleatorios y los que incluyen fotones dispersos degrada la calidad de la imagen, en forma cualitativa y cuant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41"/>
          <p:cNvGrpSpPr/>
          <p:nvPr/>
        </p:nvGrpSpPr>
        <p:grpSpPr>
          <a:xfrm>
            <a:off x="1173240" y="1627200"/>
            <a:ext cx="6156360" cy="3754440"/>
            <a:chOff x="1173240" y="1627200"/>
            <a:chExt cx="6156360" cy="3754440"/>
          </a:xfrm>
        </p:grpSpPr>
        <p:grpSp>
          <p:nvGrpSpPr>
            <p:cNvPr id="574" name="Group 60"/>
            <p:cNvGrpSpPr/>
            <p:nvPr/>
          </p:nvGrpSpPr>
          <p:grpSpPr>
            <a:xfrm>
              <a:off x="1173240" y="1627200"/>
              <a:ext cx="6022800" cy="3754440"/>
              <a:chOff x="1173240" y="1627200"/>
              <a:chExt cx="6022800" cy="3754440"/>
            </a:xfrm>
          </p:grpSpPr>
          <p:grpSp>
            <p:nvGrpSpPr>
              <p:cNvPr id="575" name="Group 58"/>
              <p:cNvGrpSpPr/>
              <p:nvPr/>
            </p:nvGrpSpPr>
            <p:grpSpPr>
              <a:xfrm>
                <a:off x="1173240" y="1749600"/>
                <a:ext cx="2298600" cy="3617640"/>
                <a:chOff x="1173240" y="1749600"/>
                <a:chExt cx="2298600" cy="3617640"/>
              </a:xfrm>
            </p:grpSpPr>
            <p:grpSp>
              <p:nvGrpSpPr>
                <p:cNvPr id="576" name="Group 4"/>
                <p:cNvGrpSpPr/>
                <p:nvPr/>
              </p:nvGrpSpPr>
              <p:grpSpPr>
                <a:xfrm>
                  <a:off x="1928880" y="2327400"/>
                  <a:ext cx="1101240" cy="412200"/>
                  <a:chOff x="1928880" y="2327400"/>
                  <a:chExt cx="1101240" cy="412200"/>
                </a:xfrm>
              </p:grpSpPr>
              <p:grpSp>
                <p:nvGrpSpPr>
                  <p:cNvPr id="577" name="Group 5"/>
                  <p:cNvGrpSpPr/>
                  <p:nvPr/>
                </p:nvGrpSpPr>
                <p:grpSpPr>
                  <a:xfrm>
                    <a:off x="1979280" y="2327400"/>
                    <a:ext cx="1050840" cy="412200"/>
                    <a:chOff x="1979280" y="2327400"/>
                    <a:chExt cx="1050840" cy="412200"/>
                  </a:xfrm>
                </p:grpSpPr>
                <p:sp>
                  <p:nvSpPr>
                    <p:cNvPr id="578" name="Freeform 6"/>
                    <p:cNvSpPr/>
                    <p:nvPr/>
                  </p:nvSpPr>
                  <p:spPr>
                    <a:xfrm>
                      <a:off x="1979280" y="2327400"/>
                      <a:ext cx="1050840" cy="406080"/>
                    </a:xfrm>
                    <a:custGeom>
                      <a:avLst/>
                      <a:gdLst>
                        <a:gd name="textAreaLeft" fmla="*/ 0 w 1050840"/>
                        <a:gd name="textAreaRight" fmla="*/ 1051200 w 1050840"/>
                        <a:gd name="textAreaTop" fmla="*/ 0 h 406080"/>
                        <a:gd name="textAreaBottom" fmla="*/ 406440 h 406080"/>
                      </a:gdLst>
                      <a:ahLst/>
                      <a:rect l="textAreaLeft" t="textAreaTop" r="textAreaRight" b="textAreaBottom"/>
                      <a:pathLst>
                        <a:path w="662" h="256">
                          <a:moveTo>
                            <a:pt x="0" y="0"/>
                          </a:moveTo>
                          <a:lnTo>
                            <a:pt x="84" y="0"/>
                          </a:lnTo>
                          <a:lnTo>
                            <a:pt x="103" y="13"/>
                          </a:lnTo>
                          <a:lnTo>
                            <a:pt x="121" y="25"/>
                          </a:lnTo>
                          <a:lnTo>
                            <a:pt x="141" y="38"/>
                          </a:lnTo>
                          <a:lnTo>
                            <a:pt x="164" y="53"/>
                          </a:lnTo>
                          <a:lnTo>
                            <a:pt x="185" y="67"/>
                          </a:lnTo>
                          <a:lnTo>
                            <a:pt x="205" y="80"/>
                          </a:lnTo>
                          <a:lnTo>
                            <a:pt x="222" y="92"/>
                          </a:lnTo>
                          <a:lnTo>
                            <a:pt x="237" y="103"/>
                          </a:lnTo>
                          <a:lnTo>
                            <a:pt x="255" y="116"/>
                          </a:lnTo>
                          <a:lnTo>
                            <a:pt x="269" y="128"/>
                          </a:lnTo>
                          <a:lnTo>
                            <a:pt x="284" y="141"/>
                          </a:lnTo>
                          <a:lnTo>
                            <a:pt x="299" y="155"/>
                          </a:lnTo>
                          <a:lnTo>
                            <a:pt x="311" y="168"/>
                          </a:lnTo>
                          <a:lnTo>
                            <a:pt x="322" y="182"/>
                          </a:lnTo>
                          <a:lnTo>
                            <a:pt x="332" y="169"/>
                          </a:lnTo>
                          <a:lnTo>
                            <a:pt x="342" y="155"/>
                          </a:lnTo>
                          <a:lnTo>
                            <a:pt x="355" y="139"/>
                          </a:lnTo>
                          <a:lnTo>
                            <a:pt x="369" y="123"/>
                          </a:lnTo>
                          <a:lnTo>
                            <a:pt x="383" y="108"/>
                          </a:lnTo>
                          <a:lnTo>
                            <a:pt x="400" y="92"/>
                          </a:lnTo>
                          <a:lnTo>
                            <a:pt x="420" y="76"/>
                          </a:lnTo>
                          <a:lnTo>
                            <a:pt x="450" y="57"/>
                          </a:lnTo>
                          <a:lnTo>
                            <a:pt x="473" y="42"/>
                          </a:lnTo>
                          <a:lnTo>
                            <a:pt x="498" y="29"/>
                          </a:lnTo>
                          <a:lnTo>
                            <a:pt x="524" y="17"/>
                          </a:lnTo>
                          <a:lnTo>
                            <a:pt x="568" y="0"/>
                          </a:lnTo>
                          <a:lnTo>
                            <a:pt x="661" y="0"/>
                          </a:lnTo>
                          <a:lnTo>
                            <a:pt x="628" y="13"/>
                          </a:lnTo>
                          <a:lnTo>
                            <a:pt x="595" y="30"/>
                          </a:lnTo>
                          <a:lnTo>
                            <a:pt x="566" y="45"/>
                          </a:lnTo>
                          <a:lnTo>
                            <a:pt x="539" y="60"/>
                          </a:lnTo>
                          <a:lnTo>
                            <a:pt x="509" y="78"/>
                          </a:lnTo>
                          <a:lnTo>
                            <a:pt x="483" y="95"/>
                          </a:lnTo>
                          <a:lnTo>
                            <a:pt x="465" y="108"/>
                          </a:lnTo>
                          <a:lnTo>
                            <a:pt x="446" y="125"/>
                          </a:lnTo>
                          <a:lnTo>
                            <a:pt x="430" y="141"/>
                          </a:lnTo>
                          <a:lnTo>
                            <a:pt x="418" y="153"/>
                          </a:lnTo>
                          <a:lnTo>
                            <a:pt x="404" y="169"/>
                          </a:lnTo>
                          <a:lnTo>
                            <a:pt x="394" y="182"/>
                          </a:lnTo>
                          <a:lnTo>
                            <a:pt x="388" y="191"/>
                          </a:lnTo>
                          <a:lnTo>
                            <a:pt x="380" y="202"/>
                          </a:lnTo>
                          <a:lnTo>
                            <a:pt x="375" y="212"/>
                          </a:lnTo>
                          <a:lnTo>
                            <a:pt x="422" y="212"/>
                          </a:lnTo>
                          <a:lnTo>
                            <a:pt x="335" y="255"/>
                          </a:lnTo>
                          <a:lnTo>
                            <a:pt x="242" y="212"/>
                          </a:lnTo>
                          <a:lnTo>
                            <a:pt x="288" y="212"/>
                          </a:lnTo>
                          <a:lnTo>
                            <a:pt x="284" y="204"/>
                          </a:lnTo>
                          <a:lnTo>
                            <a:pt x="278" y="195"/>
                          </a:lnTo>
                          <a:lnTo>
                            <a:pt x="268" y="186"/>
                          </a:lnTo>
                          <a:lnTo>
                            <a:pt x="256" y="174"/>
                          </a:lnTo>
                          <a:lnTo>
                            <a:pt x="241" y="163"/>
                          </a:lnTo>
                          <a:lnTo>
                            <a:pt x="229" y="153"/>
                          </a:lnTo>
                          <a:lnTo>
                            <a:pt x="216" y="143"/>
                          </a:lnTo>
                          <a:lnTo>
                            <a:pt x="201" y="131"/>
                          </a:lnTo>
                          <a:lnTo>
                            <a:pt x="188" y="122"/>
                          </a:lnTo>
                          <a:lnTo>
                            <a:pt x="174" y="111"/>
                          </a:lnTo>
                          <a:lnTo>
                            <a:pt x="146" y="92"/>
                          </a:lnTo>
                          <a:lnTo>
                            <a:pt x="124" y="77"/>
                          </a:lnTo>
                          <a:lnTo>
                            <a:pt x="107" y="66"/>
                          </a:lnTo>
                          <a:lnTo>
                            <a:pt x="91" y="56"/>
                          </a:lnTo>
                          <a:lnTo>
                            <a:pt x="68" y="41"/>
                          </a:lnTo>
                          <a:lnTo>
                            <a:pt x="46" y="27"/>
                          </a:lnTo>
                          <a:lnTo>
                            <a:pt x="24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681b8"/>
                    </a:solidFill>
                    <a:ln cap="rnd" w="12600">
                      <a:solidFill>
                        <a:srgbClr val="33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Freeform 7"/>
                    <p:cNvSpPr/>
                    <p:nvPr/>
                  </p:nvSpPr>
                  <p:spPr>
                    <a:xfrm>
                      <a:off x="2526840" y="2663640"/>
                      <a:ext cx="123480" cy="26640"/>
                    </a:xfrm>
                    <a:custGeom>
                      <a:avLst/>
                      <a:gdLst>
                        <a:gd name="textAreaLeft" fmla="*/ 0 w 123480"/>
                        <a:gd name="textAreaRight" fmla="*/ 123840 w 123480"/>
                        <a:gd name="textAreaTop" fmla="*/ 0 h 26640"/>
                        <a:gd name="textAreaBottom" fmla="*/ 27000 h 26640"/>
                      </a:gdLst>
                      <a:ahLst/>
                      <a:rect l="textAreaLeft" t="textAreaTop" r="textAreaRight" b="textAreaBottom"/>
                      <a:pathLst>
                        <a:path w="78" h="17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77" y="0"/>
                          </a:lnTo>
                          <a:lnTo>
                            <a:pt x="45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solidFill>
                      <a:srgbClr val="8681b8"/>
                    </a:solidFill>
                    <a:ln cap="rnd" w="12600">
                      <a:solidFill>
                        <a:srgbClr val="33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8"/>
                    <p:cNvSpPr/>
                    <p:nvPr/>
                  </p:nvSpPr>
                  <p:spPr>
                    <a:xfrm>
                      <a:off x="2461680" y="2663640"/>
                      <a:ext cx="188640" cy="75960"/>
                    </a:xfrm>
                    <a:custGeom>
                      <a:avLst/>
                      <a:gdLst>
                        <a:gd name="textAreaLeft" fmla="*/ 0 w 188640"/>
                        <a:gd name="textAreaRight" fmla="*/ 189000 w 188640"/>
                        <a:gd name="textAreaTop" fmla="*/ 0 h 75960"/>
                        <a:gd name="textAreaBottom" fmla="*/ 76320 h 75960"/>
                      </a:gdLst>
                      <a:ahLst/>
                      <a:rect l="textAreaLeft" t="textAreaTop" r="textAreaRight" b="textAreaBottom"/>
                      <a:pathLst>
                        <a:path w="119" h="48">
                          <a:moveTo>
                            <a:pt x="0" y="47"/>
                          </a:moveTo>
                          <a:lnTo>
                            <a:pt x="31" y="43"/>
                          </a:lnTo>
                          <a:lnTo>
                            <a:pt x="118" y="0"/>
                          </a:lnTo>
                          <a:lnTo>
                            <a:pt x="86" y="4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8681b8"/>
                    </a:solidFill>
                    <a:ln cap="rnd" w="12600">
                      <a:solidFill>
                        <a:srgbClr val="33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Freeform 9"/>
                    <p:cNvSpPr/>
                    <p:nvPr/>
                  </p:nvSpPr>
                  <p:spPr>
                    <a:xfrm>
                      <a:off x="2315520" y="2663640"/>
                      <a:ext cx="91800" cy="26640"/>
                    </a:xfrm>
                    <a:custGeom>
                      <a:avLst/>
                      <a:gdLst>
                        <a:gd name="textAreaLeft" fmla="*/ 0 w 91800"/>
                        <a:gd name="textAreaRight" fmla="*/ 92160 w 91800"/>
                        <a:gd name="textAreaTop" fmla="*/ 0 h 26640"/>
                        <a:gd name="textAreaBottom" fmla="*/ 27000 h 26640"/>
                      </a:gdLst>
                      <a:ahLst/>
                      <a:rect l="textAreaLeft" t="textAreaTop" r="textAreaRight" b="textAreaBottom"/>
                      <a:pathLst>
                        <a:path w="58" h="17">
                          <a:moveTo>
                            <a:pt x="0" y="16"/>
                          </a:moveTo>
                          <a:lnTo>
                            <a:pt x="48" y="16"/>
                          </a:lnTo>
                          <a:lnTo>
                            <a:pt x="57" y="0"/>
                          </a:lnTo>
                          <a:lnTo>
                            <a:pt x="29" y="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solidFill>
                      <a:srgbClr val="8681b8"/>
                    </a:solidFill>
                    <a:ln cap="rnd" w="12600">
                      <a:solidFill>
                        <a:srgbClr val="33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2" name="Freeform 10"/>
                  <p:cNvSpPr/>
                  <p:nvPr/>
                </p:nvSpPr>
                <p:spPr>
                  <a:xfrm>
                    <a:off x="2833560" y="2327400"/>
                    <a:ext cx="196560" cy="26640"/>
                  </a:xfrm>
                  <a:custGeom>
                    <a:avLst/>
                    <a:gdLst>
                      <a:gd name="textAreaLeft" fmla="*/ 0 w 196560"/>
                      <a:gd name="textAreaRight" fmla="*/ 196920 w 1965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124" h="17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123" y="0"/>
                        </a:lnTo>
                        <a:lnTo>
                          <a:pt x="92" y="16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681b8"/>
                  </a:solidFill>
                  <a:ln cap="rnd" w="1260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Freeform 11"/>
                  <p:cNvSpPr/>
                  <p:nvPr/>
                </p:nvSpPr>
                <p:spPr>
                  <a:xfrm>
                    <a:off x="1928880" y="2327400"/>
                    <a:ext cx="183960" cy="26640"/>
                  </a:xfrm>
                  <a:custGeom>
                    <a:avLst/>
                    <a:gdLst>
                      <a:gd name="textAreaLeft" fmla="*/ 0 w 183960"/>
                      <a:gd name="textAreaRight" fmla="*/ 184320 w 1839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116" h="17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115" y="0"/>
                        </a:lnTo>
                        <a:lnTo>
                          <a:pt x="84" y="16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681b8"/>
                  </a:solidFill>
                  <a:ln cap="rnd" w="1260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Group 12"/>
                <p:cNvGrpSpPr/>
                <p:nvPr/>
              </p:nvGrpSpPr>
              <p:grpSpPr>
                <a:xfrm>
                  <a:off x="1542960" y="1749600"/>
                  <a:ext cx="930240" cy="519120"/>
                  <a:chOff x="1542960" y="1749600"/>
                  <a:chExt cx="930240" cy="519120"/>
                </a:xfrm>
              </p:grpSpPr>
              <p:sp>
                <p:nvSpPr>
                  <p:cNvPr id="585" name="Rectangle 13"/>
                  <p:cNvSpPr/>
                  <p:nvPr/>
                </p:nvSpPr>
                <p:spPr>
                  <a:xfrm>
                    <a:off x="1542960" y="1749600"/>
                    <a:ext cx="930240" cy="5191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Rectangle 14"/>
                  <p:cNvSpPr/>
                  <p:nvPr/>
                </p:nvSpPr>
                <p:spPr>
                  <a:xfrm>
                    <a:off x="1546200" y="1862280"/>
                    <a:ext cx="87624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9f0df"/>
                        </a:solidFill>
                        <a:latin typeface="Arial"/>
                      </a:rPr>
                      <a:t>Verdadero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" name="Rectangle 15"/>
                <p:cNvSpPr/>
                <p:nvPr/>
              </p:nvSpPr>
              <p:spPr>
                <a:xfrm>
                  <a:off x="2530440" y="1755720"/>
                  <a:ext cx="941400" cy="50796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Rectangle 16"/>
                <p:cNvSpPr/>
                <p:nvPr/>
              </p:nvSpPr>
              <p:spPr>
                <a:xfrm>
                  <a:off x="2614680" y="1793160"/>
                  <a:ext cx="857160" cy="4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999999"/>
                      </a:solidFill>
                      <a:latin typeface="Arial"/>
                    </a:rPr>
                    <a:t>Aleatorios y disperso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Rectangle 17"/>
                <p:cNvSpPr/>
                <p:nvPr/>
              </p:nvSpPr>
              <p:spPr>
                <a:xfrm>
                  <a:off x="1173240" y="5065560"/>
                  <a:ext cx="18072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90" name="Picture 5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06560" y="2811600"/>
                  <a:ext cx="1295280" cy="203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1" name="Group 59"/>
              <p:cNvGrpSpPr/>
              <p:nvPr/>
            </p:nvGrpSpPr>
            <p:grpSpPr>
              <a:xfrm>
                <a:off x="4562280" y="1627200"/>
                <a:ext cx="2633760" cy="3754440"/>
                <a:chOff x="4562280" y="1627200"/>
                <a:chExt cx="2633760" cy="3754440"/>
              </a:xfrm>
            </p:grpSpPr>
            <p:grpSp>
              <p:nvGrpSpPr>
                <p:cNvPr id="592" name="Group 36"/>
                <p:cNvGrpSpPr/>
                <p:nvPr/>
              </p:nvGrpSpPr>
              <p:grpSpPr>
                <a:xfrm>
                  <a:off x="5851440" y="2414520"/>
                  <a:ext cx="1103400" cy="412920"/>
                  <a:chOff x="5851440" y="2414520"/>
                  <a:chExt cx="1103400" cy="412920"/>
                </a:xfrm>
              </p:grpSpPr>
              <p:grpSp>
                <p:nvGrpSpPr>
                  <p:cNvPr id="593" name="Group 37"/>
                  <p:cNvGrpSpPr/>
                  <p:nvPr/>
                </p:nvGrpSpPr>
                <p:grpSpPr>
                  <a:xfrm>
                    <a:off x="5902200" y="2414520"/>
                    <a:ext cx="1052640" cy="412920"/>
                    <a:chOff x="5902200" y="2414520"/>
                    <a:chExt cx="1052640" cy="412920"/>
                  </a:xfrm>
                </p:grpSpPr>
                <p:sp>
                  <p:nvSpPr>
                    <p:cNvPr id="594" name="Freeform 38"/>
                    <p:cNvSpPr/>
                    <p:nvPr/>
                  </p:nvSpPr>
                  <p:spPr>
                    <a:xfrm>
                      <a:off x="5902200" y="2414520"/>
                      <a:ext cx="1052640" cy="406440"/>
                    </a:xfrm>
                    <a:custGeom>
                      <a:avLst/>
                      <a:gdLst>
                        <a:gd name="textAreaLeft" fmla="*/ 0 w 1052640"/>
                        <a:gd name="textAreaRight" fmla="*/ 1053000 w 1052640"/>
                        <a:gd name="textAreaTop" fmla="*/ 0 h 406440"/>
                        <a:gd name="textAreaBottom" fmla="*/ 406800 h 406440"/>
                      </a:gdLst>
                      <a:ahLst/>
                      <a:rect l="textAreaLeft" t="textAreaTop" r="textAreaRight" b="textAreaBottom"/>
                      <a:pathLst>
                        <a:path w="663" h="256">
                          <a:moveTo>
                            <a:pt x="0" y="0"/>
                          </a:moveTo>
                          <a:lnTo>
                            <a:pt x="85" y="0"/>
                          </a:lnTo>
                          <a:lnTo>
                            <a:pt x="103" y="13"/>
                          </a:lnTo>
                          <a:lnTo>
                            <a:pt x="121" y="25"/>
                          </a:lnTo>
                          <a:lnTo>
                            <a:pt x="141" y="38"/>
                          </a:lnTo>
                          <a:lnTo>
                            <a:pt x="164" y="53"/>
                          </a:lnTo>
                          <a:lnTo>
                            <a:pt x="185" y="67"/>
                          </a:lnTo>
                          <a:lnTo>
                            <a:pt x="205" y="80"/>
                          </a:lnTo>
                          <a:lnTo>
                            <a:pt x="222" y="92"/>
                          </a:lnTo>
                          <a:lnTo>
                            <a:pt x="238" y="103"/>
                          </a:lnTo>
                          <a:lnTo>
                            <a:pt x="255" y="116"/>
                          </a:lnTo>
                          <a:lnTo>
                            <a:pt x="269" y="128"/>
                          </a:lnTo>
                          <a:lnTo>
                            <a:pt x="284" y="141"/>
                          </a:lnTo>
                          <a:lnTo>
                            <a:pt x="299" y="155"/>
                          </a:lnTo>
                          <a:lnTo>
                            <a:pt x="312" y="168"/>
                          </a:lnTo>
                          <a:lnTo>
                            <a:pt x="323" y="182"/>
                          </a:lnTo>
                          <a:lnTo>
                            <a:pt x="332" y="169"/>
                          </a:lnTo>
                          <a:lnTo>
                            <a:pt x="343" y="155"/>
                          </a:lnTo>
                          <a:lnTo>
                            <a:pt x="355" y="139"/>
                          </a:lnTo>
                          <a:lnTo>
                            <a:pt x="369" y="123"/>
                          </a:lnTo>
                          <a:lnTo>
                            <a:pt x="384" y="108"/>
                          </a:lnTo>
                          <a:lnTo>
                            <a:pt x="401" y="92"/>
                          </a:lnTo>
                          <a:lnTo>
                            <a:pt x="421" y="76"/>
                          </a:lnTo>
                          <a:lnTo>
                            <a:pt x="450" y="57"/>
                          </a:lnTo>
                          <a:lnTo>
                            <a:pt x="473" y="42"/>
                          </a:lnTo>
                          <a:lnTo>
                            <a:pt x="499" y="29"/>
                          </a:lnTo>
                          <a:lnTo>
                            <a:pt x="525" y="17"/>
                          </a:lnTo>
                          <a:lnTo>
                            <a:pt x="569" y="0"/>
                          </a:lnTo>
                          <a:lnTo>
                            <a:pt x="662" y="0"/>
                          </a:lnTo>
                          <a:lnTo>
                            <a:pt x="629" y="13"/>
                          </a:lnTo>
                          <a:lnTo>
                            <a:pt x="596" y="30"/>
                          </a:lnTo>
                          <a:lnTo>
                            <a:pt x="567" y="45"/>
                          </a:lnTo>
                          <a:lnTo>
                            <a:pt x="540" y="60"/>
                          </a:lnTo>
                          <a:lnTo>
                            <a:pt x="510" y="78"/>
                          </a:lnTo>
                          <a:lnTo>
                            <a:pt x="484" y="95"/>
                          </a:lnTo>
                          <a:lnTo>
                            <a:pt x="466" y="108"/>
                          </a:lnTo>
                          <a:lnTo>
                            <a:pt x="447" y="125"/>
                          </a:lnTo>
                          <a:lnTo>
                            <a:pt x="431" y="141"/>
                          </a:lnTo>
                          <a:lnTo>
                            <a:pt x="419" y="153"/>
                          </a:lnTo>
                          <a:lnTo>
                            <a:pt x="405" y="169"/>
                          </a:lnTo>
                          <a:lnTo>
                            <a:pt x="395" y="182"/>
                          </a:lnTo>
                          <a:lnTo>
                            <a:pt x="388" y="191"/>
                          </a:lnTo>
                          <a:lnTo>
                            <a:pt x="381" y="202"/>
                          </a:lnTo>
                          <a:lnTo>
                            <a:pt x="376" y="212"/>
                          </a:lnTo>
                          <a:lnTo>
                            <a:pt x="422" y="212"/>
                          </a:lnTo>
                          <a:lnTo>
                            <a:pt x="336" y="255"/>
                          </a:lnTo>
                          <a:lnTo>
                            <a:pt x="242" y="212"/>
                          </a:lnTo>
                          <a:lnTo>
                            <a:pt x="289" y="212"/>
                          </a:lnTo>
                          <a:lnTo>
                            <a:pt x="285" y="204"/>
                          </a:lnTo>
                          <a:lnTo>
                            <a:pt x="278" y="195"/>
                          </a:lnTo>
                          <a:lnTo>
                            <a:pt x="269" y="186"/>
                          </a:lnTo>
                          <a:lnTo>
                            <a:pt x="256" y="174"/>
                          </a:lnTo>
                          <a:lnTo>
                            <a:pt x="242" y="163"/>
                          </a:lnTo>
                          <a:lnTo>
                            <a:pt x="229" y="153"/>
                          </a:lnTo>
                          <a:lnTo>
                            <a:pt x="216" y="143"/>
                          </a:lnTo>
                          <a:lnTo>
                            <a:pt x="201" y="131"/>
                          </a:lnTo>
                          <a:lnTo>
                            <a:pt x="189" y="122"/>
                          </a:lnTo>
                          <a:lnTo>
                            <a:pt x="174" y="111"/>
                          </a:lnTo>
                          <a:lnTo>
                            <a:pt x="146" y="92"/>
                          </a:lnTo>
                          <a:lnTo>
                            <a:pt x="125" y="77"/>
                          </a:lnTo>
                          <a:lnTo>
                            <a:pt x="107" y="66"/>
                          </a:lnTo>
                          <a:lnTo>
                            <a:pt x="91" y="56"/>
                          </a:lnTo>
                          <a:lnTo>
                            <a:pt x="68" y="41"/>
                          </a:lnTo>
                          <a:lnTo>
                            <a:pt x="46" y="27"/>
                          </a:lnTo>
                          <a:lnTo>
                            <a:pt x="24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681b8"/>
                    </a:solidFill>
                    <a:ln cap="rnd" w="12600">
                      <a:solidFill>
                        <a:srgbClr val="33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39"/>
                    <p:cNvSpPr/>
                    <p:nvPr/>
                  </p:nvSpPr>
                  <p:spPr>
                    <a:xfrm>
                      <a:off x="6451560" y="2751120"/>
                      <a:ext cx="123840" cy="27000"/>
                    </a:xfrm>
                    <a:custGeom>
                      <a:avLst/>
                      <a:gdLst>
                        <a:gd name="textAreaLeft" fmla="*/ 0 w 123840"/>
                        <a:gd name="textAreaRight" fmla="*/ 124200 w 123840"/>
                        <a:gd name="textAreaTop" fmla="*/ 0 h 27000"/>
                        <a:gd name="textAreaBottom" fmla="*/ 27360 h 27000"/>
                      </a:gdLst>
                      <a:ahLst/>
                      <a:rect l="textAreaLeft" t="textAreaTop" r="textAreaRight" b="textAreaBottom"/>
                      <a:pathLst>
                        <a:path w="78" h="17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77" y="0"/>
                          </a:lnTo>
                          <a:lnTo>
                            <a:pt x="45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solidFill>
                      <a:srgbClr val="8681b8"/>
                    </a:solidFill>
                    <a:ln cap="rnd" w="12600">
                      <a:solidFill>
                        <a:srgbClr val="33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Freeform 40"/>
                    <p:cNvSpPr/>
                    <p:nvPr/>
                  </p:nvSpPr>
                  <p:spPr>
                    <a:xfrm>
                      <a:off x="6386400" y="2751120"/>
                      <a:ext cx="189000" cy="76320"/>
                    </a:xfrm>
                    <a:custGeom>
                      <a:avLst/>
                      <a:gdLst>
                        <a:gd name="textAreaLeft" fmla="*/ 0 w 189000"/>
                        <a:gd name="textAreaRight" fmla="*/ 189360 w 18900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119" h="48">
                          <a:moveTo>
                            <a:pt x="0" y="47"/>
                          </a:moveTo>
                          <a:lnTo>
                            <a:pt x="31" y="43"/>
                          </a:lnTo>
                          <a:lnTo>
                            <a:pt x="118" y="0"/>
                          </a:lnTo>
                          <a:lnTo>
                            <a:pt x="86" y="4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8681b8"/>
                    </a:solidFill>
                    <a:ln cap="rnd" w="12600">
                      <a:solidFill>
                        <a:srgbClr val="33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Freeform 41"/>
                    <p:cNvSpPr/>
                    <p:nvPr/>
                  </p:nvSpPr>
                  <p:spPr>
                    <a:xfrm>
                      <a:off x="6238800" y="2751120"/>
                      <a:ext cx="92160" cy="27000"/>
                    </a:xfrm>
                    <a:custGeom>
                      <a:avLst/>
                      <a:gdLst>
                        <a:gd name="textAreaLeft" fmla="*/ 0 w 92160"/>
                        <a:gd name="textAreaRight" fmla="*/ 92520 w 92160"/>
                        <a:gd name="textAreaTop" fmla="*/ 0 h 27000"/>
                        <a:gd name="textAreaBottom" fmla="*/ 27360 h 27000"/>
                      </a:gdLst>
                      <a:ahLst/>
                      <a:rect l="textAreaLeft" t="textAreaTop" r="textAreaRight" b="textAreaBottom"/>
                      <a:pathLst>
                        <a:path w="58" h="17">
                          <a:moveTo>
                            <a:pt x="0" y="16"/>
                          </a:moveTo>
                          <a:lnTo>
                            <a:pt x="48" y="16"/>
                          </a:lnTo>
                          <a:lnTo>
                            <a:pt x="57" y="0"/>
                          </a:lnTo>
                          <a:lnTo>
                            <a:pt x="29" y="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solidFill>
                      <a:srgbClr val="8681b8"/>
                    </a:solidFill>
                    <a:ln cap="rnd" w="12600">
                      <a:solidFill>
                        <a:srgbClr val="33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8" name="Freeform 42"/>
                  <p:cNvSpPr/>
                  <p:nvPr/>
                </p:nvSpPr>
                <p:spPr>
                  <a:xfrm>
                    <a:off x="6757920" y="2414520"/>
                    <a:ext cx="196920" cy="27000"/>
                  </a:xfrm>
                  <a:custGeom>
                    <a:avLst/>
                    <a:gdLst>
                      <a:gd name="textAreaLeft" fmla="*/ 0 w 196920"/>
                      <a:gd name="textAreaRight" fmla="*/ 197280 w 19692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24" h="17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123" y="0"/>
                        </a:lnTo>
                        <a:lnTo>
                          <a:pt x="92" y="16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681b8"/>
                  </a:solidFill>
                  <a:ln cap="rnd" w="1260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Freeform 43"/>
                  <p:cNvSpPr/>
                  <p:nvPr/>
                </p:nvSpPr>
                <p:spPr>
                  <a:xfrm>
                    <a:off x="5851440" y="2414520"/>
                    <a:ext cx="184320" cy="2700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16" h="17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115" y="0"/>
                        </a:lnTo>
                        <a:lnTo>
                          <a:pt x="84" y="16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681b8"/>
                  </a:solidFill>
                  <a:ln cap="rnd" w="1260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Group 44"/>
                <p:cNvGrpSpPr/>
                <p:nvPr/>
              </p:nvGrpSpPr>
              <p:grpSpPr>
                <a:xfrm>
                  <a:off x="5400720" y="1681200"/>
                  <a:ext cx="995400" cy="676080"/>
                  <a:chOff x="5400720" y="1681200"/>
                  <a:chExt cx="995400" cy="676080"/>
                </a:xfrm>
              </p:grpSpPr>
              <p:sp>
                <p:nvSpPr>
                  <p:cNvPr id="601" name="Rectangle 45"/>
                  <p:cNvSpPr/>
                  <p:nvPr/>
                </p:nvSpPr>
                <p:spPr>
                  <a:xfrm>
                    <a:off x="5400720" y="1681200"/>
                    <a:ext cx="995400" cy="676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Rectangle 46"/>
                  <p:cNvSpPr/>
                  <p:nvPr/>
                </p:nvSpPr>
                <p:spPr>
                  <a:xfrm>
                    <a:off x="5403960" y="1862280"/>
                    <a:ext cx="876240" cy="2412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9f0df"/>
                        </a:solidFill>
                        <a:latin typeface="Arial"/>
                      </a:rPr>
                      <a:t>Verdadero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3" name="Rectangle 47"/>
                <p:cNvSpPr/>
                <p:nvPr/>
              </p:nvSpPr>
              <p:spPr>
                <a:xfrm>
                  <a:off x="6494400" y="2192400"/>
                  <a:ext cx="701640" cy="16488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Rectangle 48"/>
                <p:cNvSpPr/>
                <p:nvPr/>
              </p:nvSpPr>
              <p:spPr>
                <a:xfrm>
                  <a:off x="6342120" y="1627200"/>
                  <a:ext cx="1825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49"/>
                <p:cNvSpPr/>
                <p:nvPr/>
              </p:nvSpPr>
              <p:spPr>
                <a:xfrm>
                  <a:off x="4562280" y="5079960"/>
                  <a:ext cx="18108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6" name="Picture 5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96000" y="2882880"/>
                  <a:ext cx="1305000" cy="2028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07" name="Rectangle 16"/>
            <p:cNvSpPr/>
            <p:nvPr/>
          </p:nvSpPr>
          <p:spPr>
            <a:xfrm>
              <a:off x="6472080" y="1650240"/>
              <a:ext cx="857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99"/>
                  </a:solidFill>
                  <a:latin typeface="Arial"/>
                </a:rPr>
                <a:t>Aleatorios y disper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Rectangle 42"/>
          <p:cNvSpPr/>
          <p:nvPr/>
        </p:nvSpPr>
        <p:spPr>
          <a:xfrm>
            <a:off x="4915080" y="5059440"/>
            <a:ext cx="286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agen anterior con igual número de cuentas pero con una mejora de la rel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verdaderos/aleatorios y dispe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3"/>
          <p:cNvSpPr/>
          <p:nvPr/>
        </p:nvSpPr>
        <p:spPr>
          <a:xfrm>
            <a:off x="920880" y="4911840"/>
            <a:ext cx="282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agen de coincidencia típ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contiene un alto porcent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e eventos aleatorios y de los que incluyen fotones dispe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2D y 3D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332160" y="1285920"/>
            <a:ext cx="548784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2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Septos entre dos cort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Baja dispersión y aleatorieda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3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Elimina los septos intercor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lta sensibilidad (factor 10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lta aleatoriedad y dispersió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Susceptibilidad a la actividad ‘fuera del campo de visión’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12" name="Group 1071"/>
          <p:cNvGrpSpPr/>
          <p:nvPr/>
        </p:nvGrpSpPr>
        <p:grpSpPr>
          <a:xfrm>
            <a:off x="1014480" y="1015920"/>
            <a:ext cx="1828800" cy="5260320"/>
            <a:chOff x="1014480" y="1015920"/>
            <a:chExt cx="1828800" cy="5260320"/>
          </a:xfrm>
        </p:grpSpPr>
        <p:sp>
          <p:nvSpPr>
            <p:cNvPr id="613" name="Oval 1028"/>
            <p:cNvSpPr/>
            <p:nvPr/>
          </p:nvSpPr>
          <p:spPr>
            <a:xfrm>
              <a:off x="1243080" y="2387520"/>
              <a:ext cx="5331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29"/>
            <p:cNvSpPr/>
            <p:nvPr/>
          </p:nvSpPr>
          <p:spPr>
            <a:xfrm>
              <a:off x="1700280" y="2311200"/>
              <a:ext cx="849240" cy="43020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535" h="271">
                  <a:moveTo>
                    <a:pt x="535" y="266"/>
                  </a:moveTo>
                  <a:cubicBezTo>
                    <a:pt x="384" y="206"/>
                    <a:pt x="217" y="271"/>
                    <a:pt x="63" y="224"/>
                  </a:cubicBezTo>
                  <a:cubicBezTo>
                    <a:pt x="29" y="188"/>
                    <a:pt x="0" y="154"/>
                    <a:pt x="38" y="95"/>
                  </a:cubicBezTo>
                  <a:cubicBezTo>
                    <a:pt x="52" y="74"/>
                    <a:pt x="83" y="72"/>
                    <a:pt x="106" y="61"/>
                  </a:cubicBezTo>
                  <a:cubicBezTo>
                    <a:pt x="229" y="0"/>
                    <a:pt x="381" y="61"/>
                    <a:pt x="518" y="61"/>
                  </a:cubicBezTo>
                  <a:lnTo>
                    <a:pt x="535" y="2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1030"/>
            <p:cNvGrpSpPr/>
            <p:nvPr/>
          </p:nvGrpSpPr>
          <p:grpSpPr>
            <a:xfrm>
              <a:off x="1319040" y="1625400"/>
              <a:ext cx="381240" cy="457200"/>
              <a:chOff x="1319040" y="1625400"/>
              <a:chExt cx="381240" cy="457200"/>
            </a:xfrm>
          </p:grpSpPr>
          <p:sp>
            <p:nvSpPr>
              <p:cNvPr id="616" name="Line 1031"/>
              <p:cNvSpPr/>
              <p:nvPr/>
            </p:nvSpPr>
            <p:spPr>
              <a:xfrm>
                <a:off x="1319040" y="1625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1032"/>
              <p:cNvSpPr/>
              <p:nvPr/>
            </p:nvSpPr>
            <p:spPr>
              <a:xfrm>
                <a:off x="1319040" y="16254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1033"/>
              <p:cNvSpPr/>
              <p:nvPr/>
            </p:nvSpPr>
            <p:spPr>
              <a:xfrm>
                <a:off x="1700280" y="1625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1034"/>
              <p:cNvSpPr/>
              <p:nvPr/>
            </p:nvSpPr>
            <p:spPr>
              <a:xfrm>
                <a:off x="1319040" y="17780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1035"/>
              <p:cNvSpPr/>
              <p:nvPr/>
            </p:nvSpPr>
            <p:spPr>
              <a:xfrm>
                <a:off x="1395360" y="1778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1036"/>
              <p:cNvSpPr/>
              <p:nvPr/>
            </p:nvSpPr>
            <p:spPr>
              <a:xfrm>
                <a:off x="1471680" y="1778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1037"/>
              <p:cNvSpPr/>
              <p:nvPr/>
            </p:nvSpPr>
            <p:spPr>
              <a:xfrm>
                <a:off x="1547640" y="1778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1038"/>
              <p:cNvSpPr/>
              <p:nvPr/>
            </p:nvSpPr>
            <p:spPr>
              <a:xfrm>
                <a:off x="1623960" y="1778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1039"/>
            <p:cNvGrpSpPr/>
            <p:nvPr/>
          </p:nvGrpSpPr>
          <p:grpSpPr>
            <a:xfrm>
              <a:off x="1318680" y="2921040"/>
              <a:ext cx="381240" cy="457200"/>
              <a:chOff x="1318680" y="2921040"/>
              <a:chExt cx="381240" cy="457200"/>
            </a:xfrm>
          </p:grpSpPr>
          <p:sp>
            <p:nvSpPr>
              <p:cNvPr id="625" name="Line 1040"/>
              <p:cNvSpPr/>
              <p:nvPr/>
            </p:nvSpPr>
            <p:spPr>
              <a:xfrm flipV="1">
                <a:off x="1699920" y="29210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041"/>
              <p:cNvSpPr/>
              <p:nvPr/>
            </p:nvSpPr>
            <p:spPr>
              <a:xfrm flipH="1">
                <a:off x="1318680" y="33782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042"/>
              <p:cNvSpPr/>
              <p:nvPr/>
            </p:nvSpPr>
            <p:spPr>
              <a:xfrm flipV="1">
                <a:off x="1318680" y="29210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1043"/>
              <p:cNvSpPr/>
              <p:nvPr/>
            </p:nvSpPr>
            <p:spPr>
              <a:xfrm flipH="1">
                <a:off x="1318680" y="32256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044"/>
              <p:cNvSpPr/>
              <p:nvPr/>
            </p:nvSpPr>
            <p:spPr>
              <a:xfrm flipV="1">
                <a:off x="1623600" y="2921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1045"/>
              <p:cNvSpPr/>
              <p:nvPr/>
            </p:nvSpPr>
            <p:spPr>
              <a:xfrm flipV="1">
                <a:off x="1547280" y="2921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1046"/>
              <p:cNvSpPr/>
              <p:nvPr/>
            </p:nvSpPr>
            <p:spPr>
              <a:xfrm flipV="1">
                <a:off x="1471320" y="2921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1047"/>
              <p:cNvSpPr/>
              <p:nvPr/>
            </p:nvSpPr>
            <p:spPr>
              <a:xfrm flipV="1">
                <a:off x="1395000" y="2921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Line 1048"/>
            <p:cNvSpPr/>
            <p:nvPr/>
          </p:nvSpPr>
          <p:spPr>
            <a:xfrm>
              <a:off x="1471680" y="177804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49"/>
            <p:cNvSpPr/>
            <p:nvPr/>
          </p:nvSpPr>
          <p:spPr>
            <a:xfrm>
              <a:off x="1395360" y="223524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50"/>
            <p:cNvSpPr/>
            <p:nvPr/>
          </p:nvSpPr>
          <p:spPr>
            <a:xfrm flipH="1">
              <a:off x="1776240" y="2616120"/>
              <a:ext cx="1526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51"/>
            <p:cNvSpPr/>
            <p:nvPr/>
          </p:nvSpPr>
          <p:spPr>
            <a:xfrm flipH="1" flipV="1">
              <a:off x="1547280" y="215856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Group 1052"/>
            <p:cNvGrpSpPr/>
            <p:nvPr/>
          </p:nvGrpSpPr>
          <p:grpSpPr>
            <a:xfrm>
              <a:off x="1243080" y="3987720"/>
              <a:ext cx="1306440" cy="1751040"/>
              <a:chOff x="1243080" y="3987720"/>
              <a:chExt cx="1306440" cy="1751040"/>
            </a:xfrm>
          </p:grpSpPr>
          <p:sp>
            <p:nvSpPr>
              <p:cNvPr id="638" name="Oval 1053"/>
              <p:cNvSpPr/>
              <p:nvPr/>
            </p:nvSpPr>
            <p:spPr>
              <a:xfrm>
                <a:off x="1243080" y="4749840"/>
                <a:ext cx="533520" cy="304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054"/>
              <p:cNvSpPr/>
              <p:nvPr/>
            </p:nvSpPr>
            <p:spPr>
              <a:xfrm>
                <a:off x="1700280" y="4673520"/>
                <a:ext cx="849240" cy="43020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535" h="271">
                    <a:moveTo>
                      <a:pt x="535" y="266"/>
                    </a:moveTo>
                    <a:cubicBezTo>
                      <a:pt x="384" y="206"/>
                      <a:pt x="217" y="271"/>
                      <a:pt x="63" y="224"/>
                    </a:cubicBezTo>
                    <a:cubicBezTo>
                      <a:pt x="29" y="188"/>
                      <a:pt x="0" y="154"/>
                      <a:pt x="38" y="95"/>
                    </a:cubicBezTo>
                    <a:cubicBezTo>
                      <a:pt x="52" y="74"/>
                      <a:pt x="83" y="72"/>
                      <a:pt x="106" y="61"/>
                    </a:cubicBezTo>
                    <a:cubicBezTo>
                      <a:pt x="229" y="0"/>
                      <a:pt x="381" y="61"/>
                      <a:pt x="518" y="61"/>
                    </a:cubicBezTo>
                    <a:lnTo>
                      <a:pt x="535" y="26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055"/>
              <p:cNvSpPr/>
              <p:nvPr/>
            </p:nvSpPr>
            <p:spPr>
              <a:xfrm>
                <a:off x="1319400" y="3987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056"/>
              <p:cNvSpPr/>
              <p:nvPr/>
            </p:nvSpPr>
            <p:spPr>
              <a:xfrm>
                <a:off x="1319400" y="3987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057"/>
              <p:cNvSpPr/>
              <p:nvPr/>
            </p:nvSpPr>
            <p:spPr>
              <a:xfrm>
                <a:off x="1700280" y="3987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058"/>
              <p:cNvSpPr/>
              <p:nvPr/>
            </p:nvSpPr>
            <p:spPr>
              <a:xfrm>
                <a:off x="1319400" y="41400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059"/>
              <p:cNvSpPr/>
              <p:nvPr/>
            </p:nvSpPr>
            <p:spPr>
              <a:xfrm>
                <a:off x="1471680" y="41400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1060"/>
              <p:cNvSpPr/>
              <p:nvPr/>
            </p:nvSpPr>
            <p:spPr>
              <a:xfrm flipV="1">
                <a:off x="1698840" y="52815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061"/>
              <p:cNvSpPr/>
              <p:nvPr/>
            </p:nvSpPr>
            <p:spPr>
              <a:xfrm flipH="1">
                <a:off x="1317240" y="57387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062"/>
              <p:cNvSpPr/>
              <p:nvPr/>
            </p:nvSpPr>
            <p:spPr>
              <a:xfrm flipV="1">
                <a:off x="1317600" y="52815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063"/>
              <p:cNvSpPr/>
              <p:nvPr/>
            </p:nvSpPr>
            <p:spPr>
              <a:xfrm flipH="1">
                <a:off x="1317240" y="5586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064"/>
              <p:cNvSpPr/>
              <p:nvPr/>
            </p:nvSpPr>
            <p:spPr>
              <a:xfrm flipV="1">
                <a:off x="1470240" y="5281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065"/>
              <p:cNvSpPr/>
              <p:nvPr/>
            </p:nvSpPr>
            <p:spPr>
              <a:xfrm>
                <a:off x="1471680" y="414000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066"/>
              <p:cNvSpPr/>
              <p:nvPr/>
            </p:nvSpPr>
            <p:spPr>
              <a:xfrm>
                <a:off x="1395360" y="4216320"/>
                <a:ext cx="2286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067"/>
              <p:cNvSpPr/>
              <p:nvPr/>
            </p:nvSpPr>
            <p:spPr>
              <a:xfrm flipH="1">
                <a:off x="1776240" y="49021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068"/>
              <p:cNvSpPr/>
              <p:nvPr/>
            </p:nvSpPr>
            <p:spPr>
              <a:xfrm flipH="1" flipV="1">
                <a:off x="1471680" y="429228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Text Box 1069"/>
            <p:cNvSpPr/>
            <p:nvPr/>
          </p:nvSpPr>
          <p:spPr>
            <a:xfrm>
              <a:off x="1243080" y="10159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Modo 2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070"/>
            <p:cNvSpPr/>
            <p:nvPr/>
          </p:nvSpPr>
          <p:spPr>
            <a:xfrm>
              <a:off x="1014480" y="5816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Modo 3D</a:t>
              </a: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ndice estándar de captación (SUV) (*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58400" y="1305000"/>
            <a:ext cx="744084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V   = </a:t>
            </a:r>
            <a:r>
              <a:rPr b="0" lang="en-GB" sz="1800" spc="-1" strike="noStrike" u="sng">
                <a:solidFill>
                  <a:srgbClr val="003399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3399"/>
                </a:solidFill>
                <a:uFillTx/>
                <a:latin typeface="Arial"/>
              </a:rPr>
              <a:t>Actividad en ROI (MBq) / vol (ml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Actividad inyectada (MBq) / peso paciente (g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OI = zona de inter</a:t>
            </a:r>
            <a:r>
              <a:rPr b="0" lang="es-ES_tradnl" sz="1800" spc="-1" strike="noStrike">
                <a:solidFill>
                  <a:srgbClr val="003399"/>
                </a:solidFill>
                <a:latin typeface="Arial"/>
              </a:rPr>
              <a:t>és (region of  interest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as áreas cuya captación sea superior a la media tendrán el SUV&gt;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 mayor SUV en una zona o tejido, mayor riesgo de enfermeda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a comparación de los SUV sirve para controlar el efecto de la terapi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Pero sus valores sólo se deben utilizar por comparación, pero no sus valores absoluto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8" name="Group 27"/>
          <p:cNvGrpSpPr/>
          <p:nvPr/>
        </p:nvGrpSpPr>
        <p:grpSpPr>
          <a:xfrm>
            <a:off x="371520" y="4724280"/>
            <a:ext cx="8685720" cy="1378800"/>
            <a:chOff x="371520" y="4724280"/>
            <a:chExt cx="8685720" cy="1378800"/>
          </a:xfrm>
        </p:grpSpPr>
        <p:grpSp>
          <p:nvGrpSpPr>
            <p:cNvPr id="659" name="Group 24"/>
            <p:cNvGrpSpPr/>
            <p:nvPr/>
          </p:nvGrpSpPr>
          <p:grpSpPr>
            <a:xfrm>
              <a:off x="1029600" y="4724280"/>
              <a:ext cx="2473560" cy="1378800"/>
              <a:chOff x="1029600" y="4724280"/>
              <a:chExt cx="2473560" cy="1378800"/>
            </a:xfrm>
          </p:grpSpPr>
          <p:sp>
            <p:nvSpPr>
              <p:cNvPr id="660" name="Rectangle 25"/>
              <p:cNvSpPr/>
              <p:nvPr/>
            </p:nvSpPr>
            <p:spPr>
              <a:xfrm>
                <a:off x="1029600" y="5527440"/>
                <a:ext cx="247356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990000"/>
                    </a:solidFill>
                    <a:latin typeface="Arial"/>
                  </a:rPr>
                  <a:t>Antes de la quimioterap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990000"/>
                    </a:solidFill>
                    <a:latin typeface="Arial"/>
                  </a:rPr>
                  <a:t>SUV = 17.2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Group 26"/>
              <p:cNvGrpSpPr/>
              <p:nvPr/>
            </p:nvGrpSpPr>
            <p:grpSpPr>
              <a:xfrm>
                <a:off x="1206720" y="4724280"/>
                <a:ext cx="1820880" cy="735120"/>
                <a:chOff x="1206720" y="4724280"/>
                <a:chExt cx="1820880" cy="735120"/>
              </a:xfrm>
            </p:grpSpPr>
            <p:pic>
              <p:nvPicPr>
                <p:cNvPr id="662" name="Picture 2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08160" y="4748040"/>
                  <a:ext cx="1819440" cy="695520"/>
                </a:xfrm>
                <a:prstGeom prst="rect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</p:pic>
            <p:sp>
              <p:nvSpPr>
                <p:cNvPr id="663" name="Rectangle 28"/>
                <p:cNvSpPr/>
                <p:nvPr/>
              </p:nvSpPr>
              <p:spPr>
                <a:xfrm>
                  <a:off x="1206720" y="4724280"/>
                  <a:ext cx="1819080" cy="735120"/>
                </a:xfrm>
                <a:prstGeom prst="rect">
                  <a:avLst/>
                </a:prstGeom>
                <a:noFill/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Oval 29"/>
              <p:cNvSpPr/>
              <p:nvPr/>
            </p:nvSpPr>
            <p:spPr>
              <a:xfrm>
                <a:off x="2328840" y="4833720"/>
                <a:ext cx="301680" cy="289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30"/>
            <p:cNvGrpSpPr/>
            <p:nvPr/>
          </p:nvGrpSpPr>
          <p:grpSpPr>
            <a:xfrm>
              <a:off x="3468240" y="4724280"/>
              <a:ext cx="2844000" cy="1359720"/>
              <a:chOff x="3468240" y="4724280"/>
              <a:chExt cx="2844000" cy="1359720"/>
            </a:xfrm>
          </p:grpSpPr>
          <p:sp>
            <p:nvSpPr>
              <p:cNvPr id="666" name="Rectangle 31"/>
              <p:cNvSpPr/>
              <p:nvPr/>
            </p:nvSpPr>
            <p:spPr>
              <a:xfrm>
                <a:off x="3468240" y="5508360"/>
                <a:ext cx="28440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990000"/>
                    </a:solidFill>
                    <a:latin typeface="Arial"/>
                  </a:rPr>
                  <a:t>Tras 7 dias de Quimioterapia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990000"/>
                    </a:solidFill>
                    <a:latin typeface="Arial"/>
                  </a:rPr>
                  <a:t>SUV = 3.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" name="Group 32"/>
              <p:cNvGrpSpPr/>
              <p:nvPr/>
            </p:nvGrpSpPr>
            <p:grpSpPr>
              <a:xfrm>
                <a:off x="3911400" y="4724280"/>
                <a:ext cx="1808280" cy="734760"/>
                <a:chOff x="3911400" y="4724280"/>
                <a:chExt cx="1808280" cy="734760"/>
              </a:xfrm>
            </p:grpSpPr>
            <p:pic>
              <p:nvPicPr>
                <p:cNvPr id="668" name="Picture 3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40200" y="4741560"/>
                  <a:ext cx="1771560" cy="694800"/>
                </a:xfrm>
                <a:prstGeom prst="rect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</p:pic>
            <p:sp>
              <p:nvSpPr>
                <p:cNvPr id="669" name="Rectangle 34"/>
                <p:cNvSpPr/>
                <p:nvPr/>
              </p:nvSpPr>
              <p:spPr>
                <a:xfrm>
                  <a:off x="3911400" y="4724280"/>
                  <a:ext cx="1808280" cy="734760"/>
                </a:xfrm>
                <a:prstGeom prst="rect">
                  <a:avLst/>
                </a:prstGeom>
                <a:noFill/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Oval 35"/>
              <p:cNvSpPr/>
              <p:nvPr/>
            </p:nvSpPr>
            <p:spPr>
              <a:xfrm>
                <a:off x="5038560" y="4825800"/>
                <a:ext cx="301680" cy="289080"/>
              </a:xfrm>
              <a:prstGeom prst="ellipse">
                <a:avLst/>
              </a:prstGeom>
              <a:noFill/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36"/>
            <p:cNvGrpSpPr/>
            <p:nvPr/>
          </p:nvGrpSpPr>
          <p:grpSpPr>
            <a:xfrm>
              <a:off x="6157080" y="4724280"/>
              <a:ext cx="2900160" cy="1360080"/>
              <a:chOff x="6157080" y="4724280"/>
              <a:chExt cx="2900160" cy="1360080"/>
            </a:xfrm>
          </p:grpSpPr>
          <p:grpSp>
            <p:nvGrpSpPr>
              <p:cNvPr id="672" name="Group 37"/>
              <p:cNvGrpSpPr/>
              <p:nvPr/>
            </p:nvGrpSpPr>
            <p:grpSpPr>
              <a:xfrm>
                <a:off x="6764400" y="4724280"/>
                <a:ext cx="1735200" cy="723960"/>
                <a:chOff x="6764400" y="4724280"/>
                <a:chExt cx="1735200" cy="723960"/>
              </a:xfrm>
            </p:grpSpPr>
            <p:pic>
              <p:nvPicPr>
                <p:cNvPr id="673" name="Picture 3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786720" y="4749480"/>
                  <a:ext cx="1704960" cy="685800"/>
                </a:xfrm>
                <a:prstGeom prst="rect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</p:pic>
            <p:sp>
              <p:nvSpPr>
                <p:cNvPr id="674" name="Rectangle 39"/>
                <p:cNvSpPr/>
                <p:nvPr/>
              </p:nvSpPr>
              <p:spPr>
                <a:xfrm>
                  <a:off x="6764400" y="4724280"/>
                  <a:ext cx="1735200" cy="723960"/>
                </a:xfrm>
                <a:prstGeom prst="rect">
                  <a:avLst/>
                </a:prstGeom>
                <a:noFill/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Rectangle 40"/>
              <p:cNvSpPr/>
              <p:nvPr/>
            </p:nvSpPr>
            <p:spPr>
              <a:xfrm>
                <a:off x="6157080" y="5508720"/>
                <a:ext cx="290016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990000"/>
                    </a:solidFill>
                    <a:latin typeface="Arial"/>
                  </a:rPr>
                  <a:t>Tras 42 dias de Quimioterap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990000"/>
                    </a:solidFill>
                    <a:latin typeface="Arial"/>
                  </a:rPr>
                  <a:t>SUV = 1.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41"/>
              <p:cNvSpPr/>
              <p:nvPr/>
            </p:nvSpPr>
            <p:spPr>
              <a:xfrm>
                <a:off x="7805880" y="4886280"/>
                <a:ext cx="301320" cy="289080"/>
              </a:xfrm>
              <a:prstGeom prst="ellipse">
                <a:avLst/>
              </a:prstGeom>
              <a:noFill/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Text Box 42"/>
            <p:cNvSpPr/>
            <p:nvPr/>
          </p:nvSpPr>
          <p:spPr>
            <a:xfrm>
              <a:off x="371520" y="4795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RO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43"/>
            <p:cNvSpPr/>
            <p:nvPr/>
          </p:nvSpPr>
          <p:spPr>
            <a:xfrm>
              <a:off x="874440" y="4940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Text Box 29"/>
          <p:cNvSpPr/>
          <p:nvPr/>
        </p:nvSpPr>
        <p:spPr>
          <a:xfrm>
            <a:off x="2427120" y="6105600"/>
            <a:ext cx="52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U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del ingl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és 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 uptake valu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48" descr=""/>
          <p:cNvPicPr/>
          <p:nvPr/>
        </p:nvPicPr>
        <p:blipFill>
          <a:blip r:embed="rId1"/>
          <a:stretch/>
        </p:blipFill>
        <p:spPr>
          <a:xfrm>
            <a:off x="2195640" y="4941720"/>
            <a:ext cx="4133880" cy="82872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2"/>
          <p:cNvSpPr/>
          <p:nvPr/>
        </p:nvSpPr>
        <p:spPr>
          <a:xfrm>
            <a:off x="3895560" y="1881360"/>
            <a:ext cx="506916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Cristal de Nal de 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12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12.5 mm de profund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12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5940 cuadrados de 7mm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7 m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12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Reduce la dispersión de la luz en el cr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120000"/>
              </a:lnSpc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Refleja la luz hacia los fotomultiplicadores (TF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3"/>
          <p:cNvSpPr/>
          <p:nvPr/>
        </p:nvSpPr>
        <p:spPr>
          <a:xfrm flipH="1">
            <a:off x="1168200" y="4365720"/>
            <a:ext cx="99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541440" y="2017800"/>
            <a:ext cx="3344760" cy="2706480"/>
          </a:xfrm>
          <a:prstGeom prst="rect">
            <a:avLst/>
          </a:prstGeom>
          <a:solidFill>
            <a:srgbClr val="f9f0d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901800" y="3416400"/>
            <a:ext cx="2555640" cy="1041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6"/>
          <p:cNvSpPr/>
          <p:nvPr/>
        </p:nvSpPr>
        <p:spPr>
          <a:xfrm>
            <a:off x="739800" y="4459320"/>
            <a:ext cx="2935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7"/>
          <p:cNvGrpSpPr/>
          <p:nvPr/>
        </p:nvGrpSpPr>
        <p:grpSpPr>
          <a:xfrm>
            <a:off x="1060560" y="3411360"/>
            <a:ext cx="2209680" cy="506160"/>
            <a:chOff x="1060560" y="3411360"/>
            <a:chExt cx="2209680" cy="506160"/>
          </a:xfrm>
        </p:grpSpPr>
        <p:sp>
          <p:nvSpPr>
            <p:cNvPr id="687" name="Line 8"/>
            <p:cNvSpPr/>
            <p:nvPr/>
          </p:nvSpPr>
          <p:spPr>
            <a:xfrm>
              <a:off x="1332720" y="3415680"/>
              <a:ext cx="0" cy="49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9"/>
            <p:cNvSpPr/>
            <p:nvPr/>
          </p:nvSpPr>
          <p:spPr>
            <a:xfrm>
              <a:off x="1609920" y="3411360"/>
              <a:ext cx="0" cy="498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1885320" y="3419640"/>
              <a:ext cx="0" cy="49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2162160" y="3415680"/>
              <a:ext cx="0" cy="49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2"/>
            <p:cNvSpPr/>
            <p:nvPr/>
          </p:nvSpPr>
          <p:spPr>
            <a:xfrm>
              <a:off x="2439360" y="3411360"/>
              <a:ext cx="0" cy="498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3"/>
            <p:cNvSpPr/>
            <p:nvPr/>
          </p:nvSpPr>
          <p:spPr>
            <a:xfrm>
              <a:off x="2717640" y="3419640"/>
              <a:ext cx="0" cy="49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4"/>
            <p:cNvSpPr/>
            <p:nvPr/>
          </p:nvSpPr>
          <p:spPr>
            <a:xfrm>
              <a:off x="2993040" y="3415680"/>
              <a:ext cx="0" cy="49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5"/>
            <p:cNvSpPr/>
            <p:nvPr/>
          </p:nvSpPr>
          <p:spPr>
            <a:xfrm>
              <a:off x="3270240" y="3411360"/>
              <a:ext cx="0" cy="498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6"/>
            <p:cNvSpPr/>
            <p:nvPr/>
          </p:nvSpPr>
          <p:spPr>
            <a:xfrm>
              <a:off x="1060560" y="3411360"/>
              <a:ext cx="0" cy="498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Line 17"/>
          <p:cNvSpPr/>
          <p:nvPr/>
        </p:nvSpPr>
        <p:spPr>
          <a:xfrm>
            <a:off x="830160" y="3416400"/>
            <a:ext cx="2935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8"/>
          <p:cNvGrpSpPr/>
          <p:nvPr/>
        </p:nvGrpSpPr>
        <p:grpSpPr>
          <a:xfrm>
            <a:off x="627120" y="3160800"/>
            <a:ext cx="3128760" cy="218880"/>
            <a:chOff x="627120" y="3160800"/>
            <a:chExt cx="3128760" cy="218880"/>
          </a:xfrm>
        </p:grpSpPr>
        <p:sp>
          <p:nvSpPr>
            <p:cNvPr id="698" name="Rectangle 19"/>
            <p:cNvSpPr/>
            <p:nvPr/>
          </p:nvSpPr>
          <p:spPr>
            <a:xfrm>
              <a:off x="878400" y="3165480"/>
              <a:ext cx="2567520" cy="210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0"/>
            <p:cNvSpPr/>
            <p:nvPr/>
          </p:nvSpPr>
          <p:spPr>
            <a:xfrm>
              <a:off x="657360" y="3160800"/>
              <a:ext cx="3006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1"/>
            <p:cNvSpPr/>
            <p:nvPr/>
          </p:nvSpPr>
          <p:spPr>
            <a:xfrm>
              <a:off x="627120" y="3379680"/>
              <a:ext cx="3128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22"/>
          <p:cNvGrpSpPr/>
          <p:nvPr/>
        </p:nvGrpSpPr>
        <p:grpSpPr>
          <a:xfrm>
            <a:off x="971640" y="2146320"/>
            <a:ext cx="1125360" cy="980640"/>
            <a:chOff x="971640" y="2146320"/>
            <a:chExt cx="1125360" cy="980640"/>
          </a:xfrm>
        </p:grpSpPr>
        <p:sp>
          <p:nvSpPr>
            <p:cNvPr id="702" name="Rectangle 23"/>
            <p:cNvSpPr/>
            <p:nvPr/>
          </p:nvSpPr>
          <p:spPr>
            <a:xfrm>
              <a:off x="971640" y="2809800"/>
              <a:ext cx="1125360" cy="317160"/>
            </a:xfrm>
            <a:prstGeom prst="rect">
              <a:avLst/>
            </a:prstGeom>
            <a:solidFill>
              <a:srgbClr val="0033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24"/>
            <p:cNvSpPr/>
            <p:nvPr/>
          </p:nvSpPr>
          <p:spPr>
            <a:xfrm>
              <a:off x="1270440" y="2146320"/>
              <a:ext cx="528480" cy="664560"/>
            </a:xfrm>
            <a:prstGeom prst="rect">
              <a:avLst/>
            </a:prstGeom>
            <a:solidFill>
              <a:srgbClr val="0033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25"/>
            <p:cNvSpPr/>
            <p:nvPr/>
          </p:nvSpPr>
          <p:spPr>
            <a:xfrm>
              <a:off x="1285560" y="2389320"/>
              <a:ext cx="496080" cy="2743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ff"/>
                  </a:solidFill>
                  <a:latin typeface="Arial"/>
                </a:rPr>
                <a:t>TF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AutoShape 26"/>
          <p:cNvSpPr/>
          <p:nvPr/>
        </p:nvSpPr>
        <p:spPr>
          <a:xfrm>
            <a:off x="1257480" y="4114800"/>
            <a:ext cx="268200" cy="270000"/>
          </a:xfrm>
          <a:custGeom>
            <a:avLst/>
            <a:gdLst>
              <a:gd name="textAreaLeft" fmla="*/ 110160 w 268200"/>
              <a:gd name="textAreaRight" fmla="*/ 158040 w 268200"/>
              <a:gd name="textAreaTop" fmla="*/ 110880 h 270000"/>
              <a:gd name="textAreaBottom" fmla="*/ 159120 h 27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74" y="8874"/>
                </a:lnTo>
                <a:lnTo>
                  <a:pt x="10800" y="0"/>
                </a:lnTo>
                <a:lnTo>
                  <a:pt x="12726" y="8874"/>
                </a:lnTo>
                <a:lnTo>
                  <a:pt x="21600" y="10800"/>
                </a:lnTo>
                <a:lnTo>
                  <a:pt x="12726" y="12726"/>
                </a:lnTo>
                <a:lnTo>
                  <a:pt x="10800" y="21600"/>
                </a:lnTo>
                <a:lnTo>
                  <a:pt x="8874" y="1272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7"/>
          <p:cNvSpPr/>
          <p:nvPr/>
        </p:nvSpPr>
        <p:spPr>
          <a:xfrm flipH="1" flipV="1">
            <a:off x="1096560" y="3238200"/>
            <a:ext cx="244440" cy="974520"/>
          </a:xfrm>
          <a:prstGeom prst="line">
            <a:avLst/>
          </a:prstGeom>
          <a:ln w="28440">
            <a:solidFill>
              <a:srgbClr val="1e1e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8"/>
          <p:cNvSpPr/>
          <p:nvPr/>
        </p:nvSpPr>
        <p:spPr>
          <a:xfrm flipH="1" flipV="1">
            <a:off x="1415520" y="3239640"/>
            <a:ext cx="157320" cy="585720"/>
          </a:xfrm>
          <a:prstGeom prst="line">
            <a:avLst/>
          </a:prstGeom>
          <a:ln w="28440">
            <a:solidFill>
              <a:srgbClr val="1e1e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9"/>
          <p:cNvSpPr/>
          <p:nvPr/>
        </p:nvSpPr>
        <p:spPr>
          <a:xfrm flipV="1">
            <a:off x="1432080" y="3819240"/>
            <a:ext cx="139680" cy="39348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30"/>
          <p:cNvSpPr/>
          <p:nvPr/>
        </p:nvSpPr>
        <p:spPr>
          <a:xfrm>
            <a:off x="2743200" y="3581280"/>
            <a:ext cx="270000" cy="268560"/>
          </a:xfrm>
          <a:custGeom>
            <a:avLst/>
            <a:gdLst>
              <a:gd name="textAreaLeft" fmla="*/ 110880 w 270000"/>
              <a:gd name="textAreaRight" fmla="*/ 159120 w 270000"/>
              <a:gd name="textAreaTop" fmla="*/ 110160 h 268560"/>
              <a:gd name="textAreaBottom" fmla="*/ 158400 h 26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74" y="8874"/>
                </a:lnTo>
                <a:lnTo>
                  <a:pt x="10800" y="0"/>
                </a:lnTo>
                <a:lnTo>
                  <a:pt x="12726" y="8874"/>
                </a:lnTo>
                <a:lnTo>
                  <a:pt x="21600" y="10800"/>
                </a:lnTo>
                <a:lnTo>
                  <a:pt x="12726" y="12726"/>
                </a:lnTo>
                <a:lnTo>
                  <a:pt x="10800" y="21600"/>
                </a:lnTo>
                <a:lnTo>
                  <a:pt x="8874" y="1272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1"/>
          <p:cNvSpPr/>
          <p:nvPr/>
        </p:nvSpPr>
        <p:spPr>
          <a:xfrm flipH="1" flipV="1">
            <a:off x="2612520" y="3244680"/>
            <a:ext cx="219240" cy="371520"/>
          </a:xfrm>
          <a:prstGeom prst="line">
            <a:avLst/>
          </a:prstGeom>
          <a:ln w="28440">
            <a:solidFill>
              <a:srgbClr val="1e1e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2"/>
          <p:cNvSpPr/>
          <p:nvPr/>
        </p:nvSpPr>
        <p:spPr>
          <a:xfrm flipV="1">
            <a:off x="2911320" y="3209400"/>
            <a:ext cx="117720" cy="397080"/>
          </a:xfrm>
          <a:prstGeom prst="line">
            <a:avLst/>
          </a:prstGeom>
          <a:ln w="28440">
            <a:solidFill>
              <a:srgbClr val="1e1e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33"/>
          <p:cNvSpPr/>
          <p:nvPr/>
        </p:nvSpPr>
        <p:spPr>
          <a:xfrm>
            <a:off x="2151000" y="2813040"/>
            <a:ext cx="1125720" cy="317520"/>
          </a:xfrm>
          <a:prstGeom prst="rect">
            <a:avLst/>
          </a:prstGeom>
          <a:solidFill>
            <a:srgbClr val="0033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4"/>
          <p:cNvSpPr/>
          <p:nvPr/>
        </p:nvSpPr>
        <p:spPr>
          <a:xfrm>
            <a:off x="2440080" y="2143080"/>
            <a:ext cx="528480" cy="665280"/>
          </a:xfrm>
          <a:prstGeom prst="rect">
            <a:avLst/>
          </a:prstGeom>
          <a:solidFill>
            <a:srgbClr val="0033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5"/>
          <p:cNvSpPr/>
          <p:nvPr/>
        </p:nvSpPr>
        <p:spPr>
          <a:xfrm>
            <a:off x="2471400" y="2384280"/>
            <a:ext cx="496080" cy="274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ff"/>
                </a:solidFill>
                <a:latin typeface="Arial"/>
              </a:rPr>
              <a:t>T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7"/>
          <p:cNvSpPr/>
          <p:nvPr/>
        </p:nvSpPr>
        <p:spPr>
          <a:xfrm flipH="1" flipV="1">
            <a:off x="1403280" y="4724280"/>
            <a:ext cx="720720" cy="612720"/>
          </a:xfrm>
          <a:prstGeom prst="line">
            <a:avLst/>
          </a:prstGeom>
          <a:ln w="50760">
            <a:solidFill>
              <a:srgbClr val="99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39"/>
          <p:cNvSpPr/>
          <p:nvPr/>
        </p:nvSpPr>
        <p:spPr>
          <a:xfrm>
            <a:off x="533520" y="2028960"/>
            <a:ext cx="3362040" cy="2695320"/>
          </a:xfrm>
          <a:prstGeom prst="rect">
            <a:avLst/>
          </a:prstGeom>
          <a:noFill/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0"/>
          <p:cNvSpPr/>
          <p:nvPr/>
        </p:nvSpPr>
        <p:spPr>
          <a:xfrm>
            <a:off x="1379160" y="4219560"/>
            <a:ext cx="1136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ja  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41"/>
          <p:cNvSpPr/>
          <p:nvPr/>
        </p:nvSpPr>
        <p:spPr>
          <a:xfrm>
            <a:off x="2446560" y="3840120"/>
            <a:ext cx="105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ta 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3"/>
          <p:cNvSpPr/>
          <p:nvPr/>
        </p:nvSpPr>
        <p:spPr>
          <a:xfrm>
            <a:off x="520200" y="3879720"/>
            <a:ext cx="345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4"/>
          <p:cNvSpPr/>
          <p:nvPr/>
        </p:nvSpPr>
        <p:spPr>
          <a:xfrm>
            <a:off x="762120" y="34383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ámara gamma PE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30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Parte 2: Tecnología PET/C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0" y="339408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ulo 2.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Equipos de C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3399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94" name="Picture 3" descr="MAN50"/>
          <p:cNvPicPr/>
          <p:nvPr/>
        </p:nvPicPr>
        <p:blipFill>
          <a:blip r:embed="rId1"/>
          <a:stretch/>
        </p:blipFill>
        <p:spPr>
          <a:xfrm>
            <a:off x="3962520" y="4662360"/>
            <a:ext cx="1154160" cy="114300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1128600" y="1773360"/>
            <a:ext cx="733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amiliarizarse con las bases de la tecnología PET/CT, incluyendo ciclotrones, los equipos PET, los CT y la unión de ambas tecnologías en un equipo híbrido PET/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omografía computada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560" y="1111320"/>
            <a:ext cx="854532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a tomografía computada (CT) produce imágenes de elevada calidad, que reproducen cortes transversales del cuerp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s tejidos no se superponen en la imagen, como ocurre en las proyecciones convencional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a técnica mejora la resolución de bajo contraste para visualizar mejor el tejido blando, aunque la dosis es relativamente alt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6" name="Picture 4" descr="CT schema b-n"/>
          <p:cNvPicPr/>
          <p:nvPr/>
        </p:nvPicPr>
        <p:blipFill>
          <a:blip r:embed="rId1"/>
          <a:stretch/>
        </p:blipFill>
        <p:spPr>
          <a:xfrm>
            <a:off x="4788000" y="3968640"/>
            <a:ext cx="2952720" cy="22640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5" descr=""/>
          <p:cNvPicPr/>
          <p:nvPr/>
        </p:nvPicPr>
        <p:blipFill>
          <a:blip r:embed="rId2"/>
          <a:stretch/>
        </p:blipFill>
        <p:spPr>
          <a:xfrm>
            <a:off x="900000" y="4438800"/>
            <a:ext cx="28083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omografía computada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82240" y="1523880"/>
            <a:ext cx="4505400" cy="3654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 CT se utiliza un tubo de rayos X giratorio, cuyo haz diene la forma de un corte delgado, entre 1 - 10 mm de espeso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 “imagen” es una simple fila de datos de intensidad de rayos X y con muchos cientos de estas filas se obtiene la imagen de CTque es como un corte a través del paciente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30" name="Picture 4" descr="CT"/>
          <p:cNvPicPr/>
          <p:nvPr/>
        </p:nvPicPr>
        <p:blipFill>
          <a:blip r:embed="rId1"/>
          <a:stretch/>
        </p:blipFill>
        <p:spPr>
          <a:xfrm>
            <a:off x="4859280" y="1557360"/>
            <a:ext cx="3892680" cy="3730680"/>
          </a:xfrm>
          <a:prstGeom prst="rect">
            <a:avLst/>
          </a:prstGeom>
          <a:ln w="57240">
            <a:solidFill>
              <a:srgbClr val="7b07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nversión de </a:t>
            </a:r>
            <a:r>
              <a:rPr b="1" lang="en-GB" sz="3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 a unidades  Hounsfield (HU), utilizadas en C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87160" y="1294920"/>
            <a:ext cx="7980120" cy="220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Distribución de los valores de </a:t>
            </a: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 obtenidos inicialmen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 efectúa un cambio de escala tomando como referencia el valor de </a:t>
            </a: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del agua, para lo que se aplica la siguiente fórmula: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4422960" y="-13032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13 CuadroTexto"/>
          <p:cNvSpPr/>
          <p:nvPr/>
        </p:nvSpPr>
        <p:spPr>
          <a:xfrm>
            <a:off x="2376360" y="4975200"/>
            <a:ext cx="32036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 la que resul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úmero CT 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agua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 0 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úmero CT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aire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  - 1000 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úmero CT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hueso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 1000 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15"/>
              <p:cNvSpPr txBox="1"/>
              <p:nvPr/>
            </p:nvSpPr>
            <p:spPr>
              <a:xfrm>
                <a:off x="1389240" y="3549600"/>
                <a:ext cx="636876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úmer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jid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gu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gua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695840" cy="473076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3"/>
          <p:cNvSpPr/>
          <p:nvPr/>
        </p:nvSpPr>
        <p:spPr>
          <a:xfrm>
            <a:off x="7439400" y="2908440"/>
            <a:ext cx="13298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003399"/>
                </a:solidFill>
                <a:latin typeface="Arial"/>
              </a:rPr>
              <a:t>Tubo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003399"/>
                </a:solidFill>
                <a:latin typeface="Arial"/>
              </a:rPr>
              <a:t>rayos X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282600" y="2612880"/>
            <a:ext cx="193356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003399"/>
                </a:solidFill>
                <a:latin typeface="Arial"/>
              </a:rPr>
              <a:t>Cojunto formado por detectores y colim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5"/>
          <p:cNvSpPr/>
          <p:nvPr/>
        </p:nvSpPr>
        <p:spPr>
          <a:xfrm flipH="1">
            <a:off x="6667560" y="3311640"/>
            <a:ext cx="784080" cy="5140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6"/>
          <p:cNvSpPr/>
          <p:nvPr/>
        </p:nvSpPr>
        <p:spPr>
          <a:xfrm>
            <a:off x="2025720" y="3236760"/>
            <a:ext cx="850680" cy="6620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ista interior de un equipo CT en el que giran tanto el tubo de rayos X como los detector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rincipio del escáner helicoidal (espiral)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3920" y="123336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l tubo de rayos X rota constantemente mientras el paciente se desplaza de forma continua atravesando el plano del haz, lo cual hace que la exploración sea más rápid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eometría de exploració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oma de datos y desplazamiento del tablero en forma continu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3459240" cy="23781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5"/>
          <p:cNvSpPr/>
          <p:nvPr/>
        </p:nvSpPr>
        <p:spPr>
          <a:xfrm>
            <a:off x="5775480" y="2917800"/>
            <a:ext cx="282204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ff9900"/>
                </a:solidFill>
                <a:latin typeface="Arial"/>
              </a:rPr>
              <a:t>Haz de rayos 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ff9900"/>
                </a:solidFill>
                <a:latin typeface="Arial"/>
              </a:rPr>
              <a:t>Dirección y senti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ff9900"/>
                </a:solidFill>
                <a:latin typeface="Arial"/>
              </a:rPr>
              <a:t>del desplazamien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ff9900"/>
                </a:solidFill>
                <a:latin typeface="Arial"/>
              </a:rPr>
              <a:t>del pac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6"/>
          <p:cNvSpPr/>
          <p:nvPr/>
        </p:nvSpPr>
        <p:spPr>
          <a:xfrm flipH="1">
            <a:off x="4095360" y="3068640"/>
            <a:ext cx="2244600" cy="396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7"/>
          <p:cNvSpPr/>
          <p:nvPr/>
        </p:nvSpPr>
        <p:spPr>
          <a:xfrm flipH="1" flipV="1">
            <a:off x="4800240" y="4019040"/>
            <a:ext cx="1004760" cy="2098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quipos de CT helicoidal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ara que estos equipos funcionen, el tubo de rayos X tiene que rotar continuamen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ero esto se ve imposibilitado por el cable que conduce la alimentación eléctrica y las seña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l problema se resuelve utilizando un anillo deslizante (slip-ring) mediante el cual se suministra la alimentación eléctrica y se recogen las seña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2" descr=""/>
          <p:cNvPicPr/>
          <p:nvPr/>
        </p:nvPicPr>
        <p:blipFill>
          <a:blip r:embed="rId1"/>
          <a:stretch/>
        </p:blipFill>
        <p:spPr>
          <a:xfrm>
            <a:off x="2449440" y="1219320"/>
            <a:ext cx="4603680" cy="477972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Vista interior de un CT con anillo deslizant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528480" y="2023920"/>
            <a:ext cx="1471680" cy="41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X 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Tu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Fila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dete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Anill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desliz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5"/>
          <p:cNvSpPr/>
          <p:nvPr/>
        </p:nvSpPr>
        <p:spPr>
          <a:xfrm flipV="1">
            <a:off x="1700280" y="2133360"/>
            <a:ext cx="3195720" cy="2206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6"/>
          <p:cNvSpPr/>
          <p:nvPr/>
        </p:nvSpPr>
        <p:spPr>
          <a:xfrm>
            <a:off x="1960560" y="4414680"/>
            <a:ext cx="1960560" cy="2206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7140600" y="1752480"/>
            <a:ext cx="167652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ff9900"/>
                </a:solidFill>
                <a:latin typeface="Arial"/>
              </a:rPr>
              <a:t>Obsérvese</a:t>
            </a:r>
            <a:r>
              <a:rPr b="0" lang="en-AU" sz="2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3399"/>
                </a:solidFill>
                <a:latin typeface="Arial"/>
              </a:rPr>
              <a:t>que la mayor parte de la electrónica está situada en la parte rotat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8"/>
          <p:cNvSpPr/>
          <p:nvPr/>
        </p:nvSpPr>
        <p:spPr>
          <a:xfrm flipV="1">
            <a:off x="1438200" y="5223960"/>
            <a:ext cx="2157480" cy="2206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T de multicort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07640" y="1246320"/>
            <a:ext cx="77058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os tomógrafos de un solo corte axial fueron remplazados por los de 2 cortes en los años 1990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En 2006 los tomógrafos de 2, 4 y 8 cortes fueron superados por los de 16 cortes, seguidos de los de 32-64 cortes, que aportan una mejor resolución del eje z y permiten realizar exploraciones cardiológigas sincronizadas con el EC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os CTs con geometría de haz de cono real no estaban aún disponibles en el mercad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T espiral 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T espiral multicorte: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74680" y="1295280"/>
            <a:ext cx="8593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a de datos en forma volumétrica puede ser preferible que la CT secuenci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2a14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orro de dosis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ción de repeticiones de cortes individuales (tiempos de exploración más breves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titución de cortes finos solapados (que se tomaban para obtener imágenes en 3D de elevada calidad) por la reconstrucción de los datos volumétricos de una exploración helicoid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ación de un pitch &gt; 1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2a14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alta ningún dato, al contrario que en el caso de exploraciones con intervalos entre cort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2a14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mpo de examen más bre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a de los datos de una vez aguantando la respiración, evitando perturbaciones respiratoria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ción de perturbaciones debidas a movimientos involuntarios tales como los peristálticos y cardiovasculare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1" name="Picture 4" descr="CT schema spiral"/>
          <p:cNvPicPr/>
          <p:nvPr/>
        </p:nvPicPr>
        <p:blipFill>
          <a:blip r:embed="rId1"/>
          <a:stretch/>
        </p:blipFill>
        <p:spPr>
          <a:xfrm>
            <a:off x="6400800" y="-63360"/>
            <a:ext cx="227484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r" pos="8958240"/>
                <a:tab algn="l" pos="9601200"/>
                <a:tab algn="l" pos="1040148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T de multicorte</a:t>
            </a:r>
            <a:br>
              <a:rPr sz="3400"/>
            </a:b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15840" y="1022400"/>
            <a:ext cx="91123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" descr="lightspeed+"/>
          <p:cNvPicPr/>
          <p:nvPr/>
        </p:nvPicPr>
        <p:blipFill>
          <a:blip r:embed="rId1"/>
          <a:srcRect l="2503" t="3170" r="5006" b="5018"/>
          <a:stretch/>
        </p:blipFill>
        <p:spPr>
          <a:xfrm>
            <a:off x="1258920" y="371628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MX8000Qmid"/>
          <p:cNvPicPr/>
          <p:nvPr/>
        </p:nvPicPr>
        <p:blipFill>
          <a:blip r:embed="rId2"/>
          <a:srcRect l="16389" t="0" r="16389" b="11172"/>
          <a:stretch/>
        </p:blipFill>
        <p:spPr>
          <a:xfrm>
            <a:off x="5219640" y="3933720"/>
            <a:ext cx="3048120" cy="1917720"/>
          </a:xfrm>
          <a:prstGeom prst="rect">
            <a:avLst/>
          </a:prstGeom>
          <a:ln w="0">
            <a:noFill/>
          </a:ln>
        </p:spPr>
      </p:pic>
      <p:grpSp>
        <p:nvGrpSpPr>
          <p:cNvPr id="766" name="Group 6"/>
          <p:cNvGrpSpPr/>
          <p:nvPr/>
        </p:nvGrpSpPr>
        <p:grpSpPr>
          <a:xfrm>
            <a:off x="4932360" y="1197000"/>
            <a:ext cx="3200400" cy="2286000"/>
            <a:chOff x="4932360" y="1197000"/>
            <a:chExt cx="3200400" cy="2286000"/>
          </a:xfrm>
        </p:grpSpPr>
        <p:pic>
          <p:nvPicPr>
            <p:cNvPr id="767" name="Picture 7" descr="Aquillion"/>
            <p:cNvPicPr/>
            <p:nvPr/>
          </p:nvPicPr>
          <p:blipFill>
            <a:blip r:embed="rId3"/>
            <a:stretch/>
          </p:blipFill>
          <p:spPr>
            <a:xfrm>
              <a:off x="4932360" y="1197000"/>
              <a:ext cx="32004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8"/>
            <p:cNvSpPr/>
            <p:nvPr/>
          </p:nvSpPr>
          <p:spPr>
            <a:xfrm>
              <a:off x="6422400" y="3102120"/>
              <a:ext cx="162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9" name="Picture 9" descr=""/>
          <p:cNvPicPr/>
          <p:nvPr/>
        </p:nvPicPr>
        <p:blipFill>
          <a:blip r:embed="rId4"/>
          <a:stretch/>
        </p:blipFill>
        <p:spPr>
          <a:xfrm>
            <a:off x="1619280" y="1197000"/>
            <a:ext cx="2894040" cy="23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776320" y="1966680"/>
            <a:ext cx="3811320" cy="24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iclotron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Equipos de PE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Equipos de C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Equipos de PET/C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250920" y="155520"/>
            <a:ext cx="8604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2000" y="99720"/>
            <a:ext cx="864252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itch</a:t>
            </a:r>
            <a:br>
              <a:rPr sz="32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lación entre la distancia recorrida por la mesa en cada rotación y la anchura del haz de rayos-X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71" name="Group 116"/>
          <p:cNvGrpSpPr/>
          <p:nvPr/>
        </p:nvGrpSpPr>
        <p:grpSpPr>
          <a:xfrm>
            <a:off x="228600" y="1063800"/>
            <a:ext cx="8638560" cy="1519200"/>
            <a:chOff x="228600" y="1063800"/>
            <a:chExt cx="8638560" cy="1519200"/>
          </a:xfrm>
        </p:grpSpPr>
        <p:grpSp>
          <p:nvGrpSpPr>
            <p:cNvPr id="772" name="Group 3"/>
            <p:cNvGrpSpPr/>
            <p:nvPr/>
          </p:nvGrpSpPr>
          <p:grpSpPr>
            <a:xfrm>
              <a:off x="228600" y="1063800"/>
              <a:ext cx="2735280" cy="1518480"/>
              <a:chOff x="228600" y="1063800"/>
              <a:chExt cx="2735280" cy="1518480"/>
            </a:xfrm>
          </p:grpSpPr>
          <p:sp>
            <p:nvSpPr>
              <p:cNvPr id="773" name="Rectangle 4"/>
              <p:cNvSpPr/>
              <p:nvPr/>
            </p:nvSpPr>
            <p:spPr>
              <a:xfrm>
                <a:off x="900360" y="1498320"/>
                <a:ext cx="1536480" cy="6472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Oval 5"/>
              <p:cNvSpPr/>
              <p:nvPr/>
            </p:nvSpPr>
            <p:spPr>
              <a:xfrm>
                <a:off x="2388240" y="1498320"/>
                <a:ext cx="575640" cy="648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6"/>
              <p:cNvSpPr/>
              <p:nvPr/>
            </p:nvSpPr>
            <p:spPr>
              <a:xfrm>
                <a:off x="228600" y="1715040"/>
                <a:ext cx="671760" cy="2700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7"/>
              <p:cNvSpPr/>
              <p:nvPr/>
            </p:nvSpPr>
            <p:spPr>
              <a:xfrm flipV="1">
                <a:off x="900360" y="1715040"/>
                <a:ext cx="0" cy="27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7" name="Group 8"/>
              <p:cNvGrpSpPr/>
              <p:nvPr/>
            </p:nvGrpSpPr>
            <p:grpSpPr>
              <a:xfrm>
                <a:off x="997920" y="1063800"/>
                <a:ext cx="1387440" cy="1518480"/>
                <a:chOff x="997920" y="1063800"/>
                <a:chExt cx="1387440" cy="1518480"/>
              </a:xfrm>
            </p:grpSpPr>
            <p:sp>
              <p:nvSpPr>
                <p:cNvPr id="778" name="Rectangle 9"/>
                <p:cNvSpPr/>
                <p:nvPr/>
              </p:nvSpPr>
              <p:spPr>
                <a:xfrm rot="211200">
                  <a:off x="1044000" y="1067400"/>
                  <a:ext cx="143640" cy="151164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Rectangle 10"/>
                <p:cNvSpPr/>
                <p:nvPr/>
              </p:nvSpPr>
              <p:spPr>
                <a:xfrm rot="211200">
                  <a:off x="1187640" y="1066680"/>
                  <a:ext cx="143640" cy="151164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11"/>
                <p:cNvSpPr/>
                <p:nvPr/>
              </p:nvSpPr>
              <p:spPr>
                <a:xfrm rot="211200">
                  <a:off x="1331640" y="1066680"/>
                  <a:ext cx="143640" cy="151164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Rectangle 12"/>
                <p:cNvSpPr/>
                <p:nvPr/>
              </p:nvSpPr>
              <p:spPr>
                <a:xfrm rot="211200">
                  <a:off x="1475640" y="1066680"/>
                  <a:ext cx="143640" cy="151164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Rectangle 13"/>
                <p:cNvSpPr/>
                <p:nvPr/>
              </p:nvSpPr>
              <p:spPr>
                <a:xfrm rot="211200">
                  <a:off x="1619640" y="1066680"/>
                  <a:ext cx="143640" cy="151164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Rectangle 14"/>
                <p:cNvSpPr/>
                <p:nvPr/>
              </p:nvSpPr>
              <p:spPr>
                <a:xfrm rot="211200">
                  <a:off x="1907280" y="1066680"/>
                  <a:ext cx="143640" cy="151164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Rectangle 15"/>
                <p:cNvSpPr/>
                <p:nvPr/>
              </p:nvSpPr>
              <p:spPr>
                <a:xfrm rot="211200">
                  <a:off x="1763280" y="1066680"/>
                  <a:ext cx="143640" cy="151164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Rectangle 16"/>
                <p:cNvSpPr/>
                <p:nvPr/>
              </p:nvSpPr>
              <p:spPr>
                <a:xfrm rot="211200">
                  <a:off x="2051280" y="1066680"/>
                  <a:ext cx="143640" cy="151164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Rectangle 17"/>
                <p:cNvSpPr/>
                <p:nvPr/>
              </p:nvSpPr>
              <p:spPr>
                <a:xfrm rot="211200">
                  <a:off x="2195280" y="1066680"/>
                  <a:ext cx="143640" cy="151164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Oval 18"/>
              <p:cNvSpPr/>
              <p:nvPr/>
            </p:nvSpPr>
            <p:spPr>
              <a:xfrm>
                <a:off x="2772360" y="1607040"/>
                <a:ext cx="47160" cy="543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2772360" y="1930680"/>
                <a:ext cx="47160" cy="54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Oval 20"/>
              <p:cNvSpPr/>
              <p:nvPr/>
            </p:nvSpPr>
            <p:spPr>
              <a:xfrm>
                <a:off x="2627280" y="1768680"/>
                <a:ext cx="144720" cy="536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21"/>
              <p:cNvSpPr/>
              <p:nvPr/>
            </p:nvSpPr>
            <p:spPr>
              <a:xfrm>
                <a:off x="2483280" y="1661400"/>
                <a:ext cx="48600" cy="323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22"/>
            <p:cNvGrpSpPr/>
            <p:nvPr/>
          </p:nvGrpSpPr>
          <p:grpSpPr>
            <a:xfrm>
              <a:off x="3181320" y="1064880"/>
              <a:ext cx="2735280" cy="1518120"/>
              <a:chOff x="3181320" y="1064880"/>
              <a:chExt cx="2735280" cy="1518120"/>
            </a:xfrm>
          </p:grpSpPr>
          <p:sp>
            <p:nvSpPr>
              <p:cNvPr id="792" name="Rectangle 23"/>
              <p:cNvSpPr/>
              <p:nvPr/>
            </p:nvSpPr>
            <p:spPr>
              <a:xfrm flipH="1" rot="21242400">
                <a:off x="5004720" y="1069200"/>
                <a:ext cx="143640" cy="151020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24"/>
              <p:cNvSpPr/>
              <p:nvPr/>
            </p:nvSpPr>
            <p:spPr>
              <a:xfrm flipH="1" rot="21242400">
                <a:off x="4716720" y="1069200"/>
                <a:ext cx="143640" cy="151020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25"/>
              <p:cNvSpPr/>
              <p:nvPr/>
            </p:nvSpPr>
            <p:spPr>
              <a:xfrm flipH="1" rot="21242400">
                <a:off x="4428000" y="1069200"/>
                <a:ext cx="143640" cy="151020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Rectangle 26"/>
              <p:cNvSpPr/>
              <p:nvPr/>
            </p:nvSpPr>
            <p:spPr>
              <a:xfrm flipH="1" rot="21242400">
                <a:off x="4140000" y="1069200"/>
                <a:ext cx="143640" cy="151020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27"/>
              <p:cNvSpPr/>
              <p:nvPr/>
            </p:nvSpPr>
            <p:spPr>
              <a:xfrm>
                <a:off x="3853080" y="1499760"/>
                <a:ext cx="1536480" cy="646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28"/>
              <p:cNvSpPr/>
              <p:nvPr/>
            </p:nvSpPr>
            <p:spPr>
              <a:xfrm>
                <a:off x="3181320" y="1715760"/>
                <a:ext cx="671760" cy="269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29"/>
              <p:cNvSpPr/>
              <p:nvPr/>
            </p:nvSpPr>
            <p:spPr>
              <a:xfrm flipV="1">
                <a:off x="3853080" y="1715400"/>
                <a:ext cx="0" cy="26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30"/>
              <p:cNvSpPr/>
              <p:nvPr/>
            </p:nvSpPr>
            <p:spPr>
              <a:xfrm rot="357600">
                <a:off x="3996720" y="1069200"/>
                <a:ext cx="143640" cy="15098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31"/>
              <p:cNvSpPr/>
              <p:nvPr/>
            </p:nvSpPr>
            <p:spPr>
              <a:xfrm rot="357600">
                <a:off x="4284720" y="1069200"/>
                <a:ext cx="143640" cy="15098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32"/>
              <p:cNvSpPr/>
              <p:nvPr/>
            </p:nvSpPr>
            <p:spPr>
              <a:xfrm rot="357600">
                <a:off x="4573800" y="1069200"/>
                <a:ext cx="143640" cy="15098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33"/>
              <p:cNvSpPr/>
              <p:nvPr/>
            </p:nvSpPr>
            <p:spPr>
              <a:xfrm rot="357600">
                <a:off x="4861440" y="1069200"/>
                <a:ext cx="143640" cy="15098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34"/>
              <p:cNvSpPr/>
              <p:nvPr/>
            </p:nvSpPr>
            <p:spPr>
              <a:xfrm rot="357600">
                <a:off x="5149440" y="1068120"/>
                <a:ext cx="143640" cy="15098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Oval 35"/>
              <p:cNvSpPr/>
              <p:nvPr/>
            </p:nvSpPr>
            <p:spPr>
              <a:xfrm>
                <a:off x="5340960" y="1499760"/>
                <a:ext cx="575640" cy="6476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36"/>
              <p:cNvSpPr/>
              <p:nvPr/>
            </p:nvSpPr>
            <p:spPr>
              <a:xfrm>
                <a:off x="5725080" y="1607760"/>
                <a:ext cx="47160" cy="54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Oval 37"/>
              <p:cNvSpPr/>
              <p:nvPr/>
            </p:nvSpPr>
            <p:spPr>
              <a:xfrm>
                <a:off x="5725080" y="1931400"/>
                <a:ext cx="47160" cy="543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38"/>
              <p:cNvSpPr/>
              <p:nvPr/>
            </p:nvSpPr>
            <p:spPr>
              <a:xfrm>
                <a:off x="5580000" y="1769400"/>
                <a:ext cx="145080" cy="532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39"/>
              <p:cNvSpPr/>
              <p:nvPr/>
            </p:nvSpPr>
            <p:spPr>
              <a:xfrm>
                <a:off x="5436000" y="1662480"/>
                <a:ext cx="96120" cy="32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Group 40"/>
            <p:cNvGrpSpPr/>
            <p:nvPr/>
          </p:nvGrpSpPr>
          <p:grpSpPr>
            <a:xfrm>
              <a:off x="6132240" y="1071360"/>
              <a:ext cx="2734920" cy="1503720"/>
              <a:chOff x="6132240" y="1071360"/>
              <a:chExt cx="2734920" cy="1503720"/>
            </a:xfrm>
          </p:grpSpPr>
          <p:sp>
            <p:nvSpPr>
              <p:cNvPr id="810" name="Rectangle 41"/>
              <p:cNvSpPr/>
              <p:nvPr/>
            </p:nvSpPr>
            <p:spPr>
              <a:xfrm flipH="1" rot="20825400">
                <a:off x="7811280" y="1068120"/>
                <a:ext cx="143640" cy="15098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42"/>
              <p:cNvSpPr/>
              <p:nvPr/>
            </p:nvSpPr>
            <p:spPr>
              <a:xfrm flipH="1" rot="20825400">
                <a:off x="7236000" y="1068120"/>
                <a:ext cx="143640" cy="15098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Rectangle 43"/>
              <p:cNvSpPr/>
              <p:nvPr/>
            </p:nvSpPr>
            <p:spPr>
              <a:xfrm>
                <a:off x="6803640" y="1498320"/>
                <a:ext cx="1535760" cy="646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44"/>
              <p:cNvSpPr/>
              <p:nvPr/>
            </p:nvSpPr>
            <p:spPr>
              <a:xfrm>
                <a:off x="6132240" y="1714680"/>
                <a:ext cx="671400" cy="269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45"/>
              <p:cNvSpPr/>
              <p:nvPr/>
            </p:nvSpPr>
            <p:spPr>
              <a:xfrm flipV="1">
                <a:off x="6803640" y="1714320"/>
                <a:ext cx="0" cy="26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Rectangle 46"/>
              <p:cNvSpPr/>
              <p:nvPr/>
            </p:nvSpPr>
            <p:spPr>
              <a:xfrm rot="774600">
                <a:off x="6947280" y="1068120"/>
                <a:ext cx="143640" cy="15098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7"/>
              <p:cNvSpPr/>
              <p:nvPr/>
            </p:nvSpPr>
            <p:spPr>
              <a:xfrm rot="774600">
                <a:off x="7522920" y="1068120"/>
                <a:ext cx="143640" cy="15098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Rectangle 48"/>
              <p:cNvSpPr/>
              <p:nvPr/>
            </p:nvSpPr>
            <p:spPr>
              <a:xfrm rot="774600">
                <a:off x="8099640" y="1068120"/>
                <a:ext cx="143640" cy="150984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49"/>
              <p:cNvSpPr/>
              <p:nvPr/>
            </p:nvSpPr>
            <p:spPr>
              <a:xfrm>
                <a:off x="8291880" y="1498320"/>
                <a:ext cx="575280" cy="648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Oval 50"/>
              <p:cNvSpPr/>
              <p:nvPr/>
            </p:nvSpPr>
            <p:spPr>
              <a:xfrm>
                <a:off x="8676000" y="1606680"/>
                <a:ext cx="47160" cy="54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Oval 51"/>
              <p:cNvSpPr/>
              <p:nvPr/>
            </p:nvSpPr>
            <p:spPr>
              <a:xfrm>
                <a:off x="8676000" y="1929960"/>
                <a:ext cx="47160" cy="547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52"/>
              <p:cNvSpPr/>
              <p:nvPr/>
            </p:nvSpPr>
            <p:spPr>
              <a:xfrm>
                <a:off x="8531280" y="1767960"/>
                <a:ext cx="144720" cy="536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AutoShape 53"/>
              <p:cNvSpPr/>
              <p:nvPr/>
            </p:nvSpPr>
            <p:spPr>
              <a:xfrm>
                <a:off x="8387280" y="1661400"/>
                <a:ext cx="192600" cy="3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123" y="1192"/>
                      <a:pt x="6646" y="5080"/>
                      <a:pt x="6646" y="10800"/>
                    </a:cubicBezTo>
                    <a:cubicBezTo>
                      <a:pt x="6646" y="16520"/>
                      <a:pt x="14123" y="2040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23" name=""/>
          <p:cNvGraphicFramePr/>
          <p:nvPr/>
        </p:nvGraphicFramePr>
        <p:xfrm>
          <a:off x="387360" y="2830680"/>
          <a:ext cx="8197920" cy="3152520"/>
        </p:xfrm>
        <a:graphic>
          <a:graphicData uri="http://schemas.openxmlformats.org/drawingml/2006/table">
            <a:tbl>
              <a:tblPr/>
              <a:tblGrid>
                <a:gridCol w="1771560"/>
                <a:gridCol w="1260720"/>
                <a:gridCol w="1260360"/>
                <a:gridCol w="1404720"/>
                <a:gridCol w="1133640"/>
                <a:gridCol w="13669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Número de rot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spesor del c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esplazamiento de la camilla durante cada ro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P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50920" y="196560"/>
            <a:ext cx="8353440" cy="5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efinición de pitchx =  pitch del haz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25" name="Group 6"/>
          <p:cNvGrpSpPr/>
          <p:nvPr/>
        </p:nvGrpSpPr>
        <p:grpSpPr>
          <a:xfrm>
            <a:off x="4572000" y="2421000"/>
            <a:ext cx="2735280" cy="1518120"/>
            <a:chOff x="4572000" y="2421000"/>
            <a:chExt cx="2735280" cy="1518120"/>
          </a:xfrm>
        </p:grpSpPr>
        <p:sp>
          <p:nvSpPr>
            <p:cNvPr id="826" name="Rectangle 7"/>
            <p:cNvSpPr/>
            <p:nvPr/>
          </p:nvSpPr>
          <p:spPr>
            <a:xfrm flipH="1" rot="21242400">
              <a:off x="6395400" y="2425320"/>
              <a:ext cx="143640" cy="15102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8"/>
            <p:cNvSpPr/>
            <p:nvPr/>
          </p:nvSpPr>
          <p:spPr>
            <a:xfrm flipH="1" rot="21242400">
              <a:off x="6107400" y="2425320"/>
              <a:ext cx="143640" cy="15102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9"/>
            <p:cNvSpPr/>
            <p:nvPr/>
          </p:nvSpPr>
          <p:spPr>
            <a:xfrm flipH="1" rot="21242400">
              <a:off x="5818680" y="2425320"/>
              <a:ext cx="143640" cy="15102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0"/>
            <p:cNvSpPr/>
            <p:nvPr/>
          </p:nvSpPr>
          <p:spPr>
            <a:xfrm flipH="1" rot="21242400">
              <a:off x="5530680" y="2425320"/>
              <a:ext cx="143640" cy="15102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"/>
            <p:cNvSpPr/>
            <p:nvPr/>
          </p:nvSpPr>
          <p:spPr>
            <a:xfrm>
              <a:off x="5243760" y="2855880"/>
              <a:ext cx="1536480" cy="64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2"/>
            <p:cNvSpPr/>
            <p:nvPr/>
          </p:nvSpPr>
          <p:spPr>
            <a:xfrm>
              <a:off x="4572000" y="3071880"/>
              <a:ext cx="671760" cy="26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3"/>
            <p:cNvSpPr/>
            <p:nvPr/>
          </p:nvSpPr>
          <p:spPr>
            <a:xfrm flipV="1">
              <a:off x="5243760" y="3071520"/>
              <a:ext cx="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4"/>
            <p:cNvSpPr/>
            <p:nvPr/>
          </p:nvSpPr>
          <p:spPr>
            <a:xfrm rot="357600">
              <a:off x="5387400" y="2425320"/>
              <a:ext cx="143640" cy="1509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5"/>
            <p:cNvSpPr/>
            <p:nvPr/>
          </p:nvSpPr>
          <p:spPr>
            <a:xfrm rot="357600">
              <a:off x="5675400" y="2425320"/>
              <a:ext cx="143640" cy="1509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6"/>
            <p:cNvSpPr/>
            <p:nvPr/>
          </p:nvSpPr>
          <p:spPr>
            <a:xfrm rot="357600">
              <a:off x="5964480" y="2425320"/>
              <a:ext cx="143640" cy="1509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7"/>
            <p:cNvSpPr/>
            <p:nvPr/>
          </p:nvSpPr>
          <p:spPr>
            <a:xfrm rot="357600">
              <a:off x="6252120" y="2425320"/>
              <a:ext cx="143640" cy="1509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8"/>
            <p:cNvSpPr/>
            <p:nvPr/>
          </p:nvSpPr>
          <p:spPr>
            <a:xfrm rot="357600">
              <a:off x="6540120" y="2424240"/>
              <a:ext cx="143640" cy="1509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9"/>
            <p:cNvSpPr/>
            <p:nvPr/>
          </p:nvSpPr>
          <p:spPr>
            <a:xfrm>
              <a:off x="6731640" y="2855880"/>
              <a:ext cx="575640" cy="647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0"/>
            <p:cNvSpPr/>
            <p:nvPr/>
          </p:nvSpPr>
          <p:spPr>
            <a:xfrm>
              <a:off x="7115760" y="2963880"/>
              <a:ext cx="47160" cy="54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1"/>
            <p:cNvSpPr/>
            <p:nvPr/>
          </p:nvSpPr>
          <p:spPr>
            <a:xfrm>
              <a:off x="7115760" y="3287520"/>
              <a:ext cx="47160" cy="54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22"/>
            <p:cNvSpPr/>
            <p:nvPr/>
          </p:nvSpPr>
          <p:spPr>
            <a:xfrm>
              <a:off x="6970680" y="3125520"/>
              <a:ext cx="145080" cy="53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23"/>
            <p:cNvSpPr/>
            <p:nvPr/>
          </p:nvSpPr>
          <p:spPr>
            <a:xfrm>
              <a:off x="6826680" y="3018600"/>
              <a:ext cx="96120" cy="32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50"/>
          <p:cNvGrpSpPr/>
          <p:nvPr/>
        </p:nvGrpSpPr>
        <p:grpSpPr>
          <a:xfrm>
            <a:off x="7597440" y="2898720"/>
            <a:ext cx="1221120" cy="2184840"/>
            <a:chOff x="7597440" y="2898720"/>
            <a:chExt cx="1221120" cy="2184840"/>
          </a:xfrm>
        </p:grpSpPr>
        <p:sp>
          <p:nvSpPr>
            <p:cNvPr id="844" name="Text Box 24"/>
            <p:cNvSpPr/>
            <p:nvPr/>
          </p:nvSpPr>
          <p:spPr>
            <a:xfrm>
              <a:off x="7597440" y="321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5"/>
            <p:cNvSpPr/>
            <p:nvPr/>
          </p:nvSpPr>
          <p:spPr>
            <a:xfrm>
              <a:off x="7597440" y="2898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26"/>
            <p:cNvSpPr/>
            <p:nvPr/>
          </p:nvSpPr>
          <p:spPr>
            <a:xfrm>
              <a:off x="8100720" y="303696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=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27"/>
            <p:cNvSpPr/>
            <p:nvPr/>
          </p:nvSpPr>
          <p:spPr>
            <a:xfrm>
              <a:off x="7667640" y="3252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28"/>
            <p:cNvSpPr/>
            <p:nvPr/>
          </p:nvSpPr>
          <p:spPr>
            <a:xfrm>
              <a:off x="7619760" y="4684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29"/>
            <p:cNvSpPr/>
            <p:nvPr/>
          </p:nvSpPr>
          <p:spPr>
            <a:xfrm>
              <a:off x="7619760" y="4367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30"/>
            <p:cNvSpPr/>
            <p:nvPr/>
          </p:nvSpPr>
          <p:spPr>
            <a:xfrm>
              <a:off x="8122680" y="450540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= 2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31"/>
            <p:cNvSpPr/>
            <p:nvPr/>
          </p:nvSpPr>
          <p:spPr>
            <a:xfrm>
              <a:off x="7689960" y="47214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32"/>
          <p:cNvGrpSpPr/>
          <p:nvPr/>
        </p:nvGrpSpPr>
        <p:grpSpPr>
          <a:xfrm>
            <a:off x="4573440" y="4010040"/>
            <a:ext cx="2734920" cy="1503720"/>
            <a:chOff x="4573440" y="4010040"/>
            <a:chExt cx="2734920" cy="1503720"/>
          </a:xfrm>
        </p:grpSpPr>
        <p:sp>
          <p:nvSpPr>
            <p:cNvPr id="853" name="Rectangle 33"/>
            <p:cNvSpPr/>
            <p:nvPr/>
          </p:nvSpPr>
          <p:spPr>
            <a:xfrm flipH="1" rot="20825400">
              <a:off x="6252480" y="4006800"/>
              <a:ext cx="143640" cy="1509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34"/>
            <p:cNvSpPr/>
            <p:nvPr/>
          </p:nvSpPr>
          <p:spPr>
            <a:xfrm flipH="1" rot="20825400">
              <a:off x="5677200" y="4006800"/>
              <a:ext cx="143640" cy="1509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35"/>
            <p:cNvSpPr/>
            <p:nvPr/>
          </p:nvSpPr>
          <p:spPr>
            <a:xfrm>
              <a:off x="5244840" y="4437000"/>
              <a:ext cx="1535760" cy="64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36"/>
            <p:cNvSpPr/>
            <p:nvPr/>
          </p:nvSpPr>
          <p:spPr>
            <a:xfrm>
              <a:off x="4573440" y="4653360"/>
              <a:ext cx="671400" cy="26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37"/>
            <p:cNvSpPr/>
            <p:nvPr/>
          </p:nvSpPr>
          <p:spPr>
            <a:xfrm flipV="1">
              <a:off x="5244840" y="4653000"/>
              <a:ext cx="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38"/>
            <p:cNvSpPr/>
            <p:nvPr/>
          </p:nvSpPr>
          <p:spPr>
            <a:xfrm rot="774600">
              <a:off x="5388480" y="4006800"/>
              <a:ext cx="143640" cy="1509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39"/>
            <p:cNvSpPr/>
            <p:nvPr/>
          </p:nvSpPr>
          <p:spPr>
            <a:xfrm rot="774600">
              <a:off x="5964120" y="4006800"/>
              <a:ext cx="143640" cy="1509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40"/>
            <p:cNvSpPr/>
            <p:nvPr/>
          </p:nvSpPr>
          <p:spPr>
            <a:xfrm rot="774600">
              <a:off x="6540840" y="4006800"/>
              <a:ext cx="143640" cy="1509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41"/>
            <p:cNvSpPr/>
            <p:nvPr/>
          </p:nvSpPr>
          <p:spPr>
            <a:xfrm>
              <a:off x="6733080" y="4437000"/>
              <a:ext cx="575280" cy="648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42"/>
            <p:cNvSpPr/>
            <p:nvPr/>
          </p:nvSpPr>
          <p:spPr>
            <a:xfrm>
              <a:off x="7117200" y="4545360"/>
              <a:ext cx="47160" cy="54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43"/>
            <p:cNvSpPr/>
            <p:nvPr/>
          </p:nvSpPr>
          <p:spPr>
            <a:xfrm>
              <a:off x="7117200" y="4868640"/>
              <a:ext cx="47160" cy="54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44"/>
            <p:cNvSpPr/>
            <p:nvPr/>
          </p:nvSpPr>
          <p:spPr>
            <a:xfrm>
              <a:off x="6972480" y="4706640"/>
              <a:ext cx="144720" cy="53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AutoShape 45"/>
            <p:cNvSpPr/>
            <p:nvPr/>
          </p:nvSpPr>
          <p:spPr>
            <a:xfrm>
              <a:off x="6828480" y="4600080"/>
              <a:ext cx="192600" cy="32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23" y="1192"/>
                    <a:pt x="6646" y="5080"/>
                    <a:pt x="6646" y="10800"/>
                  </a:cubicBezTo>
                  <a:cubicBezTo>
                    <a:pt x="6646" y="16520"/>
                    <a:pt x="14123" y="2040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52"/>
          <p:cNvGrpSpPr/>
          <p:nvPr/>
        </p:nvGrpSpPr>
        <p:grpSpPr>
          <a:xfrm>
            <a:off x="744480" y="1736640"/>
            <a:ext cx="6698160" cy="687600"/>
            <a:chOff x="744480" y="1736640"/>
            <a:chExt cx="6698160" cy="687600"/>
          </a:xfrm>
        </p:grpSpPr>
        <p:sp>
          <p:nvSpPr>
            <p:cNvPr id="867" name="Text Box 3"/>
            <p:cNvSpPr/>
            <p:nvPr/>
          </p:nvSpPr>
          <p:spPr>
            <a:xfrm>
              <a:off x="1684080" y="1736640"/>
              <a:ext cx="575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Desplazamiento de camilla durante cada rot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4"/>
            <p:cNvSpPr/>
            <p:nvPr/>
          </p:nvSpPr>
          <p:spPr>
            <a:xfrm>
              <a:off x="2389680" y="2025360"/>
              <a:ext cx="305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Ancho del corte o del ha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48 Conector recto"/>
            <p:cNvSpPr/>
            <p:nvPr/>
          </p:nvSpPr>
          <p:spPr>
            <a:xfrm>
              <a:off x="1733760" y="2093760"/>
              <a:ext cx="3357360" cy="1440"/>
            </a:xfrm>
            <a:prstGeom prst="line">
              <a:avLst/>
            </a:prstGeom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51"/>
            <p:cNvSpPr/>
            <p:nvPr/>
          </p:nvSpPr>
          <p:spPr>
            <a:xfrm>
              <a:off x="744480" y="1881000"/>
              <a:ext cx="1019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Pitch</a:t>
              </a:r>
              <a:r>
                <a:rPr b="1" lang="en-GB" sz="2000" spc="-1" strike="noStrike" baseline="-25000">
                  <a:solidFill>
                    <a:srgbClr val="003399"/>
                  </a:solidFill>
                  <a:latin typeface="Arial"/>
                </a:rPr>
                <a:t>x </a:t>
              </a: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0560" y="225000"/>
            <a:ext cx="7178760" cy="5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efinición de pitch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(multicorte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72" name="Group 6"/>
          <p:cNvGrpSpPr/>
          <p:nvPr/>
        </p:nvGrpSpPr>
        <p:grpSpPr>
          <a:xfrm>
            <a:off x="4500720" y="2705040"/>
            <a:ext cx="2735280" cy="1518120"/>
            <a:chOff x="4500720" y="2705040"/>
            <a:chExt cx="2735280" cy="1518120"/>
          </a:xfrm>
        </p:grpSpPr>
        <p:sp>
          <p:nvSpPr>
            <p:cNvPr id="873" name="Rectangle 7"/>
            <p:cNvSpPr/>
            <p:nvPr/>
          </p:nvSpPr>
          <p:spPr>
            <a:xfrm flipH="1" rot="21242400">
              <a:off x="6324120" y="2709360"/>
              <a:ext cx="143640" cy="15102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 flipH="1" rot="21242400">
              <a:off x="6036120" y="2709360"/>
              <a:ext cx="143640" cy="15102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 flipH="1" rot="21242400">
              <a:off x="5747400" y="2709360"/>
              <a:ext cx="143640" cy="15102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 flipH="1" rot="21242400">
              <a:off x="5459400" y="2709360"/>
              <a:ext cx="143640" cy="15102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5172480" y="3139920"/>
              <a:ext cx="1536480" cy="64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500720" y="3355920"/>
              <a:ext cx="671760" cy="26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13"/>
            <p:cNvSpPr/>
            <p:nvPr/>
          </p:nvSpPr>
          <p:spPr>
            <a:xfrm flipV="1">
              <a:off x="5172480" y="3355560"/>
              <a:ext cx="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14"/>
            <p:cNvSpPr/>
            <p:nvPr/>
          </p:nvSpPr>
          <p:spPr>
            <a:xfrm rot="357600">
              <a:off x="5316120" y="2709360"/>
              <a:ext cx="143640" cy="1509840"/>
            </a:xfrm>
            <a:prstGeom prst="rect">
              <a:avLst/>
            </a:prstGeom>
            <a:blipFill rotWithShape="0">
              <a:blip r:embed="rId1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5"/>
            <p:cNvSpPr/>
            <p:nvPr/>
          </p:nvSpPr>
          <p:spPr>
            <a:xfrm rot="357600">
              <a:off x="5604120" y="2709360"/>
              <a:ext cx="143640" cy="1509840"/>
            </a:xfrm>
            <a:prstGeom prst="rect">
              <a:avLst/>
            </a:prstGeom>
            <a:blipFill rotWithShape="0">
              <a:blip r:embed="rId2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6"/>
            <p:cNvSpPr/>
            <p:nvPr/>
          </p:nvSpPr>
          <p:spPr>
            <a:xfrm rot="357600">
              <a:off x="5893200" y="2709360"/>
              <a:ext cx="143640" cy="1509840"/>
            </a:xfrm>
            <a:prstGeom prst="rect">
              <a:avLst/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7"/>
            <p:cNvSpPr/>
            <p:nvPr/>
          </p:nvSpPr>
          <p:spPr>
            <a:xfrm rot="357600">
              <a:off x="6180840" y="2709360"/>
              <a:ext cx="143640" cy="1509840"/>
            </a:xfrm>
            <a:prstGeom prst="rect">
              <a:avLst/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8"/>
            <p:cNvSpPr/>
            <p:nvPr/>
          </p:nvSpPr>
          <p:spPr>
            <a:xfrm rot="357600">
              <a:off x="6468840" y="2708280"/>
              <a:ext cx="143640" cy="1509840"/>
            </a:xfrm>
            <a:prstGeom prst="rect">
              <a:avLst/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9"/>
            <p:cNvSpPr/>
            <p:nvPr/>
          </p:nvSpPr>
          <p:spPr>
            <a:xfrm>
              <a:off x="6660360" y="3139920"/>
              <a:ext cx="575640" cy="647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0"/>
            <p:cNvSpPr/>
            <p:nvPr/>
          </p:nvSpPr>
          <p:spPr>
            <a:xfrm>
              <a:off x="7044480" y="3247920"/>
              <a:ext cx="47160" cy="54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21"/>
            <p:cNvSpPr/>
            <p:nvPr/>
          </p:nvSpPr>
          <p:spPr>
            <a:xfrm>
              <a:off x="7044480" y="3571560"/>
              <a:ext cx="47160" cy="54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22"/>
            <p:cNvSpPr/>
            <p:nvPr/>
          </p:nvSpPr>
          <p:spPr>
            <a:xfrm>
              <a:off x="6899400" y="3409560"/>
              <a:ext cx="145080" cy="53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AutoShape 23"/>
            <p:cNvSpPr/>
            <p:nvPr/>
          </p:nvSpPr>
          <p:spPr>
            <a:xfrm>
              <a:off x="6755400" y="3302640"/>
              <a:ext cx="96120" cy="32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Group 32"/>
          <p:cNvGrpSpPr/>
          <p:nvPr/>
        </p:nvGrpSpPr>
        <p:grpSpPr>
          <a:xfrm>
            <a:off x="7506720" y="3182760"/>
            <a:ext cx="1409400" cy="716400"/>
            <a:chOff x="7506720" y="3182760"/>
            <a:chExt cx="1409400" cy="716400"/>
          </a:xfrm>
        </p:grpSpPr>
        <p:sp>
          <p:nvSpPr>
            <p:cNvPr id="891" name="Text Box 24"/>
            <p:cNvSpPr/>
            <p:nvPr/>
          </p:nvSpPr>
          <p:spPr>
            <a:xfrm>
              <a:off x="7506720" y="3500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25"/>
            <p:cNvSpPr/>
            <p:nvPr/>
          </p:nvSpPr>
          <p:spPr>
            <a:xfrm>
              <a:off x="7526160" y="31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26"/>
            <p:cNvSpPr/>
            <p:nvPr/>
          </p:nvSpPr>
          <p:spPr>
            <a:xfrm>
              <a:off x="8028360" y="33210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= 6.0 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27"/>
            <p:cNvSpPr/>
            <p:nvPr/>
          </p:nvSpPr>
          <p:spPr>
            <a:xfrm>
              <a:off x="7596360" y="3537000"/>
              <a:ext cx="36036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35"/>
          <p:cNvGrpSpPr/>
          <p:nvPr/>
        </p:nvGrpSpPr>
        <p:grpSpPr>
          <a:xfrm>
            <a:off x="766440" y="1665360"/>
            <a:ext cx="6481080" cy="785880"/>
            <a:chOff x="766440" y="1665360"/>
            <a:chExt cx="6481080" cy="785880"/>
          </a:xfrm>
        </p:grpSpPr>
        <p:sp>
          <p:nvSpPr>
            <p:cNvPr id="896" name="Text Box 3"/>
            <p:cNvSpPr/>
            <p:nvPr/>
          </p:nvSpPr>
          <p:spPr>
            <a:xfrm>
              <a:off x="1941480" y="1665360"/>
              <a:ext cx="530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Recorrido de la camilla durante cada rot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4"/>
            <p:cNvSpPr/>
            <p:nvPr/>
          </p:nvSpPr>
          <p:spPr>
            <a:xfrm>
              <a:off x="2328840" y="2052360"/>
              <a:ext cx="23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Ancho del dete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30 Conector recto"/>
            <p:cNvSpPr/>
            <p:nvPr/>
          </p:nvSpPr>
          <p:spPr>
            <a:xfrm>
              <a:off x="1973160" y="2093760"/>
              <a:ext cx="3714840" cy="1080"/>
            </a:xfrm>
            <a:prstGeom prst="line">
              <a:avLst/>
            </a:prstGeom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34"/>
            <p:cNvSpPr/>
            <p:nvPr/>
          </p:nvSpPr>
          <p:spPr>
            <a:xfrm>
              <a:off x="766440" y="1896840"/>
              <a:ext cx="108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Pitch</a:t>
              </a:r>
              <a:r>
                <a:rPr b="1" lang="en-GB" sz="2000" spc="-1" strike="noStrike" baseline="-25000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 =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36"/>
          <p:cNvSpPr/>
          <p:nvPr/>
        </p:nvSpPr>
        <p:spPr>
          <a:xfrm>
            <a:off x="360360" y="4941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definición ha caído en desuso entre los los fabric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-360" y="80640"/>
            <a:ext cx="90010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stado de la tecnología de CT, a 2007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9640" y="1754280"/>
            <a:ext cx="8136000" cy="412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iempo de rotación del tubo 1/3 se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ploración de cuerpo entero en 10-30 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solución espacial isotrópica 0.4-0.6 m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64-320 cort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ango longitudinal de exploración &gt;1000 m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osis efectiva entre 3-20 mSv (media = 10 mSv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7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Arial"/>
              </a:rPr>
              <a:t>Parte 2: Tecnología PET/C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1150560" y="3394080"/>
            <a:ext cx="687708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ulo 2.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PET/C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ET/C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129440" cy="43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Se obtiene un registro preciso de la imag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a información del CT se usa para la corregir por atenuación (y dispersión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ocalización anatómic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Seguimiento de la respuesta a la terapi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Planificación de la radioterapi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Equipo PET/C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08" name="Group 11"/>
          <p:cNvGrpSpPr/>
          <p:nvPr/>
        </p:nvGrpSpPr>
        <p:grpSpPr>
          <a:xfrm>
            <a:off x="576360" y="1320840"/>
            <a:ext cx="8056440" cy="4771800"/>
            <a:chOff x="576360" y="1320840"/>
            <a:chExt cx="8056440" cy="4771800"/>
          </a:xfrm>
        </p:grpSpPr>
        <p:pic>
          <p:nvPicPr>
            <p:cNvPr id="909" name="Picture 13" descr=""/>
            <p:cNvPicPr/>
            <p:nvPr/>
          </p:nvPicPr>
          <p:blipFill>
            <a:blip r:embed="rId1"/>
            <a:stretch/>
          </p:blipFill>
          <p:spPr>
            <a:xfrm>
              <a:off x="2592360" y="1320840"/>
              <a:ext cx="3581640" cy="47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Text Box 7"/>
            <p:cNvSpPr/>
            <p:nvPr/>
          </p:nvSpPr>
          <p:spPr>
            <a:xfrm>
              <a:off x="6804000" y="27352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Equipo P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9"/>
            <p:cNvSpPr/>
            <p:nvPr/>
          </p:nvSpPr>
          <p:spPr>
            <a:xfrm>
              <a:off x="5975280" y="2859120"/>
              <a:ext cx="685800" cy="228600"/>
            </a:xfrm>
            <a:prstGeom prst="leftArrow">
              <a:avLst>
                <a:gd name="adj1" fmla="val 50000"/>
                <a:gd name="adj2" fmla="val 7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10"/>
            <p:cNvSpPr/>
            <p:nvPr/>
          </p:nvSpPr>
          <p:spPr>
            <a:xfrm>
              <a:off x="576360" y="294624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Unidad de 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11"/>
            <p:cNvSpPr/>
            <p:nvPr/>
          </p:nvSpPr>
          <p:spPr>
            <a:xfrm>
              <a:off x="1655640" y="3409920"/>
              <a:ext cx="976320" cy="304920"/>
            </a:xfrm>
            <a:prstGeom prst="rightArrow">
              <a:avLst>
                <a:gd name="adj1" fmla="val 50000"/>
                <a:gd name="adj2" fmla="val 800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89080" y="-1800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tenuacción de los fotones gamma de 511 keV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11280" y="1577520"/>
            <a:ext cx="8136000" cy="37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a inmensa mayoría de las interacciones de los rayos gamma con el tejido tienen lugar por dispersión Compt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El factor de atenuación al atravesar el tórax puede llegar a 5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Se reduce la visibilidad de las lesiones profunda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Se reduce la precisión en la cuantificació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rrección de atenuació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23640" y="1321920"/>
            <a:ext cx="4591080" cy="18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Fuentes radiactiva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27120" indent="-36216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uente de </a:t>
            </a:r>
            <a:r>
              <a:rPr b="0" lang="en-GB" sz="2400" spc="-1" strike="noStrike" baseline="30000">
                <a:solidFill>
                  <a:srgbClr val="003399"/>
                </a:solidFill>
                <a:latin typeface="Arial"/>
              </a:rPr>
              <a:t> 68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 cilíndrica en forma de barr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7120" indent="-362160"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uente puntual de 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rial"/>
              </a:rPr>
              <a:t>137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18" name="Group 14"/>
          <p:cNvGrpSpPr/>
          <p:nvPr/>
        </p:nvGrpSpPr>
        <p:grpSpPr>
          <a:xfrm>
            <a:off x="4932360" y="1479600"/>
            <a:ext cx="3787920" cy="3641760"/>
            <a:chOff x="4932360" y="1479600"/>
            <a:chExt cx="3787920" cy="3641760"/>
          </a:xfrm>
        </p:grpSpPr>
        <p:pic>
          <p:nvPicPr>
            <p:cNvPr id="919" name="Picture 4" descr=""/>
            <p:cNvPicPr/>
            <p:nvPr/>
          </p:nvPicPr>
          <p:blipFill>
            <a:blip r:embed="rId1"/>
            <a:srcRect l="26579" t="33322" r="34590" b="43756"/>
            <a:stretch/>
          </p:blipFill>
          <p:spPr>
            <a:xfrm>
              <a:off x="4932360" y="1517760"/>
              <a:ext cx="3787920" cy="167796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  <p:sp>
          <p:nvSpPr>
            <p:cNvPr id="920" name="Text Box 6"/>
            <p:cNvSpPr/>
            <p:nvPr/>
          </p:nvSpPr>
          <p:spPr>
            <a:xfrm>
              <a:off x="4973760" y="1538280"/>
              <a:ext cx="7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baseline="30000">
                  <a:solidFill>
                    <a:srgbClr val="003399"/>
                  </a:solidFill>
                  <a:latin typeface="Arial"/>
                </a:rPr>
                <a:t>68</a:t>
              </a: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7"/>
            <p:cNvSpPr/>
            <p:nvPr/>
          </p:nvSpPr>
          <p:spPr>
            <a:xfrm>
              <a:off x="6989760" y="1479600"/>
              <a:ext cx="7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baseline="30000">
                  <a:solidFill>
                    <a:srgbClr val="003399"/>
                  </a:solidFill>
                  <a:latin typeface="Arial"/>
                </a:rPr>
                <a:t>137</a:t>
              </a:r>
              <a:r>
                <a:rPr b="1" lang="en-GB" sz="1200" spc="-1" strike="noStrike">
                  <a:solidFill>
                    <a:srgbClr val="003399"/>
                  </a:solidFill>
                  <a:latin typeface="Arial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2" name="Group 13"/>
            <p:cNvGrpSpPr/>
            <p:nvPr/>
          </p:nvGrpSpPr>
          <p:grpSpPr>
            <a:xfrm>
              <a:off x="6701040" y="3519720"/>
              <a:ext cx="1979280" cy="1601640"/>
              <a:chOff x="6701040" y="3519720"/>
              <a:chExt cx="1979280" cy="1601640"/>
            </a:xfrm>
          </p:grpSpPr>
          <p:pic>
            <p:nvPicPr>
              <p:cNvPr id="923" name="Picture 5" descr=""/>
              <p:cNvPicPr/>
              <p:nvPr/>
            </p:nvPicPr>
            <p:blipFill>
              <a:blip r:embed="rId2"/>
              <a:srcRect l="47658" t="56258" r="32043" b="21854"/>
              <a:stretch/>
            </p:blipFill>
            <p:spPr>
              <a:xfrm>
                <a:off x="6701040" y="3519720"/>
                <a:ext cx="1979280" cy="1601640"/>
              </a:xfrm>
              <a:prstGeom prst="rect">
                <a:avLst/>
              </a:prstGeom>
              <a:ln w="25560">
                <a:solidFill>
                  <a:srgbClr val="990033"/>
                </a:solidFill>
                <a:miter/>
              </a:ln>
            </p:spPr>
          </p:pic>
          <p:sp>
            <p:nvSpPr>
              <p:cNvPr id="924" name="Text Box 8"/>
              <p:cNvSpPr/>
              <p:nvPr/>
            </p:nvSpPr>
            <p:spPr>
              <a:xfrm>
                <a:off x="6722640" y="3568680"/>
                <a:ext cx="44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3399"/>
                    </a:solidFill>
                    <a:latin typeface="Arial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5" name="Rectangle 3"/>
          <p:cNvSpPr/>
          <p:nvPr/>
        </p:nvSpPr>
        <p:spPr>
          <a:xfrm>
            <a:off x="617400" y="3608280"/>
            <a:ext cx="522000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Fuente de ray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cquisición más rápida que con fuentes radia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Menor ruido que con las fuentes radia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Dosis de radiación más altas a los pa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799920" y="1449000"/>
            <a:ext cx="773244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apa de atenuación que se aplica para corregir la imagen de emisión durante la reconstrucción iterativ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27" name="Group 16"/>
          <p:cNvGrpSpPr/>
          <p:nvPr/>
        </p:nvGrpSpPr>
        <p:grpSpPr>
          <a:xfrm>
            <a:off x="1044720" y="3005280"/>
            <a:ext cx="7056360" cy="1932840"/>
            <a:chOff x="1044720" y="3005280"/>
            <a:chExt cx="7056360" cy="1932840"/>
          </a:xfrm>
        </p:grpSpPr>
        <p:sp>
          <p:nvSpPr>
            <p:cNvPr id="928" name="Text Box 135"/>
            <p:cNvSpPr/>
            <p:nvPr/>
          </p:nvSpPr>
          <p:spPr>
            <a:xfrm>
              <a:off x="1620720" y="4511520"/>
              <a:ext cx="939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Narrow"/>
                </a:rPr>
                <a:t>Imagen de E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9" name="Picture 138" descr=""/>
            <p:cNvPicPr/>
            <p:nvPr/>
          </p:nvPicPr>
          <p:blipFill>
            <a:blip r:embed="rId1"/>
            <a:stretch/>
          </p:blipFill>
          <p:spPr>
            <a:xfrm>
              <a:off x="1044720" y="3036600"/>
              <a:ext cx="1942920" cy="140004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  <p:sp>
          <p:nvSpPr>
            <p:cNvPr id="930" name="Text Box 129"/>
            <p:cNvSpPr/>
            <p:nvPr/>
          </p:nvSpPr>
          <p:spPr>
            <a:xfrm>
              <a:off x="3924360" y="4508280"/>
              <a:ext cx="1403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Narrow"/>
                </a:rPr>
                <a:t>Imagen de Transmisió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1" name="Picture 140" descr=""/>
            <p:cNvPicPr/>
            <p:nvPr/>
          </p:nvPicPr>
          <p:blipFill>
            <a:blip r:embed="rId2"/>
            <a:stretch/>
          </p:blipFill>
          <p:spPr>
            <a:xfrm>
              <a:off x="3673440" y="3031920"/>
              <a:ext cx="1943280" cy="139968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  <p:sp>
          <p:nvSpPr>
            <p:cNvPr id="932" name="Text Box 132"/>
            <p:cNvSpPr/>
            <p:nvPr/>
          </p:nvSpPr>
          <p:spPr>
            <a:xfrm>
              <a:off x="6624720" y="4473360"/>
              <a:ext cx="1139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Narrow"/>
                </a:rPr>
                <a:t>Imagen correg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3" name="Picture 143" descr=""/>
            <p:cNvPicPr/>
            <p:nvPr/>
          </p:nvPicPr>
          <p:blipFill>
            <a:blip r:embed="rId3"/>
            <a:stretch/>
          </p:blipFill>
          <p:spPr>
            <a:xfrm>
              <a:off x="6157800" y="3005280"/>
              <a:ext cx="1943280" cy="139968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</p:grpSp>
      <p:sp>
        <p:nvSpPr>
          <p:cNvPr id="934" name="PlaceHolder 2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orrección de atenuació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2668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Parte 2: Tecnología PET/C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-360" y="3357360"/>
            <a:ext cx="910908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ó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ulo 2.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iclotrone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orrección por atenuación mediante C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67400" y="1425600"/>
            <a:ext cx="4225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CT - 120 keV (energía media efectiva 70 keV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Pero, el mapa de atenuación depende de la energía, por tanto…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es necesario realizar una corrección por energía entre la de la CT (kV) y los 511 KeV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7" name="Picture 6" descr=""/>
          <p:cNvPicPr/>
          <p:nvPr/>
        </p:nvPicPr>
        <p:blipFill>
          <a:blip r:embed="rId1"/>
          <a:srcRect l="50205" t="45135" r="15541" b="20426"/>
          <a:stretch/>
        </p:blipFill>
        <p:spPr>
          <a:xfrm>
            <a:off x="719280" y="1773360"/>
            <a:ext cx="3563640" cy="374004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sp>
        <p:nvSpPr>
          <p:cNvPr id="938" name="6 CuadroTexto"/>
          <p:cNvSpPr/>
          <p:nvPr/>
        </p:nvSpPr>
        <p:spPr>
          <a:xfrm>
            <a:off x="2000160" y="5286240"/>
            <a:ext cx="1500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úmero de CT (U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PET/C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40" name="Group 21"/>
          <p:cNvGrpSpPr/>
          <p:nvPr/>
        </p:nvGrpSpPr>
        <p:grpSpPr>
          <a:xfrm>
            <a:off x="611280" y="2138400"/>
            <a:ext cx="8091000" cy="2379960"/>
            <a:chOff x="611280" y="2138400"/>
            <a:chExt cx="8091000" cy="2379960"/>
          </a:xfrm>
        </p:grpSpPr>
        <p:sp>
          <p:nvSpPr>
            <p:cNvPr id="941" name="Text Box 3"/>
            <p:cNvSpPr/>
            <p:nvPr/>
          </p:nvSpPr>
          <p:spPr>
            <a:xfrm>
              <a:off x="611280" y="2138400"/>
              <a:ext cx="990360" cy="398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4"/>
            <p:cNvSpPr/>
            <p:nvPr/>
          </p:nvSpPr>
          <p:spPr>
            <a:xfrm>
              <a:off x="687240" y="3738240"/>
              <a:ext cx="990360" cy="398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P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5"/>
            <p:cNvSpPr/>
            <p:nvPr/>
          </p:nvSpPr>
          <p:spPr>
            <a:xfrm>
              <a:off x="1915920" y="2143080"/>
              <a:ext cx="1218960" cy="520200"/>
            </a:xfrm>
            <a:prstGeom prst="rect">
              <a:avLst/>
            </a:prstGeom>
            <a:noFill/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399"/>
                  </a:solidFill>
                  <a:latin typeface="Arial"/>
                </a:rPr>
                <a:t>Exploración de rastre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6"/>
            <p:cNvSpPr/>
            <p:nvPr/>
          </p:nvSpPr>
          <p:spPr>
            <a:xfrm>
              <a:off x="2516040" y="2747880"/>
              <a:ext cx="0" cy="114264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7"/>
            <p:cNvSpPr/>
            <p:nvPr/>
          </p:nvSpPr>
          <p:spPr>
            <a:xfrm flipH="1">
              <a:off x="1906560" y="3890880"/>
              <a:ext cx="609120" cy="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8"/>
            <p:cNvSpPr/>
            <p:nvPr/>
          </p:nvSpPr>
          <p:spPr>
            <a:xfrm>
              <a:off x="3430440" y="2138400"/>
              <a:ext cx="761760" cy="398880"/>
            </a:xfrm>
            <a:prstGeom prst="rect">
              <a:avLst/>
            </a:prstGeom>
            <a:noFill/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9"/>
            <p:cNvSpPr/>
            <p:nvPr/>
          </p:nvSpPr>
          <p:spPr>
            <a:xfrm>
              <a:off x="3735360" y="2671560"/>
              <a:ext cx="0" cy="106632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10"/>
            <p:cNvSpPr/>
            <p:nvPr/>
          </p:nvSpPr>
          <p:spPr>
            <a:xfrm>
              <a:off x="1982520" y="4043160"/>
              <a:ext cx="1295280" cy="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11"/>
            <p:cNvSpPr/>
            <p:nvPr/>
          </p:nvSpPr>
          <p:spPr>
            <a:xfrm>
              <a:off x="3354120" y="3814560"/>
              <a:ext cx="220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Algoritmo de reconstruc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12"/>
            <p:cNvSpPr/>
            <p:nvPr/>
          </p:nvSpPr>
          <p:spPr>
            <a:xfrm>
              <a:off x="2968920" y="3052440"/>
              <a:ext cx="31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Corrección por atenu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3"/>
            <p:cNvSpPr/>
            <p:nvPr/>
          </p:nvSpPr>
          <p:spPr>
            <a:xfrm>
              <a:off x="5487840" y="4043160"/>
              <a:ext cx="533160" cy="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14"/>
            <p:cNvSpPr/>
            <p:nvPr/>
          </p:nvSpPr>
          <p:spPr>
            <a:xfrm>
              <a:off x="6059520" y="3786120"/>
              <a:ext cx="837720" cy="398880"/>
            </a:xfrm>
            <a:prstGeom prst="rect">
              <a:avLst/>
            </a:prstGeom>
            <a:noFill/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P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5"/>
            <p:cNvSpPr/>
            <p:nvPr/>
          </p:nvSpPr>
          <p:spPr>
            <a:xfrm>
              <a:off x="4421160" y="2366640"/>
              <a:ext cx="3428640" cy="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6"/>
            <p:cNvSpPr/>
            <p:nvPr/>
          </p:nvSpPr>
          <p:spPr>
            <a:xfrm>
              <a:off x="7850160" y="2366640"/>
              <a:ext cx="0" cy="137124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17"/>
            <p:cNvSpPr/>
            <p:nvPr/>
          </p:nvSpPr>
          <p:spPr>
            <a:xfrm>
              <a:off x="7130880" y="3814560"/>
              <a:ext cx="1571400" cy="703800"/>
            </a:xfrm>
            <a:prstGeom prst="rect">
              <a:avLst/>
            </a:prstGeom>
            <a:solidFill>
              <a:srgbClr val="a3cdeb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Imagen de fus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roceso de barrido PET/C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57" name="Group 10"/>
          <p:cNvGrpSpPr/>
          <p:nvPr/>
        </p:nvGrpSpPr>
        <p:grpSpPr>
          <a:xfrm>
            <a:off x="503280" y="1376280"/>
            <a:ext cx="4282920" cy="4795200"/>
            <a:chOff x="503280" y="1376280"/>
            <a:chExt cx="4282920" cy="4795200"/>
          </a:xfrm>
        </p:grpSpPr>
        <p:pic>
          <p:nvPicPr>
            <p:cNvPr id="958" name="Picture 3" descr=""/>
            <p:cNvPicPr/>
            <p:nvPr/>
          </p:nvPicPr>
          <p:blipFill>
            <a:blip r:embed="rId1"/>
            <a:srcRect l="29643" t="39573" r="41788" b="29187"/>
            <a:stretch/>
          </p:blipFill>
          <p:spPr>
            <a:xfrm>
              <a:off x="795240" y="1376280"/>
              <a:ext cx="3527280" cy="289404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  <p:sp>
          <p:nvSpPr>
            <p:cNvPr id="959" name="Text Box 4"/>
            <p:cNvSpPr/>
            <p:nvPr/>
          </p:nvSpPr>
          <p:spPr>
            <a:xfrm>
              <a:off x="503280" y="4394160"/>
              <a:ext cx="428292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Arial Unicode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 Unicode MS"/>
                </a:rPr>
                <a:t>Primero se obtiene una exploracion previa de rastreo con el equipo de 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Arial Unicode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 Unicode MS"/>
                </a:rPr>
                <a:t>En segundo lugar se realiza el estudio completo con el 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12"/>
          <p:cNvGrpSpPr/>
          <p:nvPr/>
        </p:nvGrpSpPr>
        <p:grpSpPr>
          <a:xfrm>
            <a:off x="4940280" y="1881360"/>
            <a:ext cx="3916440" cy="4408920"/>
            <a:chOff x="4940280" y="1881360"/>
            <a:chExt cx="3916440" cy="4408920"/>
          </a:xfrm>
        </p:grpSpPr>
        <p:pic>
          <p:nvPicPr>
            <p:cNvPr id="961" name="Picture 3" descr=""/>
            <p:cNvPicPr/>
            <p:nvPr/>
          </p:nvPicPr>
          <p:blipFill>
            <a:blip r:embed="rId2"/>
            <a:srcRect l="56739" t="39573" r="12920" b="32323"/>
            <a:stretch/>
          </p:blipFill>
          <p:spPr>
            <a:xfrm>
              <a:off x="4940280" y="1881360"/>
              <a:ext cx="3746520" cy="2603160"/>
            </a:xfrm>
            <a:prstGeom prst="rect">
              <a:avLst/>
            </a:prstGeom>
            <a:ln w="25560">
              <a:solidFill>
                <a:srgbClr val="990033"/>
              </a:solidFill>
              <a:miter/>
            </a:ln>
          </p:spPr>
        </p:pic>
        <p:sp>
          <p:nvSpPr>
            <p:cNvPr id="962" name="Text Box 4"/>
            <p:cNvSpPr/>
            <p:nvPr/>
          </p:nvSpPr>
          <p:spPr>
            <a:xfrm>
              <a:off x="4998960" y="4671720"/>
              <a:ext cx="38577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Arial Unicode MS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 Unicode MS"/>
                </a:rPr>
                <a:t>En tercer lugar se desplaza al  paciente hacia el interior del equipo y se obtiene la imagen de P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Tiempo por paciente / Flujo de trabaj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64" name="Group 26"/>
          <p:cNvGrpSpPr/>
          <p:nvPr/>
        </p:nvGrpSpPr>
        <p:grpSpPr>
          <a:xfrm>
            <a:off x="282600" y="1212840"/>
            <a:ext cx="8686800" cy="3623400"/>
            <a:chOff x="282600" y="1212840"/>
            <a:chExt cx="8686800" cy="3623400"/>
          </a:xfrm>
        </p:grpSpPr>
        <p:sp>
          <p:nvSpPr>
            <p:cNvPr id="965" name="Line 3"/>
            <p:cNvSpPr/>
            <p:nvPr/>
          </p:nvSpPr>
          <p:spPr>
            <a:xfrm flipV="1">
              <a:off x="816120" y="2975040"/>
              <a:ext cx="0" cy="45720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4"/>
            <p:cNvSpPr/>
            <p:nvPr/>
          </p:nvSpPr>
          <p:spPr>
            <a:xfrm>
              <a:off x="816120" y="3432240"/>
              <a:ext cx="6095880" cy="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5"/>
            <p:cNvSpPr/>
            <p:nvPr/>
          </p:nvSpPr>
          <p:spPr>
            <a:xfrm>
              <a:off x="282600" y="36608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Inyec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6"/>
            <p:cNvSpPr/>
            <p:nvPr/>
          </p:nvSpPr>
          <p:spPr>
            <a:xfrm flipV="1">
              <a:off x="4321080" y="3050640"/>
              <a:ext cx="0" cy="38124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7"/>
            <p:cNvSpPr/>
            <p:nvPr/>
          </p:nvSpPr>
          <p:spPr>
            <a:xfrm>
              <a:off x="723960" y="244152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8"/>
            <p:cNvSpPr/>
            <p:nvPr/>
          </p:nvSpPr>
          <p:spPr>
            <a:xfrm>
              <a:off x="4092480" y="25178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6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9"/>
            <p:cNvSpPr/>
            <p:nvPr/>
          </p:nvSpPr>
          <p:spPr>
            <a:xfrm>
              <a:off x="7697880" y="259380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minu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10"/>
            <p:cNvSpPr/>
            <p:nvPr/>
          </p:nvSpPr>
          <p:spPr>
            <a:xfrm>
              <a:off x="3697200" y="1212840"/>
              <a:ext cx="1457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Arial"/>
                </a:rPr>
                <a:t>Obtención de imágenes de Exploración &amp; imágenes de 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1"/>
            <p:cNvSpPr/>
            <p:nvPr/>
          </p:nvSpPr>
          <p:spPr>
            <a:xfrm flipV="1">
              <a:off x="4930920" y="3126960"/>
              <a:ext cx="0" cy="30492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768920" y="3641760"/>
              <a:ext cx="234324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Arial"/>
                </a:rPr>
                <a:t>Imágenes Exploración P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Arial"/>
                </a:rPr>
                <a:t>de 2-3 min por cada paso de la m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13"/>
            <p:cNvSpPr/>
            <p:nvPr/>
          </p:nvSpPr>
          <p:spPr>
            <a:xfrm flipV="1">
              <a:off x="3711600" y="3050640"/>
              <a:ext cx="0" cy="38124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3406680" y="25178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2768760" y="3584520"/>
              <a:ext cx="1400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Arial"/>
                </a:rPr>
                <a:t>Vaciamiento de la vejiga (micción del pacient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4702320" y="25178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17"/>
            <p:cNvSpPr/>
            <p:nvPr/>
          </p:nvSpPr>
          <p:spPr>
            <a:xfrm flipV="1">
              <a:off x="6912000" y="2975040"/>
              <a:ext cx="0" cy="45720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18"/>
            <p:cNvSpPr/>
            <p:nvPr/>
          </p:nvSpPr>
          <p:spPr>
            <a:xfrm>
              <a:off x="6411960" y="2517840"/>
              <a:ext cx="8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10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19"/>
            <p:cNvSpPr/>
            <p:nvPr/>
          </p:nvSpPr>
          <p:spPr>
            <a:xfrm>
              <a:off x="6411960" y="1641600"/>
              <a:ext cx="1428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El </a:t>
              </a: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paciente se viste y se rehidr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20"/>
            <p:cNvSpPr/>
            <p:nvPr/>
          </p:nvSpPr>
          <p:spPr>
            <a:xfrm>
              <a:off x="1339920" y="183204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Arial"/>
                </a:rPr>
                <a:t>Repo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 Box 21"/>
          <p:cNvSpPr/>
          <p:nvPr/>
        </p:nvSpPr>
        <p:spPr>
          <a:xfrm>
            <a:off x="644400" y="5286240"/>
            <a:ext cx="80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 sistemas modernos, el examen se completa en menos de 20 min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3399"/>
                </a:solidFill>
                <a:latin typeface="Arial"/>
              </a:rPr>
              <a:t>Resumen de la tecnología PET/C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250560" y="1457280"/>
            <a:ext cx="8566200" cy="42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os ciclotrones se usan para producir radionúclidos emisores de positrones, mediante la aceleración de protones que impactan sobre el blanco de </a:t>
            </a:r>
            <a:r>
              <a:rPr b="0" lang="en-GB" sz="20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O, produciendose </a:t>
            </a:r>
            <a:r>
              <a:rPr b="0" lang="en-GB" sz="20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F y un neutró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os equipos PET funcionan a partir de la detección simultánea de un par de fotones gamma de 511 keV (cada uno)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os equipos CT se basan en la detección de la cantidad de rayos-X, generados en un tubo de rayos-X externo, que consiguen atravesar el cuerpo del paciente, en diferentes ángul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os equipos PET/CT poseen un equipo de CT junto a un equipo PET, y permiten mejorar la precisión del registro de la PET. Para ello, utilizan la imagen y datos de la CT para corregir por atenuación y para ubicar  anatómicamente las áreas de actividad anormalmente altas que aparecen en la imagen de PE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iclotron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01" name="Picture 7" descr=""/>
          <p:cNvPicPr/>
          <p:nvPr/>
        </p:nvPicPr>
        <p:blipFill>
          <a:blip r:embed="rId1"/>
          <a:srcRect l="2863" t="5599" r="2649" b="2100"/>
          <a:stretch/>
        </p:blipFill>
        <p:spPr>
          <a:xfrm>
            <a:off x="684360" y="1486080"/>
            <a:ext cx="4751280" cy="23731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pic>
        <p:nvPicPr>
          <p:cNvPr id="402" name="Picture 8" descr=""/>
          <p:cNvPicPr/>
          <p:nvPr/>
        </p:nvPicPr>
        <p:blipFill>
          <a:blip r:embed="rId2"/>
          <a:stretch/>
        </p:blipFill>
        <p:spPr>
          <a:xfrm>
            <a:off x="5651640" y="3213000"/>
            <a:ext cx="3057480" cy="26956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DSC00678_det"/>
          <p:cNvPicPr/>
          <p:nvPr/>
        </p:nvPicPr>
        <p:blipFill>
          <a:blip r:embed="rId1"/>
          <a:stretch/>
        </p:blipFill>
        <p:spPr>
          <a:xfrm>
            <a:off x="108000" y="3933720"/>
            <a:ext cx="3274920" cy="21830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3"/>
          <p:cNvSpPr/>
          <p:nvPr/>
        </p:nvSpPr>
        <p:spPr>
          <a:xfrm>
            <a:off x="179280" y="981000"/>
            <a:ext cx="39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 u="sng">
                <a:solidFill>
                  <a:srgbClr val="000000"/>
                </a:solidFill>
                <a:uFillTx/>
                <a:latin typeface="Arial"/>
              </a:rPr>
              <a:t>Autoblindados o montados en só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iclotron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406" name="Object 5"/>
          <p:cNvGraphicFramePr/>
          <p:nvPr/>
        </p:nvGraphicFramePr>
        <p:xfrm>
          <a:off x="2630520" y="2036880"/>
          <a:ext cx="2336760" cy="22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0520" y="2036880"/>
                    <a:ext cx="2336760" cy="22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6"/>
          <p:cNvSpPr/>
          <p:nvPr/>
        </p:nvSpPr>
        <p:spPr>
          <a:xfrm>
            <a:off x="5292720" y="3933720"/>
            <a:ext cx="33829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 u="sng">
                <a:solidFill>
                  <a:srgbClr val="003399"/>
                </a:solidFill>
                <a:uFillTx/>
                <a:latin typeface="Arial"/>
              </a:rPr>
              <a:t>Applicaciones: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Producción de radionuclidos empleados en P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F, </a:t>
            </a:r>
            <a:r>
              <a:rPr b="0" lang="fr-BE" sz="1400" spc="-1" strike="noStrike" baseline="30000">
                <a:solidFill>
                  <a:srgbClr val="003399"/>
                </a:solidFill>
                <a:latin typeface="Arial"/>
              </a:rPr>
              <a:t>11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C,  </a:t>
            </a:r>
            <a:r>
              <a:rPr b="0" lang="fr-BE" sz="1400" spc="-1" strike="noStrike" baseline="30000">
                <a:solidFill>
                  <a:srgbClr val="003399"/>
                </a:solidFill>
                <a:latin typeface="Arial"/>
              </a:rPr>
              <a:t>13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N, </a:t>
            </a:r>
            <a:r>
              <a:rPr b="0" lang="fr-BE" sz="1400" spc="-1" strike="noStrike" baseline="30000">
                <a:solidFill>
                  <a:srgbClr val="003399"/>
                </a:solidFill>
                <a:latin typeface="Arial"/>
              </a:rPr>
              <a:t>15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O and </a:t>
            </a:r>
            <a:r>
              <a:rPr b="0" lang="fr-BE" sz="1400" spc="-1" strike="noStrike" baseline="30000">
                <a:solidFill>
                  <a:srgbClr val="003399"/>
                </a:solidFill>
                <a:latin typeface="Arial"/>
              </a:rPr>
              <a:t>18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F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‘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new’ PET radioisotop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 baseline="30000">
                <a:solidFill>
                  <a:srgbClr val="003399"/>
                </a:solidFill>
                <a:latin typeface="Arial"/>
              </a:rPr>
              <a:t>124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I, </a:t>
            </a:r>
            <a:r>
              <a:rPr b="0" lang="fr-BE" sz="1400" spc="-1" strike="noStrike" baseline="30000">
                <a:solidFill>
                  <a:srgbClr val="003399"/>
                </a:solidFill>
                <a:latin typeface="Arial"/>
              </a:rPr>
              <a:t>123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I, </a:t>
            </a:r>
            <a:r>
              <a:rPr b="0" lang="fr-BE" sz="1400" spc="-1" strike="noStrike" baseline="30000">
                <a:solidFill>
                  <a:srgbClr val="003399"/>
                </a:solidFill>
                <a:latin typeface="Arial"/>
              </a:rPr>
              <a:t>64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Cu, </a:t>
            </a:r>
            <a:r>
              <a:rPr b="0" lang="fr-BE" sz="1400" spc="-1" strike="noStrike" baseline="30000">
                <a:solidFill>
                  <a:srgbClr val="003399"/>
                </a:solidFill>
                <a:latin typeface="Arial"/>
              </a:rPr>
              <a:t>86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Y, </a:t>
            </a:r>
            <a:r>
              <a:rPr b="0" lang="fr-BE" sz="1400" spc="-1" strike="noStrike" baseline="30000">
                <a:solidFill>
                  <a:srgbClr val="003399"/>
                </a:solidFill>
                <a:latin typeface="Arial"/>
              </a:rPr>
              <a:t>76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Br</a:t>
            </a:r>
            <a:r>
              <a:rPr b="1" lang="fr-BE" sz="1400" spc="-1" strike="noStrike">
                <a:solidFill>
                  <a:srgbClr val="3366cc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5435640" y="1125360"/>
          <a:ext cx="2787480" cy="278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5640" y="1125360"/>
                    <a:ext cx="2787480" cy="27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0560" y="1981080"/>
            <a:ext cx="3795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clotron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618920" y="1269720"/>
            <a:ext cx="637380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asificados por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94440" indent="-26316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ipo de partícula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79360" indent="-31104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mple/Dua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79360" indent="-31104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tón/Deuteró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94440" indent="-2631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79360" indent="-31104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11 MeV a 40 MeV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79360" indent="-31104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 7 a 18 e incluso hasta 70 MeV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94440" indent="-2631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pacidad de bombarde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79360" indent="-31104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mple/Dua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94440" indent="-26316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úmero de blanc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79360" indent="-31104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tidad de radiació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79360" indent="-3110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rma química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19"/>
          <p:cNvGrpSpPr/>
          <p:nvPr/>
        </p:nvGrpSpPr>
        <p:grpSpPr>
          <a:xfrm>
            <a:off x="469800" y="304920"/>
            <a:ext cx="8326440" cy="6289200"/>
            <a:chOff x="469800" y="304920"/>
            <a:chExt cx="8326440" cy="6289200"/>
          </a:xfrm>
        </p:grpSpPr>
        <p:pic>
          <p:nvPicPr>
            <p:cNvPr id="415" name="Picture 18" descr=""/>
            <p:cNvPicPr/>
            <p:nvPr/>
          </p:nvPicPr>
          <p:blipFill>
            <a:blip r:embed="rId1"/>
            <a:stretch/>
          </p:blipFill>
          <p:spPr>
            <a:xfrm>
              <a:off x="1550880" y="1125360"/>
              <a:ext cx="69818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Freeform 5"/>
            <p:cNvSpPr/>
            <p:nvPr/>
          </p:nvSpPr>
          <p:spPr>
            <a:xfrm>
              <a:off x="3209760" y="1557360"/>
              <a:ext cx="3687840" cy="306864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2145" h="1933">
                  <a:moveTo>
                    <a:pt x="1146" y="991"/>
                  </a:moveTo>
                  <a:cubicBezTo>
                    <a:pt x="1198" y="1000"/>
                    <a:pt x="1281" y="969"/>
                    <a:pt x="1303" y="1017"/>
                  </a:cubicBezTo>
                  <a:cubicBezTo>
                    <a:pt x="1425" y="1286"/>
                    <a:pt x="1273" y="1268"/>
                    <a:pt x="1146" y="1331"/>
                  </a:cubicBezTo>
                  <a:cubicBezTo>
                    <a:pt x="1050" y="1322"/>
                    <a:pt x="926" y="1373"/>
                    <a:pt x="858" y="1305"/>
                  </a:cubicBezTo>
                  <a:cubicBezTo>
                    <a:pt x="680" y="1127"/>
                    <a:pt x="1000" y="996"/>
                    <a:pt x="1093" y="964"/>
                  </a:cubicBezTo>
                  <a:cubicBezTo>
                    <a:pt x="1747" y="1052"/>
                    <a:pt x="1358" y="921"/>
                    <a:pt x="1539" y="1095"/>
                  </a:cubicBezTo>
                  <a:cubicBezTo>
                    <a:pt x="1554" y="1125"/>
                    <a:pt x="1591" y="1195"/>
                    <a:pt x="1591" y="1226"/>
                  </a:cubicBezTo>
                  <a:cubicBezTo>
                    <a:pt x="1591" y="1280"/>
                    <a:pt x="1555" y="1329"/>
                    <a:pt x="1512" y="1357"/>
                  </a:cubicBezTo>
                  <a:cubicBezTo>
                    <a:pt x="1378" y="1446"/>
                    <a:pt x="1221" y="1466"/>
                    <a:pt x="1067" y="1488"/>
                  </a:cubicBezTo>
                  <a:cubicBezTo>
                    <a:pt x="980" y="1479"/>
                    <a:pt x="766" y="1540"/>
                    <a:pt x="805" y="1462"/>
                  </a:cubicBezTo>
                  <a:cubicBezTo>
                    <a:pt x="1130" y="812"/>
                    <a:pt x="1135" y="840"/>
                    <a:pt x="1434" y="938"/>
                  </a:cubicBezTo>
                  <a:cubicBezTo>
                    <a:pt x="1495" y="1060"/>
                    <a:pt x="1469" y="1008"/>
                    <a:pt x="1512" y="1095"/>
                  </a:cubicBezTo>
                  <a:cubicBezTo>
                    <a:pt x="1523" y="1117"/>
                    <a:pt x="1554" y="1126"/>
                    <a:pt x="1565" y="1148"/>
                  </a:cubicBezTo>
                  <a:cubicBezTo>
                    <a:pt x="1574" y="1165"/>
                    <a:pt x="1584" y="1182"/>
                    <a:pt x="1591" y="1200"/>
                  </a:cubicBezTo>
                  <a:cubicBezTo>
                    <a:pt x="1610" y="1252"/>
                    <a:pt x="1643" y="1357"/>
                    <a:pt x="1643" y="1357"/>
                  </a:cubicBezTo>
                  <a:cubicBezTo>
                    <a:pt x="1634" y="1427"/>
                    <a:pt x="1643" y="1501"/>
                    <a:pt x="1617" y="1567"/>
                  </a:cubicBezTo>
                  <a:cubicBezTo>
                    <a:pt x="1596" y="1621"/>
                    <a:pt x="1400" y="1660"/>
                    <a:pt x="1355" y="1671"/>
                  </a:cubicBezTo>
                  <a:cubicBezTo>
                    <a:pt x="1197" y="1660"/>
                    <a:pt x="1036" y="1669"/>
                    <a:pt x="884" y="1619"/>
                  </a:cubicBezTo>
                  <a:cubicBezTo>
                    <a:pt x="866" y="1613"/>
                    <a:pt x="847" y="1605"/>
                    <a:pt x="832" y="1593"/>
                  </a:cubicBezTo>
                  <a:cubicBezTo>
                    <a:pt x="812" y="1578"/>
                    <a:pt x="803" y="1548"/>
                    <a:pt x="779" y="1540"/>
                  </a:cubicBezTo>
                  <a:cubicBezTo>
                    <a:pt x="753" y="1531"/>
                    <a:pt x="727" y="1523"/>
                    <a:pt x="701" y="1514"/>
                  </a:cubicBezTo>
                  <a:cubicBezTo>
                    <a:pt x="676" y="1464"/>
                    <a:pt x="647" y="1433"/>
                    <a:pt x="622" y="1383"/>
                  </a:cubicBezTo>
                  <a:cubicBezTo>
                    <a:pt x="631" y="1252"/>
                    <a:pt x="632" y="1121"/>
                    <a:pt x="648" y="991"/>
                  </a:cubicBezTo>
                  <a:cubicBezTo>
                    <a:pt x="655" y="939"/>
                    <a:pt x="841" y="897"/>
                    <a:pt x="884" y="886"/>
                  </a:cubicBezTo>
                  <a:cubicBezTo>
                    <a:pt x="1085" y="895"/>
                    <a:pt x="1287" y="881"/>
                    <a:pt x="1486" y="912"/>
                  </a:cubicBezTo>
                  <a:cubicBezTo>
                    <a:pt x="1523" y="918"/>
                    <a:pt x="1539" y="965"/>
                    <a:pt x="1565" y="991"/>
                  </a:cubicBezTo>
                  <a:cubicBezTo>
                    <a:pt x="1582" y="1008"/>
                    <a:pt x="1617" y="1043"/>
                    <a:pt x="1617" y="1043"/>
                  </a:cubicBezTo>
                  <a:cubicBezTo>
                    <a:pt x="1634" y="1095"/>
                    <a:pt x="1652" y="1148"/>
                    <a:pt x="1669" y="1200"/>
                  </a:cubicBezTo>
                  <a:cubicBezTo>
                    <a:pt x="1678" y="1226"/>
                    <a:pt x="1696" y="1279"/>
                    <a:pt x="1696" y="1279"/>
                  </a:cubicBezTo>
                  <a:cubicBezTo>
                    <a:pt x="1687" y="1392"/>
                    <a:pt x="1691" y="1508"/>
                    <a:pt x="1669" y="1619"/>
                  </a:cubicBezTo>
                  <a:cubicBezTo>
                    <a:pt x="1651" y="1708"/>
                    <a:pt x="1375" y="1742"/>
                    <a:pt x="1329" y="1750"/>
                  </a:cubicBezTo>
                  <a:cubicBezTo>
                    <a:pt x="1163" y="1728"/>
                    <a:pt x="988" y="1733"/>
                    <a:pt x="832" y="1671"/>
                  </a:cubicBezTo>
                  <a:cubicBezTo>
                    <a:pt x="820" y="1666"/>
                    <a:pt x="816" y="1651"/>
                    <a:pt x="805" y="1645"/>
                  </a:cubicBezTo>
                  <a:cubicBezTo>
                    <a:pt x="780" y="1633"/>
                    <a:pt x="753" y="1628"/>
                    <a:pt x="727" y="1619"/>
                  </a:cubicBezTo>
                  <a:cubicBezTo>
                    <a:pt x="626" y="1518"/>
                    <a:pt x="669" y="1571"/>
                    <a:pt x="596" y="1462"/>
                  </a:cubicBezTo>
                  <a:cubicBezTo>
                    <a:pt x="517" y="1223"/>
                    <a:pt x="488" y="1202"/>
                    <a:pt x="570" y="860"/>
                  </a:cubicBezTo>
                  <a:cubicBezTo>
                    <a:pt x="581" y="812"/>
                    <a:pt x="640" y="790"/>
                    <a:pt x="675" y="755"/>
                  </a:cubicBezTo>
                  <a:cubicBezTo>
                    <a:pt x="736" y="694"/>
                    <a:pt x="807" y="636"/>
                    <a:pt x="884" y="598"/>
                  </a:cubicBezTo>
                  <a:cubicBezTo>
                    <a:pt x="1006" y="607"/>
                    <a:pt x="1130" y="604"/>
                    <a:pt x="1251" y="624"/>
                  </a:cubicBezTo>
                  <a:cubicBezTo>
                    <a:pt x="1289" y="630"/>
                    <a:pt x="1320" y="659"/>
                    <a:pt x="1355" y="676"/>
                  </a:cubicBezTo>
                  <a:cubicBezTo>
                    <a:pt x="1611" y="805"/>
                    <a:pt x="1659" y="1157"/>
                    <a:pt x="1696" y="1409"/>
                  </a:cubicBezTo>
                  <a:cubicBezTo>
                    <a:pt x="1687" y="1479"/>
                    <a:pt x="1703" y="1557"/>
                    <a:pt x="1669" y="1619"/>
                  </a:cubicBezTo>
                  <a:cubicBezTo>
                    <a:pt x="1652" y="1650"/>
                    <a:pt x="1598" y="1633"/>
                    <a:pt x="1565" y="1645"/>
                  </a:cubicBezTo>
                  <a:cubicBezTo>
                    <a:pt x="1528" y="1659"/>
                    <a:pt x="1497" y="1685"/>
                    <a:pt x="1460" y="1697"/>
                  </a:cubicBezTo>
                  <a:cubicBezTo>
                    <a:pt x="1328" y="1741"/>
                    <a:pt x="1177" y="1749"/>
                    <a:pt x="1041" y="1776"/>
                  </a:cubicBezTo>
                  <a:cubicBezTo>
                    <a:pt x="780" y="1752"/>
                    <a:pt x="735" y="1784"/>
                    <a:pt x="570" y="1619"/>
                  </a:cubicBezTo>
                  <a:cubicBezTo>
                    <a:pt x="522" y="1472"/>
                    <a:pt x="574" y="1607"/>
                    <a:pt x="491" y="1462"/>
                  </a:cubicBezTo>
                  <a:cubicBezTo>
                    <a:pt x="472" y="1428"/>
                    <a:pt x="456" y="1392"/>
                    <a:pt x="439" y="1357"/>
                  </a:cubicBezTo>
                  <a:cubicBezTo>
                    <a:pt x="430" y="1340"/>
                    <a:pt x="413" y="1305"/>
                    <a:pt x="413" y="1305"/>
                  </a:cubicBezTo>
                  <a:cubicBezTo>
                    <a:pt x="422" y="1139"/>
                    <a:pt x="417" y="972"/>
                    <a:pt x="439" y="807"/>
                  </a:cubicBezTo>
                  <a:cubicBezTo>
                    <a:pt x="456" y="684"/>
                    <a:pt x="649" y="624"/>
                    <a:pt x="753" y="598"/>
                  </a:cubicBezTo>
                  <a:cubicBezTo>
                    <a:pt x="1161" y="613"/>
                    <a:pt x="1440" y="476"/>
                    <a:pt x="1643" y="781"/>
                  </a:cubicBezTo>
                  <a:cubicBezTo>
                    <a:pt x="1679" y="890"/>
                    <a:pt x="1696" y="925"/>
                    <a:pt x="1696" y="1069"/>
                  </a:cubicBezTo>
                  <a:cubicBezTo>
                    <a:pt x="1696" y="1323"/>
                    <a:pt x="1799" y="1593"/>
                    <a:pt x="1565" y="1671"/>
                  </a:cubicBezTo>
                  <a:cubicBezTo>
                    <a:pt x="1448" y="1750"/>
                    <a:pt x="1357" y="1743"/>
                    <a:pt x="1224" y="1776"/>
                  </a:cubicBezTo>
                  <a:cubicBezTo>
                    <a:pt x="858" y="1762"/>
                    <a:pt x="569" y="1905"/>
                    <a:pt x="413" y="1593"/>
                  </a:cubicBezTo>
                  <a:cubicBezTo>
                    <a:pt x="374" y="1318"/>
                    <a:pt x="261" y="927"/>
                    <a:pt x="439" y="703"/>
                  </a:cubicBezTo>
                  <a:cubicBezTo>
                    <a:pt x="503" y="622"/>
                    <a:pt x="555" y="607"/>
                    <a:pt x="648" y="572"/>
                  </a:cubicBezTo>
                  <a:cubicBezTo>
                    <a:pt x="700" y="552"/>
                    <a:pt x="753" y="537"/>
                    <a:pt x="805" y="519"/>
                  </a:cubicBezTo>
                  <a:cubicBezTo>
                    <a:pt x="831" y="510"/>
                    <a:pt x="884" y="493"/>
                    <a:pt x="884" y="493"/>
                  </a:cubicBezTo>
                  <a:cubicBezTo>
                    <a:pt x="1041" y="502"/>
                    <a:pt x="1199" y="499"/>
                    <a:pt x="1355" y="519"/>
                  </a:cubicBezTo>
                  <a:cubicBezTo>
                    <a:pt x="1410" y="526"/>
                    <a:pt x="1512" y="572"/>
                    <a:pt x="1512" y="572"/>
                  </a:cubicBezTo>
                  <a:cubicBezTo>
                    <a:pt x="1562" y="620"/>
                    <a:pt x="1626" y="646"/>
                    <a:pt x="1669" y="703"/>
                  </a:cubicBezTo>
                  <a:cubicBezTo>
                    <a:pt x="1699" y="744"/>
                    <a:pt x="1720" y="791"/>
                    <a:pt x="1748" y="833"/>
                  </a:cubicBezTo>
                  <a:cubicBezTo>
                    <a:pt x="1833" y="1176"/>
                    <a:pt x="1820" y="1035"/>
                    <a:pt x="1774" y="1540"/>
                  </a:cubicBezTo>
                  <a:cubicBezTo>
                    <a:pt x="1765" y="1637"/>
                    <a:pt x="1748" y="1619"/>
                    <a:pt x="1669" y="1645"/>
                  </a:cubicBezTo>
                  <a:cubicBezTo>
                    <a:pt x="1553" y="1761"/>
                    <a:pt x="1697" y="1633"/>
                    <a:pt x="1460" y="1750"/>
                  </a:cubicBezTo>
                  <a:cubicBezTo>
                    <a:pt x="1425" y="1767"/>
                    <a:pt x="1355" y="1802"/>
                    <a:pt x="1355" y="1802"/>
                  </a:cubicBezTo>
                  <a:cubicBezTo>
                    <a:pt x="839" y="1776"/>
                    <a:pt x="974" y="1815"/>
                    <a:pt x="701" y="1724"/>
                  </a:cubicBezTo>
                  <a:cubicBezTo>
                    <a:pt x="504" y="1527"/>
                    <a:pt x="809" y="1816"/>
                    <a:pt x="570" y="1645"/>
                  </a:cubicBezTo>
                  <a:cubicBezTo>
                    <a:pt x="295" y="1448"/>
                    <a:pt x="570" y="1593"/>
                    <a:pt x="413" y="1514"/>
                  </a:cubicBezTo>
                  <a:cubicBezTo>
                    <a:pt x="395" y="1479"/>
                    <a:pt x="378" y="1444"/>
                    <a:pt x="360" y="1409"/>
                  </a:cubicBezTo>
                  <a:cubicBezTo>
                    <a:pt x="351" y="1392"/>
                    <a:pt x="334" y="1357"/>
                    <a:pt x="334" y="1357"/>
                  </a:cubicBezTo>
                  <a:cubicBezTo>
                    <a:pt x="283" y="1100"/>
                    <a:pt x="292" y="1203"/>
                    <a:pt x="334" y="781"/>
                  </a:cubicBezTo>
                  <a:cubicBezTo>
                    <a:pt x="352" y="596"/>
                    <a:pt x="583" y="503"/>
                    <a:pt x="727" y="441"/>
                  </a:cubicBezTo>
                  <a:cubicBezTo>
                    <a:pt x="763" y="426"/>
                    <a:pt x="794" y="396"/>
                    <a:pt x="832" y="388"/>
                  </a:cubicBezTo>
                  <a:cubicBezTo>
                    <a:pt x="917" y="370"/>
                    <a:pt x="1006" y="371"/>
                    <a:pt x="1093" y="362"/>
                  </a:cubicBezTo>
                  <a:cubicBezTo>
                    <a:pt x="1224" y="371"/>
                    <a:pt x="1356" y="373"/>
                    <a:pt x="1486" y="388"/>
                  </a:cubicBezTo>
                  <a:cubicBezTo>
                    <a:pt x="1583" y="399"/>
                    <a:pt x="1550" y="416"/>
                    <a:pt x="1617" y="467"/>
                  </a:cubicBezTo>
                  <a:cubicBezTo>
                    <a:pt x="1676" y="511"/>
                    <a:pt x="1738" y="556"/>
                    <a:pt x="1800" y="598"/>
                  </a:cubicBezTo>
                  <a:cubicBezTo>
                    <a:pt x="1818" y="633"/>
                    <a:pt x="1841" y="666"/>
                    <a:pt x="1853" y="703"/>
                  </a:cubicBezTo>
                  <a:cubicBezTo>
                    <a:pt x="1862" y="729"/>
                    <a:pt x="1868" y="756"/>
                    <a:pt x="1879" y="781"/>
                  </a:cubicBezTo>
                  <a:cubicBezTo>
                    <a:pt x="1894" y="817"/>
                    <a:pt x="1931" y="886"/>
                    <a:pt x="1931" y="886"/>
                  </a:cubicBezTo>
                  <a:cubicBezTo>
                    <a:pt x="1922" y="1113"/>
                    <a:pt x="1928" y="1341"/>
                    <a:pt x="1905" y="1567"/>
                  </a:cubicBezTo>
                  <a:cubicBezTo>
                    <a:pt x="1902" y="1598"/>
                    <a:pt x="1869" y="1618"/>
                    <a:pt x="1853" y="1645"/>
                  </a:cubicBezTo>
                  <a:cubicBezTo>
                    <a:pt x="1842" y="1663"/>
                    <a:pt x="1827" y="1713"/>
                    <a:pt x="1800" y="1724"/>
                  </a:cubicBezTo>
                  <a:cubicBezTo>
                    <a:pt x="1681" y="1772"/>
                    <a:pt x="1561" y="1785"/>
                    <a:pt x="1434" y="1802"/>
                  </a:cubicBezTo>
                  <a:cubicBezTo>
                    <a:pt x="1373" y="1810"/>
                    <a:pt x="1312" y="1819"/>
                    <a:pt x="1251" y="1828"/>
                  </a:cubicBezTo>
                  <a:cubicBezTo>
                    <a:pt x="869" y="1815"/>
                    <a:pt x="626" y="1893"/>
                    <a:pt x="334" y="1750"/>
                  </a:cubicBezTo>
                  <a:cubicBezTo>
                    <a:pt x="317" y="1732"/>
                    <a:pt x="297" y="1717"/>
                    <a:pt x="282" y="1697"/>
                  </a:cubicBezTo>
                  <a:cubicBezTo>
                    <a:pt x="197" y="1582"/>
                    <a:pt x="305" y="1692"/>
                    <a:pt x="229" y="1619"/>
                  </a:cubicBezTo>
                  <a:cubicBezTo>
                    <a:pt x="215" y="1591"/>
                    <a:pt x="191" y="1568"/>
                    <a:pt x="177" y="1540"/>
                  </a:cubicBezTo>
                  <a:cubicBezTo>
                    <a:pt x="150" y="1485"/>
                    <a:pt x="135" y="1382"/>
                    <a:pt x="125" y="1331"/>
                  </a:cubicBezTo>
                  <a:cubicBezTo>
                    <a:pt x="142" y="953"/>
                    <a:pt x="83" y="803"/>
                    <a:pt x="256" y="545"/>
                  </a:cubicBezTo>
                  <a:cubicBezTo>
                    <a:pt x="267" y="529"/>
                    <a:pt x="266" y="505"/>
                    <a:pt x="282" y="493"/>
                  </a:cubicBezTo>
                  <a:cubicBezTo>
                    <a:pt x="304" y="477"/>
                    <a:pt x="334" y="476"/>
                    <a:pt x="360" y="467"/>
                  </a:cubicBezTo>
                  <a:cubicBezTo>
                    <a:pt x="420" y="410"/>
                    <a:pt x="494" y="387"/>
                    <a:pt x="570" y="362"/>
                  </a:cubicBezTo>
                  <a:cubicBezTo>
                    <a:pt x="894" y="379"/>
                    <a:pt x="1175" y="339"/>
                    <a:pt x="1408" y="572"/>
                  </a:cubicBezTo>
                  <a:cubicBezTo>
                    <a:pt x="1444" y="608"/>
                    <a:pt x="1454" y="663"/>
                    <a:pt x="1486" y="703"/>
                  </a:cubicBezTo>
                  <a:cubicBezTo>
                    <a:pt x="1555" y="789"/>
                    <a:pt x="1592" y="834"/>
                    <a:pt x="1643" y="938"/>
                  </a:cubicBezTo>
                  <a:cubicBezTo>
                    <a:pt x="1705" y="1064"/>
                    <a:pt x="1632" y="918"/>
                    <a:pt x="1696" y="1043"/>
                  </a:cubicBezTo>
                  <a:cubicBezTo>
                    <a:pt x="1705" y="1060"/>
                    <a:pt x="1722" y="1095"/>
                    <a:pt x="1722" y="1095"/>
                  </a:cubicBezTo>
                  <a:cubicBezTo>
                    <a:pt x="1755" y="1359"/>
                    <a:pt x="1773" y="1402"/>
                    <a:pt x="1722" y="1724"/>
                  </a:cubicBezTo>
                  <a:cubicBezTo>
                    <a:pt x="1711" y="1793"/>
                    <a:pt x="1635" y="1819"/>
                    <a:pt x="1591" y="1855"/>
                  </a:cubicBezTo>
                  <a:cubicBezTo>
                    <a:pt x="1572" y="1870"/>
                    <a:pt x="1562" y="1899"/>
                    <a:pt x="1539" y="1907"/>
                  </a:cubicBezTo>
                  <a:cubicBezTo>
                    <a:pt x="1480" y="1926"/>
                    <a:pt x="1416" y="1924"/>
                    <a:pt x="1355" y="1933"/>
                  </a:cubicBezTo>
                  <a:cubicBezTo>
                    <a:pt x="1146" y="1924"/>
                    <a:pt x="935" y="1928"/>
                    <a:pt x="727" y="1907"/>
                  </a:cubicBezTo>
                  <a:cubicBezTo>
                    <a:pt x="672" y="1902"/>
                    <a:pt x="622" y="1872"/>
                    <a:pt x="570" y="1855"/>
                  </a:cubicBezTo>
                  <a:cubicBezTo>
                    <a:pt x="444" y="1813"/>
                    <a:pt x="245" y="1782"/>
                    <a:pt x="177" y="1645"/>
                  </a:cubicBezTo>
                  <a:cubicBezTo>
                    <a:pt x="137" y="1563"/>
                    <a:pt x="101" y="1494"/>
                    <a:pt x="72" y="1409"/>
                  </a:cubicBezTo>
                  <a:cubicBezTo>
                    <a:pt x="76" y="1313"/>
                    <a:pt x="0" y="619"/>
                    <a:pt x="256" y="493"/>
                  </a:cubicBezTo>
                  <a:cubicBezTo>
                    <a:pt x="312" y="380"/>
                    <a:pt x="385" y="337"/>
                    <a:pt x="491" y="284"/>
                  </a:cubicBezTo>
                  <a:cubicBezTo>
                    <a:pt x="516" y="272"/>
                    <a:pt x="544" y="268"/>
                    <a:pt x="570" y="257"/>
                  </a:cubicBezTo>
                  <a:cubicBezTo>
                    <a:pt x="606" y="242"/>
                    <a:pt x="675" y="205"/>
                    <a:pt x="675" y="205"/>
                  </a:cubicBezTo>
                  <a:cubicBezTo>
                    <a:pt x="841" y="214"/>
                    <a:pt x="1008" y="209"/>
                    <a:pt x="1172" y="231"/>
                  </a:cubicBezTo>
                  <a:cubicBezTo>
                    <a:pt x="1277" y="245"/>
                    <a:pt x="1347" y="345"/>
                    <a:pt x="1434" y="388"/>
                  </a:cubicBezTo>
                  <a:cubicBezTo>
                    <a:pt x="1524" y="481"/>
                    <a:pt x="1377" y="323"/>
                    <a:pt x="1486" y="467"/>
                  </a:cubicBezTo>
                  <a:cubicBezTo>
                    <a:pt x="1501" y="487"/>
                    <a:pt x="1521" y="502"/>
                    <a:pt x="1539" y="519"/>
                  </a:cubicBezTo>
                  <a:cubicBezTo>
                    <a:pt x="1608" y="659"/>
                    <a:pt x="1514" y="495"/>
                    <a:pt x="1617" y="598"/>
                  </a:cubicBezTo>
                  <a:cubicBezTo>
                    <a:pt x="1631" y="612"/>
                    <a:pt x="1631" y="635"/>
                    <a:pt x="1643" y="650"/>
                  </a:cubicBezTo>
                  <a:cubicBezTo>
                    <a:pt x="1658" y="670"/>
                    <a:pt x="1682" y="682"/>
                    <a:pt x="1696" y="703"/>
                  </a:cubicBezTo>
                  <a:cubicBezTo>
                    <a:pt x="1761" y="800"/>
                    <a:pt x="1748" y="835"/>
                    <a:pt x="1827" y="912"/>
                  </a:cubicBezTo>
                  <a:cubicBezTo>
                    <a:pt x="1897" y="1124"/>
                    <a:pt x="1972" y="1427"/>
                    <a:pt x="1800" y="1593"/>
                  </a:cubicBezTo>
                  <a:cubicBezTo>
                    <a:pt x="1809" y="1567"/>
                    <a:pt x="1817" y="1540"/>
                    <a:pt x="1827" y="1514"/>
                  </a:cubicBezTo>
                  <a:cubicBezTo>
                    <a:pt x="1834" y="1496"/>
                    <a:pt x="1846" y="1480"/>
                    <a:pt x="1853" y="1462"/>
                  </a:cubicBezTo>
                  <a:cubicBezTo>
                    <a:pt x="1860" y="1445"/>
                    <a:pt x="1884" y="1352"/>
                    <a:pt x="1905" y="1331"/>
                  </a:cubicBezTo>
                  <a:cubicBezTo>
                    <a:pt x="1919" y="1317"/>
                    <a:pt x="1940" y="1314"/>
                    <a:pt x="1957" y="1305"/>
                  </a:cubicBezTo>
                  <a:cubicBezTo>
                    <a:pt x="1974" y="1271"/>
                    <a:pt x="2014" y="1192"/>
                    <a:pt x="2036" y="1148"/>
                  </a:cubicBezTo>
                  <a:cubicBezTo>
                    <a:pt x="2045" y="1130"/>
                    <a:pt x="2062" y="1095"/>
                    <a:pt x="2062" y="1095"/>
                  </a:cubicBezTo>
                  <a:cubicBezTo>
                    <a:pt x="2095" y="928"/>
                    <a:pt x="2145" y="769"/>
                    <a:pt x="2088" y="598"/>
                  </a:cubicBezTo>
                  <a:cubicBezTo>
                    <a:pt x="2082" y="580"/>
                    <a:pt x="2054" y="579"/>
                    <a:pt x="2036" y="572"/>
                  </a:cubicBezTo>
                  <a:cubicBezTo>
                    <a:pt x="1945" y="535"/>
                    <a:pt x="1873" y="513"/>
                    <a:pt x="1774" y="493"/>
                  </a:cubicBezTo>
                  <a:cubicBezTo>
                    <a:pt x="1757" y="484"/>
                    <a:pt x="1736" y="481"/>
                    <a:pt x="1722" y="467"/>
                  </a:cubicBezTo>
                  <a:cubicBezTo>
                    <a:pt x="1656" y="401"/>
                    <a:pt x="1732" y="430"/>
                    <a:pt x="1669" y="388"/>
                  </a:cubicBezTo>
                  <a:cubicBezTo>
                    <a:pt x="1579" y="328"/>
                    <a:pt x="1459" y="310"/>
                    <a:pt x="1355" y="284"/>
                  </a:cubicBezTo>
                  <a:cubicBezTo>
                    <a:pt x="1177" y="193"/>
                    <a:pt x="1315" y="263"/>
                    <a:pt x="1198" y="205"/>
                  </a:cubicBezTo>
                  <a:cubicBezTo>
                    <a:pt x="1181" y="196"/>
                    <a:pt x="1163" y="188"/>
                    <a:pt x="1146" y="179"/>
                  </a:cubicBezTo>
                  <a:cubicBezTo>
                    <a:pt x="1128" y="170"/>
                    <a:pt x="1093" y="153"/>
                    <a:pt x="1093" y="153"/>
                  </a:cubicBezTo>
                  <a:cubicBezTo>
                    <a:pt x="1076" y="135"/>
                    <a:pt x="1061" y="115"/>
                    <a:pt x="1041" y="100"/>
                  </a:cubicBezTo>
                  <a:cubicBezTo>
                    <a:pt x="1026" y="88"/>
                    <a:pt x="989" y="74"/>
                    <a:pt x="989" y="74"/>
                  </a:cubicBezTo>
                  <a:lnTo>
                    <a:pt x="932" y="0"/>
                  </a:lnTo>
                  <a:lnTo>
                    <a:pt x="1076" y="96"/>
                  </a:lnTo>
                </a:path>
              </a:pathLst>
            </a:custGeom>
            <a:noFill/>
            <a:ln w="9360">
              <a:solidFill>
                <a:srgbClr val="f9f0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6"/>
            <p:cNvSpPr/>
            <p:nvPr/>
          </p:nvSpPr>
          <p:spPr>
            <a:xfrm>
              <a:off x="4343760" y="5769000"/>
              <a:ext cx="4452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Des” </a:t>
              </a: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(cavidades para ondas de alta frecu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que originalmente tenían forma de D, de don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les viene el nomb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7"/>
            <p:cNvSpPr/>
            <p:nvPr/>
          </p:nvSpPr>
          <p:spPr>
            <a:xfrm>
              <a:off x="5578560" y="62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Extractor del ha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9"/>
            <p:cNvSpPr/>
            <p:nvPr/>
          </p:nvSpPr>
          <p:spPr>
            <a:xfrm>
              <a:off x="1689120" y="3429000"/>
              <a:ext cx="3287520" cy="228600"/>
            </a:xfrm>
            <a:prstGeom prst="rightArrow">
              <a:avLst>
                <a:gd name="adj1" fmla="val 50000"/>
                <a:gd name="adj2" fmla="val 359528"/>
              </a:avLst>
            </a:prstGeom>
            <a:solidFill>
              <a:srgbClr val="f9f0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0"/>
            <p:cNvSpPr/>
            <p:nvPr/>
          </p:nvSpPr>
          <p:spPr>
            <a:xfrm>
              <a:off x="4646520" y="762120"/>
              <a:ext cx="247680" cy="838080"/>
            </a:xfrm>
            <a:prstGeom prst="downArrow">
              <a:avLst>
                <a:gd name="adj1" fmla="val 50000"/>
                <a:gd name="adj2" fmla="val 84593"/>
              </a:avLst>
            </a:prstGeom>
            <a:solidFill>
              <a:srgbClr val="f9f0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1"/>
            <p:cNvSpPr/>
            <p:nvPr/>
          </p:nvSpPr>
          <p:spPr>
            <a:xfrm rot="1420200">
              <a:off x="5307120" y="990360"/>
              <a:ext cx="247680" cy="1066680"/>
            </a:xfrm>
            <a:prstGeom prst="downArrow">
              <a:avLst>
                <a:gd name="adj1" fmla="val 50000"/>
                <a:gd name="adj2" fmla="val 107667"/>
              </a:avLst>
            </a:prstGeom>
            <a:solidFill>
              <a:srgbClr val="f9f0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12"/>
            <p:cNvSpPr/>
            <p:nvPr/>
          </p:nvSpPr>
          <p:spPr>
            <a:xfrm rot="3061800">
              <a:off x="4336560" y="4932360"/>
              <a:ext cx="800280" cy="841320"/>
            </a:xfrm>
            <a:custGeom>
              <a:avLst/>
              <a:gdLst>
                <a:gd name="textAreaLeft" fmla="*/ 114120 w 800280"/>
                <a:gd name="textAreaRight" fmla="*/ 686160 w 800280"/>
                <a:gd name="textAreaTop" fmla="*/ 480960 h 841320"/>
                <a:gd name="textAreaBottom" fmla="*/ 72072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6171"/>
                  </a:lnTo>
                  <a:lnTo>
                    <a:pt x="12343" y="6171"/>
                  </a:lnTo>
                  <a:lnTo>
                    <a:pt x="12343" y="12343"/>
                  </a:lnTo>
                  <a:lnTo>
                    <a:pt x="6171" y="12343"/>
                  </a:lnTo>
                  <a:lnTo>
                    <a:pt x="6171" y="9257"/>
                  </a:lnTo>
                  <a:lnTo>
                    <a:pt x="0" y="15429"/>
                  </a:lnTo>
                  <a:lnTo>
                    <a:pt x="6171" y="21600"/>
                  </a:lnTo>
                  <a:lnTo>
                    <a:pt x="6171" y="18514"/>
                  </a:lnTo>
                  <a:lnTo>
                    <a:pt x="18514" y="18514"/>
                  </a:lnTo>
                  <a:lnTo>
                    <a:pt x="18514" y="6171"/>
                  </a:lnTo>
                  <a:lnTo>
                    <a:pt x="21600" y="6171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9f0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3"/>
            <p:cNvSpPr/>
            <p:nvPr/>
          </p:nvSpPr>
          <p:spPr>
            <a:xfrm>
              <a:off x="933120" y="5638680"/>
              <a:ext cx="23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Bobina magné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14"/>
            <p:cNvSpPr/>
            <p:nvPr/>
          </p:nvSpPr>
          <p:spPr>
            <a:xfrm>
              <a:off x="2170080" y="4724280"/>
              <a:ext cx="247680" cy="914400"/>
            </a:xfrm>
            <a:prstGeom prst="upArrow">
              <a:avLst>
                <a:gd name="adj1" fmla="val 50000"/>
                <a:gd name="adj2" fmla="val 92297"/>
              </a:avLst>
            </a:prstGeom>
            <a:solidFill>
              <a:srgbClr val="f9f0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5"/>
            <p:cNvSpPr/>
            <p:nvPr/>
          </p:nvSpPr>
          <p:spPr>
            <a:xfrm>
              <a:off x="4204800" y="30492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Blan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469800" y="2743200"/>
              <a:ext cx="1143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Fuente de 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29:25Z</dcterms:created>
  <dc:creator>rmorton</dc:creator>
  <dc:description/>
  <dc:language>en-US</dc:language>
  <cp:lastModifiedBy>NADER, Alejandro</cp:lastModifiedBy>
  <cp:lastPrinted>2010-04-20T12:06:45Z</cp:lastPrinted>
  <dcterms:modified xsi:type="dcterms:W3CDTF">2011-05-13T16:29:24Z</dcterms:modified>
  <cp:revision>290</cp:revision>
  <dc:subject/>
  <dc:title>The technology</dc:title>
</cp:coreProperties>
</file>