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6.wmf" ContentType="image/x-wmf"/>
  <Override PartName="/ppt/media/image19.jpeg" ContentType="image/jpeg"/>
  <Override PartName="/ppt/media/image4.wmf" ContentType="image/x-wmf"/>
  <Override PartName="/ppt/media/image3.wmf" ContentType="image/x-wmf"/>
  <Override PartName="/ppt/media/image15.jpeg" ContentType="image/jpeg"/>
  <Override PartName="/ppt/media/image28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554760" y="941544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raft IAEA Training Material on Radiation Protection in PET/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06. Protective equip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5340240" y="9415440"/>
            <a:ext cx="100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F24BC2-B87C-4CF8-98A9-EDE6B2EFB713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spex sometimes used for positrons.  Syringe shields clearly required.  Depleted uranium suggested to reduce size of sh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Estas imágenes  son ejemplo de mal almacenaje. La imagen de la izquierda muestra un equipo de ventilación  almacenado en una ofic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libradores de dosis: conocidos también por curímetros y activí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cimera: mese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259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ringas: también nombradas jeringuil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car:  cateter o cán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poco más moderno que este de 1916!  Muchos centros no permiten personal dentro de la habitación durante el CT por eso no requieren de protecciones plom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MIP: medios individuales de prot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IP: Medios Individuales de Prot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ciones de Normas de seguridad del OIE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lamento para el transporte seguro de materiales radiactivo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dición de 2005, Corregida, Nº TS-R-1Requisitos de segur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ckag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0.Por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 entenderá el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mbalaj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 su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tenido radiactiv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 como se presenta para el transporte. Los tipos de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os que se aplica el presente Reglamento, sujetos a los límites de actividad y restricciones en cuanto a materiales que figuran en la Sección IV, y que satisfacen los requisitos correspondientes, s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 exceptuad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cepted packag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 industrial del Tipo 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ipo BI-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(Type IP-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 industrial del Tipo 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ipo BI-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(Type IP-2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 industrial del Tipo 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ipo BI-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(Type IP-3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 del Tipo 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ype A packag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 del Tipo B(U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ype B(U) packag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 del Tipo B(M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ype B(M) packag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 del Tipo 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ype C packag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e contienen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ustancias fisionabl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 hexafluoruro de uranio están sujetos a requisitos adiciona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mbalaj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ckag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1.Por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mbalaj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 entenderá el conjunto de todos los componentes necesarios para alojar completamente el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tenido radiactiv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En particular, puede consistir en uno o varios recipientes, materiales absorbentes, estructuras de separación, material de blindaje contra las radiaciones y equipo para llenado, vaciado, venteo y alivio de presión; dispositivos de refrigeración, de amortiguamiento mecánico de golpes, de manipulación y fijación, y de aislamiento térmico, así como dispositivos inherentes del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t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El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mbalaj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ede consistir en una caja, bidón o recipiente similar, o pue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65F-B402-42B8-A2DB-32BC4122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B0B9-3F8A-4253-8E23-BAB3B7CD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6C7A-9024-4DA8-A2DC-AB1D2148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DC8-C056-4370-8B70-C1BF224D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7215-4222-4020-9D74-B912B366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FB1-E1E5-426D-B286-97114163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3042-762C-46D7-BE4E-146604AD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A87-50BA-437C-980F-42D97DAC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FF6-C2C2-4A97-A75E-60CD6E0E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8B7-F799-4634-9F54-EE95FDBD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FA9-6FD6-401A-896F-33B204D1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095-FBB1-46FD-AB91-6C94D964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C7A7-286D-4A0B-9EF9-3A82E5C9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C6E7-0ECA-4025-8D18-71B32256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A0D3-9615-454D-A100-1269FBFD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4951-72C0-46E1-A0E3-42D5DA73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9040-4021-4311-94D6-402A7029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8259-3011-42D9-9E49-7EDA140F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EBA7-0F2E-4B37-A52C-CE5136B0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C127-7A7D-4F23-98C8-5583595A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CB24-512D-4E66-8207-9E9DC6A1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E65A-2D85-4F91-B793-3DC20358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C272-794B-447F-8ADC-28DA8E62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07BE-EDFE-458E-886A-4964FAF5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3BAC-356C-4015-BB88-A07F6ED2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35D1A-8F7A-43BF-87E4-47BA2DBA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657DC-C17D-442A-A2CD-D3085567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3BF26-2972-48E2-A085-B9DE510B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A5D8B-662C-415D-AD7C-6FDC324B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5E799-EA74-472A-BA42-FF016BB4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733C3-0032-4133-A936-B2070DDF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1A2AD-9500-479C-8F6F-D0BE65EC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EC0E0-9097-4AD8-9250-1EC72BF2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53B61-880A-4452-9EAA-440AD86B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A5940-6C07-446D-95F4-F687B86A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CFB48-1AB8-4094-83B4-92DBEE06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AEAlogo_Black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IA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065840" y="652356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  <a:ea typeface="Arial"/>
              </a:rPr>
              <a:t>Title of Lect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379720" y="65246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6AB4-8E9C-40FE-AD5E-46D661A1F0E3}" type="slidenum">
              <a:rPr b="0" lang="en-GB" sz="900" spc="-1" strike="noStrike">
                <a:solidFill>
                  <a:srgbClr val="003399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C733-762A-4576-979A-AD80E3F398B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D90D-702F-41D0-84C4-793D77F535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IAEAlogo_Black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IA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551400" y="6523560"/>
            <a:ext cx="2041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  <a:ea typeface="Arial"/>
              </a:rPr>
              <a:t>Parte 6. Equipamiento de protec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8379720" y="65246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0BE0-DC59-445B-AFFC-8195D3341A48}" type="slidenum">
              <a:rPr b="0" lang="en-GB" sz="900" spc="-1" strike="noStrike">
                <a:solidFill>
                  <a:srgbClr val="003399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13D0-B69E-4136-8DFF-BEE6D6D0DF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A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  <a:ea typeface="Arial"/>
              </a:rPr>
              <a:t>International Atomic Energy Ag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IAEAlogo_Black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817920" y="221760"/>
            <a:ext cx="73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cc"/>
                </a:solidFill>
                <a:latin typeface="Arial"/>
                <a:ea typeface="Arial"/>
              </a:rPr>
              <a:t>OIEA Material de Capacitación en sobre Protecci</a:t>
            </a:r>
            <a:r>
              <a:rPr b="1" lang="en-GB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ón Radiológica en PET/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116000" y="1511280"/>
            <a:ext cx="684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179280" y="1268280"/>
            <a:ext cx="8856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A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  <a:ea typeface="Arial"/>
              </a:rPr>
              <a:t>International Atomic Energy Ag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9" descr="IAEAlogo_Black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6"/>
          <p:cNvSpPr/>
          <p:nvPr/>
        </p:nvSpPr>
        <p:spPr>
          <a:xfrm>
            <a:off x="902880" y="221760"/>
            <a:ext cx="72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cc"/>
                </a:solidFill>
                <a:latin typeface="Arial"/>
                <a:ea typeface="Arial"/>
              </a:rPr>
              <a:t>OIEA Material de Capacitación en Protecci</a:t>
            </a:r>
            <a:r>
              <a:rPr b="1" lang="en-GB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ón Radiológica en Radioterap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1116000" y="1511280"/>
            <a:ext cx="684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179280" y="1268280"/>
            <a:ext cx="8856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9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3399"/>
                </a:solidFill>
                <a:latin typeface="Arial"/>
                <a:ea typeface="Arial"/>
              </a:rPr>
              <a:t>PROTECCIÓN RADIOLÓGICA EN PET/C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0" y="306864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arte 6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Equipamiento de Protección Radiol</a:t>
            </a:r>
            <a:r>
              <a:rPr b="1" lang="es-ES_tradnl" sz="4400" spc="-1" strike="noStrike">
                <a:solidFill>
                  <a:srgbClr val="003399"/>
                </a:solidFill>
                <a:latin typeface="Arial"/>
              </a:rPr>
              <a:t>ógica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71440" y="-54360"/>
            <a:ext cx="887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Tasa de dosis de </a:t>
            </a:r>
            <a:r>
              <a:rPr b="1" lang="en-GB" sz="36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F-FDG usando varios blindajes de jeringa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44" name="10 Grupo"/>
          <p:cNvGrpSpPr/>
          <p:nvPr/>
        </p:nvGrpSpPr>
        <p:grpSpPr>
          <a:xfrm>
            <a:off x="963720" y="1297080"/>
            <a:ext cx="7065720" cy="3981240"/>
            <a:chOff x="963720" y="1297080"/>
            <a:chExt cx="7065720" cy="3981240"/>
          </a:xfrm>
        </p:grpSpPr>
        <p:graphicFrame>
          <p:nvGraphicFramePr>
            <p:cNvPr id="345" name="Object 3"/>
            <p:cNvGraphicFramePr/>
            <p:nvPr/>
          </p:nvGraphicFramePr>
          <p:xfrm>
            <a:off x="963720" y="1297080"/>
            <a:ext cx="7065720" cy="3981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46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3720" y="1297080"/>
                      <a:ext cx="7065720" cy="39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7" name="5 CuadroTexto"/>
            <p:cNvSpPr/>
            <p:nvPr/>
          </p:nvSpPr>
          <p:spPr>
            <a:xfrm>
              <a:off x="2192400" y="4572000"/>
              <a:ext cx="92844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Sin blindaj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6 CuadroTexto"/>
            <p:cNvSpPr/>
            <p:nvPr/>
          </p:nvSpPr>
          <p:spPr>
            <a:xfrm>
              <a:off x="3406680" y="4572000"/>
              <a:ext cx="107136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8mm de tugste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7 CuadroTexto"/>
            <p:cNvSpPr/>
            <p:nvPr/>
          </p:nvSpPr>
          <p:spPr>
            <a:xfrm>
              <a:off x="4549680" y="4572000"/>
              <a:ext cx="107136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2mm de tugste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8 CuadroTexto"/>
            <p:cNvSpPr/>
            <p:nvPr/>
          </p:nvSpPr>
          <p:spPr>
            <a:xfrm>
              <a:off x="5835600" y="4572000"/>
              <a:ext cx="107136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2cm de perpe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9 CuadroTexto"/>
            <p:cNvSpPr/>
            <p:nvPr/>
          </p:nvSpPr>
          <p:spPr>
            <a:xfrm>
              <a:off x="6907320" y="4572000"/>
              <a:ext cx="107136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4cm de perpe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11 CuadroTexto"/>
          <p:cNvSpPr/>
          <p:nvPr/>
        </p:nvSpPr>
        <p:spPr>
          <a:xfrm>
            <a:off x="1000080" y="19288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asa de Do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2673"/>
                </a:solidFill>
                <a:latin typeface="Arial"/>
              </a:rPr>
              <a:t>Almacenamiento de material radiactivo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165480" y="1738440"/>
            <a:ext cx="5835600" cy="37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Caja de seguridad para almacenamiento de fuentes y desechos. Características típica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542880" indent="-2761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50 mm de plom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42880" indent="-2761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Varios tamaño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42880" indent="-2761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Peso 500-1500 k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42880" indent="-2761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Reduce la tasa de dosis por 10</a:t>
            </a:r>
            <a:r>
              <a:rPr b="0" lang="en-GB" sz="2400" spc="-1" strike="noStrike" baseline="30000">
                <a:solidFill>
                  <a:srgbClr val="003399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42880" indent="-2761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Seguridad física a la hora de la eliminació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55" name="Picture 13" descr=""/>
          <p:cNvPicPr/>
          <p:nvPr/>
        </p:nvPicPr>
        <p:blipFill>
          <a:blip r:embed="rId1"/>
          <a:srcRect l="6872" t="0" r="3945" b="0"/>
          <a:stretch/>
        </p:blipFill>
        <p:spPr>
          <a:xfrm>
            <a:off x="539640" y="2019240"/>
            <a:ext cx="2519640" cy="321012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6" descr=""/>
          <p:cNvPicPr/>
          <p:nvPr/>
        </p:nvPicPr>
        <p:blipFill>
          <a:blip r:embed="rId1"/>
          <a:srcRect l="4785" t="3634" r="1914" b="0"/>
          <a:stretch/>
        </p:blipFill>
        <p:spPr>
          <a:xfrm>
            <a:off x="5256360" y="1006560"/>
            <a:ext cx="1563480" cy="212544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Almacenamiento de desechos sólido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28720" y="2068200"/>
            <a:ext cx="5796000" cy="40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cipientes blindados para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pel, guantes, viales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cíos y jeringa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cipientes separados para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sechos radiactivos y no radiactivo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 ropa contaminada debe deberá almacenarse durante 24 horas en un armario blindado antes de enviarla a la lavanderí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2"/>
          <a:srcRect l="3543" t="0" r="3937" b="0"/>
          <a:stretch/>
        </p:blipFill>
        <p:spPr>
          <a:xfrm>
            <a:off x="6951600" y="2984400"/>
            <a:ext cx="1865520" cy="310860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32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673"/>
                </a:solidFill>
                <a:latin typeface="Arial"/>
              </a:rPr>
              <a:t>Dispensario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13880" y="1353600"/>
            <a:ext cx="4651560" cy="477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Unidad dispensado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12800" indent="-26676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50 mm de espesor de plom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12800" indent="-26676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Peso 25 k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12800" indent="-26676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ducción de la tasa de dosis en un factor 10</a:t>
            </a:r>
            <a:r>
              <a:rPr b="0" lang="en-GB" sz="1800" spc="-1" strike="noStrike" baseline="30000">
                <a:solidFill>
                  <a:srgbClr val="003399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  (milésima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Bloque adicional de protección en forma de 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12800" indent="-26676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30 mm espesor de plom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12800" indent="-26676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Peso 250-500 k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Tener en cuenta la carga sobre las superficie de trabajo, debido al peso de los blindaj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26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62" name="Picture 3079" descr=""/>
          <p:cNvPicPr/>
          <p:nvPr/>
        </p:nvPicPr>
        <p:blipFill>
          <a:blip r:embed="rId1"/>
          <a:srcRect l="5385" t="0" r="4787" b="2264"/>
          <a:stretch/>
        </p:blipFill>
        <p:spPr>
          <a:xfrm>
            <a:off x="5402160" y="1989000"/>
            <a:ext cx="3238560" cy="342288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alibradores de dosi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900000" y="1969920"/>
            <a:ext cx="518184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74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Los calibradores de dosis (activímetros) pueden requerir blindaje 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74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Las superficies de trabajo pueden necesitar refuerzos  para soportar el peso de los blindajes de plomo adi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"/>
          <p:cNvPicPr/>
          <p:nvPr/>
        </p:nvPicPr>
        <p:blipFill>
          <a:blip r:embed="rId1"/>
          <a:stretch/>
        </p:blipFill>
        <p:spPr>
          <a:xfrm>
            <a:off x="6084720" y="2133720"/>
            <a:ext cx="2392560" cy="302400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Parte 6. Equipamiento de Protección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4920" y="32130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ó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ulo 6.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673"/>
                </a:solidFill>
                <a:latin typeface="Arial"/>
              </a:rPr>
              <a:t>Manipulación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Arial"/>
              </a:rPr>
              <a:t>Laboratorio de radiofarmacia de PE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69" name="Group 14"/>
          <p:cNvGrpSpPr/>
          <p:nvPr/>
        </p:nvGrpSpPr>
        <p:grpSpPr>
          <a:xfrm>
            <a:off x="826920" y="1093680"/>
            <a:ext cx="7475400" cy="5355000"/>
            <a:chOff x="826920" y="1093680"/>
            <a:chExt cx="7475400" cy="5355000"/>
          </a:xfrm>
        </p:grpSpPr>
        <p:pic>
          <p:nvPicPr>
            <p:cNvPr id="370" name="Picture 4" descr=""/>
            <p:cNvPicPr/>
            <p:nvPr/>
          </p:nvPicPr>
          <p:blipFill>
            <a:blip r:embed="rId1"/>
            <a:srcRect l="4802" t="8003" r="16904" b="10424"/>
            <a:stretch/>
          </p:blipFill>
          <p:spPr>
            <a:xfrm>
              <a:off x="1653840" y="1584360"/>
              <a:ext cx="5869080" cy="4367160"/>
            </a:xfrm>
            <a:prstGeom prst="rect">
              <a:avLst/>
            </a:prstGeom>
            <a:ln w="25560">
              <a:solidFill>
                <a:srgbClr val="3366cc"/>
              </a:solidFill>
              <a:miter/>
            </a:ln>
          </p:spPr>
        </p:pic>
        <p:sp>
          <p:nvSpPr>
            <p:cNvPr id="371" name="6 CuadroTexto"/>
            <p:cNvSpPr/>
            <p:nvPr/>
          </p:nvSpPr>
          <p:spPr>
            <a:xfrm>
              <a:off x="2849400" y="1093680"/>
              <a:ext cx="5429160" cy="580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3399"/>
                  </a:solidFill>
                  <a:latin typeface="Arial"/>
                </a:rPr>
                <a:t>Manipuladores remotos para manejar la </a:t>
              </a:r>
              <a:r>
                <a:rPr b="1" lang="es-ES" sz="1600" spc="-1" strike="noStrike" baseline="30000">
                  <a:solidFill>
                    <a:srgbClr val="003399"/>
                  </a:solidFill>
                  <a:latin typeface="Arial"/>
                </a:rPr>
                <a:t>18</a:t>
              </a:r>
              <a:r>
                <a:rPr b="1" lang="es-ES" sz="1600" spc="-1" strike="noStrike">
                  <a:solidFill>
                    <a:srgbClr val="003399"/>
                  </a:solidFill>
                  <a:latin typeface="Arial"/>
                </a:rPr>
                <a:t>F-FDG dentro de la celda cal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7 CuadroTexto"/>
            <p:cNvSpPr/>
            <p:nvPr/>
          </p:nvSpPr>
          <p:spPr>
            <a:xfrm>
              <a:off x="6298920" y="1819440"/>
              <a:ext cx="15829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3399"/>
                  </a:solidFill>
                  <a:latin typeface="Arial"/>
                </a:rPr>
                <a:t>Celda cal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8 CuadroTexto"/>
            <p:cNvSpPr/>
            <p:nvPr/>
          </p:nvSpPr>
          <p:spPr>
            <a:xfrm>
              <a:off x="826920" y="5394240"/>
              <a:ext cx="331164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3399"/>
                  </a:solidFill>
                  <a:latin typeface="Arial"/>
                </a:rPr>
                <a:t>Sistema de rodamientos para el transporte seguro de los bul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9 CuadroTexto"/>
            <p:cNvSpPr/>
            <p:nvPr/>
          </p:nvSpPr>
          <p:spPr>
            <a:xfrm>
              <a:off x="5892480" y="5624640"/>
              <a:ext cx="2409840" cy="82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3399"/>
                  </a:solidFill>
                  <a:latin typeface="Arial"/>
                </a:rPr>
                <a:t>Contenedor autorizado para el transporte de FD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7280" y="152280"/>
            <a:ext cx="7772400" cy="82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Elaboració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31640" y="1775880"/>
            <a:ext cx="4368960" cy="394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Calcular el volumen de sustancia marcada que se necesit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Utilizar Guant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Utilizar Fórceps o pinzas de mangos largo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Llenar la jeringa sólo al 50% de su capacida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77" name="Picture 7" descr=""/>
          <p:cNvPicPr/>
          <p:nvPr/>
        </p:nvPicPr>
        <p:blipFill>
          <a:blip r:embed="rId1"/>
          <a:stretch/>
        </p:blipFill>
        <p:spPr>
          <a:xfrm>
            <a:off x="4751280" y="2097000"/>
            <a:ext cx="3827520" cy="275292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Fórceps largos - 30 c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1920" y="2287080"/>
            <a:ext cx="4219560" cy="19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82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Los fórceps de 30 cm reduce la dosis en un 60% respecto a los de 18 c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80" name="Picture 5128" descr=""/>
          <p:cNvPicPr/>
          <p:nvPr/>
        </p:nvPicPr>
        <p:blipFill>
          <a:blip r:embed="rId1"/>
          <a:stretch/>
        </p:blipFill>
        <p:spPr>
          <a:xfrm>
            <a:off x="4896000" y="1917720"/>
            <a:ext cx="3657600" cy="338292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alibradores de dosis (activímetros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87280" y="3536640"/>
            <a:ext cx="4824720" cy="217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Empotrando el calibrador en la encimera ayuda a reducir el tiempo de  exposición del operado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83" name="Picture 1032" descr=""/>
          <p:cNvPicPr/>
          <p:nvPr/>
        </p:nvPicPr>
        <p:blipFill>
          <a:blip r:embed="rId1"/>
          <a:stretch/>
        </p:blipFill>
        <p:spPr>
          <a:xfrm>
            <a:off x="4392720" y="1305000"/>
            <a:ext cx="2857320" cy="214308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384" name="Picture 1033" descr=""/>
          <p:cNvPicPr/>
          <p:nvPr/>
        </p:nvPicPr>
        <p:blipFill>
          <a:blip r:embed="rId2"/>
          <a:srcRect l="0" t="2625" r="0" b="2887"/>
          <a:stretch/>
        </p:blipFill>
        <p:spPr>
          <a:xfrm>
            <a:off x="6243480" y="3645000"/>
            <a:ext cx="1676520" cy="259236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Responder: Verdadero o Falso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82240" y="1383840"/>
            <a:ext cx="8534520" cy="442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No es necesario que los técnicos se preocupen de llevar guantes o batas de laboratorio cuando inyectan la </a:t>
            </a:r>
            <a:r>
              <a:rPr b="0" lang="en-GB" sz="2800" spc="-1" strike="noStrike" baseline="30000">
                <a:solidFill>
                  <a:srgbClr val="002673"/>
                </a:solidFill>
                <a:latin typeface="Arial"/>
              </a:rPr>
              <a:t>18</a:t>
            </a:r>
            <a:r>
              <a:rPr b="0" lang="en-GB" sz="2800" spc="-1" strike="noStrike">
                <a:solidFill>
                  <a:srgbClr val="002673"/>
                </a:solidFill>
                <a:latin typeface="Arial"/>
              </a:rPr>
              <a:t>F-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FDG al paciente, ya que no se absorbe a través de la piel y se elimina con facilidad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Los positrones emitidos por el </a:t>
            </a:r>
            <a:r>
              <a:rPr b="0" lang="en-GB" sz="2800" spc="-1" strike="noStrike" baseline="30000">
                <a:solidFill>
                  <a:srgbClr val="002060"/>
                </a:solidFill>
                <a:latin typeface="Arial"/>
              </a:rPr>
              <a:t>18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F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sólo penetran algunos milímetros en agua, por lo cual no se requieren precauciones especiales. Las jeringas que contienen 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F-FDG se pueden manipular como cualquier otra que contenga solución salina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perficie de trabajo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Text Box 2051"/>
          <p:cNvSpPr/>
          <p:nvPr/>
        </p:nvSpPr>
        <p:spPr>
          <a:xfrm>
            <a:off x="1224000" y="4365720"/>
            <a:ext cx="726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291960"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ubrir la superficie con papel absorbente o bandejas desech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291960"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emplazar diaramente o siempre que exista sospecha de cont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054" descr=""/>
          <p:cNvPicPr/>
          <p:nvPr/>
        </p:nvPicPr>
        <p:blipFill>
          <a:blip r:embed="rId1"/>
          <a:srcRect l="0" t="5905" r="0" b="4370"/>
          <a:stretch/>
        </p:blipFill>
        <p:spPr>
          <a:xfrm>
            <a:off x="2916360" y="1204920"/>
            <a:ext cx="3370320" cy="306216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80640"/>
            <a:ext cx="853416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3399"/>
                </a:solidFill>
                <a:latin typeface="Arial"/>
              </a:rPr>
              <a:t>Administración de radiofármaco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1101600" y="1592280"/>
            <a:ext cx="69976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174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Administrar por vía intravenosa mediante palomilla o cán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74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Blindar la jering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74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Transportar la jeringa blindada hasta el paciente en dentro de un blindaje 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74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Utilizar gu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"/>
          <p:cNvPicPr/>
          <p:nvPr/>
        </p:nvPicPr>
        <p:blipFill>
          <a:blip r:embed="rId1"/>
          <a:srcRect l="0" t="8016" r="0" b="6585"/>
          <a:stretch/>
        </p:blipFill>
        <p:spPr>
          <a:xfrm>
            <a:off x="4824360" y="4329000"/>
            <a:ext cx="3384720" cy="187020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Sistema de inyección remota (Lemer Pax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35040" y="1593360"/>
            <a:ext cx="4260960" cy="431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Conectado al paciente a través de un catet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Activado por control remoto manua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Operador ubicado detrás de una pantalla protector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30 mm de blindaje de plomo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93" name="Picture 8" descr=""/>
          <p:cNvPicPr/>
          <p:nvPr/>
        </p:nvPicPr>
        <p:blipFill>
          <a:blip r:embed="rId1"/>
          <a:srcRect l="5385" t="3093" r="5784" b="3998"/>
          <a:stretch/>
        </p:blipFill>
        <p:spPr>
          <a:xfrm>
            <a:off x="5148360" y="1666800"/>
            <a:ext cx="3203640" cy="424512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Parte 6. Equipamiento de Protección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34920" y="32130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ó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ulo 6.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Medios individuales de protección personal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755640" y="1116000"/>
            <a:ext cx="7848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.28.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os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mpresarios, titulares registrados y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itulare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licenciado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berán velar por que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 proporcione a los trabajadores los medios  individuales de protección adecuados y suficientes, que satisfagan las normas o especificaciones aplicables, en partic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gún proce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i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opa de protecció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………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iii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lantales de protección, guantes y blindajes para órganos; Delantales y guantes protectores y blindajes de protección de órg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………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b)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odos los medios individuales de protección se mantengan en estado satisfactorio y, cuando proceda, se ensayen a intervalos reg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197240" y="631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560" y="-27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3399"/>
                </a:solidFill>
                <a:latin typeface="Arial"/>
              </a:rPr>
              <a:t>Medios individuales de protección (BSS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658800" y="1089000"/>
            <a:ext cx="784872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c)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 mantengan listos para su empleo, en caso de intervención, los medios individuales de protección adecuados;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d)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 se piensan utilizar medios individuales de protección para una tarea determinada, se tenga en cuenta la exposición adicional que pudiera producirse a causa del tiempo o de inconvenientes suplementarios, así como cualesquiera riesgos no radiológicos adicionales que pudiera suponer el uso del equipo protector al realizar la t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4197240" y="631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7280" y="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3399"/>
                </a:solidFill>
                <a:latin typeface="Arial"/>
              </a:rPr>
              <a:t>Medios individuales de protección (BSS) cont.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2120" y="-65520"/>
            <a:ext cx="9102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Medios individuales de protección</a:t>
            </a:r>
            <a:br>
              <a:rPr sz="3200"/>
            </a:b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para manipular fuentes radiactivas abierta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911240" y="2833560"/>
            <a:ext cx="3021120" cy="17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-26496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Guant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Bata blanc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Delantal, etc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1"/>
          <a:stretch/>
        </p:blipFill>
        <p:spPr>
          <a:xfrm>
            <a:off x="5219640" y="1523880"/>
            <a:ext cx="1854360" cy="457200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2560" y="146160"/>
            <a:ext cx="86742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Medios individuales de protección en C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2240" y="1591920"/>
            <a:ext cx="488772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Delantal plomado equivalente a un espesor de 0.35 mm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Blindaje de tiroides (protecto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Necesario sólo para el personal que deba permanecer en la sala durante la exploración,  p. ej: para una inyección de contras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En muchos hospitales no se permite al personal estar en la sala de CT mientras se emite radiación, en cuyo caso no se necesita protección personal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07" name="Picture 9" descr=""/>
          <p:cNvPicPr/>
          <p:nvPr/>
        </p:nvPicPr>
        <p:blipFill>
          <a:blip r:embed="rId1"/>
          <a:stretch/>
        </p:blipFill>
        <p:spPr>
          <a:xfrm>
            <a:off x="5985000" y="1268280"/>
            <a:ext cx="2763720" cy="378144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sp>
        <p:nvSpPr>
          <p:cNvPr id="408" name="Rectangle 1"/>
          <p:cNvSpPr/>
          <p:nvPr/>
        </p:nvSpPr>
        <p:spPr>
          <a:xfrm>
            <a:off x="6012000" y="5192640"/>
            <a:ext cx="2736720" cy="720720"/>
          </a:xfrm>
          <a:prstGeom prst="rect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¡¡Los dispositivos actuales son algo más modernos que éstos de 1916!!.......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2240" y="73080"/>
            <a:ext cx="85345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Resumen del equipamiento de protecció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160" y="1952640"/>
            <a:ext cx="8394480" cy="37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Los fotones gamma de 511 keV emitidos por el </a:t>
            </a:r>
            <a:r>
              <a:rPr b="0" lang="es-ES" sz="20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F son más penetrantes que los de 140 keV emitidos por el </a:t>
            </a:r>
            <a:r>
              <a:rPr b="0" lang="es-ES" sz="2000" spc="-1" strike="noStrike" baseline="30000">
                <a:solidFill>
                  <a:srgbClr val="003399"/>
                </a:solidFill>
                <a:latin typeface="Arial"/>
              </a:rPr>
              <a:t>99m</a:t>
            </a: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Tc, por tanto hacen falta precauciones especiales  al manipular las jeringas con </a:t>
            </a:r>
            <a:r>
              <a:rPr b="0" lang="es-ES" sz="20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F-FDG. Éstas , incluyen el uso de fórceps largos para manipular viales y jeringas blindadas y los bloques en L especialmente diseñados para el blindaje de emisores de positron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Es importante que los técnicos utilicen guantes y batas de laboratorio cuando manipulan emisores beta (en este caso positrones), de manera que ellos puedan descontaminarse a sí mismos fácilmente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Es importante que el personal involucrado en la exploración de PET/CT esté protegido de la exposición del CT, especialmente si se requiere su presencia en la sala durante el estudi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3399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8560" y="1371600"/>
            <a:ext cx="8458200" cy="313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Arial"/>
              </a:rPr>
              <a:t>Conocer el equipamiento de protección para reducir la dosis al personal  en los ciclotrones e instalaciones de PET/CT: desde los blindajes hasta los dispositivos de manipulación y los medios individuales de protección del personal (MIP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08" name="Picture 1028" descr="MAN50"/>
          <p:cNvPicPr/>
          <p:nvPr/>
        </p:nvPicPr>
        <p:blipFill>
          <a:blip r:embed="rId1"/>
          <a:stretch/>
        </p:blipFill>
        <p:spPr>
          <a:xfrm>
            <a:off x="3994200" y="4797360"/>
            <a:ext cx="11541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99"/>
                </a:solidFill>
                <a:latin typeface="Arial"/>
              </a:rPr>
              <a:t>Contenidos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76360" y="1936440"/>
            <a:ext cx="6840720" cy="27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Blindaj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Dispositivos para manipular sustancias radiactivas (MIP) utilizadas en la PE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Parte 6. Equipamiento de Protección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34920" y="32130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ódulo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6.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Blindajes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Blindajes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4360" y="1684440"/>
            <a:ext cx="7881840" cy="27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Para  fotones de 511 keV, el espesor típico es de 30-50 mm de plomo (densidad de 11,3 kg/l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Para 140 keV </a:t>
            </a:r>
            <a:r>
              <a:rPr b="0" lang="en-GB" sz="2400" spc="-1" strike="noStrike" baseline="30000">
                <a:solidFill>
                  <a:srgbClr val="003399"/>
                </a:solidFill>
                <a:latin typeface="Arial"/>
              </a:rPr>
              <a:t>99m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Tc (140 keV) el espesor típico es de 3 a 6 mm de plom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El mayor problema que plantean los blindajes para fotones de energías de 511 keV es su pes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4 CuadroTexto"/>
          <p:cNvSpPr/>
          <p:nvPr/>
        </p:nvSpPr>
        <p:spPr>
          <a:xfrm>
            <a:off x="250920" y="44280"/>
            <a:ext cx="86421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Arial"/>
              </a:rPr>
              <a:t>Radiofarmacia PET - Consideraciones técnic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12"/>
          <p:cNvGrpSpPr/>
          <p:nvPr/>
        </p:nvGrpSpPr>
        <p:grpSpPr>
          <a:xfrm>
            <a:off x="690480" y="1519200"/>
            <a:ext cx="3557520" cy="3386160"/>
            <a:chOff x="690480" y="1519200"/>
            <a:chExt cx="3557520" cy="3386160"/>
          </a:xfrm>
        </p:grpSpPr>
        <p:pic>
          <p:nvPicPr>
            <p:cNvPr id="317" name="Picture 4" descr=""/>
            <p:cNvPicPr/>
            <p:nvPr/>
          </p:nvPicPr>
          <p:blipFill>
            <a:blip r:embed="rId1"/>
            <a:srcRect l="2520" t="28065" r="49622" b="20145"/>
            <a:stretch/>
          </p:blipFill>
          <p:spPr>
            <a:xfrm>
              <a:off x="690480" y="1914480"/>
              <a:ext cx="3556080" cy="2990880"/>
            </a:xfrm>
            <a:prstGeom prst="rect">
              <a:avLst/>
            </a:prstGeom>
            <a:ln w="25560">
              <a:solidFill>
                <a:srgbClr val="990033"/>
              </a:solidFill>
              <a:miter/>
            </a:ln>
          </p:spPr>
        </p:pic>
        <p:sp>
          <p:nvSpPr>
            <p:cNvPr id="318" name="5 CuadroTexto"/>
            <p:cNvSpPr/>
            <p:nvPr/>
          </p:nvSpPr>
          <p:spPr>
            <a:xfrm>
              <a:off x="690480" y="1519200"/>
              <a:ext cx="355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3399"/>
                  </a:solidFill>
                  <a:latin typeface="Arial"/>
                </a:rPr>
                <a:t>Mini-celdas y celda cal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7 CuadroTexto"/>
          <p:cNvSpPr/>
          <p:nvPr/>
        </p:nvSpPr>
        <p:spPr>
          <a:xfrm>
            <a:off x="1008000" y="545616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</a:rPr>
              <a:t>Uso de controles ingenieriles - énfasis en blind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3"/>
          <p:cNvGrpSpPr/>
          <p:nvPr/>
        </p:nvGrpSpPr>
        <p:grpSpPr>
          <a:xfrm>
            <a:off x="5040360" y="1251000"/>
            <a:ext cx="3571920" cy="3654000"/>
            <a:chOff x="5040360" y="1251000"/>
            <a:chExt cx="3571920" cy="3654000"/>
          </a:xfrm>
        </p:grpSpPr>
        <p:sp>
          <p:nvSpPr>
            <p:cNvPr id="321" name="6 CuadroTexto"/>
            <p:cNvSpPr/>
            <p:nvPr/>
          </p:nvSpPr>
          <p:spPr>
            <a:xfrm>
              <a:off x="5040360" y="1251000"/>
              <a:ext cx="3571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3399"/>
                  </a:solidFill>
                  <a:latin typeface="Arial"/>
                </a:rPr>
                <a:t>Unidad de síntesis química dentro de la mini-cel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2" name="Picture 4" descr=""/>
            <p:cNvPicPr/>
            <p:nvPr/>
          </p:nvPicPr>
          <p:blipFill>
            <a:blip r:embed="rId2"/>
            <a:srcRect l="54274" t="28065" r="2132" b="20145"/>
            <a:stretch/>
          </p:blipFill>
          <p:spPr>
            <a:xfrm>
              <a:off x="5221440" y="1914480"/>
              <a:ext cx="3238560" cy="2990520"/>
            </a:xfrm>
            <a:prstGeom prst="rect">
              <a:avLst/>
            </a:prstGeom>
            <a:ln w="25560">
              <a:solidFill>
                <a:srgbClr val="990033"/>
              </a:solidFill>
              <a:miter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87280" y="10800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ontenedores par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l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ransport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24" name="Group 20"/>
          <p:cNvGrpSpPr/>
          <p:nvPr/>
        </p:nvGrpSpPr>
        <p:grpSpPr>
          <a:xfrm>
            <a:off x="4597560" y="4210200"/>
            <a:ext cx="4259160" cy="2171520"/>
            <a:chOff x="4597560" y="4210200"/>
            <a:chExt cx="4259160" cy="2171520"/>
          </a:xfrm>
        </p:grpSpPr>
        <p:pic>
          <p:nvPicPr>
            <p:cNvPr id="325" name="Picture 15" descr=""/>
            <p:cNvPicPr/>
            <p:nvPr/>
          </p:nvPicPr>
          <p:blipFill>
            <a:blip r:embed="rId1"/>
            <a:stretch/>
          </p:blipFill>
          <p:spPr>
            <a:xfrm>
              <a:off x="5961240" y="4210200"/>
              <a:ext cx="289548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9"/>
            <p:cNvSpPr/>
            <p:nvPr/>
          </p:nvSpPr>
          <p:spPr>
            <a:xfrm>
              <a:off x="4597560" y="5805360"/>
              <a:ext cx="105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0033"/>
                  </a:solidFill>
                  <a:latin typeface="Arial"/>
                </a:rPr>
                <a:t>Fu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 flipV="1">
              <a:off x="5616720" y="5665320"/>
              <a:ext cx="1727280" cy="355320"/>
            </a:xfrm>
            <a:prstGeom prst="line">
              <a:avLst/>
            </a:prstGeom>
            <a:ln w="507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9"/>
          <p:cNvGrpSpPr/>
          <p:nvPr/>
        </p:nvGrpSpPr>
        <p:grpSpPr>
          <a:xfrm>
            <a:off x="3471840" y="1341360"/>
            <a:ext cx="5529240" cy="2313000"/>
            <a:chOff x="3471840" y="1341360"/>
            <a:chExt cx="5529240" cy="2313000"/>
          </a:xfrm>
        </p:grpSpPr>
        <p:pic>
          <p:nvPicPr>
            <p:cNvPr id="329" name="Picture 14" descr=""/>
            <p:cNvPicPr/>
            <p:nvPr/>
          </p:nvPicPr>
          <p:blipFill>
            <a:blip r:embed="rId2"/>
            <a:stretch/>
          </p:blipFill>
          <p:spPr>
            <a:xfrm>
              <a:off x="3471840" y="1425600"/>
              <a:ext cx="297180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6"/>
            <p:cNvSpPr/>
            <p:nvPr/>
          </p:nvSpPr>
          <p:spPr>
            <a:xfrm>
              <a:off x="6629400" y="1341360"/>
              <a:ext cx="23716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3366cc"/>
                  </a:solidFill>
                  <a:latin typeface="Arial"/>
                </a:rPr>
                <a:t>Relleno </a:t>
              </a:r>
              <a:r>
                <a:rPr b="0" lang="sv-SE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0" lang="sv-SE" sz="2000" spc="-1" strike="noStrike">
                  <a:solidFill>
                    <a:srgbClr val="3366cc"/>
                  </a:solidFill>
                  <a:latin typeface="Arial"/>
                </a:rPr>
                <a:t>posicionador</a:t>
              </a:r>
              <a:r>
                <a:rPr b="0" lang="sv-SE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3366cc"/>
                  </a:solidFill>
                  <a:latin typeface="Arial"/>
                </a:rPr>
                <a:t>Contenedor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3366cc"/>
                  </a:solidFill>
                  <a:latin typeface="Arial"/>
                </a:rPr>
                <a:t>plomo (47-57 m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8"/>
            <p:cNvSpPr/>
            <p:nvPr/>
          </p:nvSpPr>
          <p:spPr>
            <a:xfrm flipH="1">
              <a:off x="5638680" y="1646280"/>
              <a:ext cx="990720" cy="533520"/>
            </a:xfrm>
            <a:prstGeom prst="line">
              <a:avLst/>
            </a:prstGeom>
            <a:ln w="507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1"/>
            <p:cNvSpPr/>
            <p:nvPr/>
          </p:nvSpPr>
          <p:spPr>
            <a:xfrm flipH="1">
              <a:off x="5257800" y="2408400"/>
              <a:ext cx="1371600" cy="0"/>
            </a:xfrm>
            <a:prstGeom prst="line">
              <a:avLst/>
            </a:prstGeom>
            <a:ln w="507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12"/>
          <p:cNvSpPr/>
          <p:nvPr/>
        </p:nvSpPr>
        <p:spPr>
          <a:xfrm>
            <a:off x="415800" y="56815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eso: 15-25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23"/>
          <p:cNvGrpSpPr/>
          <p:nvPr/>
        </p:nvGrpSpPr>
        <p:grpSpPr>
          <a:xfrm>
            <a:off x="88920" y="1108080"/>
            <a:ext cx="4699080" cy="5922360"/>
            <a:chOff x="88920" y="1108080"/>
            <a:chExt cx="4699080" cy="5922360"/>
          </a:xfrm>
        </p:grpSpPr>
        <p:pic>
          <p:nvPicPr>
            <p:cNvPr id="335" name="Picture 13" descr=""/>
            <p:cNvPicPr/>
            <p:nvPr/>
          </p:nvPicPr>
          <p:blipFill>
            <a:blip r:embed="rId3"/>
            <a:stretch/>
          </p:blipFill>
          <p:spPr>
            <a:xfrm>
              <a:off x="463680" y="1108080"/>
              <a:ext cx="24001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21"/>
            <p:cNvSpPr/>
            <p:nvPr/>
          </p:nvSpPr>
          <p:spPr>
            <a:xfrm>
              <a:off x="88920" y="4192920"/>
              <a:ext cx="4699080" cy="28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66cc"/>
                  </a:solidFill>
                  <a:latin typeface="Arial"/>
                </a:rPr>
                <a:t>Contened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66cc"/>
                  </a:solidFill>
                  <a:latin typeface="Arial"/>
                </a:rPr>
                <a:t>(Bulto = contenido radiactivo + embalaj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2"/>
            <p:cNvSpPr/>
            <p:nvPr/>
          </p:nvSpPr>
          <p:spPr>
            <a:xfrm flipV="1">
              <a:off x="461880" y="4192560"/>
              <a:ext cx="505080" cy="39204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Blindajes para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las </a:t>
            </a: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jeringa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6516720" cy="454824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grpSp>
        <p:nvGrpSpPr>
          <p:cNvPr id="340" name="Group 9"/>
          <p:cNvGrpSpPr/>
          <p:nvPr/>
        </p:nvGrpSpPr>
        <p:grpSpPr>
          <a:xfrm>
            <a:off x="1943280" y="4251240"/>
            <a:ext cx="6310080" cy="1496160"/>
            <a:chOff x="1943280" y="4251240"/>
            <a:chExt cx="6310080" cy="1496160"/>
          </a:xfrm>
        </p:grpSpPr>
        <p:sp>
          <p:nvSpPr>
            <p:cNvPr id="341" name="Rectangle 6"/>
            <p:cNvSpPr/>
            <p:nvPr/>
          </p:nvSpPr>
          <p:spPr>
            <a:xfrm>
              <a:off x="1943280" y="4251240"/>
              <a:ext cx="2495520" cy="10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baseline="30000">
                  <a:solidFill>
                    <a:srgbClr val="003399"/>
                  </a:solidFill>
                  <a:latin typeface="Arial"/>
                </a:rPr>
                <a:t>99m</a:t>
              </a:r>
              <a:r>
                <a:rPr b="1" lang="en-GB" sz="2000" spc="-1" strike="noStrike">
                  <a:solidFill>
                    <a:srgbClr val="003399"/>
                  </a:solidFill>
                  <a:latin typeface="Arial"/>
                </a:rPr>
                <a:t>T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Arial"/>
                </a:rPr>
                <a:t>(2 mm de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3399"/>
                  </a:solidFill>
                  <a:latin typeface="Arial"/>
                </a:rPr>
                <a:t>tungsten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4"/>
            <p:cNvSpPr/>
            <p:nvPr/>
          </p:nvSpPr>
          <p:spPr>
            <a:xfrm>
              <a:off x="4761000" y="5043600"/>
              <a:ext cx="3492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baseline="30000">
                  <a:solidFill>
                    <a:srgbClr val="003399"/>
                  </a:solidFill>
                  <a:latin typeface="Arial"/>
                </a:rPr>
                <a:t>18</a:t>
              </a:r>
              <a:r>
                <a:rPr b="1" lang="en-GB" sz="2000" spc="-1" strike="noStrike">
                  <a:solidFill>
                    <a:srgbClr val="003399"/>
                  </a:solidFill>
                  <a:latin typeface="Arial"/>
                </a:rPr>
                <a:t>F-FDG (8 mm de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3399"/>
                  </a:solidFill>
                  <a:latin typeface="Arial"/>
                </a:rPr>
                <a:t>tungsten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20Z</dcterms:created>
  <dc:creator>rmorton</dc:creator>
  <dc:description/>
  <dc:language>en-US</dc:language>
  <cp:lastModifiedBy>NADER, Alejandro</cp:lastModifiedBy>
  <cp:lastPrinted>2010-05-07T13:36:46Z</cp:lastPrinted>
  <dcterms:modified xsi:type="dcterms:W3CDTF">2011-05-13T16:31:25Z</dcterms:modified>
  <cp:revision>192</cp:revision>
  <dc:subject/>
  <dc:title>Operational considerations with PET/CT</dc:title>
</cp:coreProperties>
</file>