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7.wmf" ContentType="image/x-wmf"/>
  <Override PartName="/ppt/media/image5.gif" ContentType="image/gif"/>
  <Override PartName="/ppt/media/image8.wmf" ContentType="image/x-wmf"/>
  <Override PartName="/ppt/media/image10.jpeg" ContentType="image/jpeg"/>
  <Override PartName="/ppt/media/image11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0936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628560" y="9354960"/>
            <a:ext cx="28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raft IAEA Training Material on Radiation Prote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08 Staff and public do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5386320" y="9428040"/>
            <a:ext cx="1003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D6DCF533-164E-4952-AFC4-AFBF5E4C70DC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LD: siglas en inglés de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Dosímetro termoluminiscen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CTV- circuito cerrado de televi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Gantry: mantiene este mismo nombre en la mayoría de los países, parte del equipo que sostiene el detector (o los detectores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Jeringuillas: jerin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OE: trabajadores ocupacionalmente expues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CRP siglas en inglés de la Comisión Internacional de Protección Radiológica (International Commission on Radiation Protec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Mediciones de este tipo pueden mostrar resultados diferentes en distintos hospit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OEs: trabajadores ocupacionalmente expues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98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544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746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98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544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82240" y="146160"/>
            <a:ext cx="85345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798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8544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746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798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8544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5C36-BE79-473A-922F-003E834CF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B8F7-668D-4254-897E-8E8BFC14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97F2-46BE-419C-AD0B-3F04CD1F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8A30-1EC3-4A7F-B10C-687290C0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9208-EEF5-44E4-85FB-9EBB8A74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82240" y="146160"/>
            <a:ext cx="85345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767A-0A9A-4A02-89D5-DA466A80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C9BE-5D35-4548-9918-D438679B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95AC-6B00-4236-9DF4-33DAAD3C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F749-4C14-4F31-8329-17DC5D41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23BD-D0A2-4B12-AB26-76570CB2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B732-4C54-489E-970D-419878BCA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798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8544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746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798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8544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373D-0A49-4209-A7FF-19D759424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282240" y="146160"/>
            <a:ext cx="85345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1798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8544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2746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1798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8544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282240" y="146160"/>
            <a:ext cx="85345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82240" y="146160"/>
            <a:ext cx="85345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1798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8544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2746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1798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8544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04920" y="6110280"/>
            <a:ext cx="685800" cy="5968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990720" y="620244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IA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065840" y="6523560"/>
            <a:ext cx="94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99"/>
                </a:solidFill>
                <a:latin typeface="Arial"/>
                <a:ea typeface="Arial"/>
              </a:rPr>
              <a:t>Title of Lectu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379720" y="652464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122E-E44C-4C61-9645-9FD79BCE2C75}" type="slidenum">
              <a:rPr b="0" lang="en-US" sz="900" spc="-1" strike="noStrike">
                <a:solidFill>
                  <a:srgbClr val="003399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05320" y="6019920"/>
            <a:ext cx="22096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A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International Atomic Energy Agenc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114800" y="5105520"/>
            <a:ext cx="1050840" cy="914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53440" y="221760"/>
            <a:ext cx="677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66cc"/>
                </a:solidFill>
                <a:latin typeface="Arial"/>
                <a:ea typeface="Arial"/>
              </a:rPr>
              <a:t>OIEA Material de Capacitación en Protecci</a:t>
            </a:r>
            <a:r>
              <a:rPr b="1" lang="en-GB" sz="1600" spc="-1" strike="noStrike">
                <a:solidFill>
                  <a:srgbClr val="3366cc"/>
                </a:solidFill>
                <a:latin typeface="Arial"/>
                <a:ea typeface="Times New Roman"/>
              </a:rPr>
              <a:t>ón Radiológica en PET/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16000" y="1511280"/>
            <a:ext cx="684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1268280"/>
            <a:ext cx="8856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cc"/>
              </a:buClr>
              <a:buSzPct val="11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B955-5EBC-450A-BDAD-CEEDD5D336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04920" y="6110280"/>
            <a:ext cx="685800" cy="5968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990720" y="620244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IA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30600" y="6523560"/>
            <a:ext cx="188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  <a:ea typeface="Arial"/>
              </a:rPr>
              <a:t>Parte 8. Dosis personal &amp; públic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79720" y="652464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99FF-8A49-4E16-80E8-9D1FAEC9B63B}" type="slidenum">
              <a:rPr b="0" lang="en-US" sz="900" spc="-1" strike="noStrike">
                <a:solidFill>
                  <a:srgbClr val="003399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505320" y="6019920"/>
            <a:ext cx="22096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A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International Atomic Energy Agenc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114800" y="5105520"/>
            <a:ext cx="1050840" cy="9144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902880" y="221760"/>
            <a:ext cx="728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66cc"/>
                </a:solidFill>
                <a:latin typeface="Arial"/>
                <a:ea typeface="Arial"/>
              </a:rPr>
              <a:t>OIEA Material de Capacitación en Protecci</a:t>
            </a:r>
            <a:r>
              <a:rPr b="1" lang="en-GB" sz="1600" spc="-1" strike="noStrike">
                <a:solidFill>
                  <a:srgbClr val="3366cc"/>
                </a:solidFill>
                <a:latin typeface="Arial"/>
                <a:ea typeface="Times New Roman"/>
              </a:rPr>
              <a:t>ón Radiológica en Radioterap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6000" y="1511280"/>
            <a:ext cx="684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9280" y="1268280"/>
            <a:ext cx="8856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cc"/>
              </a:buClr>
              <a:buSzPct val="11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3399"/>
                </a:solidFill>
                <a:latin typeface="Arial"/>
                <a:ea typeface="Arial"/>
              </a:rPr>
              <a:t>PROTECCIÓN RADIOLÓGICA EN PET/CT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0" y="306864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Parte 8.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Dosis al Personal y al Público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88720" y="-27360"/>
            <a:ext cx="8854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Dosis anual típica a cuerpo entero al personal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768320" y="1700280"/>
          <a:ext cx="5899320" cy="3585960"/>
        </p:xfrm>
        <a:graphic>
          <a:graphicData uri="http://schemas.openxmlformats.org/drawingml/2006/table">
            <a:tbl>
              <a:tblPr/>
              <a:tblGrid>
                <a:gridCol w="3451320"/>
                <a:gridCol w="2448000"/>
              </a:tblGrid>
              <a:tr h="119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PET/C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&lt;6 mSv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119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edicina nuclea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1 mSv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119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Radioquímico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 mSv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89080" y="-10044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  <a:ea typeface="Arial"/>
              </a:rPr>
              <a:t>Dosis recibida por el técnico debido a las exploraciones de los tipos siguientes </a:t>
            </a: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(</a:t>
            </a:r>
            <a:r>
              <a:rPr b="1" lang="en-GB" sz="3200" spc="-1" strike="noStrike">
                <a:solidFill>
                  <a:srgbClr val="003399"/>
                </a:solidFill>
                <a:latin typeface="Arial"/>
                <a:ea typeface="Arial"/>
              </a:rPr>
              <a:t>µSv) 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4" name="Text Box 20"/>
          <p:cNvSpPr/>
          <p:nvPr/>
        </p:nvSpPr>
        <p:spPr>
          <a:xfrm>
            <a:off x="3492360" y="6165720"/>
            <a:ext cx="469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hiesa et al, Eur J Nucl Med 1997: 24: 1380 - 13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68360" y="1265400"/>
          <a:ext cx="7848720" cy="4025880"/>
        </p:xfrm>
        <a:graphic>
          <a:graphicData uri="http://schemas.openxmlformats.org/drawingml/2006/table">
            <a:tbl>
              <a:tblPr/>
              <a:tblGrid>
                <a:gridCol w="5502240"/>
                <a:gridCol w="234648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Estudio </a:t>
                      </a:r>
                      <a:r>
                        <a:rPr b="0" lang="en-GB" sz="28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ó</a:t>
                      </a:r>
                      <a:r>
                        <a:rPr b="0" lang="en-GB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eo de cuerpo entero (TC) con </a:t>
                      </a:r>
                      <a:r>
                        <a:rPr b="0" lang="en-GB" sz="2800" spc="-1" strike="noStrike" baseline="30000">
                          <a:solidFill>
                            <a:srgbClr val="003399"/>
                          </a:solidFill>
                          <a:latin typeface="Arial"/>
                        </a:rPr>
                        <a:t>99m</a:t>
                      </a:r>
                      <a:r>
                        <a:rPr b="0" lang="en-GB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3 </a:t>
                      </a: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± 0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Exploración SPECT con </a:t>
                      </a:r>
                      <a:r>
                        <a:rPr b="0" lang="en-GB" sz="2800" spc="-1" strike="noStrike" baseline="30000">
                          <a:solidFill>
                            <a:srgbClr val="003399"/>
                          </a:solidFill>
                          <a:latin typeface="Arial"/>
                        </a:rPr>
                        <a:t>99m</a:t>
                      </a:r>
                      <a:r>
                        <a:rPr b="0" lang="en-GB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c-MIB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7 </a:t>
                      </a: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± 0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Exploración de cuerpo entero al cuarto día después de administrarle </a:t>
                      </a:r>
                      <a:r>
                        <a:rPr b="0" lang="en-GB" sz="2400" spc="-1" strike="noStrike" baseline="30000">
                          <a:solidFill>
                            <a:srgbClr val="003399"/>
                          </a:solidFill>
                          <a:latin typeface="Arial"/>
                        </a:rPr>
                        <a:t>131</a:t>
                      </a:r>
                      <a:r>
                        <a:rPr b="0" lang="en-GB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I para su tratamiento terapéutic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2 </a:t>
                      </a: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± 0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Estudio de cuerpo entero</a:t>
                      </a: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con </a:t>
                      </a:r>
                      <a:r>
                        <a:rPr b="0" lang="en-GB" sz="2800" spc="-1" strike="noStrike" baseline="30000">
                          <a:solidFill>
                            <a:srgbClr val="003399"/>
                          </a:solidFill>
                          <a:latin typeface="Arial"/>
                        </a:rPr>
                        <a:t>18</a:t>
                      </a:r>
                      <a:r>
                        <a:rPr b="0" lang="en-GB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F-FD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.9 </a:t>
                      </a: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± 1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680" y="142920"/>
            <a:ext cx="849960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Nota importante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239320" cy="421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Acompañar al paciente al baño o a la sala del equipo PET (</a:t>
            </a:r>
            <a:r>
              <a:rPr b="0" lang="en-GB" sz="3200" spc="-1" strike="noStrike" baseline="30000">
                <a:solidFill>
                  <a:srgbClr val="003399"/>
                </a:solidFill>
                <a:latin typeface="Arial"/>
              </a:rPr>
              <a:t>18</a:t>
            </a: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F-FDG): 5-10 µSv a cada pacient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Es esencial que el diseño de la instalación sea tal que no sea necesario acompañar al paciente para ir al baño o a la sala de exploración (PET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PET/CT:  Dosis a las manos del personal ocupacionalmente expuesto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10920" y="1961640"/>
            <a:ext cx="7848360" cy="362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Las lecturas de dosis varían  considerablemente en en función del lugar donde se sitúe el dosímetro de dedo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La dosis medida en un dosímetro de dedal ubicado en la punta del dedo índice es de 2 a 5 veces mayor que la lectura de un dosímetro de anillo sobre el mismo dedo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La dosis medida en los dedos depende de la posición del dosímetro (</a:t>
            </a:r>
            <a:r>
              <a:rPr b="1" lang="en-GB" sz="3600" spc="-1" strike="noStrike" baseline="30000">
                <a:solidFill>
                  <a:srgbClr val="003399"/>
                </a:solidFill>
                <a:latin typeface="Arial"/>
              </a:rPr>
              <a:t>18</a:t>
            </a: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F-FDG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2916360" y="5589720"/>
            <a:ext cx="351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Dosis mens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692360" y="1484280"/>
            <a:ext cx="5832360" cy="3889440"/>
            <a:chOff x="1692360" y="1484280"/>
            <a:chExt cx="5832360" cy="3889440"/>
          </a:xfrm>
        </p:grpSpPr>
        <p:pic>
          <p:nvPicPr>
            <p:cNvPr id="283" name="Picture 18" descr=""/>
            <p:cNvPicPr/>
            <p:nvPr/>
          </p:nvPicPr>
          <p:blipFill>
            <a:blip r:embed="rId1"/>
            <a:stretch/>
          </p:blipFill>
          <p:spPr>
            <a:xfrm>
              <a:off x="3382920" y="1496880"/>
              <a:ext cx="262908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Text Box 9"/>
            <p:cNvSpPr/>
            <p:nvPr/>
          </p:nvSpPr>
          <p:spPr>
            <a:xfrm>
              <a:off x="6372360" y="2852640"/>
              <a:ext cx="11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399"/>
                  </a:solidFill>
                  <a:latin typeface="Arial"/>
                </a:rPr>
                <a:t>2.1 m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0"/>
            <p:cNvSpPr/>
            <p:nvPr/>
          </p:nvSpPr>
          <p:spPr>
            <a:xfrm flipH="1">
              <a:off x="5292360" y="1700280"/>
              <a:ext cx="934920" cy="43344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11"/>
            <p:cNvSpPr/>
            <p:nvPr/>
          </p:nvSpPr>
          <p:spPr>
            <a:xfrm>
              <a:off x="6227640" y="148428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399"/>
                  </a:solidFill>
                  <a:latin typeface="Arial"/>
                </a:rPr>
                <a:t>8.0 m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2"/>
            <p:cNvSpPr/>
            <p:nvPr/>
          </p:nvSpPr>
          <p:spPr>
            <a:xfrm flipH="1">
              <a:off x="5148000" y="3068640"/>
              <a:ext cx="115236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14"/>
            <p:cNvSpPr/>
            <p:nvPr/>
          </p:nvSpPr>
          <p:spPr>
            <a:xfrm>
              <a:off x="1692360" y="263700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399"/>
                  </a:solidFill>
                  <a:latin typeface="Arial"/>
                </a:rPr>
                <a:t>0.39 m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5"/>
            <p:cNvSpPr/>
            <p:nvPr/>
          </p:nvSpPr>
          <p:spPr>
            <a:xfrm>
              <a:off x="2843280" y="2852640"/>
              <a:ext cx="1081080" cy="7164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Dosis mensual en dedos, medida con dosímetro TLD de dedal en la punta del dedo índice (expresada en mSv/GBq)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766880" y="1413000"/>
          <a:ext cx="6045120" cy="4572000"/>
        </p:xfrm>
        <a:graphic>
          <a:graphicData uri="http://schemas.openxmlformats.org/drawingml/2006/table">
            <a:tbl>
              <a:tblPr/>
              <a:tblGrid>
                <a:gridCol w="4316400"/>
                <a:gridCol w="1728720"/>
              </a:tblGrid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PET/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edicina nuclea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Radiofarma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0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Radioquím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112212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Parte 8. Dosis al Personal y del Público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0" y="314172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ódulo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8.2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Reducción de la dosis al personal profesionalmente expuesto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85840" y="44280"/>
            <a:ext cx="8604000" cy="92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Reducción de la dosis al personal y al público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0920" y="2060640"/>
            <a:ext cx="80946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Diseño apropiado de la instalació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Buena práctic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Principios básicos de protección radiológica (distancia, tiempo y blindaje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Uso de medios individuales de protección (MIP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89080" y="189000"/>
            <a:ext cx="8604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Distancia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2438280" y="3505320"/>
            <a:ext cx="48769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3419640" y="440532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Dist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7"/>
          <p:cNvSpPr/>
          <p:nvPr/>
        </p:nvSpPr>
        <p:spPr>
          <a:xfrm rot="16200000">
            <a:off x="1907640" y="3194280"/>
            <a:ext cx="186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Tasa de d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Object 8"/>
          <p:cNvGraphicFramePr/>
          <p:nvPr/>
        </p:nvGraphicFramePr>
        <p:xfrm>
          <a:off x="3174840" y="2182680"/>
          <a:ext cx="3187800" cy="21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4840" y="2182680"/>
                    <a:ext cx="3187800" cy="21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Text Box 9"/>
          <p:cNvSpPr/>
          <p:nvPr/>
        </p:nvSpPr>
        <p:spPr>
          <a:xfrm>
            <a:off x="1779480" y="5226120"/>
            <a:ext cx="58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Tasa de dosis </a:t>
            </a:r>
            <a:r>
              <a:rPr b="1" lang="en-GB" sz="3200" spc="-1" strike="noStrike">
                <a:solidFill>
                  <a:srgbClr val="003399"/>
                </a:solidFill>
                <a:latin typeface="Symbol"/>
                <a:ea typeface="Symbol"/>
              </a:rPr>
              <a:t></a:t>
            </a: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 1/(distancia)</a:t>
            </a:r>
            <a:r>
              <a:rPr b="1" lang="en-GB" sz="3200" spc="-1" strike="noStrike" baseline="30000">
                <a:solidFill>
                  <a:srgbClr val="0033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85520" y="1213920"/>
            <a:ext cx="807228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Ley del inverso al cuadrado de la distanci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89080" y="115560"/>
            <a:ext cx="860400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Medidas prácticas para reducir la dosis al personal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4000" y="1547640"/>
            <a:ext cx="7832520" cy="404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tilizar pinzas o fórceps de mango largo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o caminar junto al paciente a menos que necesite ayud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sar el intercomunicador para hablar con el paciente siempre que sea posibl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Observar al paciente en la sala de espera y en la sala de exploración mediante un circuito cerrado de TV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eparar las salas de esper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o operar el equipo desde los controles del gantry mientras se esté junto al pacient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Responder: Verdadero o Falso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48920" y="1484280"/>
            <a:ext cx="8443800" cy="427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La dosis anual típica a cuerpo entero al personal ocupacionalmente expuesto es aproximadamente la misma en instalaciones de Medicina Nuclear convencional que en instalaciones de PET/CT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Se pueden reducir al mínimo las dosis al personal que trabaja en las instalaciones de PET/CT reduciendo todo lo posible el tiempo de exposición, y aumentando la distancia y los blindajes en todas las situaciones que involucren fuentes radiactiva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Es importante que los pacientes que hayan sido sometidos a un estudio de PET/CT eviten el contacto con niños, familiares y amigos al menos durante las 24 horas posteriores a la realización de la exploración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50920" y="152280"/>
            <a:ext cx="829944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Blindaje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07" name="Object 3"/>
          <p:cNvGraphicFramePr/>
          <p:nvPr/>
        </p:nvGraphicFramePr>
        <p:xfrm>
          <a:off x="1600200" y="1905120"/>
          <a:ext cx="5486400" cy="38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905120"/>
                    <a:ext cx="5486400" cy="38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Text Box 4"/>
          <p:cNvSpPr/>
          <p:nvPr/>
        </p:nvSpPr>
        <p:spPr>
          <a:xfrm>
            <a:off x="765360" y="2209680"/>
            <a:ext cx="197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Radi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incid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6098400" y="2590920"/>
            <a:ext cx="219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Radi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transmitida</a:t>
            </a:r>
            <a:r>
              <a:rPr b="1" lang="en-GB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2928960" y="1357200"/>
            <a:ext cx="43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33"/>
                </a:solidFill>
                <a:latin typeface="Arial"/>
              </a:rPr>
              <a:t>Espesor de la barr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Aspectos práctico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90320" y="2018880"/>
            <a:ext cx="5089320" cy="378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Blindajes de jeringuilla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Contenedores blindados para el transporte de jeringuillas hasta el paciente (blindaje adicional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Dispensarios blindado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Bloque blindado de plomo, en forma de L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14" name="Picture 9" descr=""/>
          <p:cNvPicPr/>
          <p:nvPr/>
        </p:nvPicPr>
        <p:blipFill>
          <a:blip r:embed="rId1"/>
          <a:srcRect l="0" t="5552" r="0" b="5201"/>
          <a:stretch/>
        </p:blipFill>
        <p:spPr>
          <a:xfrm>
            <a:off x="5724360" y="1484280"/>
            <a:ext cx="2702160" cy="244944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  <p:pic>
        <p:nvPicPr>
          <p:cNvPr id="315" name="Picture 10" descr=""/>
          <p:cNvPicPr/>
          <p:nvPr/>
        </p:nvPicPr>
        <p:blipFill>
          <a:blip r:embed="rId2"/>
          <a:srcRect l="0" t="9133" r="0" b="4523"/>
          <a:stretch/>
        </p:blipFill>
        <p:spPr>
          <a:xfrm>
            <a:off x="6227640" y="4437000"/>
            <a:ext cx="2448000" cy="136836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Tiempo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17" name="Object 3"/>
          <p:cNvGraphicFramePr/>
          <p:nvPr/>
        </p:nvGraphicFramePr>
        <p:xfrm>
          <a:off x="3352680" y="2590920"/>
          <a:ext cx="2514600" cy="189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590920"/>
                    <a:ext cx="2514600" cy="189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Text Box 4"/>
          <p:cNvSpPr/>
          <p:nvPr/>
        </p:nvSpPr>
        <p:spPr>
          <a:xfrm>
            <a:off x="500040" y="1571760"/>
            <a:ext cx="819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La dosis es proporcional 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tiempo de exposi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1470240" y="5013360"/>
            <a:ext cx="634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Dosis = Tasa de dosis </a:t>
            </a:r>
            <a:r>
              <a:rPr b="1" lang="en-GB" sz="3200" spc="-1" strike="noStrike">
                <a:solidFill>
                  <a:srgbClr val="003399"/>
                </a:solidFill>
                <a:latin typeface="Arial"/>
                <a:ea typeface="Arial"/>
              </a:rPr>
              <a:t>×</a:t>
            </a: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Aspectos práctico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20720" y="1539720"/>
            <a:ext cx="8099280" cy="455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99"/>
                </a:solidFill>
                <a:latin typeface="Arial"/>
                <a:ea typeface="Arial"/>
              </a:rPr>
              <a:t>Reducir todo lo que sea posible el tiempo junto a las fuentes radioactivas sin comprometer el resultado del procedimiento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99"/>
                </a:solidFill>
                <a:latin typeface="Arial"/>
                <a:ea typeface="Arial"/>
              </a:rPr>
              <a:t>Realizar una rápida administración de las dosi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99"/>
                </a:solidFill>
                <a:latin typeface="Arial"/>
                <a:ea typeface="Arial"/>
              </a:rPr>
              <a:t>Calcular el volumen que se requiere antes de iniciar la preparació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99"/>
                </a:solidFill>
                <a:latin typeface="Arial"/>
                <a:ea typeface="Arial"/>
              </a:rPr>
              <a:t>Confirmar la identidad del paciente (nombre, fecha de nacimiento y dirección) antes de la administración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99"/>
                </a:solidFill>
                <a:latin typeface="Arial"/>
                <a:ea typeface="Arial"/>
              </a:rPr>
              <a:t>Explicar al paciente lo que está sucediendo antes de administrar la </a:t>
            </a:r>
            <a:r>
              <a:rPr b="0" lang="es-ES" sz="2400" spc="-1" strike="noStrike" baseline="30000">
                <a:solidFill>
                  <a:srgbClr val="003399"/>
                </a:solidFill>
                <a:latin typeface="Arial"/>
                <a:ea typeface="Arial"/>
              </a:rPr>
              <a:t>18</a:t>
            </a:r>
            <a:r>
              <a:rPr b="0" lang="es-ES" sz="2400" spc="-1" strike="noStrike">
                <a:solidFill>
                  <a:srgbClr val="003399"/>
                </a:solidFill>
                <a:latin typeface="Arial"/>
                <a:ea typeface="Arial"/>
              </a:rPr>
              <a:t>F-FD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99"/>
                </a:solidFill>
                <a:latin typeface="Arial"/>
                <a:ea typeface="Arial"/>
              </a:rPr>
              <a:t>Utilizar una cánula o palomilla para la vía intravenos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99"/>
                </a:solidFill>
                <a:latin typeface="Arial"/>
                <a:ea typeface="Arial"/>
              </a:rPr>
              <a:t>Optimizar el procedimiento de inyecció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89080" y="139680"/>
            <a:ext cx="860400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Personal de enfermería acompañante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8048520" cy="32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Las enfermeras que proporcionan cuidados a pacientes altamente dependientes pueden recibir una dosis de 0.1mSv de un solo paciente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Puede ser necesario monitorizar al  personal si es grande la demanda de atención a pacientes con alta dependencia en una sola unidad 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Trabajadoras embarazada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47240" y="1758600"/>
            <a:ext cx="7628040" cy="390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Debe notificar urgentemente el embarazo a a su empleador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Evaluación del riesgo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1 mSv durante el resto del embarazo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La condición de que la dosis sea tan baja como sea razonablemente posible - puede requerir reavisar y reasignar de sus funcione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12212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Parte 8. Dosis al Personal &amp; Público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0" y="314172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ódulo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8.3</a:t>
            </a: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Visitantes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3399"/>
                </a:solidFill>
                <a:latin typeface="Arial"/>
              </a:rPr>
              <a:t>Control de visitante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NBS III.5. Los titulares registrados y los titulares licenciados, en cooperación con los empleadores cuando proceda deberán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(a) velar por que los visitantes sean acompañados, dentro de toda zona controlada,por una persona conocedora de las medidas de protección y seguridad aplicables a esa zona;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(b) facilitar información e instrucciones adecuadas a los visitantes antes de que éstos entren en una zona controlada, a fin de garantizar la protección satisfactoria de los visitantes y de las demás personas que pudieran resultar afectadas por las acciones de aquéllos;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(c) </a:t>
            </a:r>
            <a:r>
              <a:rPr b="0" lang="sv-SE" sz="2000" spc="-1" strike="noStrike">
                <a:solidFill>
                  <a:srgbClr val="003399"/>
                </a:solidFill>
                <a:latin typeface="Arial"/>
              </a:rPr>
              <a:t>velar por que se ejerza un control adecuado sobre la entrada de los visitantes en una zona supervisada y se coloquen señales apropiadas en tales zona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Visitantes del en zonas controladas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76320" y="1693440"/>
            <a:ext cx="7267680" cy="35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Evitar las visitas siempre que sea posible</a:t>
            </a:r>
            <a:br>
              <a:rPr sz="2400"/>
            </a:b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Si es inevitable, permitirlas: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Sólo con Permiso del Técnico (en Radiología o MN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No permitir la entrada a niño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No permitir la entrada a mujeres embarazadas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No permitir comer ni beber en la zona controlad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4920" y="-2736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Personal de limpieza, mantenimiento y otros servicios externo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71640" y="2133360"/>
            <a:ext cx="7464240" cy="275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Permitir su entrada a la zona controlada solo cuando es seguro hacerlo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Monitorizar la zona controlada antes de su entrad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Supervisar si es necesario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3399"/>
                </a:solidFill>
                <a:latin typeface="Arial"/>
              </a:rPr>
              <a:t>Objetivo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1600" y="1676160"/>
            <a:ext cx="7916760" cy="333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sv-SE" sz="2800" spc="-1" strike="noStrike">
                <a:solidFill>
                  <a:srgbClr val="003399"/>
                </a:solidFill>
                <a:latin typeface="Arial"/>
              </a:rPr>
              <a:t>Estudiar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la dosis que puede recibir el personal vinculado a la PET/CT y cómo utilizar los principios básicos de protección radiológica para reducirlas al mínimo. También se tomarán en consideración las trabajadoras embarazadas, visitantes del servicio, amigos  y parientes del paciente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26" name="Picture 4" descr="MAN50"/>
          <p:cNvPicPr/>
          <p:nvPr/>
        </p:nvPicPr>
        <p:blipFill>
          <a:blip r:embed="rId1"/>
          <a:stretch/>
        </p:blipFill>
        <p:spPr>
          <a:xfrm>
            <a:off x="3886200" y="5105520"/>
            <a:ext cx="115416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12212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Parte 8. Dosis al Personal &amp; Público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0" y="314172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ódulo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8.4</a:t>
            </a: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Parientes y amigos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85840" y="-2736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Contacto con el paciente después del estudio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6560" y="1484280"/>
            <a:ext cx="8498160" cy="46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Medir las tasas de dosis medidas a varias distancias cuando el paciente abandona el departamento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Cálcular la dosis acumulada para distintos varios tiempos y a diferentes distancia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Modelar situaciones social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Se dispone de estimaciones de dosis totales para diversas situacion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Recomendacione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26560" y="1582560"/>
            <a:ext cx="7774200" cy="393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No restringir el contacto con los compañeros o su pareja tras un estudio PE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Las restricciones de los desplazamientos en transporte público pueden variar en función de cada país. Pueden pasar entre 15 y 26 horas hasta que la actividad del 18F-FDG decaiga desde 400 MBq hasta 37 kBq. Algunos detectores de radiación utilzados en protección radiológica en el transporte público se activan a 37 kBq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Los niños no deben acompañar al paciente a la unidad de PET/CT pero no es necesario restringir la proximidad una vez que abandone la mism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Reducir la proximidad a los niños durante las primeras 12 horas posteriores a la inyecció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4920" y="146160"/>
            <a:ext cx="8497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Resumen: dosis a los trabajadores ocupacionalmente expuestos y al público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443800" cy="477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En las instalaciones de Medicina Nuclear convencional la dosis anual típica al personal a cuerpo entero es de 0.1 mSv, mientras que en las instalaciones de PET/CT se aproxima a 6 mSv. Si bien la diferencia es considerable, sigue estando muy por debajo del límite de 20 mSv recomendado por el ICRP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El personal de las instalaciones de PET/CT deberán utilizar sus dispositivos de dosimetría personal rigurosa y regularmente, de manera que sus lecturas sean fiables para su evaluación y comparación mes a me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Se pueden reducir al mínimo las dosis al personal que trabaja en las instalaciones de PET/CT reduciendo todo lo posible el tiempo de exposición, aumentando la distancia y los blindajes en todos los casos que impliquen el uso de fuentes radioactiva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Si bien los niños no pueden acompañar al paciente a la instalación del PET/CT, no existen restricciones a los niños, parientes y amigos una vez que el paciente abandone la instalació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3399"/>
                </a:solidFill>
                <a:latin typeface="Arial"/>
              </a:rPr>
              <a:t>Contenidos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14200" y="2001960"/>
            <a:ext cx="7345080" cy="29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Dosis a los </a:t>
            </a:r>
            <a:r>
              <a:rPr b="0" lang="es-ES" sz="3200" spc="-1" strike="noStrike">
                <a:solidFill>
                  <a:srgbClr val="003399"/>
                </a:solidFill>
                <a:latin typeface="Arial"/>
              </a:rPr>
              <a:t>trabajadores ocupacionalmente expuestos</a:t>
            </a: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 (TOEs)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Reducción de la dosis a los TO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xposición de los visitant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arientes, familiares y amigo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29" name="Picture 4" descr="BOOK_A"/>
          <p:cNvPicPr/>
          <p:nvPr/>
        </p:nvPicPr>
        <p:blipFill>
          <a:blip r:embed="rId1"/>
          <a:stretch/>
        </p:blipFill>
        <p:spPr>
          <a:xfrm>
            <a:off x="4284720" y="5334120"/>
            <a:ext cx="533520" cy="53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12212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Parte 8. Dosis al Personal &amp; Público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0" y="314172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ódulo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8.1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Dosis típicas al personal</a:t>
            </a: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7640" y="146160"/>
            <a:ext cx="8861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Dosis al personal que trabaja con el ciclotrón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99640" y="1580760"/>
            <a:ext cx="7753320" cy="379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Sistema de producción completamente automatizada – No hay exposición a  cuerpo entero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Dosis recibida po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58680" indent="-5014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Mantenimiento del ciclotró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58680" indent="-5014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Control de calidad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de la </a:t>
            </a:r>
            <a:r>
              <a:rPr b="0" lang="en-GB" sz="2800" spc="-1" strike="noStrike" baseline="30000">
                <a:solidFill>
                  <a:srgbClr val="003399"/>
                </a:solidFill>
                <a:latin typeface="Arial"/>
              </a:rPr>
              <a:t>18</a:t>
            </a: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F-FD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58680" indent="-5014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La dosis típica es de 0.1 mSv/me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88171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Límites de dosis recomendados por la ICRP 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Text Box 33"/>
          <p:cNvSpPr/>
          <p:nvPr/>
        </p:nvSpPr>
        <p:spPr>
          <a:xfrm>
            <a:off x="1187280" y="5734080"/>
            <a:ext cx="71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* Promediado en 5 años y no mayor de 50 mSv en ningún a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876240" y="1335240"/>
          <a:ext cx="7512120" cy="4325760"/>
        </p:xfrm>
        <a:graphic>
          <a:graphicData uri="http://schemas.openxmlformats.org/drawingml/2006/table">
            <a:tbl>
              <a:tblPr/>
              <a:tblGrid>
                <a:gridCol w="3048120"/>
                <a:gridCol w="2151000"/>
                <a:gridCol w="225360"/>
                <a:gridCol w="2087640"/>
              </a:tblGrid>
              <a:tr h="65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Ocupaci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Públ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osis Efectiva (mSv/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65880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osis equivalente (mSv/a) para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Cristalino del oj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Pi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anos y p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1187280" y="1341360"/>
            <a:ext cx="5261040" cy="4021200"/>
            <a:chOff x="1187280" y="1341360"/>
            <a:chExt cx="5261040" cy="4021200"/>
          </a:xfrm>
        </p:grpSpPr>
        <p:sp>
          <p:nvSpPr>
            <p:cNvPr id="238" name="Rectangle 3"/>
            <p:cNvSpPr/>
            <p:nvPr/>
          </p:nvSpPr>
          <p:spPr>
            <a:xfrm>
              <a:off x="1187280" y="1341360"/>
              <a:ext cx="5261040" cy="402120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4"/>
            <p:cNvSpPr/>
            <p:nvPr/>
          </p:nvSpPr>
          <p:spPr>
            <a:xfrm>
              <a:off x="2127240" y="1719360"/>
              <a:ext cx="3981240" cy="30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5"/>
            <p:cNvSpPr/>
            <p:nvPr/>
          </p:nvSpPr>
          <p:spPr>
            <a:xfrm>
              <a:off x="2127240" y="1719360"/>
              <a:ext cx="3981240" cy="300348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6"/>
            <p:cNvSpPr/>
            <p:nvPr/>
          </p:nvSpPr>
          <p:spPr>
            <a:xfrm>
              <a:off x="2792160" y="3556080"/>
              <a:ext cx="379440" cy="116676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7"/>
            <p:cNvSpPr/>
            <p:nvPr/>
          </p:nvSpPr>
          <p:spPr>
            <a:xfrm>
              <a:off x="4111560" y="2336760"/>
              <a:ext cx="379440" cy="23860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8"/>
            <p:cNvSpPr/>
            <p:nvPr/>
          </p:nvSpPr>
          <p:spPr>
            <a:xfrm>
              <a:off x="5443200" y="3556080"/>
              <a:ext cx="378000" cy="116676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9"/>
            <p:cNvSpPr/>
            <p:nvPr/>
          </p:nvSpPr>
          <p:spPr>
            <a:xfrm>
              <a:off x="2127240" y="1719360"/>
              <a:ext cx="1440" cy="300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10"/>
            <p:cNvSpPr/>
            <p:nvPr/>
          </p:nvSpPr>
          <p:spPr>
            <a:xfrm>
              <a:off x="2074680" y="4722840"/>
              <a:ext cx="104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1"/>
            <p:cNvSpPr/>
            <p:nvPr/>
          </p:nvSpPr>
          <p:spPr>
            <a:xfrm>
              <a:off x="2074680" y="4122720"/>
              <a:ext cx="104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2"/>
            <p:cNvSpPr/>
            <p:nvPr/>
          </p:nvSpPr>
          <p:spPr>
            <a:xfrm>
              <a:off x="2074680" y="3521160"/>
              <a:ext cx="104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13"/>
            <p:cNvSpPr/>
            <p:nvPr/>
          </p:nvSpPr>
          <p:spPr>
            <a:xfrm>
              <a:off x="2074680" y="2921040"/>
              <a:ext cx="104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4"/>
            <p:cNvSpPr/>
            <p:nvPr/>
          </p:nvSpPr>
          <p:spPr>
            <a:xfrm>
              <a:off x="2074680" y="2320920"/>
              <a:ext cx="104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5"/>
            <p:cNvSpPr/>
            <p:nvPr/>
          </p:nvSpPr>
          <p:spPr>
            <a:xfrm>
              <a:off x="2074680" y="1719360"/>
              <a:ext cx="104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6"/>
            <p:cNvSpPr/>
            <p:nvPr/>
          </p:nvSpPr>
          <p:spPr>
            <a:xfrm>
              <a:off x="2127240" y="4722840"/>
              <a:ext cx="3981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7"/>
            <p:cNvSpPr/>
            <p:nvPr/>
          </p:nvSpPr>
          <p:spPr>
            <a:xfrm flipV="1">
              <a:off x="2127240" y="4669920"/>
              <a:ext cx="1440" cy="10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18"/>
            <p:cNvSpPr/>
            <p:nvPr/>
          </p:nvSpPr>
          <p:spPr>
            <a:xfrm flipV="1">
              <a:off x="3458880" y="4669920"/>
              <a:ext cx="1800" cy="10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9"/>
            <p:cNvSpPr/>
            <p:nvPr/>
          </p:nvSpPr>
          <p:spPr>
            <a:xfrm flipV="1">
              <a:off x="4776480" y="4669920"/>
              <a:ext cx="1800" cy="10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0"/>
            <p:cNvSpPr/>
            <p:nvPr/>
          </p:nvSpPr>
          <p:spPr>
            <a:xfrm flipV="1">
              <a:off x="6108480" y="4669920"/>
              <a:ext cx="1800" cy="10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21"/>
            <p:cNvSpPr/>
            <p:nvPr/>
          </p:nvSpPr>
          <p:spPr>
            <a:xfrm>
              <a:off x="1904760" y="46180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22"/>
            <p:cNvSpPr/>
            <p:nvPr/>
          </p:nvSpPr>
          <p:spPr>
            <a:xfrm>
              <a:off x="1762200" y="401796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,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23"/>
            <p:cNvSpPr/>
            <p:nvPr/>
          </p:nvSpPr>
          <p:spPr>
            <a:xfrm>
              <a:off x="1904760" y="341784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24"/>
            <p:cNvSpPr/>
            <p:nvPr/>
          </p:nvSpPr>
          <p:spPr>
            <a:xfrm>
              <a:off x="1762200" y="281628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,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25"/>
            <p:cNvSpPr/>
            <p:nvPr/>
          </p:nvSpPr>
          <p:spPr>
            <a:xfrm>
              <a:off x="1904760" y="22161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26"/>
            <p:cNvSpPr/>
            <p:nvPr/>
          </p:nvSpPr>
          <p:spPr>
            <a:xfrm>
              <a:off x="1762200" y="161604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27"/>
            <p:cNvSpPr/>
            <p:nvPr/>
          </p:nvSpPr>
          <p:spPr>
            <a:xfrm>
              <a:off x="2372040" y="4838760"/>
              <a:ext cx="1031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"/>
                </a:rPr>
                <a:t>Prepar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28"/>
            <p:cNvSpPr/>
            <p:nvPr/>
          </p:nvSpPr>
          <p:spPr>
            <a:xfrm>
              <a:off x="3808440" y="4838760"/>
              <a:ext cx="822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"/>
                </a:rPr>
                <a:t>Inye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29"/>
            <p:cNvSpPr/>
            <p:nvPr/>
          </p:nvSpPr>
          <p:spPr>
            <a:xfrm>
              <a:off x="5399280" y="4841640"/>
              <a:ext cx="1020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"/>
                </a:rPr>
                <a:t>Explor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30"/>
            <p:cNvSpPr/>
            <p:nvPr/>
          </p:nvSpPr>
          <p:spPr>
            <a:xfrm rot="16200000">
              <a:off x="1060920" y="3090960"/>
              <a:ext cx="1031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"/>
                </a:rPr>
                <a:t>Dosis  (uSv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Rectangle 31"/>
          <p:cNvSpPr/>
          <p:nvPr/>
        </p:nvSpPr>
        <p:spPr>
          <a:xfrm>
            <a:off x="6156360" y="2637000"/>
            <a:ext cx="27367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3399"/>
                </a:solidFill>
                <a:latin typeface="Arial"/>
              </a:rPr>
              <a:t>Exploración de cuerpo entero 370 MBq de</a:t>
            </a:r>
            <a:r>
              <a:rPr b="0" lang="sv-SE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v-SE" sz="2400" spc="-1" strike="noStrike" baseline="30000">
                <a:solidFill>
                  <a:srgbClr val="003399"/>
                </a:solidFill>
                <a:latin typeface="Arial"/>
              </a:rPr>
              <a:t>18</a:t>
            </a:r>
            <a:r>
              <a:rPr b="0" lang="sv-SE" sz="2400" spc="-1" strike="noStrike">
                <a:solidFill>
                  <a:srgbClr val="003399"/>
                </a:solidFill>
                <a:latin typeface="Arial"/>
              </a:rPr>
              <a:t>F-FD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82240" y="72720"/>
            <a:ext cx="8682120" cy="97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000" spc="-1" strike="noStrike">
                <a:solidFill>
                  <a:srgbClr val="003399"/>
                </a:solidFill>
                <a:latin typeface="Arial"/>
              </a:rPr>
              <a:t>Dosis típica en cada exploración con</a:t>
            </a:r>
            <a:r>
              <a:rPr b="1" lang="sv-SE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v-SE" sz="4000" spc="-1" strike="noStrike" baseline="30000">
                <a:solidFill>
                  <a:srgbClr val="003399"/>
                </a:solidFill>
                <a:latin typeface="Arial"/>
              </a:rPr>
              <a:t>18</a:t>
            </a:r>
            <a:r>
              <a:rPr b="1" lang="sv-SE" sz="4000" spc="-1" strike="noStrike">
                <a:solidFill>
                  <a:srgbClr val="003399"/>
                </a:solidFill>
                <a:latin typeface="Arial"/>
              </a:rPr>
              <a:t>F-FDG</a:t>
            </a: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1403280" y="556416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Dosis medidas en una instalación bien diseñ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PET/CT: Dosis a cuerpo entero al personal ocupacionalmente expuesto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9280" y="1356840"/>
            <a:ext cx="8318520" cy="477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Promedio de dosis al personal a cuerpo entero para PET/ CT (en una instalación bien diseñada) 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Medición inicial del vial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2 µSv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Dispensa e inyección                    2-4 µSv/paciente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Dosis por el posicionamento del paciente por cada exploración                 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1-2 µSv/pacient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En el caso de equipos de PET situadas en unidades móviles o ubicaciones no específicas para este fin la dosis al personal puede incrementarse en 3-6 µSv/paciente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Acompañar al paciente al baño o la habitación del estudio sala de exploración supone entre 5 y10 µSv/pacient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4:43:20Z</dcterms:created>
  <dc:creator>rmorton</dc:creator>
  <dc:description/>
  <dc:language>en-US</dc:language>
  <cp:lastModifiedBy>test</cp:lastModifiedBy>
  <cp:lastPrinted>2010-05-13T12:33:46Z</cp:lastPrinted>
  <dcterms:modified xsi:type="dcterms:W3CDTF">2011-05-21T15:00:23Z</dcterms:modified>
  <cp:revision>210</cp:revision>
  <dc:subject/>
  <dc:title>Operational considerations with PET/CT</dc:title>
</cp:coreProperties>
</file>