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jpeg" ContentType="image/jpeg"/>
  <Override PartName="/ppt/media/image8.gif" ContentType="image/gif"/>
  <Override PartName="/ppt/media/image4.wmf" ContentType="image/x-wmf"/>
  <Override PartName="/ppt/media/image19.jpeg" ContentType="image/jpeg"/>
  <Override PartName="/ppt/media/image6.wmf" ContentType="image/x-wmf"/>
  <Override PartName="/ppt/media/image26.jpeg" ContentType="image/jpeg"/>
  <Override PartName="/ppt/media/image20.wmf" ContentType="image/x-wmf"/>
  <Override PartName="/ppt/media/image5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7.gif" ContentType="image/gi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0.jpeg" ContentType="image/jpeg"/>
  <Override PartName="/ppt/media/image21.gif" ContentType="image/gif"/>
  <Override PartName="/ppt/media/image22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592560" y="85914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raft IAEA Training Material on Radiation Protection in PET/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09. Transport safety, source security and dealing with was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5451480" y="86630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F2078A-33A8-41D6-8EB6-18FC3595113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un mensaje central – el profesor debe asegurar que los participantes comprendan su importancia. La documentación debe ser verificada y estar fácilmente disponible para su actual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edido u or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La imagen ilustra como debe ser considerada  la seguridad de la fuente durante su vida en 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ciones de Normas de seguridad del OIE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lamento para el transporte seguro de materiales radiactiv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dición de 2005, Corregida, Nº TS-R-1Requisitos de segu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cka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P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entenderá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su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enido radiactiv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 como se presenta para el transporte. Los tipos d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os que se aplica el presente Reglamento, sujetos a los límites de actividad y restricciones en cuanto a materiales que figuran en la Sección IV, y que satisfacen los requisitos correspondientes, s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exceptuad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cepted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3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A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B(U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B(U)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B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B(M)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C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 contiene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stancias fisionab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hexafluoruro de uranio están sujetos a requisitos adicio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ckag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1.P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entenderá el conjunto de todos los componentes necesarios para alojar completamente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enido radiactiv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En particular, puede consistir en uno o varios recipientes, materiales absorbentes, estructuras de separación, material de blindaje contra las radiaciones y equipo para llenado, vaciado, venteo y alivio de presión; dispositivos de refrigeración, de amortiguamiento mecánico de golpes, de manipulación y fijación, y de aislamiento térmico, así como dispositivos inherentes d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ede consistir en una caja, bidón o recipiente similar, o pue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521-E540-49B9-8769-1D5D03C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EED-916A-4D27-B993-AD648C4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47F-AD5F-4752-97EC-AAA7FB7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A51-F9FA-4727-8F5C-A36AB91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898-F283-45B1-BA34-2308C0CC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AD8-5BDF-43DA-923B-E74C0CD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515-759C-4175-965D-945EA50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DD6-639B-42E8-B245-799C0AD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918-8E8B-45C5-9EB7-15E4548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5AD-27A7-4938-BF3D-C7C2BBD9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263-4A8F-4890-8A0C-4C6439A1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11A-1AAC-46EB-9F07-9D06BB20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8B43-52F7-4C22-B88A-EF65C114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AB2C-9F5E-481A-8EE5-1DD18FC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9CF-15AF-4D29-93A6-EE1BF6B6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B132-0BA7-4D76-BA4E-43EC44A8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5DE-7175-46CD-9F6F-0151A1A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FD2-C2CC-4254-A207-09AD919F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2B8-E2DE-4D52-9E57-4E4EC94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83CC-3781-4220-830F-7121459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A258-39CA-4E6F-BA69-5BEAAFB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0AB9-4DB0-460B-BF3A-AA941E5A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EE6E-946F-49D4-894D-25D135C9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85B-304D-4AF8-A897-268A3648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65840" y="652356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Title of Le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768B-80CA-416C-8ED8-4BC68A8A9045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0A0A-E4EC-4928-88B4-8FB7126C5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195640" y="6452280"/>
            <a:ext cx="604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Parte 9. Seguridad en el transporte de material radiactivo, seguridad física de las fuentes y gestión de desech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E4F-3E53-459B-91B2-D5CA99811806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74B-1B4E-4FA6-BA44-B6F4DC45CF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153440" y="221760"/>
            <a:ext cx="67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PET/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02880" y="221760"/>
            <a:ext cx="72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724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ROTECCIÓN RADIOLÓGICA EN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0" y="256500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3399"/>
                </a:solidFill>
                <a:latin typeface="Arial"/>
              </a:rPr>
              <a:t>Parte 9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Seguridad en el Transporte de material radiactivo, Seguridad Física de las Fuentes y Gestión de los Desech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Etiqueta Amarilla-II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724280" y="264168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ntre 5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y</a:t>
            </a:r>
            <a:r>
              <a:rPr b="1" lang="en-GB" sz="900" spc="-1" strike="noStrike">
                <a:solidFill>
                  <a:srgbClr val="003399"/>
                </a:solidFill>
                <a:latin typeface="Arial"/>
                <a:ea typeface="MS PGothic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 50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&lt; 1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a 1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0  &lt;  TI  &lt; 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84804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Etiqueta Amarilla-III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284720" y="2666880"/>
            <a:ext cx="4859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ntre 50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y 200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ntre 10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y  10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a 1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1.0  &lt;  TI 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4804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Señalización de los vehículo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121840" y="465300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res r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ulos en el vehí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courier_van_2009_6"/>
          <p:cNvPicPr/>
          <p:nvPr/>
        </p:nvPicPr>
        <p:blipFill>
          <a:blip r:embed="rId1"/>
          <a:stretch/>
        </p:blipFill>
        <p:spPr>
          <a:xfrm>
            <a:off x="4896000" y="1268280"/>
            <a:ext cx="2398680" cy="30607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311" name="Picture 10" descr="courier_van_2009_7"/>
          <p:cNvPicPr/>
          <p:nvPr/>
        </p:nvPicPr>
        <p:blipFill>
          <a:blip r:embed="rId2"/>
          <a:stretch/>
        </p:blipFill>
        <p:spPr>
          <a:xfrm>
            <a:off x="2392200" y="1268280"/>
            <a:ext cx="1819440" cy="3024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312" name="Rectangle 11"/>
          <p:cNvSpPr/>
          <p:nvPr/>
        </p:nvSpPr>
        <p:spPr>
          <a:xfrm>
            <a:off x="4608360" y="5769000"/>
            <a:ext cx="41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Ver párrafo 567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glamento para el transporte seguro de materiales radiactivos” OIEA (200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Arial"/>
              </a:rPr>
              <a:t>Responsabilidades del expedido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179280" y="1197000"/>
            <a:ext cx="8423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Etiquetado y señ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Documentos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Entrega de procedimientos y reglas locales y otras informaciones pertinentes al transport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Instrucciones al 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La empresa de transporte es responsable de cumplir los requisitos relevantes, nacionales e internacionales, de seguridad en el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643280" y="5734080"/>
            <a:ext cx="40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Ver a los párrafos 528-542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Reglamento para el transporte seguro de materiales radiactivos” OIEA (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91090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9.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ntabilidad de fuent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85800" y="87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arte 9. Seguridad en el Transporte de material radiactivo, Seguridad Física de las Fuentes y Gestión de los Desecho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abilidad de las fuente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54440" y="2133720"/>
            <a:ext cx="423864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 debe regristrar la recepción, el almacenamiento, el uso y todos los movimientos de cada fuen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0" name="Picture 4" descr="logbook"/>
          <p:cNvPicPr/>
          <p:nvPr/>
        </p:nvPicPr>
        <p:blipFill>
          <a:blip r:embed="rId1"/>
          <a:stretch/>
        </p:blipFill>
        <p:spPr>
          <a:xfrm>
            <a:off x="692280" y="1995480"/>
            <a:ext cx="3801960" cy="3294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Contabilidad de las fuent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98440" y="1412640"/>
            <a:ext cx="72612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"/>
                <a:ea typeface="MS PGothic"/>
              </a:rPr>
              <a:t>Los registros contables de la fuente deben contener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535680" indent="-2685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  <a:ea typeface="MS PGothic"/>
              </a:rPr>
              <a:t>Radionucleido y actividad de las fue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535680" indent="-2685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  <a:ea typeface="MS PGothic"/>
              </a:rPr>
              <a:t>Localización y descripción de la fue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535680" indent="-2685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  <a:ea typeface="MS PGothic"/>
              </a:rPr>
              <a:t>Detalles de su eliminación como desecho radiactivo.</a:t>
            </a:r>
            <a:br>
              <a:rPr sz="2800"/>
            </a:b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"/>
                <a:ea typeface="MS PGothic"/>
              </a:rPr>
              <a:t>Se deben actualizar regularmente los registros, y verificar la localización de las fuent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50920" y="1093680"/>
            <a:ext cx="8497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s protocolos deben especific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rsonas autorizadas a pedir radionucle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cedimientos de entrega y recepción del material radiactivo en el depa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cedimientos de verificación y desembalado del  pa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cedimientos a seguir en caso de paquete o bulto dañ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cedimientos de verificación del radionucleido y su 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gistros que deberán mantenerse de manera oblig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edido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y recepc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547640" y="1762200"/>
            <a:ext cx="72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ra 10 pacient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50 GBq en una sola entrega d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10 GBq en dos entrega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antidades típica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91090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9.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Seguridad física de las fuent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85800" y="8791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arte 9. Seguridad en el Transporte de material radiactivo, Seguridad Física de las Fuentes y Gestión de los Desecho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6920" y="18720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Responder: Verdadero o Fals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7280" y="134136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Los registros contables de las fuentes incluirán  información específica de la fuente (identificación y actividad del radionucleido), e incluirán toda la información referente al movimiento de las mismas, desde su producción hasta su eliminación como desech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Al establecer la forma de almacenar y eliminar los desechos radiactivos se tendrá en cuenta el origen y las características de la fuente (desechos clínicos, desechos del ciclotrón…) y se realizarán de acuerdo con la normativa nacion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guridad física de las fuentes (BS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400" y="2060280"/>
            <a:ext cx="782496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.34: “</a:t>
            </a: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Las fuentes se deberán guardar en condiciones de seguridad que impidan su robo o deterioro y que impidan a toda persona jurídica no autorizada realizar alguna de las acciones especificadas en las "Obligaciones generales" relativas a las prácticas, estipuladas por las Normas (véanse los párrafos 2.7 a 2.9)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1" name="Object 4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958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5600" y="151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guridad física de las fuent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3" name="Group 14"/>
          <p:cNvGrpSpPr/>
          <p:nvPr/>
        </p:nvGrpSpPr>
        <p:grpSpPr>
          <a:xfrm>
            <a:off x="900000" y="2286000"/>
            <a:ext cx="6567120" cy="3809880"/>
            <a:chOff x="900000" y="2286000"/>
            <a:chExt cx="6567120" cy="3809880"/>
          </a:xfrm>
        </p:grpSpPr>
        <p:sp>
          <p:nvSpPr>
            <p:cNvPr id="334" name="Rectangle 2"/>
            <p:cNvSpPr/>
            <p:nvPr/>
          </p:nvSpPr>
          <p:spPr>
            <a:xfrm>
              <a:off x="4617720" y="5334120"/>
              <a:ext cx="2849400" cy="761760"/>
            </a:xfrm>
            <a:prstGeom prst="rect">
              <a:avLst/>
            </a:prstGeom>
            <a:solidFill>
              <a:srgbClr val="3366cc">
                <a:alpha val="30000"/>
              </a:srgbClr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4" descr="MANNEW"/>
            <p:cNvPicPr/>
            <p:nvPr/>
          </p:nvPicPr>
          <p:blipFill>
            <a:blip r:embed="rId1"/>
            <a:stretch/>
          </p:blipFill>
          <p:spPr>
            <a:xfrm>
              <a:off x="4780440" y="5410080"/>
              <a:ext cx="236952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5"/>
            <p:cNvSpPr/>
            <p:nvPr/>
          </p:nvSpPr>
          <p:spPr>
            <a:xfrm>
              <a:off x="5741640" y="54975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U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>
              <a:off x="900000" y="5334120"/>
              <a:ext cx="3088440" cy="761760"/>
            </a:xfrm>
            <a:prstGeom prst="rect">
              <a:avLst/>
            </a:prstGeom>
            <a:noFill/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Almacenamien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de desech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2908080" y="4343400"/>
              <a:ext cx="2849400" cy="762120"/>
            </a:xfrm>
            <a:prstGeom prst="rect">
              <a:avLst/>
            </a:prstGeom>
            <a:noFill/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Transporte (inter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2389320" y="3276720"/>
              <a:ext cx="4197960" cy="761760"/>
            </a:xfrm>
            <a:prstGeom prst="rect">
              <a:avLst/>
            </a:prstGeom>
            <a:noFill/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Almacenamiento previo a su u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9"/>
            <p:cNvSpPr/>
            <p:nvPr/>
          </p:nvSpPr>
          <p:spPr>
            <a:xfrm>
              <a:off x="2908080" y="2286000"/>
              <a:ext cx="2849400" cy="762120"/>
            </a:xfrm>
            <a:prstGeom prst="rect">
              <a:avLst/>
            </a:prstGeom>
            <a:noFill/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Recep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0"/>
          <p:cNvSpPr/>
          <p:nvPr/>
        </p:nvSpPr>
        <p:spPr>
          <a:xfrm>
            <a:off x="900000" y="1359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 debe tener en cuenta la seguridad física de las fuentes en todas las fases de la “vida” de la mismas en la insta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Arial"/>
              </a:rPr>
              <a:t>Almacenamiento de material radiactiv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3" name="Group 19"/>
          <p:cNvGrpSpPr/>
          <p:nvPr/>
        </p:nvGrpSpPr>
        <p:grpSpPr>
          <a:xfrm>
            <a:off x="468360" y="1484280"/>
            <a:ext cx="2233440" cy="3062880"/>
            <a:chOff x="468360" y="1484280"/>
            <a:chExt cx="2233440" cy="3062880"/>
          </a:xfrm>
        </p:grpSpPr>
        <p:sp>
          <p:nvSpPr>
            <p:cNvPr id="344" name="Text Box 5"/>
            <p:cNvSpPr/>
            <p:nvPr/>
          </p:nvSpPr>
          <p:spPr>
            <a:xfrm>
              <a:off x="685800" y="4148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Uso 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9" descr="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2233440" cy="271296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  <p:grpSp>
        <p:nvGrpSpPr>
          <p:cNvPr id="346" name="Group 18"/>
          <p:cNvGrpSpPr/>
          <p:nvPr/>
        </p:nvGrpSpPr>
        <p:grpSpPr>
          <a:xfrm>
            <a:off x="3144960" y="2087640"/>
            <a:ext cx="3082680" cy="4007520"/>
            <a:chOff x="3144960" y="2087640"/>
            <a:chExt cx="3082680" cy="4007520"/>
          </a:xfrm>
        </p:grpSpPr>
        <p:sp>
          <p:nvSpPr>
            <p:cNvPr id="347" name="Text Box 6"/>
            <p:cNvSpPr/>
            <p:nvPr/>
          </p:nvSpPr>
          <p:spPr>
            <a:xfrm>
              <a:off x="3144960" y="5391360"/>
              <a:ext cx="308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Fuentes de calibración, desechos radi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1" descr=""/>
            <p:cNvPicPr/>
            <p:nvPr/>
          </p:nvPicPr>
          <p:blipFill>
            <a:blip r:embed="rId2"/>
            <a:srcRect l="4930" t="0" r="5242" b="0"/>
            <a:stretch/>
          </p:blipFill>
          <p:spPr>
            <a:xfrm>
              <a:off x="3203280" y="2087640"/>
              <a:ext cx="2852640" cy="331164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  <p:grpSp>
        <p:nvGrpSpPr>
          <p:cNvPr id="349" name="Group 17"/>
          <p:cNvGrpSpPr/>
          <p:nvPr/>
        </p:nvGrpSpPr>
        <p:grpSpPr>
          <a:xfrm>
            <a:off x="6372360" y="2787480"/>
            <a:ext cx="2232000" cy="2982240"/>
            <a:chOff x="6372360" y="2787480"/>
            <a:chExt cx="2232000" cy="2982240"/>
          </a:xfrm>
        </p:grpSpPr>
        <p:sp>
          <p:nvSpPr>
            <p:cNvPr id="350" name="Text Box 8"/>
            <p:cNvSpPr/>
            <p:nvPr/>
          </p:nvSpPr>
          <p:spPr>
            <a:xfrm>
              <a:off x="6392880" y="4761000"/>
              <a:ext cx="221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Fuentes en equipo radiológic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13" descr=""/>
            <p:cNvPicPr/>
            <p:nvPr/>
          </p:nvPicPr>
          <p:blipFill>
            <a:blip r:embed="rId3"/>
            <a:srcRect l="7165" t="0" r="3224" b="0"/>
            <a:stretch/>
          </p:blipFill>
          <p:spPr>
            <a:xfrm>
              <a:off x="6372360" y="2787480"/>
              <a:ext cx="2232000" cy="200844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15552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Almacenamiento de fuent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14240" y="1483920"/>
            <a:ext cx="608976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Los almacenes de fuentes deben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Brindar protección contra las condiciones ambienta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Utilizarse solamente para materiales radiactiv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star suficientemente blindad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er resistentes al fueg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er segur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3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Tener señalización de advertencia sobre radiactivida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804000" y="1414440"/>
            <a:ext cx="1801440" cy="4893840"/>
            <a:chOff x="6804000" y="1414440"/>
            <a:chExt cx="1801440" cy="4893840"/>
          </a:xfrm>
        </p:grpSpPr>
        <p:pic>
          <p:nvPicPr>
            <p:cNvPr id="355" name="Picture 6" descr=""/>
            <p:cNvPicPr/>
            <p:nvPr/>
          </p:nvPicPr>
          <p:blipFill>
            <a:blip r:embed="rId1"/>
            <a:srcRect l="4558" t="0" r="3848" b="0"/>
            <a:stretch/>
          </p:blipFill>
          <p:spPr>
            <a:xfrm>
              <a:off x="6805800" y="1414440"/>
              <a:ext cx="1713960" cy="197280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pic>
          <p:nvPicPr>
            <p:cNvPr id="356" name="Picture 7" descr=""/>
            <p:cNvPicPr/>
            <p:nvPr/>
          </p:nvPicPr>
          <p:blipFill>
            <a:blip r:embed="rId2"/>
            <a:srcRect l="4228" t="0" r="6022" b="0"/>
            <a:stretch/>
          </p:blipFill>
          <p:spPr>
            <a:xfrm>
              <a:off x="6804000" y="3556080"/>
              <a:ext cx="1801440" cy="275220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Fuentes sellada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39720" y="1356840"/>
            <a:ext cx="796464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Inventario de fuentes sellad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Eliminación de fuentes en desuso: al adquirir una fuente que reemplaza a otra existente, hay que tomar en consideración la eliminación de ésta, y efectuar las previsiones financieras y prácticas necesari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Autorización de almacenamiento de fuent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Prueba de fug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Seguridad física de las fue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91090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9.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Desecho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685800" y="87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arte 9. Seguridad en el Transporte de material radiactivo, Seguridad Física de las Fuentes y Gestión de los Desechos</a:t>
            </a:r>
            <a:br>
              <a:rPr sz="2800"/>
            </a:b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Desechos radiactivos(BS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320" y="1523880"/>
            <a:ext cx="876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II.8.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s titulares registrados y los titulares licenciados deberán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a) </a:t>
            </a: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velar porque se reduzcan al mínimo posible la actividad y el volumen de todo desecho radiactivo resultante de las fuentes de que esos titulares sean responsables, y por que el desecho se someta a gestión, es decir, se recoja, manipule, trate, acondicione, transporte, almacene y evacúe con arreglo a los requisitos prescritos por las normas y por cualquier otra norma aplicable [26], y</a:t>
            </a:r>
            <a:r>
              <a:rPr b="0" lang="es-AR" sz="2800" spc="-1" strike="noStrike">
                <a:solidFill>
                  <a:srgbClr val="003399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Desechos radiactivos (NB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II.8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s titulares registrados y los titulares licenciados deberá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b) …</a:t>
            </a: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segregar, y tratar por separado si procede, los distintos tipos de desechos radiactivos si así lo aconseja la diversidad de factores tales como el contenido de radionucleidos, período de semidesintegración, concentración, volumen y propiedades físicas y químicas, teniendo en cuenta las opciones existentes para la evacuación de desechos.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esechos radiactiv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2376000"/>
            <a:ext cx="7245360" cy="27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s desechos radiactivos deben ser manipulados, almacenados y eliminados siguiendo procedimientos locales basados en las regulaciones nacional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Medios y métodos prácticos para gestionar los desechos radiactiv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285560"/>
            <a:ext cx="8321400" cy="48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MS PGothic"/>
              </a:rPr>
              <a:t>Informes de almacenamiento y eliminación de sustancias radioactiv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MS PGothic"/>
              </a:rPr>
              <a:t>Revisión de los métodos de trabajo para garantizar que el volumen y actividad de los desechos que se producen y se emiten al medio ambiente sean los mínimos posib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MS PGothic"/>
              </a:rPr>
              <a:t>Desechos líquidos procedentes de los pacientes (probablemente, la mejor opción es eliminarlos por el desagü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MS PGothic"/>
              </a:rPr>
              <a:t>Desechos líquidos procedentes de existencias no utilizadas (probablemente, la mejor opción es dejarlos decaer hasta que su actividad sea despreciabl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MS PGothic"/>
              </a:rPr>
              <a:t>Desechos sólidos (probablemente, la mejor opción es dejarlos decaer hasta que su actividad sea despreciabl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63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studiar diferentes aspectos de las instalaciones de PET/CT: transporte de radionucleidos, contabilidad y seguridad física de las fuentes y gestión de desechos en la instalació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7" name="Picture 4" descr="MAN50"/>
          <p:cNvPicPr/>
          <p:nvPr/>
        </p:nvPicPr>
        <p:blipFill>
          <a:blip r:embed="rId1"/>
          <a:stretch/>
        </p:blipFill>
        <p:spPr>
          <a:xfrm>
            <a:off x="3994200" y="486900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Desechos procedentes del ciclotró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5 CuadroTexto"/>
          <p:cNvSpPr/>
          <p:nvPr/>
        </p:nvSpPr>
        <p:spPr>
          <a:xfrm>
            <a:off x="2143080" y="1357200"/>
            <a:ext cx="41436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92160" y="1173240"/>
            <a:ext cx="80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Composición de las sustancias emitidas en la producci</a:t>
            </a:r>
            <a:r>
              <a:rPr b="0" lang="en-GB" sz="2000" spc="-1" strike="noStrike">
                <a:solidFill>
                  <a:srgbClr val="990033"/>
                </a:solidFill>
                <a:latin typeface="Arial"/>
                <a:ea typeface="Arial"/>
              </a:rPr>
              <a:t>ón de </a:t>
            </a:r>
            <a:r>
              <a:rPr b="0" lang="en-GB" sz="2000" spc="-1" strike="noStrike" baseline="30000">
                <a:solidFill>
                  <a:srgbClr val="990033"/>
                </a:solidFill>
                <a:latin typeface="Arial"/>
                <a:ea typeface="Arial"/>
              </a:rPr>
              <a:t>18</a:t>
            </a:r>
            <a:r>
              <a:rPr b="0" lang="en-GB" sz="2000" spc="-1" strike="noStrike">
                <a:solidFill>
                  <a:srgbClr val="990033"/>
                </a:solidFill>
                <a:latin typeface="Arial"/>
                <a:ea typeface="Arial"/>
              </a:rPr>
              <a:t>F-FD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68360" y="1628640"/>
            <a:ext cx="808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Emisiones que ocurren en la operaci</a:t>
            </a:r>
            <a:r>
              <a:rPr b="0" lang="en-GB" sz="2000" spc="-1" strike="noStrike">
                <a:solidFill>
                  <a:srgbClr val="990033"/>
                </a:solidFill>
                <a:latin typeface="Arial"/>
                <a:ea typeface="Arial"/>
              </a:rPr>
              <a:t>ón del ciclotr</a:t>
            </a: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n un blanco de agua, el porcentaje de </a:t>
            </a:r>
            <a:r>
              <a:rPr b="0" lang="en-GB" sz="2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 es del 80% al 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O(p,n) </a:t>
            </a:r>
            <a:r>
              <a:rPr b="0" lang="en-GB" sz="16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El resto es </a:t>
            </a:r>
            <a:r>
              <a:rPr b="0" lang="en-GB" sz="1600" spc="-1" strike="noStrike" baseline="30000">
                <a:solidFill>
                  <a:srgbClr val="003399"/>
                </a:solidFill>
                <a:latin typeface="Arial"/>
              </a:rPr>
              <a:t>16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O</a:t>
            </a:r>
            <a:br>
              <a:rPr sz="1600"/>
            </a:b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3399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(p,</a:t>
            </a:r>
            <a:r>
              <a:rPr b="0" lang="el-GR" sz="2000" spc="-1" strike="noStrike">
                <a:solidFill>
                  <a:srgbClr val="003399"/>
                </a:solidFill>
                <a:latin typeface="Arial"/>
                <a:ea typeface="Arial"/>
              </a:rPr>
              <a:t>α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GB" sz="2000" spc="-1" strike="noStrike" baseline="30000">
                <a:solidFill>
                  <a:srgbClr val="003399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  <a:ea typeface="Arial"/>
              </a:rPr>
              <a:t>La forma química es desconocida pero al menos contiene una pequeña proporción de gas N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  <a:ea typeface="Arial"/>
              </a:rPr>
              <a:t> cuya cantidad depende del nivel de enriqu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  <a:ea typeface="Arial"/>
              </a:rPr>
              <a:t>Se emite durante la ventilación del blanco antes de la descarga, o en caso de fallo del blanco</a:t>
            </a:r>
            <a:br>
              <a:rPr sz="1600"/>
            </a:b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Fácilmente capturado en los ciclotrones CTI</a:t>
            </a:r>
            <a:br>
              <a:rPr sz="2000"/>
            </a:b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Pequeñas cantidad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de </a:t>
            </a:r>
            <a:r>
              <a:rPr b="1" lang="en-GB" sz="20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11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C, de la  </a:t>
            </a:r>
            <a:r>
              <a:rPr b="1" lang="en-GB" sz="20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12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C(p,pn)</a:t>
            </a:r>
            <a:r>
              <a:rPr b="1" lang="en-GB" sz="20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11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C en  determinadas condiciones ope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6"/>
          <p:cNvSpPr/>
          <p:nvPr/>
        </p:nvSpPr>
        <p:spPr>
          <a:xfrm>
            <a:off x="250920" y="44280"/>
            <a:ext cx="8642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mposición de los efluentes de la producci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Arial"/>
              </a:rPr>
              <a:t>ón de </a:t>
            </a:r>
            <a:r>
              <a:rPr b="1" lang="en-GB" sz="36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18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Arial"/>
              </a:rPr>
              <a:t>F-FD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79280" y="1125360"/>
            <a:ext cx="8640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mposición de las sustancias emitidas en la síntesis de FD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as cantidades dependen de la eficiencia del proceso químico</a:t>
            </a:r>
            <a:br>
              <a:rPr sz="2000"/>
            </a:b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Form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cido fluorídico (H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Otros componentes fluo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Principalmente ocurre durante la adición de triflato de manosa al ion fluoruro se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61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Emitido al ventilar blanco antes de la descarga o en caso de fallo del blanco</a:t>
            </a:r>
            <a:br>
              <a:rPr sz="1600"/>
            </a:b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La cantidad emitida depende del tipo de fallo, y varia entre una cantidad muy pequeña (adherida a los recipientes de reacción) y una fracción significativa. Es difícil evaluar la cantidad exacta debido a la formación de placas en las paredes del con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6"/>
          <p:cNvSpPr/>
          <p:nvPr/>
        </p:nvSpPr>
        <p:spPr>
          <a:xfrm>
            <a:off x="25092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ntrol de eflu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116000" y="1434960"/>
            <a:ext cx="71676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iltraci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67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67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67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67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H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Recog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67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siva (bols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67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Recogida activa en tanques depósitos, bombonas de gas a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"/>
          <p:cNvPicPr/>
          <p:nvPr/>
        </p:nvPicPr>
        <p:blipFill>
          <a:blip r:embed="rId1"/>
          <a:srcRect l="14096" t="3933" r="29045" b="3946"/>
          <a:stretch/>
        </p:blipFill>
        <p:spPr>
          <a:xfrm>
            <a:off x="684360" y="1197000"/>
            <a:ext cx="3876480" cy="4896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378" name="Picture 7" descr=""/>
          <p:cNvPicPr/>
          <p:nvPr/>
        </p:nvPicPr>
        <p:blipFill>
          <a:blip r:embed="rId2"/>
          <a:srcRect l="0" t="0" r="0" b="1990"/>
          <a:stretch/>
        </p:blipFill>
        <p:spPr>
          <a:xfrm>
            <a:off x="5724360" y="1413000"/>
            <a:ext cx="2741760" cy="35287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6"/>
          <p:cNvSpPr/>
          <p:nvPr/>
        </p:nvSpPr>
        <p:spPr>
          <a:xfrm>
            <a:off x="313920" y="195120"/>
            <a:ext cx="84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sultados del dise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Arial"/>
              </a:rPr>
              <a:t>ño del nuevo fil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95280" y="1432080"/>
            <a:ext cx="85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Resultados in situ del nuevo filtro KEP3S (Dallas) Reducci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ón del 93% en la actividad total e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2720" y="2963880"/>
          <a:ext cx="7920000" cy="2995560"/>
        </p:xfrm>
        <a:graphic>
          <a:graphicData uri="http://schemas.openxmlformats.org/drawingml/2006/table">
            <a:tbl>
              <a:tblPr/>
              <a:tblGrid>
                <a:gridCol w="1798560"/>
                <a:gridCol w="1370160"/>
                <a:gridCol w="1438200"/>
                <a:gridCol w="1728720"/>
                <a:gridCol w="1584360"/>
              </a:tblGrid>
              <a:tr h="134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ntes de 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stalarl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enero – febr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pu</a:t>
                      </a: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é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de instalar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(marzo – jun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romedio di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MB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romedio men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GB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romedio di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MB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romedio men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GB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ma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Desechos sólidos de la 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4920" y="1498320"/>
            <a:ext cx="597708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on cubiertas de papel, guantes, viales y jeringuillas vacio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cipientes separados para desechos radiactivos y no radiactiv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 deben almacenar 24 horas antes de eliminarlos como desechos no radiactiv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s desechos deben etiquetarse con la fecha y el radionucleid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 ropa contaminada debe almacenarse durante 24 horas antes de enviar a la lavanderí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 deben mantener los registros correctamen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rcRect l="0" t="3598" r="0" b="1926"/>
          <a:stretch/>
        </p:blipFill>
        <p:spPr>
          <a:xfrm>
            <a:off x="6883560" y="1341360"/>
            <a:ext cx="1504800" cy="18716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385" name="Picture 7" descr=""/>
          <p:cNvPicPr/>
          <p:nvPr/>
        </p:nvPicPr>
        <p:blipFill>
          <a:blip r:embed="rId2"/>
          <a:srcRect l="3898" t="0" r="5472" b="0"/>
          <a:stretch/>
        </p:blipFill>
        <p:spPr>
          <a:xfrm>
            <a:off x="6515280" y="3417840"/>
            <a:ext cx="1657080" cy="28195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Desechos líquidos de la 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80880" y="2077560"/>
            <a:ext cx="7251480" cy="32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n excretas de pacie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Arial"/>
              </a:rPr>
              <a:t>Se requieren sanitarios separados para pacie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Arial"/>
              </a:rPr>
              <a:t>Se deben efectuar cálculos mensuales para para garantizar que no se superan los límites autorizado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Arial"/>
              </a:rPr>
              <a:t>El 30% de la actividad administrada va al desagüe (Reino Unido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3840" y="260280"/>
            <a:ext cx="875016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</a:rPr>
              <a:t>Resumen: Seguridad en el Transporte de material radiactivo, Seguridad Física de las Fuentes y Gestión de los Desechos</a:t>
            </a:r>
            <a:br>
              <a:rPr sz="2800"/>
            </a:b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l transporte se realizará con arreglo a la categoría de la fuen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Es obligatorio llevar una correcta contabilidad de las fuentes, y asimismo se debe documentar su recepción, almacenamiento, sus movimient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La manipulación, almacenamiento y eliminación de desechos se debe realizar según el tipo de desecho (líquido, sólido, aséptica, procedentes de los pacientes, desechos del ciclotrón) aplicando procedimientos locales basados en reglamentaciones naciona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"/>
                <a:ea typeface="MS PGothic"/>
              </a:rPr>
              <a:t>Contenido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76000" y="1731960"/>
            <a:ext cx="7056360" cy="337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Transporte de material radiactiv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Contabilidad de las fuent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Seguridad física de las fuen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echos procedentes d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iclotró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Unidad de PET/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0" name="Picture 4" descr="BOOK_A"/>
          <p:cNvPicPr/>
          <p:nvPr/>
        </p:nvPicPr>
        <p:blipFill>
          <a:blip r:embed="rId1"/>
          <a:stretch/>
        </p:blipFill>
        <p:spPr>
          <a:xfrm>
            <a:off x="4284720" y="5334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arte 9. Seguridad en el Transporte de material radiactivo, Seguridad Física de las Fuentes y Gestión de los Desecho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9.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Transport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5600" y="98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enedores para transpor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74" name="Group 19"/>
          <p:cNvGrpSpPr/>
          <p:nvPr/>
        </p:nvGrpSpPr>
        <p:grpSpPr>
          <a:xfrm>
            <a:off x="4572000" y="3716280"/>
            <a:ext cx="4392720" cy="2171880"/>
            <a:chOff x="4572000" y="3716280"/>
            <a:chExt cx="4392720" cy="2171880"/>
          </a:xfrm>
        </p:grpSpPr>
        <p:pic>
          <p:nvPicPr>
            <p:cNvPr id="275" name="Picture 15" descr=""/>
            <p:cNvPicPr/>
            <p:nvPr/>
          </p:nvPicPr>
          <p:blipFill>
            <a:blip r:embed="rId1"/>
            <a:stretch/>
          </p:blipFill>
          <p:spPr>
            <a:xfrm>
              <a:off x="6069240" y="371628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9"/>
            <p:cNvSpPr/>
            <p:nvPr/>
          </p:nvSpPr>
          <p:spPr>
            <a:xfrm>
              <a:off x="4572000" y="524052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0033"/>
                  </a:solidFill>
                  <a:latin typeface="Arial"/>
                  <a:ea typeface="MS PGothic"/>
                </a:rPr>
                <a:t>Fu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V="1">
              <a:off x="5580000" y="5208480"/>
              <a:ext cx="1798920" cy="247680"/>
            </a:xfrm>
            <a:prstGeom prst="line">
              <a:avLst/>
            </a:prstGeom>
            <a:ln w="507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3635280" y="1197000"/>
            <a:ext cx="5294520" cy="2228760"/>
            <a:chOff x="3635280" y="1197000"/>
            <a:chExt cx="5294520" cy="2228760"/>
          </a:xfrm>
        </p:grpSpPr>
        <p:pic>
          <p:nvPicPr>
            <p:cNvPr id="279" name="Picture 13" descr=""/>
            <p:cNvPicPr/>
            <p:nvPr/>
          </p:nvPicPr>
          <p:blipFill>
            <a:blip r:embed="rId2"/>
            <a:stretch/>
          </p:blipFill>
          <p:spPr>
            <a:xfrm>
              <a:off x="3635280" y="11970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6"/>
            <p:cNvSpPr/>
            <p:nvPr/>
          </p:nvSpPr>
          <p:spPr>
            <a:xfrm>
              <a:off x="6700680" y="1254240"/>
              <a:ext cx="22291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3366cc"/>
                  </a:solidFill>
                  <a:latin typeface="Arial"/>
                </a:rPr>
                <a:t>Relleno posiciona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3366cc"/>
                  </a:solidFill>
                  <a:latin typeface="Arial"/>
                </a:rPr>
                <a:t>Contenedor de plo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 flipH="1">
              <a:off x="5710320" y="1484280"/>
              <a:ext cx="1022400" cy="608040"/>
            </a:xfrm>
            <a:prstGeom prst="line">
              <a:avLst/>
            </a:prstGeom>
            <a:ln w="507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H="1">
              <a:off x="5328720" y="2320920"/>
              <a:ext cx="1295640" cy="0"/>
            </a:xfrm>
            <a:prstGeom prst="line">
              <a:avLst/>
            </a:prstGeom>
            <a:ln w="507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0"/>
          <p:cNvGrpSpPr/>
          <p:nvPr/>
        </p:nvGrpSpPr>
        <p:grpSpPr>
          <a:xfrm>
            <a:off x="179280" y="981000"/>
            <a:ext cx="5112000" cy="5029920"/>
            <a:chOff x="179280" y="981000"/>
            <a:chExt cx="5112000" cy="5029920"/>
          </a:xfrm>
        </p:grpSpPr>
        <p:sp>
          <p:nvSpPr>
            <p:cNvPr id="284" name="Text Box 7"/>
            <p:cNvSpPr/>
            <p:nvPr/>
          </p:nvSpPr>
          <p:spPr>
            <a:xfrm>
              <a:off x="179280" y="4581360"/>
              <a:ext cx="511200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  <a:ea typeface="MS PGothic"/>
                </a:rPr>
                <a:t>Contene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Bulto de transporte =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1" lang="en-GB" sz="1600" spc="-1" strike="noStrike">
                  <a:solidFill>
                    <a:srgbClr val="990033"/>
                  </a:solidFill>
                  <a:latin typeface="Arial"/>
                  <a:ea typeface="MS PGothic"/>
                </a:rPr>
                <a:t>contenido radiac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1" lang="en-GB" sz="16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+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1" lang="en-GB" sz="1600" spc="-1" strike="noStrike">
                  <a:solidFill>
                    <a:srgbClr val="3366cc"/>
                  </a:solidFill>
                  <a:latin typeface="Arial"/>
                  <a:ea typeface="MS PGothic"/>
                </a:rPr>
                <a:t>embal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2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2400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Line 18"/>
            <p:cNvSpPr/>
            <p:nvPr/>
          </p:nvSpPr>
          <p:spPr>
            <a:xfrm flipV="1">
              <a:off x="539640" y="4148280"/>
              <a:ext cx="216000" cy="50472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4856040" y="328464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  <a:ea typeface="MS PGothic"/>
              </a:rPr>
              <a:t>Para devolver al prov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731960" y="1413000"/>
            <a:ext cx="2695680" cy="40384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Índice de transporte (TI)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0" name="Object 3"/>
          <p:cNvGraphicFramePr/>
          <p:nvPr/>
        </p:nvGraphicFramePr>
        <p:xfrm>
          <a:off x="1295280" y="2057400"/>
          <a:ext cx="678204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7820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Line 4"/>
          <p:cNvSpPr/>
          <p:nvPr/>
        </p:nvSpPr>
        <p:spPr>
          <a:xfrm flipV="1">
            <a:off x="5562720" y="2742840"/>
            <a:ext cx="1981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021360" y="304812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MS PGothic"/>
              </a:rPr>
              <a:t>1.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4"/>
          <p:cNvGrpSpPr/>
          <p:nvPr/>
        </p:nvGrpSpPr>
        <p:grpSpPr>
          <a:xfrm>
            <a:off x="1187280" y="4941720"/>
            <a:ext cx="7416720" cy="1026000"/>
            <a:chOff x="1187280" y="4941720"/>
            <a:chExt cx="7416720" cy="1026000"/>
          </a:xfrm>
        </p:grpSpPr>
        <p:sp>
          <p:nvSpPr>
            <p:cNvPr id="295" name="Text Box 6"/>
            <p:cNvSpPr/>
            <p:nvPr/>
          </p:nvSpPr>
          <p:spPr>
            <a:xfrm>
              <a:off x="2071080" y="4941720"/>
              <a:ext cx="653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max tasa de dosis a 1.0m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1" lang="en-GB" sz="32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Sv/h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4910760" y="53863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187280" y="5170320"/>
              <a:ext cx="116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  <a:ea typeface="MS PGothic"/>
                </a:rPr>
                <a:t>TI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>
              <a:off x="2193480" y="5457600"/>
              <a:ext cx="6179040" cy="0"/>
            </a:xfrm>
            <a:prstGeom prst="line">
              <a:avLst/>
            </a:prstGeom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  <a:ea typeface="MS PGothic"/>
              </a:rPr>
              <a:t>Etiqueta Blanca-I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876560" y="2762280"/>
            <a:ext cx="4001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&lt; 5.0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&lt; 0.05 </a:t>
            </a:r>
            <a:r>
              <a:rPr b="1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Sv/h a 1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MS PGothic"/>
              </a:rPr>
              <a:t>T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4000680" cy="347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20Z</dcterms:created>
  <dc:creator>rmorton</dc:creator>
  <dc:description/>
  <dc:language>en-US</dc:language>
  <cp:lastModifiedBy>NADER, Alejandro</cp:lastModifiedBy>
  <cp:lastPrinted>2010-05-18T14:01:44Z</cp:lastPrinted>
  <dcterms:modified xsi:type="dcterms:W3CDTF">2011-05-13T16:34:31Z</dcterms:modified>
  <cp:revision>184</cp:revision>
  <dc:subject/>
  <dc:title>Operational considerations with PET/CT</dc:title>
</cp:coreProperties>
</file>