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11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12"/>
          </p:nvPr>
        </p:nvSpPr>
        <p:spPr>
          <a:xfrm>
            <a:off x="0" y="941040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13"/>
          </p:nvPr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3A4705-C1F6-4421-B89F-BAFEFB5005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50000" cy="37134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arcador de pie de página 1"/>
          <p:cNvSpPr/>
          <p:nvPr/>
        </p:nvSpPr>
        <p:spPr>
          <a:xfrm>
            <a:off x="0" y="941076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Marcador de pie de página 1"/>
          <p:cNvSpPr/>
          <p:nvPr/>
        </p:nvSpPr>
        <p:spPr>
          <a:xfrm>
            <a:off x="0" y="941076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arcador de pie de página 1"/>
          <p:cNvSpPr/>
          <p:nvPr/>
        </p:nvSpPr>
        <p:spPr>
          <a:xfrm>
            <a:off x="0" y="941076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arcador de pie de página 1"/>
          <p:cNvSpPr/>
          <p:nvPr/>
        </p:nvSpPr>
        <p:spPr>
          <a:xfrm>
            <a:off x="0" y="941076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Marcador de pie de página 1"/>
          <p:cNvSpPr/>
          <p:nvPr/>
        </p:nvSpPr>
        <p:spPr>
          <a:xfrm>
            <a:off x="0" y="941076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Marcador de pie de página 1"/>
          <p:cNvSpPr/>
          <p:nvPr/>
        </p:nvSpPr>
        <p:spPr>
          <a:xfrm>
            <a:off x="0" y="941076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Marcador de pie de página 1"/>
          <p:cNvSpPr/>
          <p:nvPr/>
        </p:nvSpPr>
        <p:spPr>
          <a:xfrm>
            <a:off x="0" y="941076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Marcador de pie de página 1"/>
          <p:cNvSpPr/>
          <p:nvPr/>
        </p:nvSpPr>
        <p:spPr>
          <a:xfrm>
            <a:off x="0" y="941076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Marcador de pie de página 1"/>
          <p:cNvSpPr/>
          <p:nvPr/>
        </p:nvSpPr>
        <p:spPr>
          <a:xfrm>
            <a:off x="0" y="941076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Marcador de pie de página 1"/>
          <p:cNvSpPr/>
          <p:nvPr/>
        </p:nvSpPr>
        <p:spPr>
          <a:xfrm>
            <a:off x="0" y="941076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15A595-DB01-4F04-9D98-DD14ACCD35F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9234A-94D2-4050-8450-E0BC004EF6E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2F126-4F65-47B7-A7DA-2706AC46DB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9161F-9E79-4220-AD0D-7E6A13D86C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827237-7740-4FB3-8F9E-ECB6BBAE082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DAFD9-7E95-4264-A008-304E3D0DC9A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AE1DEE-D1E0-45CF-99E7-8A76537E11B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E7CE0-55B6-4FBE-8309-8E187B945F2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D89A7-619A-468F-BB9D-A34AA780F8F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353B6-82F3-461C-B022-DA52018C4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05A79-BCB4-42E3-8866-576E4E8768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E6AD2-0071-4166-9B51-D577D510F1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38591-FBD1-40D4-ACB7-B717C29835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1D655-4E40-4296-A1F9-0735859A3F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6C92C-00CC-4FE7-BF1C-43E9959B98C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6AC0C-E169-4D71-90B8-E94E9ED6FA2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19BB0-1C95-4447-92D5-94661FE85F1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293D2-66CE-483B-9B66-AAB55D5D996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8247F-EF71-413C-AC32-59D39AB9EB3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61918-73E9-4B1F-86BE-EA5F009F5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D06B4-9955-4087-8BBA-B625D8CD5D9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462A-851F-491C-B55C-D1B6008848C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B221-E7F6-4C18-8B16-FF7F1972149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7A5E-E37E-42BB-9CF1-0CB630075F7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A0A7-604D-4BD0-A678-6C8094C744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51CD-A386-4F72-870B-CEE08753EEC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CB33-C56A-4F43-83F9-FFA3DB1E832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FFC9-ACBE-45BC-A104-7ADEFFC01EB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12734-9E20-456D-B732-78404253CDB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3ADB-96EC-4CAB-9595-67F19921E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395F8-4C83-43BE-A390-721F6159D2D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23E0-D1C3-4EBC-8B0A-1C7676A6D63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4BD3-11B9-4230-AF68-C5C9F2D8746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A56444-B8AC-4D06-9FC2-2975B05B12A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8B9EE-BF40-40EF-86EC-77A78912F3C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9510F-5D35-46C6-A41E-7DCF3ADEB16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03CE9-CC48-4ACC-B789-C9148EEA2FA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14DCB-CAC7-4154-9FDA-A33AE6DFBC8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15FED-F125-4D67-BCF0-F393EE826A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B6978-8BF0-48C3-99C2-218E5E74CB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ED672-5D1A-423C-9283-57018282EB6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34BC0-EAC8-46A4-8ECE-1DAD748F2A6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18A6B8-19EA-49E2-B3CD-25973722B70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5C2DA-19A3-4AAB-85B1-6D17D160419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B836A-FC48-4273-9C09-C03545C4C3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DE1B-175F-45C7-98CF-EFE94B7D88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5C39-DE7B-41DB-878F-86328BC169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CFE0-FD10-466B-B6DB-CE0F42CE16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81AD-76D3-4D5D-B70A-D8F69CE2B4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343D-3D0D-495D-9F69-9981B5F17F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5694-D619-411E-930F-2F2323DB91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4C28-1EB4-49EA-A28F-DEEAE5AC4C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5CEA-863C-4BD0-83FB-9900914BB6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A801-93A8-4627-B564-D1B7D8B2E5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E43D-1666-4BD4-B411-8A5414176A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FB1A-7BDF-475C-8DDD-EBA2708AD1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59C5-3D53-41C8-A836-3447045506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30DE-158D-41BF-A725-E9CC442ACA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6D1E-9E54-4EC2-A854-097A6111B3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A365-96C6-46CD-AB7A-E11B6F093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60A7-EECD-4680-B1B7-01A40D9436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C1EF-14C1-40D6-A58A-D2EE9FCBE3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2F64-1906-4306-9DD3-0C0BAA8EFB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A230-5E4B-478B-B289-46D9172F72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0AEB-4E4A-43D5-B413-66EBDF6A31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C64A-526E-4EFE-939D-2AF044BCECE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1341-C0B2-47A9-AAB6-7C243D6FC1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59CB-FA89-465C-8F26-AE1FB832AA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396F-2193-4C87-B1FF-1900B4289D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734-D212-45FC-B77B-6D1FCD2E1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837-75DD-4A7B-8F27-E4107AECAD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DD8-53E8-4096-8F03-96F9B69EB6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88D-4EEB-430B-A9DE-E208D239473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9B0-C189-4C0E-8163-67A5CFFBB0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362-E4E7-49AA-BB2C-52B129591A1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0D2-0E15-426C-9E43-7F9A8011286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3C0-997A-4F8D-A51F-0DB3EF1E2C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6CD-CF7A-4581-9780-089115EAE52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566-957A-4F2B-AA52-EE37DCE18C1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DF9-7E83-406A-AB96-7CBEBAF3D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8AC-1066-4A48-AECD-39998BCEF02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28C3E-25B5-4EAC-8AC4-0864F5FB79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A0F5F-A9B6-430F-8A02-3235FF0080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37469-B01E-4CC9-92A1-CD4679587E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C3D4A-C741-424C-96A6-D92864DE736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DB59A-FF66-48F4-B525-50201AD537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98839-80AC-4D96-AE14-F30B2D03C35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BD997-3D9B-468E-9287-E406AB00F8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2FEF4-08D6-4168-BE44-9F46E56BC8D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6C7F4-42AE-44AF-A1E8-EBCBCCF60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81C92-8DEB-430A-B1A2-4A6322B95C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7027F-4D3D-435A-8E77-1D5D9B12A8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1F821-D445-49DA-BF82-30BBE2730C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E7986-778E-4DA1-92CD-9F30698E583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CD549-85EB-4529-85DB-C3089CA5C9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B03DF-F6DB-4755-8D82-A88D747FAA4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C7451-4A49-458E-ACD3-292ADE8B7D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E74B0-C569-4F26-8306-57F4EC6971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31C9A-9A6F-40E6-A2CB-BAE87A806D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24E76-5727-4286-B91B-EB3CCF041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9BD81-6A6D-4271-B699-6A46655297B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419E6-ED05-4818-BF4B-7A01B36E78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D7CB1-015B-47F5-8906-0EBEE8CBAC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1CD48-6CF2-4CF7-B00E-967A38E3828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A15CE-A1A1-4ECC-B665-BF6AD8877C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8F4D-086C-44FD-B8EC-22149A4FDE2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7B6D-7BA2-4DCC-8B01-3D0751D77B5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6FEA-2068-49C2-B206-49F1FC5E8F9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8931-8B0F-40DF-924F-5DACBBF6FA4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A965-AD06-40DF-8BC5-8F9EB7D19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7700-1DD3-43B0-9E65-DD98A8AC60C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C5E9-756A-45FD-96D3-C1736DBDCC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990B-5B31-46A9-ADA2-DFB6A87FC8D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6939-B3CE-473B-99C5-FD1A77B803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B256-E324-41A8-A94B-39073269D14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AE8D-F2D3-4A61-834D-554410F78F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88C0-C17B-4EB7-83F5-38B7C6349B4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C298D-FDCF-4F60-B13B-91CBA01DEA6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0DA02-4A74-48F1-852A-F4E786EC529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A9F4B-647E-41F0-8DA3-4A790499E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6 CuadroTexto"/>
          <p:cNvSpPr/>
          <p:nvPr/>
        </p:nvSpPr>
        <p:spPr>
          <a:xfrm>
            <a:off x="2340000" y="643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0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16 CuadroTexto"/>
          <p:cNvSpPr/>
          <p:nvPr/>
        </p:nvSpPr>
        <p:spPr>
          <a:xfrm>
            <a:off x="2340000" y="643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Num" idx="8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B07A-1248-43F8-A6AD-0E8F87E40C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47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16 CuadroTexto"/>
          <p:cNvSpPr/>
          <p:nvPr/>
        </p:nvSpPr>
        <p:spPr>
          <a:xfrm>
            <a:off x="2340000" y="643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9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1813-AC5A-4C73-940F-7BAA2EACC1E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9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16 CuadroTexto"/>
          <p:cNvSpPr/>
          <p:nvPr/>
        </p:nvSpPr>
        <p:spPr>
          <a:xfrm>
            <a:off x="2340000" y="643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10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BADF-CB4C-4C99-8A4F-72D28B3E962B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33219" t="32303" r="34288" b="32623"/>
          <a:stretch/>
        </p:blipFill>
        <p:spPr>
          <a:xfrm>
            <a:off x="3740040" y="404640"/>
            <a:ext cx="1598760" cy="1381320"/>
          </a:xfrm>
          <a:prstGeom prst="rect">
            <a:avLst/>
          </a:prstGeom>
          <a:ln w="31680">
            <a:solidFill>
              <a:srgbClr val="6598ff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86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16 CuadroTexto"/>
          <p:cNvSpPr/>
          <p:nvPr/>
        </p:nvSpPr>
        <p:spPr>
          <a:xfrm>
            <a:off x="2340000" y="643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09B0-4CFC-49D5-9E62-4514A3ADD3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131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6 CuadroTexto"/>
          <p:cNvSpPr/>
          <p:nvPr/>
        </p:nvSpPr>
        <p:spPr>
          <a:xfrm>
            <a:off x="2340000" y="643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7 CuadroTexto"/>
          <p:cNvSpPr/>
          <p:nvPr/>
        </p:nvSpPr>
        <p:spPr>
          <a:xfrm>
            <a:off x="2340000" y="6434280"/>
            <a:ext cx="518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2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5E4C-2EA3-45A7-8213-8D27A5709D4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177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16 CuadroTexto"/>
          <p:cNvSpPr/>
          <p:nvPr/>
        </p:nvSpPr>
        <p:spPr>
          <a:xfrm>
            <a:off x="2340000" y="643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3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544C-D865-451B-AF82-06C84F1E8FC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22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16 CuadroTexto"/>
          <p:cNvSpPr/>
          <p:nvPr/>
        </p:nvSpPr>
        <p:spPr>
          <a:xfrm>
            <a:off x="2340000" y="643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4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BC0A-D076-448A-8B48-0B06ED824AC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267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16 CuadroTexto"/>
          <p:cNvSpPr/>
          <p:nvPr/>
        </p:nvSpPr>
        <p:spPr>
          <a:xfrm>
            <a:off x="2340000" y="643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5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E429-DBB9-4DB8-9023-9B976E7A6B3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1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16 CuadroTexto"/>
          <p:cNvSpPr/>
          <p:nvPr/>
        </p:nvSpPr>
        <p:spPr>
          <a:xfrm>
            <a:off x="2340000" y="643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6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4E10-4B5E-4AF9-8330-BFCB1FC89B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57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16 CuadroTexto"/>
          <p:cNvSpPr/>
          <p:nvPr/>
        </p:nvSpPr>
        <p:spPr>
          <a:xfrm>
            <a:off x="2340000" y="643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7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405A-C7D2-4628-AD1F-ED8BE9B7E67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250920" y="2924280"/>
            <a:ext cx="8713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sentation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DUSTRIAL RADIOGRAPH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HODOLOGY FOR DOSE ESTIMATES IN ACCIDENT CONDIT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250920" y="5418000"/>
            <a:ext cx="87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ernational Atomic Energy Agency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Picture 5" descr="VIC image"/>
          <p:cNvPicPr/>
          <p:nvPr/>
        </p:nvPicPr>
        <p:blipFill>
          <a:blip r:embed="rId1"/>
          <a:stretch/>
        </p:blipFill>
        <p:spPr>
          <a:xfrm>
            <a:off x="1517760" y="1231920"/>
            <a:ext cx="6005520" cy="4572000"/>
          </a:xfrm>
          <a:prstGeom prst="rect">
            <a:avLst/>
          </a:prstGeom>
          <a:ln w="0">
            <a:noFill/>
          </a:ln>
        </p:spPr>
      </p:pic>
      <p:sp>
        <p:nvSpPr>
          <p:cNvPr id="592" name="5 Marcador de número de diapositiva"/>
          <p:cNvSpPr/>
          <p:nvPr/>
        </p:nvSpPr>
        <p:spPr>
          <a:xfrm>
            <a:off x="7843680" y="6475320"/>
            <a:ext cx="65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6514-A088-4A28-B569-4241C70CA55C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2 Marcador de número de diapositiva"/>
          <p:cNvSpPr/>
          <p:nvPr/>
        </p:nvSpPr>
        <p:spPr>
          <a:xfrm>
            <a:off x="7843680" y="6475320"/>
            <a:ext cx="65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EEC2-C367-444C-8A6C-91FDDA1ED8D6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395280" y="13737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 algn="just"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 of dose estimates in industrial practice installations during accident condit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ds1"/>
          <p:cNvPicPr/>
          <p:nvPr/>
        </p:nvPicPr>
        <p:blipFill>
          <a:blip r:embed="rId1">
            <a:lum bright="20000"/>
          </a:blip>
          <a:srcRect l="19136" t="9888" r="15344" b="5787"/>
          <a:stretch/>
        </p:blipFill>
        <p:spPr>
          <a:xfrm>
            <a:off x="5796000" y="4402080"/>
            <a:ext cx="1219320" cy="172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8" name="Picture 4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230328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250920" y="1144440"/>
            <a:ext cx="84978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estimations of doses in conditions of accident start from identifying the main scenarios, that because of their probability and the consequences, could happen in extreme conditions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 is recommended to analyze accident scenarios previously occurr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468360" y="3068640"/>
            <a:ext cx="4895640" cy="2364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ose estimates are required for people who may be affected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ccupationally Exposed Personnel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Members of the Public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4" descr="ds1"/>
          <p:cNvPicPr/>
          <p:nvPr/>
        </p:nvPicPr>
        <p:blipFill>
          <a:blip r:embed="rId1">
            <a:lum bright="20000"/>
          </a:blip>
          <a:srcRect l="19136" t="9888" r="15344" b="5787"/>
          <a:stretch/>
        </p:blipFill>
        <p:spPr>
          <a:xfrm>
            <a:off x="7524720" y="4869000"/>
            <a:ext cx="1219320" cy="172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52" name="Picture 4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303640" cy="15033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1332000" y="1159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"/>
          <p:cNvSpPr/>
          <p:nvPr/>
        </p:nvSpPr>
        <p:spPr>
          <a:xfrm>
            <a:off x="250920" y="1125360"/>
            <a:ext cx="8642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st important scenarios in the practice of Gamma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CuadroTexto 1"/>
          <p:cNvSpPr/>
          <p:nvPr/>
        </p:nvSpPr>
        <p:spPr>
          <a:xfrm>
            <a:off x="250920" y="1773360"/>
            <a:ext cx="88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lockage of the source of the gammagraphy equipment when the source is exposed</a:t>
            </a: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oss of a source of Gammagraphy during storage or transportation</a:t>
            </a: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advertent entry of a worker or a member of the public to the controlled area while the source is exposed</a:t>
            </a: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adverted permanence of an operator or a member of the public within the controlled area, while the source is exposed</a:t>
            </a: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50920" y="204840"/>
            <a:ext cx="88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ENARI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Imagen 1" descr=""/>
          <p:cNvPicPr/>
          <p:nvPr/>
        </p:nvPicPr>
        <p:blipFill>
          <a:blip r:embed="rId1"/>
          <a:stretch/>
        </p:blipFill>
        <p:spPr>
          <a:xfrm>
            <a:off x="3348000" y="4019400"/>
            <a:ext cx="31147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179280" y="1916280"/>
            <a:ext cx="871380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nerally, there are two different conditions of exposure of the person in this scenario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6360" algn="just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source is in contact with the body (in the hand or in a pocket) during a certain time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6360" algn="just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source is at a distance "d" of the person for a certain time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79280" y="981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ss of a source of Gammagraphy during storage or transportation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55520" y="260280"/>
            <a:ext cx="89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ENARI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Imagen 2" descr=""/>
          <p:cNvPicPr/>
          <p:nvPr/>
        </p:nvPicPr>
        <p:blipFill>
          <a:blip r:embed="rId1"/>
          <a:stretch/>
        </p:blipFill>
        <p:spPr>
          <a:xfrm>
            <a:off x="2163600" y="4221000"/>
            <a:ext cx="474372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250920" y="3211560"/>
            <a:ext cx="85690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s the conversion factor of the absorbed dose rate, applied to the soft tissue absorbed dose. ( Table 14 y 15 EPR-D-VALUES 2006) (For I-192 F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= 8.5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Gy/Bq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), (For Cs-137 F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= 5.9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Gy/Bq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), (For Am-Be (ᵧ+n) sources ,F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= 8.9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-17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Gy/Bq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s the period of time the person keeps the source in contact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,</a:t>
            </a:r>
            <a:r>
              <a:rPr b="1" lang="es-MX" sz="28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s the initial Activity of the source (assuming conservative consideration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108000" y="1341360"/>
            <a:ext cx="777564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ose received by the person due to the possession of the source, in contact with the body, during a certain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4" descr="ds1"/>
          <p:cNvPicPr/>
          <p:nvPr/>
        </p:nvPicPr>
        <p:blipFill>
          <a:blip r:embed="rId1">
            <a:lum bright="20000"/>
          </a:blip>
          <a:srcRect l="19136" t="9888" r="15344" b="5787"/>
          <a:stretch/>
        </p:blipFill>
        <p:spPr>
          <a:xfrm>
            <a:off x="7883640" y="1382760"/>
            <a:ext cx="1189080" cy="1685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66" name="Text Box 9"/>
          <p:cNvSpPr/>
          <p:nvPr/>
        </p:nvSpPr>
        <p:spPr>
          <a:xfrm>
            <a:off x="2484360" y="2284560"/>
            <a:ext cx="5473800" cy="61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s-ES" sz="30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1" lang="es-E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= F</a:t>
            </a:r>
            <a:r>
              <a:rPr b="1" lang="en-US" sz="30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000" spc="-1" strike="noStrike" baseline="-25000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 T</a:t>
            </a:r>
            <a:r>
              <a:rPr b="1" lang="en-US" sz="30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000" spc="-1" strike="noStrike" baseline="-25000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 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811080" y="262080"/>
            <a:ext cx="74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E ESTI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3"/>
          <p:cNvSpPr/>
          <p:nvPr/>
        </p:nvSpPr>
        <p:spPr>
          <a:xfrm>
            <a:off x="179280" y="2027160"/>
            <a:ext cx="830736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he dose rate by Irradiation can be determined by equation</a:t>
            </a:r>
            <a:r>
              <a:rPr b="0" lang="es-MX" sz="2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Γ, is the gamma constant for the radioisotope used 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Γ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I-192 is 0.135 mSv m2/ G</a:t>
            </a: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q h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A,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s the activity of the source</a:t>
            </a: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d,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s the distance between the source and the person irradiated</a:t>
            </a:r>
            <a:r>
              <a:rPr b="0" i="1" lang="es-MX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179280" y="976320"/>
            <a:ext cx="853308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ose received by people due to placement of the source at a distance "d" from these people, for a certain time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4" descr="ds1"/>
          <p:cNvPicPr/>
          <p:nvPr/>
        </p:nvPicPr>
        <p:blipFill>
          <a:blip r:embed="rId1">
            <a:lum bright="20000"/>
          </a:blip>
          <a:srcRect l="19148" t="9913" r="15369" b="5824"/>
          <a:stretch/>
        </p:blipFill>
        <p:spPr>
          <a:xfrm>
            <a:off x="8048520" y="1539720"/>
            <a:ext cx="876240" cy="124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1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8"/>
              <p:cNvSpPr txBox="1"/>
              <p:nvPr/>
            </p:nvSpPr>
            <p:spPr>
              <a:xfrm>
                <a:off x="3419640" y="2314440"/>
                <a:ext cx="1512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Text Box 10"/>
          <p:cNvSpPr/>
          <p:nvPr/>
        </p:nvSpPr>
        <p:spPr>
          <a:xfrm>
            <a:off x="3709440" y="2746440"/>
            <a:ext cx="30096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i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395280" y="5221440"/>
            <a:ext cx="8640720" cy="99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H 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T,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t is the time of permanence of the person under conditions of irradi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884160" y="187200"/>
            <a:ext cx="80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E ESTIMATION FOR GAMMA 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CuadroTexto 1"/>
          <p:cNvSpPr/>
          <p:nvPr/>
        </p:nvSpPr>
        <p:spPr>
          <a:xfrm>
            <a:off x="264960" y="4816440"/>
            <a:ext cx="855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dose received by the person by irradiation “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” is calculated by the equ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3"/>
          <p:cNvSpPr/>
          <p:nvPr/>
        </p:nvSpPr>
        <p:spPr>
          <a:xfrm>
            <a:off x="334800" y="2095560"/>
            <a:ext cx="889344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total dose received by a person exposed to a source of neutrons includes two fundamental component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dose received by the GAMMA radiation, associated with the ALPHA and GAMMA emitting isotopes, containing the neutron source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dose due to neutron radiation emitted by these source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326880" y="1228680"/>
            <a:ext cx="853308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ose received by people due to placement of the neutron source at a distance "d", for a certain period of time.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466560" y="4208400"/>
            <a:ext cx="597708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e dose due to GAMMA radiation is estimated in a manner similar to that described abo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6443640" y="4672080"/>
            <a:ext cx="2398680" cy="155556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6"/>
          <p:cNvSpPr/>
          <p:nvPr/>
        </p:nvSpPr>
        <p:spPr>
          <a:xfrm>
            <a:off x="828720" y="22212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E ESTIMATION FOR NEUTRON 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3"/>
          <p:cNvSpPr/>
          <p:nvPr/>
        </p:nvSpPr>
        <p:spPr>
          <a:xfrm>
            <a:off x="306360" y="2152800"/>
            <a:ext cx="830736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he dose rate per neutron can be determined by the following equation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=A*E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 = (C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d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Ø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/4π(d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f</a:t>
            </a: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s-MX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s the efficiency of the ALFA-NEUTRON reaction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dn,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is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 neutron dose coefficient, for neutrons of 5.45 MeV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s the dose rate per neutr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s the distance between the neutron source and the exposed person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306360" y="1206360"/>
            <a:ext cx="853128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ose received by people due to placement of the neutron source at a distance "d“, for a certain period of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3170160" y="5397480"/>
            <a:ext cx="5327640" cy="61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= H </a:t>
            </a:r>
            <a:r>
              <a:rPr b="1" lang="en-US" sz="3000" spc="-1" strike="noStrike" baseline="-25000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3000" spc="-1" strike="noStrike">
                <a:solidFill>
                  <a:srgbClr val="333399"/>
                </a:solidFill>
                <a:latin typeface="Arial"/>
              </a:rPr>
              <a:t>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6084720" y="2997360"/>
            <a:ext cx="2399040" cy="15555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6"/>
          <p:cNvSpPr/>
          <p:nvPr/>
        </p:nvSpPr>
        <p:spPr>
          <a:xfrm>
            <a:off x="828720" y="29052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E ESTIMATION FOR NEUTRON 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CuadroTexto 1"/>
          <p:cNvSpPr/>
          <p:nvPr/>
        </p:nvSpPr>
        <p:spPr>
          <a:xfrm>
            <a:off x="306360" y="5977080"/>
            <a:ext cx="504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T, is the time used in the manipulation of the source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7:36:05Z</dcterms:created>
  <dc:creator>TSA1</dc:creator>
  <dc:description/>
  <dc:language>en-US</dc:language>
  <cp:lastModifiedBy>DRÁBOVÁ, Veronika</cp:lastModifiedBy>
  <cp:lastPrinted>2018-07-30T14:57:51Z</cp:lastPrinted>
  <dcterms:modified xsi:type="dcterms:W3CDTF">2020-01-27T10:09:41Z</dcterms:modified>
  <cp:revision>1167</cp:revision>
  <dc:subject/>
  <dc:title>L03 Evaluacion de Seguridad GSR Parte 4 (II)</dc:title>
</cp:coreProperties>
</file>