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12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13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uación de Seguridad en Instalaciones Radia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14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3B9BAF-1F03-45ED-8AAF-E254EFCE8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resultados de las 64 posibles combinaciones de las tres variables, atendiendo a la lógica general de combinación de variables de la metodología, dan como resultado 4 niveles de riesgo que son muy alto, alto, medio y bajo y que se organizan atendiendo a la matriz que se muestra en la presente diaposi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esta manera la aplicación de la metodología implica analizar todos los posibles errores humanos y fallos de equipos que potencialmente pudieran ocurrir (sucesos iniciadores) y evaluar en cada uno de ellos la frecuencia , la probabilidad y las consecuencias y entonces una vez que se han asignado niveles a estas variables independiente es posible entrar con esos valores a la matriz que se presenta en la diapositiva y buscar cual de las 64 combinaciones se corresponde con la evaluación que hemos realizado para las 3 variables independientes (f,p,C) y obtener así el riesgo de la secuencia accidental analiz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figura muestra cómo un determinado error humano o fallo de equipo (suceso iniciador), que ocurre con una frecuencia determinada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puede dar lugar a las consecuencias indesea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istirán en el equipo o en el servicio de radioterapia una serie de defensas, que pueden consistir en una o varias barreras (enclavamientos, alarmas o procedimientos) capaces de detectar el problema e impedir que el suceso iniciador se convierta en un accidente. Sin embargo, cada una de estas barreras puede fallar con una determinada probabilidad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en cuyo caso ocurriría el accidente, que se manifestaría en unas consecuencias determinadas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gnitud que caracteriza finalmente la secuencia accidental es el riesgo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que es función de las tres variables independientes, la frecuencia del suceso iniciador, la probabilidad de fallo de las barreras y la gravedad de las consecuenc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3E418-395F-4AC2-8409-77BBF6B6A4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4DA82-0B0A-448B-99B7-82B8C642EE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2F36A-5444-4D3F-8279-A5FE60D463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D6A94-D762-4788-96C8-57AE8416A3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16CA6-D81F-4C1B-BD29-C170EA3DA2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AB30A-8C0F-4A8A-BF68-09CCBCF1F0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90E87-14A4-43DD-8133-F69E6DDDA4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535D7-2809-4215-BF07-08A1A76789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16CAB-30E1-4D25-A048-845A25A843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2F66A-F65D-43E9-9202-F4970E27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D8F3C-0605-4085-B8E8-36430E8875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8357C-593A-49C6-9F06-A8D36CF96A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FF1DA-20B0-4714-8E22-0EE41DDD3AE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4B8EF-2D7F-46C1-BDB8-5DE1BE73C7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6C32F-F648-4CBD-8369-C08189E981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0F279-AD75-4DB0-A0AF-94EE6F8DBE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9769A-3302-43D8-8693-6376640868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F65BA-FEFE-4DF1-BA33-4B060569AB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36578-999C-469A-8B6E-EBB25F01E4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DE052-D568-4FBD-8BBB-212B0599F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A227A-0AF8-4633-A70A-C7D4D71A6D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D84B-9D7E-468B-9C78-C306631613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F12F-3B88-4673-96AE-052563F4CA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8893-997C-413A-BB9A-0D847AC6712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E726-40FF-4C4E-9EC2-4E32A1ED21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1C77-68BD-4040-B482-3A073688AB4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F6B0-5E8C-4E02-ABDC-FE674077BAB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38B9-4C6E-41FA-A24E-AB67DFA1D3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A9F3-42B0-4032-9BF5-0ACCDA1A7D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8FEA-1C26-4FFE-BBA0-506FBEA11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9E29-31F3-4607-AE73-EF6B8E4F14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8D5C-1311-4CAE-8AC9-16BE54D860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24C1-DAA1-4CBC-93C4-9373FF50FA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EACD9-D88B-4D62-86EA-DAF5522AF3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1B1E6-8645-45D0-9268-9C823CAF37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47E01-6402-4D99-A4F4-A742DE6272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CC7F3-903F-492F-8D04-BE0DD5736D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AF853-7985-4853-B42B-C078B0E02F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7FC9D-4705-453E-91A1-15FC072237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22160-3402-4E4A-926E-5D3CB5AB6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27B4E-8A43-4B65-9C50-A353C4C97D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1AABF-D9CA-4959-A06B-FE050EE1CB0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EEC97-D2BB-4861-90E6-0DBA5435C2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7E8B5-F2BB-4FEF-8C31-2EAA8D3A1D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62989-4691-4505-BE30-74A681ABB5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9F37E-0FB7-4C5E-89AE-C8C6EB961B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427CD-8AAB-455A-98CF-C631C7DA95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3E832-4AA8-4967-B466-086C17963B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97AB2-F4B1-4238-9A65-75D6693C0F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07FEC-1181-4C82-9128-8D9C1570B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2D3BC-4B63-4078-B3DB-7659D098B3F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1BA30-CD11-4857-9B7A-E2BDD599A4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12D6A-300F-4F35-8ECD-46D1797E709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4A8FC-B1AA-4760-8508-C705FAFADA2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F311D-3389-4E85-AE98-7EEA23925B6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DFD06-872D-4896-AE39-495967F3F5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F91BD-E8AA-4407-8C15-8B3D197A4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9329-1422-4BFF-B329-0725B12506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8AA6-0BBC-474E-9179-952581C344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39F2-EA8F-4013-9F66-7C781A7CB8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DCC8-4708-4699-8310-72B0BB0CB8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4CED-D37D-47A6-8844-DAD6903B4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33D-2B83-4B23-B592-7C76F042F8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A7F3-73D8-4F83-BECB-5E5565810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E93F-E87B-4D3D-AC6B-1A172CEBE3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D61A-606F-48F8-9AF0-C8690BD9A4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AB66-05F5-44C3-A135-2A7E24D25C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E98F-A4ED-4E14-AF10-657B7C93E4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4ECA-313D-49E2-8081-6A5E87FE2F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9AB7-04D8-4526-8D14-CE32F79E01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4F09-CEF2-41A4-864F-565D551DF1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3209-69D0-48F4-B376-566679903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9C6C-68C9-4227-BB21-45277AB356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1784-6D68-4C8B-8142-8E9A45BF28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AB2F-C584-42C7-8C83-19FD390D18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2290-6E7B-4659-B617-E47D6761C6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B1A8-F36D-4FBD-A061-C6C64E233C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6AC4-8313-428C-AA55-FBA5731E26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9C3F-2BEE-41B2-A1EA-93FDCA11B6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6ECB-CDCD-4CA2-AFE4-F8644E5558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A378-EFEB-45E4-BA3A-6EFF38DEE9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4C3-1F34-41F2-8F5D-B9605E08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E6B-F762-4F11-8EAE-41EC53FB2D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F6C-5DA5-4916-A183-2B3F1C5BE3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B8B-F4D0-4EAD-8F75-7E73679D32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02F-EF2D-46D5-AB11-727B87ECC4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3B1-A113-4747-8957-3F9A421780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B0B-CE0D-4222-A947-D78195C4CE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7F3-8147-4412-9C0F-2B8F3EEC581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69A-5380-47D3-9B0E-014D719F91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556-D5E6-41CF-847B-249386CC8E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4FD-EDAE-4517-B568-E4577B8B3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9FE-1A43-422F-B898-69DDCD5B73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53EE-8C88-446B-8CE5-DAD59AFAAB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96C2-BF00-4386-B05C-D8988FC27F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47B3-B94A-4AC5-B061-B78E7E3C1B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D7BBB-874D-4134-B0B5-02FBD34882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88106-342B-4462-B2FA-E2786016D2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12099-B0D1-491B-B866-1EF9BD1C51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73C61-40D0-41E4-87CE-25E9911167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F66F-DCE7-4887-B5CA-C14DA126EF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D4798-2D52-4F37-8A9C-97C7E3322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3DB1A-A114-4380-A1AD-024E33C81E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65C4E-C958-4398-BED7-14769EC111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3B71C-5AC9-459D-BEB2-9D34ED5584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40788-B146-4925-8100-27CFEEE778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6FF82-B003-4AE4-9F17-5DEDA622C7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0D63F-CB9E-4A46-B846-2F7663C6A3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82F0D-A136-4F4E-B7D7-B41129A105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0A6A7-1273-4A2D-9952-18D1FB51B1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9F4F-495D-4364-B05C-272E0A8F48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0A7D-2397-490B-B82D-3F7B0A164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E80F-879F-4A1F-A4F9-48607510C1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90EBC-7248-4C37-9972-81777164F0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4D48E-E02C-44D2-9B1C-5C327D168A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F9AF-4590-438E-9BF8-F597227806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9193A-C6DA-44CE-9897-90AC7DB68D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B817-95E5-4192-A7DA-18360D97AB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5D40-C1BC-46CB-949D-E727956AFC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EC0D-09BE-44CE-9A06-86A6BE1C89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C65-7D67-49F8-B608-AAA016B706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91B-A2B3-4C17-AFFE-826ACBDE9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AAF-7CE9-48AB-90B2-15B28106D20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BCA1-EE89-425B-B927-98807AAF28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7A29-F8C3-423F-AFE0-A11438895B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41D-F6A6-4ECB-8275-D03F421235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F6A9-D545-41A0-8C83-2575E1211C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19D-2EB8-4831-9931-E22A0A2B0B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9F1-ADA7-4E49-9E8E-692E0D3E40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1A326-5316-4F5C-93A4-79FF05AFE1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5DB43-7AFB-40B8-98EF-5F1463D788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25AB2-1AAA-4F9F-8566-25F584D65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9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8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857E-3034-4AF2-9689-50FBA2B74D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3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9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68F-4D2A-405C-8831-E1ECAC6533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8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0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4D7-A2F4-4F63-BAE0-EF0C6C7677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52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6BE-21A3-4D73-A597-55D62068E754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rcRect l="33219" t="32303" r="34288" b="32623"/>
          <a:stretch/>
        </p:blipFill>
        <p:spPr>
          <a:xfrm>
            <a:off x="3740040" y="404640"/>
            <a:ext cx="1598760" cy="1381320"/>
          </a:xfrm>
          <a:prstGeom prst="rect">
            <a:avLst/>
          </a:prstGeom>
          <a:ln w="31680">
            <a:solidFill>
              <a:srgbClr val="6598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85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C704-DED9-4163-A688-41C4A2E663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29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7 CuadroTexto"/>
          <p:cNvSpPr/>
          <p:nvPr/>
        </p:nvSpPr>
        <p:spPr>
          <a:xfrm>
            <a:off x="2340000" y="6434280"/>
            <a:ext cx="51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500" spc="-1" strike="noStrike">
                <a:solidFill>
                  <a:srgbClr val="333399"/>
                </a:solidFill>
                <a:latin typeface="Arial"/>
              </a:rPr>
              <a:t>Evaluación de Seguridad en Instalaciones Radiactiva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2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226-0001-43DE-A229-6D6FFE5678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7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831-3715-48DF-907B-ED687C8FBF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1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4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36AB-9E60-417C-8376-B9F85ADDBA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534-8FB0-429A-B86F-56003DF04D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0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6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47D-0C7E-4774-BAC3-D6F828315F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50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7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9B7D-4938-4F77-B1AF-8CF0F8538F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243000" y="2367000"/>
            <a:ext cx="871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L10. Descripción de la Severidad de las Potenciales Consecuencias (II)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50920" y="541800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ganismo Internacional de Energía Atómi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árboles de suces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Grupo 7"/>
          <p:cNvGrpSpPr/>
          <p:nvPr/>
        </p:nvGrpSpPr>
        <p:grpSpPr>
          <a:xfrm>
            <a:off x="250920" y="1569960"/>
            <a:ext cx="8858160" cy="4898880"/>
            <a:chOff x="250920" y="1569960"/>
            <a:chExt cx="8858160" cy="4898880"/>
          </a:xfrm>
        </p:grpSpPr>
        <p:grpSp>
          <p:nvGrpSpPr>
            <p:cNvPr id="678" name="Group 2"/>
            <p:cNvGrpSpPr/>
            <p:nvPr/>
          </p:nvGrpSpPr>
          <p:grpSpPr>
            <a:xfrm>
              <a:off x="4984920" y="5406120"/>
              <a:ext cx="4122720" cy="641520"/>
              <a:chOff x="4984920" y="5406120"/>
              <a:chExt cx="4122720" cy="641520"/>
            </a:xfrm>
          </p:grpSpPr>
          <p:sp>
            <p:nvSpPr>
              <p:cNvPr id="679" name="Text Box 3"/>
              <p:cNvSpPr/>
              <p:nvPr/>
            </p:nvSpPr>
            <p:spPr>
              <a:xfrm>
                <a:off x="6948360" y="5469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Text Box 4"/>
              <p:cNvSpPr/>
              <p:nvPr/>
            </p:nvSpPr>
            <p:spPr>
              <a:xfrm>
                <a:off x="4984920" y="5596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5"/>
              <p:cNvSpPr/>
              <p:nvPr/>
            </p:nvSpPr>
            <p:spPr>
              <a:xfrm flipV="1">
                <a:off x="4984920" y="5613840"/>
                <a:ext cx="0" cy="209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"/>
              <p:cNvSpPr/>
              <p:nvPr/>
            </p:nvSpPr>
            <p:spPr>
              <a:xfrm>
                <a:off x="4984920" y="5613840"/>
                <a:ext cx="180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7"/>
              <p:cNvSpPr/>
              <p:nvPr/>
            </p:nvSpPr>
            <p:spPr>
              <a:xfrm>
                <a:off x="7236000" y="5406120"/>
                <a:ext cx="1871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Incidente recuperable afectando 1 solo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4017960" y="5244480"/>
              <a:ext cx="936360" cy="581040"/>
              <a:chOff x="4017960" y="5244480"/>
              <a:chExt cx="936360" cy="581040"/>
            </a:xfrm>
          </p:grpSpPr>
          <p:sp>
            <p:nvSpPr>
              <p:cNvPr id="685" name="Text Box 9"/>
              <p:cNvSpPr/>
              <p:nvPr/>
            </p:nvSpPr>
            <p:spPr>
              <a:xfrm>
                <a:off x="4017960" y="5518440"/>
                <a:ext cx="79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0"/>
              <p:cNvSpPr/>
              <p:nvPr/>
            </p:nvSpPr>
            <p:spPr>
              <a:xfrm>
                <a:off x="4017960" y="5244480"/>
                <a:ext cx="0" cy="55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4017960" y="5814000"/>
                <a:ext cx="936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2"/>
            <p:cNvGrpSpPr/>
            <p:nvPr/>
          </p:nvGrpSpPr>
          <p:grpSpPr>
            <a:xfrm>
              <a:off x="4983120" y="4429800"/>
              <a:ext cx="4125960" cy="641520"/>
              <a:chOff x="4983120" y="4429800"/>
              <a:chExt cx="4125960" cy="641520"/>
            </a:xfrm>
          </p:grpSpPr>
          <p:sp>
            <p:nvSpPr>
              <p:cNvPr id="689" name="Text Box 13"/>
              <p:cNvSpPr/>
              <p:nvPr/>
            </p:nvSpPr>
            <p:spPr>
              <a:xfrm>
                <a:off x="4983120" y="46699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4"/>
              <p:cNvSpPr/>
              <p:nvPr/>
            </p:nvSpPr>
            <p:spPr>
              <a:xfrm flipV="1">
                <a:off x="4983120" y="4686840"/>
                <a:ext cx="0" cy="209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Text Box 15"/>
              <p:cNvSpPr/>
              <p:nvPr/>
            </p:nvSpPr>
            <p:spPr>
              <a:xfrm>
                <a:off x="6948360" y="45205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16"/>
              <p:cNvSpPr/>
              <p:nvPr/>
            </p:nvSpPr>
            <p:spPr>
              <a:xfrm>
                <a:off x="7237440" y="4429800"/>
                <a:ext cx="1871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Incidente recuperable afectando 1 solo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4983120" y="4687200"/>
                <a:ext cx="180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Rectangle 19"/>
            <p:cNvSpPr/>
            <p:nvPr/>
          </p:nvSpPr>
          <p:spPr>
            <a:xfrm>
              <a:off x="1042920" y="1569960"/>
              <a:ext cx="777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I: </a:t>
              </a:r>
              <a:r>
                <a:rPr b="1" lang="es-ES" sz="1800" spc="-1" strike="noStrike">
                  <a:solidFill>
                    <a:srgbClr val="990099"/>
                  </a:solidFill>
                  <a:latin typeface="Arial"/>
                </a:rPr>
                <a:t>Realización de TAC de simulación con parámetros geométricos erróneos debido a un error human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5" name="Group 20"/>
            <p:cNvGrpSpPr/>
            <p:nvPr/>
          </p:nvGrpSpPr>
          <p:grpSpPr>
            <a:xfrm>
              <a:off x="6811920" y="2520000"/>
              <a:ext cx="411120" cy="1186920"/>
              <a:chOff x="6811920" y="2520000"/>
              <a:chExt cx="411120" cy="1186920"/>
            </a:xfrm>
          </p:grpSpPr>
          <p:sp>
            <p:nvSpPr>
              <p:cNvPr id="696" name="Text Box 21"/>
              <p:cNvSpPr/>
              <p:nvPr/>
            </p:nvSpPr>
            <p:spPr>
              <a:xfrm>
                <a:off x="6864120" y="2590560"/>
                <a:ext cx="35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# SEC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22"/>
              <p:cNvSpPr/>
              <p:nvPr/>
            </p:nvSpPr>
            <p:spPr>
              <a:xfrm>
                <a:off x="6864120" y="2590560"/>
                <a:ext cx="35856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23"/>
              <p:cNvSpPr/>
              <p:nvPr/>
            </p:nvSpPr>
            <p:spPr>
              <a:xfrm>
                <a:off x="6811920" y="2520000"/>
                <a:ext cx="411120" cy="11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4"/>
            <p:cNvGrpSpPr/>
            <p:nvPr/>
          </p:nvGrpSpPr>
          <p:grpSpPr>
            <a:xfrm>
              <a:off x="1847880" y="2520000"/>
              <a:ext cx="1120680" cy="1117800"/>
              <a:chOff x="1847880" y="2520000"/>
              <a:chExt cx="1120680" cy="1117800"/>
            </a:xfrm>
          </p:grpSpPr>
          <p:sp>
            <p:nvSpPr>
              <p:cNvPr id="700" name="Text Box 25"/>
              <p:cNvSpPr/>
              <p:nvPr/>
            </p:nvSpPr>
            <p:spPr>
              <a:xfrm>
                <a:off x="1847880" y="259056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Text Box 26"/>
              <p:cNvSpPr/>
              <p:nvPr/>
            </p:nvSpPr>
            <p:spPr>
              <a:xfrm>
                <a:off x="1889280" y="289872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forma-ción PTV en PTD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27"/>
              <p:cNvSpPr/>
              <p:nvPr/>
            </p:nvSpPr>
            <p:spPr>
              <a:xfrm>
                <a:off x="1897200" y="252000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>
                <a:off x="1908000" y="286920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9"/>
            <p:cNvGrpSpPr/>
            <p:nvPr/>
          </p:nvGrpSpPr>
          <p:grpSpPr>
            <a:xfrm>
              <a:off x="823680" y="2520000"/>
              <a:ext cx="1116000" cy="1539720"/>
              <a:chOff x="823680" y="2520000"/>
              <a:chExt cx="1116000" cy="1539720"/>
            </a:xfrm>
          </p:grpSpPr>
          <p:sp>
            <p:nvSpPr>
              <p:cNvPr id="705" name="Text Box 30"/>
              <p:cNvSpPr/>
              <p:nvPr/>
            </p:nvSpPr>
            <p:spPr>
              <a:xfrm>
                <a:off x="823680" y="2590560"/>
                <a:ext cx="107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Text Box 31"/>
              <p:cNvSpPr/>
              <p:nvPr/>
            </p:nvSpPr>
            <p:spPr>
              <a:xfrm>
                <a:off x="871200" y="2900160"/>
                <a:ext cx="10684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Delinea-ción de       volumene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32"/>
              <p:cNvSpPr/>
              <p:nvPr/>
            </p:nvSpPr>
            <p:spPr>
              <a:xfrm>
                <a:off x="888480" y="252000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33"/>
              <p:cNvSpPr/>
              <p:nvPr/>
            </p:nvSpPr>
            <p:spPr>
              <a:xfrm>
                <a:off x="899640" y="286920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34"/>
            <p:cNvGrpSpPr/>
            <p:nvPr/>
          </p:nvGrpSpPr>
          <p:grpSpPr>
            <a:xfrm>
              <a:off x="250920" y="2520000"/>
              <a:ext cx="637920" cy="1316160"/>
              <a:chOff x="250920" y="2520000"/>
              <a:chExt cx="637920" cy="1316160"/>
            </a:xfrm>
          </p:grpSpPr>
          <p:sp>
            <p:nvSpPr>
              <p:cNvPr id="710" name="Text Box 35"/>
              <p:cNvSpPr/>
              <p:nvPr/>
            </p:nvSpPr>
            <p:spPr>
              <a:xfrm>
                <a:off x="252360" y="2590560"/>
                <a:ext cx="577800" cy="12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0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36"/>
              <p:cNvSpPr/>
              <p:nvPr/>
            </p:nvSpPr>
            <p:spPr>
              <a:xfrm>
                <a:off x="250920" y="2520000"/>
                <a:ext cx="63792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37"/>
            <p:cNvGrpSpPr/>
            <p:nvPr/>
          </p:nvGrpSpPr>
          <p:grpSpPr>
            <a:xfrm>
              <a:off x="7231320" y="2520000"/>
              <a:ext cx="1763640" cy="1117800"/>
              <a:chOff x="7231320" y="2520000"/>
              <a:chExt cx="1763640" cy="1117800"/>
            </a:xfrm>
          </p:grpSpPr>
          <p:sp>
            <p:nvSpPr>
              <p:cNvPr id="713" name="Text Box 38"/>
              <p:cNvSpPr/>
              <p:nvPr/>
            </p:nvSpPr>
            <p:spPr>
              <a:xfrm>
                <a:off x="7231320" y="2590560"/>
                <a:ext cx="17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39"/>
              <p:cNvSpPr/>
              <p:nvPr/>
            </p:nvSpPr>
            <p:spPr>
              <a:xfrm>
                <a:off x="7232760" y="2520000"/>
                <a:ext cx="164772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0"/>
            <p:cNvGrpSpPr/>
            <p:nvPr/>
          </p:nvGrpSpPr>
          <p:grpSpPr>
            <a:xfrm>
              <a:off x="1908000" y="4475520"/>
              <a:ext cx="1008000" cy="361440"/>
              <a:chOff x="1908000" y="4475520"/>
              <a:chExt cx="1008000" cy="361440"/>
            </a:xfrm>
          </p:grpSpPr>
          <p:sp>
            <p:nvSpPr>
              <p:cNvPr id="716" name="Text Box 41"/>
              <p:cNvSpPr/>
              <p:nvPr/>
            </p:nvSpPr>
            <p:spPr>
              <a:xfrm>
                <a:off x="1908000" y="452988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42"/>
              <p:cNvSpPr/>
              <p:nvPr/>
            </p:nvSpPr>
            <p:spPr>
              <a:xfrm flipH="1">
                <a:off x="1908000" y="48254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43"/>
              <p:cNvSpPr/>
              <p:nvPr/>
            </p:nvSpPr>
            <p:spPr>
              <a:xfrm flipV="1">
                <a:off x="1928520" y="4475520"/>
                <a:ext cx="0" cy="34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Line 44"/>
            <p:cNvSpPr/>
            <p:nvPr/>
          </p:nvSpPr>
          <p:spPr>
            <a:xfrm flipH="1">
              <a:off x="323640" y="4128120"/>
              <a:ext cx="57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Group 45"/>
            <p:cNvGrpSpPr/>
            <p:nvPr/>
          </p:nvGrpSpPr>
          <p:grpSpPr>
            <a:xfrm>
              <a:off x="900000" y="4117320"/>
              <a:ext cx="1008000" cy="389880"/>
              <a:chOff x="900000" y="4117320"/>
              <a:chExt cx="1008000" cy="389880"/>
            </a:xfrm>
          </p:grpSpPr>
          <p:sp>
            <p:nvSpPr>
              <p:cNvPr id="721" name="Text Box 46"/>
              <p:cNvSpPr/>
              <p:nvPr/>
            </p:nvSpPr>
            <p:spPr>
              <a:xfrm>
                <a:off x="909720" y="42001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47"/>
              <p:cNvSpPr/>
              <p:nvPr/>
            </p:nvSpPr>
            <p:spPr>
              <a:xfrm flipH="1">
                <a:off x="900000" y="447588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48"/>
              <p:cNvSpPr/>
              <p:nvPr/>
            </p:nvSpPr>
            <p:spPr>
              <a:xfrm flipV="1">
                <a:off x="900000" y="4117320"/>
                <a:ext cx="0" cy="358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49"/>
            <p:cNvGrpSpPr/>
            <p:nvPr/>
          </p:nvGrpSpPr>
          <p:grpSpPr>
            <a:xfrm>
              <a:off x="900000" y="3678120"/>
              <a:ext cx="8209080" cy="487080"/>
              <a:chOff x="900000" y="3678120"/>
              <a:chExt cx="8209080" cy="487080"/>
            </a:xfrm>
          </p:grpSpPr>
          <p:sp>
            <p:nvSpPr>
              <p:cNvPr id="725" name="Text Box 50"/>
              <p:cNvSpPr/>
              <p:nvPr/>
            </p:nvSpPr>
            <p:spPr>
              <a:xfrm>
                <a:off x="900000" y="38581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51"/>
              <p:cNvSpPr/>
              <p:nvPr/>
            </p:nvSpPr>
            <p:spPr>
              <a:xfrm>
                <a:off x="900000" y="3847320"/>
                <a:ext cx="590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52"/>
              <p:cNvSpPr/>
              <p:nvPr/>
            </p:nvSpPr>
            <p:spPr>
              <a:xfrm flipV="1">
                <a:off x="900000" y="3847320"/>
                <a:ext cx="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Text Box 53"/>
              <p:cNvSpPr/>
              <p:nvPr/>
            </p:nvSpPr>
            <p:spPr>
              <a:xfrm>
                <a:off x="6948360" y="3678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Text Box 54"/>
              <p:cNvSpPr/>
              <p:nvPr/>
            </p:nvSpPr>
            <p:spPr>
              <a:xfrm>
                <a:off x="7237440" y="3707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55"/>
            <p:cNvGrpSpPr/>
            <p:nvPr/>
          </p:nvGrpSpPr>
          <p:grpSpPr>
            <a:xfrm>
              <a:off x="1908000" y="3938400"/>
              <a:ext cx="7201080" cy="538560"/>
              <a:chOff x="1908000" y="3938400"/>
              <a:chExt cx="7201080" cy="538560"/>
            </a:xfrm>
          </p:grpSpPr>
          <p:sp>
            <p:nvSpPr>
              <p:cNvPr id="731" name="Text Box 56"/>
              <p:cNvSpPr/>
              <p:nvPr/>
            </p:nvSpPr>
            <p:spPr>
              <a:xfrm>
                <a:off x="1908000" y="41277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57"/>
              <p:cNvSpPr/>
              <p:nvPr/>
            </p:nvSpPr>
            <p:spPr>
              <a:xfrm>
                <a:off x="1908000" y="4127760"/>
                <a:ext cx="48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58"/>
              <p:cNvSpPr/>
              <p:nvPr/>
            </p:nvSpPr>
            <p:spPr>
              <a:xfrm flipV="1">
                <a:off x="1928880" y="4127760"/>
                <a:ext cx="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Text Box 59"/>
              <p:cNvSpPr/>
              <p:nvPr/>
            </p:nvSpPr>
            <p:spPr>
              <a:xfrm>
                <a:off x="6948360" y="393840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Text Box 60"/>
              <p:cNvSpPr/>
              <p:nvPr/>
            </p:nvSpPr>
            <p:spPr>
              <a:xfrm>
                <a:off x="7237440" y="396756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61"/>
            <p:cNvGrpSpPr/>
            <p:nvPr/>
          </p:nvGrpSpPr>
          <p:grpSpPr>
            <a:xfrm>
              <a:off x="2916360" y="4191120"/>
              <a:ext cx="6192720" cy="633960"/>
              <a:chOff x="2916360" y="4191120"/>
              <a:chExt cx="6192720" cy="633960"/>
            </a:xfrm>
          </p:grpSpPr>
          <p:sp>
            <p:nvSpPr>
              <p:cNvPr id="737" name="Text Box 62"/>
              <p:cNvSpPr/>
              <p:nvPr/>
            </p:nvSpPr>
            <p:spPr>
              <a:xfrm>
                <a:off x="2916360" y="43974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3"/>
              <p:cNvSpPr/>
              <p:nvPr/>
            </p:nvSpPr>
            <p:spPr>
              <a:xfrm>
                <a:off x="2916360" y="4406760"/>
                <a:ext cx="38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4"/>
              <p:cNvSpPr/>
              <p:nvPr/>
            </p:nvSpPr>
            <p:spPr>
              <a:xfrm flipV="1">
                <a:off x="2916360" y="4406760"/>
                <a:ext cx="0" cy="41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Text Box 65"/>
              <p:cNvSpPr/>
              <p:nvPr/>
            </p:nvSpPr>
            <p:spPr>
              <a:xfrm>
                <a:off x="6948360" y="4191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Text Box 66"/>
              <p:cNvSpPr/>
              <p:nvPr/>
            </p:nvSpPr>
            <p:spPr>
              <a:xfrm>
                <a:off x="7237440" y="4220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67"/>
            <p:cNvGrpSpPr/>
            <p:nvPr/>
          </p:nvGrpSpPr>
          <p:grpSpPr>
            <a:xfrm>
              <a:off x="2874960" y="2521440"/>
              <a:ext cx="1120680" cy="1117800"/>
              <a:chOff x="2874960" y="2521440"/>
              <a:chExt cx="1120680" cy="1117800"/>
            </a:xfrm>
          </p:grpSpPr>
          <p:sp>
            <p:nvSpPr>
              <p:cNvPr id="743" name="Text Box 68"/>
              <p:cNvSpPr/>
              <p:nvPr/>
            </p:nvSpPr>
            <p:spPr>
              <a:xfrm>
                <a:off x="2874960" y="259200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Text Box 69"/>
              <p:cNvSpPr/>
              <p:nvPr/>
            </p:nvSpPr>
            <p:spPr>
              <a:xfrm>
                <a:off x="2916360" y="290016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Imagen Portal en I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70"/>
              <p:cNvSpPr/>
              <p:nvPr/>
            </p:nvSpPr>
            <p:spPr>
              <a:xfrm>
                <a:off x="2924280" y="252144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71"/>
              <p:cNvSpPr/>
              <p:nvPr/>
            </p:nvSpPr>
            <p:spPr>
              <a:xfrm>
                <a:off x="2935080" y="287064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72"/>
            <p:cNvGrpSpPr/>
            <p:nvPr/>
          </p:nvGrpSpPr>
          <p:grpSpPr>
            <a:xfrm>
              <a:off x="3903840" y="2521440"/>
              <a:ext cx="1120680" cy="1117800"/>
              <a:chOff x="3903840" y="2521440"/>
              <a:chExt cx="1120680" cy="1117800"/>
            </a:xfrm>
          </p:grpSpPr>
          <p:sp>
            <p:nvSpPr>
              <p:cNvPr id="748" name="Text Box 73"/>
              <p:cNvSpPr/>
              <p:nvPr/>
            </p:nvSpPr>
            <p:spPr>
              <a:xfrm>
                <a:off x="3903840" y="259200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4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Text Box 74"/>
              <p:cNvSpPr/>
              <p:nvPr/>
            </p:nvSpPr>
            <p:spPr>
              <a:xfrm>
                <a:off x="3945240" y="290016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Imagen Portal periódic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75"/>
              <p:cNvSpPr/>
              <p:nvPr/>
            </p:nvSpPr>
            <p:spPr>
              <a:xfrm>
                <a:off x="3953160" y="252144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76"/>
              <p:cNvSpPr/>
              <p:nvPr/>
            </p:nvSpPr>
            <p:spPr>
              <a:xfrm>
                <a:off x="3963960" y="287064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77"/>
            <p:cNvGrpSpPr/>
            <p:nvPr/>
          </p:nvGrpSpPr>
          <p:grpSpPr>
            <a:xfrm>
              <a:off x="4838760" y="2520000"/>
              <a:ext cx="2109240" cy="1117800"/>
              <a:chOff x="4838760" y="2520000"/>
              <a:chExt cx="2109240" cy="1117800"/>
            </a:xfrm>
          </p:grpSpPr>
          <p:grpSp>
            <p:nvGrpSpPr>
              <p:cNvPr id="753" name="Group 78"/>
              <p:cNvGrpSpPr/>
              <p:nvPr/>
            </p:nvGrpSpPr>
            <p:grpSpPr>
              <a:xfrm>
                <a:off x="4838760" y="2520000"/>
                <a:ext cx="2109240" cy="1117800"/>
                <a:chOff x="4838760" y="2520000"/>
                <a:chExt cx="2109240" cy="1117800"/>
              </a:xfrm>
            </p:grpSpPr>
            <p:sp>
              <p:nvSpPr>
                <p:cNvPr id="754" name="Text Box 79"/>
                <p:cNvSpPr/>
                <p:nvPr/>
              </p:nvSpPr>
              <p:spPr>
                <a:xfrm>
                  <a:off x="4838760" y="2590560"/>
                  <a:ext cx="2091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Barrera 4</a:t>
                  </a: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80"/>
                <p:cNvSpPr/>
                <p:nvPr/>
              </p:nvSpPr>
              <p:spPr>
                <a:xfrm>
                  <a:off x="4856400" y="2901600"/>
                  <a:ext cx="2091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Revisión Médica del Paciente  </a:t>
                  </a: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81"/>
                <p:cNvSpPr/>
                <p:nvPr/>
              </p:nvSpPr>
              <p:spPr>
                <a:xfrm>
                  <a:off x="4968720" y="2520000"/>
                  <a:ext cx="1849680" cy="1117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Line 82"/>
              <p:cNvSpPr/>
              <p:nvPr/>
            </p:nvSpPr>
            <p:spPr>
              <a:xfrm>
                <a:off x="4952880" y="2860200"/>
                <a:ext cx="18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83"/>
            <p:cNvGrpSpPr/>
            <p:nvPr/>
          </p:nvGrpSpPr>
          <p:grpSpPr>
            <a:xfrm>
              <a:off x="2916360" y="4835880"/>
              <a:ext cx="1079280" cy="419760"/>
              <a:chOff x="2916360" y="4835880"/>
              <a:chExt cx="1079280" cy="419760"/>
            </a:xfrm>
          </p:grpSpPr>
          <p:sp>
            <p:nvSpPr>
              <p:cNvPr id="759" name="Text Box 84"/>
              <p:cNvSpPr/>
              <p:nvPr/>
            </p:nvSpPr>
            <p:spPr>
              <a:xfrm>
                <a:off x="2916360" y="494856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85"/>
              <p:cNvSpPr/>
              <p:nvPr/>
            </p:nvSpPr>
            <p:spPr>
              <a:xfrm flipV="1">
                <a:off x="2916360" y="4835880"/>
                <a:ext cx="0" cy="41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86"/>
              <p:cNvSpPr/>
              <p:nvPr/>
            </p:nvSpPr>
            <p:spPr>
              <a:xfrm>
                <a:off x="2916360" y="5236200"/>
                <a:ext cx="1079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87"/>
            <p:cNvGrpSpPr/>
            <p:nvPr/>
          </p:nvGrpSpPr>
          <p:grpSpPr>
            <a:xfrm>
              <a:off x="4006800" y="4896360"/>
              <a:ext cx="946080" cy="347760"/>
              <a:chOff x="4006800" y="4896360"/>
              <a:chExt cx="946080" cy="347760"/>
            </a:xfrm>
          </p:grpSpPr>
          <p:sp>
            <p:nvSpPr>
              <p:cNvPr id="763" name="Text Box 88"/>
              <p:cNvSpPr/>
              <p:nvPr/>
            </p:nvSpPr>
            <p:spPr>
              <a:xfrm>
                <a:off x="4006800" y="48963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89"/>
              <p:cNvSpPr/>
              <p:nvPr/>
            </p:nvSpPr>
            <p:spPr>
              <a:xfrm flipV="1">
                <a:off x="4017960" y="489636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90"/>
              <p:cNvSpPr/>
              <p:nvPr/>
            </p:nvSpPr>
            <p:spPr>
              <a:xfrm>
                <a:off x="4016520" y="4896360"/>
                <a:ext cx="936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91"/>
            <p:cNvGrpSpPr/>
            <p:nvPr/>
          </p:nvGrpSpPr>
          <p:grpSpPr>
            <a:xfrm>
              <a:off x="4983120" y="4896360"/>
              <a:ext cx="4125960" cy="586800"/>
              <a:chOff x="4983120" y="4896360"/>
              <a:chExt cx="4125960" cy="586800"/>
            </a:xfrm>
          </p:grpSpPr>
          <p:sp>
            <p:nvSpPr>
              <p:cNvPr id="767" name="Text Box 92"/>
              <p:cNvSpPr/>
              <p:nvPr/>
            </p:nvSpPr>
            <p:spPr>
              <a:xfrm>
                <a:off x="4992840" y="48992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93"/>
              <p:cNvSpPr/>
              <p:nvPr/>
            </p:nvSpPr>
            <p:spPr>
              <a:xfrm>
                <a:off x="4983120" y="4896360"/>
                <a:ext cx="0" cy="27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Text Box 94"/>
              <p:cNvSpPr/>
              <p:nvPr/>
            </p:nvSpPr>
            <p:spPr>
              <a:xfrm>
                <a:off x="6948360" y="501480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Text Box 95"/>
              <p:cNvSpPr/>
              <p:nvPr/>
            </p:nvSpPr>
            <p:spPr>
              <a:xfrm>
                <a:off x="7237440" y="5024160"/>
                <a:ext cx="1871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Exposición Accidental de 1 solo 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>
                <a:off x="4983120" y="5176440"/>
                <a:ext cx="180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4984920" y="5823720"/>
              <a:ext cx="4124160" cy="645120"/>
              <a:chOff x="4984920" y="5823720"/>
              <a:chExt cx="4124160" cy="645120"/>
            </a:xfrm>
          </p:grpSpPr>
          <p:sp>
            <p:nvSpPr>
              <p:cNvPr id="773" name="Text Box 98"/>
              <p:cNvSpPr/>
              <p:nvPr/>
            </p:nvSpPr>
            <p:spPr>
              <a:xfrm>
                <a:off x="6948360" y="602028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Text Box 99"/>
              <p:cNvSpPr/>
              <p:nvPr/>
            </p:nvSpPr>
            <p:spPr>
              <a:xfrm>
                <a:off x="7237440" y="6009840"/>
                <a:ext cx="1871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Exposición Accidental de 1 solo 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Text Box 100"/>
              <p:cNvSpPr/>
              <p:nvPr/>
            </p:nvSpPr>
            <p:spPr>
              <a:xfrm>
                <a:off x="4994280" y="58248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101"/>
              <p:cNvSpPr/>
              <p:nvPr/>
            </p:nvSpPr>
            <p:spPr>
              <a:xfrm>
                <a:off x="4984920" y="5823720"/>
                <a:ext cx="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102"/>
              <p:cNvSpPr/>
              <p:nvPr/>
            </p:nvSpPr>
            <p:spPr>
              <a:xfrm>
                <a:off x="4984920" y="6103800"/>
                <a:ext cx="180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Matriz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Picture 218" descr=""/>
          <p:cNvPicPr/>
          <p:nvPr/>
        </p:nvPicPr>
        <p:blipFill>
          <a:blip r:embed="rId1"/>
          <a:srcRect l="19193" t="28543" r="28052" b="26083"/>
          <a:stretch/>
        </p:blipFill>
        <p:spPr>
          <a:xfrm>
            <a:off x="539640" y="1738440"/>
            <a:ext cx="7845480" cy="47149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55520" y="981000"/>
            <a:ext cx="7429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Matriz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upo 21"/>
          <p:cNvGrpSpPr/>
          <p:nvPr/>
        </p:nvGrpSpPr>
        <p:grpSpPr>
          <a:xfrm>
            <a:off x="539640" y="1557360"/>
            <a:ext cx="8209080" cy="4897440"/>
            <a:chOff x="539640" y="1557360"/>
            <a:chExt cx="8209080" cy="4897440"/>
          </a:xfrm>
        </p:grpSpPr>
        <p:sp>
          <p:nvSpPr>
            <p:cNvPr id="784" name="Text Box 4"/>
            <p:cNvSpPr/>
            <p:nvPr/>
          </p:nvSpPr>
          <p:spPr>
            <a:xfrm>
              <a:off x="1680480" y="1557360"/>
              <a:ext cx="64969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1: Determinación del listado de Sucesos Iniciadores (SI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7"/>
            <p:cNvSpPr/>
            <p:nvPr/>
          </p:nvSpPr>
          <p:spPr>
            <a:xfrm>
              <a:off x="1539720" y="2855880"/>
              <a:ext cx="6567840" cy="58068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2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Estimación de la frecuencia d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Clasificación según los niveles establecidos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Text Box 8"/>
            <p:cNvSpPr/>
            <p:nvPr/>
          </p:nvSpPr>
          <p:spPr>
            <a:xfrm>
              <a:off x="2681640" y="2236680"/>
              <a:ext cx="406980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Se analiza un Suceso Iniciador (SI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Text Box 9"/>
            <p:cNvSpPr/>
            <p:nvPr/>
          </p:nvSpPr>
          <p:spPr>
            <a:xfrm>
              <a:off x="1609560" y="3800520"/>
              <a:ext cx="6498000" cy="58068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3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Evaluación de las consecuencias d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Clasificación según los niveles establecidos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10"/>
            <p:cNvSpPr/>
            <p:nvPr/>
          </p:nvSpPr>
          <p:spPr>
            <a:xfrm>
              <a:off x="1395000" y="4684680"/>
              <a:ext cx="7353720" cy="82404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4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Análisis de las defensas existentes para 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Diferenciar Barreras, reductores de frecuencia y reductores de consecuencias. Clasificación según los niveles establecid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11"/>
            <p:cNvSpPr/>
            <p:nvPr/>
          </p:nvSpPr>
          <p:spPr>
            <a:xfrm>
              <a:off x="1539720" y="5774040"/>
              <a:ext cx="6924960" cy="33732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2880" indent="-8128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5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Obtención del Riesgo resultante directamente de la matriz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2"/>
            <p:cNvSpPr/>
            <p:nvPr/>
          </p:nvSpPr>
          <p:spPr>
            <a:xfrm>
              <a:off x="4751280" y="189612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>
              <a:off x="4751280" y="257688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4751280" y="3392640"/>
              <a:ext cx="0" cy="33876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5"/>
            <p:cNvSpPr/>
            <p:nvPr/>
          </p:nvSpPr>
          <p:spPr>
            <a:xfrm>
              <a:off x="4751280" y="434484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6"/>
            <p:cNvSpPr/>
            <p:nvPr/>
          </p:nvSpPr>
          <p:spPr>
            <a:xfrm>
              <a:off x="4822200" y="543384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7"/>
            <p:cNvSpPr/>
            <p:nvPr/>
          </p:nvSpPr>
          <p:spPr>
            <a:xfrm>
              <a:off x="4822200" y="611460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18"/>
            <p:cNvSpPr/>
            <p:nvPr/>
          </p:nvSpPr>
          <p:spPr>
            <a:xfrm flipH="1" flipV="1">
              <a:off x="682200" y="6386040"/>
              <a:ext cx="4068360" cy="14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19"/>
            <p:cNvSpPr/>
            <p:nvPr/>
          </p:nvSpPr>
          <p:spPr>
            <a:xfrm flipV="1">
              <a:off x="711000" y="5433840"/>
              <a:ext cx="0" cy="9266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Text Box 20"/>
            <p:cNvSpPr/>
            <p:nvPr/>
          </p:nvSpPr>
          <p:spPr>
            <a:xfrm rot="10800000">
              <a:off x="539640" y="3041640"/>
              <a:ext cx="42372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Analizar el siguiente SI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1"/>
            <p:cNvSpPr/>
            <p:nvPr/>
          </p:nvSpPr>
          <p:spPr>
            <a:xfrm flipV="1">
              <a:off x="681120" y="2644200"/>
              <a:ext cx="0" cy="40788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2"/>
            <p:cNvSpPr/>
            <p:nvPr/>
          </p:nvSpPr>
          <p:spPr>
            <a:xfrm>
              <a:off x="680400" y="2644560"/>
              <a:ext cx="4068360" cy="14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108000" y="2006640"/>
            <a:ext cx="8896320" cy="4259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método RPN clasifica cada modo de falla o desviación de acuerdo con las siguientes variab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veridad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S)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 cada efecto o consecuencia se le asigna un valor numérico de severidad de consecuencia de 1 a 10. Asignando de 1 a 3 cuando no hay peligro o es menor, de 4 a 6 cuando el peligro es moderado, de 7 a 8 cuando el peligro es alto o significativo y de 9 a 10 cuando el peligro es muy alto o peligros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urrencia o Frecuencia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O)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onde se establece la frecuencia de la causa de la falla o desviación, de acuerdo con una escala de 1 a 10. Asignando un número menor a 4 cuando la frecuencia es baja, entre 5 y 8 cuando la frecuencia es moderada y de 9 a 10 cuando la frecuencia es alta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tección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(D)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representa la probabilidad de que el problema se pueda detectar antes de que se manifiesten las consecuencias, según una escala del 1 al 10. Asignando 1 cuando es muy improbable y 10 cuando no hay medios suficientes para detectar y prevenir las consecuencia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jemplo: Método RP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17"/>
          <p:cNvSpPr/>
          <p:nvPr/>
        </p:nvSpPr>
        <p:spPr>
          <a:xfrm>
            <a:off x="5580000" y="1316160"/>
            <a:ext cx="3178080" cy="6620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PN = 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45760" y="2565360"/>
            <a:ext cx="6397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Gestión de Riesgo – Toma de decis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87480" y="1643040"/>
            <a:ext cx="894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La gestión de riesgos, además de identificar y evaluar riesgos, implica también la toma de decisiones sobre cómo debemos actuar contra los riesgos evaluad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/>
          <p:cNvSpPr/>
          <p:nvPr/>
        </p:nvSpPr>
        <p:spPr>
          <a:xfrm flipV="1">
            <a:off x="609480" y="2377080"/>
            <a:ext cx="2772000" cy="3733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3"/>
          <p:cNvSpPr/>
          <p:nvPr/>
        </p:nvSpPr>
        <p:spPr>
          <a:xfrm>
            <a:off x="30240" y="3360600"/>
            <a:ext cx="89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611280" y="606276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</a:rPr>
              <a:t>Región Ampliamente Aceptad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058760" y="353844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Comic Sans MS"/>
              </a:rPr>
              <a:t>Región Toler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928800" y="2511360"/>
            <a:ext cx="2119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e1c04"/>
                </a:solidFill>
                <a:latin typeface="Comic Sans MS"/>
              </a:rPr>
              <a:t>Región Inaceptab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Line 7"/>
          <p:cNvSpPr/>
          <p:nvPr/>
        </p:nvSpPr>
        <p:spPr>
          <a:xfrm>
            <a:off x="30240" y="5465880"/>
            <a:ext cx="89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635280" y="176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esgo     Trabajador       Público        Pacien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408480" y="205272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es       (1/año)             (1/año)       (1/pacient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941640" y="2513160"/>
            <a:ext cx="551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4004280" y="401940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9933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4044600" y="5695920"/>
            <a:ext cx="55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6600"/>
                </a:solidFill>
                <a:latin typeface="Arial"/>
              </a:rPr>
              <a:t>M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5166720" y="25131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6442920" y="25131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7557480" y="2523960"/>
            <a:ext cx="133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6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 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4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 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5023800" y="4019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4 </a:t>
            </a: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- 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6330240" y="40258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5 </a:t>
            </a: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- 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7869600" y="4025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5223960" y="5695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&lt;10</a:t>
            </a:r>
            <a:r>
              <a:rPr b="1" lang="es-ES" sz="1800" spc="-1" strike="noStrike" baseline="30000">
                <a:solidFill>
                  <a:srgbClr val="006600"/>
                </a:solidFill>
                <a:latin typeface="Arial"/>
              </a:rPr>
              <a:t>-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6463800" y="5695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&lt;10</a:t>
            </a:r>
            <a:r>
              <a:rPr b="1" lang="es-ES" sz="1800" spc="-1" strike="noStrike" baseline="30000">
                <a:solidFill>
                  <a:srgbClr val="006600"/>
                </a:solidFill>
                <a:latin typeface="Arial"/>
              </a:rPr>
              <a:t>- 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7880760" y="5695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22"/>
          <p:cNvSpPr/>
          <p:nvPr/>
        </p:nvSpPr>
        <p:spPr>
          <a:xfrm>
            <a:off x="4622760" y="184464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3"/>
          <p:cNvSpPr/>
          <p:nvPr/>
        </p:nvSpPr>
        <p:spPr>
          <a:xfrm>
            <a:off x="6248520" y="18651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24"/>
          <p:cNvSpPr/>
          <p:nvPr/>
        </p:nvSpPr>
        <p:spPr>
          <a:xfrm>
            <a:off x="7504200" y="18651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CuadroTexto 1"/>
          <p:cNvSpPr/>
          <p:nvPr/>
        </p:nvSpPr>
        <p:spPr>
          <a:xfrm>
            <a:off x="250920" y="1052640"/>
            <a:ext cx="86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omparación de los criterios de Gestión de Riesgo del Método de Matriz de Riesgo y criterios de métodos Cuantitativ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10 Grupo"/>
          <p:cNvGrpSpPr/>
          <p:nvPr/>
        </p:nvGrpSpPr>
        <p:grpSpPr>
          <a:xfrm>
            <a:off x="324000" y="1484280"/>
            <a:ext cx="8640720" cy="2288520"/>
            <a:chOff x="324000" y="1484280"/>
            <a:chExt cx="8640720" cy="2288520"/>
          </a:xfrm>
        </p:grpSpPr>
        <p:sp>
          <p:nvSpPr>
            <p:cNvPr id="834" name="Text Box 3"/>
            <p:cNvSpPr/>
            <p:nvPr/>
          </p:nvSpPr>
          <p:spPr>
            <a:xfrm>
              <a:off x="324000" y="185400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AutoShape 5"/>
            <p:cNvSpPr/>
            <p:nvPr/>
          </p:nvSpPr>
          <p:spPr>
            <a:xfrm>
              <a:off x="3694320" y="2060640"/>
              <a:ext cx="1100160" cy="1155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86640" y="1484280"/>
              <a:ext cx="407808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No son tomada acciones para controlar el riesgo evaluado.”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Rectangle 7"/>
          <p:cNvSpPr/>
          <p:nvPr/>
        </p:nvSpPr>
        <p:spPr>
          <a:xfrm>
            <a:off x="569880" y="4357800"/>
            <a:ext cx="77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¿Cuándo se asumen los riesgos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10 Grupo"/>
          <p:cNvGrpSpPr/>
          <p:nvPr/>
        </p:nvGrpSpPr>
        <p:grpSpPr>
          <a:xfrm>
            <a:off x="324000" y="1989000"/>
            <a:ext cx="8497800" cy="2288520"/>
            <a:chOff x="324000" y="1989000"/>
            <a:chExt cx="8497800" cy="2288520"/>
          </a:xfrm>
        </p:grpSpPr>
        <p:sp>
          <p:nvSpPr>
            <p:cNvPr id="840" name="Text Box 3"/>
            <p:cNvSpPr/>
            <p:nvPr/>
          </p:nvSpPr>
          <p:spPr>
            <a:xfrm>
              <a:off x="324000" y="2358720"/>
              <a:ext cx="327636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AutoShape 5"/>
            <p:cNvSpPr/>
            <p:nvPr/>
          </p:nvSpPr>
          <p:spPr>
            <a:xfrm>
              <a:off x="3694320" y="2565360"/>
              <a:ext cx="1100160" cy="1155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Text Box 6"/>
            <p:cNvSpPr/>
            <p:nvPr/>
          </p:nvSpPr>
          <p:spPr>
            <a:xfrm>
              <a:off x="4886280" y="1989000"/>
              <a:ext cx="393552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la magnitud del Riesgo no es significativa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366840" y="2575080"/>
            <a:ext cx="327636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iesgo Acep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5" name="Group 1"/>
          <p:cNvGrpSpPr/>
          <p:nvPr/>
        </p:nvGrpSpPr>
        <p:grpSpPr>
          <a:xfrm>
            <a:off x="3857760" y="1268280"/>
            <a:ext cx="5143320" cy="4181760"/>
            <a:chOff x="3857760" y="1268280"/>
            <a:chExt cx="5143320" cy="4181760"/>
          </a:xfrm>
        </p:grpSpPr>
        <p:sp>
          <p:nvSpPr>
            <p:cNvPr id="846" name="Text Box 6"/>
            <p:cNvSpPr/>
            <p:nvPr/>
          </p:nvSpPr>
          <p:spPr>
            <a:xfrm>
              <a:off x="4643280" y="1358640"/>
              <a:ext cx="428616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no existen los recursos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651200" y="2943000"/>
              <a:ext cx="434988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no hay alternativas tecnológicas para proceder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13 Abrir llave"/>
            <p:cNvSpPr/>
            <p:nvPr/>
          </p:nvSpPr>
          <p:spPr>
            <a:xfrm>
              <a:off x="3857760" y="1268280"/>
              <a:ext cx="785520" cy="4181760"/>
            </a:xfrm>
            <a:custGeom>
              <a:avLst/>
              <a:gdLst>
                <a:gd name="textAreaLeft" fmla="*/ 501840 w 785520"/>
                <a:gd name="textAreaRight" fmla="*/ 785880 w 785520"/>
                <a:gd name="textAreaTop" fmla="*/ 211320 h 4181760"/>
                <a:gd name="textAreaBottom" fmla="*/ 3970440 h 418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44"/>
                    <a:pt x="10800" y="3488"/>
                  </a:cubicBezTo>
                  <a:lnTo>
                    <a:pt x="10800" y="7312"/>
                  </a:lnTo>
                  <a:cubicBezTo>
                    <a:pt x="10800" y="9056"/>
                    <a:pt x="5400" y="10800"/>
                    <a:pt x="0" y="10800"/>
                  </a:cubicBezTo>
                  <a:cubicBezTo>
                    <a:pt x="5400" y="10800"/>
                    <a:pt x="10800" y="12544"/>
                    <a:pt x="10800" y="14288"/>
                  </a:cubicBezTo>
                  <a:lnTo>
                    <a:pt x="10800" y="18112"/>
                  </a:lnTo>
                  <a:cubicBezTo>
                    <a:pt x="10800" y="19856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464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Identificar los elementos de la evaluación de seguridad que incluye un enfoque probabilístico basado en la estimación de riesgos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Arial"/>
              </a:rPr>
              <a:t>Magnitud de las Consecuencia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Arial"/>
              </a:rPr>
              <a:t>Análisis de las defensa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0000"/>
                </a:solidFill>
                <a:latin typeface="Arial"/>
              </a:rPr>
              <a:t>Métodos de estimación de Riesgo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0000"/>
                </a:solidFill>
                <a:latin typeface="Arial"/>
              </a:rPr>
              <a:t>Gestión de Riesgos – Toma de Decisione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13 Grupo"/>
          <p:cNvGrpSpPr/>
          <p:nvPr/>
        </p:nvGrpSpPr>
        <p:grpSpPr>
          <a:xfrm>
            <a:off x="318960" y="1719360"/>
            <a:ext cx="8501040" cy="3385800"/>
            <a:chOff x="318960" y="1719360"/>
            <a:chExt cx="8501040" cy="3385800"/>
          </a:xfrm>
        </p:grpSpPr>
        <p:sp>
          <p:nvSpPr>
            <p:cNvPr id="851" name="Text Box 2"/>
            <p:cNvSpPr/>
            <p:nvPr/>
          </p:nvSpPr>
          <p:spPr>
            <a:xfrm>
              <a:off x="318960" y="236520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.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Text Box 6"/>
            <p:cNvSpPr/>
            <p:nvPr/>
          </p:nvSpPr>
          <p:spPr>
            <a:xfrm>
              <a:off x="4952880" y="1719360"/>
              <a:ext cx="3867120" cy="33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Implica la </a:t>
              </a:r>
              <a:r>
                <a:rPr b="1" lang="es-ES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disposición</a:t>
              </a: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 de la instalación para </a:t>
              </a:r>
              <a:r>
                <a:rPr b="1" lang="es-ES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aceptar por adelantado </a:t>
              </a: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las consecuenci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5"/>
            <p:cNvSpPr/>
            <p:nvPr/>
          </p:nvSpPr>
          <p:spPr>
            <a:xfrm>
              <a:off x="3724200" y="257328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00040" y="4851360"/>
            <a:ext cx="77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2d2d8a"/>
                </a:solidFill>
                <a:latin typeface="Arial"/>
              </a:rPr>
              <a:t>¿Cómo?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10 Grupo"/>
          <p:cNvGrpSpPr/>
          <p:nvPr/>
        </p:nvGrpSpPr>
        <p:grpSpPr>
          <a:xfrm>
            <a:off x="347760" y="1484280"/>
            <a:ext cx="8678880" cy="3385800"/>
            <a:chOff x="347760" y="1484280"/>
            <a:chExt cx="8678880" cy="3385800"/>
          </a:xfrm>
        </p:grpSpPr>
        <p:sp>
          <p:nvSpPr>
            <p:cNvPr id="857" name="Text Box 3"/>
            <p:cNvSpPr/>
            <p:nvPr/>
          </p:nvSpPr>
          <p:spPr>
            <a:xfrm>
              <a:off x="347760" y="213012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Text Box 6"/>
            <p:cNvSpPr/>
            <p:nvPr/>
          </p:nvSpPr>
          <p:spPr>
            <a:xfrm>
              <a:off x="4910400" y="1484280"/>
              <a:ext cx="4116240" cy="33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Establecimiento de los mecanismos para la financiación total o parcial de las pérdid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utoShape 5"/>
            <p:cNvSpPr/>
            <p:nvPr/>
          </p:nvSpPr>
          <p:spPr>
            <a:xfrm>
              <a:off x="3716280" y="233820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7"/>
          <p:cNvSpPr/>
          <p:nvPr/>
        </p:nvSpPr>
        <p:spPr>
          <a:xfrm>
            <a:off x="357120" y="43797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ablecer una provisión real de fondos adecuada y suficiente para cubrir las pérdidas esperad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11 Grupo"/>
          <p:cNvGrpSpPr/>
          <p:nvPr/>
        </p:nvGrpSpPr>
        <p:grpSpPr>
          <a:xfrm>
            <a:off x="285840" y="1714680"/>
            <a:ext cx="8643960" cy="1653120"/>
            <a:chOff x="285840" y="1714680"/>
            <a:chExt cx="8643960" cy="1653120"/>
          </a:xfrm>
        </p:grpSpPr>
        <p:sp>
          <p:nvSpPr>
            <p:cNvPr id="863" name="Text Box 3"/>
            <p:cNvSpPr/>
            <p:nvPr/>
          </p:nvSpPr>
          <p:spPr>
            <a:xfrm>
              <a:off x="285840" y="171468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6"/>
            <p:cNvSpPr/>
            <p:nvPr/>
          </p:nvSpPr>
          <p:spPr>
            <a:xfrm>
              <a:off x="4994280" y="2176560"/>
              <a:ext cx="3935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Retener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5"/>
            <p:cNvSpPr/>
            <p:nvPr/>
          </p:nvSpPr>
          <p:spPr>
            <a:xfrm>
              <a:off x="3719520" y="192240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AutoShape 8"/>
          <p:cNvSpPr/>
          <p:nvPr/>
        </p:nvSpPr>
        <p:spPr>
          <a:xfrm rot="20090400">
            <a:off x="7521120" y="2895120"/>
            <a:ext cx="1059120" cy="1662120"/>
          </a:xfrm>
          <a:custGeom>
            <a:avLst/>
            <a:gdLst>
              <a:gd name="textAreaLeft" fmla="*/ 151200 w 1059120"/>
              <a:gd name="textAreaRight" fmla="*/ 907920 w 1059120"/>
              <a:gd name="textAreaTop" fmla="*/ 949680 h 1662120"/>
              <a:gd name="textAreaBottom" fmla="*/ 1424880 h 16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7"/>
          <p:cNvSpPr/>
          <p:nvPr/>
        </p:nvSpPr>
        <p:spPr>
          <a:xfrm>
            <a:off x="357120" y="43797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uerdos contractuales con un tercero que asumirá posibles pérdidas en caso de que ocurra el evento planificado (Seguro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11 Grupo"/>
          <p:cNvGrpSpPr/>
          <p:nvPr/>
        </p:nvGrpSpPr>
        <p:grpSpPr>
          <a:xfrm>
            <a:off x="285840" y="1714680"/>
            <a:ext cx="8643960" cy="1653120"/>
            <a:chOff x="285840" y="1714680"/>
            <a:chExt cx="8643960" cy="1653120"/>
          </a:xfrm>
        </p:grpSpPr>
        <p:sp>
          <p:nvSpPr>
            <p:cNvPr id="870" name="Text Box 3"/>
            <p:cNvSpPr/>
            <p:nvPr/>
          </p:nvSpPr>
          <p:spPr>
            <a:xfrm>
              <a:off x="285840" y="171468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Text Box 6"/>
            <p:cNvSpPr/>
            <p:nvPr/>
          </p:nvSpPr>
          <p:spPr>
            <a:xfrm>
              <a:off x="4994280" y="2176560"/>
              <a:ext cx="3935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3600" spc="-1" strike="noStrike">
                  <a:solidFill>
                    <a:srgbClr val="000000"/>
                  </a:solidFill>
                  <a:latin typeface="Arial"/>
                </a:rPr>
                <a:t>Transferir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Shape 5"/>
            <p:cNvSpPr/>
            <p:nvPr/>
          </p:nvSpPr>
          <p:spPr>
            <a:xfrm>
              <a:off x="3719520" y="192240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AutoShape 8"/>
          <p:cNvSpPr/>
          <p:nvPr/>
        </p:nvSpPr>
        <p:spPr>
          <a:xfrm rot="20090400">
            <a:off x="7521120" y="2895120"/>
            <a:ext cx="1059120" cy="1662120"/>
          </a:xfrm>
          <a:custGeom>
            <a:avLst/>
            <a:gdLst>
              <a:gd name="textAreaLeft" fmla="*/ 151200 w 1059120"/>
              <a:gd name="textAreaRight" fmla="*/ 907920 w 1059120"/>
              <a:gd name="textAreaTop" fmla="*/ 949680 h 1662120"/>
              <a:gd name="textAreaBottom" fmla="*/ 1424880 h 16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7"/>
          <p:cNvSpPr/>
          <p:nvPr/>
        </p:nvSpPr>
        <p:spPr>
          <a:xfrm>
            <a:off x="1979640" y="43797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mplo: Plan de Em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11 Grupo"/>
          <p:cNvGrpSpPr/>
          <p:nvPr/>
        </p:nvGrpSpPr>
        <p:grpSpPr>
          <a:xfrm>
            <a:off x="285840" y="1628640"/>
            <a:ext cx="8643960" cy="2288520"/>
            <a:chOff x="285840" y="1628640"/>
            <a:chExt cx="8643960" cy="2288520"/>
          </a:xfrm>
        </p:grpSpPr>
        <p:sp>
          <p:nvSpPr>
            <p:cNvPr id="877" name="Text Box 3"/>
            <p:cNvSpPr/>
            <p:nvPr/>
          </p:nvSpPr>
          <p:spPr>
            <a:xfrm>
              <a:off x="285840" y="172044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Protege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Text Box 6"/>
            <p:cNvSpPr/>
            <p:nvPr/>
          </p:nvSpPr>
          <p:spPr>
            <a:xfrm>
              <a:off x="4994280" y="1628640"/>
              <a:ext cx="393552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Para limitar la magnitud de las consecuencias no desead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AutoShape 5"/>
            <p:cNvSpPr/>
            <p:nvPr/>
          </p:nvSpPr>
          <p:spPr>
            <a:xfrm>
              <a:off x="3729240" y="192852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500040" y="4143240"/>
            <a:ext cx="8143920" cy="2297880"/>
          </a:xfrm>
          <a:prstGeom prst="rect">
            <a:avLst/>
          </a:prstGeom>
          <a:solidFill>
            <a:srgbClr val="ffffff"/>
          </a:solidFill>
          <a:ln cap="rnd"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uerde: Prevenir actúa sobre las amenazas y Proteger actúa sobre las consecuenci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684360" y="5157720"/>
            <a:ext cx="18000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3095640" y="5157720"/>
            <a:ext cx="1405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11"/>
          <p:cNvSpPr/>
          <p:nvPr/>
        </p:nvSpPr>
        <p:spPr>
          <a:xfrm>
            <a:off x="611280" y="5661000"/>
            <a:ext cx="291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5" name="14 Grupo"/>
          <p:cNvGrpSpPr/>
          <p:nvPr/>
        </p:nvGrpSpPr>
        <p:grpSpPr>
          <a:xfrm>
            <a:off x="285840" y="1628640"/>
            <a:ext cx="8572320" cy="1739880"/>
            <a:chOff x="285840" y="1628640"/>
            <a:chExt cx="8572320" cy="1739880"/>
          </a:xfrm>
        </p:grpSpPr>
        <p:sp>
          <p:nvSpPr>
            <p:cNvPr id="886" name="Text Box 5"/>
            <p:cNvSpPr/>
            <p:nvPr/>
          </p:nvSpPr>
          <p:spPr>
            <a:xfrm>
              <a:off x="4991040" y="1628640"/>
              <a:ext cx="3867120" cy="173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Actuar sobre la causa que genera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Text Box 6"/>
            <p:cNvSpPr/>
            <p:nvPr/>
          </p:nvSpPr>
          <p:spPr>
            <a:xfrm>
              <a:off x="285840" y="1720440"/>
              <a:ext cx="327636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Prevenir el 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AutoShape 5"/>
            <p:cNvSpPr/>
            <p:nvPr/>
          </p:nvSpPr>
          <p:spPr>
            <a:xfrm>
              <a:off x="3726000" y="192852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Line 9"/>
          <p:cNvSpPr/>
          <p:nvPr/>
        </p:nvSpPr>
        <p:spPr>
          <a:xfrm>
            <a:off x="2700360" y="4653000"/>
            <a:ext cx="147636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Imagen 1" descr=""/>
          <p:cNvPicPr/>
          <p:nvPr/>
        </p:nvPicPr>
        <p:blipFill>
          <a:blip r:embed="rId1"/>
          <a:stretch/>
        </p:blipFill>
        <p:spPr>
          <a:xfrm>
            <a:off x="1859040" y="1359000"/>
            <a:ext cx="5425920" cy="4140000"/>
          </a:xfrm>
          <a:prstGeom prst="rect">
            <a:avLst/>
          </a:prstGeom>
          <a:ln w="0">
            <a:noFill/>
          </a:ln>
        </p:spPr>
      </p:pic>
      <p:sp>
        <p:nvSpPr>
          <p:cNvPr id="893" name="CuadroTexto 4"/>
          <p:cNvSpPr/>
          <p:nvPr/>
        </p:nvSpPr>
        <p:spPr>
          <a:xfrm>
            <a:off x="4861080" y="504684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GRACI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/>
          <p:cNvSpPr/>
          <p:nvPr/>
        </p:nvSpPr>
        <p:spPr>
          <a:xfrm flipV="1">
            <a:off x="2567160" y="2638440"/>
            <a:ext cx="276120" cy="1371600"/>
          </a:xfrm>
          <a:prstGeom prst="upArrow">
            <a:avLst>
              <a:gd name="adj1" fmla="val 50000"/>
              <a:gd name="adj2" fmla="val 124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2057400" y="4162320"/>
            <a:ext cx="3429000" cy="45720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"/>
          <p:cNvSpPr/>
          <p:nvPr/>
        </p:nvSpPr>
        <p:spPr>
          <a:xfrm>
            <a:off x="271944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324468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6"/>
          <p:cNvGrpSpPr/>
          <p:nvPr/>
        </p:nvGrpSpPr>
        <p:grpSpPr>
          <a:xfrm>
            <a:off x="5410080" y="1954080"/>
            <a:ext cx="3733920" cy="4776840"/>
            <a:chOff x="5410080" y="1954080"/>
            <a:chExt cx="3733920" cy="4776840"/>
          </a:xfrm>
        </p:grpSpPr>
        <p:sp>
          <p:nvSpPr>
            <p:cNvPr id="584" name="AutoShape 7"/>
            <p:cNvSpPr/>
            <p:nvPr/>
          </p:nvSpPr>
          <p:spPr>
            <a:xfrm>
              <a:off x="5410080" y="1954080"/>
              <a:ext cx="3733920" cy="4776840"/>
            </a:xfrm>
            <a:prstGeom prst="irregularSeal1">
              <a:avLst/>
            </a:prstGeom>
            <a:solidFill>
              <a:srgbClr val="ffffa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WordArt 8"/>
            <p:cNvSpPr txBox="1"/>
            <p:nvPr/>
          </p:nvSpPr>
          <p:spPr>
            <a:xfrm>
              <a:off x="6380280" y="3236040"/>
              <a:ext cx="1906560" cy="19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a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Exposición 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a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Accidental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6" name="AutoShape 9"/>
          <p:cNvSpPr/>
          <p:nvPr/>
        </p:nvSpPr>
        <p:spPr>
          <a:xfrm flipV="1" rot="18900000">
            <a:off x="1480680" y="3377520"/>
            <a:ext cx="302040" cy="838440"/>
          </a:xfrm>
          <a:prstGeom prst="upArrow">
            <a:avLst>
              <a:gd name="adj1" fmla="val 50000"/>
              <a:gd name="adj2" fmla="val 69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 flipV="1" rot="13500000">
            <a:off x="1475640" y="4509720"/>
            <a:ext cx="302040" cy="838440"/>
          </a:xfrm>
          <a:prstGeom prst="upArrow">
            <a:avLst>
              <a:gd name="adj1" fmla="val 50000"/>
              <a:gd name="adj2" fmla="val 69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434340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395280" y="2922480"/>
            <a:ext cx="10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ror huma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324000" y="5154480"/>
            <a:ext cx="10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Equip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2112840" y="1967040"/>
            <a:ext cx="1297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3346560" y="5516640"/>
            <a:ext cx="129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3811680" y="1979640"/>
            <a:ext cx="129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7"/>
          <p:cNvSpPr/>
          <p:nvPr/>
        </p:nvSpPr>
        <p:spPr>
          <a:xfrm flipV="1" rot="10800000">
            <a:off x="2916000" y="4786200"/>
            <a:ext cx="276120" cy="1371600"/>
          </a:xfrm>
          <a:prstGeom prst="upArrow">
            <a:avLst>
              <a:gd name="adj1" fmla="val 50000"/>
              <a:gd name="adj2" fmla="val 124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8"/>
          <p:cNvSpPr/>
          <p:nvPr/>
        </p:nvSpPr>
        <p:spPr>
          <a:xfrm flipV="1">
            <a:off x="4224240" y="2638440"/>
            <a:ext cx="276480" cy="1371600"/>
          </a:xfrm>
          <a:prstGeom prst="upArrow">
            <a:avLst>
              <a:gd name="adj1" fmla="val 50000"/>
              <a:gd name="adj2" fmla="val 124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0" y="-27000"/>
            <a:ext cx="9144000" cy="1739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Lección aprendida de los accidentes:  </a:t>
            </a: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pocas veces los accidentes ocurren debido a un único suce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21" descr="Varianepid"/>
          <p:cNvPicPr/>
          <p:nvPr/>
        </p:nvPicPr>
        <p:blipFill>
          <a:blip r:embed="rId1"/>
          <a:stretch/>
        </p:blipFill>
        <p:spPr>
          <a:xfrm>
            <a:off x="108000" y="3716280"/>
            <a:ext cx="1258920" cy="1168560"/>
          </a:xfrm>
          <a:prstGeom prst="rect">
            <a:avLst/>
          </a:prstGeom>
          <a:ln w="28440">
            <a:solidFill>
              <a:srgbClr val="cc00cc"/>
            </a:solidFill>
            <a:miter/>
          </a:ln>
        </p:spPr>
      </p:pic>
      <p:sp>
        <p:nvSpPr>
          <p:cNvPr id="598" name="22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A28-F587-44A7-BF71-80D3EE90C59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0" y="1673280"/>
            <a:ext cx="9144000" cy="5214600"/>
          </a:xfrm>
          <a:prstGeom prst="rect">
            <a:avLst/>
          </a:prstGeom>
          <a:solidFill>
            <a:srgbClr val="7373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omic Sans MS"/>
              </a:rPr>
              <a:t>para llegar a una exposición accidental debe ocurrir un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MX" sz="7200" spc="-1" strike="noStrike">
                <a:solidFill>
                  <a:srgbClr val="ff0000"/>
                </a:solidFill>
                <a:latin typeface="Times New Roman"/>
              </a:rPr>
              <a:t>suceso iniciador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6000" spc="-1" strike="noStrike">
                <a:solidFill>
                  <a:srgbClr val="000000"/>
                </a:solidFill>
                <a:latin typeface="Comic Sans MS"/>
              </a:rPr>
              <a:t>y una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MX" sz="7200" spc="-1" strike="noStrike">
                <a:solidFill>
                  <a:srgbClr val="ff0000"/>
                </a:solidFill>
                <a:latin typeface="Times New Roman"/>
              </a:rPr>
              <a:t>secuencia accidental</a:t>
            </a:r>
            <a:r>
              <a:rPr b="1" lang="es-MX" sz="6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Métodos de estimación de Riesg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4"/>
          <p:cNvSpPr/>
          <p:nvPr/>
        </p:nvSpPr>
        <p:spPr>
          <a:xfrm>
            <a:off x="4789440" y="4341960"/>
            <a:ext cx="1432080" cy="0"/>
          </a:xfrm>
          <a:prstGeom prst="line">
            <a:avLst/>
          </a:prstGeom>
          <a:ln w="82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3836880" y="3860640"/>
            <a:ext cx="0" cy="881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457200" y="2943360"/>
            <a:ext cx="1963800" cy="10634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rror Humano o Falla de Equipos(f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318276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8"/>
          <p:cNvSpPr/>
          <p:nvPr/>
        </p:nvSpPr>
        <p:spPr>
          <a:xfrm>
            <a:off x="334656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351000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367344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2697120" y="3149640"/>
            <a:ext cx="1646280" cy="85716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rreras de Seguridad (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723960" y="4341960"/>
            <a:ext cx="1431720" cy="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3" descr="BD05584_"/>
          <p:cNvPicPr/>
          <p:nvPr/>
        </p:nvPicPr>
        <p:blipFill>
          <a:blip r:embed="rId1"/>
          <a:srcRect l="31980" t="36451" r="31980" b="41658"/>
          <a:stretch/>
        </p:blipFill>
        <p:spPr>
          <a:xfrm>
            <a:off x="4861080" y="4938840"/>
            <a:ext cx="1288800" cy="9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1" name="Rectangle 14"/>
          <p:cNvSpPr/>
          <p:nvPr/>
        </p:nvSpPr>
        <p:spPr>
          <a:xfrm>
            <a:off x="4640400" y="3443400"/>
            <a:ext cx="1731960" cy="56340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osición Accid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6664320" y="3289320"/>
            <a:ext cx="2228760" cy="7142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nsecuencias (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16" descr=""/>
          <p:cNvPicPr/>
          <p:nvPr/>
        </p:nvPicPr>
        <p:blipFill>
          <a:blip r:embed="rId2"/>
          <a:srcRect l="3504" t="3506" r="3504" b="3506"/>
          <a:stretch/>
        </p:blipFill>
        <p:spPr>
          <a:xfrm>
            <a:off x="841320" y="4830840"/>
            <a:ext cx="1197000" cy="11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4" name="Rectangle 17"/>
          <p:cNvSpPr/>
          <p:nvPr/>
        </p:nvSpPr>
        <p:spPr>
          <a:xfrm>
            <a:off x="2408400" y="2046240"/>
            <a:ext cx="4335480" cy="6620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 = f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18" descr="Posicionamiento del paciente"/>
          <p:cNvPicPr/>
          <p:nvPr/>
        </p:nvPicPr>
        <p:blipFill>
          <a:blip r:embed="rId3">
            <a:lum bright="12000"/>
          </a:blip>
          <a:srcRect l="10888" t="0" r="0" b="13533"/>
          <a:stretch/>
        </p:blipFill>
        <p:spPr>
          <a:xfrm>
            <a:off x="2540160" y="4648320"/>
            <a:ext cx="196056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6" name="Picture 2056" descr=""/>
          <p:cNvPicPr/>
          <p:nvPr/>
        </p:nvPicPr>
        <p:blipFill>
          <a:blip r:embed="rId4"/>
          <a:stretch/>
        </p:blipFill>
        <p:spPr>
          <a:xfrm>
            <a:off x="7169040" y="4194000"/>
            <a:ext cx="1203480" cy="18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7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23840" y="1000080"/>
            <a:ext cx="86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odos los métodos de estimación de riesgo están basados en la ecuación general del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3"/>
          <p:cNvGrpSpPr/>
          <p:nvPr/>
        </p:nvGrpSpPr>
        <p:grpSpPr>
          <a:xfrm>
            <a:off x="1692360" y="1055520"/>
            <a:ext cx="7200360" cy="5391360"/>
            <a:chOff x="1692360" y="1055520"/>
            <a:chExt cx="7200360" cy="5391360"/>
          </a:xfrm>
        </p:grpSpPr>
        <p:sp>
          <p:nvSpPr>
            <p:cNvPr id="620" name="Rectangle 4"/>
            <p:cNvSpPr/>
            <p:nvPr/>
          </p:nvSpPr>
          <p:spPr>
            <a:xfrm>
              <a:off x="1912320" y="1055520"/>
              <a:ext cx="6905880" cy="5387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6"/>
            <p:cNvSpPr/>
            <p:nvPr/>
          </p:nvSpPr>
          <p:spPr>
            <a:xfrm>
              <a:off x="4251960" y="119844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dentificació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 Peligro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8"/>
            <p:cNvGrpSpPr/>
            <p:nvPr/>
          </p:nvGrpSpPr>
          <p:grpSpPr>
            <a:xfrm>
              <a:off x="1763640" y="1108800"/>
              <a:ext cx="2100600" cy="891000"/>
              <a:chOff x="1763640" y="1108800"/>
              <a:chExt cx="2100600" cy="891000"/>
            </a:xfrm>
          </p:grpSpPr>
          <p:sp>
            <p:nvSpPr>
              <p:cNvPr id="623" name="Oval 9"/>
              <p:cNvSpPr/>
              <p:nvPr/>
            </p:nvSpPr>
            <p:spPr>
              <a:xfrm>
                <a:off x="1763640" y="1108800"/>
                <a:ext cx="2100600" cy="89100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Text Box 10"/>
              <p:cNvSpPr/>
              <p:nvPr/>
            </p:nvSpPr>
            <p:spPr>
              <a:xfrm>
                <a:off x="1928880" y="1173240"/>
                <a:ext cx="171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¿Que puede pasar?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5" name="Text Box 11"/>
            <p:cNvSpPr/>
            <p:nvPr/>
          </p:nvSpPr>
          <p:spPr>
            <a:xfrm>
              <a:off x="6794640" y="1217160"/>
              <a:ext cx="2058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Identificación de peligros y sus causa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AutoShape 12"/>
            <p:cNvSpPr/>
            <p:nvPr/>
          </p:nvSpPr>
          <p:spPr>
            <a:xfrm>
              <a:off x="3997800" y="14274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AutoShape 13"/>
            <p:cNvSpPr/>
            <p:nvPr/>
          </p:nvSpPr>
          <p:spPr>
            <a:xfrm rot="10800000">
              <a:off x="6560280" y="14274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15"/>
            <p:cNvSpPr/>
            <p:nvPr/>
          </p:nvSpPr>
          <p:spPr>
            <a:xfrm>
              <a:off x="4244760" y="359928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álculo del Riesg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7"/>
            <p:cNvGrpSpPr/>
            <p:nvPr/>
          </p:nvGrpSpPr>
          <p:grpSpPr>
            <a:xfrm>
              <a:off x="1763640" y="2757960"/>
              <a:ext cx="2100600" cy="891360"/>
              <a:chOff x="1763640" y="2757960"/>
              <a:chExt cx="2100600" cy="891360"/>
            </a:xfrm>
          </p:grpSpPr>
          <p:sp>
            <p:nvSpPr>
              <p:cNvPr id="630" name="Oval 18"/>
              <p:cNvSpPr/>
              <p:nvPr/>
            </p:nvSpPr>
            <p:spPr>
              <a:xfrm>
                <a:off x="1763640" y="2757960"/>
                <a:ext cx="2100600" cy="89136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9"/>
              <p:cNvSpPr/>
              <p:nvPr/>
            </p:nvSpPr>
            <p:spPr>
              <a:xfrm>
                <a:off x="1972440" y="2991960"/>
                <a:ext cx="171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¿Cual es el Riesgo?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AutoShape 21"/>
            <p:cNvSpPr/>
            <p:nvPr/>
          </p:nvSpPr>
          <p:spPr>
            <a:xfrm>
              <a:off x="4249080" y="287460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Análisis de la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nsecuencia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23"/>
            <p:cNvSpPr/>
            <p:nvPr/>
          </p:nvSpPr>
          <p:spPr>
            <a:xfrm>
              <a:off x="6794640" y="2286720"/>
              <a:ext cx="162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Eventos/ Añ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24"/>
            <p:cNvSpPr/>
            <p:nvPr/>
          </p:nvSpPr>
          <p:spPr>
            <a:xfrm>
              <a:off x="6794640" y="2768040"/>
              <a:ext cx="19731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Resultado mas probabl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(Consecu./Evento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25"/>
            <p:cNvSpPr/>
            <p:nvPr/>
          </p:nvSpPr>
          <p:spPr>
            <a:xfrm>
              <a:off x="6794640" y="37450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Frecuen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 x Consec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" name="Group 26"/>
            <p:cNvGrpSpPr/>
            <p:nvPr/>
          </p:nvGrpSpPr>
          <p:grpSpPr>
            <a:xfrm>
              <a:off x="3978360" y="2137680"/>
              <a:ext cx="2562120" cy="637200"/>
              <a:chOff x="3978360" y="2137680"/>
              <a:chExt cx="2562120" cy="637200"/>
            </a:xfrm>
          </p:grpSpPr>
          <p:sp>
            <p:nvSpPr>
              <p:cNvPr id="637" name="AutoShape 28"/>
              <p:cNvSpPr/>
              <p:nvPr/>
            </p:nvSpPr>
            <p:spPr>
              <a:xfrm>
                <a:off x="4249080" y="2137680"/>
                <a:ext cx="2291400" cy="63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6633"/>
                  </a:gs>
                  <a:gs pos="50000">
                    <a:srgbClr val="d6b19c"/>
                  </a:gs>
                  <a:gs pos="100000">
                    <a:srgbClr val="99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Análisis de la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Frecuencia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AutoShape 30"/>
              <p:cNvSpPr/>
              <p:nvPr/>
            </p:nvSpPr>
            <p:spPr>
              <a:xfrm>
                <a:off x="3978360" y="2325600"/>
                <a:ext cx="253800" cy="190440"/>
              </a:xfrm>
              <a:prstGeom prst="rightArrow">
                <a:avLst>
                  <a:gd name="adj1" fmla="val 50000"/>
                  <a:gd name="adj2" fmla="val 33318"/>
                </a:avLst>
              </a:prstGeom>
              <a:solidFill>
                <a:srgbClr val="fe5b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AutoShape 31"/>
            <p:cNvSpPr/>
            <p:nvPr/>
          </p:nvSpPr>
          <p:spPr>
            <a:xfrm>
              <a:off x="3978360" y="31359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32"/>
            <p:cNvSpPr/>
            <p:nvPr/>
          </p:nvSpPr>
          <p:spPr>
            <a:xfrm>
              <a:off x="3692160" y="314136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AutoShape 33"/>
            <p:cNvSpPr/>
            <p:nvPr/>
          </p:nvSpPr>
          <p:spPr>
            <a:xfrm rot="10800000">
              <a:off x="6553080" y="235944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34"/>
            <p:cNvSpPr/>
            <p:nvPr/>
          </p:nvSpPr>
          <p:spPr>
            <a:xfrm rot="10800000">
              <a:off x="6560280" y="30769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35"/>
            <p:cNvSpPr/>
            <p:nvPr/>
          </p:nvSpPr>
          <p:spPr>
            <a:xfrm rot="10800000">
              <a:off x="6557400" y="38250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36"/>
            <p:cNvSpPr/>
            <p:nvPr/>
          </p:nvSpPr>
          <p:spPr>
            <a:xfrm>
              <a:off x="3983760" y="384192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37"/>
            <p:cNvSpPr/>
            <p:nvPr/>
          </p:nvSpPr>
          <p:spPr>
            <a:xfrm>
              <a:off x="3964320" y="2376360"/>
              <a:ext cx="0" cy="1591920"/>
            </a:xfrm>
            <a:prstGeom prst="line">
              <a:avLst/>
            </a:prstGeom>
            <a:ln w="9360">
              <a:solidFill>
                <a:srgbClr val="dc5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Text Box 38"/>
            <p:cNvSpPr/>
            <p:nvPr/>
          </p:nvSpPr>
          <p:spPr>
            <a:xfrm>
              <a:off x="6794640" y="5866200"/>
              <a:ext cx="197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Implementación de la gestión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Text Box 39"/>
            <p:cNvSpPr/>
            <p:nvPr/>
          </p:nvSpPr>
          <p:spPr>
            <a:xfrm>
              <a:off x="6794640" y="4521240"/>
              <a:ext cx="197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terio ALARP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41"/>
            <p:cNvSpPr/>
            <p:nvPr/>
          </p:nvSpPr>
          <p:spPr>
            <a:xfrm>
              <a:off x="4233600" y="434880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oma de decision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44"/>
            <p:cNvSpPr/>
            <p:nvPr/>
          </p:nvSpPr>
          <p:spPr>
            <a:xfrm>
              <a:off x="4232160" y="509832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ducción d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iesg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AutoShape 47"/>
            <p:cNvSpPr/>
            <p:nvPr/>
          </p:nvSpPr>
          <p:spPr>
            <a:xfrm>
              <a:off x="4232160" y="579708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Supervisión 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Vigilanci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Group 49"/>
            <p:cNvGrpSpPr/>
            <p:nvPr/>
          </p:nvGrpSpPr>
          <p:grpSpPr>
            <a:xfrm>
              <a:off x="1692360" y="4990320"/>
              <a:ext cx="2136960" cy="821160"/>
              <a:chOff x="1692360" y="4990320"/>
              <a:chExt cx="2136960" cy="821160"/>
            </a:xfrm>
          </p:grpSpPr>
          <p:sp>
            <p:nvSpPr>
              <p:cNvPr id="652" name="Oval 50"/>
              <p:cNvSpPr/>
              <p:nvPr/>
            </p:nvSpPr>
            <p:spPr>
              <a:xfrm>
                <a:off x="1728720" y="4990320"/>
                <a:ext cx="2100600" cy="82116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Text Box 51"/>
              <p:cNvSpPr/>
              <p:nvPr/>
            </p:nvSpPr>
            <p:spPr>
              <a:xfrm>
                <a:off x="1692360" y="5216040"/>
                <a:ext cx="21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Gestión del Riesgo 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AutoShape 52"/>
            <p:cNvSpPr/>
            <p:nvPr/>
          </p:nvSpPr>
          <p:spPr>
            <a:xfrm rot="10800000">
              <a:off x="6543360" y="45871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53"/>
            <p:cNvSpPr/>
            <p:nvPr/>
          </p:nvSpPr>
          <p:spPr>
            <a:xfrm rot="10800000">
              <a:off x="6560280" y="60361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54"/>
            <p:cNvSpPr/>
            <p:nvPr/>
          </p:nvSpPr>
          <p:spPr>
            <a:xfrm>
              <a:off x="3964320" y="53355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AutoShape 55"/>
            <p:cNvSpPr/>
            <p:nvPr/>
          </p:nvSpPr>
          <p:spPr>
            <a:xfrm>
              <a:off x="3964320" y="605304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56"/>
            <p:cNvSpPr/>
            <p:nvPr/>
          </p:nvSpPr>
          <p:spPr>
            <a:xfrm>
              <a:off x="3683520" y="53355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3947400" y="4618080"/>
              <a:ext cx="0" cy="1591920"/>
            </a:xfrm>
            <a:prstGeom prst="line">
              <a:avLst/>
            </a:prstGeom>
            <a:ln w="9360">
              <a:solidFill>
                <a:srgbClr val="dc5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58"/>
            <p:cNvSpPr/>
            <p:nvPr/>
          </p:nvSpPr>
          <p:spPr>
            <a:xfrm>
              <a:off x="3947400" y="454536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Text Box 59"/>
            <p:cNvSpPr/>
            <p:nvPr/>
          </p:nvSpPr>
          <p:spPr>
            <a:xfrm>
              <a:off x="6794640" y="5244120"/>
              <a:ext cx="197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sto-benefici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AutoShape 60"/>
            <p:cNvSpPr/>
            <p:nvPr/>
          </p:nvSpPr>
          <p:spPr>
            <a:xfrm rot="10800000">
              <a:off x="6543360" y="531432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61"/>
            <p:cNvSpPr/>
            <p:nvPr/>
          </p:nvSpPr>
          <p:spPr>
            <a:xfrm>
              <a:off x="1930680" y="4302360"/>
              <a:ext cx="684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62"/>
            <p:cNvSpPr/>
            <p:nvPr/>
          </p:nvSpPr>
          <p:spPr>
            <a:xfrm>
              <a:off x="1936440" y="2081520"/>
              <a:ext cx="684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Text Box 62"/>
          <p:cNvSpPr/>
          <p:nvPr/>
        </p:nvSpPr>
        <p:spPr>
          <a:xfrm>
            <a:off x="34920" y="2589120"/>
            <a:ext cx="1841400" cy="155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étodos de Estimación de Ries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78920" y="1074600"/>
            <a:ext cx="774252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La Estimación de Riesgo puede ser realizada utilizando tres enfoques: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80880" y="1989000"/>
            <a:ext cx="81946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uantitativo,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Semi-Cuantitativo,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ualitativo.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254160" y="3646440"/>
            <a:ext cx="8781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dos los enfoques implican pasos similares y se puede utilizar cualquiera de las diferentes técnicas que se han desarrollado para implementar cada uno de estos enfo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250920" y="1125360"/>
            <a:ext cx="8610480" cy="4559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étodos Cuantitativo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n valores numéricos obtenidos de diferentes fuentes (por ejemplo, datos de análisis históricos o experimentales, datos proporcionados por los fabricantes, datos obtenidos de bancos de datos genéricos) y realizan cálculos utilizando modelos matemátic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uantifican mediante arboles de eventos o arboles de fallo o mediante Análisis Probabilista de Seguridad (PSA) que se destaca como el método mas complete entre los métodos cuantitativ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250920" y="1125360"/>
            <a:ext cx="8610480" cy="365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étodos Cualitativos y Semi-cuantitativo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n índices o niveles de probabilidad y gravedad de las consecuencias, combinando información de varias fuentes, algunas de las cuales pueden ser cuantitativa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El método de Matriz de Riesgo puede ser usado como método cualitati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El método de Número de Prioridad del Riesgo (RPN) puede ser usado como método semi-cuantitati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36:05Z</dcterms:created>
  <dc:creator>TSA1</dc:creator>
  <dc:description/>
  <dc:language>en-US</dc:language>
  <cp:lastModifiedBy>DRÁBOVÁ, Veronika</cp:lastModifiedBy>
  <cp:lastPrinted>2012-03-07T09:50:48Z</cp:lastPrinted>
  <dcterms:modified xsi:type="dcterms:W3CDTF">2020-01-22T12:43:19Z</dcterms:modified>
  <cp:revision>1240</cp:revision>
  <dc:subject/>
  <dc:title>L05 Elementos de la evaluación  de la seguridad I</dc:title>
</cp:coreProperties>
</file>