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1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12"/>
          </p:nvPr>
        </p:nvSpPr>
        <p:spPr>
          <a:xfrm>
            <a:off x="0" y="941040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valuación de Seguridad en Instalaciones Radiac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13"/>
          </p:nvPr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1646EF-5BA3-4C13-9201-D8C23828F3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como resultado de una evaluación de seguridad, o por cualquier otra razón, las oportunidades para mejorar la protección y la seguridad parecen estar disponibles y la mejora parece ser deseable, cualquier modificación consecuente se realizará con precaución y solo después de una evaluación favorable de todas las implicaciones para la protección y la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quisito 15: Prevención y mitigación de accid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43. Si la evaluación de la seguridad indica que existen probabilidades razonables de que se produzca una emergencia que afecte a los trabajadores o a los miembros del publico, el titular registrado o el titular de la licencia preparara un plan de emergencia para la protección de las personas y el medio ambiente. Como parte de ese plan, el titular registrado o el titular de la licencia incluirá disposiciones para la rápida identificación de la emergencia y la determinación del nivel apropiad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respuesta a la emergencia [15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3 Marcador de número de diapositiva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C01043-48AE-4F08-824B-69D9212BD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D283D6-3E30-4884-9D0E-5B9077D8F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7000" y="76212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20520" y="4719600"/>
            <a:ext cx="498780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2E34DB-BB6E-42D1-9EE8-E56C7B2185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7000" y="76212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0520" y="4719600"/>
            <a:ext cx="498780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0E8ACD-4D3A-477A-B9DD-636EB53F6B4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B93B6-7FF5-42D8-977B-7A3322AA679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848960-1600-4DD2-8630-6A9530EB55C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9D955-272E-4239-B339-3952B8BBE97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7EF7F-07FB-4160-8271-0F058488928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AD555-6F45-4F47-99BD-C5B3221D353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CC312C-2C36-402E-9E90-56A3D3F2EF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8F81F-4CA8-4C06-92BB-D6562F108FE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8E168A-F831-4564-97CE-F786009B603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D915E-3604-4602-97E1-09E970C93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659DA-8A11-45BD-90DB-C98BED93481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0090A-F831-41BF-9102-1F23F7B8EA1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2E06F-DE3A-4D4B-9F31-72F2327348C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CF041-1531-4DCE-8699-E056201DABE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E1F6E-E93D-4C39-B700-9999F3E5C62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7059F-2AA1-491D-BB85-12A48FB4766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940EC-3219-430E-B2C8-D995782AAE8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48EF2-F12F-4FB5-8162-A1F526AED73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F27AF-51E8-46BB-9FD6-A1096CEAC9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4A1E2-A383-418D-B970-6EC0F036C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1BDBE-1B47-41ED-A45A-E8B5CD1DF94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90F0-69FF-4F7D-B1A7-7967474632F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669D-6E17-4230-A250-3C802627332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7E6C-9B5F-4733-8CEF-33E2D9F6B69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5924F-126A-4C50-96C0-81D778E9DD9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7936-73EE-4F05-BE30-8BEC23121CF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62F5-50F9-4D55-9594-A598CA1379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B015-C1B6-4DCE-996B-9484D3C53B1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D8800-3637-4136-B07E-9B40B9762FE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827A-0129-4CAE-A747-5635EBE38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BD4A-16E9-45AF-8193-A72969575BB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C0CC2-DBB0-46A2-BFF1-38DD09206CE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2E5B-559E-41B0-A876-7CC13D8E059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7B7E7-976D-4BC3-B9A0-3A13782AC56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0F3967-1882-4960-B67F-E016C0107B8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A0AC3-D89E-4D6F-9292-354C6FD6AAC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22793-BCAC-4BFE-A804-BB2C38FC9A2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A1D2D-A48B-4B8B-AFC0-1809FA8C616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149E92-D64E-4A5B-B660-3C6B5BE0255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1628A-4AD5-401A-87DC-08B9C97A88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3511C-349B-4BF2-B629-4415E55DB60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1D796-E8EB-4439-AA66-9BFF6F082FB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6900A9-7C4B-4DA6-9281-31E50F05B45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05FA9-7C06-48CE-B506-443B98CCB8B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9E260-7224-4AEB-B636-C6BF2A58B0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1273-805A-4A6A-91D2-DC2223578A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096E-7605-4BB0-856B-8C9A3AAC79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5A9A-7970-4D18-BF71-3BD98A57A7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82F2-D94B-4193-A561-779253C464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B4EE-7B1D-4459-829E-9BCF592F3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9264-33A1-48C8-9041-90E605E0C5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6628-DBE0-4CBF-A87D-84920F5736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3934-0F70-4A82-906B-2F99E683B0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8587-6EEC-4376-AD35-22665A1F5D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C4B2-AE95-4A27-B684-03FAEC406F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9FF6-B037-495F-AE2B-E6A334B6DA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ED7E-4060-49C6-AABF-A83ED5C5C9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D9EF-4F27-476C-877B-60380EA194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9C2F-BABD-40A4-A0B4-E113D85BFC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1C4B-6A3C-487C-9FAA-2E4228EF0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93AE-8752-4D02-AD4F-D240B76E20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C1E0-2F57-41F7-8359-499E8B23BD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2948-F779-430D-AEAE-ACA1231359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1E83-845A-42B2-8039-F879057D74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ED50-B533-46D4-89D1-81BF625335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E5C4-3439-416A-B4AC-10A1FFCCB7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DB6D-F108-4517-A915-6920BD2B21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E502-691A-4910-96B7-A1CCACF4D7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EE65-9D1E-4A12-A70E-BF1922693B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4C1-384F-4815-A688-0E83B0E78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AA8-A817-4FD9-99BD-0AEBCBFB88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842-2C84-455C-AA94-B1B327BC738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C92-1775-482F-BA83-F0A27565B0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35C-94AB-4DDD-B6CF-508110F6C95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FD2-DFA3-4381-A97F-5E00871A7E6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726-BB2D-42F0-9F64-405217CD413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E9F-7294-4E39-BD6F-C68B7A1B9A2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A46-0B3E-43D6-BA60-6FB11C58460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512-C0BF-47C3-B41A-3972BC9AA93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382-8E04-431E-99C8-779A6A464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DC7-4638-4B2C-AC06-FDB76E608A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2850C-F447-495C-8326-6F7377237A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11472-6BB3-41DA-8DF0-46FB6EDA2B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74748-5B18-4E3E-9EC8-4A5B0D85F4F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A9A32-22AA-4AC3-93DF-079A17E46FC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6F0E3-8493-4838-8A5E-8E3872B0917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88B57-AEC0-4744-AEA7-CC8D0A87E3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3881F-BD43-40CB-892A-B67BE7AC58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0DD0C-C328-4BF1-871C-FED1383D64F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2CD52-A6B6-4BD6-9ACE-839D8D314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10293-6EE4-4BD9-9608-61CF134A199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1FC8D-6423-4AC3-A9DA-65F968D0EFA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D6FF8-8CEF-4987-86F1-6E291B80E1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3F6E1-7C81-43BC-8CC7-8B07F83BB72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B13CE-DCC0-4437-9C62-F08C1824FB6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BA336-98AD-427F-A36D-81678EBA49B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24AA5-04F3-4B93-A521-BD355ABAFE6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F55A1-0813-4F49-8BA9-655A4ED437D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601B0-549B-4CAF-BD52-065697F85D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4003B-164E-41F8-BDD6-84489EDF4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D452F-C1B9-4101-B3DF-A07B619394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42E9C-CB58-408A-8C06-A12C1FACB3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36439-BD76-408D-801C-57C57720F5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7E094-90A4-45D5-AFFB-BB79C35B785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0281F-B610-41CA-B6E9-5AA891D5D9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A247-DCE6-4F6E-8DA3-FD7B4FBA604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D4A2-3E11-48F4-AC7C-4E2FACDDFFB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ABD4-FABD-4742-80D6-FE1863EBAE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C718-0DB6-4E53-AC7E-FAE40A363B6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71E5-F38C-431B-8B5F-60BD14274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3A53-DD03-4D9D-8A88-9C4E12E5396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2B28-B1EF-4715-A0A8-018D30F9DA1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BF37-207C-4007-83A3-7ACAED6AC6A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DEB4-F18A-4582-B55B-6B291CE39B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90BE-A55C-438E-9F58-08667459CC3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0712-96F0-4F8B-A253-34D9897D8CF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2658-EB90-4417-B5F7-5B30B9AA8AB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17EE4-A6E9-4B7A-B76A-5803F33EDB6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E5618-F5EF-4461-9C36-78CDDF8EC29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0EC799-0C5E-4AB6-B75D-97E202C13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9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8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E4FE-1AAA-4DFA-AE8F-D51258C0E42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38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9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A69F-2271-4D8D-8CEC-F219429F5FF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8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10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2C62-F8A0-45F9-A934-7AD5289A9BFF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rcRect l="33219" t="32303" r="34288" b="32623"/>
          <a:stretch/>
        </p:blipFill>
        <p:spPr>
          <a:xfrm>
            <a:off x="3740040" y="404640"/>
            <a:ext cx="1598760" cy="1381320"/>
          </a:xfrm>
          <a:prstGeom prst="rect">
            <a:avLst/>
          </a:prstGeom>
          <a:ln w="31680">
            <a:solidFill>
              <a:srgbClr val="6598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85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04BD-9D87-48E1-A9F0-2B4651C4CF3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129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17 CuadroTexto"/>
          <p:cNvSpPr/>
          <p:nvPr/>
        </p:nvSpPr>
        <p:spPr>
          <a:xfrm>
            <a:off x="2340000" y="6434280"/>
            <a:ext cx="518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500" spc="-1" strike="noStrike">
                <a:solidFill>
                  <a:srgbClr val="333399"/>
                </a:solidFill>
                <a:latin typeface="Arial"/>
              </a:rPr>
              <a:t>Evaluación de Seguridad en Instalaciones Radiactiva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2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C366-C293-4BD6-A3E3-797376F07BB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17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3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BB64-4099-4951-ABAC-11E493A3781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218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4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58A7-D2E2-487F-995A-83969927F7A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26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5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A3B4-C46B-4226-A7C4-7F8EA42367D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06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6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E49D-C064-43C6-9DA8-204DC6AF3F2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50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7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3BE7-313D-40AD-B804-D2FFC64FB9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214200" y="2492280"/>
            <a:ext cx="87156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99"/>
                </a:solidFill>
                <a:latin typeface="Arial"/>
              </a:rPr>
              <a:t>L02.- Evaluación de Seguridad en la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SR Parte 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50920" y="5418000"/>
            <a:ext cx="87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ganismo Internacional de Energía Atómica</a:t>
            </a:r>
            <a:r>
              <a:rPr b="1" i="1" lang="es-MX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68360" y="126792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Toda persona u organización que solicite una autorización es responsable por la realización de una evaluación de la seguridad que presentará al órgano regulador como parte de la solicitu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64" name="Object 4"/>
          <p:cNvGraphicFramePr/>
          <p:nvPr/>
        </p:nvGraphicFramePr>
        <p:xfrm>
          <a:off x="3276720" y="3295800"/>
          <a:ext cx="28573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295800"/>
                    <a:ext cx="28573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6603840" y="4572000"/>
            <a:ext cx="2111400" cy="185724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7440" y="107172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quisito 13: Evaluación de la segurid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14200" y="1571760"/>
            <a:ext cx="8593200" cy="357192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l órgano regulador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tablecerá requisitos aplicables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 personas u organizaciones responsables de instalaciones y actividades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den lugar a riesgos radiológicos para que realicen una evaluación adecuada de la seguridad.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ntes de conceder una autorización,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la persona u organización responsable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deberá presentar una evaluación de la seguridad que el órgano regulador revisará y evaluará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5" descr=""/>
          <p:cNvPicPr/>
          <p:nvPr/>
        </p:nvPicPr>
        <p:blipFill>
          <a:blip r:embed="rId1"/>
          <a:stretch/>
        </p:blipFill>
        <p:spPr>
          <a:xfrm>
            <a:off x="7594560" y="836640"/>
            <a:ext cx="1154160" cy="10144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17440" y="107172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quisito 13: Evaluación de la segurid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55600" y="1484280"/>
            <a:ext cx="8888400" cy="460872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Los solicitantes de autorización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realizarán una evaluación de la seguridad que sea genérica o especifica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ara la practica o fuente de la que sean responsable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na evaluación genérica de la seguridad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uele bastar para los tipos de fuente con un diseño muy uniforme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donde la seguridad de la práctica se garantiza básicamente con la seguridad de la fuente)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evaluación especifica de la seguridad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e suele exigir en otros casos; no obstante, las evaluaciones especificas de la seguridad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no tienen que incluir los aspectos que abarca una evaluación genérica de la seguridad,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i esta se ha realizado para la fuente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07640" y="980640"/>
            <a:ext cx="8721720" cy="538812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evaluación de la seguridad incluirá, según corresponda, un examen critico sistemático de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os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limites y condiciones operacionales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para la explotación de la instalación;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as formas en que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las estructuras, los sistemas y los componentes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, incluidos los programas informáticos, y los procedimientos relativos a la protección y la seguridad podrían fallar, individualmente o en combinación, o podrían dar lugar de otro modo a exposiciones, y las consecuencias de esos sucesos;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as formas en que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factores externos podrían afectar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 la protección y la seguridad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as formas en que los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procedimientos operacionales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relacionados con la protección y la seguridad podrían ser erróneos, y las consecuencias de esos errores.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as implicaciones para la protección y la seguridad de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toda modificación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as implicaciones para la protección y la seguridad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de las medidas de seguridad física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 o de toda modificación de esas medidas,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toda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incertidumbre o supuesto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y sus implicaciones para la protección y la seguridad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5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00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7640" y="1000080"/>
            <a:ext cx="8628120" cy="495000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 fontScale="98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Arial"/>
              </a:rPr>
              <a:t>El titular registrado o el titular de la licencia tendrá en cuenta en la evaluación de la seguridad: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76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factores que podrían </a:t>
            </a:r>
            <a:r>
              <a:rPr b="1" i="1" lang="es-ES" sz="1900" spc="-1" strike="noStrike">
                <a:solidFill>
                  <a:srgbClr val="333399"/>
                </a:solidFill>
                <a:latin typeface="Arial"/>
              </a:rPr>
              <a:t>precipitar una emisión importante de material radiactivo, las medidas disponibles para evitar o controlar esa emisión</a:t>
            </a: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, y la actividad máxima de material radiactivo que, en caso de un fallo importante de la contención, podría emitirse al medio ambiente;</a:t>
            </a:r>
            <a:endParaRPr b="0" i="1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76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factores que podrían </a:t>
            </a:r>
            <a:r>
              <a:rPr b="1" i="1" lang="es-ES" sz="1900" spc="-1" strike="noStrike">
                <a:solidFill>
                  <a:srgbClr val="333399"/>
                </a:solidFill>
                <a:latin typeface="Arial"/>
              </a:rPr>
              <a:t>precipitar una emisión menor pero constante de material radiactivo</a:t>
            </a: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, y las medidas disponibles para detectar y evitar o controlar esa emisión;</a:t>
            </a:r>
            <a:endParaRPr b="0" i="1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76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factores que podrían dar lugar </a:t>
            </a:r>
            <a:r>
              <a:rPr b="1" i="1" lang="es-ES" sz="1900" spc="-1" strike="noStrike">
                <a:solidFill>
                  <a:srgbClr val="333399"/>
                </a:solidFill>
                <a:latin typeface="Arial"/>
              </a:rPr>
              <a:t>al funcionamiento involuntario de cualquier generador de radiación o a una perdida del blindaje</a:t>
            </a: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, y las medidas disponibles para detectar y evitar o controlar esos sucesos;</a:t>
            </a:r>
            <a:endParaRPr b="0" i="1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76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el grado en que se han empleado </a:t>
            </a:r>
            <a:r>
              <a:rPr b="1" i="1" lang="es-ES" sz="1900" spc="-1" strike="noStrike">
                <a:solidFill>
                  <a:srgbClr val="333399"/>
                </a:solidFill>
                <a:latin typeface="Arial"/>
              </a:rPr>
              <a:t>elementos de seguridad redundantes y diversos</a:t>
            </a: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, que sean independientes entre si, de modo que el fallo de uno no de lugar al fallo del otro. Garantizando que sean adecuados para limitar las probabilidades y la magnitud de la exposición potencial.</a:t>
            </a:r>
            <a:endParaRPr b="0" i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0" name="Picture 7" descr="MCj00823530000[1]"/>
          <p:cNvPicPr/>
          <p:nvPr/>
        </p:nvPicPr>
        <p:blipFill>
          <a:blip r:embed="rId1"/>
          <a:stretch/>
        </p:blipFill>
        <p:spPr>
          <a:xfrm>
            <a:off x="8248680" y="5661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Los titulares registrados y los titulares de las licencias asegurarán que la evaluación de la seguridad este documentada y, según convenga, que 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sea sometida a un examen independiente en el marco del sistema de gestión pertinente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8299440" y="6369120"/>
            <a:ext cx="6825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8101-6462-40D6-8A7A-4600F1F4DBA6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Picture 8" descr="MCBD06622_0000[1]"/>
          <p:cNvPicPr/>
          <p:nvPr/>
        </p:nvPicPr>
        <p:blipFill>
          <a:blip r:embed="rId1"/>
          <a:stretch/>
        </p:blipFill>
        <p:spPr>
          <a:xfrm>
            <a:off x="3379680" y="3213000"/>
            <a:ext cx="2552760" cy="29703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1 Objeto"/>
          <p:cNvGraphicFramePr/>
          <p:nvPr/>
        </p:nvGraphicFramePr>
        <p:xfrm>
          <a:off x="7818480" y="1052640"/>
          <a:ext cx="132552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1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8480" y="1052640"/>
                    <a:ext cx="132552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14200" y="981000"/>
            <a:ext cx="7886880" cy="540072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Se realizaran exámenes adicionales y actualizaciones de la evaluación de la seguridad cuando: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60440" indent="-282960"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 prevea introducir modificaciones importantes</a:t>
            </a:r>
            <a:br>
              <a:rPr sz="2000"/>
            </a:b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en la instalación o en sus procedimientos operacionales o de mantenimiento;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60440" indent="-282960"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 produzcan cambios importantes en el emplazamiento que pudieran afectar a la seguridad de la instalación o de las actividades en el emplazamiento;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60440" indent="-282960"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la información sobre la experiencia operacional, o la información sobre accidentes y otros incidentes que podrían dar origen a exposiciones, indique que la evaluación actual podría no ser valida;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60440" indent="-282960"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 prevea introducir cambios importantes en las actividades;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60440" indent="-282960"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 prevea introducir o se hayan introducido cambios pertinentes en las directrices o normas.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031" descr="18MV maze entrance"/>
          <p:cNvPicPr/>
          <p:nvPr/>
        </p:nvPicPr>
        <p:blipFill>
          <a:blip r:embed="rId1"/>
          <a:srcRect l="7257" t="0" r="0" b="0"/>
          <a:stretch/>
        </p:blipFill>
        <p:spPr>
          <a:xfrm>
            <a:off x="5881680" y="3525840"/>
            <a:ext cx="2759040" cy="227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0" name="5 Rectángulo"/>
          <p:cNvSpPr/>
          <p:nvPr/>
        </p:nvSpPr>
        <p:spPr>
          <a:xfrm>
            <a:off x="324000" y="2403360"/>
            <a:ext cx="6264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13840" y="1142640"/>
            <a:ext cx="8572680" cy="271476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i como resultado de una evaluación de la seguridad, o por cualquier otra razón, parecen existir oportunidades de mejorar la protección y la seguridad y las mejoras parecen conveniente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toda modificación consiguiente se hará con cautel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y no antes de disponer de una evaluación favorable de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todas las implicaciones para la protección y la seguridad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2" name="5 Rectángulo"/>
          <p:cNvSpPr/>
          <p:nvPr/>
        </p:nvSpPr>
        <p:spPr>
          <a:xfrm>
            <a:off x="214200" y="4145040"/>
            <a:ext cx="5715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d2d8a"/>
                </a:solidFill>
                <a:latin typeface="Arial"/>
              </a:rPr>
              <a:t>La puesta en practica de todas las mejoras seguirá </a:t>
            </a:r>
            <a:r>
              <a:rPr b="1" lang="es-ES" sz="2600" spc="-1" strike="noStrike">
                <a:solidFill>
                  <a:srgbClr val="2d2d8a"/>
                </a:solidFill>
                <a:latin typeface="Arial"/>
              </a:rPr>
              <a:t>un orden de prioridades</a:t>
            </a:r>
            <a:r>
              <a:rPr b="1" lang="es-ES" sz="2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d2d8a"/>
                </a:solidFill>
                <a:latin typeface="Arial"/>
              </a:rPr>
              <a:t>que permita optimizar la protección y la seguridad</a:t>
            </a:r>
            <a:r>
              <a:rPr b="1" lang="es-ES" sz="2400" spc="-1" strike="noStrike">
                <a:solidFill>
                  <a:srgbClr val="2d2d8a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142560"/>
            <a:ext cx="80359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EVALUACIÓN DE SEGURIDAD Y LA PREPARACIÓN Y RESPUESTA A EMERGENCI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1028"/>
          <p:cNvGrpSpPr/>
          <p:nvPr/>
        </p:nvGrpSpPr>
        <p:grpSpPr>
          <a:xfrm>
            <a:off x="5580000" y="3900600"/>
            <a:ext cx="2687760" cy="2407680"/>
            <a:chOff x="5580000" y="3900600"/>
            <a:chExt cx="2687760" cy="2407680"/>
          </a:xfrm>
        </p:grpSpPr>
        <p:sp>
          <p:nvSpPr>
            <p:cNvPr id="596" name="Freeform 1029"/>
            <p:cNvSpPr/>
            <p:nvPr/>
          </p:nvSpPr>
          <p:spPr>
            <a:xfrm>
              <a:off x="5580000" y="3911400"/>
              <a:ext cx="2687760" cy="2396880"/>
            </a:xfrm>
            <a:custGeom>
              <a:avLst/>
              <a:gdLst>
                <a:gd name="textAreaLeft" fmla="*/ 0 w 2687760"/>
                <a:gd name="textAreaRight" fmla="*/ 2687760 w 2687760"/>
                <a:gd name="textAreaTop" fmla="*/ 0 h 2396880"/>
                <a:gd name="textAreaBottom" fmla="*/ 2397240 h 2396880"/>
              </a:gdLst>
              <a:ahLst/>
              <a:rect l="textAreaLeft" t="textAreaTop" r="textAreaRight" b="textAreaBottom"/>
              <a:pathLst>
                <a:path w="2302" h="2294">
                  <a:moveTo>
                    <a:pt x="1596" y="41"/>
                  </a:moveTo>
                  <a:lnTo>
                    <a:pt x="161" y="15"/>
                  </a:lnTo>
                  <a:lnTo>
                    <a:pt x="154" y="41"/>
                  </a:lnTo>
                  <a:lnTo>
                    <a:pt x="135" y="45"/>
                  </a:lnTo>
                  <a:lnTo>
                    <a:pt x="120" y="38"/>
                  </a:lnTo>
                  <a:lnTo>
                    <a:pt x="113" y="26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4" y="15"/>
                  </a:lnTo>
                  <a:lnTo>
                    <a:pt x="23" y="53"/>
                  </a:lnTo>
                  <a:lnTo>
                    <a:pt x="8" y="237"/>
                  </a:lnTo>
                  <a:lnTo>
                    <a:pt x="0" y="484"/>
                  </a:lnTo>
                  <a:lnTo>
                    <a:pt x="4" y="533"/>
                  </a:lnTo>
                  <a:lnTo>
                    <a:pt x="387" y="2133"/>
                  </a:lnTo>
                  <a:lnTo>
                    <a:pt x="394" y="2208"/>
                  </a:lnTo>
                  <a:lnTo>
                    <a:pt x="413" y="2241"/>
                  </a:lnTo>
                  <a:lnTo>
                    <a:pt x="447" y="2275"/>
                  </a:lnTo>
                  <a:lnTo>
                    <a:pt x="477" y="2271"/>
                  </a:lnTo>
                  <a:lnTo>
                    <a:pt x="499" y="2241"/>
                  </a:lnTo>
                  <a:lnTo>
                    <a:pt x="522" y="2211"/>
                  </a:lnTo>
                  <a:lnTo>
                    <a:pt x="545" y="2204"/>
                  </a:lnTo>
                  <a:lnTo>
                    <a:pt x="563" y="2215"/>
                  </a:lnTo>
                  <a:lnTo>
                    <a:pt x="578" y="2234"/>
                  </a:lnTo>
                  <a:lnTo>
                    <a:pt x="2268" y="2294"/>
                  </a:lnTo>
                  <a:lnTo>
                    <a:pt x="2287" y="2286"/>
                  </a:lnTo>
                  <a:lnTo>
                    <a:pt x="2298" y="2268"/>
                  </a:lnTo>
                  <a:lnTo>
                    <a:pt x="2291" y="2249"/>
                  </a:lnTo>
                  <a:lnTo>
                    <a:pt x="2268" y="2241"/>
                  </a:lnTo>
                  <a:lnTo>
                    <a:pt x="612" y="2204"/>
                  </a:lnTo>
                  <a:lnTo>
                    <a:pt x="597" y="2185"/>
                  </a:lnTo>
                  <a:lnTo>
                    <a:pt x="571" y="2170"/>
                  </a:lnTo>
                  <a:lnTo>
                    <a:pt x="545" y="2166"/>
                  </a:lnTo>
                  <a:lnTo>
                    <a:pt x="518" y="2166"/>
                  </a:lnTo>
                  <a:lnTo>
                    <a:pt x="499" y="2181"/>
                  </a:lnTo>
                  <a:lnTo>
                    <a:pt x="492" y="2193"/>
                  </a:lnTo>
                  <a:lnTo>
                    <a:pt x="484" y="2208"/>
                  </a:lnTo>
                  <a:lnTo>
                    <a:pt x="473" y="2223"/>
                  </a:lnTo>
                  <a:lnTo>
                    <a:pt x="454" y="2219"/>
                  </a:lnTo>
                  <a:lnTo>
                    <a:pt x="447" y="2211"/>
                  </a:lnTo>
                  <a:lnTo>
                    <a:pt x="439" y="2193"/>
                  </a:lnTo>
                  <a:lnTo>
                    <a:pt x="439" y="2181"/>
                  </a:lnTo>
                  <a:lnTo>
                    <a:pt x="439" y="2065"/>
                  </a:lnTo>
                  <a:lnTo>
                    <a:pt x="451" y="1952"/>
                  </a:lnTo>
                  <a:lnTo>
                    <a:pt x="469" y="1843"/>
                  </a:lnTo>
                  <a:lnTo>
                    <a:pt x="499" y="1772"/>
                  </a:lnTo>
                  <a:lnTo>
                    <a:pt x="511" y="1761"/>
                  </a:lnTo>
                  <a:lnTo>
                    <a:pt x="514" y="1753"/>
                  </a:lnTo>
                  <a:lnTo>
                    <a:pt x="522" y="1750"/>
                  </a:lnTo>
                  <a:lnTo>
                    <a:pt x="545" y="1750"/>
                  </a:lnTo>
                  <a:lnTo>
                    <a:pt x="563" y="1783"/>
                  </a:lnTo>
                  <a:lnTo>
                    <a:pt x="590" y="1802"/>
                  </a:lnTo>
                  <a:lnTo>
                    <a:pt x="631" y="1798"/>
                  </a:lnTo>
                  <a:lnTo>
                    <a:pt x="2261" y="1840"/>
                  </a:lnTo>
                  <a:lnTo>
                    <a:pt x="2276" y="1836"/>
                  </a:lnTo>
                  <a:lnTo>
                    <a:pt x="2294" y="1828"/>
                  </a:lnTo>
                  <a:lnTo>
                    <a:pt x="2298" y="1817"/>
                  </a:lnTo>
                  <a:lnTo>
                    <a:pt x="2302" y="1810"/>
                  </a:lnTo>
                  <a:lnTo>
                    <a:pt x="2298" y="1795"/>
                  </a:lnTo>
                  <a:lnTo>
                    <a:pt x="2294" y="1787"/>
                  </a:lnTo>
                  <a:lnTo>
                    <a:pt x="2291" y="1780"/>
                  </a:lnTo>
                  <a:lnTo>
                    <a:pt x="2287" y="1776"/>
                  </a:lnTo>
                  <a:lnTo>
                    <a:pt x="1596" y="4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6600"/>
                </a:gs>
              </a:gsLst>
              <a:lin ang="5400000"/>
            </a:gradFill>
            <a:ln w="0">
              <a:solidFill>
                <a:srgbClr val="8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030"/>
            <p:cNvSpPr/>
            <p:nvPr/>
          </p:nvSpPr>
          <p:spPr>
            <a:xfrm>
              <a:off x="6092280" y="5739840"/>
              <a:ext cx="2135160" cy="51372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829" h="491">
                  <a:moveTo>
                    <a:pt x="1822" y="90"/>
                  </a:moveTo>
                  <a:lnTo>
                    <a:pt x="192" y="48"/>
                  </a:lnTo>
                  <a:lnTo>
                    <a:pt x="151" y="52"/>
                  </a:lnTo>
                  <a:lnTo>
                    <a:pt x="124" y="33"/>
                  </a:lnTo>
                  <a:lnTo>
                    <a:pt x="106" y="0"/>
                  </a:lnTo>
                  <a:lnTo>
                    <a:pt x="83" y="0"/>
                  </a:lnTo>
                  <a:lnTo>
                    <a:pt x="75" y="3"/>
                  </a:lnTo>
                  <a:lnTo>
                    <a:pt x="72" y="11"/>
                  </a:lnTo>
                  <a:lnTo>
                    <a:pt x="60" y="22"/>
                  </a:lnTo>
                  <a:lnTo>
                    <a:pt x="30" y="93"/>
                  </a:lnTo>
                  <a:lnTo>
                    <a:pt x="12" y="202"/>
                  </a:lnTo>
                  <a:lnTo>
                    <a:pt x="0" y="315"/>
                  </a:lnTo>
                  <a:lnTo>
                    <a:pt x="0" y="431"/>
                  </a:lnTo>
                  <a:lnTo>
                    <a:pt x="0" y="443"/>
                  </a:lnTo>
                  <a:lnTo>
                    <a:pt x="8" y="461"/>
                  </a:lnTo>
                  <a:lnTo>
                    <a:pt x="15" y="469"/>
                  </a:lnTo>
                  <a:lnTo>
                    <a:pt x="34" y="473"/>
                  </a:lnTo>
                  <a:lnTo>
                    <a:pt x="45" y="458"/>
                  </a:lnTo>
                  <a:lnTo>
                    <a:pt x="53" y="446"/>
                  </a:lnTo>
                  <a:lnTo>
                    <a:pt x="60" y="431"/>
                  </a:lnTo>
                  <a:lnTo>
                    <a:pt x="79" y="416"/>
                  </a:lnTo>
                  <a:lnTo>
                    <a:pt x="106" y="416"/>
                  </a:lnTo>
                  <a:lnTo>
                    <a:pt x="132" y="420"/>
                  </a:lnTo>
                  <a:lnTo>
                    <a:pt x="158" y="435"/>
                  </a:lnTo>
                  <a:lnTo>
                    <a:pt x="173" y="454"/>
                  </a:lnTo>
                  <a:lnTo>
                    <a:pt x="1829" y="491"/>
                  </a:lnTo>
                  <a:lnTo>
                    <a:pt x="1807" y="446"/>
                  </a:lnTo>
                  <a:lnTo>
                    <a:pt x="1788" y="401"/>
                  </a:lnTo>
                  <a:lnTo>
                    <a:pt x="1777" y="341"/>
                  </a:lnTo>
                  <a:lnTo>
                    <a:pt x="1777" y="285"/>
                  </a:lnTo>
                  <a:lnTo>
                    <a:pt x="1777" y="229"/>
                  </a:lnTo>
                  <a:lnTo>
                    <a:pt x="1792" y="176"/>
                  </a:lnTo>
                  <a:lnTo>
                    <a:pt x="1822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31"/>
            <p:cNvSpPr/>
            <p:nvPr/>
          </p:nvSpPr>
          <p:spPr>
            <a:xfrm flipH="1" flipV="1">
              <a:off x="5711040" y="3938760"/>
              <a:ext cx="499320" cy="1800720"/>
            </a:xfrm>
            <a:prstGeom prst="line">
              <a:avLst/>
            </a:prstGeom>
            <a:ln w="0">
              <a:solidFill>
                <a:srgbClr val="8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032"/>
            <p:cNvSpPr/>
            <p:nvPr/>
          </p:nvSpPr>
          <p:spPr>
            <a:xfrm flipH="1" flipV="1">
              <a:off x="5767560" y="3926880"/>
              <a:ext cx="548640" cy="1863360"/>
            </a:xfrm>
            <a:prstGeom prst="line">
              <a:avLst/>
            </a:prstGeom>
            <a:ln w="0">
              <a:solidFill>
                <a:srgbClr val="8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WordArt 1033"/>
            <p:cNvSpPr txBox="1"/>
            <p:nvPr/>
          </p:nvSpPr>
          <p:spPr>
            <a:xfrm>
              <a:off x="6225840" y="3900600"/>
              <a:ext cx="1100880" cy="12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NewsGoth BT"/>
                </a:rPr>
                <a:t>Radiological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NewsGoth BT"/>
                <a:ea typeface="NewsGoth B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NewsGoth BT"/>
                </a:rPr>
                <a:t>Emergency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NewsGoth BT"/>
                <a:ea typeface="NewsGoth B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NewsGoth BT"/>
                </a:rPr>
                <a:t>Response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NewsGoth BT"/>
                <a:ea typeface="NewsGoth B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NewsGoth BT"/>
                </a:rPr>
                <a:t>Plan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NewsGoth BT"/>
                <a:ea typeface="NewsGoth BT"/>
              </a:endParaRPr>
            </a:p>
          </p:txBody>
        </p:sp>
        <p:sp>
          <p:nvSpPr>
            <p:cNvPr id="601" name="Freeform 1034"/>
            <p:cNvSpPr/>
            <p:nvPr/>
          </p:nvSpPr>
          <p:spPr>
            <a:xfrm>
              <a:off x="6605640" y="4953240"/>
              <a:ext cx="920520" cy="82044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78" h="181">
                  <a:moveTo>
                    <a:pt x="22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158"/>
                  </a:lnTo>
                  <a:lnTo>
                    <a:pt x="0" y="162"/>
                  </a:lnTo>
                  <a:lnTo>
                    <a:pt x="2" y="166"/>
                  </a:lnTo>
                  <a:lnTo>
                    <a:pt x="4" y="170"/>
                  </a:lnTo>
                  <a:lnTo>
                    <a:pt x="7" y="173"/>
                  </a:lnTo>
                  <a:lnTo>
                    <a:pt x="10" y="176"/>
                  </a:lnTo>
                  <a:lnTo>
                    <a:pt x="14" y="178"/>
                  </a:lnTo>
                  <a:lnTo>
                    <a:pt x="18" y="180"/>
                  </a:lnTo>
                  <a:lnTo>
                    <a:pt x="22" y="180"/>
                  </a:lnTo>
                  <a:lnTo>
                    <a:pt x="155" y="180"/>
                  </a:lnTo>
                  <a:lnTo>
                    <a:pt x="159" y="180"/>
                  </a:lnTo>
                  <a:lnTo>
                    <a:pt x="164" y="178"/>
                  </a:lnTo>
                  <a:lnTo>
                    <a:pt x="167" y="176"/>
                  </a:lnTo>
                  <a:lnTo>
                    <a:pt x="170" y="173"/>
                  </a:lnTo>
                  <a:lnTo>
                    <a:pt x="174" y="170"/>
                  </a:lnTo>
                  <a:lnTo>
                    <a:pt x="175" y="166"/>
                  </a:lnTo>
                  <a:lnTo>
                    <a:pt x="177" y="162"/>
                  </a:lnTo>
                  <a:lnTo>
                    <a:pt x="177" y="158"/>
                  </a:lnTo>
                  <a:lnTo>
                    <a:pt x="177" y="22"/>
                  </a:lnTo>
                  <a:lnTo>
                    <a:pt x="177" y="18"/>
                  </a:lnTo>
                  <a:lnTo>
                    <a:pt x="175" y="14"/>
                  </a:lnTo>
                  <a:lnTo>
                    <a:pt x="174" y="10"/>
                  </a:lnTo>
                  <a:lnTo>
                    <a:pt x="170" y="7"/>
                  </a:lnTo>
                  <a:lnTo>
                    <a:pt x="167" y="4"/>
                  </a:lnTo>
                  <a:lnTo>
                    <a:pt x="164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1035"/>
            <p:cNvGrpSpPr/>
            <p:nvPr/>
          </p:nvGrpSpPr>
          <p:grpSpPr>
            <a:xfrm>
              <a:off x="6621840" y="5110560"/>
              <a:ext cx="804600" cy="524520"/>
              <a:chOff x="6621840" y="5110560"/>
              <a:chExt cx="804600" cy="524520"/>
            </a:xfrm>
          </p:grpSpPr>
          <p:sp>
            <p:nvSpPr>
              <p:cNvPr id="603" name="Freeform 1036"/>
              <p:cNvSpPr/>
              <p:nvPr/>
            </p:nvSpPr>
            <p:spPr>
              <a:xfrm>
                <a:off x="6944040" y="5381280"/>
                <a:ext cx="402840" cy="25380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78" h="56">
                    <a:moveTo>
                      <a:pt x="24" y="0"/>
                    </a:moveTo>
                    <a:lnTo>
                      <a:pt x="28" y="2"/>
                    </a:lnTo>
                    <a:lnTo>
                      <a:pt x="31" y="3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2" y="4"/>
                    </a:lnTo>
                    <a:lnTo>
                      <a:pt x="46" y="3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77" y="43"/>
                    </a:lnTo>
                    <a:lnTo>
                      <a:pt x="73" y="46"/>
                    </a:lnTo>
                    <a:lnTo>
                      <a:pt x="68" y="48"/>
                    </a:lnTo>
                    <a:lnTo>
                      <a:pt x="63" y="50"/>
                    </a:lnTo>
                    <a:lnTo>
                      <a:pt x="58" y="52"/>
                    </a:lnTo>
                    <a:lnTo>
                      <a:pt x="54" y="53"/>
                    </a:lnTo>
                    <a:lnTo>
                      <a:pt x="49" y="54"/>
                    </a:lnTo>
                    <a:lnTo>
                      <a:pt x="44" y="55"/>
                    </a:lnTo>
                    <a:lnTo>
                      <a:pt x="40" y="55"/>
                    </a:lnTo>
                    <a:lnTo>
                      <a:pt x="35" y="55"/>
                    </a:lnTo>
                    <a:lnTo>
                      <a:pt x="30" y="54"/>
                    </a:lnTo>
                    <a:lnTo>
                      <a:pt x="25" y="53"/>
                    </a:lnTo>
                    <a:lnTo>
                      <a:pt x="20" y="52"/>
                    </a:lnTo>
                    <a:lnTo>
                      <a:pt x="15" y="51"/>
                    </a:lnTo>
                    <a:lnTo>
                      <a:pt x="10" y="48"/>
                    </a:lnTo>
                    <a:lnTo>
                      <a:pt x="5" y="46"/>
                    </a:lnTo>
                    <a:lnTo>
                      <a:pt x="0" y="43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1037"/>
              <p:cNvSpPr/>
              <p:nvPr/>
            </p:nvSpPr>
            <p:spPr>
              <a:xfrm>
                <a:off x="7090200" y="5110560"/>
                <a:ext cx="336240" cy="3135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13560"/>
                  <a:gd name="textAreaBottom" fmla="*/ 313920 h 313560"/>
                </a:gdLst>
                <a:ahLst/>
                <a:rect l="textAreaLeft" t="textAreaTop" r="textAreaRight" b="textAreaBottom"/>
                <a:pathLst>
                  <a:path w="65" h="69">
                    <a:moveTo>
                      <a:pt x="64" y="68"/>
                    </a:moveTo>
                    <a:lnTo>
                      <a:pt x="15" y="68"/>
                    </a:lnTo>
                    <a:lnTo>
                      <a:pt x="14" y="64"/>
                    </a:lnTo>
                    <a:lnTo>
                      <a:pt x="14" y="60"/>
                    </a:lnTo>
                    <a:lnTo>
                      <a:pt x="13" y="57"/>
                    </a:lnTo>
                    <a:lnTo>
                      <a:pt x="11" y="54"/>
                    </a:lnTo>
                    <a:lnTo>
                      <a:pt x="9" y="51"/>
                    </a:lnTo>
                    <a:lnTo>
                      <a:pt x="7" y="48"/>
                    </a:lnTo>
                    <a:lnTo>
                      <a:pt x="3" y="46"/>
                    </a:lnTo>
                    <a:lnTo>
                      <a:pt x="0" y="44"/>
                    </a:lnTo>
                    <a:lnTo>
                      <a:pt x="25" y="0"/>
                    </a:lnTo>
                    <a:lnTo>
                      <a:pt x="30" y="3"/>
                    </a:lnTo>
                    <a:lnTo>
                      <a:pt x="34" y="6"/>
                    </a:lnTo>
                    <a:lnTo>
                      <a:pt x="38" y="9"/>
                    </a:lnTo>
                    <a:lnTo>
                      <a:pt x="42" y="12"/>
                    </a:lnTo>
                    <a:lnTo>
                      <a:pt x="45" y="15"/>
                    </a:lnTo>
                    <a:lnTo>
                      <a:pt x="49" y="19"/>
                    </a:lnTo>
                    <a:lnTo>
                      <a:pt x="52" y="23"/>
                    </a:lnTo>
                    <a:lnTo>
                      <a:pt x="54" y="27"/>
                    </a:lnTo>
                    <a:lnTo>
                      <a:pt x="57" y="32"/>
                    </a:lnTo>
                    <a:lnTo>
                      <a:pt x="59" y="36"/>
                    </a:lnTo>
                    <a:lnTo>
                      <a:pt x="60" y="41"/>
                    </a:lnTo>
                    <a:lnTo>
                      <a:pt x="62" y="46"/>
                    </a:lnTo>
                    <a:lnTo>
                      <a:pt x="63" y="51"/>
                    </a:lnTo>
                    <a:lnTo>
                      <a:pt x="64" y="57"/>
                    </a:lnTo>
                    <a:lnTo>
                      <a:pt x="64" y="62"/>
                    </a:lnTo>
                    <a:lnTo>
                      <a:pt x="64" y="6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1038"/>
              <p:cNvSpPr/>
              <p:nvPr/>
            </p:nvSpPr>
            <p:spPr>
              <a:xfrm>
                <a:off x="6621840" y="5119560"/>
                <a:ext cx="330480" cy="30420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4" h="67">
                    <a:moveTo>
                      <a:pt x="39" y="0"/>
                    </a:moveTo>
                    <a:lnTo>
                      <a:pt x="37" y="1"/>
                    </a:lnTo>
                    <a:lnTo>
                      <a:pt x="33" y="3"/>
                    </a:lnTo>
                    <a:lnTo>
                      <a:pt x="29" y="6"/>
                    </a:lnTo>
                    <a:lnTo>
                      <a:pt x="25" y="9"/>
                    </a:lnTo>
                    <a:lnTo>
                      <a:pt x="22" y="13"/>
                    </a:lnTo>
                    <a:lnTo>
                      <a:pt x="18" y="16"/>
                    </a:lnTo>
                    <a:lnTo>
                      <a:pt x="15" y="20"/>
                    </a:lnTo>
                    <a:lnTo>
                      <a:pt x="13" y="24"/>
                    </a:lnTo>
                    <a:lnTo>
                      <a:pt x="10" y="28"/>
                    </a:lnTo>
                    <a:lnTo>
                      <a:pt x="8" y="33"/>
                    </a:lnTo>
                    <a:lnTo>
                      <a:pt x="6" y="37"/>
                    </a:lnTo>
                    <a:lnTo>
                      <a:pt x="4" y="41"/>
                    </a:lnTo>
                    <a:lnTo>
                      <a:pt x="3" y="46"/>
                    </a:lnTo>
                    <a:lnTo>
                      <a:pt x="2" y="51"/>
                    </a:lnTo>
                    <a:lnTo>
                      <a:pt x="1" y="56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49" y="66"/>
                    </a:lnTo>
                    <a:lnTo>
                      <a:pt x="50" y="63"/>
                    </a:lnTo>
                    <a:lnTo>
                      <a:pt x="51" y="59"/>
                    </a:lnTo>
                    <a:lnTo>
                      <a:pt x="52" y="56"/>
                    </a:lnTo>
                    <a:lnTo>
                      <a:pt x="53" y="53"/>
                    </a:lnTo>
                    <a:lnTo>
                      <a:pt x="55" y="50"/>
                    </a:lnTo>
                    <a:lnTo>
                      <a:pt x="57" y="47"/>
                    </a:lnTo>
                    <a:lnTo>
                      <a:pt x="60" y="45"/>
                    </a:lnTo>
                    <a:lnTo>
                      <a:pt x="63" y="43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1039"/>
              <p:cNvSpPr/>
              <p:nvPr/>
            </p:nvSpPr>
            <p:spPr>
              <a:xfrm>
                <a:off x="6998040" y="5284080"/>
                <a:ext cx="150480" cy="1440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9" h="32">
                    <a:moveTo>
                      <a:pt x="14" y="0"/>
                    </a:moveTo>
                    <a:lnTo>
                      <a:pt x="11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1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19" y="30"/>
                    </a:lnTo>
                    <a:lnTo>
                      <a:pt x="22" y="29"/>
                    </a:lnTo>
                    <a:lnTo>
                      <a:pt x="24" y="26"/>
                    </a:lnTo>
                    <a:lnTo>
                      <a:pt x="25" y="24"/>
                    </a:lnTo>
                    <a:lnTo>
                      <a:pt x="27" y="22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"/>
          <p:cNvSpPr txBox="1"/>
          <p:nvPr/>
        </p:nvSpPr>
        <p:spPr>
          <a:xfrm>
            <a:off x="214200" y="1213920"/>
            <a:ext cx="8593200" cy="386100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i la evaluación de la seguridad indica que existen 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probabilidades razonables de que se produzca una emergencia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que afecte a los trabajadores o a los miembros del publico, el titular registrado o el titular de la licencia preparará un 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plan de emergencia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ara la protección de las personas y el medio ambiente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5 Marcador de número de diapositiva"/>
          <p:cNvSpPr/>
          <p:nvPr/>
        </p:nvSpPr>
        <p:spPr>
          <a:xfrm>
            <a:off x="7843680" y="6475320"/>
            <a:ext cx="65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3DD1-7725-45BA-AF4B-7C485941AA3A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Imagen 1" descr=""/>
          <p:cNvPicPr/>
          <p:nvPr/>
        </p:nvPicPr>
        <p:blipFill>
          <a:blip r:embed="rId1"/>
          <a:stretch/>
        </p:blipFill>
        <p:spPr>
          <a:xfrm>
            <a:off x="1859040" y="1359000"/>
            <a:ext cx="5425920" cy="4140000"/>
          </a:xfrm>
          <a:prstGeom prst="rect">
            <a:avLst/>
          </a:prstGeom>
          <a:ln w="0">
            <a:noFill/>
          </a:ln>
        </p:spPr>
      </p:pic>
      <p:sp>
        <p:nvSpPr>
          <p:cNvPr id="611" name="CuadroTexto 4"/>
          <p:cNvSpPr/>
          <p:nvPr/>
        </p:nvSpPr>
        <p:spPr>
          <a:xfrm>
            <a:off x="5003640" y="4643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Thank yo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8000" y="31320"/>
            <a:ext cx="885672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290240"/>
            <a:ext cx="8137440" cy="321804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nalizar los requisitos de seguridad relacionados con la evaluación de seguridad, establecidos en la Parte 3 de los Requisitos generales de seguridad (GSR Parte 3).  “Protección radiológica y seguridad de las fuentes de radiación: Normas básicas internacionales de seguridad.”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5" name="Imagen 2" descr=""/>
          <p:cNvPicPr/>
          <p:nvPr/>
        </p:nvPicPr>
        <p:blipFill>
          <a:blip r:embed="rId1"/>
          <a:stretch/>
        </p:blipFill>
        <p:spPr>
          <a:xfrm>
            <a:off x="6729480" y="4005360"/>
            <a:ext cx="1639800" cy="244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07640" y="1017360"/>
            <a:ext cx="6119640" cy="521964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 u="sng">
                <a:solidFill>
                  <a:srgbClr val="333399"/>
                </a:solidFill>
                <a:uFillTx/>
                <a:latin typeface="Arial"/>
              </a:rPr>
              <a:t>Evaluación de Seguridad (Safety assessment)</a:t>
            </a: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Evaluación de todos los aspectos de una practica que guardan relación con la protección y la seguridad; en el caso de una instalación autorizada, ello incluye la selección de un emplazamiento, el diseño y la explotación de la instalación.</a:t>
            </a:r>
            <a:endParaRPr b="1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 u="sng">
                <a:solidFill>
                  <a:srgbClr val="333399"/>
                </a:solidFill>
                <a:uFillTx/>
                <a:latin typeface="Arial"/>
              </a:rPr>
              <a:t>Análisis de seguridad (safety analysis). 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Evaluación de los peligros potenciales asociados con la realización de una actividad. (El análisis es parte de la evaluación general de seguridad).</a:t>
            </a:r>
            <a:endParaRPr b="1" lang="en-US" sz="23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7" name="Picture 5" descr=""/>
          <p:cNvPicPr/>
          <p:nvPr/>
        </p:nvPicPr>
        <p:blipFill>
          <a:blip r:embed="rId1"/>
          <a:stretch/>
        </p:blipFill>
        <p:spPr>
          <a:xfrm>
            <a:off x="6472080" y="1989000"/>
            <a:ext cx="2421000" cy="3633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484000" y="31320"/>
            <a:ext cx="6480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LOSARIO DEL OI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108000" y="1366920"/>
            <a:ext cx="6138720" cy="440064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 u="sng">
                <a:solidFill>
                  <a:srgbClr val="333399"/>
                </a:solidFill>
                <a:uFillTx/>
                <a:latin typeface="Arial"/>
              </a:rPr>
              <a:t>Justificación de seguridad (safety case).</a:t>
            </a: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Colección de argumentos y pruebas que demuestran la seguridad tecnológica de una instalación o actividad. </a:t>
            </a:r>
            <a:endParaRPr b="1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Incluirá normalmente las conclusiones de una evaluación de la seguridad, y una declaración de confianza en dichas conclusiones.</a:t>
            </a:r>
            <a:endParaRPr b="1" lang="en-US" sz="23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0" name="Picture 5" descr=""/>
          <p:cNvPicPr/>
          <p:nvPr/>
        </p:nvPicPr>
        <p:blipFill>
          <a:blip r:embed="rId1"/>
          <a:stretch/>
        </p:blipFill>
        <p:spPr>
          <a:xfrm>
            <a:off x="6399360" y="2133720"/>
            <a:ext cx="2420640" cy="3633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4000" y="31320"/>
            <a:ext cx="6480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LOSARIO DEL OI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280" y="108000"/>
            <a:ext cx="89647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SITOS PARA LA EVALUACIÓN DE SEGURID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203640" y="3559320"/>
            <a:ext cx="2736720" cy="203184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quisitos en ambas ediciones muy similares; pero …………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343080" y="1817640"/>
            <a:ext cx="2519280" cy="3735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cxnSp>
        <p:nvCxnSpPr>
          <p:cNvPr id="545" name="7 Conector curvado"/>
          <p:cNvCxnSpPr/>
          <p:nvPr/>
        </p:nvCxnSpPr>
        <p:spPr>
          <a:xfrm flipV="1">
            <a:off x="4041000" y="2445480"/>
            <a:ext cx="1290960" cy="90360"/>
          </a:xfrm>
          <a:prstGeom prst="curvedConnector4">
            <a:avLst>
              <a:gd name="adj1" fmla="val 36624"/>
              <a:gd name="adj2" fmla="val 160800"/>
            </a:avLst>
          </a:prstGeom>
          <a:ln w="50760">
            <a:solidFill>
              <a:srgbClr val="808080"/>
            </a:solidFill>
            <a:miter/>
          </a:ln>
        </p:spPr>
      </p:cxnSp>
      <p:cxnSp>
        <p:nvCxnSpPr>
          <p:cNvPr id="546" name="14 Conector curvado"/>
          <p:cNvCxnSpPr/>
          <p:nvPr/>
        </p:nvCxnSpPr>
        <p:spPr>
          <a:xfrm flipV="1">
            <a:off x="4041000" y="2807280"/>
            <a:ext cx="1290960" cy="90360"/>
          </a:xfrm>
          <a:prstGeom prst="curvedConnector4">
            <a:avLst>
              <a:gd name="adj1" fmla="val 36624"/>
              <a:gd name="adj2" fmla="val 160800"/>
            </a:avLst>
          </a:prstGeom>
          <a:ln w="50760">
            <a:solidFill>
              <a:srgbClr val="808080"/>
            </a:solidFill>
            <a:miter/>
          </a:ln>
        </p:spPr>
      </p:cxnSp>
      <p:pic>
        <p:nvPicPr>
          <p:cNvPr id="547" name="Imagen 2" descr=""/>
          <p:cNvPicPr/>
          <p:nvPr/>
        </p:nvPicPr>
        <p:blipFill>
          <a:blip r:embed="rId2"/>
          <a:stretch/>
        </p:blipFill>
        <p:spPr>
          <a:xfrm>
            <a:off x="6227640" y="1863720"/>
            <a:ext cx="2497320" cy="3727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6210360" y="1533600"/>
            <a:ext cx="2190600" cy="3165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784080" y="1447920"/>
            <a:ext cx="2249640" cy="3333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50" name="7 Flecha a la derecha con muesca"/>
          <p:cNvSpPr/>
          <p:nvPr/>
        </p:nvSpPr>
        <p:spPr>
          <a:xfrm>
            <a:off x="3733920" y="2895480"/>
            <a:ext cx="2114280" cy="895320"/>
          </a:xfrm>
          <a:custGeom>
            <a:avLst/>
            <a:gdLst>
              <a:gd name="textAreaLeft" fmla="*/ 223560 w 2114280"/>
              <a:gd name="textAreaRight" fmla="*/ 1890720 w 211428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27" y="5400"/>
                </a:lnTo>
                <a:lnTo>
                  <a:pt x="17027" y="0"/>
                </a:lnTo>
                <a:lnTo>
                  <a:pt x="21600" y="10800"/>
                </a:lnTo>
                <a:lnTo>
                  <a:pt x="17027" y="21600"/>
                </a:lnTo>
                <a:lnTo>
                  <a:pt x="17027" y="16200"/>
                </a:lnTo>
                <a:lnTo>
                  <a:pt x="0" y="16200"/>
                </a:lnTo>
                <a:lnTo>
                  <a:pt x="2287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8 Elipse"/>
          <p:cNvSpPr/>
          <p:nvPr/>
        </p:nvSpPr>
        <p:spPr>
          <a:xfrm>
            <a:off x="6191280" y="1428840"/>
            <a:ext cx="2266920" cy="70488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6 CuadroTexto"/>
          <p:cNvSpPr/>
          <p:nvPr/>
        </p:nvSpPr>
        <p:spPr>
          <a:xfrm>
            <a:off x="895320" y="5048280"/>
            <a:ext cx="76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s SS 115 estos requisitos fueron expuestos en el acápite de exposiciones potenciales al que prácticamente no se le prestó aten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280" y="108000"/>
            <a:ext cx="89647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SITOS PARA LA EVALUACIÓN DE SEGURID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Imagen 2" descr=""/>
          <p:cNvPicPr/>
          <p:nvPr/>
        </p:nvPicPr>
        <p:blipFill>
          <a:blip r:embed="rId1"/>
          <a:stretch/>
        </p:blipFill>
        <p:spPr>
          <a:xfrm>
            <a:off x="6519960" y="2565360"/>
            <a:ext cx="2230200" cy="3328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55" name=""/>
          <p:cNvSpPr txBox="1"/>
          <p:nvPr/>
        </p:nvSpPr>
        <p:spPr>
          <a:xfrm>
            <a:off x="0" y="1250640"/>
            <a:ext cx="6500880" cy="496404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tas nuevas Normas establecen requisitos que deben cumplirse en todas las instalaciones o al realizar cualquier actividad que de origen a riesgos radiológicos.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el caso de determinadas instalaciones y actividades, como las instalaciones nucleares, las instalaciones de gestión de desechos radiactivos y el transporte de materiales radiactivo, también son de aplicación otros requisitos de seguridad que complementan a estas norma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280" y="108000"/>
            <a:ext cx="89647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SITOS PARA LA EVALUACIÓN DE SEGURID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6"/>
          <p:cNvSpPr/>
          <p:nvPr/>
        </p:nvSpPr>
        <p:spPr>
          <a:xfrm>
            <a:off x="1000080" y="0"/>
            <a:ext cx="7858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VALUACIÓN DE LAS EXPOCICIONES POTENCI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826920" y="1413000"/>
            <a:ext cx="828684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 u="sng">
                <a:solidFill>
                  <a:srgbClr val="333399"/>
                </a:solidFill>
                <a:uFillTx/>
                <a:latin typeface="Arial"/>
              </a:rPr>
              <a:t>Exposiciones Potenciales - Definició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«Exposición prospectiva que no se prevé que se produzca con certeza pero que puede ser resultado de un incidente operacional previsto, un accidente ocurrido en una fuente o deberse a un suceso o una serie de sucesos de carácter probabilista, por ejemplo fallos de equipo y errores de operación.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Normas Básicas de Seguridad del OIEA (GSR Parte 3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6"/>
          <p:cNvSpPr/>
          <p:nvPr/>
        </p:nvSpPr>
        <p:spPr>
          <a:xfrm>
            <a:off x="1000080" y="0"/>
            <a:ext cx="7858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VALUACIÓN DE LAS EXPOCICIONES POTENCI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714240" y="2220840"/>
            <a:ext cx="80010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marL="380880" indent="-380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la naturaleza y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magnitud de las exposiciones potenciales y la probabilidad de su ocurrencia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;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714240" y="2989440"/>
            <a:ext cx="7696440" cy="22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los modos en que las estructuras, sistemas, componentes y procedimientos pudieran fallar o conducir a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exposiciones potenciales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, y las consecuencias de tales fallos; 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posibilidad de errores humanos  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que conduzcan a exposiciones no planificadas de cualquier persona.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500040" y="1643040"/>
            <a:ext cx="84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El solicitante proporcionará información en relación 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7:36:05Z</dcterms:created>
  <dc:creator>TSA1</dc:creator>
  <dc:description/>
  <dc:language>en-US</dc:language>
  <cp:lastModifiedBy>DRÁBOVÁ, Veronika</cp:lastModifiedBy>
  <cp:lastPrinted>2012-03-07T09:50:48Z</cp:lastPrinted>
  <dcterms:modified xsi:type="dcterms:W3CDTF">2020-01-22T12:35:43Z</dcterms:modified>
  <cp:revision>1049</cp:revision>
  <dc:subject/>
  <dc:title>L04 Evaluacion de Seguridad GSR Parte 3</dc:title>
</cp:coreProperties>
</file>